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F26-D83D-40D2-849C-54807AE2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CE5D-191F-4C1E-B469-16632D7D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1FDD-C95F-420C-BDBC-2D697C9D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957-6FAB-463F-A1F7-39A92F8C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E83-65BD-4E59-8878-80EA5395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B683-A074-4D60-854E-CE2AA9FB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A9B8-344F-49C0-9736-EDF88BB7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C85E-4DE5-4D01-99CE-6D5D0B77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DF7-6B88-4B6D-B457-03CA788C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9A4-7D93-416D-BD49-1BD04CB9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FAC-20F4-4D28-9954-11B20D1C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618-E922-4965-90A5-E782F32B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2A1E-232D-432F-BD40-3D083722F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1360" y="38088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438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380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838080" y="380520"/>
            <a:ext cx="2286000" cy="2971800"/>
          </a:xfrm>
          <a:prstGeom prst="foldedCorner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447920"/>
            <a:ext cx="10666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19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4228920" y="418680"/>
            <a:ext cx="2133720" cy="22096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590920"/>
            <a:ext cx="22096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705360" y="20574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6600" y="1447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at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1219320" y="3886200"/>
            <a:ext cx="2209680" cy="22096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362320" y="518112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962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back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4038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3962520"/>
            <a:ext cx="259056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105520" y="3962160"/>
            <a:ext cx="259056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48720" y="42670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oom goes the dyna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380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53352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304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457200"/>
            <a:ext cx="251460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438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02920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41008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86728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32448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78168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457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838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457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43800" y="1066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54380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523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0800000">
            <a:off x="990720" y="3580920"/>
            <a:ext cx="1828800" cy="1752840"/>
          </a:xfrm>
          <a:prstGeom prst="foldedCorner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4952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514600" y="3581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295280" y="4343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43434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3390840" y="3390480"/>
            <a:ext cx="1676520" cy="16002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343040" y="44193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3429000"/>
            <a:ext cx="2819520" cy="266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3429000"/>
            <a:ext cx="281952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943600" y="3429000"/>
            <a:ext cx="281952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7339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3429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5715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1880" y="3429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13:30:09Z</dcterms:created>
  <dc:creator>JosephMartin</dc:creator>
  <dc:description/>
  <dc:language>en-US</dc:language>
  <cp:lastModifiedBy>JosephMartin</cp:lastModifiedBy>
  <dcterms:modified xsi:type="dcterms:W3CDTF">2013-11-15T14:02:05Z</dcterms:modified>
  <cp:revision>2</cp:revision>
  <dc:subject/>
  <dc:title>Slide 1</dc:title>
</cp:coreProperties>
</file>