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638-5C31-4408-8BAC-87DED228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632-42FD-4C8A-A52C-EA5CA8C7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F63F-E079-4EE2-A71D-E7E8E944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253-3DA0-48A9-A16A-A5A076EA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F7F-AF6C-4988-BA62-88C548BD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6BE-A5FA-4AA0-8156-1392D389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F09-11B9-47EB-A33D-F899D389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15FB-ECD0-4B86-9A07-4D2C8F21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1DA9-9691-4AC8-B3CA-DD607D41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473-EE92-4D3C-A3D8-2B0518FE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8B5-7F51-43E4-9C29-510E106E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123-0F72-4E4B-AB8B-ABD4A5A4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C9B6-5D8A-461B-929F-137E1D4AC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360" y="38088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438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380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838080" y="380520"/>
            <a:ext cx="2286000" cy="2971800"/>
          </a:xfrm>
          <a:prstGeom prst="foldedCorner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447920"/>
            <a:ext cx="1066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19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4228920" y="418680"/>
            <a:ext cx="2133720" cy="22096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590920"/>
            <a:ext cx="22096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70536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1447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at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1219320" y="3886200"/>
            <a:ext cx="2209680" cy="22096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362320" y="518112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back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4038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3962520"/>
            <a:ext cx="259056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105520" y="3962160"/>
            <a:ext cx="259056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42670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oom goes the dyna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380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53352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304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457200"/>
            <a:ext cx="251460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438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2920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41008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86728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32448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78168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45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838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45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1066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54380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523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990720" y="3580920"/>
            <a:ext cx="1828800" cy="1752840"/>
          </a:xfrm>
          <a:prstGeom prst="foldedCorner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4952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514600" y="3581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295280" y="4343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43434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3390840" y="3390480"/>
            <a:ext cx="1676520" cy="16002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343040" y="44193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3429000"/>
            <a:ext cx="281952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3429000"/>
            <a:ext cx="281952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943600" y="3429000"/>
            <a:ext cx="281952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7339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3429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5715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1880" y="3429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13:30:09Z</dcterms:created>
  <dc:creator>JosephMartin</dc:creator>
  <dc:description/>
  <dc:language>en-US</dc:language>
  <cp:lastModifiedBy>JosephMartin</cp:lastModifiedBy>
  <dcterms:modified xsi:type="dcterms:W3CDTF">2013-11-15T14:02:05Z</dcterms:modified>
  <cp:revision>2</cp:revision>
  <dc:subject/>
  <dc:title>Slide 1</dc:title>
</cp:coreProperties>
</file>