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DBD-7423-4886-A529-AF008617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45B-CB65-40C5-B183-9B507977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8C3-9285-4CCD-A8E4-38EC3651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FBA-1AAD-4471-B503-A5058E3A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FBA-E8C4-47F1-806E-D0F1E18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48E-EF6A-4C83-B34B-01109B8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C75-F3D6-46B5-B23E-A3ACCB12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01B-D698-464C-B9D4-FCFA210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D3F-5FF9-48E9-A9FD-BDDC3E2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044-64FF-4B91-9F26-CCDD034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3CC-9300-482E-9EA7-689ACA8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039-92B0-4743-92A4-39D91EA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B77-B9CE-4B5F-8DCE-2A3E913D3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380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838080" y="380520"/>
            <a:ext cx="2286000" cy="297180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228920" y="418680"/>
            <a:ext cx="213372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590920"/>
            <a:ext cx="2209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70536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a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9320" y="3886200"/>
            <a:ext cx="220968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2320" y="51811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ac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038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962520"/>
            <a:ext cx="25905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105520" y="3962160"/>
            <a:ext cx="259056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267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oom goes the dyna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80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"/>
            <a:ext cx="2514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438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672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3244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816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83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1066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4380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523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0720" y="3580920"/>
            <a:ext cx="1828800" cy="175284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146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95280" y="4343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390840" y="3390480"/>
            <a:ext cx="16765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43040" y="44193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429000"/>
            <a:ext cx="281952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733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5715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13:30:09Z</dcterms:created>
  <dc:creator>JosephMartin</dc:creator>
  <dc:description/>
  <dc:language>en-US</dc:language>
  <cp:lastModifiedBy>JosephMartin</cp:lastModifiedBy>
  <dcterms:modified xsi:type="dcterms:W3CDTF">2013-11-15T14:02:05Z</dcterms:modified>
  <cp:revision>2</cp:revision>
  <dc:subject/>
  <dc:title>Slide 1</dc:title>
</cp:coreProperties>
</file>