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53E-CBAD-4FE1-8A8A-62AD64CE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81D-6BAC-455A-AFCB-406BD9C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AB-51BD-469F-8CBB-76942027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D3C-E6BB-4403-9D0E-BB0FD0F4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147-5953-4C94-8138-C8D2581E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32C-1664-4CA2-9D60-A8C9D0C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0E2-322E-434F-BB2C-58A7B4C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943F-305B-4DDE-92FD-158B238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DB00-C045-4E28-810A-DBF454E2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8318-0417-4047-A36E-77726B3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58A7-ED88-4F4C-8FDF-38C639B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8A7-FC91-4416-A45F-5C1F1A4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483B-2519-4560-A85B-D8126BD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E2A2-143D-4DB3-9803-B077F69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AE00-DA89-45E6-BAAE-F5ECBEB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75E7-BE8F-499E-B2F0-24F44EEA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99E1-D9ED-4491-A2AB-2AE89B72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D33A-6291-4272-A7C0-54174CD4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B259-F3ED-498C-84AD-A9344D36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723B-06A5-424E-9B4F-701A8C03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6781-B756-475A-A60E-B7A4C80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E7D8-A6D5-40A5-82EA-B47E4D3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CB9-4B89-4C19-BD67-C3510C6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3576-6423-4D0E-AABF-1456F968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1C1A-023D-46E4-BC0E-6B424C2D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F237-210F-410E-9963-9A35667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D697-B2AB-42DF-9946-72FE7FC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F1C4-E835-4F71-AD28-61D518F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743B-72FE-4529-B0E5-A41CF2C3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DE7F-34BB-45AB-B6EF-73ED1FEB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E637-6888-437E-8576-2CC57457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6B73-ABA2-4811-91D6-1EDB3E4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233B-173F-4436-828B-755862A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877-AC31-4C1C-8670-0867CB8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8C39-B375-4AE5-AA01-D6BBBAF5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2B60-2766-46A1-9107-E7B2B07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5181-1BFF-49EE-B31C-27B7021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5BED-A62D-44EA-9AC0-CC265A9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B034-51FF-4B4C-9CF1-A67C183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5F01-4253-4E5A-AAF5-CD5FE31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4BE2-E5E3-411F-BE77-7C5E3A3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C4F1-59DC-46EC-AA43-E26378AC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28F7-649A-4D12-8CAF-CC7BA054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9A62-86D1-4FE8-B4DD-DCE77C8D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5B0-5B25-4E1D-A43D-9DB2066C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C32A-E2F2-488A-80E9-676425B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5874-BF09-4698-8308-956C21CF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D295-0B0E-4F0D-BC6E-B8BDD37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1CABE-6D81-493D-85EA-3C93AF4A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0BAD-5A79-4A6D-B40D-230FF71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0FBE-715E-49D1-B592-2C865C1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BF6E-D86A-4FB6-B0C7-ACCB444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95F0-568C-4582-80DC-D4EC269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C0D1-1EE4-4C44-9845-2D8C95AD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ABE0-34CF-4F0F-B9CC-2A4E6509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4F4-698D-485B-8B8E-3D9326E3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308F-F5E4-40A4-B1C4-B790F761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9AE3-614E-4059-94F5-5FC98136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8BA6-1F45-4B92-BF67-0D69728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1678-0986-4419-8A2C-F34CA63A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62E4-5ACB-4346-8D54-95D977C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5689-1A15-4BB8-8FDB-AA9F725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F637C-A70F-4CA5-97E7-4D0ED65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7D48-4F8E-4B2D-BE54-E934E1C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43374-A33D-4883-9A6D-195101A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33771-9C26-4E94-93E8-E502204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620-C387-4B92-A7C2-5D089F0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2C1C-F0C4-453C-BFC1-18F7AF0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9F95-A46D-4319-B68E-FB6013B1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39B3-72C3-4855-A850-257D455D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5380-2607-4CDB-91D9-46BAD2AF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BB96-5E5F-43C7-9630-122BD47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1487-2A0F-4899-9B46-55A2153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A2A0-8E3D-4843-A987-D425CA6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C5D31-6DCF-46EC-AE05-018C86CB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F28F-B2CB-4FB7-B35A-291CF78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F40F-9040-4B75-B09B-C6B335B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148-6846-4E32-894A-C4A242C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EBDC-A424-4B1F-8BE6-A1C3B4B7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A393-2811-467D-ACA0-B117953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4EFA-5134-44E8-8F2A-53292D7C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9D20-0392-419D-9B0B-91E98833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3B5B-F726-4BB5-884A-DEA36BB0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DED1-AC3F-4BEA-A6AC-0646D8F2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7D3E8-8AF6-41E4-AD19-B03AC3A8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3746-B51A-40A9-9230-AFFBC375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7C13-7A83-41D4-A8C1-5838D28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FD433-FEAD-4F3B-9924-D41EB19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294-5C14-471C-903F-CFE1BF3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93A1A-64DE-4616-B2DC-E5C631D4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70A5C-4CE7-42AA-8EA1-34ED190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225E-362F-416B-A842-B313527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8CAB-B585-432B-A3D0-26D8801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9746A-C94D-4931-973B-CD6A3747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C8384-953A-4B93-B3F7-ABF8CF8F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53F5-58DF-4C6F-800A-1DF8087F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C541-C3C6-4BDD-A499-B1102B41F34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A299-D625-44D6-A0FB-FB27C26059A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F25-66A1-4346-B0FD-D832F2F27AF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4BF8-52FA-4E1D-A352-610B2986E6A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EA97-599E-4507-B18A-D62B7E18D73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5C5-FFC8-4C1B-AEE6-1BCFBAB6E2A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ABFC-3BF9-4971-A9D1-A51C1CECCEE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A4A-D286-4EDC-B3A0-535A8A142D6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ltaire (1694-177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4479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haps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l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nlightenment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iend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Frederick II of Pruss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quen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arget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clergy, aristocracy, and govern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dom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religion, freedom of speech,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olera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ttack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intolerance, prejudice, and superstit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80" name="Content Placeholder 4" descr="Voltaire.gif"/>
          <p:cNvPicPr/>
          <p:nvPr/>
        </p:nvPicPr>
        <p:blipFill>
          <a:blip r:embed="rId1"/>
          <a:stretch/>
        </p:blipFill>
        <p:spPr>
          <a:xfrm>
            <a:off x="5808600" y="1447920"/>
            <a:ext cx="280188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5715000" y="5649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ush the evil thin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ntesquieu (1689-1755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Content Placeholder 4" descr="montesquieu.jpg"/>
          <p:cNvPicPr/>
          <p:nvPr/>
        </p:nvPicPr>
        <p:blipFill>
          <a:blip r:embed="rId1"/>
          <a:stretch/>
        </p:blipFill>
        <p:spPr>
          <a:xfrm>
            <a:off x="457200" y="1447920"/>
            <a:ext cx="2597040" cy="3531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123720" y="1447560"/>
            <a:ext cx="555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ren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ristocra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Brita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as the best-governed coun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hallenged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 absolute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onarch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parati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Pow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xecutive, legislative, judic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ecks and Balance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– Each branch of the government should be able to ‘check’ the other tw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fluenc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United States Constit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572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should be a check to pow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 for Societ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tested the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slav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trade and slave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plored religious prejudice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Defend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freedom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of speech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Attack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divine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right theor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Urged education for all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ate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unequal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distribution of propert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Believed governments should be freely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Gill Sans MT"/>
              </a:rPr>
              <a:t>elected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Women’s first duty was to her family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934320" y="1968480"/>
            <a:ext cx="1973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omen and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4479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lightenment thinkers maint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raditiona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as toward wo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ucated women challenged these ideas us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 Enlightenme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ry Wollstonecraf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virtuous &amp; usef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15320" indent="-1987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 have the righ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particip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poli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 helped spread Enlightenment ideas by hol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al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Content Placeholder 4" descr="rights of women.jpg"/>
          <p:cNvPicPr/>
          <p:nvPr/>
        </p:nvPicPr>
        <p:blipFill>
          <a:blip r:embed="rId1"/>
          <a:stretch/>
        </p:blipFill>
        <p:spPr>
          <a:xfrm>
            <a:off x="6464160" y="1468440"/>
            <a:ext cx="2298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Enlightenment and the Economy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Physiocrats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rejected mercantilism in favor of a policy called laissez fair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Physiocrats were Enlightenment 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thinkers who focused on economic reform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Laissez-Faire: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allowing business to operate with little or no government interferenc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Real wealth comes from productive land not gold and silver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53"/>
                </a:solidFill>
                <a:latin typeface="Gill Sans MT"/>
              </a:rPr>
              <a:t>Supported free trade and opposed tariffs</a:t>
            </a:r>
            <a:endParaRPr b="0" lang="en-US" sz="3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7710480" y="3352680"/>
            <a:ext cx="1295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act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merican, French, Haitian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lief in social and human prog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bolition of slavery, promote education, social equalit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lar outlook in Eur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motion of religious tolerance, openly question religious beliefs, science challenges religious teaching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ce of the individu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eople can judge right and wrong for themselves, rise of capitalism, support for democracy, etc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12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01320" indent="-501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REVIEW QUESTION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4400" y="1219320"/>
            <a:ext cx="8762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o believed that people are naturally cruel and greed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Montesquie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Perpetua"/>
              </a:rPr>
              <a:t>b) Hobb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Rousse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Volt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Which of the following is true of the physiocra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a) They rejected laissez faire in favor of mercantilis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Perpetua"/>
              </a:rPr>
              <a:t>b) They rejected mercantilism in favor of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c) They rejected both mercantilism and laissez fai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2800" indent="-485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erpetua"/>
              </a:rPr>
              <a:t>d) They focused on social refor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O N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Oval 2"/>
          <p:cNvSpPr/>
          <p:nvPr/>
        </p:nvSpPr>
        <p:spPr>
          <a:xfrm>
            <a:off x="2895480" y="2819520"/>
            <a:ext cx="3733920" cy="17254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NLIGHTE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rigins of the Enlighten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as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 18</a:t>
            </a:r>
            <a:r>
              <a:rPr b="0" lang="en-US" sz="2400" spc="-1" strike="noStrike" baseline="30000">
                <a:solidFill>
                  <a:srgbClr val="464653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century philosophical movement that swept throughout Europe and North America; advocated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eason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s the primary source of authority and legitim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re the basic principles of the Enlighten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eason –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Trut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hrough logical reasoni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ature – Nature is good; natural laws of politics &amp; economic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appiness – Live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ja-JP" sz="2400" spc="-1" strike="noStrike" u="sng">
                <a:solidFill>
                  <a:srgbClr val="464653"/>
                </a:solidFill>
                <a:uFillTx/>
                <a:latin typeface="Gill Sans MT"/>
              </a:rPr>
              <a:t>’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 law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d you will find happines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rogress – Believed society and humankind could be perfect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iberty – Believed society should be se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fre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57" name="Ink 1" descr=""/>
          <p:cNvPicPr/>
          <p:nvPr/>
        </p:nvPicPr>
        <p:blipFill>
          <a:blip r:embed="rId1"/>
          <a:stretch/>
        </p:blipFill>
        <p:spPr>
          <a:xfrm>
            <a:off x="6180120" y="1190520"/>
            <a:ext cx="19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Major Enlightenment Ideas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Every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ocial, political and economic </a:t>
            </a:r>
            <a:r>
              <a:rPr b="1" lang="en-US" sz="3800" spc="-1" strike="noStrike">
                <a:solidFill>
                  <a:srgbClr val="000000"/>
                </a:solidFill>
                <a:latin typeface="Gill Sans MT"/>
              </a:rPr>
              <a:t>problem could be solved through the use of reason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Governments are created to secure an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orderly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society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Separation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 of powers is the best way to protect human liberties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ll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men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re created “free and equal”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Gill Sans MT"/>
              </a:rPr>
              <a:t>free market </a:t>
            </a: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should be allowed to regulate trad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2971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mportant Enlightenment Thinker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omas Hobbes (1588-1679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71240"/>
            <a:ext cx="50292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mous work w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eviath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 is inherent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elfis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aggressiv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nkind, if left on its own, would be ruled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haos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fli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itizens need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law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and a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trong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monarch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prevent cha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Social Contrac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64" name="Content Placeholder 4" descr="Leviathan Cov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2144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ohn Locke (1632-1704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733920" y="1371600"/>
            <a:ext cx="5029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v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uring the English Civil W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ther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iberal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upported individual</a:t>
            </a:r>
            <a:r>
              <a:rPr b="0" lang="ja-JP" sz="2400" spc="-1" strike="noStrike">
                <a:solidFill>
                  <a:srgbClr val="464653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al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righ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o life, liberty, and proper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overnment at the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nsen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of the govern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Revolu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French Enlightenment think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Content Placeholder 6" descr="John Locke 2.jpg"/>
          <p:cNvPicPr/>
          <p:nvPr/>
        </p:nvPicPr>
        <p:blipFill>
          <a:blip r:embed="rId1"/>
          <a:stretch/>
        </p:blipFill>
        <p:spPr>
          <a:xfrm>
            <a:off x="457200" y="137160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64653"/>
                </a:solidFill>
                <a:uFillTx/>
                <a:latin typeface="Franklin Gothic Book (Headings)"/>
              </a:rPr>
              <a:t>Social Contract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Picture 1029" descr="C:\WINDOWS\Desktop\artwork\two colum vert.gif"/>
          <p:cNvPicPr/>
          <p:nvPr/>
        </p:nvPicPr>
        <p:blipFill>
          <a:blip r:embed="rId1"/>
          <a:stretch/>
        </p:blipFill>
        <p:spPr>
          <a:xfrm>
            <a:off x="23760" y="1143000"/>
            <a:ext cx="9120240" cy="6024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513720" y="1230480"/>
            <a:ext cx="3713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Thomas Hobb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5750640" y="1230480"/>
            <a:ext cx="260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John Lock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23760" y="1862280"/>
            <a:ext cx="4548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cruel, greedy and sel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o escape this “brutish” life people entered into a social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nly a powerful government could ensure an orderly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lieved only an absolute monarchy could keep a society completely ord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595760" y="1905120"/>
            <a:ext cx="45482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are naturally reasonable, moral and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umans have natural rights: life liberty and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eople form governments to protect natur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st government was one with limi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f a government violates people’s natural rights, people have the right to overthrow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ean Jacques Rousseau (1712-178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447560"/>
            <a:ext cx="4724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renc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ilosop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umans are basicall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goo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nature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ut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corrupted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by </a:t>
            </a:r>
            <a:r>
              <a:rPr b="0" lang="en-US" sz="2400" spc="-1" strike="noStrike" u="sng">
                <a:solidFill>
                  <a:srgbClr val="464653"/>
                </a:solidFill>
                <a:uFillTx/>
                <a:latin typeface="Gill Sans MT"/>
              </a:rPr>
              <a:t>societ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vilization destroyed freedom and e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dvocated direct democracy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merican &amp; French Rev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Content Placeholder 4" descr="Rousseau.jpg"/>
          <p:cNvPicPr/>
          <p:nvPr/>
        </p:nvPicPr>
        <p:blipFill>
          <a:blip r:embed="rId1"/>
          <a:stretch/>
        </p:blipFill>
        <p:spPr>
          <a:xfrm>
            <a:off x="5335560" y="1500120"/>
            <a:ext cx="3338640" cy="3986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5105520" y="55576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 is born free, and everywhere he is in chain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30:07Z</dcterms:created>
  <dc:creator>Jeremy Millhouse</dc:creator>
  <dc:description/>
  <dc:language>en-US</dc:language>
  <cp:lastModifiedBy>Katherine Silver</cp:lastModifiedBy>
  <cp:lastPrinted>2016-11-03T12:10:20Z</cp:lastPrinted>
  <dcterms:modified xsi:type="dcterms:W3CDTF">2017-11-08T22:09:21Z</dcterms:modified>
  <cp:revision>54</cp:revision>
  <dc:subject/>
  <dc:title>The Enlightenment</dc:title>
</cp:coreProperties>
</file>