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EA7E-6755-4E4B-B0A6-09A7A3DE1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30F5-5AAE-4F73-92C7-2F55DADD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77E5-6503-48C6-A44D-1DE6B9C00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BB53-E029-43FB-8605-8A13EDE2E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3B615-7403-4947-BF3B-EE154CED5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334CD-B621-47CD-B74D-E737152C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9559-9943-40E5-BF25-E774AD92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B47C-AE9D-468B-84D6-C348D42B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232B-42A8-4E01-A53A-3D88071C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4DBA-727F-4334-AF38-F72609A1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8A44E-EBAA-49FE-B7E2-FBDA8B8C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68B5-BCEB-40F5-8D19-7B4F3086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D41ED-7D63-4A57-9977-B3D1A9E6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CF7F-7743-4E62-88B5-B7366B44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C709-5FB2-45D8-BF45-75838218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6919-A190-4D75-BA06-AC641C2FE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87D8-9B64-4662-B4D0-4436E1EFC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D73AD-218E-4C04-BAB8-3F85D8764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5770E-284D-4933-940E-3B7B3927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A6255-592D-4107-A12C-1B38FC69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C64DE-BBB6-4484-A808-2B9A1503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75696-2571-4F1C-AEA6-7DA4884D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F1A9-6E94-4366-9846-919EEA79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56458-B883-4F2B-875B-3B0D3BB1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B732E-27D2-46FF-B8E0-8D93F4F9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80AB7-9311-4258-B4DE-A36717A8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FC26A-77BF-4963-8110-12D247E6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290F4-55D7-42E5-AFBA-10FACFDF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09705-DAA2-4454-BCA1-321335F19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ABCEB-68A0-4F60-A7F9-4C71E8D8B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BE655-8EAA-440F-9321-589DEF722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17447-F77C-4033-BA39-E920B79B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0B0AD-6216-40BA-AE8B-9D683D41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4D6B-5B8F-48A2-9F90-5F449D2D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15C5B-008D-4D82-913D-8604802C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9F52F-148A-4110-9893-45580673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66AE1-D431-4CDA-ACEF-A0EC1848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97567-B31E-4B3F-A3DC-BAAD420B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38C37-2054-492B-A009-FC098F7D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F8BC5-D3A3-443C-9BF5-F8326324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56259-3734-4E2A-A037-F3CE58B1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2B4F7-1F82-4291-8335-F6D07EB6D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62655-67A4-44B6-9A40-7C09E1C1B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9DD19-1322-4CD2-AD30-82708AAD1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EBD8-075B-426A-AB7D-3C376D9D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774CA-7018-4FD0-A6B3-4F418FA4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E9467-7D3B-4B79-8E98-E6D7C5A6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4D37E-8AEA-4A48-8A10-335252B3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9DF79-408F-4D78-AB63-32D5A3AD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FEDB3-D7AF-4E31-9624-252F55DF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697B4-F8E0-450A-AB53-22569613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00FB0-EA96-4BFF-9101-8B1517EB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7029B-A4A5-4030-A423-A105C8B1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F1007-7DAE-46F4-85A1-B9DBA4AA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EB3B0-F651-4554-892D-5A77571D1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F45A-931B-46EF-A8E0-97F3900E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B5F19-FFAA-4FCD-9456-4B32E41C4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FBBA6-50B6-4030-B5A0-A4CDA3496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A9550-8AC9-490B-B214-54C65302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7DC74-866E-4152-A654-DBE8AC52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15431-82F5-45A6-9DE3-2181C1EB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C0425-1CDA-427C-806D-29DEA766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EAE6D-CA93-483C-B834-AC607149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06430-C23E-43EC-976E-F46B0CA0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FA7C3-BB60-4589-85A4-2A3E0FE2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4B012-487B-4D41-8923-D268AF80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FADF-6536-47DF-B635-052F7BF1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00125-BEB0-41CF-B443-0C36956B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C7C73-8AB1-45FD-B602-95DDCB149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36F2D-2724-4525-ACFE-8B2E4C130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4DC97-8C13-445A-AD02-834FA0316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8BB59-C286-4521-AEFB-FE765F7B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E578E-2B3C-4E13-AEC7-EA1AA5E8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97B2A-0A42-495A-81D0-57F0E82A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553D1-472C-4D71-AF9F-CD25B355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7BEA1-CF58-4AA6-AA6B-E4CD6561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08752-4AFB-4414-B88C-96F76957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419A-3822-49F8-95BB-1BC85AB6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B25D1-57EA-4D95-934D-FAAD3138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BDB63-1082-4DA6-8E6E-2028D10A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DA083-2976-4869-AA49-8D356277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C4237-E603-4F0A-881D-DCA2215E0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26796-08C6-41D3-BF96-3838B4D9D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45964-5D03-4797-A18F-1EE3F8980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6EF93-546B-454A-A590-24EDA43E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DD033-F848-4F56-A554-F30D9D8C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4ADA6-DBFD-4AA3-AC56-1B9A3C2E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2BC49-34B0-48A8-8E44-1F7F7AF8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CDA2-89BC-4379-B63C-0059B16D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D07B5-0893-46AF-9622-170DDE94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221EF-BE2F-4E12-A6DC-AE8BD846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B4156-7836-4D1F-BF23-321C38CA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2DC94-07E0-4574-9492-32F1A97A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167B0-6235-4C70-8E97-E53AC8B1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D8E3D-A756-4D34-9B7B-BCE35453A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5E164-E1A6-45A5-9168-0147467C4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FBD5-9419-4215-8229-7D38B7534DD1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9786-DEA5-4A7C-A80D-3089671F0560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AFBC-7C8B-40B5-9C89-C8FD39C83F94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C5D9-251A-4D4C-9437-4BCD53642348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3979-4818-4C51-9266-5CD8E2424FA8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DE36-7596-477B-9E67-CCC5BD03989A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5453-A78A-45CC-9DBB-27B573584393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451F-0679-4D45-8736-1F048445CEAC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he Enlightenmen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Voltaire (1694-1778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447920"/>
            <a:ext cx="5181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erhaps the mos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brillian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Enlightenment philosoph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riend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of Frederick II of Prussi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requentl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targete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he clergy, aristocracy, and governm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in Idea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9040" indent="-2534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Freedom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of religion, freedom of speech, </a:t>
            </a: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tolerance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09040" indent="-2534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Attacked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intolerance, prejudice, and superstition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</p:txBody>
      </p:sp>
      <p:pic>
        <p:nvPicPr>
          <p:cNvPr id="380" name="Content Placeholder 4" descr="Voltaire.gif"/>
          <p:cNvPicPr/>
          <p:nvPr/>
        </p:nvPicPr>
        <p:blipFill>
          <a:blip r:embed="rId1"/>
          <a:stretch/>
        </p:blipFill>
        <p:spPr>
          <a:xfrm>
            <a:off x="5808600" y="1447920"/>
            <a:ext cx="2801880" cy="4114800"/>
          </a:xfrm>
          <a:prstGeom prst="rect">
            <a:avLst/>
          </a:prstGeom>
          <a:ln w="0">
            <a:noFill/>
          </a:ln>
        </p:spPr>
      </p:pic>
      <p:sp>
        <p:nvSpPr>
          <p:cNvPr id="381" name="TextBox 5"/>
          <p:cNvSpPr/>
          <p:nvPr/>
        </p:nvSpPr>
        <p:spPr>
          <a:xfrm>
            <a:off x="5715000" y="564984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rush the evil thing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ontesquieu (1689-1755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83" name="Content Placeholder 4" descr="montesquieu.jpg"/>
          <p:cNvPicPr/>
          <p:nvPr/>
        </p:nvPicPr>
        <p:blipFill>
          <a:blip r:embed="rId1"/>
          <a:stretch/>
        </p:blipFill>
        <p:spPr>
          <a:xfrm>
            <a:off x="457200" y="1447920"/>
            <a:ext cx="2597040" cy="35319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3123720" y="1447560"/>
            <a:ext cx="5550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Frenc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aristocra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nd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lawy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eliev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Britai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as the best-governed countr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in Idea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Challenged</a:t>
            </a: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 absolute 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monarchy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Separation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of Powers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2" marL="780840" indent="-21708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Executive, legislative, judici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Checks and Balances 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– Each branch of the government should be able to ‘check’ the other two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Influence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he United States Constitu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TextBox 5"/>
          <p:cNvSpPr/>
          <p:nvPr/>
        </p:nvSpPr>
        <p:spPr>
          <a:xfrm>
            <a:off x="457200" y="51055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wer should be a check to pow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464653"/>
                </a:solidFill>
                <a:uFillTx/>
                <a:latin typeface="Franklin Gothic Book (Headings)"/>
              </a:rPr>
              <a:t>Major Enlightenment Ideas for Society</a:t>
            </a: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Detested the </a:t>
            </a:r>
            <a:r>
              <a:rPr b="1" lang="en-US" sz="3500" spc="-1" strike="noStrike" u="sng">
                <a:solidFill>
                  <a:srgbClr val="000000"/>
                </a:solidFill>
                <a:uFillTx/>
                <a:latin typeface="Gill Sans MT"/>
              </a:rPr>
              <a:t>slave</a:t>
            </a: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 trade and slavery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Deplored religious prejudice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Defended </a:t>
            </a:r>
            <a:r>
              <a:rPr b="1" lang="en-US" sz="3500" spc="-1" strike="noStrike" u="sng">
                <a:solidFill>
                  <a:srgbClr val="000000"/>
                </a:solidFill>
                <a:uFillTx/>
                <a:latin typeface="Gill Sans MT"/>
              </a:rPr>
              <a:t>freedom</a:t>
            </a: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 of speech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Attacked </a:t>
            </a:r>
            <a:r>
              <a:rPr b="1" lang="en-US" sz="3500" spc="-1" strike="noStrike" u="sng">
                <a:solidFill>
                  <a:srgbClr val="000000"/>
                </a:solidFill>
                <a:uFillTx/>
                <a:latin typeface="Gill Sans MT"/>
              </a:rPr>
              <a:t>divine</a:t>
            </a: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 right theory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Urged education for al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Hated </a:t>
            </a:r>
            <a:r>
              <a:rPr b="1" lang="en-US" sz="3500" spc="-1" strike="noStrike" u="sng">
                <a:solidFill>
                  <a:srgbClr val="000000"/>
                </a:solidFill>
                <a:uFillTx/>
                <a:latin typeface="Gill Sans MT"/>
              </a:rPr>
              <a:t>unequal</a:t>
            </a: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 distribution of property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Believed governments should be freely </a:t>
            </a:r>
            <a:r>
              <a:rPr b="1" lang="en-US" sz="3500" spc="-1" strike="noStrike" u="sng">
                <a:solidFill>
                  <a:srgbClr val="000000"/>
                </a:solidFill>
                <a:uFillTx/>
                <a:latin typeface="Gill Sans MT"/>
              </a:rPr>
              <a:t>elected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Women’s first duty was to her family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8" name="Picture 3" descr=""/>
          <p:cNvPicPr/>
          <p:nvPr/>
        </p:nvPicPr>
        <p:blipFill>
          <a:blip r:embed="rId1"/>
          <a:stretch/>
        </p:blipFill>
        <p:spPr>
          <a:xfrm>
            <a:off x="6934320" y="1968480"/>
            <a:ext cx="19731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Women and the Enlightenmen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4479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nlightenment thinkers maintain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traditional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deas toward wome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ducated women challenged these ideas using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 Enlightenment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rgum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76280" indent="-2372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Mary Wollstonecraft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2" marL="715320" indent="-19872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omen ne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educa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be virtuous &amp; usefu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715320" indent="-19872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omen have the right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participat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 politic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omen helped spread Enlightenment ideas by hold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sal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1" name="Content Placeholder 4" descr="rights of women.jpg"/>
          <p:cNvPicPr/>
          <p:nvPr/>
        </p:nvPicPr>
        <p:blipFill>
          <a:blip r:embed="rId1"/>
          <a:stretch/>
        </p:blipFill>
        <p:spPr>
          <a:xfrm>
            <a:off x="6464160" y="1468440"/>
            <a:ext cx="229896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464653"/>
                </a:solidFill>
                <a:uFillTx/>
                <a:latin typeface="Franklin Gothic Book (Headings)"/>
              </a:rPr>
              <a:t>Enlightenment and the Economy</a:t>
            </a: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Physiocrats </a:t>
            </a: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rejected mercantilism in favor of a policy called laissez faire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lvl="1" marL="536400" indent="-2671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64653"/>
                </a:solidFill>
                <a:latin typeface="Gill Sans MT"/>
              </a:rPr>
              <a:t>Physiocrats were Enlightenment </a:t>
            </a:r>
            <a:endParaRPr b="0" lang="en-US" sz="3400" spc="-1" strike="noStrike">
              <a:solidFill>
                <a:srgbClr val="464653"/>
              </a:solidFill>
              <a:latin typeface="Gill Sans MT"/>
            </a:endParaRPr>
          </a:p>
          <a:p>
            <a:pPr lvl="1" marL="536400" indent="-267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64653"/>
                </a:solidFill>
                <a:latin typeface="Gill Sans MT"/>
              </a:rPr>
              <a:t>thinkers who focused on economic reforms</a:t>
            </a:r>
            <a:endParaRPr b="0" lang="en-US" sz="3400" spc="-1" strike="noStrike">
              <a:solidFill>
                <a:srgbClr val="464653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Gill Sans MT"/>
              </a:rPr>
              <a:t>Laissez-Faire:</a:t>
            </a:r>
            <a:r>
              <a:rPr b="0" lang="en-US" sz="3800" spc="-1" strike="noStrike">
                <a:solidFill>
                  <a:srgbClr val="000000"/>
                </a:solidFill>
                <a:latin typeface="Gill Sans MT"/>
              </a:rPr>
              <a:t> allowing business to operate with little or no government interference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lvl="1" marL="536400" indent="-2671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64653"/>
                </a:solidFill>
                <a:latin typeface="Gill Sans MT"/>
              </a:rPr>
              <a:t>Real wealth comes from productive land not gold and silver</a:t>
            </a:r>
            <a:endParaRPr b="0" lang="en-US" sz="3400" spc="-1" strike="noStrike">
              <a:solidFill>
                <a:srgbClr val="464653"/>
              </a:solidFill>
              <a:latin typeface="Gill Sans MT"/>
            </a:endParaRPr>
          </a:p>
          <a:p>
            <a:pPr lvl="1" marL="536400" indent="-2671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64653"/>
                </a:solidFill>
                <a:latin typeface="Gill Sans MT"/>
              </a:rPr>
              <a:t>Supported free trade and opposed tariffs</a:t>
            </a:r>
            <a:endParaRPr b="0" lang="en-US" sz="3400" spc="-1" strike="noStrike">
              <a:solidFill>
                <a:srgbClr val="464653"/>
              </a:solidFill>
              <a:latin typeface="Gill Sans MT"/>
            </a:endParaRPr>
          </a:p>
        </p:txBody>
      </p:sp>
      <p:pic>
        <p:nvPicPr>
          <p:cNvPr id="394" name="Picture 3" descr=""/>
          <p:cNvPicPr/>
          <p:nvPr/>
        </p:nvPicPr>
        <p:blipFill>
          <a:blip r:embed="rId1"/>
          <a:stretch/>
        </p:blipFill>
        <p:spPr>
          <a:xfrm>
            <a:off x="7710480" y="3352680"/>
            <a:ext cx="12952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19320" y="29714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Impact of the Enlightenmen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94920" y="426672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mpact of the Enlightenmen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volu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American, French, Haitian, etc.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elief in social and human progre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Abolition of slavery, promote education, social equality, etc.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ular outlook in Europ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Promotion of religious tolerance, openly question religious beliefs, science challenges religious teachings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mportance of the individu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People can judge right and wrong for themselves, rise of capitalism, support for democracy, etc.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4120" y="763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464653"/>
                </a:solidFill>
                <a:uFillTx/>
                <a:latin typeface="Franklin Gothic Book (Headings)"/>
              </a:rPr>
              <a:t>REVIEW QUESTIONS</a:t>
            </a: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Perpetua"/>
              </a:rPr>
              <a:t>Who believed that people are naturally cruel and greedy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201320" indent="-501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Perpetua"/>
              </a:rPr>
              <a:t>a) Montesquie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201320" indent="-501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Perpetua"/>
              </a:rPr>
              <a:t>b) Hobb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201320" indent="-501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Perpetua"/>
              </a:rPr>
              <a:t>c) Roussea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201320" indent="-501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Perpetua"/>
              </a:rPr>
              <a:t>d) Voltai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Perpetua"/>
              </a:rPr>
              <a:t>Which of the following is true of the physiocrat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201320" indent="-501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Perpetua"/>
              </a:rPr>
              <a:t>a) They rejected laissez faire in favor of mercantilism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201320" indent="-501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Perpetua"/>
              </a:rPr>
              <a:t>b) They rejected mercantilism in favor of laissez fair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201320" indent="-501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Perpetua"/>
              </a:rPr>
              <a:t>c) They rejected both mercantilism and laissez fair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201320" indent="-501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Perpetua"/>
              </a:rPr>
              <a:t>d) They focused on social reform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4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4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4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464653"/>
                </a:solidFill>
                <a:uFillTx/>
                <a:latin typeface="Franklin Gothic Book (Headings)"/>
              </a:rPr>
              <a:t>REVIEW QUESTIONS</a:t>
            </a: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14400" y="1219320"/>
            <a:ext cx="87627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Perpetua"/>
              </a:rPr>
              <a:t>Who believed that people are naturally cruel and greedy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162800" indent="-4852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Perpetua"/>
              </a:rPr>
              <a:t>a) Montesquie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162800" indent="-4852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70c0"/>
                </a:solidFill>
                <a:latin typeface="Perpetua"/>
              </a:rPr>
              <a:t>b) Hobb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162800" indent="-4852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Perpetua"/>
              </a:rPr>
              <a:t>c) Roussea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162800" indent="-4852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Perpetua"/>
              </a:rPr>
              <a:t>d) Voltai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Perpetua"/>
              </a:rPr>
              <a:t>Which of the following is true of the physiocrat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162800" indent="-4852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Perpetua"/>
              </a:rPr>
              <a:t>a) They rejected laissez faire in favor of mercantilism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162800" indent="-4852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b0f0"/>
                </a:solidFill>
                <a:latin typeface="Perpetua"/>
              </a:rPr>
              <a:t>b) They rejected mercantilism in favor of laissez fair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162800" indent="-4852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Perpetua"/>
              </a:rPr>
              <a:t>c) They rejected both mercantilism and laissez fair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162800" indent="-4852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Perpetua"/>
              </a:rPr>
              <a:t>d) They focused on social reform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4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4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DO NOW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4" name="Oval 2"/>
          <p:cNvSpPr/>
          <p:nvPr/>
        </p:nvSpPr>
        <p:spPr>
          <a:xfrm>
            <a:off x="2895480" y="2819520"/>
            <a:ext cx="3733920" cy="1725480"/>
          </a:xfrm>
          <a:prstGeom prst="ellipse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 Sans MT"/>
              </a:rPr>
              <a:t>ENLIGHTE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Origins of the Enlightenmen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was the Enlightenment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An 18</a:t>
            </a:r>
            <a:r>
              <a:rPr b="0" lang="en-US" sz="2400" spc="-1" strike="noStrike" baseline="30000">
                <a:solidFill>
                  <a:srgbClr val="464653"/>
                </a:solidFill>
                <a:latin typeface="Gill Sans MT"/>
              </a:rPr>
              <a:t>th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century philosophical movement that swept throughout Europe and North America; advocated </a:t>
            </a:r>
            <a:r>
              <a:rPr b="1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reason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as the primary source of authority and legitimacy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were the basic principles of the Enlightenment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Reason – </a:t>
            </a: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Truth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through logical reasoning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Nature – Nature is good; natural laws of politics &amp; economics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Happiness – Live by </a:t>
            </a: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nature</a:t>
            </a:r>
            <a:r>
              <a:rPr b="0" lang="ja-JP" sz="2400" spc="-1" strike="noStrike" u="sng">
                <a:solidFill>
                  <a:srgbClr val="464653"/>
                </a:solidFill>
                <a:uFillTx/>
                <a:latin typeface="Gill Sans MT"/>
              </a:rPr>
              <a:t>’</a:t>
            </a: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s laws 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and you will find happiness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Progress – Believed society and humankind could be perfected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Liberty – Believed society should be set </a:t>
            </a: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free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</p:txBody>
      </p:sp>
      <p:pic>
        <p:nvPicPr>
          <p:cNvPr id="357" name="Ink 1" descr=""/>
          <p:cNvPicPr/>
          <p:nvPr/>
        </p:nvPicPr>
        <p:blipFill>
          <a:blip r:embed="rId1"/>
          <a:stretch/>
        </p:blipFill>
        <p:spPr>
          <a:xfrm>
            <a:off x="6180120" y="1190520"/>
            <a:ext cx="19080" cy="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464653"/>
                </a:solidFill>
                <a:uFillTx/>
                <a:latin typeface="Franklin Gothic Book (Headings)"/>
              </a:rPr>
              <a:t>Major Enlightenment Ideas</a:t>
            </a: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Gill Sans MT"/>
              </a:rPr>
              <a:t>Every </a:t>
            </a:r>
            <a:r>
              <a:rPr b="1" lang="en-US" sz="3800" spc="-1" strike="noStrike" u="sng">
                <a:solidFill>
                  <a:srgbClr val="000000"/>
                </a:solidFill>
                <a:uFillTx/>
                <a:latin typeface="Gill Sans MT"/>
              </a:rPr>
              <a:t>social, political and economic </a:t>
            </a:r>
            <a:r>
              <a:rPr b="1" lang="en-US" sz="3800" spc="-1" strike="noStrike">
                <a:solidFill>
                  <a:srgbClr val="000000"/>
                </a:solidFill>
                <a:latin typeface="Gill Sans MT"/>
              </a:rPr>
              <a:t>problem could be solved through the use of reason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 MT"/>
              </a:rPr>
              <a:t>Governments are created to secure an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Gill Sans MT"/>
              </a:rPr>
              <a:t>orderly</a:t>
            </a:r>
            <a:r>
              <a:rPr b="0" lang="en-US" sz="3800" spc="-1" strike="noStrike">
                <a:solidFill>
                  <a:srgbClr val="000000"/>
                </a:solidFill>
                <a:latin typeface="Gill Sans MT"/>
              </a:rPr>
              <a:t> society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0000"/>
                </a:solidFill>
                <a:uFillTx/>
                <a:latin typeface="Gill Sans MT"/>
              </a:rPr>
              <a:t>Separation</a:t>
            </a:r>
            <a:r>
              <a:rPr b="0" lang="en-US" sz="3800" spc="-1" strike="noStrike">
                <a:solidFill>
                  <a:srgbClr val="000000"/>
                </a:solidFill>
                <a:latin typeface="Gill Sans MT"/>
              </a:rPr>
              <a:t> of powers is the best way to protect human liberties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 MT"/>
              </a:rPr>
              <a:t>All </a:t>
            </a:r>
            <a:r>
              <a:rPr b="1" lang="en-US" sz="3800" spc="-1" strike="noStrike" u="sng">
                <a:solidFill>
                  <a:srgbClr val="000000"/>
                </a:solidFill>
                <a:uFillTx/>
                <a:latin typeface="Gill Sans MT"/>
              </a:rPr>
              <a:t>men </a:t>
            </a:r>
            <a:r>
              <a:rPr b="0" lang="en-US" sz="3800" spc="-1" strike="noStrike">
                <a:solidFill>
                  <a:srgbClr val="000000"/>
                </a:solidFill>
                <a:latin typeface="Gill Sans MT"/>
              </a:rPr>
              <a:t>are created “free and equal”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 MT"/>
              </a:rPr>
              <a:t>A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Gill Sans MT"/>
              </a:rPr>
              <a:t>free market </a:t>
            </a:r>
            <a:r>
              <a:rPr b="0" lang="en-US" sz="3800" spc="-1" strike="noStrike">
                <a:solidFill>
                  <a:srgbClr val="000000"/>
                </a:solidFill>
                <a:latin typeface="Gill Sans MT"/>
              </a:rPr>
              <a:t>should be allowed to regulate trade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66320" y="297144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Important Enlightenment Thinkers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94920" y="426672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Thomas Hobbes (1588-1679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371240"/>
            <a:ext cx="50292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Live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during the English Civil Wa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amous work wa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Leviatha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in Idea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Man is inherently </a:t>
            </a: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selfish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and </a:t>
            </a: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aggressive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Mankind, if left on its own, would be ruled by </a:t>
            </a: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chaos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and </a:t>
            </a: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conflict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Citizens need the </a:t>
            </a: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law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and a </a:t>
            </a: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strong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monarch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to prevent chaos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The Social Contract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</p:txBody>
      </p:sp>
      <p:pic>
        <p:nvPicPr>
          <p:cNvPr id="364" name="Content Placeholder 4" descr="Leviathan Cover.jpg"/>
          <p:cNvPicPr/>
          <p:nvPr/>
        </p:nvPicPr>
        <p:blipFill>
          <a:blip r:embed="rId1"/>
          <a:stretch/>
        </p:blipFill>
        <p:spPr>
          <a:xfrm>
            <a:off x="5562720" y="1219320"/>
            <a:ext cx="321444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John Locke (1632-1704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733920" y="1371600"/>
            <a:ext cx="50292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Live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during the English Civil Wa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ather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Liberalis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Supported individual</a:t>
            </a:r>
            <a:r>
              <a:rPr b="0" lang="ja-JP" sz="2400" spc="-1" strike="noStrike">
                <a:solidFill>
                  <a:srgbClr val="464653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s </a:t>
            </a:r>
            <a:r>
              <a:rPr b="1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natural</a:t>
            </a:r>
            <a:r>
              <a:rPr b="1" lang="en-US" sz="24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1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right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to life, liberty, and property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Government at the </a:t>
            </a: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consent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of the governed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fluenced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American Revolutio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nd French Enlightenment think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7" name="Content Placeholder 6" descr="John Locke 2.jpg"/>
          <p:cNvPicPr/>
          <p:nvPr/>
        </p:nvPicPr>
        <p:blipFill>
          <a:blip r:embed="rId1"/>
          <a:stretch/>
        </p:blipFill>
        <p:spPr>
          <a:xfrm>
            <a:off x="457200" y="1371600"/>
            <a:ext cx="3160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464653"/>
                </a:solidFill>
                <a:uFillTx/>
                <a:latin typeface="Franklin Gothic Book (Headings)"/>
              </a:rPr>
              <a:t>Social Contract 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69" name="Picture 1029" descr="C:\WINDOWS\Desktop\artwork\two colum vert.gif"/>
          <p:cNvPicPr/>
          <p:nvPr/>
        </p:nvPicPr>
        <p:blipFill>
          <a:blip r:embed="rId1"/>
          <a:stretch/>
        </p:blipFill>
        <p:spPr>
          <a:xfrm>
            <a:off x="23760" y="1143000"/>
            <a:ext cx="9120240" cy="6024600"/>
          </a:xfrm>
          <a:prstGeom prst="rect">
            <a:avLst/>
          </a:prstGeom>
          <a:ln w="0">
            <a:noFill/>
          </a:ln>
        </p:spPr>
      </p:pic>
      <p:sp>
        <p:nvSpPr>
          <p:cNvPr id="370" name="TextBox 5"/>
          <p:cNvSpPr/>
          <p:nvPr/>
        </p:nvSpPr>
        <p:spPr>
          <a:xfrm>
            <a:off x="513720" y="1230480"/>
            <a:ext cx="37134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Perpetua"/>
              </a:rPr>
              <a:t>Thomas Hobb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6"/>
          <p:cNvSpPr/>
          <p:nvPr/>
        </p:nvSpPr>
        <p:spPr>
          <a:xfrm>
            <a:off x="5750640" y="1230480"/>
            <a:ext cx="2601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Perpetua"/>
              </a:rPr>
              <a:t>John Lock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7"/>
          <p:cNvSpPr/>
          <p:nvPr/>
        </p:nvSpPr>
        <p:spPr>
          <a:xfrm>
            <a:off x="23760" y="1862280"/>
            <a:ext cx="45482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Humans are naturally cruel, greedy and self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To escape this “brutish” life people entered into a social contr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Only a powerful government could ensure an orderly socie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Believed only an absolute monarchy could keep a society completely order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8"/>
          <p:cNvSpPr/>
          <p:nvPr/>
        </p:nvSpPr>
        <p:spPr>
          <a:xfrm>
            <a:off x="4595760" y="1905120"/>
            <a:ext cx="454824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Humans are naturally reasonable, moral and g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Humans have natural rights: life liberty and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People form governments to protect natural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Best government was one with limited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If a government violates people’s natural rights, people have the right to overthrow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Jean Jacques Rousseau (1712-1788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447560"/>
            <a:ext cx="47242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French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hilosoph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in Idea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Humans are basically </a:t>
            </a: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good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by </a:t>
            </a: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nature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but </a:t>
            </a: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corrupted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by </a:t>
            </a: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society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ivilization destroyed freedom and equal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Advocated direct democracy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fluenced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American &amp; French Revolu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6" name="Content Placeholder 4" descr="Rousseau.jpg"/>
          <p:cNvPicPr/>
          <p:nvPr/>
        </p:nvPicPr>
        <p:blipFill>
          <a:blip r:embed="rId1"/>
          <a:stretch/>
        </p:blipFill>
        <p:spPr>
          <a:xfrm>
            <a:off x="5335560" y="1500120"/>
            <a:ext cx="3338640" cy="3986280"/>
          </a:xfrm>
          <a:prstGeom prst="rect">
            <a:avLst/>
          </a:prstGeom>
          <a:ln w="0">
            <a:noFill/>
          </a:ln>
        </p:spPr>
      </p:pic>
      <p:sp>
        <p:nvSpPr>
          <p:cNvPr id="377" name="TextBox 5"/>
          <p:cNvSpPr/>
          <p:nvPr/>
        </p:nvSpPr>
        <p:spPr>
          <a:xfrm>
            <a:off x="5105520" y="5557680"/>
            <a:ext cx="37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n is born free, and everywhere he is in chain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4:30:07Z</dcterms:created>
  <dc:creator>Jeremy Millhouse</dc:creator>
  <dc:description/>
  <dc:language>en-US</dc:language>
  <cp:lastModifiedBy>Katherine Silver</cp:lastModifiedBy>
  <cp:lastPrinted>2016-11-03T12:10:20Z</cp:lastPrinted>
  <dcterms:modified xsi:type="dcterms:W3CDTF">2017-11-08T22:09:21Z</dcterms:modified>
  <cp:revision>54</cp:revision>
  <dc:subject/>
  <dc:title>The Enlightenment</dc:title>
</cp:coreProperties>
</file>