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D89-23C3-456A-B498-A3E42877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36F-8086-49BC-87BC-8E97913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9B1-EF11-4795-AA00-94E1C330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89F-742A-468C-A50B-876AF19A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43D5-C29B-4423-8BB9-36AFCD08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8A6C-8E79-4FE5-9ECF-6E44F14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8576-C6CA-40BC-919F-FACC320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B5CF-0B58-4AF2-AA10-E96C1B4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429E-BE1C-45E5-97D1-426BA1D7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949E-2EFD-4396-B781-88BA750D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528A-DBF4-4AAF-9354-032ECB40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0FE-8C16-4FAE-BA48-AC3D37E9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BDC1-02BC-478B-B800-15CDA0E2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D499-A28C-461D-B038-08EFBFD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04D4-E434-459B-9658-673CBD5B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340F-2DAB-4983-A7CF-5FCED65E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BA3D-924F-46D8-B009-79874875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56C7-0E16-4359-B8FA-82F014EB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93C4-2D12-4B7D-9B1F-9941B590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AAB95-E41D-4A45-87FB-95371429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3692-0E8E-4129-9AA0-B23E7B53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DCB4-E091-4051-ACA6-B62BB6F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344-B7FD-4289-8F15-BE773EF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33B2-8137-44CB-AEE9-F5CE5B10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55B5-A72F-4412-B316-01370F1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32D6-67F3-4B0C-9194-4B7ADA7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24D4-B401-4FBB-B66E-8713C056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3218-835B-4224-B948-72A8EF90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AACA-862E-47DD-BB02-1C972418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83B9-A625-49DB-9D19-EADBD57D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7D8B-2765-4232-AB08-5177A553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589FD-44C4-43F7-9C90-E2B0180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EC6C-443F-43D4-8018-8A374461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F94-9335-4F47-BDF7-4E61462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F583-892B-462B-B9C7-8E33E103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9784-6B5A-4330-B413-67034F4E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614B-4D25-4834-9426-D54A591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547E-BBA2-41E9-B02E-26D7189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8B92-A73A-4400-831C-85E3E583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2BAB-9A39-4A4A-BFF3-2772662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616F-675B-400D-A304-815B6E7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11D0-9A3E-442A-BBE0-76EFF8C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CD8D-D6FB-4016-9C26-F0DBC2FB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A702-21D4-4A9D-9033-74C0B2EC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FC8-4A75-40BA-8E20-0700899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9439-D420-4032-B99C-E78A118D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13D5-C999-4AB1-BA36-24EB347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1C28-14AA-479D-A2AB-5855F16F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6483-54BD-43B4-96DB-9FBE111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51421-BA84-4DD0-9D87-99C31E97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13FB-9BB5-4024-90DF-B1819D7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966E-BCF9-4E02-BE95-64012DD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6FEF-BD1E-4DB2-9D1B-1EB8B02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FCB3-B178-4FD7-9B93-CAC6063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8B30-DA78-4F8F-8D5C-52D2690C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7C7-389C-4FBF-B20E-D2F2286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CEDBC-2FF5-47CF-B6EB-26338406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4049-FC5E-4EC7-AAC4-1BB4D743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2106-75E5-46D6-8C83-2F7C0D76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D832-27D3-453E-ABF9-C579E011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F0B8-00C7-4ADE-9E17-6E01BA1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328D-B0ED-48D1-8284-32D08F4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A169-03B5-43F3-9EC5-5E9ACD72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70EF-702A-4A53-A0E3-3F57E48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631A-0658-4395-A4C9-3B8F033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FB814-2AAD-4B6F-88BF-7AC2DD6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7F7-40B1-4094-B164-8AF8289D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8ED5-CB47-42BB-B1DB-7E6ABF7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19EE-99DA-4FED-B17C-F162E173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6F37-075D-4C62-B8A8-39914615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BCD7-8616-4D3C-B18E-10E02893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3BA7-E619-4602-8E3E-41074E74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C9687-7532-439D-98C2-64A1730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E7B2-BAF7-4ADA-8F91-D7FFA137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07401-844E-41B0-B172-FEEF9858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FD1BA-5EC2-4DA3-8ABB-1ADFA713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81D1-7A4B-42A4-822C-82A7A4D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F82-5BCC-47C1-8E11-B0E3C0BD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CBF4-7AD5-46EE-A719-744CA25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5BA40-42A9-4913-A6A4-AB50E36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4ED8B-83EA-41C0-976C-04B539A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8F135-623A-47E1-B7C4-7A7C2933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5D5F-DCC5-4F8D-9F3F-9B0D12AA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BA93A-A1ED-489F-91B9-7613A277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504C5-8BF2-44B2-BA63-202DDC9D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495F5-8061-426A-A585-C805CED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A1810-834B-4F86-B871-E177425B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20F64-D946-4F3B-BFCF-DE1A79F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994-8E42-45D3-8656-CBE27A4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6B3B6-490C-47FB-A711-72373816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F249-F97D-41FE-B884-6882DDB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266A5-3703-4D2B-B33F-49DB998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0391-637F-46F4-804A-BEA1CB9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F9E7-F32F-41B1-AC74-EBA362A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0D431-0949-45C6-830F-F9A62882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B3FC9-3A51-4823-BECD-5AE01DBE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4D24-9771-473E-A995-BFE64EACAB4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2CA7-E6D6-40D2-9FD2-47F8A5BBC2A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4EF-4053-4500-BF9E-0761C8FCA70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A09-EF74-42B3-A9F5-CEF96E983EB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3B3F-DE0D-4547-839F-A87CAF9CEF4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0B2-32C3-4C8C-AA58-1F2B27A3BB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D2E1-E44E-41AF-B480-297CDF295728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45B6-96DA-4283-8F92-5D8C15F42B2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ltaire (1694-177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4479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haps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brillia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nlightenment philosop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iend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Frederick II of Pruss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quen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arget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clergy, aristocracy, and govern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Freedom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religion, freedom of speech,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toleran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Attacke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intolerance, prejudice, and superstit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80" name="Content Placeholder 4" descr="Voltaire.gif"/>
          <p:cNvPicPr/>
          <p:nvPr/>
        </p:nvPicPr>
        <p:blipFill>
          <a:blip r:embed="rId1"/>
          <a:stretch/>
        </p:blipFill>
        <p:spPr>
          <a:xfrm>
            <a:off x="5808600" y="1447920"/>
            <a:ext cx="2801880" cy="41148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5715000" y="5649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ush the evil thin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ntesquieu (1689-1755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Content Placeholder 4" descr="montesquieu.jpg"/>
          <p:cNvPicPr/>
          <p:nvPr/>
        </p:nvPicPr>
        <p:blipFill>
          <a:blip r:embed="rId1"/>
          <a:stretch/>
        </p:blipFill>
        <p:spPr>
          <a:xfrm>
            <a:off x="457200" y="1447920"/>
            <a:ext cx="2597040" cy="3531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123720" y="1447560"/>
            <a:ext cx="555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ren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ristocra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lie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Brita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as the best-governed count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hallenged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 absolute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onarch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eparation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Power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xecutive, legislative, judic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hecks and Balance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– Each branch of the government should be able to ‘check’ the other tw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fluenc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United States Constit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5720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should be a check to pow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Major Enlightenment Ideas for Society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tested the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slave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trade and slaver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plored religious prejudice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fend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freedom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of speech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Attack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divine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right theor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Urged education for al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at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unequal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distribution of propert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Believed governments should be freely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elected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Women’s first duty was to her famil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934320" y="1968480"/>
            <a:ext cx="19731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omen and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4479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lightenment thinkers maint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raditiona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as toward wo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ucated women challenged these ideas us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 Enlightenme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ry Wollstonecraf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15320" indent="-1987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virtuous &amp; usef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15320" indent="-1987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 have the righ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particip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poli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 helped spread Enlightenment ideas by hol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al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Content Placeholder 4" descr="rights of women.jpg"/>
          <p:cNvPicPr/>
          <p:nvPr/>
        </p:nvPicPr>
        <p:blipFill>
          <a:blip r:embed="rId1"/>
          <a:stretch/>
        </p:blipFill>
        <p:spPr>
          <a:xfrm>
            <a:off x="6464160" y="1468440"/>
            <a:ext cx="2298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Enlightenment and the Economy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Physiocrats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rejected mercantilism in favor of a policy called laissez fair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Physiocrats were Enlightenment 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thinkers who focused on economic reforms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Laissez-Faire: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allowing business to operate with little or no government interferenc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Real wealth comes from productive land not gold and silver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Supported free trade and opposed tariffs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7710480" y="3352680"/>
            <a:ext cx="1295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mpact of the Enlightenmen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act of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v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merican, French, Haitian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lief in social and human prog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bolition of slavery, promote education, social equality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lar outlook in Eur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romotion of religious tolerance, openly question religious beliefs, science challenges religious teaching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ce of the individu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eople can judge right and wrong for themselves, rise of capitalism, support for democracy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120" y="76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REVIEW QUESTION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o believed that people are naturally cruel and greed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Montesquie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b) Hobb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Rousse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Volt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ich of the following is true of the physiocra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They rejected laissez faire in favor of mercantilis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b) They rejected mercantilism in favor of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They rejected both mercantilism and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They focused on social refor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REVIEW QUESTION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4400" y="1219320"/>
            <a:ext cx="87627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o believed that people are naturally cruel and greed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Montesquie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Perpetua"/>
              </a:rPr>
              <a:t>b) Hobb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Rousse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Volt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ich of the following is true of the physiocra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They rejected laissez faire in favor of mercantilis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Perpetua"/>
              </a:rPr>
              <a:t>b) They rejected mercantilism in favor of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They rejected both mercantilism and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They focused on social refor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O N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Oval 2"/>
          <p:cNvSpPr/>
          <p:nvPr/>
        </p:nvSpPr>
        <p:spPr>
          <a:xfrm>
            <a:off x="2895480" y="2819520"/>
            <a:ext cx="3733920" cy="17254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NLIGHTE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rigins of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as the Enlighten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 18</a:t>
            </a:r>
            <a:r>
              <a:rPr b="0" lang="en-US" sz="2400" spc="-1" strike="noStrike" baseline="30000">
                <a:solidFill>
                  <a:srgbClr val="464653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century philosophical movement that swept throughout Europe and North America; advocated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reason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s the primary source of authority and legitimac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re the basic principles of the Enlighten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eason –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Trut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hrough logical reasoni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ature – Nature is good; natural laws of politics &amp; economic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appiness – Live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e</a:t>
            </a:r>
            <a:r>
              <a:rPr b="0" lang="ja-JP" sz="2400" spc="-1" strike="noStrike" u="sng">
                <a:solidFill>
                  <a:srgbClr val="464653"/>
                </a:solidFill>
                <a:uFillTx/>
                <a:latin typeface="Gill Sans MT"/>
              </a:rPr>
              <a:t>’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 law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d you will find happines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rogress – Believed society and humankind could be perfect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iberty – Believed society should be set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fre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57" name="Ink 1" descr=""/>
          <p:cNvPicPr/>
          <p:nvPr/>
        </p:nvPicPr>
        <p:blipFill>
          <a:blip r:embed="rId1"/>
          <a:stretch/>
        </p:blipFill>
        <p:spPr>
          <a:xfrm>
            <a:off x="6180120" y="1190520"/>
            <a:ext cx="19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Major Enlightenment Idea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Every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social, political and economic </a:t>
            </a: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problem could be solved through the use of reason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Governments are created to secure an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orderly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society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Separation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of powers is the best way to protect human liberties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ll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men 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re created “free and equal”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free market 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should be allowed to regulate trad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2971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mportant Enlightenment Thinker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omas Hobbes (1588-1679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71240"/>
            <a:ext cx="50292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v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uring the English Civil W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mous work w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eviath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n is inherentl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elfis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aggressiv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nkind, if left on its own, would be ruled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haos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nflic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itizens need the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law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a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trong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monarc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o prevent cha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he Social Contrac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64" name="Content Placeholder 4" descr="Leviathan Cov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2144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ohn Locke (1632-1704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733920" y="1371600"/>
            <a:ext cx="5029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v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uring the English Civil W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ther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beral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upported individual</a:t>
            </a:r>
            <a:r>
              <a:rPr b="0" lang="ja-JP" sz="2400" spc="-1" strike="noStrike">
                <a:solidFill>
                  <a:srgbClr val="464653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al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righ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o life, liberty, and propert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overnment at the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nsen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the govern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merican Revolu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French Enlightenment think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Content Placeholder 6" descr="John Locke 2.jpg"/>
          <p:cNvPicPr/>
          <p:nvPr/>
        </p:nvPicPr>
        <p:blipFill>
          <a:blip r:embed="rId1"/>
          <a:stretch/>
        </p:blipFill>
        <p:spPr>
          <a:xfrm>
            <a:off x="457200" y="137160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Social Contract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Picture 1029" descr="C:\WINDOWS\Desktop\artwork\two colum vert.gif"/>
          <p:cNvPicPr/>
          <p:nvPr/>
        </p:nvPicPr>
        <p:blipFill>
          <a:blip r:embed="rId1"/>
          <a:stretch/>
        </p:blipFill>
        <p:spPr>
          <a:xfrm>
            <a:off x="23760" y="1143000"/>
            <a:ext cx="9120240" cy="6024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513720" y="1230480"/>
            <a:ext cx="3713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Thomas Hobb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5750640" y="1230480"/>
            <a:ext cx="260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John Lock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23760" y="1862280"/>
            <a:ext cx="4548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are naturally cruel, greedy and sel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o escape this “brutish” life people entered into a social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nly a powerful government could ensure an orderly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lieved only an absolute monarchy could keep a society completely ord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4595760" y="1905120"/>
            <a:ext cx="45482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are naturally reasonable, moral and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have natural rights: life liberty and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eople form governments to protect natur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st government was one with limite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f a government violates people’s natural rights, people have the right to overthrow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ean Jacques Rousseau (1712-178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447560"/>
            <a:ext cx="4724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Frenc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ilosop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umans are basicall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goo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e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ut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rrupte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ociet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vilization destroyed freedom and equ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dvocated direct democrac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merican &amp; French Rev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Content Placeholder 4" descr="Rousseau.jpg"/>
          <p:cNvPicPr/>
          <p:nvPr/>
        </p:nvPicPr>
        <p:blipFill>
          <a:blip r:embed="rId1"/>
          <a:stretch/>
        </p:blipFill>
        <p:spPr>
          <a:xfrm>
            <a:off x="5335560" y="1500120"/>
            <a:ext cx="3338640" cy="39862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5105520" y="55576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 is born free, and everywhere he is in chain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30:07Z</dcterms:created>
  <dc:creator>Jeremy Millhouse</dc:creator>
  <dc:description/>
  <dc:language>en-US</dc:language>
  <cp:lastModifiedBy>Katherine Silver</cp:lastModifiedBy>
  <cp:lastPrinted>2016-11-03T12:10:20Z</cp:lastPrinted>
  <dcterms:modified xsi:type="dcterms:W3CDTF">2017-11-08T22:09:21Z</dcterms:modified>
  <cp:revision>54</cp:revision>
  <dc:subject/>
  <dc:title>The Enlightenment</dc:title>
</cp:coreProperties>
</file>