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A75B2-EC36-4552-B9CB-4B73F58B5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69AE1-C114-42EE-8CA5-CC7FC49A2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118-C793-4D07-A3BD-A93A00E3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246-CE3B-455A-86F9-EF31D23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25247-AF8C-41C4-A070-0E3B63C0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9EE6-3A89-4B0B-A160-76E11F8A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42205-05BF-445B-9408-B159BBE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8C2B-6D12-4F34-BE4E-D8E04DC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3E2F1-8715-4308-862D-A0AF25C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ED64E-DF12-4203-A980-9963B076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D4238-208A-468D-9EC3-5FC16023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91F3A-F11D-4952-A04A-48A60E70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6C98C-9CD4-4AA6-B5D5-C76B5A6B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61A5B-FB90-4716-8C01-5F2BB268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863-7984-4060-B8FC-B94CF33B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6E817-6840-4D41-8E93-F96E80D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0FC82-4B9A-4400-A737-EA4288E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49844-CF26-4282-AEA4-FD2BF08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48C19-C2D1-4939-A456-0360BB6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A6BCE-9E84-4285-9BDC-CDBC288E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ED684-8DDC-4B9D-B593-7AD9F2B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2952-7348-4128-9C48-4A7FC43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7E335-4F4C-4BF9-A501-B133C25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C8983-9294-4256-96C6-660A7C4A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C8D4-DB73-439A-BA27-83DCD409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C22-AA79-4F11-B752-7557C96F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1B012-F257-4772-932A-EAE18FD8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FAF89-A2F2-4942-8551-15690DC2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1500-B623-4146-AE1D-1C7C989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F1EF6-31F8-4E86-AE8D-E6007E8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3E57-3DBC-4C61-B4B6-3CB0169A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82166-9743-4FBB-B0C3-30DC1395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91384-9358-4B17-B6EA-D52151BF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F8F77-C672-4AD9-904A-A3900595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5ACA-FCF8-4EB3-B587-2E28D79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02DBE-786C-4152-BD4B-D276FF1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35B0-6BE3-4B51-8B71-018844A8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89B7A-CEA4-4F46-8E4E-FAC60875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E6553-4529-482C-B6FC-DD670A80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A0E7-892F-4D0C-BAAC-01F835A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74EA0-9584-49D6-80C4-0D65F09D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B7417-12D9-4261-888C-E175185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D75DB-B6D1-4841-843E-8EFE8320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8C525-C392-44A4-A132-70423D79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15FDA-1355-4FA4-B4F9-00C9741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D27D-C1D9-43B9-9E37-6227A0C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EE8A2-F749-495C-BD8A-1969E5A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0518-9468-4B4C-9BD9-715A33D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B6510-9D82-44C4-96C5-6DD689B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6FEAC-94EF-411A-A06F-67FBC95D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6D1BC-48D1-4A61-8AF4-0E9AA5AF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2637C-7EB2-40EB-AFAF-B715BD39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0EB34-5BE8-4D7E-9A8B-86C83C32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0B82D-7327-46A8-B726-7C42F626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1F3D4-7FBB-4671-B67F-322FC9B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F3515-709E-48B5-AAE0-7F11BA64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FA7A3-95DC-468F-B600-2302EEF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BC29B-EAAA-4C22-A2F6-EBCC4ED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28C0-7B01-4C63-A79A-817A37A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1A764-433A-4C12-9B49-D0613BA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70F33-2A2D-4647-998B-D2B2E3F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95D64-438A-4BDA-96AB-A9CB3A6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C83C2-DCBE-4E87-9E01-00A3556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B9E07-384D-442E-8D73-5289EF7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695D6-41D3-4A44-809F-75643287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C5F14-6D8A-40D8-87DB-67F415E3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D36A-DD1A-4600-BF5A-A136A13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146E-60D2-4974-9351-EE88FAAD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5391-FF33-4C7F-80D1-61680A11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7EC6-B476-463E-B247-69089F0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77C-CAE5-4738-81F4-AD33AA37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33A5-AA5C-40A7-AC9A-5B35A99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BC81-571A-4FE1-88F5-E5C140A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5C5-0FD8-4169-A777-F8FAACF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8ED1-66A5-4AE9-B50D-C59CAB61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7273-E399-47EA-A55A-E6C2B969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E795-0702-429A-8AA1-6AEF2F02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193B-3791-4F92-B71F-E83F27EE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2A8A-32A7-42A3-B637-9ECF2EC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FDC9-13BC-485B-B0F1-FBBA9059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B2CB-642B-48DA-96AF-22BEADE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AE7-CA21-42A7-8B32-5588AF1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E816-A700-4F2C-B6C3-6F0E99B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EA20-7CE6-4C7A-AEC0-C217347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35CA-929E-4062-BD1B-734B22F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4B17-FC34-4D1F-B9B7-FB9A8BB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E6E5-E1BF-473E-A957-1919E51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7CD0-4A67-444B-B0A8-8FF4B73C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6B1E-39E7-416E-BF17-B60A5729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252B-7555-4F2E-85F3-0E236003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F50C-12B3-43D4-AE1E-0BB0C10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4C6C-212D-457D-8B99-83B0736E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56F-EECE-4F67-9F0B-6A91E784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DB6D-FE9A-44F7-8113-BFF45230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5449-E56A-4BEA-BA0C-A617DD7E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011C-F368-4392-946E-B80F5C2B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6D78-B831-4206-81A8-5C9C0AE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1CE9-C853-497B-BA22-CCE2F5A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F86E-004E-4FDF-A05A-6E4494E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DA39-54CB-48FF-A6D9-CCC4B4B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BC4A-E3AC-4B9A-9C20-299A6D22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878A-A990-4084-AA6B-7BC91B20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8137-D0D7-46C1-A622-F32FBD91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3D6-E4A3-4F9E-B46C-95EAE30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D799-4B06-4BC3-AF67-7824207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6C75-A5B9-4A05-B648-F5BAD1EE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DFF5-6B8B-433B-97DB-BFB5EEA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6C8A-A5E5-4561-B595-57F74C0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4013-647A-4B6C-BE1D-4C90F53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B0C4-1940-4BE4-BF49-BABE878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E4B9-B8CB-4A35-9C89-E1500B5C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9B01-4440-4E17-89FC-1E6D424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B4EE-41DA-4576-B2EE-423E95E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C63D-1E7D-4E1F-9156-7A686DCF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310-B75A-4CC3-8B48-AE642A2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2122-9AD1-4813-9251-33919AAB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222E-E828-4A8D-AB65-890CA668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63FD-476F-4057-8F50-31EDB11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B1EE-2805-47C6-A065-05872D22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BDF0-15F6-4582-B687-A61F8AC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188A6-4936-4BE7-884E-821A8A6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67E7-DD9E-478F-A0C1-12787AA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6FD1-5D55-4059-9333-FBFF21E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8BA9-5BCB-49A2-9402-B0F0CC3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C2DF-C40D-45A2-A4DD-9725CFD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E2A-1888-45F2-AD23-DCDF3C29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2B09-4C9D-4945-9AC3-E01139B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68AE-F82A-4DF1-A320-4256E73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AACC-330A-4855-A4B5-B174652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29E2-66BB-4D73-97FF-26075173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1188-40BB-4179-B2AD-CB9F01F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44E2-BAA4-4D32-8C2E-2F97FCE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7E09-5EFB-4D83-94BD-C684807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83BE-EFFC-489A-8C86-15908C5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06B3-B670-432D-A421-A221BDA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9D2F-C1D2-44EE-9192-822F98E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E89-E0A5-4E00-AED5-2B652D0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3B4B-51AE-473E-9C8F-BE78FCE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52E4-B9C7-4A5A-9AA4-763F927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F06A-9E35-419B-B5BC-08A3723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D6E5B-9D44-464C-AD81-749E0DB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278D-A20B-48CA-BCDC-EBC18530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7985-1B94-45DB-96B0-2F8C1242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A6D1-041E-482F-9893-F656BB00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FF44C-EC73-46EE-BC96-55332AE8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BA11-4630-4D1E-ABFD-01DCFC6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6438-C0D2-4563-9683-FE03793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C71-E0EC-4550-9B19-9599654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A25BA-5BE2-4A65-97CD-67671463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20C9E-CF29-4D5A-9377-276A661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CBE20-30AA-4529-B116-973F061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054EA-6CB9-4A0D-929A-A1EF3424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473C7-D473-42B0-847C-556CFAA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8244-57EF-4475-BC8C-C14138EA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0AB16-0680-44AA-BEC6-23A4D3ED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9EB94-A699-4C64-8743-8D81E867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AD83A-B995-478B-A3A8-E00B1B4F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BA081-8ABF-4273-9113-ABAA63F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96714-9197-4E33-A3C1-94AEFFB49E5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18E9A-1D75-468E-B025-9F60F51BA78A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A5FDD-23CF-45FD-8C84-6AE6CFF4A0B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83F7F-8A45-41D4-95CC-09EEE463517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C9BD1-C27D-4B24-88D4-887461C7842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1E5D2-37C8-4098-935F-892733EF4FC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F475F-3C33-4223-97E4-7BEE55EA6C1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142C8-3D04-4AA7-B5BC-02715B7FA7D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C03B3-2BC9-46C6-B66E-91040E5F2A9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BFB84-E62D-44B7-93E7-9970B145BA2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7259D-04F5-4DED-9F15-659001D17F1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3EA20-2537-40DD-878F-64A5CBABD786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034C9-F530-423A-9AED-A17E6776C3E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3163"/>
            </a:gs>
            <a:gs pos="50000">
              <a:srgbClr val="000000"/>
            </a:gs>
            <a:gs pos="100000">
              <a:srgbClr val="903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Freestyle Script"/>
              </a:rPr>
              <a:t>  </a:t>
            </a:r>
            <a:r>
              <a:rPr b="1" lang="en-US" sz="8600" spc="-1" strike="noStrike">
                <a:solidFill>
                  <a:srgbClr val="ffffff"/>
                </a:solidFill>
                <a:latin typeface="Freestyle Script"/>
              </a:rPr>
              <a:t>SOCIAL DARWINISM:</a:t>
            </a:r>
            <a:endParaRPr b="0" lang="en-US" sz="8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  <a:ea typeface="HGｺﾞｼｯｸE"/>
              </a:rPr>
              <a:t>THE GROWTH OF LARGE BUSINESS IS MERELY A SURVIVAL OF THE FITTEST.</a:t>
            </a:r>
            <a:r>
              <a:rPr b="0" lang="ja-JP" sz="44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”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-JOHN D. ROCKEFELLER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219320" y="19810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Philosophy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Freestyle Script"/>
                <a:ea typeface="MS PGothic"/>
              </a:rPr>
              <a:t>OR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  <a:ea typeface="MS PGothic"/>
              </a:rPr>
              <a:t> Justification?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HAT COMES OF SOCIAL DARWINISM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 u="sng">
                <a:solidFill>
                  <a:srgbClr val="3d3d3d"/>
                </a:solidFill>
                <a:uFillTx/>
                <a:latin typeface="Gill Sans MT"/>
              </a:rPr>
              <a:t>Philanthropy</a:t>
            </a: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: using one</a:t>
            </a:r>
            <a:r>
              <a:rPr b="0" lang="ja-JP" sz="33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’</a:t>
            </a:r>
            <a:r>
              <a:rPr b="0" lang="en-US" sz="33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s fortune to further social progress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Focused efforts and energies on all individuals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d3d3d"/>
                </a:solidFill>
                <a:latin typeface="Gill Sans MT"/>
              </a:rPr>
              <a:t>Expands the gap between the rich and the poor.</a:t>
            </a:r>
            <a:endParaRPr b="0" lang="en-US" sz="33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3d3d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81040" y="686880"/>
            <a:ext cx="798984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SOCIAL DARWINISM GOOD OR BAD?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1920" y="2514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Is this a practical theory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What are the benefits of weeding out the weak? 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What are the disadvantages of having the rich in control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8800" indent="-2988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adcf"/>
                </a:solidFill>
                <a:latin typeface="Gill Sans MT"/>
              </a:rPr>
              <a:t>Is there really a chance for poor people to get ahead?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0" descr="riis4"/>
          <p:cNvPicPr/>
          <p:nvPr/>
        </p:nvPicPr>
        <p:blipFill>
          <a:blip r:embed="rId1"/>
          <a:stretch/>
        </p:blipFill>
        <p:spPr>
          <a:xfrm>
            <a:off x="152280" y="1276200"/>
            <a:ext cx="87631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house_aerial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Broadway"/>
              </a:rPr>
              <a:t>THE END</a:t>
            </a:r>
            <a:endParaRPr b="0" lang="en-US" sz="7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social%20d-thumb"/>
          <p:cNvPicPr/>
          <p:nvPr/>
        </p:nvPicPr>
        <p:blipFill>
          <a:blip r:embed="rId2"/>
          <a:stretch/>
        </p:blipFill>
        <p:spPr>
          <a:xfrm>
            <a:off x="457200" y="1828800"/>
            <a:ext cx="8458200" cy="53341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"/>
          <p:cNvSpPr/>
          <p:nvPr/>
        </p:nvSpPr>
        <p:spPr>
          <a:xfrm>
            <a:off x="3200400" y="6354720"/>
            <a:ext cx="5400720" cy="642600"/>
          </a:xfrm>
          <a:prstGeom prst="rect">
            <a:avLst/>
          </a:prstGeom>
          <a:solidFill>
            <a:srgbClr val="cf7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urvival of the fittest…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cf71a2"/>
                </a:solidFill>
                <a:uFillTx/>
                <a:latin typeface="Gill Sans MT"/>
              </a:rPr>
              <a:t>CHARLES DARWIN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6005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1859 published a book titled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Maiandra GD"/>
              </a:rPr>
              <a:t>The Origin of Species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500" spc="-1" strike="noStrike">
                <a:solidFill>
                  <a:srgbClr val="cf71a2"/>
                </a:solidFill>
                <a:latin typeface="Maiandra GD"/>
              </a:rPr>
              <a:t>Theory of Evolution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Natural Selection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Struggle is normal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Some are superior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cf71a2"/>
                </a:solidFill>
                <a:latin typeface="Maiandra GD"/>
              </a:rPr>
              <a:t>There are benefits when the unfit are eliminated.</a:t>
            </a:r>
            <a:endParaRPr b="0" lang="en-US" sz="3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593" name="Picture 8" descr="Charles Darwin in 1854, 5 years before he published The Origin of Species.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6a7b3"/>
                </a:solidFill>
                <a:latin typeface="Maiandra GD"/>
              </a:rPr>
              <a:t>HERBERT SPENCER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5" name="Picture 7" descr="Image:Herbert Spencer.jpg"/>
          <p:cNvPicPr/>
          <p:nvPr/>
        </p:nvPicPr>
        <p:blipFill>
          <a:blip r:embed="rId1"/>
          <a:stretch/>
        </p:blipFill>
        <p:spPr>
          <a:xfrm>
            <a:off x="5802480" y="1528920"/>
            <a:ext cx="2968560" cy="4572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838080" y="2076480"/>
            <a:ext cx="464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1871 – English Philosopher who coins phrase </a:t>
            </a:r>
            <a:r>
              <a:rPr b="1" lang="ja-JP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“</a:t>
            </a:r>
            <a:r>
              <a:rPr b="1" lang="en-US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Social Darwinism</a:t>
            </a:r>
            <a:r>
              <a:rPr b="1" lang="ja-JP" sz="4800" spc="-1" strike="noStrike">
                <a:solidFill>
                  <a:srgbClr val="e6a7b3"/>
                </a:solidFill>
                <a:latin typeface="Maiandra GD"/>
                <a:ea typeface="MS PGothic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WHAT IS SOCIAL DARWINISM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0520" y="2743200"/>
            <a:ext cx="87346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3d3d3d"/>
                </a:solidFill>
                <a:uFillTx/>
                <a:latin typeface="Maiandra GD"/>
              </a:rPr>
              <a:t>Social Darwinism is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: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d3d3d"/>
                </a:solidFill>
                <a:latin typeface="Maiandra GD"/>
              </a:rPr>
              <a:t>	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- individuals compete naturally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	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- the incompetent lose and the strong win.  </a:t>
            </a:r>
            <a:r>
              <a:rPr b="1" lang="en-US" sz="3600" spc="-1" strike="noStrike">
                <a:solidFill>
                  <a:srgbClr val="3d3d3d"/>
                </a:solidFill>
                <a:latin typeface="Maiandra GD"/>
              </a:rPr>
              <a:t>ie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</a:rPr>
              <a:t>. </a:t>
            </a:r>
            <a:r>
              <a:rPr b="1" lang="ja-JP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“</a:t>
            </a:r>
            <a:r>
              <a:rPr b="1" i="1" lang="en-US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survival of the fittest</a:t>
            </a:r>
            <a:r>
              <a:rPr b="1" lang="ja-JP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”</a:t>
            </a:r>
            <a:r>
              <a:rPr b="1" lang="en-US" sz="4400" spc="-1" strike="noStrike">
                <a:solidFill>
                  <a:srgbClr val="3d3d3d"/>
                </a:solidFill>
                <a:latin typeface="Maiandra GD"/>
                <a:ea typeface="HGｺﾞｼｯｸE"/>
              </a:rPr>
              <a:t>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3d3d3d"/>
                </a:solidFill>
                <a:latin typeface="Maiandra GD"/>
              </a:rPr>
              <a:t>Government must not interfere unless the unfit are stealing from the fit. </a:t>
            </a:r>
            <a:endParaRPr b="0" lang="en-US" sz="40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lnSpc>
                <a:spcPct val="70000"/>
              </a:lnSpc>
              <a:spcBef>
                <a:spcPts val="1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5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687240"/>
            <a:ext cx="838188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GOVERNMENT OR NO GOVERNMENT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0" y="2227320"/>
            <a:ext cx="9144000" cy="35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Should the Government interfere with Business????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-By 1880 many Social Darwinists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were saying </a:t>
            </a:r>
            <a:r>
              <a:rPr b="1" lang="ja-JP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“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NO</a:t>
            </a:r>
            <a:r>
              <a:rPr b="1" lang="ja-JP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”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  <a:ea typeface="HGｺﾞｼｯｸE"/>
              </a:rPr>
              <a:t>?!?!?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40840" indent="-240840"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Others wanted the Government to get more involved in promoting Social Darwinism and </a:t>
            </a:r>
            <a:r>
              <a:rPr b="1" i="1" lang="en-US" sz="3200" spc="-1" strike="noStrike" u="sng">
                <a:solidFill>
                  <a:srgbClr val="3d3d3d"/>
                </a:solidFill>
                <a:uFillTx/>
                <a:latin typeface="Gill Sans MT"/>
              </a:rPr>
              <a:t>Laissez-faire</a:t>
            </a:r>
            <a:r>
              <a:rPr b="1" lang="en-US" sz="3200" spc="-1" strike="noStrike">
                <a:solidFill>
                  <a:srgbClr val="3d3d3d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3163"/>
            </a:gs>
            <a:gs pos="50000">
              <a:srgbClr val="3d3d3d"/>
            </a:gs>
            <a:gs pos="100000">
              <a:srgbClr val="90316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SOCIAL DARWINISM AND BUSINES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2260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Natural Competition controls the economy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Government is not there to help people, but to support business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Big business can take over small business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Ruthless methods are OK.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4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4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4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cc00"/>
                </a:solidFill>
                <a:uFillTx/>
                <a:latin typeface="Maiandra GD"/>
              </a:rPr>
              <a:t>SOCIAL DARWINISM AND RA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Only the strong races can survive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Technology should be kept by races that create advancement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Maiandra GD"/>
              </a:rPr>
              <a:t>Justification for genocide.</a:t>
            </a:r>
            <a:endParaRPr b="0" lang="en-US" sz="3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06" name="Picture 8" descr="Image:Cavalry and Indians.JPG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66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larendon Condensed"/>
              </a:rPr>
              <a:t>AMERICA</a:t>
            </a:r>
            <a:r>
              <a:rPr b="1" lang="ja-JP" sz="6000" spc="-1" strike="noStrike" u="sng">
                <a:solidFill>
                  <a:srgbClr val="ffffff"/>
                </a:solidFill>
                <a:uFillTx/>
                <a:latin typeface="Gill Sans MT"/>
                <a:ea typeface="HGｺﾞｼｯｸE"/>
              </a:rPr>
              <a:t>’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larendon Condensed"/>
                <a:ea typeface="HGｺﾞｼｯｸE"/>
              </a:rPr>
              <a:t>S REACTION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08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92680" indent="-292680">
              <a:spcBef>
                <a:spcPts val="11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“</a:t>
            </a:r>
            <a:r>
              <a:rPr b="0" i="1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Self-made man</a:t>
            </a:r>
            <a:r>
              <a:rPr b="0" i="1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”</a:t>
            </a:r>
            <a:r>
              <a:rPr b="0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 concept built the country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spcBef>
                <a:spcPts val="11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“</a:t>
            </a:r>
            <a:r>
              <a:rPr b="1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Rugged Individualism</a:t>
            </a:r>
            <a:r>
              <a:rPr b="0" lang="ja-JP" sz="4400" spc="-1" strike="noStrike">
                <a:solidFill>
                  <a:srgbClr val="f6deec"/>
                </a:solidFill>
                <a:latin typeface="Gill Sans MT"/>
                <a:ea typeface="HGｺﾞｼｯｸE"/>
              </a:rPr>
              <a:t>”</a:t>
            </a:r>
            <a:r>
              <a:rPr b="0" lang="en-US" sz="4400" spc="-1" strike="noStrike">
                <a:solidFill>
                  <a:srgbClr val="f6deec"/>
                </a:solidFill>
                <a:latin typeface="Clarendon Condensed"/>
                <a:ea typeface="HGｺﾞｼｯｸE"/>
              </a:rPr>
              <a:t> is good.</a:t>
            </a:r>
            <a:endParaRPr b="0" lang="en-US" sz="4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6deec"/>
                </a:solidFill>
                <a:uFillTx/>
                <a:latin typeface="Clarendon Condensed"/>
              </a:rPr>
              <a:t>Wealth</a:t>
            </a:r>
            <a:r>
              <a:rPr b="0" lang="en-US" sz="2000" spc="-1" strike="noStrike">
                <a:solidFill>
                  <a:srgbClr val="f6deec"/>
                </a:solidFill>
                <a:latin typeface="Clarendon Condensed"/>
              </a:rPr>
              <a:t> - </a:t>
            </a:r>
            <a:r>
              <a:rPr b="1" lang="en-US" sz="2800" spc="-1" strike="noStrike">
                <a:solidFill>
                  <a:srgbClr val="f6deec"/>
                </a:solidFill>
                <a:latin typeface="Clarendon Condensed"/>
              </a:rPr>
              <a:t>is the reward for hard work and abil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6deec"/>
                </a:solidFill>
                <a:uFillTx/>
                <a:latin typeface="Clarendon Condensed"/>
              </a:rPr>
              <a:t>Failure</a:t>
            </a:r>
            <a:r>
              <a:rPr b="0" lang="en-US" sz="2000" spc="-1" strike="noStrike">
                <a:solidFill>
                  <a:srgbClr val="f6deec"/>
                </a:solidFill>
                <a:latin typeface="Clarendon Condensed"/>
              </a:rPr>
              <a:t> - </a:t>
            </a:r>
            <a:r>
              <a:rPr b="1" lang="en-US" sz="2800" spc="-1" strike="noStrike">
                <a:solidFill>
                  <a:srgbClr val="f6deec"/>
                </a:solidFill>
                <a:latin typeface="Clarendon Condensed"/>
              </a:rPr>
              <a:t>is due to lack of ability and laziness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671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Gill Sans MT"/>
              </a:rPr>
              <a:t>THE SOCIAL DARWINISTS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3944520"/>
            <a:ext cx="403848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13" name="Picture 9" descr="Click here for an enlarged image"/>
          <p:cNvPicPr/>
          <p:nvPr/>
        </p:nvPicPr>
        <p:blipFill>
          <a:blip r:embed="rId1"/>
          <a:stretch/>
        </p:blipFill>
        <p:spPr>
          <a:xfrm>
            <a:off x="457200" y="1600200"/>
            <a:ext cx="2514600" cy="452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7" descr="is?vSPJQBx2rA4VG3ZStumLIqObUGboXcGsHpoabRRnNmc"/>
          <p:cNvPicPr/>
          <p:nvPr/>
        </p:nvPicPr>
        <p:blipFill>
          <a:blip r:embed="rId2"/>
          <a:stretch/>
        </p:blipFill>
        <p:spPr>
          <a:xfrm>
            <a:off x="6143760" y="1600200"/>
            <a:ext cx="2543040" cy="4525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is?ZpYwhdpLWBaWzSwGmUxQhLr_QT12ChIdipPbRKbYv_A"/>
          <p:cNvPicPr/>
          <p:nvPr/>
        </p:nvPicPr>
        <p:blipFill>
          <a:blip r:embed="rId3"/>
          <a:stretch/>
        </p:blipFill>
        <p:spPr>
          <a:xfrm>
            <a:off x="3225960" y="1616040"/>
            <a:ext cx="2714400" cy="4525920"/>
          </a:xfrm>
          <a:prstGeom prst="rect">
            <a:avLst/>
          </a:prstGeom>
          <a:ln w="0">
            <a:noFill/>
          </a:ln>
        </p:spPr>
      </p:pic>
      <p:pic>
        <p:nvPicPr>
          <p:cNvPr id="616" name="Text Box 20" descr=""/>
          <p:cNvPicPr/>
          <p:nvPr/>
        </p:nvPicPr>
        <p:blipFill>
          <a:blip r:embed="rId4"/>
          <a:stretch/>
        </p:blipFill>
        <p:spPr>
          <a:xfrm>
            <a:off x="549360" y="5218200"/>
            <a:ext cx="2462040" cy="36504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21" descr=""/>
          <p:cNvPicPr/>
          <p:nvPr/>
        </p:nvPicPr>
        <p:blipFill>
          <a:blip r:embed="rId5"/>
          <a:stretch/>
        </p:blipFill>
        <p:spPr>
          <a:xfrm>
            <a:off x="3224160" y="5218200"/>
            <a:ext cx="2768760" cy="3650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22" descr=""/>
          <p:cNvPicPr/>
          <p:nvPr/>
        </p:nvPicPr>
        <p:blipFill>
          <a:blip r:embed="rId6"/>
          <a:stretch/>
        </p:blipFill>
        <p:spPr>
          <a:xfrm>
            <a:off x="6102360" y="5218200"/>
            <a:ext cx="25844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6:47:17Z</dcterms:created>
  <dc:creator>Wausau West High School</dc:creator>
  <dc:description/>
  <dc:language>en-US</dc:language>
  <cp:lastModifiedBy>Frank Tellez</cp:lastModifiedBy>
  <cp:lastPrinted>2017-11-28T21:12:50Z</cp:lastPrinted>
  <dcterms:modified xsi:type="dcterms:W3CDTF">2017-11-28T21:52:34Z</dcterms:modified>
  <cp:revision>38</cp:revision>
  <dc:subject/>
  <dc:title>Social Darwinism</dc:title>
</cp:coreProperties>
</file>