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322B-4E72-4AB0-9BBA-0C674D2A3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9B45-D71C-4DB1-9AB6-88DCFFD3186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7CDD-C525-4FE4-AE53-F170DE7C642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DC86-16FD-4697-8E0C-CB97DD6AA89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0A0A-A458-4F5B-BF96-671953190E2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C4A-CF1F-4EF2-ACB9-B2D75C6D32A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B4FD-0751-400F-81D7-B7AC0E16AE6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DD6E-0702-4630-9BB9-4706A2BE8D4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CB0-CFBF-4D3E-A2BC-E2C1B0FB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82C-D5FE-4D0C-89A3-54C4193F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AC8-2B1F-4030-A413-04D766CA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9BC-C9A1-4490-93B6-EC2A6195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8A4E-6836-42FB-8E4D-97FB05E2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B504-919E-4313-956F-E7AE9CBB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EB09-F132-400C-BA3D-47682F01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6620-0162-4218-99E6-CCBEB564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5BDC-750E-4276-82C6-CF2861BE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321A-F5FE-4DA2-AA18-5CF11BB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A925-7122-4D14-9067-2D4AAC3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AAF-DA60-4C22-8F52-081B2C09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04F8-3C75-4A42-B956-AC95D0A5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8FAA-DD30-40F7-B65E-3B96ADA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9DDE-20F0-45ED-ADE3-8981A8E6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9ED9-27AD-465E-A3EF-C349ADCD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1E40-8043-4C88-B15E-E43CDFD7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47F-3B68-4529-A227-BBCAE71C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0C7-CEF0-4F54-8D4C-5F9F45A5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A32-D759-4AF3-AD95-41967CD9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E6C-A0DD-4D7E-9BD5-E2050EFA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5F7-6FBA-4369-91A9-2B4E43F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5FE-5754-443E-BEAF-D14BECA7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704-5924-4A10-946A-6E0DEFA8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455B-29E1-4290-9CA4-718B349E3FA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9E59-AACD-4AB6-8D14-67FCC4F904C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cc00"/>
                </a:solidFill>
                <a:latin typeface="Arial"/>
              </a:rPr>
              <a:t>Russian Revolution</a:t>
            </a:r>
            <a:endParaRPr b="0" lang="en-US" sz="5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nicholas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154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04920" y="60958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zar Nicholas II and Fami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ee the source image"/>
          <p:cNvPicPr/>
          <p:nvPr/>
        </p:nvPicPr>
        <p:blipFill>
          <a:blip r:embed="rId1"/>
          <a:stretch/>
        </p:blipFill>
        <p:spPr>
          <a:xfrm>
            <a:off x="2500200" y="1981080"/>
            <a:ext cx="4143600" cy="4210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1066680" y="380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zar Nicholas and his wife Alexandr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NickyAlexei"/>
          <p:cNvPicPr/>
          <p:nvPr/>
        </p:nvPicPr>
        <p:blipFill>
          <a:blip r:embed="rId1"/>
          <a:stretch/>
        </p:blipFill>
        <p:spPr>
          <a:xfrm>
            <a:off x="990720" y="533520"/>
            <a:ext cx="6933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rasputin2"/>
          <p:cNvPicPr/>
          <p:nvPr/>
        </p:nvPicPr>
        <p:blipFill>
          <a:blip r:embed="rId1"/>
          <a:stretch/>
        </p:blipFill>
        <p:spPr>
          <a:xfrm>
            <a:off x="0" y="0"/>
            <a:ext cx="5089680" cy="5181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rasputin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0" y="5410080"/>
            <a:ext cx="5105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Times New Roman"/>
              </a:rPr>
              <a:t>Rasputin</a:t>
            </a:r>
            <a:endParaRPr b="0" lang="en-US" sz="5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asputin with Admire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4" descr="19monk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ssia and World War 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ussia declares war on Austria-Hunga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War becomes unpopu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ationing leads to starv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icholas II leaves St. Petersburg to war fro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ch Revolution (1917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917- protests spread through St. Petersburg and the Royal palace is taken ove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zar abdic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rovisional government (Duma) takes control lead by Alexander Keresn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rovisional government unpopular after decision to stay in WW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ctober (Bolshevik) Revolution-1917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ead by VI Lenin “Peace, Land, and Bread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Won support of people (especially peasant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580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4" descr="rr09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601640"/>
            <a:ext cx="876312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derships Decisions about World War 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4" name="Subtitle 2" descr=""/>
          <p:cNvPicPr/>
          <p:nvPr/>
        </p:nvPicPr>
        <p:blipFill>
          <a:blip r:embed="rId1"/>
          <a:stretch/>
        </p:blipFill>
        <p:spPr>
          <a:xfrm>
            <a:off x="133200" y="3005280"/>
            <a:ext cx="8676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376200"/>
            <a:ext cx="863748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Do Now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79200" y="1809720"/>
            <a:ext cx="8693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191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6" name="Rectangle 3" descr=""/>
          <p:cNvPicPr/>
          <p:nvPr/>
        </p:nvPicPr>
        <p:blipFill>
          <a:blip r:embed="rId1"/>
          <a:stretch/>
        </p:blipFill>
        <p:spPr>
          <a:xfrm>
            <a:off x="231840" y="1895400"/>
            <a:ext cx="830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1919-192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919 White Armies (Royal and Menshevik troops)  attack the Reds (Bolsheviks) from all direction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920- Reds defeat Whi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le of Lenin 1920-1924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conomic Reforms included the New Economic Plan (N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-moderate mix of capitalism and social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olitical Refor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-Bolshevik party became Communist Par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-Russia becomes the United Soviet Socialist Republ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lenin2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680" y="1828440"/>
            <a:ext cx="82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Form of Social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ntral Planning of the Economy by the St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v’t (Communist Party) makes decisions on individual jobs and p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4" descr="http://images.slideplayer.com/1/258001/slides/slide_12.jpg"/>
          <p:cNvPicPr/>
          <p:nvPr/>
        </p:nvPicPr>
        <p:blipFill>
          <a:blip r:embed="rId1"/>
          <a:stretch/>
        </p:blipFill>
        <p:spPr>
          <a:xfrm>
            <a:off x="14400" y="30492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221724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Primary Document Activity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7" name="Subtitle 2" descr=""/>
          <p:cNvPicPr/>
          <p:nvPr/>
        </p:nvPicPr>
        <p:blipFill>
          <a:blip r:embed="rId1"/>
          <a:stretch/>
        </p:blipFill>
        <p:spPr>
          <a:xfrm>
            <a:off x="1652760" y="3382920"/>
            <a:ext cx="7491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510760" cy="19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Guided Reading Activit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9" name="Text Placeholder 2" descr=""/>
          <p:cNvPicPr/>
          <p:nvPr/>
        </p:nvPicPr>
        <p:blipFill>
          <a:blip r:embed="rId1"/>
          <a:stretch/>
        </p:blipFill>
        <p:spPr>
          <a:xfrm>
            <a:off x="-244440" y="2840040"/>
            <a:ext cx="95835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Learning Targets and Intentions of the Less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9" name="Content Placeholder 2" descr=""/>
          <p:cNvPicPr/>
          <p:nvPr/>
        </p:nvPicPr>
        <p:blipFill>
          <a:blip r:embed="rId1"/>
          <a:stretch/>
        </p:blipFill>
        <p:spPr>
          <a:xfrm>
            <a:off x="171360" y="1859040"/>
            <a:ext cx="85392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call…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20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arl Marx and Marxis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st Manifesto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‘Class Struggle’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sm vs Capital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ssian Government Before Revol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narchy: The Czar (Tsar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ntil 1905 the Tsar's powers were unlimite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ussia had no constitution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o political party system to check the Tsar's pow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 strong secret police which terrorized the peop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33520" y="304920"/>
            <a:ext cx="8267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yal Backgroun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icholas I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Rectangle 5" descr=""/>
          <p:cNvPicPr/>
          <p:nvPr/>
        </p:nvPicPr>
        <p:blipFill>
          <a:blip r:embed="rId1"/>
          <a:stretch/>
        </p:blipFill>
        <p:spPr>
          <a:xfrm>
            <a:off x="304920" y="4803840"/>
            <a:ext cx="846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TC"/>
          <p:cNvPicPr/>
          <p:nvPr/>
        </p:nvPicPr>
        <p:blipFill>
          <a:blip r:embed="rId2"/>
          <a:stretch/>
        </p:blipFill>
        <p:spPr>
          <a:xfrm>
            <a:off x="2286000" y="182880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zar Nicholas II (1894)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ast Czar of Russ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20257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icholas II was a harsh and weak rul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Russian economy was bankrupt because of the Russo-Japanese War and WWI Russia’s entry into WWI became very unpopular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6" descr="tsar01"/>
          <p:cNvPicPr/>
          <p:nvPr/>
        </p:nvPicPr>
        <p:blipFill>
          <a:blip r:embed="rId1"/>
          <a:stretch/>
        </p:blipFill>
        <p:spPr>
          <a:xfrm>
            <a:off x="0" y="4343400"/>
            <a:ext cx="2743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152280" y="380880"/>
            <a:ext cx="87631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Times New Roman"/>
              </a:rPr>
              <a:t>Russo-Japanese War (1904)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imes New Roman"/>
              </a:rPr>
              <a:t>Dispute over Manchuria with Japan.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imes New Roman"/>
              </a:rPr>
              <a:t>Shook national confidence in their progress and rule of Czar.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imes New Roman"/>
              </a:rPr>
              <a:t>Japan now knows…they have a strong militar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6160" y="21960"/>
            <a:ext cx="863748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ier Revolution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loody Sunday (1905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2:05:16Z</dcterms:created>
  <dc:creator>AntelopeView Student</dc:creator>
  <dc:description/>
  <dc:language>en-US</dc:language>
  <cp:lastModifiedBy>Frank Tellez</cp:lastModifiedBy>
  <cp:lastPrinted>2017-12-12T16:16:35Z</cp:lastPrinted>
  <dcterms:modified xsi:type="dcterms:W3CDTF">2017-12-13T15:38:18Z</dcterms:modified>
  <cp:revision>29</cp:revision>
  <dc:subject/>
  <dc:title>PowerPoint Presentation</dc:title>
</cp:coreProperties>
</file>