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4B0-0CC7-4432-8D71-81502871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AFA3-9DDB-4BE2-A737-510BA7DD673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41C-83C7-4FF3-82CA-E6BCAE71B70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68B-CB17-4D7E-9E2B-355ACA76F3D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B92-F229-47AE-89E2-835486324EF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9CC-B4CA-4AAA-B70C-1BBD43A90B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512-2943-48EB-8577-0A50D2F860A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311-3000-4BD8-98B9-F8B77EFD60F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787-E4C0-4F56-A68B-762E4CBA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890-2503-4F85-A79C-105D90FC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28C-1E71-4041-8FFD-862353C0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5D6-FFB6-4A32-AFA7-4E8B32A6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011-3ED4-4434-A376-D6E9FAE3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8934-105D-41DF-BDF8-28D5486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61CB-3501-4D41-BCB6-778BB424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7D4-DCA5-4B81-8D23-CAF201D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1F8-639F-4EC2-94A6-35A3972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59DB-D4E2-476C-B016-7EFD22D9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4803-A7D2-4D46-A571-24EE9AC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B39-53E6-4E0B-8BC1-56021E4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9DD-4D85-41CD-8973-DCC3FC6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904-18A9-45B9-8D7C-0FC9053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873B-E8BD-404F-B790-D063953C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488A-C010-4CDE-994F-8E81118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A43-67B7-45E8-A373-CD3BF1B9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1BA-7E80-40F4-BC87-6A366F6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96D-D60D-4A9C-86C1-17BB149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D36-3A54-4D1B-8ACB-0F44EF99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079-6D33-4261-B9C7-097CD0E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773-EEDA-48E1-A478-B076579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2EC-0ADF-4B51-BA20-2372687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34C-73C1-4BBC-A4CF-9C3D2E1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AF6-9E83-459D-AE66-BA99E022A1E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7A2-2041-42D5-9A8E-DD859ED24F8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cc00"/>
                </a:solidFill>
                <a:latin typeface="Arial"/>
              </a:rPr>
              <a:t>Russian Revolution</a:t>
            </a:r>
            <a:endParaRPr b="0" lang="en-US" sz="5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nicholas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154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04920" y="6095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zar Nicholas II and Fami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ee the source image"/>
          <p:cNvPicPr/>
          <p:nvPr/>
        </p:nvPicPr>
        <p:blipFill>
          <a:blip r:embed="rId1"/>
          <a:stretch/>
        </p:blipFill>
        <p:spPr>
          <a:xfrm>
            <a:off x="2500200" y="1981080"/>
            <a:ext cx="4143600" cy="4210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66680" y="380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zar Nicholas and his wife Alexandr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NickyAlexei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rasputin2"/>
          <p:cNvPicPr/>
          <p:nvPr/>
        </p:nvPicPr>
        <p:blipFill>
          <a:blip r:embed="rId1"/>
          <a:stretch/>
        </p:blipFill>
        <p:spPr>
          <a:xfrm>
            <a:off x="0" y="0"/>
            <a:ext cx="5089680" cy="518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rasputin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0" y="541008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Times New Roman"/>
              </a:rPr>
              <a:t>Rasputin</a:t>
            </a:r>
            <a:endParaRPr b="0" lang="en-US" sz="5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sputin with Admir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19monk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 and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declares war on Austria-Hunga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ar becomes unpopu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ationing leads to starv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icholas II leaves St. Petersburg to war fro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ch Revolution (1917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917- protests spread through St. Petersburg and the Royal palace is taken ov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zar abdic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(Duma) takes control lead by Alexander Keresn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unpopular after decision to stay in WW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ctober (Bolshevik) Revolution-1917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ead by VI Lenin “Peace, Land, and Bread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on support of people (especially peasant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4" descr="rr09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601640"/>
            <a:ext cx="876312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derships Decisions about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4" name="Subtitle 2" descr=""/>
          <p:cNvPicPr/>
          <p:nvPr/>
        </p:nvPicPr>
        <p:blipFill>
          <a:blip r:embed="rId1"/>
          <a:stretch/>
        </p:blipFill>
        <p:spPr>
          <a:xfrm>
            <a:off x="133200" y="3005280"/>
            <a:ext cx="8676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376200"/>
            <a:ext cx="863748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Do Now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79200" y="1809720"/>
            <a:ext cx="8693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Rectangle 3" descr=""/>
          <p:cNvPicPr/>
          <p:nvPr/>
        </p:nvPicPr>
        <p:blipFill>
          <a:blip r:embed="rId1"/>
          <a:stretch/>
        </p:blipFill>
        <p:spPr>
          <a:xfrm>
            <a:off x="231840" y="1895400"/>
            <a:ext cx="830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9-19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19 White Armies (Royal and Menshevik troops)  attack the Reds (Bolsheviks) from all direction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20- Reds defeat Wh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le of Lenin 1920-1924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conomic Reforms included the New Economic Plan (N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moderate mix of capitalism and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olitical Refor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Bolshevik party became Communist Par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Russia becomes the United Soviet Socialist Republ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lenin2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828440"/>
            <a:ext cx="82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orm of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ntral Planning of the Economy by the St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’t (Communist Party) makes decisions on individual jobs and p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http://images.slideplayer.com/1/258001/slides/slide_12.jpg"/>
          <p:cNvPicPr/>
          <p:nvPr/>
        </p:nvPicPr>
        <p:blipFill>
          <a:blip r:embed="rId1"/>
          <a:stretch/>
        </p:blipFill>
        <p:spPr>
          <a:xfrm>
            <a:off x="14400" y="30492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21724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Primary Document Activity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7" name="Subtitle 2" descr=""/>
          <p:cNvPicPr/>
          <p:nvPr/>
        </p:nvPicPr>
        <p:blipFill>
          <a:blip r:embed="rId1"/>
          <a:stretch/>
        </p:blipFill>
        <p:spPr>
          <a:xfrm>
            <a:off x="1652760" y="3382920"/>
            <a:ext cx="7491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51076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Guided Reading Activit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9" name="Text Placeholder 2" descr=""/>
          <p:cNvPicPr/>
          <p:nvPr/>
        </p:nvPicPr>
        <p:blipFill>
          <a:blip r:embed="rId1"/>
          <a:stretch/>
        </p:blipFill>
        <p:spPr>
          <a:xfrm>
            <a:off x="-244440" y="2840040"/>
            <a:ext cx="9583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earning Targets and Intentions of the Les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171360" y="1859040"/>
            <a:ext cx="85392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all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20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rl Marx and Marxis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t Manifesto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‘Class Struggle’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m vs Capit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n Government Before R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narchy: The Czar (Tsar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ntil 1905 the Tsar's powers were unlimite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had no constitution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o political party system to check the Tsar's pow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 strong secret police which terrorized the peop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33520" y="304920"/>
            <a:ext cx="8267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yal Backgroun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cholas I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304920" y="4803840"/>
            <a:ext cx="846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TC"/>
          <p:cNvPicPr/>
          <p:nvPr/>
        </p:nvPicPr>
        <p:blipFill>
          <a:blip r:embed="rId2"/>
          <a:stretch/>
        </p:blipFill>
        <p:spPr>
          <a:xfrm>
            <a:off x="2286000" y="18288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zar Nicholas II (1894)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ast Czar of Russ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20257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icholas II was a harsh and weak rul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Russian economy was bankrupt because of the Russo-Japanese War and WWI Russia’s entry into WWI became very unpopular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6" descr="tsar01"/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52280" y="380880"/>
            <a:ext cx="87631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Times New Roman"/>
              </a:rPr>
              <a:t>Russo-Japanese War (1904)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Dispute over Manchuria with Japan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Shook national confidence in their progress and rule of Czar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Japan now knows…they have a strong militar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21960"/>
            <a:ext cx="863748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ier Revolution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loody Sunday (1905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05:16Z</dcterms:created>
  <dc:creator>AntelopeView Student</dc:creator>
  <dc:description/>
  <dc:language>en-US</dc:language>
  <cp:lastModifiedBy>Frank Tellez</cp:lastModifiedBy>
  <cp:lastPrinted>2017-12-12T16:16:35Z</cp:lastPrinted>
  <dcterms:modified xsi:type="dcterms:W3CDTF">2017-12-13T15:38:18Z</dcterms:modified>
  <cp:revision>29</cp:revision>
  <dc:subject/>
  <dc:title>PowerPoint Presentation</dc:title>
</cp:coreProperties>
</file>