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DD95-65B2-4DCA-937F-A499A702F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59BF-6248-4CBB-BF5A-CE1A1807F6A7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AAB3-ED70-40DA-8176-E9689B337A8A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F49D-591C-4A89-ABD1-242AC70EB19E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E44E-DA14-411D-9D90-F6F892B711C4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2506-276B-42BD-9C01-082223F92F4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31A9-59EA-49FE-ACA3-8088D342BA50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14B5-28B5-4258-8F61-3E1AC2A2158A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0E51-9EDC-4ED9-95A6-DB237D65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3E99-BDF8-4B58-8444-1CE22780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DD4D-45B1-44BB-85F5-108004BD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A057-2856-408B-87B0-A3C3E798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2E28-9748-4799-9441-049DEFCA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5E98-8A7A-4804-8398-70DE1903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3F90-D6E7-4B5E-96EB-663ECE86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816F-179E-4515-943D-D0D11AF6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B156-1DF2-402F-B94A-C66C8BB3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FA1D-BA3E-49CD-8CA7-64DF3AE8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434E-01F3-47C1-B0CF-2DD83CDD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493-714E-4621-86EB-B899D2F2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661C-2999-46D8-B00F-27672EFE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E9E5-A2DA-4358-BEFD-07DAEEEB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822F-B9F7-4DA3-8E6B-DEFCB805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EF3B-2615-415C-ACA4-347B06B2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F187-B400-4E8C-BFB6-6AA1A104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FEDC-975B-4296-B9FA-87F0ABB5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97E4-5F1D-4050-8806-27B14E3D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58E-7A2E-4C3A-8BD0-72E59132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BA4A-DEAB-4BC5-BA36-77FFF65E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BE85-8530-41AA-BDB3-B327AA37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7F70-BF6D-4F53-B7CA-5DC96808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DAE-FC72-409D-A298-A8497D9E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27EE-A811-4ADC-AFCE-3AD98A7AE761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9851-FC9E-46A8-9CD0-D6974A96DF8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cc00"/>
                </a:solidFill>
                <a:latin typeface="Arial"/>
              </a:rPr>
              <a:t>Russian Revolution</a:t>
            </a:r>
            <a:endParaRPr b="0" lang="en-US" sz="5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nicholas"/>
          <p:cNvPicPr/>
          <p:nvPr/>
        </p:nvPicPr>
        <p:blipFill>
          <a:blip r:embed="rId1"/>
          <a:stretch/>
        </p:blipFill>
        <p:spPr>
          <a:xfrm>
            <a:off x="228600" y="0"/>
            <a:ext cx="8458200" cy="61545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304920" y="60958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zar Nicholas II and Famil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See the source image"/>
          <p:cNvPicPr/>
          <p:nvPr/>
        </p:nvPicPr>
        <p:blipFill>
          <a:blip r:embed="rId1"/>
          <a:stretch/>
        </p:blipFill>
        <p:spPr>
          <a:xfrm>
            <a:off x="2500200" y="1981080"/>
            <a:ext cx="4143600" cy="4210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"/>
          <p:cNvSpPr/>
          <p:nvPr/>
        </p:nvSpPr>
        <p:spPr>
          <a:xfrm>
            <a:off x="1066680" y="380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zar Nicholas and his wife Alexandr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NickyAlexei"/>
          <p:cNvPicPr/>
          <p:nvPr/>
        </p:nvPicPr>
        <p:blipFill>
          <a:blip r:embed="rId1"/>
          <a:stretch/>
        </p:blipFill>
        <p:spPr>
          <a:xfrm>
            <a:off x="990720" y="533520"/>
            <a:ext cx="69339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rasputin2"/>
          <p:cNvPicPr/>
          <p:nvPr/>
        </p:nvPicPr>
        <p:blipFill>
          <a:blip r:embed="rId1"/>
          <a:stretch/>
        </p:blipFill>
        <p:spPr>
          <a:xfrm>
            <a:off x="0" y="0"/>
            <a:ext cx="5089680" cy="5181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rasputin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0" y="5410080"/>
            <a:ext cx="51055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cc"/>
                </a:solidFill>
                <a:latin typeface="Times New Roman"/>
              </a:rPr>
              <a:t>Rasputin</a:t>
            </a:r>
            <a:endParaRPr b="0" lang="en-US" sz="55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asputin with Admirer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Picture 4" descr="19monk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ussia and World War 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Russia declares war on Austria-Hunga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War becomes unpopul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Rationing leads to starv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Nicholas II leaves St. Petersburg to war fro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ch Revolution (1917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1917- protests spread through St. Petersburg and the Royal palace is taken over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zar abdic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rovisional government (Duma) takes control lead by Alexander Keresn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rovisional government unpopular after decision to stay in WW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ctober (Bolshevik) Revolution-1917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ead by VI Lenin “Peace, Land, and Bread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Won support of people (especially peasant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685800" y="519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8580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Picture 4" descr="rr09"/>
          <p:cNvPicPr/>
          <p:nvPr/>
        </p:nvPicPr>
        <p:blipFill>
          <a:blip r:embed="rId1"/>
          <a:stretch/>
        </p:blipFill>
        <p:spPr>
          <a:xfrm>
            <a:off x="609480" y="1295280"/>
            <a:ext cx="8077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601640"/>
            <a:ext cx="876312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aderships Decisions about World War 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4" name="Subtitle 2" descr=""/>
          <p:cNvPicPr/>
          <p:nvPr/>
        </p:nvPicPr>
        <p:blipFill>
          <a:blip r:embed="rId1"/>
          <a:stretch/>
        </p:blipFill>
        <p:spPr>
          <a:xfrm>
            <a:off x="133200" y="3005280"/>
            <a:ext cx="867600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376200"/>
            <a:ext cx="8637480" cy="110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Do Now</a:t>
            </a:r>
            <a:endParaRPr b="0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7" name="Content Placeholder 2" descr=""/>
          <p:cNvPicPr/>
          <p:nvPr/>
        </p:nvPicPr>
        <p:blipFill>
          <a:blip r:embed="rId1"/>
          <a:stretch/>
        </p:blipFill>
        <p:spPr>
          <a:xfrm>
            <a:off x="79200" y="1809720"/>
            <a:ext cx="8693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191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6" name="Rectangle 3" descr=""/>
          <p:cNvPicPr/>
          <p:nvPr/>
        </p:nvPicPr>
        <p:blipFill>
          <a:blip r:embed="rId1"/>
          <a:stretch/>
        </p:blipFill>
        <p:spPr>
          <a:xfrm>
            <a:off x="231840" y="1895400"/>
            <a:ext cx="83088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1919-1920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919 White Armies (Royal and Menshevik troops)  attack the Reds (Bolsheviks) from all directions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920- Reds defeat Whi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ule of Lenin 1920-1924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conomic Reforms included the New Economic Plan (NEP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-moderate mix of capitalism and socialis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olitical Refor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-Bolshevik party became Communist Par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-Russia becomes the United Soviet Socialist Republ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lenin2"/>
          <p:cNvPicPr/>
          <p:nvPr/>
        </p:nvPicPr>
        <p:blipFill>
          <a:blip r:embed="rId1"/>
          <a:stretch/>
        </p:blipFill>
        <p:spPr>
          <a:xfrm>
            <a:off x="1523880" y="228600"/>
            <a:ext cx="58676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mmunis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8680" y="1828440"/>
            <a:ext cx="820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Form of Socialis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ntral Planning of the Economy by the Sta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v’t (Communist Party) makes decisions on individual jobs and pa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Picture 4" descr="http://images.slideplayer.com/1/258001/slides/slide_12.jpg"/>
          <p:cNvPicPr/>
          <p:nvPr/>
        </p:nvPicPr>
        <p:blipFill>
          <a:blip r:embed="rId1"/>
          <a:stretch/>
        </p:blipFill>
        <p:spPr>
          <a:xfrm>
            <a:off x="14400" y="304920"/>
            <a:ext cx="91440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2217240"/>
            <a:ext cx="777240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Primary Document Activity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47" name="Subtitle 2" descr=""/>
          <p:cNvPicPr/>
          <p:nvPr/>
        </p:nvPicPr>
        <p:blipFill>
          <a:blip r:embed="rId1"/>
          <a:stretch/>
        </p:blipFill>
        <p:spPr>
          <a:xfrm>
            <a:off x="1652760" y="3382920"/>
            <a:ext cx="749124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510760" cy="19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Guided Reading Activity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49" name="Text Placeholder 2" descr=""/>
          <p:cNvPicPr/>
          <p:nvPr/>
        </p:nvPicPr>
        <p:blipFill>
          <a:blip r:embed="rId1"/>
          <a:stretch/>
        </p:blipFill>
        <p:spPr>
          <a:xfrm>
            <a:off x="-244440" y="2840040"/>
            <a:ext cx="958356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3780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Learning Targets and Intentions of the Less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9" name="Content Placeholder 2" descr=""/>
          <p:cNvPicPr/>
          <p:nvPr/>
        </p:nvPicPr>
        <p:blipFill>
          <a:blip r:embed="rId1"/>
          <a:stretch/>
        </p:blipFill>
        <p:spPr>
          <a:xfrm>
            <a:off x="171360" y="1859040"/>
            <a:ext cx="85392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call…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20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arl Marx and Marxism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munist Manifesto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‘Class Struggle’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munism vs Capitalis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ussian Government Before Revolu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narchy: The Czar (Tsar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Until 1905 the Tsar's powers were unlimite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Russia had no constitution,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no political party system to check the Tsar's power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 strong secret police which terrorized the peopl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533520" y="304920"/>
            <a:ext cx="82677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oyal Background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icholas I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Rectangle 5" descr=""/>
          <p:cNvPicPr/>
          <p:nvPr/>
        </p:nvPicPr>
        <p:blipFill>
          <a:blip r:embed="rId1"/>
          <a:stretch/>
        </p:blipFill>
        <p:spPr>
          <a:xfrm>
            <a:off x="304920" y="4803840"/>
            <a:ext cx="846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TC"/>
          <p:cNvPicPr/>
          <p:nvPr/>
        </p:nvPicPr>
        <p:blipFill>
          <a:blip r:embed="rId2"/>
          <a:stretch/>
        </p:blipFill>
        <p:spPr>
          <a:xfrm>
            <a:off x="2286000" y="1828800"/>
            <a:ext cx="4495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zar Nicholas II (1894)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ast Czar of Russi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20257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icholas II was a harsh and weak rul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Russian economy was bankrupt because of the Russo-Japanese War and WWI Russia’s entry into WWI became very unpopular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Picture 6" descr="tsar01"/>
          <p:cNvPicPr/>
          <p:nvPr/>
        </p:nvPicPr>
        <p:blipFill>
          <a:blip r:embed="rId1"/>
          <a:stretch/>
        </p:blipFill>
        <p:spPr>
          <a:xfrm>
            <a:off x="0" y="4343400"/>
            <a:ext cx="2743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152280" y="380880"/>
            <a:ext cx="87631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Times New Roman"/>
              </a:rPr>
              <a:t>Russo-Japanese War (1904)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Times New Roman"/>
              </a:rPr>
              <a:t>Dispute over Manchuria with Japan.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Times New Roman"/>
              </a:rPr>
              <a:t>Shook national confidence in their progress and rule of Czar.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Times New Roman"/>
              </a:rPr>
              <a:t>Japan now knows…they have a strong militar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6160" y="21960"/>
            <a:ext cx="8637480" cy="132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arlier Revolution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Bloody Sunday (1905)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0" y="1371600"/>
            <a:ext cx="8839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22:05:16Z</dcterms:created>
  <dc:creator>AntelopeView Student</dc:creator>
  <dc:description/>
  <dc:language>en-US</dc:language>
  <cp:lastModifiedBy>Frank Tellez</cp:lastModifiedBy>
  <cp:lastPrinted>2017-12-12T16:16:35Z</cp:lastPrinted>
  <dcterms:modified xsi:type="dcterms:W3CDTF">2017-12-13T15:38:18Z</dcterms:modified>
  <cp:revision>29</cp:revision>
  <dc:subject/>
  <dc:title>PowerPoint Presentation</dc:title>
</cp:coreProperties>
</file>