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B4A-388A-4F20-A237-DE6599C7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DA3-3540-47EA-92F7-DE27FF6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AA-6560-4347-932A-CB705369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996-2777-4A7D-A149-9914A63F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6E15-A5F6-44AE-8A0E-DE18382E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1BF-3B4E-47C0-BAE3-BEF7934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7DC2-61DB-4EA7-BD10-02DF3760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BED0-1B13-4831-BBC9-9150D93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EC39-8A95-49AC-972F-D334840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09F4-F38F-4B97-8066-C1775F9E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A886-D086-431E-AC94-AACF293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2B5-9361-40D8-A6F8-546F0DD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18FB-A08B-4CDF-BB2E-4E8AD9C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06C-4ACD-410C-A99F-07DBF65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3D8D-EC76-44AD-AA2E-2A430A7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6AF5-4824-463A-9197-B230467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A4EC-5352-4D7E-AAE6-A7ED982E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52A-7134-45E0-AC49-18C07CB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14D-59D8-4C34-8DDF-9949DC3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03E-8A79-4082-A45F-519C82C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7C6-4F1C-4290-90AE-C75B93DD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ABE-5F8A-433F-9B16-BC0AE47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9D1-7DBA-4CC8-9FE4-F4BC911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558-A376-4DD7-B543-F386181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86B-DC38-460C-B2FD-A9D5D93C4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89BC-94F2-4243-8AE0-272ED452ED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03000"/>
                </a:solidFill>
                <a:latin typeface="Times New Roman"/>
              </a:rPr>
              <a:t>PERSIAN CHART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dow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TELLECTU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hink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roups are given the chance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lea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knowledge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philosophy, math, science, and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RTIST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express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itment to self expression do they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y or resources are given to a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k at art, music, writing, litera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EAR (geography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geographic region is this loc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eographic landscape makes up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people/events effected by the geograp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people interact with their environ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environment define the culture/civ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Historians Evaluate the Pas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96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RIMARY SOUR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Written by eyewitnesses to history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C:\Users\tplummer\AppData\Local\Microsoft\Windows\Temporary Internet Files\Content.IE5\P7WCEDWQ\MP900410154[1].jpg"/>
          <p:cNvPicPr/>
          <p:nvPr/>
        </p:nvPicPr>
        <p:blipFill>
          <a:blip r:embed="rId1"/>
          <a:stretch/>
        </p:blipFill>
        <p:spPr>
          <a:xfrm>
            <a:off x="1752480" y="2057400"/>
            <a:ext cx="53596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ONDARY SOURC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-Your book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2" descr="C:\Users\tplummer\AppData\Local\Microsoft\Windows\Temporary Internet Files\Content.IE5\5ACJOMVB\MC900325240[1].wmf"/>
          <p:cNvPicPr/>
          <p:nvPr/>
        </p:nvPicPr>
        <p:blipFill>
          <a:blip r:embed="rId1"/>
          <a:stretch/>
        </p:blipFill>
        <p:spPr>
          <a:xfrm>
            <a:off x="2590920" y="2666880"/>
            <a:ext cx="4205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does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PERSIAN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mean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oli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conom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Relig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r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N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POLITICAL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Elites, Who’s in Ch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ower base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ives that person or group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governmen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ignificant wars, treaties, courts, or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CONOMI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earn thei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ased on agriculture, commerce, small trades or professions, or industry, like manufacturing or techn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's the mone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valued and traded commodit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chnologies or industries defin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LIGIOU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aning of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the group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y d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spend their li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alks to god(s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asic belief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leaders or documents that define reli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conversations? If so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OC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group relate to one ano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ople communic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do toge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group organiz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mily and gender rel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ocial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/Ethnic fact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live? Are there inequa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41:03Z</dcterms:created>
  <dc:creator>gregwilliams</dc:creator>
  <dc:description/>
  <dc:language>en-US</dc:language>
  <cp:lastModifiedBy>Katherine Silver</cp:lastModifiedBy>
  <dcterms:modified xsi:type="dcterms:W3CDTF">2017-09-05T13:17:26Z</dcterms:modified>
  <cp:revision>13</cp:revision>
  <dc:subject/>
  <dc:title>PERSIAN CHART</dc:title>
</cp:coreProperties>
</file>