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3174-9ACE-4B51-952F-6454FBEDA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2ABD-4E2C-40AD-A779-BE4975D75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31AB-9A40-4623-A286-B8A24A4CC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5AAE-0D27-4ABD-A2B2-F3D2001A1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2637D-8C03-4361-A6F7-A84A871BE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E5458-8A8A-4615-9421-209DD5442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C293F-CDAD-4D55-B529-7C96E2141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DBDC1-DEDA-4404-B67C-FFCA898C8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45BB6-9750-4830-AFDB-E75BA5063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402D7-E53A-44A8-8F0C-6131358B5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1487F-17C0-44C0-8A34-16559A8E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F54F-42FE-46BC-9037-820E6C14A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6464A-88CA-4BA1-AF8B-590EC102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3E8CB-3A81-4923-AF63-5DDABCD1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3F4B7-2670-4113-9B6E-EA577ECA7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A65B9-CC36-4942-A9F7-D0C7B2AFA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F3C16-F98D-4888-AB75-4F1402AD1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209F-A7EA-4CB6-868B-B9DD7C1DC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674C-30A5-450E-B69B-A445086DD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4931-8D05-46C5-B156-04510910F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0180-4110-4364-B02D-2BBE02DC9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B07C-5A1D-46CB-B44F-AC1BBA22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F170-E496-44A1-8C28-6DE192FF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8550-B9C3-43AF-9438-EDE9931F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FF5AD-412B-4772-848B-6E7317D5573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80802-75F2-493D-BA0A-3E883B72B9F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52480" y="1143000"/>
            <a:ext cx="73915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03000"/>
                </a:solidFill>
                <a:latin typeface="Times New Roman"/>
              </a:rPr>
              <a:t>PERSIAN CHART</a:t>
            </a:r>
            <a:endParaRPr b="0" lang="en-US" sz="6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eakdown of Socie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INTELLECTUAL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are the thinke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groups are given the chance to lear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people lear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oes knowledge come from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look at philosophy, math, science, and edu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8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ARTISTIC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they express themselv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mmitment to self expression do they hav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echnology or resources are given to ar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look at art, music, writing, literatu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NEAR (geography)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what geographic region is this locate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geographic landscape makes up the reg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re the people/events effected by the geograph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the people interact with their environmen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the environment define the culture/civiliz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5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5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9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How do Historians Evaluate the Past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0" name="Content Placeholder 3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69608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PRIMARY SOURCE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-Written by eyewitnesses to history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2" name="Picture 2" descr="C:\Users\tplummer\AppData\Local\Microsoft\Windows\Temporary Internet Files\Content.IE5\P7WCEDWQ\MP900410154[1].jpg"/>
          <p:cNvPicPr/>
          <p:nvPr/>
        </p:nvPicPr>
        <p:blipFill>
          <a:blip r:embed="rId1"/>
          <a:stretch/>
        </p:blipFill>
        <p:spPr>
          <a:xfrm>
            <a:off x="1752480" y="2057400"/>
            <a:ext cx="535968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SECONDARY SOURCES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-Your book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4" name="Picture 2" descr="C:\Users\tplummer\AppData\Local\Microsoft\Windows\Temporary Internet Files\Content.IE5\5ACJOMVB\MC900325240[1].wmf"/>
          <p:cNvPicPr/>
          <p:nvPr/>
        </p:nvPicPr>
        <p:blipFill>
          <a:blip r:embed="rId1"/>
          <a:stretch/>
        </p:blipFill>
        <p:spPr>
          <a:xfrm>
            <a:off x="2590920" y="2666880"/>
            <a:ext cx="42051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What does </a:t>
            </a:r>
            <a:r>
              <a:rPr b="1" lang="en-US" sz="5400" spc="-1" strike="noStrike">
                <a:solidFill>
                  <a:srgbClr val="330033"/>
                </a:solidFill>
                <a:latin typeface="Times New Roman"/>
              </a:rPr>
              <a:t>PERSIAN</a:t>
            </a: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 mean?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3055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- Politic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Econom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Religio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So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Intellectu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Artist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N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0033"/>
                </a:solidFill>
                <a:latin typeface="Times New Roman"/>
              </a:rPr>
              <a:t>POLITICAL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ers, Elites, Who’s in Char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power based 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gives that person or group pow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re a contra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the government stru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re any significant wars, treaties, courts, or law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77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" dur="77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" dur="77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" dur="77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ECONOMIC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people earn their fo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based on agriculture, commerce, small trades or professions, or industry, like manufacturing or technolog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's the mone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valued and traded commoditi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echnologies or industries define cul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RELIGIOUS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2640" y="1523520"/>
            <a:ext cx="7543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meaning of lif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id the group come from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ppens when they di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they spend their liv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talks to god(s)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basic belief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re leaders or documents that define relig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re conversations? If so h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77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8" dur="77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0" dur="77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2" dur="77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9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SOCIAL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the group relate to one anothe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people communicat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people do togethe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s the group organize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family and gender relation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re social clas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cial/Ethnic facto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hey live? Are there inequal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4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9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4" dur="2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8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14:41:03Z</dcterms:created>
  <dc:creator>gregwilliams</dc:creator>
  <dc:description/>
  <dc:language>en-US</dc:language>
  <cp:lastModifiedBy>Katherine Silver</cp:lastModifiedBy>
  <dcterms:modified xsi:type="dcterms:W3CDTF">2017-09-05T13:17:26Z</dcterms:modified>
  <cp:revision>13</cp:revision>
  <dc:subject/>
  <dc:title>PERSIAN CHART</dc:title>
</cp:coreProperties>
</file>