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440D-A4B9-47C2-9DD1-4CA993C7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03F3-8413-4FBF-85DB-E3FDC4C6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149B-ABAE-4D90-8745-F83AEE25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CA1-56AF-4D03-B810-D433F301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08DD-AC35-49C8-AC91-4C878E5C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3CFC-A1BD-44F5-9E29-D8FABA5F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2042-59F3-4EA1-B297-160C7B6F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1836-EC32-4050-AA58-B333F83A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299B-3502-4E16-94FA-E6E403DB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C74D-AFF3-4810-8C74-EE1E366E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4F0B-68E4-4033-A562-5F8D1B08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EB95-5637-432C-AB51-746F9DF8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5D59-B10C-4D94-B997-9DE15846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5B35-C406-4C0D-9278-FB01E3DD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2B9C-83E2-43B7-86B7-F1E35AAF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FBAD-99CD-4F9B-8DC2-42321319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49E6-3DE6-4FC9-AF19-90ED7819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C21B-3ED8-4EC4-A4E4-507D29F3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467D-5504-49A0-B9AE-86E2BAC7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8F53-67A1-47EA-88DD-D9CD2582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F78C-9D81-4EB6-BCF0-481827F1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D948-F21C-45FD-B471-DD38BA33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4362-F9FD-4C44-B16B-D08D7DE0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0DB1-B87A-439C-8CD8-1F97EBA5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BEE7-57CE-4088-B235-30EEA22D53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9EF3-9F16-40FD-9BF8-3D0AD3BAC4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11430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03000"/>
                </a:solidFill>
                <a:latin typeface="Times New Roman"/>
              </a:rPr>
              <a:t>PERSIAN CHART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eakdown of Socie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INTELLECTUAL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are the think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roups are given the chance to lea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people lear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es knowledge come fr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look at philosophy, math, science, and edu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0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7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7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ARTISTIC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y express themselv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mmitment to self expression do they ha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echnology or resources are given to ar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look at art, music, writing, literatu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9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NEAR (geography)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hat geographic region is this locat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eographic landscape makes up the reg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the people/events effected by the geograp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 people interact with their environm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environment define the culture/civiliz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77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6" dur="77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8" dur="77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0" dur="77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6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w do Historians Evaluate the Pas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Content Placeholder 3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6960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PRIMARY SOURCE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-Written by eyewitnesses to history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Picture 2" descr="C:\Users\tplummer\AppData\Local\Microsoft\Windows\Temporary Internet Files\Content.IE5\P7WCEDWQ\MP900410154[1].jpg"/>
          <p:cNvPicPr/>
          <p:nvPr/>
        </p:nvPicPr>
        <p:blipFill>
          <a:blip r:embed="rId1"/>
          <a:stretch/>
        </p:blipFill>
        <p:spPr>
          <a:xfrm>
            <a:off x="1752480" y="2057400"/>
            <a:ext cx="535968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ECONDARY SOURCE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-Your book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4" name="Picture 2" descr="C:\Users\tplummer\AppData\Local\Microsoft\Windows\Temporary Internet Files\Content.IE5\5ACJOMVB\MC900325240[1].wmf"/>
          <p:cNvPicPr/>
          <p:nvPr/>
        </p:nvPicPr>
        <p:blipFill>
          <a:blip r:embed="rId1"/>
          <a:stretch/>
        </p:blipFill>
        <p:spPr>
          <a:xfrm>
            <a:off x="2590920" y="2666880"/>
            <a:ext cx="4205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What does </a:t>
            </a:r>
            <a:r>
              <a:rPr b="1" lang="en-US" sz="5400" spc="-1" strike="noStrike">
                <a:solidFill>
                  <a:srgbClr val="330033"/>
                </a:solidFill>
                <a:latin typeface="Times New Roman"/>
              </a:rPr>
              <a:t>PERSIAN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mean?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Politi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Econom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Religi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Intellec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Artist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N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33"/>
                </a:solidFill>
                <a:latin typeface="Times New Roman"/>
              </a:rPr>
              <a:t>POLITICAL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, Elites, Who’s in Char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ower based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gives that person or group po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 contr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e government stru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any significant wars, treaties, courts, or law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ECONOMIC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people earn their f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based on agriculture, commerce, small trades or professions, or industry, like manufacturing or technolog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's the mone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valued and traded commoditi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echnologies or industries define cul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RELIGIOU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eaning of lif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id the group come fr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when they di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y spend their liv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talks to god(s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basic belief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leaders or documents that define relig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conversations? If so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SOCIAL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group relate to one anoth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people communicat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people do togeth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the group organiz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amily and gender relati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social clas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ial/Ethnic facto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y live? Are there inequa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6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4:41:03Z</dcterms:created>
  <dc:creator>gregwilliams</dc:creator>
  <dc:description/>
  <dc:language>en-US</dc:language>
  <cp:lastModifiedBy>Katherine Silver</cp:lastModifiedBy>
  <dcterms:modified xsi:type="dcterms:W3CDTF">2017-09-05T13:17:26Z</dcterms:modified>
  <cp:revision>13</cp:revision>
  <dc:subject/>
  <dc:title>PERSIAN CHART</dc:title>
</cp:coreProperties>
</file>