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77C-DE92-46F2-B242-5AF3138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ED2-CC3F-4988-89EA-AA33DDC0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7C5-000C-4EF8-8EF0-576F4E37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92D-75DF-48BA-8918-7E145965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353-FD65-4625-9A32-8CD506E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091-54E5-4A32-A96A-EB18019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07C-62F1-4467-A799-85EC93F3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B5B-792E-412B-834B-6BE1F70E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7B6-9FE3-4478-84AB-28FB741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2B7-3C7E-4BA0-A084-5FCBDA4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3B0-C33D-41FC-9B33-89C9911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ED4-F8F8-4E05-8FF1-DDE6A1A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50A-9D13-4BA8-B349-E0418EBFA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vaNm9LR2MASXmjzbkF/SIG=12uoji472/EXP=1265666138/**http:/images.stanzapub.com/readers/2008/10/08/pyramidmayaelcastillg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ucatanadventure.com.mx/maya_civilization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4TSW9LD2QARICjzbkF/SIG=11ok61ja6/EXP=1265670803/**http:/www.crystalinks.com/tikal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rds.yahoo.com/_ylt=A0WTb_zPSm9Lg0sAqwOjzbkF/SIG=12bc0mtnq/EXP=1265671247/**http:/www.flickr.com/photos/manunderstress/2116595625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rds.yahoo.com/_ylt=A0WTb_x_S29LwxIA1JWjzbkF/SIG=125odiohg/EXP=1265671423/**http:/www.flickr.com/photos/judester/3223453234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lenque_glyphs-edit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ya.sv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youtu.be/kcc_KAhwpa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a/MexicanSculptureRememberingTheSignForTenochtitlanFoundation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hyperlink" Target="http://rds.yahoo.com/_ylt=A0WTefjGZ3BLgBMA4u.jzbkF/SIG=12bvhn4rp/EXP=1265744198/**http:/www.flickr.com/photos/databeautician/3649094251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youtu.be/_nS6MpVbB_g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btanBLIFgAryujzbkF/SIG=12vh70r55/EXP=1265745005/**http:/www.puro-tolteca.com/images/Other%20Prints/huitzilopochtli_jpg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jba3BLJ3IAr3mjzbkF/SIG=12571g01j/EXP=1265745243/**http:/www.flickr.com/photos/unitopia/3215586935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ds.yahoo.com/_ylt=A0WTefe6bXBLFFUAEgOjzbkF/SIG=12cjjlu9n/EXP=1265745722/**http:/www.flickr.com/photos/angryromancegrrl/442650153/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odex_Magliabechiano_(141_cropped)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youtu.be/hQKJRnPpIxw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youtu.be/4f2omCHyYw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Maya, Aztec, and Inc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Civiliza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733920"/>
            <a:ext cx="3809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mayamap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Archite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ower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temples and pa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p the temples, priests performed religious ceremonies and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crifi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le people watched from the plazas be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monial platforms, temples, pyramids, observatories, ball courts all built by the M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Relig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practiced hum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Maya G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3352680" cy="31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yan_priests"/>
          <p:cNvPicPr/>
          <p:nvPr/>
        </p:nvPicPr>
        <p:blipFill>
          <a:blip r:embed="rId3"/>
          <a:stretch/>
        </p:blipFill>
        <p:spPr>
          <a:xfrm>
            <a:off x="3962520" y="3276720"/>
            <a:ext cx="43434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505320"/>
            <a:ext cx="268596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olumns"/>
          <p:cNvPicPr/>
          <p:nvPr/>
        </p:nvPicPr>
        <p:blipFill>
          <a:blip r:embed="rId3"/>
          <a:stretch/>
        </p:blipFill>
        <p:spPr>
          <a:xfrm>
            <a:off x="4191120" y="457200"/>
            <a:ext cx="4267080" cy="29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an8602_24, El Castillo, Chichen Itza, Maya Ruins, Yucatan Peninsula, Mexico by jimg944."/>
          <p:cNvPicPr/>
          <p:nvPr/>
        </p:nvPicPr>
        <p:blipFill>
          <a:blip r:embed="rId4"/>
          <a:stretch/>
        </p:blipFill>
        <p:spPr>
          <a:xfrm>
            <a:off x="380880" y="457200"/>
            <a:ext cx="3672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452313-58"/>
          <p:cNvPicPr/>
          <p:nvPr/>
        </p:nvPicPr>
        <p:blipFill>
          <a:blip r:embed="rId1"/>
          <a:stretch/>
        </p:blipFill>
        <p:spPr>
          <a:xfrm>
            <a:off x="685800" y="152280"/>
            <a:ext cx="3809880" cy="254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2819520"/>
            <a:ext cx="5562720" cy="3738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View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52280"/>
            <a:ext cx="3733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ri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stem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hierogly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400px-Palenque_glyphs-edi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124080"/>
            <a:ext cx="3809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set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num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develop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3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ay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180px-Ma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200400"/>
            <a:ext cx="270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ment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kcc_KAhwpa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hat happened to the Maya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bando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y of their cities around 900 A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aeologists DO NOT KNOW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ya civilization decl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: Around 900A.D. there was a severe drought. Many died du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tarv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ther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igr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toda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2 mill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people live in Guatemala and southern Mexico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g25825846e900766bbca27fa052d401a79ed147d2bf9e33"/>
          <p:cNvPicPr/>
          <p:nvPr/>
        </p:nvPicPr>
        <p:blipFill>
          <a:blip r:embed="rId1"/>
          <a:stretch/>
        </p:blipFill>
        <p:spPr>
          <a:xfrm>
            <a:off x="228600" y="3048120"/>
            <a:ext cx="4111560" cy="29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aya lady by Vin60."/>
          <p:cNvPicPr/>
          <p:nvPr/>
        </p:nvPicPr>
        <p:blipFill>
          <a:blip r:embed="rId2"/>
          <a:stretch/>
        </p:blipFill>
        <p:spPr>
          <a:xfrm>
            <a:off x="4419720" y="3060720"/>
            <a:ext cx="4419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 = Mexico &amp; Central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Mesoamerica-map-600"/>
          <p:cNvPicPr/>
          <p:nvPr/>
        </p:nvPicPr>
        <p:blipFill>
          <a:blip r:embed="rId1"/>
          <a:stretch/>
        </p:blipFill>
        <p:spPr>
          <a:xfrm>
            <a:off x="1600200" y="15238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Aztecs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Aztec_eagle"/>
          <p:cNvPicPr/>
          <p:nvPr/>
        </p:nvPicPr>
        <p:blipFill>
          <a:blip r:embed="rId1"/>
          <a:stretch/>
        </p:blipFill>
        <p:spPr>
          <a:xfrm>
            <a:off x="2971800" y="1523880"/>
            <a:ext cx="3351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Where did the Aztecs live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lived in what is known as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Valley of Mexico</a:t>
            </a:r>
            <a:r>
              <a:rPr b="1" lang="en-US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entral Mex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map"/>
          <p:cNvPicPr/>
          <p:nvPr/>
        </p:nvPicPr>
        <p:blipFill>
          <a:blip r:embed="rId1"/>
          <a:stretch/>
        </p:blipFill>
        <p:spPr>
          <a:xfrm>
            <a:off x="2209680" y="3048120"/>
            <a:ext cx="44960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nochtitl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capital city of the Aztec Emp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Mexica-tenochtitlan"/>
          <p:cNvPicPr/>
          <p:nvPr/>
        </p:nvPicPr>
        <p:blipFill>
          <a:blip r:embed="rId1"/>
          <a:stretch/>
        </p:blipFill>
        <p:spPr>
          <a:xfrm>
            <a:off x="1371600" y="2971800"/>
            <a:ext cx="65530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ds told the Aztecs to search for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a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lding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n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its beak perched atop a cactus.  This is where they wer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capital city.  The Aztecs saw this sign on a swampy island in lak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xcoc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5" descr="File:MexicanSculptureRememberingTheSignForTenochtitlanFound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6629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Sylfaen"/>
              </a:rPr>
              <a:t>How did the Aztecs build a city in the center of a la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ochtitlan was built on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nnected to the mainland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useway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ading north, south, and west of the c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ity was interlaced with a series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that all sections of the city could be visited either on foot or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, Tenochtitlan i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exi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Dsc00001m"/>
          <p:cNvPicPr/>
          <p:nvPr/>
        </p:nvPicPr>
        <p:blipFill>
          <a:blip r:embed="rId1"/>
          <a:stretch/>
        </p:blipFill>
        <p:spPr>
          <a:xfrm>
            <a:off x="304920" y="1905120"/>
            <a:ext cx="4047840" cy="465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spaceball"/>
          <p:cNvPicPr/>
          <p:nvPr/>
        </p:nvPicPr>
        <p:blipFill>
          <a:blip r:embed="rId2"/>
          <a:stretch/>
        </p:blipFill>
        <p:spPr>
          <a:xfrm>
            <a:off x="63360" y="0"/>
            <a:ext cx="476280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9718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_nS6MpVbB_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created an empire through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nqu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quered people and local rulers had to pa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ribu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Azte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had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e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ztec Emperor’s main job was to lea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tecs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itzilopochtli w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Aztec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weets se lo poch tle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built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yram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dicated to their g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981080"/>
            <a:ext cx="172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greatest civilizations in the Americas developed in </a:t>
            </a:r>
            <a:r>
              <a:rPr b="0" i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 and Azte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the Mesoamerica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743200"/>
            <a:ext cx="4343400" cy="28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74320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uman Sacri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 sacrifice was a common practice of the Azte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he reconsecration of Great Pyramid of Tenochtitlan in 1487, the Aztecs reported that they sacrificed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84,4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isoners over the course of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give the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rength to 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day, human sacrifices w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180px-Codex_Magliabechiano_%28141_cropped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9880"/>
            <a:ext cx="2743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man Sacra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’s explanation of Aztec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hQKJRnPpIx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 of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s://youtu.be/EIyZsABI8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Aztec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nish conquistadors l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ernan Cor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quered Tenochtitlan and defeated the Aztecs in 152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cortes_04"/>
          <p:cNvPicPr/>
          <p:nvPr/>
        </p:nvPicPr>
        <p:blipFill>
          <a:blip r:embed="rId1"/>
          <a:stretch/>
        </p:blipFill>
        <p:spPr>
          <a:xfrm>
            <a:off x="2209680" y="304812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View Image"/>
          <p:cNvPicPr/>
          <p:nvPr/>
        </p:nvPicPr>
        <p:blipFill>
          <a:blip r:embed="rId2"/>
          <a:stretch/>
        </p:blipFill>
        <p:spPr>
          <a:xfrm>
            <a:off x="5562720" y="3048120"/>
            <a:ext cx="3429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Sylfaen"/>
              </a:rPr>
              <a:t>Aztec Video Cli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Engineering An Empi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62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ylfaen"/>
              </a:rPr>
              <a:t>Inca</a:t>
            </a:r>
            <a:br>
              <a:rPr sz="54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6" descr="View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Inca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trolled an empire in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And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unt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gion of Sou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inca_empire"/>
          <p:cNvPicPr/>
          <p:nvPr/>
        </p:nvPicPr>
        <p:blipFill>
          <a:blip r:embed="rId1"/>
          <a:stretch/>
        </p:blipFill>
        <p:spPr>
          <a:xfrm>
            <a:off x="2819520" y="2895480"/>
            <a:ext cx="3274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p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In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emperor) had absolute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claimed to be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on of the 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was also the empire’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religio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ire was divided into four regions with the capital at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uz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Uniting the Empi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built a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o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twork through mountains and across rivers and gor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The road from Aguas Caliente to Machu Picchu by Christian Haugen."/>
          <p:cNvPicPr/>
          <p:nvPr/>
        </p:nvPicPr>
        <p:blipFill>
          <a:blip r:embed="rId1"/>
          <a:stretch/>
        </p:blipFill>
        <p:spPr>
          <a:xfrm>
            <a:off x="152280" y="358128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_who_01_s"/>
          <p:cNvPicPr/>
          <p:nvPr/>
        </p:nvPicPr>
        <p:blipFill>
          <a:blip r:embed="rId2"/>
          <a:stretch/>
        </p:blipFill>
        <p:spPr>
          <a:xfrm>
            <a:off x="4419720" y="2971800"/>
            <a:ext cx="273348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stone_pavings"/>
          <p:cNvPicPr/>
          <p:nvPr/>
        </p:nvPicPr>
        <p:blipFill>
          <a:blip r:embed="rId3"/>
          <a:stretch/>
        </p:blipFill>
        <p:spPr>
          <a:xfrm>
            <a:off x="6629400" y="4572000"/>
            <a:ext cx="1603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Ston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structed stone temples without us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rt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et the stones fit together so well that a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knif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not fit between the st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File:Inka mauern cuzco.jpg"/>
          <p:cNvPicPr/>
          <p:nvPr/>
        </p:nvPicPr>
        <p:blipFill>
          <a:blip r:embed="rId1"/>
          <a:stretch/>
        </p:blipFill>
        <p:spPr>
          <a:xfrm>
            <a:off x="2209680" y="337176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1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er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nd bri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migrated into North America from Asia by crossing over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land brid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ween Alaska and Siber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god wa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n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sun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File:Inti Torre Tagle.png"/>
          <p:cNvPicPr/>
          <p:nvPr/>
        </p:nvPicPr>
        <p:blipFill>
          <a:blip r:embed="rId1"/>
          <a:stretch/>
        </p:blipFill>
        <p:spPr>
          <a:xfrm>
            <a:off x="3124080" y="3200400"/>
            <a:ext cx="314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a believe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eincar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ractic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rani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deform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ey achieved this by wrapping tight cloth straps around the heads of newborns to alter the shape of their soft skulls into a cone-like sh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dical Adv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erformed successful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k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rg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also us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dic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make patients unconscious during surg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Organ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amily in a community was assigned a specific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jo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official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rrang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rri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 organized mandator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ice building pro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Inc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v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r in the empire broke out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mallpo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read, killing much of the Inc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Fall of the In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ultimately, it was Spanish conquistadors led by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Francis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Pizar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brought about the fall of the Inca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francisco_pizarro_seizing_inca_atahuallpa"/>
          <p:cNvPicPr/>
          <p:nvPr/>
        </p:nvPicPr>
        <p:blipFill>
          <a:blip r:embed="rId1"/>
          <a:stretch/>
        </p:blipFill>
        <p:spPr>
          <a:xfrm>
            <a:off x="1676520" y="3352680"/>
            <a:ext cx="6248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Inca Video Cl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23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5ffff"/>
              </a:solidFill>
              <a:latin typeface="Sylfae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bering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2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astal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s migrated to the Americas by crossing the seas, most likely the Pacific Ocean, and settling along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wes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asts of the America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y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4f2omCHyY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ancient </a:t>
            </a:r>
            <a:r>
              <a:rPr b="1" lang="en-US" sz="4400" spc="-1" strike="noStrike" u="sng">
                <a:solidFill>
                  <a:srgbClr val="92d050"/>
                </a:solidFill>
                <a:uFillTx/>
                <a:latin typeface="Sylfaen"/>
              </a:rPr>
              <a:t>Maya</a:t>
            </a: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tled on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Yuca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insula in central Amer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yucantan-map"/>
          <p:cNvPicPr/>
          <p:nvPr/>
        </p:nvPicPr>
        <p:blipFill>
          <a:blip r:embed="rId1"/>
          <a:stretch/>
        </p:blipFill>
        <p:spPr>
          <a:xfrm>
            <a:off x="2895480" y="3124080"/>
            <a:ext cx="4419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Political Stru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NOT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I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NOT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UNI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liticall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civilization was made up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ty-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ity-state had its ow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u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1:45:53Z</dcterms:created>
  <dc:creator>Seth2081</dc:creator>
  <dc:description/>
  <dc:language>en-US</dc:language>
  <cp:lastModifiedBy>Katherine Silver</cp:lastModifiedBy>
  <dcterms:modified xsi:type="dcterms:W3CDTF">2017-10-23T19:18:57Z</dcterms:modified>
  <cp:revision>41</cp:revision>
  <dc:subject/>
  <dc:title>Maya, Aztec, and Inca Civilizations</dc:title>
</cp:coreProperties>
</file>