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7AB-32A2-4363-963F-A0803228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A619-55E9-40B2-AD1B-B5781683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614-07A8-43A8-82FA-998A2364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9C3-CB27-44AA-97AF-339E1425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D59-E1BE-47B5-B9B7-F76B12F2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869-93C8-4F44-BE8C-1015E157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3B7-FEC3-4426-A5B7-6DA5D491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F739-0CDE-4899-9C7A-39F39506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63E-5E1F-441E-8D77-AEEBB99E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5BF9-CAC3-48EC-9690-11CF269F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709-531C-4701-8A4F-6E2596A1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088-6376-481E-B077-46AB2573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lfae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lfae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EFB6-8525-442B-AB64-EF9853C00F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lfae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vaNm9LR2MASXmjzbkF/SIG=12uoji472/EXP=1265666138/**http:/images.stanzapub.com/readers/2008/10/08/pyramidmayaelcastillg_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ucatanadventure.com.mx/maya_civilization.htm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x4TSW9LD2QARICjzbkF/SIG=11ok61ja6/EXP=1265670803/**http:/www.crystalinks.com/tikal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rds.yahoo.com/_ylt=A0WTb_zPSm9Lg0sAqwOjzbkF/SIG=12bc0mtnq/EXP=1265671247/**http:/www.flickr.com/photos/manunderstress/2116595625/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rds.yahoo.com/_ylt=A0WTb_x_S29LwxIA1JWjzbkF/SIG=125odiohg/EXP=1265671423/**http:/www.flickr.com/photos/judester/3223453234/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alenque_glyphs-edit1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aya.svg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youtu.be/kcc_KAhwpa0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a/MexicanSculptureRememberingTheSignForTenochtitlanFoundation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hyperlink" Target="http://rds.yahoo.com/_ylt=A0WTefjGZ3BLgBMA4u.jzbkF/SIG=12bvhn4rp/EXP=1265744198/**http:/www.flickr.com/photos/databeautician/3649094251/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youtu.be/_nS6MpVbB_g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btanBLIFgAryujzbkF/SIG=12vh70r55/EXP=1265745005/**http:/www.puro-tolteca.com/images/Other%20Prints/huitzilopochtli_jpg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jba3BLJ3IAr3mjzbkF/SIG=12571g01j/EXP=1265745243/**http:/www.flickr.com/photos/unitopia/3215586935/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rds.yahoo.com/_ylt=A0WTefe6bXBLFFUAEgOjzbkF/SIG=12cjjlu9n/EXP=1265745722/**http:/www.flickr.com/photos/angryromancegrrl/442650153/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odex_Magliabechiano_(141_cropped)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youtu.be/hQKJRnPpIxw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youtu.be/4f2omCHyYws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ylfaen"/>
              </a:rPr>
              <a:t>Maya, Aztec, and Inca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Sylfaen"/>
              </a:rPr>
              <a:t>Civilization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5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3733920"/>
            <a:ext cx="380988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5" descr="mayamap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2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Maya Architectur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t towering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temples and pal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p the temples, priests performed religious ceremonies and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sacrific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hile people watched from the plazas be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emonial platforms, temples, pyramids, observatories, ball courts all built by the Ma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Maya Religion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ya wer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polythei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ya practiced huma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sacri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Maya G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276720"/>
            <a:ext cx="3352680" cy="3105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ayan_priests"/>
          <p:cNvPicPr/>
          <p:nvPr/>
        </p:nvPicPr>
        <p:blipFill>
          <a:blip r:embed="rId3"/>
          <a:stretch/>
        </p:blipFill>
        <p:spPr>
          <a:xfrm>
            <a:off x="3962520" y="3276720"/>
            <a:ext cx="43434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5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3505320"/>
            <a:ext cx="268596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olumns"/>
          <p:cNvPicPr/>
          <p:nvPr/>
        </p:nvPicPr>
        <p:blipFill>
          <a:blip r:embed="rId3"/>
          <a:stretch/>
        </p:blipFill>
        <p:spPr>
          <a:xfrm>
            <a:off x="4191120" y="457200"/>
            <a:ext cx="4267080" cy="2965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can8602_24, El Castillo, Chichen Itza, Maya Ruins, Yucatan Peninsula, Mexico by jimg944."/>
          <p:cNvPicPr/>
          <p:nvPr/>
        </p:nvPicPr>
        <p:blipFill>
          <a:blip r:embed="rId4"/>
          <a:stretch/>
        </p:blipFill>
        <p:spPr>
          <a:xfrm>
            <a:off x="380880" y="457200"/>
            <a:ext cx="3672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452313-58"/>
          <p:cNvPicPr/>
          <p:nvPr/>
        </p:nvPicPr>
        <p:blipFill>
          <a:blip r:embed="rId1"/>
          <a:stretch/>
        </p:blipFill>
        <p:spPr>
          <a:xfrm>
            <a:off x="685800" y="152280"/>
            <a:ext cx="3809880" cy="2548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View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28800" y="2819520"/>
            <a:ext cx="5562720" cy="3738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View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52280"/>
            <a:ext cx="373392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Advances in learning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ya created a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writ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ystem of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hieroglyph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5" descr="400px-Palenque_glyphs-edi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3124080"/>
            <a:ext cx="38098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Advances in learning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ya created a set of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numer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so developed a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36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day calend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180px-May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3200400"/>
            <a:ext cx="270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dvancement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s://youtu.be/kcc_KAhwpa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What happened to the Maya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ya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abandon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any of their cities around 900 A.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chaeologists DO NOT KNOW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aya civilization decl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y: Around 900A.D. there was a severe drought. Many died due to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starv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thers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migrat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Maya today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tha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2 mill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a people live in Guatemala and southern Mexico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g25825846e900766bbca27fa052d401a79ed147d2bf9e33"/>
          <p:cNvPicPr/>
          <p:nvPr/>
        </p:nvPicPr>
        <p:blipFill>
          <a:blip r:embed="rId1"/>
          <a:stretch/>
        </p:blipFill>
        <p:spPr>
          <a:xfrm>
            <a:off x="228600" y="3048120"/>
            <a:ext cx="4111560" cy="2966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maya lady by Vin60."/>
          <p:cNvPicPr/>
          <p:nvPr/>
        </p:nvPicPr>
        <p:blipFill>
          <a:blip r:embed="rId2"/>
          <a:stretch/>
        </p:blipFill>
        <p:spPr>
          <a:xfrm>
            <a:off x="4419720" y="3060720"/>
            <a:ext cx="4419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Mesoamer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Mesoamerica</a:t>
            </a: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 = Mexico &amp; Central Ame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5" descr="Mesoamerica-map-600"/>
          <p:cNvPicPr/>
          <p:nvPr/>
        </p:nvPicPr>
        <p:blipFill>
          <a:blip r:embed="rId1"/>
          <a:stretch/>
        </p:blipFill>
        <p:spPr>
          <a:xfrm>
            <a:off x="1600200" y="1523880"/>
            <a:ext cx="5715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ylfaen"/>
              </a:rPr>
              <a:t>Aztecs</a:t>
            </a:r>
            <a:br>
              <a:rPr sz="6000"/>
            </a:b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Aztec_eagle"/>
          <p:cNvPicPr/>
          <p:nvPr/>
        </p:nvPicPr>
        <p:blipFill>
          <a:blip r:embed="rId1"/>
          <a:stretch/>
        </p:blipFill>
        <p:spPr>
          <a:xfrm>
            <a:off x="2971800" y="1523880"/>
            <a:ext cx="3351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Where did the Aztecs live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ztecs lived in what is known as th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Valley of Mexico</a:t>
            </a:r>
            <a:r>
              <a:rPr b="1" lang="en-US" sz="3200" spc="-1" strike="noStrike">
                <a:solidFill>
                  <a:srgbClr val="92d05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entral Mex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5" descr="map"/>
          <p:cNvPicPr/>
          <p:nvPr/>
        </p:nvPicPr>
        <p:blipFill>
          <a:blip r:embed="rId1"/>
          <a:stretch/>
        </p:blipFill>
        <p:spPr>
          <a:xfrm>
            <a:off x="2209680" y="3048120"/>
            <a:ext cx="44960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Tenochtit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Tenochtitl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s the capital city of the Aztec Empi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Mexica-tenochtitlan"/>
          <p:cNvPicPr/>
          <p:nvPr/>
        </p:nvPicPr>
        <p:blipFill>
          <a:blip r:embed="rId1"/>
          <a:stretch/>
        </p:blipFill>
        <p:spPr>
          <a:xfrm>
            <a:off x="1371600" y="2971800"/>
            <a:ext cx="655308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Legend of Tenochtit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ods told the Aztecs to search for a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eag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olding a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snak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its beak perched atop a cactus.  This is where they were to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bui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ir capital city.  The Aztecs saw this sign on a swampy island in lak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Texcoc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Legend of Tenochtit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5" descr="File:MexicanSculptureRememberingTheSignForTenochtitlanFoundati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600200"/>
            <a:ext cx="66294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Sylfaen"/>
              </a:rPr>
              <a:t>How did the Aztecs build a city in the center of a lak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ochtitlan was built on a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is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connected to the mainland by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auseway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eading north, south, and west of the cit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ity was interlaced with a series of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an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o that all sections of the city could be visited either on foot or by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ano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Tenochtit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day, Tenochtitlan is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Mexic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Dsc00001m"/>
          <p:cNvPicPr/>
          <p:nvPr/>
        </p:nvPicPr>
        <p:blipFill>
          <a:blip r:embed="rId1"/>
          <a:stretch/>
        </p:blipFill>
        <p:spPr>
          <a:xfrm>
            <a:off x="304920" y="1905120"/>
            <a:ext cx="4047840" cy="465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spaceball"/>
          <p:cNvPicPr/>
          <p:nvPr/>
        </p:nvPicPr>
        <p:blipFill>
          <a:blip r:embed="rId2"/>
          <a:stretch/>
        </p:blipFill>
        <p:spPr>
          <a:xfrm>
            <a:off x="63360" y="0"/>
            <a:ext cx="4762800" cy="316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View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971800"/>
            <a:ext cx="434340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nochtit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s://youtu.be/_nS6MpVbB_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Govern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ztecs created an empire through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onqu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quered people and local rulers had to pay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tribu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the Azte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ztecs had a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emper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Aztec Emperor’s main job was to lead i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Religion &amp; Myth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ztecs wer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polythei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itzilopochtli w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in Aztec g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weets se lo poch tle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ztecs built massiv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temp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pyrami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dicated to their g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981080"/>
            <a:ext cx="1724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Mesoamerica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f the greatest civilizations in the Americas developed in </a:t>
            </a:r>
            <a:r>
              <a:rPr b="0" i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Mesoame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Maya and Aztec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ed in the Mesoamerican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Religion &amp; Myth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yramid of the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S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yramid of the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743200"/>
            <a:ext cx="4343400" cy="2867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View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2743200"/>
            <a:ext cx="38098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Human Sacrifi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man sacrifice was a common practice of the Aztec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the reconsecration of Great Pyramid of Tenochtitlan in 1487, the Aztecs reported that they sacrificed </a:t>
            </a:r>
            <a:r>
              <a:rPr b="1" lang="en-US" sz="2400" spc="-1" strike="noStrike" u="sng">
                <a:solidFill>
                  <a:srgbClr val="92d050"/>
                </a:solidFill>
                <a:uFillTx/>
                <a:latin typeface="Tahoma"/>
              </a:rPr>
              <a:t>84,4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isoners over the course of </a:t>
            </a:r>
            <a:r>
              <a:rPr b="1" lang="en-US" sz="2400" spc="-1" strike="noStrike" u="sng">
                <a:solidFill>
                  <a:srgbClr val="92d050"/>
                </a:solidFill>
                <a:uFillTx/>
                <a:latin typeface="Tahoma"/>
              </a:rPr>
              <a:t>fou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ay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give the </a:t>
            </a:r>
            <a:r>
              <a:rPr b="1" lang="en-US" sz="2400" spc="-1" strike="noStrike" u="sng">
                <a:solidFill>
                  <a:srgbClr val="92d050"/>
                </a:solidFill>
                <a:uFillTx/>
                <a:latin typeface="Tahoma"/>
              </a:rPr>
              <a:t>su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trength to r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day, human sacrifices w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e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180px-Codex_Magliabechiano_%28141_cropped%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3809880"/>
            <a:ext cx="27432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uman Sacrafi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tor’s explanation of Aztec sacri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s://youtu.be/hQKJRnPpIx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deo of sacri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s://youtu.be/EIyZsABI8G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What happened to the Aztec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nish conquistadors l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ernan Cor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quered Tenochtitlan and defeated the Aztecs in 1521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8" descr="cortes_04"/>
          <p:cNvPicPr/>
          <p:nvPr/>
        </p:nvPicPr>
        <p:blipFill>
          <a:blip r:embed="rId1"/>
          <a:stretch/>
        </p:blipFill>
        <p:spPr>
          <a:xfrm>
            <a:off x="2209680" y="3048120"/>
            <a:ext cx="3276720" cy="3267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View Image"/>
          <p:cNvPicPr/>
          <p:nvPr/>
        </p:nvPicPr>
        <p:blipFill>
          <a:blip r:embed="rId2"/>
          <a:stretch/>
        </p:blipFill>
        <p:spPr>
          <a:xfrm>
            <a:off x="5562720" y="3048120"/>
            <a:ext cx="34290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Sylfaen"/>
              </a:rPr>
              <a:t>Aztec Video Clip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Engineering An Empir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watchknow.org/Video.aspx?VideoID=62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Sylfaen"/>
              </a:rPr>
              <a:t>Inca</a:t>
            </a:r>
            <a:br>
              <a:rPr sz="5400"/>
            </a:b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Picture 6" descr="View Image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Where did the Inca liv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nca controlled an empire in the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And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Mounta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gion of South Ame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7" descr="inca_empire"/>
          <p:cNvPicPr/>
          <p:nvPr/>
        </p:nvPicPr>
        <p:blipFill>
          <a:blip r:embed="rId1"/>
          <a:stretch/>
        </p:blipFill>
        <p:spPr>
          <a:xfrm>
            <a:off x="2819520" y="2895480"/>
            <a:ext cx="3274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Govern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Sap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Inc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emperor) had absolute po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mperor claimed to be the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son of the su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mperor was also the empire’s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religiou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mpire was divided into four regions with the capital at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Cuzc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Uniting the Empi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a built a massiv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roa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twork through mountains and across rivers and gor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The road from Aguas Caliente to Machu Picchu by Christian Haugen."/>
          <p:cNvPicPr/>
          <p:nvPr/>
        </p:nvPicPr>
        <p:blipFill>
          <a:blip r:embed="rId1"/>
          <a:stretch/>
        </p:blipFill>
        <p:spPr>
          <a:xfrm>
            <a:off x="152280" y="3581280"/>
            <a:ext cx="4114800" cy="274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h_who_01_s"/>
          <p:cNvPicPr/>
          <p:nvPr/>
        </p:nvPicPr>
        <p:blipFill>
          <a:blip r:embed="rId2"/>
          <a:stretch/>
        </p:blipFill>
        <p:spPr>
          <a:xfrm>
            <a:off x="4419720" y="2971800"/>
            <a:ext cx="2733480" cy="1523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stone_pavings"/>
          <p:cNvPicPr/>
          <p:nvPr/>
        </p:nvPicPr>
        <p:blipFill>
          <a:blip r:embed="rId3"/>
          <a:stretch/>
        </p:blipFill>
        <p:spPr>
          <a:xfrm>
            <a:off x="6629400" y="4572000"/>
            <a:ext cx="1603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Stonewor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nca constructed stone temples without using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morta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et the stones fit together so well that a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knif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ould not fit between the st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8" descr="File:Inka mauern cuzco.jpg"/>
          <p:cNvPicPr/>
          <p:nvPr/>
        </p:nvPicPr>
        <p:blipFill>
          <a:blip r:embed="rId1"/>
          <a:stretch/>
        </p:blipFill>
        <p:spPr>
          <a:xfrm>
            <a:off x="2209680" y="3371760"/>
            <a:ext cx="449604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How did people first get to the America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y #1 =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Bering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nd brid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s migrated into North America from Asia by crossing over a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land bridg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tween Alaska and Siberia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Relig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a wer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polytheist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imary god was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Int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e sun g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File:Inti Torre Tagle.png"/>
          <p:cNvPicPr/>
          <p:nvPr/>
        </p:nvPicPr>
        <p:blipFill>
          <a:blip r:embed="rId1"/>
          <a:stretch/>
        </p:blipFill>
        <p:spPr>
          <a:xfrm>
            <a:off x="3124080" y="3200400"/>
            <a:ext cx="3144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Relig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a believed i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reincarn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a practiced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ranial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deform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hey achieved this by wrapping tight cloth straps around the heads of newborns to alter the shape of their soft skulls into a cone-like sha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Medical Adva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a performed successful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sku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urg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a also used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medici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make patients unconscious during surg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Organiz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family in a community was assigned a specific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jo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 officials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arrang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arri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overnment organized mandatory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publ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ervice building pro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What happened to the Inca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ivi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r in the empire broke out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Smallpo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pread, killing much of the Inca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Fall of the In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ultimately, it was Spanish conquistadors led by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Francisc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Pizarr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brought about the fall of the Inca Empi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francisco_pizarro_seizing_inca_atahuallpa"/>
          <p:cNvPicPr/>
          <p:nvPr/>
        </p:nvPicPr>
        <p:blipFill>
          <a:blip r:embed="rId1"/>
          <a:stretch/>
        </p:blipFill>
        <p:spPr>
          <a:xfrm>
            <a:off x="1676520" y="3352680"/>
            <a:ext cx="62481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Inca Video Cl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watchknow.org/Video.aspx?VideoID=23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5ffff"/>
              </a:solidFill>
              <a:latin typeface="Sylfae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5" descr="bering"/>
          <p:cNvPicPr/>
          <p:nvPr/>
        </p:nvPicPr>
        <p:blipFill>
          <a:blip r:embed="rId1"/>
          <a:stretch/>
        </p:blipFill>
        <p:spPr>
          <a:xfrm>
            <a:off x="838080" y="533520"/>
            <a:ext cx="739152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How did people first get to the America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y #2 =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oastal mig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mans migrated to the Americas by crossing the seas, most likely the Pacific Ocean, and settling along the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wester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asts of the America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y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s://youtu.be/4f2omCHyY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Where did the ancient </a:t>
            </a:r>
            <a:r>
              <a:rPr b="1" lang="en-US" sz="4400" spc="-1" strike="noStrike" u="sng">
                <a:solidFill>
                  <a:srgbClr val="92d050"/>
                </a:solidFill>
                <a:uFillTx/>
                <a:latin typeface="Sylfaen"/>
              </a:rPr>
              <a:t>Maya</a:t>
            </a: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 liv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May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ettled on th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Yucat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ninsula in central Amer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5" descr="yucantan-map"/>
          <p:cNvPicPr/>
          <p:nvPr/>
        </p:nvPicPr>
        <p:blipFill>
          <a:blip r:embed="rId1"/>
          <a:stretch/>
        </p:blipFill>
        <p:spPr>
          <a:xfrm>
            <a:off x="2895480" y="3124080"/>
            <a:ext cx="44197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Maya Political Structur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ya were NOT A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EMPI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NOT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UNIT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olitically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a civilization was made up of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ity-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city-state had its ow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ru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21:45:53Z</dcterms:created>
  <dc:creator>Seth2081</dc:creator>
  <dc:description/>
  <dc:language>en-US</dc:language>
  <cp:lastModifiedBy>Katherine Silver</cp:lastModifiedBy>
  <dcterms:modified xsi:type="dcterms:W3CDTF">2017-10-23T19:18:57Z</dcterms:modified>
  <cp:revision>41</cp:revision>
  <dc:subject/>
  <dc:title>Maya, Aztec, and Inca Civilizations</dc:title>
</cp:coreProperties>
</file>