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4C1-4939-4962-913E-A40DB78C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FA4-790F-4BB8-9AFB-7DF4D2C3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7A3-C1B7-4858-A251-BF2BB82B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E2B-2F22-4088-916D-EB381F40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708-0122-4E8D-85C2-32E3D840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0BC-D95D-45F4-A684-0538FE54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021-15E9-4BDB-BBB3-09CA8C06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E1D-1886-4F27-AD8C-D8700548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1AB-F7E5-4E56-9097-01D6E8E5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554-FADB-4EEB-A9C8-29D8F9B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462-9DD2-4F54-91C0-62698997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790-E805-48FD-BA71-16C48E48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5EB9-8F26-4213-9CEA-9C31250425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vaNm9LR2MASXmjzbkF/SIG=12uoji472/EXP=1265666138/**http:/images.stanzapub.com/readers/2008/10/08/pyramidmayaelcastillg_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ucatanadventure.com.mx/maya_civilization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4TSW9LD2QARICjzbkF/SIG=11ok61ja6/EXP=1265670803/**http:/www.crystalinks.com/tikal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rds.yahoo.com/_ylt=A0WTb_zPSm9Lg0sAqwOjzbkF/SIG=12bc0mtnq/EXP=1265671247/**http:/www.flickr.com/photos/manunderstress/2116595625/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rds.yahoo.com/_ylt=A0WTb_x_S29LwxIA1JWjzbkF/SIG=125odiohg/EXP=1265671423/**http:/www.flickr.com/photos/judester/3223453234/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alenque_glyphs-edit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ya.sv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youtu.be/kcc_KAhwpa0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a/MexicanSculptureRememberingTheSignForTenochtitlanFoundation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hyperlink" Target="http://rds.yahoo.com/_ylt=A0WTefjGZ3BLgBMA4u.jzbkF/SIG=12bvhn4rp/EXP=1265744198/**http:/www.flickr.com/photos/databeautician/3649094251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youtu.be/_nS6MpVbB_g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btanBLIFgAryujzbkF/SIG=12vh70r55/EXP=1265745005/**http:/www.puro-tolteca.com/images/Other%20Prints/huitzilopochtli_jpg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jba3BLJ3IAr3mjzbkF/SIG=12571g01j/EXP=1265745243/**http:/www.flickr.com/photos/unitopia/3215586935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rds.yahoo.com/_ylt=A0WTefe6bXBLFFUAEgOjzbkF/SIG=12cjjlu9n/EXP=1265745722/**http:/www.flickr.com/photos/angryromancegrrl/442650153/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odex_Magliabechiano_(141_cropped)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youtu.be/hQKJRnPpIxw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youtu.be/4f2omCHyYw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ylfaen"/>
              </a:rPr>
              <a:t>Maya, Aztec, and Inca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Sylfaen"/>
              </a:rPr>
              <a:t>Civilization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733920"/>
            <a:ext cx="38098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mayamap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2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Architectur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towering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temples and pa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p the temples, priests performed religious ceremonies and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acrifi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le people watched from the plazas be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emonial platforms, temples, pyramids, observatories, ball courts all built by the Ma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Religion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wer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olythe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practiced hum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Maya G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276720"/>
            <a:ext cx="3352680" cy="310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ayan_priests"/>
          <p:cNvPicPr/>
          <p:nvPr/>
        </p:nvPicPr>
        <p:blipFill>
          <a:blip r:embed="rId3"/>
          <a:stretch/>
        </p:blipFill>
        <p:spPr>
          <a:xfrm>
            <a:off x="3962520" y="3276720"/>
            <a:ext cx="43434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505320"/>
            <a:ext cx="268596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olumns"/>
          <p:cNvPicPr/>
          <p:nvPr/>
        </p:nvPicPr>
        <p:blipFill>
          <a:blip r:embed="rId3"/>
          <a:stretch/>
        </p:blipFill>
        <p:spPr>
          <a:xfrm>
            <a:off x="4191120" y="457200"/>
            <a:ext cx="4267080" cy="296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can8602_24, El Castillo, Chichen Itza, Maya Ruins, Yucatan Peninsula, Mexico by jimg944."/>
          <p:cNvPicPr/>
          <p:nvPr/>
        </p:nvPicPr>
        <p:blipFill>
          <a:blip r:embed="rId4"/>
          <a:stretch/>
        </p:blipFill>
        <p:spPr>
          <a:xfrm>
            <a:off x="380880" y="457200"/>
            <a:ext cx="3672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452313-58"/>
          <p:cNvPicPr/>
          <p:nvPr/>
        </p:nvPicPr>
        <p:blipFill>
          <a:blip r:embed="rId1"/>
          <a:stretch/>
        </p:blipFill>
        <p:spPr>
          <a:xfrm>
            <a:off x="685800" y="152280"/>
            <a:ext cx="3809880" cy="2548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View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2819520"/>
            <a:ext cx="5562720" cy="3738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View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52280"/>
            <a:ext cx="37339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Advances in learning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created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writ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ystem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hieroglyp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400px-Palenque_glyphs-edi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124080"/>
            <a:ext cx="3809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Advances in learning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created a set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numer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developed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36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day calend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180px-May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200400"/>
            <a:ext cx="270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cement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kcc_KAhwpa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What happened to the Maya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abando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ny of their cities around 900 A.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aeologists DO NOT KNOW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ya civilization decl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: Around 900A.D. there was a severe drought. Many died due to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tarv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thers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igra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today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2 mill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a people live in Guatemala and southern Mexico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g25825846e900766bbca27fa052d401a79ed147d2bf9e33"/>
          <p:cNvPicPr/>
          <p:nvPr/>
        </p:nvPicPr>
        <p:blipFill>
          <a:blip r:embed="rId1"/>
          <a:stretch/>
        </p:blipFill>
        <p:spPr>
          <a:xfrm>
            <a:off x="228600" y="3048120"/>
            <a:ext cx="4111560" cy="2966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aya lady by Vin60."/>
          <p:cNvPicPr/>
          <p:nvPr/>
        </p:nvPicPr>
        <p:blipFill>
          <a:blip r:embed="rId2"/>
          <a:stretch/>
        </p:blipFill>
        <p:spPr>
          <a:xfrm>
            <a:off x="4419720" y="3060720"/>
            <a:ext cx="4419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Meso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esoamerica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 = Mexico &amp; Central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Mesoamerica-map-600"/>
          <p:cNvPicPr/>
          <p:nvPr/>
        </p:nvPicPr>
        <p:blipFill>
          <a:blip r:embed="rId1"/>
          <a:stretch/>
        </p:blipFill>
        <p:spPr>
          <a:xfrm>
            <a:off x="1600200" y="152388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ylfaen"/>
              </a:rPr>
              <a:t>Aztecs</a:t>
            </a: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Aztec_eagle"/>
          <p:cNvPicPr/>
          <p:nvPr/>
        </p:nvPicPr>
        <p:blipFill>
          <a:blip r:embed="rId1"/>
          <a:stretch/>
        </p:blipFill>
        <p:spPr>
          <a:xfrm>
            <a:off x="2971800" y="1523880"/>
            <a:ext cx="3351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Where did the Aztecs live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lived in what is known as 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Valley of Mexico</a:t>
            </a:r>
            <a:r>
              <a:rPr b="1" lang="en-US" sz="32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entral Mex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map"/>
          <p:cNvPicPr/>
          <p:nvPr/>
        </p:nvPicPr>
        <p:blipFill>
          <a:blip r:embed="rId1"/>
          <a:stretch/>
        </p:blipFill>
        <p:spPr>
          <a:xfrm>
            <a:off x="2209680" y="3048120"/>
            <a:ext cx="44960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enochtitl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the capital city of the Aztec Emp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Mexica-tenochtitlan"/>
          <p:cNvPicPr/>
          <p:nvPr/>
        </p:nvPicPr>
        <p:blipFill>
          <a:blip r:embed="rId1"/>
          <a:stretch/>
        </p:blipFill>
        <p:spPr>
          <a:xfrm>
            <a:off x="1371600" y="2971800"/>
            <a:ext cx="65530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egend of 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ds told the Aztecs to search for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eag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olding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n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its beak perched atop a cactus.  This is where they were to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bui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capital city.  The Aztecs saw this sign on a swampy island in lak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excoc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Legend of 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5" descr="File:MexicanSculptureRememberingTheSignForTenochtitlanFoundat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00200"/>
            <a:ext cx="66294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Sylfaen"/>
              </a:rPr>
              <a:t>How did the Aztecs build a city in the center of a lak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ochtitlan was built on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connected to the mainland b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auseway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ading north, south, and west of the ci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ity was interlaced with a series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an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 that all sections of the city could be visited either on foot or b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ano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ay, Tenochtitlan is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exic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Dsc00001m"/>
          <p:cNvPicPr/>
          <p:nvPr/>
        </p:nvPicPr>
        <p:blipFill>
          <a:blip r:embed="rId1"/>
          <a:stretch/>
        </p:blipFill>
        <p:spPr>
          <a:xfrm>
            <a:off x="304920" y="1905120"/>
            <a:ext cx="4047840" cy="465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spaceball"/>
          <p:cNvPicPr/>
          <p:nvPr/>
        </p:nvPicPr>
        <p:blipFill>
          <a:blip r:embed="rId2"/>
          <a:stretch/>
        </p:blipFill>
        <p:spPr>
          <a:xfrm>
            <a:off x="63360" y="0"/>
            <a:ext cx="4762800" cy="316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971800"/>
            <a:ext cx="43434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nochtit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_nS6MpVbB_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Gover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created an empire through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onqu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quered people and local rulers had to pa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ribu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Azte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had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empe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Aztec Emperor’s main job was to lead i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 &amp; Myth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ztecs wer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olythe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itzilopochtli w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Aztec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weets se lo poch tle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ztecs built massiv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temp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yram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dicated to their g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981080"/>
            <a:ext cx="172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esoameric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greatest civilizations in the Americas developed in </a:t>
            </a:r>
            <a:r>
              <a:rPr b="0" i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eso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aya and Azte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in the Mesoamerican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 &amp; Myth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mid of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mid of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743200"/>
            <a:ext cx="4343400" cy="286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74320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Human Sacrif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 sacrifice was a common practice of the Aztec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the reconsecration of Great Pyramid of Tenochtitlan in 1487, the Aztecs reported that they sacrificed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ahoma"/>
              </a:rPr>
              <a:t>84,4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isoners over the course of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ahoma"/>
              </a:rPr>
              <a:t>f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give the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ahoma"/>
              </a:rPr>
              <a:t>su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rength to 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day, human sacrifices w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180px-Codex_Magliabechiano_%28141_cropped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809880"/>
            <a:ext cx="2743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uman Sacraf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tor’s explanation of Aztec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hQKJRnPpIx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eo of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s://youtu.be/EIyZsABI8G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at happened to the Aztec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nish conquistadors l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ernan Cor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quered Tenochtitlan and defeated the Aztecs in 1521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8" descr="cortes_04"/>
          <p:cNvPicPr/>
          <p:nvPr/>
        </p:nvPicPr>
        <p:blipFill>
          <a:blip r:embed="rId1"/>
          <a:stretch/>
        </p:blipFill>
        <p:spPr>
          <a:xfrm>
            <a:off x="2209680" y="304812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View Image"/>
          <p:cNvPicPr/>
          <p:nvPr/>
        </p:nvPicPr>
        <p:blipFill>
          <a:blip r:embed="rId2"/>
          <a:stretch/>
        </p:blipFill>
        <p:spPr>
          <a:xfrm>
            <a:off x="5562720" y="3048120"/>
            <a:ext cx="34290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Sylfaen"/>
              </a:rPr>
              <a:t>Aztec Video Clip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Engineering An Empir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atchknow.org/Video.aspx?VideoID=62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Sylfaen"/>
              </a:rPr>
              <a:t>Inca</a:t>
            </a:r>
            <a:br>
              <a:rPr sz="54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6" descr="View Image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ere did the Inca liv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ca controlled an empire in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And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ount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gion of South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7" descr="inca_empire"/>
          <p:cNvPicPr/>
          <p:nvPr/>
        </p:nvPicPr>
        <p:blipFill>
          <a:blip r:embed="rId1"/>
          <a:stretch/>
        </p:blipFill>
        <p:spPr>
          <a:xfrm>
            <a:off x="2819520" y="2895480"/>
            <a:ext cx="3274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Gover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ap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Inc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emperor) had absolute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mperor claimed to be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son of the su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mperor was also the empire’s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religio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mpire was divided into four regions with the capital at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Cuz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Uniting the Empi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built a massiv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ro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twork through mountains and across rivers and gor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The road from Aguas Caliente to Machu Picchu by Christian Haugen."/>
          <p:cNvPicPr/>
          <p:nvPr/>
        </p:nvPicPr>
        <p:blipFill>
          <a:blip r:embed="rId1"/>
          <a:stretch/>
        </p:blipFill>
        <p:spPr>
          <a:xfrm>
            <a:off x="152280" y="358128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h_who_01_s"/>
          <p:cNvPicPr/>
          <p:nvPr/>
        </p:nvPicPr>
        <p:blipFill>
          <a:blip r:embed="rId2"/>
          <a:stretch/>
        </p:blipFill>
        <p:spPr>
          <a:xfrm>
            <a:off x="4419720" y="2971800"/>
            <a:ext cx="2733480" cy="15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stone_pavings"/>
          <p:cNvPicPr/>
          <p:nvPr/>
        </p:nvPicPr>
        <p:blipFill>
          <a:blip r:embed="rId3"/>
          <a:stretch/>
        </p:blipFill>
        <p:spPr>
          <a:xfrm>
            <a:off x="6629400" y="4572000"/>
            <a:ext cx="1603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Stonewo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ca constructed stone temples without using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morta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et the stones fit together so well that a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knif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uld not fit between the st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8" descr="File:Inka mauern cuzco.jpg"/>
          <p:cNvPicPr/>
          <p:nvPr/>
        </p:nvPicPr>
        <p:blipFill>
          <a:blip r:embed="rId1"/>
          <a:stretch/>
        </p:blipFill>
        <p:spPr>
          <a:xfrm>
            <a:off x="2209680" y="3371760"/>
            <a:ext cx="44960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How did people first get to the America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#1 =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Bering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nd bri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migrated into North America from Asia by crossing over a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land bridg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ween Alaska and Siberi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wer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olytheis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mary god was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In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sun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File:Inti Torre Tagle.png"/>
          <p:cNvPicPr/>
          <p:nvPr/>
        </p:nvPicPr>
        <p:blipFill>
          <a:blip r:embed="rId1"/>
          <a:stretch/>
        </p:blipFill>
        <p:spPr>
          <a:xfrm>
            <a:off x="3124080" y="3200400"/>
            <a:ext cx="3144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a believed i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reincarn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practiced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rani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deform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ey achieved this by wrapping tight cloth straps around the heads of newborns to alter the shape of their soft skulls into a cone-like sh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Medical Adva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performed successful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ku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rg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a also used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edic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make patients unconscious during surg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Organ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amily in a community was assigned a specific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jo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officials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arrang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rri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vernment organized mandatory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rvice building pro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at happened to the Inc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iv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r in the empire broke out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Smallpo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read, killing much of the Inc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Fall of the In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ultimately, it was Spanish conquistadors led by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Francisc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Pizarr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brought about the fall of the Inca Emp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francisco_pizarro_seizing_inca_atahuallpa"/>
          <p:cNvPicPr/>
          <p:nvPr/>
        </p:nvPicPr>
        <p:blipFill>
          <a:blip r:embed="rId1"/>
          <a:stretch/>
        </p:blipFill>
        <p:spPr>
          <a:xfrm>
            <a:off x="1676520" y="3352680"/>
            <a:ext cx="62481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Inca Video Cl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atchknow.org/Video.aspx?VideoID=23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5ffff"/>
              </a:solidFill>
              <a:latin typeface="Sylfae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bering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How did people first get to the America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#2 =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oastal 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mans migrated to the Americas by crossing the seas, most likely the Pacific Ocean, and settling along the </a:t>
            </a:r>
            <a:r>
              <a:rPr b="1" lang="en-US" sz="2800" spc="-1" strike="noStrike" u="sng">
                <a:solidFill>
                  <a:srgbClr val="92d050"/>
                </a:solidFill>
                <a:uFillTx/>
                <a:latin typeface="Tahoma"/>
              </a:rPr>
              <a:t>wester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asts of the America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y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outu.be/4f2omCHyY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Where did the ancient </a:t>
            </a:r>
            <a:r>
              <a:rPr b="1" lang="en-US" sz="4400" spc="-1" strike="noStrike" u="sng">
                <a:solidFill>
                  <a:srgbClr val="92d050"/>
                </a:solidFill>
                <a:uFillTx/>
                <a:latin typeface="Sylfaen"/>
              </a:rPr>
              <a:t>Maya</a:t>
            </a:r>
            <a:r>
              <a:rPr b="0" lang="en-US" sz="4400" spc="-1" strike="noStrike">
                <a:solidFill>
                  <a:srgbClr val="e5ffff"/>
                </a:solidFill>
                <a:latin typeface="Sylfaen"/>
              </a:rPr>
              <a:t> liv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May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ttled on the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Yucat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ninsula in central Amer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yucantan-map"/>
          <p:cNvPicPr/>
          <p:nvPr/>
        </p:nvPicPr>
        <p:blipFill>
          <a:blip r:embed="rId1"/>
          <a:stretch/>
        </p:blipFill>
        <p:spPr>
          <a:xfrm>
            <a:off x="2895480" y="3124080"/>
            <a:ext cx="44197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ylfaen"/>
              </a:rPr>
              <a:t>Maya Political Structur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ya were NOT A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EMPI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NOT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UNI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liticall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a civilization was made up of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city-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ity-state had its ow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Tahoma"/>
              </a:rPr>
              <a:t>ru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21:45:53Z</dcterms:created>
  <dc:creator>Seth2081</dc:creator>
  <dc:description/>
  <dc:language>en-US</dc:language>
  <cp:lastModifiedBy>Katherine Silver</cp:lastModifiedBy>
  <dcterms:modified xsi:type="dcterms:W3CDTF">2017-10-23T19:18:57Z</dcterms:modified>
  <cp:revision>41</cp:revision>
  <dc:subject/>
  <dc:title>Maya, Aztec, and Inca Civilizations</dc:title>
</cp:coreProperties>
</file>