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A63-4381-4C43-B918-B191A372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11A-2D8D-44ED-95CB-9745A024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26D-4C29-4BE2-B195-F48892EC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EED-1E4F-4662-90D8-C62AD121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571-AB4D-4FE0-9705-B1D90C25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313-7301-4D5C-A05D-A74F3878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16B-0562-41EF-9E66-B2140B1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F0D-9632-4146-8AF9-5F889BBC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DD4-6560-4A13-B53C-BB14B85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909-8491-4A04-A242-2248EA7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E28-1249-48FF-B653-2491901D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17C-350C-4FDA-BE99-0238EDE7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D1B7-D4E2-4C9C-9F2D-140675087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irst 5 words you think of when you think of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242 – 245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2133720"/>
                <a:gridCol w="1523880"/>
                <a:gridCol w="132552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t 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 of Ru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h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gh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1:58:09Z</dcterms:created>
  <dc:creator>AndrewWells</dc:creator>
  <dc:description/>
  <dc:language>en-US</dc:language>
  <cp:lastModifiedBy>AndrewWells</cp:lastModifiedBy>
  <dcterms:modified xsi:type="dcterms:W3CDTF">2013-10-14T12:00:49Z</dcterms:modified>
  <cp:revision>1</cp:revision>
  <dc:subject/>
  <dc:title>Do Now</dc:title>
</cp:coreProperties>
</file>