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0BC-9518-437B-B5A3-389F3499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17E-96C5-43E0-933A-FCCEA80C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9CC-09CA-403D-8877-A769BD2E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2F3-06D6-4B9D-A5AC-E0353133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22E-E1AC-44A8-85F9-3E52D87D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B35-0AAD-47F3-8A68-34A9B6EE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5CB-34C0-40F0-8901-A09AACCF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B72-4E21-4CEB-AAFA-0AC23178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6DC-5FA2-4E72-911C-DC637616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88D-A6AB-46C4-B205-CD1DC50B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F27-9475-4565-8920-E5FBDA8B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823-22CC-4F92-B42F-B4D97EEB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4AB2-BFE4-47A4-AB59-321EEAE30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irst 5 words you think of when you think of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242 – 245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2133720"/>
                <a:gridCol w="1523880"/>
                <a:gridCol w="132552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t 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 of Ru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h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gh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1:58:09Z</dcterms:created>
  <dc:creator>AndrewWells</dc:creator>
  <dc:description/>
  <dc:language>en-US</dc:language>
  <cp:lastModifiedBy>AndrewWells</cp:lastModifiedBy>
  <dcterms:modified xsi:type="dcterms:W3CDTF">2013-10-14T12:00:49Z</dcterms:modified>
  <cp:revision>1</cp:revision>
  <dc:subject/>
  <dc:title>Do Now</dc:title>
</cp:coreProperties>
</file>