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494D-478E-413E-9303-00153CC48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E4E6-85D6-4B04-8CBB-B26C7B5BD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5183-7E20-4BF9-992E-CA9B8A843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76D0-FA07-491C-B569-2B8C094B3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8F2E-D483-4E52-9C70-DA27FDE8D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342C-17C2-4ADA-BF80-977ADEA33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D18B-A8AD-4455-BD98-7DF2239B3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E6DF-3593-431F-B26F-14785B3DD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B80D-DA14-4FAA-81CE-E889758D6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AA81-72AD-496D-9D23-D67F73FC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C044-386D-4205-AB2E-DA8942EB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55C2-A2BC-423F-8708-DA6E37DD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BF44D-0DD4-4E3D-80B7-8C93A5BFB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the first 5 words you think of when you think of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ges 242 – 245 in text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600200"/>
                <a:gridCol w="2133720"/>
                <a:gridCol w="1523880"/>
                <a:gridCol w="1325520"/>
                <a:gridCol w="164628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vern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onom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ortant Ci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igion of Rul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h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ngha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4T11:58:09Z</dcterms:created>
  <dc:creator>AndrewWells</dc:creator>
  <dc:description/>
  <dc:language>en-US</dc:language>
  <cp:lastModifiedBy>AndrewWells</cp:lastModifiedBy>
  <dcterms:modified xsi:type="dcterms:W3CDTF">2013-10-14T12:00:49Z</dcterms:modified>
  <cp:revision>1</cp:revision>
  <dc:subject/>
  <dc:title>Do Now</dc:title>
</cp:coreProperties>
</file>