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3324-F934-418B-98C2-C03EA960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E49-4EE3-4CBE-96AF-6889D5BBB3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1B4-B4E7-42FA-9E1A-696B369B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0AF-9633-487B-9763-C98166E3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063-BB63-422A-86CD-4B6DF76B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310-1C97-4958-BB13-04C07B97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3D8-210A-4567-8E25-E97A5D9A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56F6-4396-4FBC-A7D2-AFAA0C8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A989-87C0-4BB5-95EB-E94CB882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49B7-67BA-4D2F-AC96-CB19E72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4F37-8341-4343-A12D-9FDB746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7D75-2FB4-40C1-A16A-7DD712C6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005D-A2F3-4976-8334-BB60779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00A-6A51-48E5-9B0D-706E3985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1C67-A41C-4DA6-91E6-8DD8C67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09F6-A6CC-4749-9E4F-34F109F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48F4-112D-4722-947E-91D2FF9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C2BC-0D1C-4145-9306-441F2D33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FEF-C0FB-4D45-9898-13D7005A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49DD-AF0B-4584-82E6-4017ED9D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407A-62AC-4BF2-BC05-1B65FAD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02E9-5101-4C2D-9A54-5A24AE3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33D1-BFC9-480F-A0D3-408EFBA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F7C3-134A-4547-A114-9BCDAFCD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048-07CD-4125-B8DF-B09B677A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F272-EE37-4C54-A373-700A77AE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3992-19CB-4AE9-BCCC-3FD1F770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5F0B-64E2-483C-9B60-196E290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87B8-A1FD-4C61-A446-C183CA8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8EFB-AC86-4E0C-AC9A-D715E165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DEAE-8E44-4F1E-9E53-E6AD8156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D9D6-80CD-4525-97DE-04BD13C3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8212-0A37-4AB2-B887-0A713883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C59B-4E7B-43D8-8B70-2FA70B1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6E32-749E-4139-90DA-1485B3A5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91D-904C-46A4-B015-7833D1A4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3B32-F50F-4C8F-8BFC-2462B5B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ACF0-5AA8-4BCF-B658-01AC43D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208F-EDA6-4CC3-BF93-7F09D51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F98C-275E-45E5-9749-6F85231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0CCF-1BAE-4121-A88E-712F8FA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6E93-4C6C-4AF1-9ED6-F950E713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A13C-CD70-4B48-B753-109A0B6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7021-A77F-4BF5-A31D-15A7DBE1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57B7-C4F8-43CF-86A3-626E67D4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D5B4-CF80-4805-B61F-82A4B1BC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04E-BB44-4E3E-9A5B-D20869F1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01CD-3F90-4F40-83ED-D5E078B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7D4E-292C-4953-9839-F655AFA4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0B1F6-4780-4971-8433-A36CD60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CD81-389E-4F17-85D5-AC689754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705D-7B94-4610-8481-AD5A28B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11E0-8429-4258-AB36-9E596BA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9F1F-C7CA-4FDA-8169-97D2CFE3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7FE97-1699-43DB-80F1-8F7E0E45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0BBA8-54A8-476A-9EA4-7B2536A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45F8-D3B0-41D3-AAF5-9FB139FC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7C2-5B0B-4D51-B841-850A5993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E743-FE71-4E31-AAB4-54D77020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CDC-E6D0-42EC-B5E8-83A7B16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5D7-7ED1-451C-A61D-160DE16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2A4-67E0-4147-B67F-BD8614A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B6A6-CE21-4AC1-B305-5E2189177B99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0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9DDF-77F3-4C42-AD7C-39B268403CE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C6C-0BCF-4A2A-B656-4AD7970C6E4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BFEE-29EC-4FEC-AA9C-8CCAC230A9D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CD78-1B85-47D1-BBA0-FAAA29B6DA7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rbel"/>
              </a:rPr>
              <a:t>Major Religions of the World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5" descr="religiousicon"/>
          <p:cNvPicPr/>
          <p:nvPr/>
        </p:nvPicPr>
        <p:blipFill>
          <a:blip r:embed="rId1"/>
          <a:stretch/>
        </p:blipFill>
        <p:spPr>
          <a:xfrm>
            <a:off x="2514600" y="914400"/>
            <a:ext cx="662616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Islam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47560" y="685800"/>
            <a:ext cx="771516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6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Surrendering oneself to the will of God”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rbel"/>
              </a:rPr>
              <a:t>A person surrenders to the will of Allah by living and thinking in the way Allah has instructed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rbel"/>
              </a:rPr>
              <a:t>The Muslim place of Worship is called the Mosque</a:t>
            </a:r>
            <a:br>
              <a:rPr sz="3500"/>
            </a:br>
            <a:br>
              <a:rPr sz="3100"/>
            </a:b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Corbel"/>
              </a:rPr>
              <a:t>The faith provides a social and legal system and governs things like family life, law and order, ethics, dress, and cleanliness, as well as religious ritual and observance—Islamic Republi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Hinduis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2640" y="12193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Hinduism has no founder, no single book of faith, no creed, and no single source of authority(such as Jesus)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Behind Hindu practice is the belief that every soul is trapped in a cycle of birth-death-rebirth(reincarnation). Every Hindu wants to escape from this cycle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6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Hindus aim to live in a way that will cause each of their lives to be better than the life before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Buddhism</a:t>
            </a:r>
            <a:br>
              <a:rPr sz="43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82800" y="2666880"/>
            <a:ext cx="7704000" cy="3332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47-NEBEL-BUDDHA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1" lang="en-US" sz="3600" spc="-1" strike="noStrike">
                <a:solidFill>
                  <a:srgbClr val="c00000"/>
                </a:solidFill>
                <a:latin typeface="Corbel"/>
              </a:rPr>
              <a:t>Buddhism's Main teachings – to eliminate human  wants as they are the cause of suffering in the world</a:t>
            </a:r>
            <a:r>
              <a:rPr b="1" lang="en-US" sz="4400" spc="-1" strike="noStrike">
                <a:solidFill>
                  <a:srgbClr val="c00000"/>
                </a:solidFill>
                <a:latin typeface="Corbe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71240" y="1981080"/>
            <a:ext cx="7319880" cy="48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rbel"/>
              </a:rPr>
              <a:t>Buddhism tries to find the true meaning of life and eventually, through four trance-like stages of meditation, he was enlightened to the Buddhist was of lif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rbel"/>
              </a:rPr>
              <a:t>The Buddhist place of Worship is the Templ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orbel"/>
              </a:rPr>
              <a:t>Do Now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11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rbel"/>
              </a:rPr>
              <a:t>What is the definition of Religion?  Why is it important to show respect for others’ beliefs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6668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What does religion mean to you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omething one believes in and follows devotedly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ually has some form of “higher power”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Why do you think religion causes so many conflicts and wars in the world when it is supposed to promote peace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What religion are you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Why do you practice that religion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76120" indent="-280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Picture 4" descr="world_religions_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82800" y="2666880"/>
            <a:ext cx="7704000" cy="3332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rbel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04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Christianity:         1.9 billion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Islam:                   1.1 b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Hinduism:            800 m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Buddhism:           325 m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Judaism:                13 mill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82800" y="2666880"/>
            <a:ext cx="7704000" cy="3332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rel_p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96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Christianity</a:t>
            </a:r>
            <a:br>
              <a:rPr sz="36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761760"/>
            <a:ext cx="830592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Based on the life and teachings of Jesus Chris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Originated in Palestine in the 1st century A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Believe that Jesus was the son of God who came and died for people’s sins and then rose so that all people could be sav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Believe in one God(monotheistic) who created the universe and all things in i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Place of Worship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- The word church is used to refer to a Christian place of worship by some Christian denomina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orbel"/>
              </a:rPr>
              <a:t>Judaism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Judaism - oldest and smallest of the world's five great religion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Believe in one all-encompassing Go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The fundamental beliefs of Judaism are: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There is a single, all-powerful God, who created the universe and everything in it.”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300" spc="-1" strike="noStrike">
                <a:solidFill>
                  <a:srgbClr val="c00000"/>
                </a:solidFill>
                <a:latin typeface="Corbel"/>
              </a:rPr>
              <a:t>Place of Worship – The Jewish place of Worship is called a “Synagogue”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lnSpc>
                <a:spcPct val="7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9:36:51Z</dcterms:created>
  <dc:creator>cbruns</dc:creator>
  <dc:description/>
  <dc:language>en-US</dc:language>
  <cp:lastModifiedBy>Frank Tellez</cp:lastModifiedBy>
  <dcterms:modified xsi:type="dcterms:W3CDTF">2016-09-27T10:31:43Z</dcterms:modified>
  <cp:revision>61</cp:revision>
  <dc:subject/>
  <dc:title>Major Religions of the World</dc:title>
</cp:coreProperties>
</file>