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F229-C03A-4F6F-A61C-6B549BC02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B8E6-7E59-482A-AC7B-2D86D20E34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CFB-55C5-433C-ADA6-FF94D3B3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4D2-8C92-4F70-9CB2-E0718062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FB0-5EF6-4AA8-83C1-F9F9F622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800-A9AC-4DDF-935A-5E2FDFD4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46EC-682C-474F-B3B8-B1F7B074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6115-2233-4D09-A45E-0BFBEEE8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B263-F191-46D0-9EB5-CC7A7BA5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B939-5C06-42D0-9FAC-D42C3E5D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C817-00EC-4632-971A-453DE06A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E327-2EBE-4791-B802-276A59A3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C200-D5B1-4DE7-AA13-7E69BD6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2AE-775C-4A39-A0F7-A1439DCF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85E-AD55-4536-8FA0-20AD669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04BE-39BF-4BFA-8350-689669EE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FD5E-D461-406F-BF83-838A0CC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9070-058B-498F-BC39-B8BCF883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D11C-447A-4C6A-B929-91940517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F4A4-C132-4162-9291-E202BABB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5E1B-44BB-420E-AD2D-6BE57AC0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DD1E-EBA1-4A1E-BDCF-23B4333C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43DB-32B5-4522-9BAA-D509FAB3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7C48-3622-4E1C-855D-4FA766B2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C49-D963-4741-9BF0-B581D55B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4227-02C9-4486-9394-5F62FB9A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DEED-36D3-4548-8051-E948494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0CE9-3381-4FCF-813D-98AF2F6E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986E-C2D1-4912-B2E2-BCDDD04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9969-55EC-4F54-BAC3-772E7284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EE12-60C2-4DC0-932B-908714E3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098E-A506-42B9-B280-C039834B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8281-A080-474B-9B17-670F1DA3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5FDD-12F9-4955-8346-016110EA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1795-B380-4B3D-9E6C-0ADC5093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BB2-CAEA-4604-A8EB-17C76DA0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0B6B-B616-4E0D-82E7-915FF502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F2BE8-406C-49A1-AEA2-AD7BDFC6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F5FF-BF12-4301-8B96-4BDBCAAD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3345-FDFE-42D2-AF40-60D0B66E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744D4-24A7-492D-8D7A-43AE5244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E55A-7991-458E-8B28-BF46E671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C3C4-9B2B-4CE1-84A1-811672F0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EF850-270A-4C21-9A13-D096620E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FB5F-880F-4237-A632-50F655BD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1BB74-A084-439F-BF73-F75EB648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C93-4A6B-4D43-A94E-5D00996F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E063C-2FDD-430C-9FE8-49AEF891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4D505-756E-4785-9DAD-7CD4C847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2C85-48DD-4B3A-901D-31A875CD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DDA7-A3A4-4FC9-9DFC-BC67CE0E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D6569-627B-418E-A326-F62D1B69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88C45-6407-4E70-9543-B3478F00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96B4-DD38-46C9-8444-F29D733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A4BA0-83DA-42C0-8671-81D72BC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4AEA-6D53-4D7D-85B5-C462CBCB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182D4-E556-4D9E-A0C2-340AAC53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9D2-0F00-4076-AF2A-3D6E60B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398E8-0A72-4E5C-A3DF-050013D2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61A-4111-4C22-BDDA-C7769A08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52D-D481-4E9C-9670-87C6B915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622-D8B8-4E3E-920E-FF0E0492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4338-BE10-4FA8-B59E-30C04020D708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0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50AB-0FD9-49A5-96C1-E1C121F5C890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6F69-3F2F-4D4A-91C8-ED2591ED539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84D7-BD4E-4121-AEE2-A3AE0BEFC4B6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E7C1-16F0-4190-BAF5-8DDA8D64CFD8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rbel"/>
              </a:rPr>
              <a:t>Major Religions of the World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5" descr="religiousicon"/>
          <p:cNvPicPr/>
          <p:nvPr/>
        </p:nvPicPr>
        <p:blipFill>
          <a:blip r:embed="rId1"/>
          <a:stretch/>
        </p:blipFill>
        <p:spPr>
          <a:xfrm>
            <a:off x="2514600" y="914400"/>
            <a:ext cx="662616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c00000"/>
                </a:solidFill>
                <a:latin typeface="Corbel"/>
              </a:rPr>
              <a:t>Islam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47560" y="685800"/>
            <a:ext cx="771516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6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1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1" lang="en-US" sz="3100" spc="-1" strike="noStrike">
                <a:solidFill>
                  <a:srgbClr val="c00000"/>
                </a:solidFill>
                <a:latin typeface="Corbel"/>
              </a:rPr>
              <a:t>Surrendering oneself to the will of God”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rbel"/>
              </a:rPr>
              <a:t>A person surrenders to the will of Allah by living and thinking in the way Allah has instructed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rbel"/>
              </a:rPr>
              <a:t>The Muslim place of Worship is called the Mosque</a:t>
            </a:r>
            <a:br>
              <a:rPr sz="3500"/>
            </a:br>
            <a:br>
              <a:rPr sz="3100"/>
            </a:br>
            <a:r>
              <a:rPr b="1" lang="en-US" sz="31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Corbel"/>
              </a:rPr>
              <a:t>The faith provides a social and legal system and governs things like family life, law and order, ethics, dress, and cleanliness, as well as religious ritual and observance—Islamic Republi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Hinduis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2640" y="121932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Hinduism has no founder, no single book of faith, no creed, and no single source of authority(such as Jesus)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Behind Hindu practice is the belief that every soul is trapped in a cycle of birth-death-rebirth(reincarnation). Every Hindu wants to escape from this cycle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6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Hindus aim to live in a way that will cause each of their lives to be better than the life before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orbel"/>
              </a:rPr>
              <a:t>Buddhism</a:t>
            </a:r>
            <a:br>
              <a:rPr sz="4300"/>
            </a:br>
            <a:br>
              <a:rPr sz="3600"/>
            </a:b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82800" y="2666880"/>
            <a:ext cx="7704000" cy="3332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47-NEBEL-BUDDHA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r>
              <a:rPr b="1" lang="en-US" sz="3600" spc="-1" strike="noStrike">
                <a:solidFill>
                  <a:srgbClr val="c00000"/>
                </a:solidFill>
                <a:latin typeface="Corbel"/>
              </a:rPr>
              <a:t>Buddhism's Main teachings – to eliminate human  wants as they are the cause of suffering in the world</a:t>
            </a:r>
            <a:r>
              <a:rPr b="1" lang="en-US" sz="4400" spc="-1" strike="noStrike">
                <a:solidFill>
                  <a:srgbClr val="c00000"/>
                </a:solidFill>
                <a:latin typeface="Corbe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371240" y="1981080"/>
            <a:ext cx="7319880" cy="484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9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rbel"/>
              </a:rPr>
              <a:t>Buddhism tries to find the true meaning of life and eventually, through four trance-like stages of meditation, he was enlightened to the Buddhist was of lif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9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rbel"/>
              </a:rPr>
              <a:t>The Buddhist place of Worship is the Templ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orbel"/>
              </a:rPr>
              <a:t>Do Now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11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rbel"/>
              </a:rPr>
              <a:t>What is the definition of Religion?  Why is it important to show respect for others’ beliefs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066680" y="13712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What does religion mean to you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omething one believes in and follows devotedly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ually has some form of “higher power”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Why do you think religion causes so many conflicts and wars in the world when it is supposed to promote peace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What religion are you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Why do you practice that religion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9" name="Picture 4" descr="world_religions_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82800" y="2666880"/>
            <a:ext cx="7704000" cy="3332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rbel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04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Christianity:         1.9 billion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Islam:                   1.1 bill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Hinduism:            800 mill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Buddhism:           325 mill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Judaism:                13 mill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82800" y="2666880"/>
            <a:ext cx="7704000" cy="3332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rel_p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96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orbel"/>
              </a:rPr>
              <a:t>Christianity</a:t>
            </a:r>
            <a:br>
              <a:rPr sz="3600"/>
            </a:br>
            <a:br>
              <a:rPr sz="3600"/>
            </a:b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38080" y="761760"/>
            <a:ext cx="8305920" cy="606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Based on the life and teachings of Jesus Chris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Originated in Palestine in the 1st century AD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Believe that Jesus was the son of God who came and died for people’s sins and then rose so that all people could be sav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Believe in one God(monotheistic) who created the universe and all things in i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Place of Worship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- The word church is used to refer to a Christian place of worship by some Christian denominatio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orbel"/>
              </a:rPr>
              <a:t>Judaism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716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Judaism - oldest and smallest of the world's five great religion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Believe in one all-encompassing Go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The fundamental beliefs of Judaism are: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There is a single, all-powerful God, who created the universe and everything in it.”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Place of Worship – The Jewish place of Worship is called a “Synagogue”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9:36:51Z</dcterms:created>
  <dc:creator>cbruns</dc:creator>
  <dc:description/>
  <dc:language>en-US</dc:language>
  <cp:lastModifiedBy>Frank Tellez</cp:lastModifiedBy>
  <dcterms:modified xsi:type="dcterms:W3CDTF">2016-09-27T10:31:43Z</dcterms:modified>
  <cp:revision>61</cp:revision>
  <dc:subject/>
  <dc:title>Major Religions of the World</dc:title>
</cp:coreProperties>
</file>