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C3F-7B3E-4135-B140-5E84AC73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5F3-B379-4D0A-9F47-DF159FD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2D8-9717-4016-A904-63D64AFB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754-BE78-4738-8584-4ADF8AF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D8C-38F6-4DA3-B83F-DB2401E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189-9900-478C-BD7C-D6181E4A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3EB-3108-4A08-937D-E952A69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FA5-EFC6-434D-A4FD-8CCECEE6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A26-63E1-4D7D-9070-761F63E6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76D-2FD5-43C8-9D9E-7C48490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484-A3BF-4CBA-8E6B-BBFC666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672-0841-4A71-A316-846E5DE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F1C-8F54-4172-AC00-052160A8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ths and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ah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the Arabic word for 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d.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3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believe it is o.k. to kill civilians in a holy war (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ihad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ly Muslim extremists believe this.  (Just like most Christians do NOT believe in bombing abortion clinics.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4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st Muslim women wear veils over their faces and are treated very ba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women have many different styles of dress.  (Very few cultures require women to cover their fac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eatment of women varies from country to country and family to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slim countries, like Pakistan, have had female prime ministers.  The U.S. has never had a female presid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kistani dress (left); Saudi Arabian (r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Illustration on women's dress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435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6004080" y="60595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h TV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ian wo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ran-ten-2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4521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851440" y="6335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477120" y="6248520"/>
            <a:ext cx="21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 Cin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li (left); West African (r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llustration on women's dress"/>
          <p:cNvPicPr/>
          <p:nvPr/>
        </p:nvPicPr>
        <p:blipFill>
          <a:blip r:embed="rId1"/>
          <a:stretch/>
        </p:blipFill>
        <p:spPr>
          <a:xfrm>
            <a:off x="2057400" y="1523880"/>
            <a:ext cx="4805280" cy="4356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400800" y="579132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h TV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67204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ghani women wearing burq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IMG_0056-705316"/>
          <p:cNvPicPr/>
          <p:nvPr/>
        </p:nvPicPr>
        <p:blipFill>
          <a:blip r:embed="rId1"/>
          <a:stretch/>
        </p:blipFill>
        <p:spPr>
          <a:xfrm>
            <a:off x="1143000" y="1219320"/>
            <a:ext cx="6886440" cy="516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644360" y="6461280"/>
            <a:ext cx="39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edical Corps 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Beliefs of 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illars of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672040" y="6335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eligion is called ISL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eople are MUSLIM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309520" y="646128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3D36-9A07-4948-BBEC-152CD0ADB76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 in one God and that Muhammad is His proph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59608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imes a day – facing Mec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"/>
          <p:cNvPicPr/>
          <p:nvPr/>
        </p:nvPicPr>
        <p:blipFill>
          <a:blip r:embed="rId2"/>
          <a:stretch/>
        </p:blipFill>
        <p:spPr>
          <a:xfrm>
            <a:off x="2590920" y="3124080"/>
            <a:ext cx="4143240" cy="311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212480" y="6461280"/>
            <a:ext cx="66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bc.co.uk/religion/galleries/salah/images/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money to the poor is REQUIRED, not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month of Ramadan, Muslims cannot eat or drink anything during the daylight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 in their lives – IF they can afford it, Muslims make a pilgrimage to M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ecca during the pilgr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0061001220111_29"/>
          <p:cNvPicPr/>
          <p:nvPr/>
        </p:nvPicPr>
        <p:blipFill>
          <a:blip r:embed="rId1"/>
          <a:stretch/>
        </p:blipFill>
        <p:spPr>
          <a:xfrm>
            <a:off x="2057400" y="1523880"/>
            <a:ext cx="5448240" cy="5034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5638680" y="6461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faithclu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QUE: a Muslim place of w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hammed Ali mosque, Cairo, Egy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Egypt_Mohammed_ali_basha_mosque"/>
          <p:cNvPicPr/>
          <p:nvPr/>
        </p:nvPicPr>
        <p:blipFill>
          <a:blip r:embed="rId1"/>
          <a:stretch/>
        </p:blipFill>
        <p:spPr>
          <a:xfrm>
            <a:off x="1676520" y="1523880"/>
            <a:ext cx="6143400" cy="4838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743840" y="6461280"/>
            <a:ext cx="59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larnavigator.net/geography/egyp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itadle0_05"/>
          <p:cNvPicPr/>
          <p:nvPr/>
        </p:nvPicPr>
        <p:blipFill>
          <a:blip r:embed="rId1"/>
          <a:stretch/>
        </p:blipFill>
        <p:spPr>
          <a:xfrm>
            <a:off x="1295280" y="1523880"/>
            <a:ext cx="6610320" cy="4957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4419720" y="6461280"/>
            <a:ext cx="60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sk-aladd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 of the Mohammed Ali mos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 of a mosque, Esfahan, I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masjid-i-shah1"/>
          <p:cNvPicPr/>
          <p:nvPr/>
        </p:nvPicPr>
        <p:blipFill>
          <a:blip r:embed="rId1"/>
          <a:stretch/>
        </p:blipFill>
        <p:spPr>
          <a:xfrm>
            <a:off x="1752480" y="1219320"/>
            <a:ext cx="5477040" cy="4991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057320" y="632448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erceptivetravel.com/issues/1106/maclea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6104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1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st Muslims are Arabs who live in the Middle Ea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82000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que in Djenne, Mali (West Afr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Djenne - the Grande Mosque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1981080" y="6461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ravelblog.org/Photos/1702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que in Tempe, Ariz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52760" y="646128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4uth.gov.ua/usa/english/society/muslimlife/mosqu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azmos"/>
          <p:cNvPicPr/>
          <p:nvPr/>
        </p:nvPicPr>
        <p:blipFill>
          <a:blip r:embed="rId1"/>
          <a:stretch/>
        </p:blipFill>
        <p:spPr>
          <a:xfrm>
            <a:off x="2743200" y="1219320"/>
            <a:ext cx="356724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RAN (or KORAN): Muslim holy bo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914400" y="6461280"/>
            <a:ext cx="72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inhajsisters.com/home/articles/index.minhaj?id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quran"/>
          <p:cNvPicPr/>
          <p:nvPr/>
        </p:nvPicPr>
        <p:blipFill>
          <a:blip r:embed="rId1"/>
          <a:stretch/>
        </p:blipFill>
        <p:spPr>
          <a:xfrm>
            <a:off x="2590920" y="1447920"/>
            <a:ext cx="3922560" cy="4757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8748360" y="641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 is an important religion, which shares many beliefs and practices with Christianity and Juda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 live in many different countries.  Islam is especially widespread in Africa, Asia, and southeastern Europe (the Balkans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 has had a great impact on world art an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678520" y="646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 Muslim from Egypt and you just moved to the Erwin Distr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what it would be like to live in this commun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it be like to go to school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going out to 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and why you think people in the community would react certain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: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more than 1 billion Muslims worldwide, only about 1/5 are Arab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67240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Gues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Muslims than any other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76456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onesia - with over 200 million Muslim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The U.S. has about 5 million Musli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82468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slam_map"/>
          <p:cNvPicPr/>
          <p:nvPr/>
        </p:nvPicPr>
        <p:blipFill>
          <a:blip r:embed="rId1"/>
          <a:stretch/>
        </p:blipFill>
        <p:spPr>
          <a:xfrm>
            <a:off x="1066680" y="380880"/>
            <a:ext cx="7467840" cy="6215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688240" y="646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74640" y="64612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kidmore.edu/academics/arthistory/ah369/islam_map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th #2: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have a strange religion and worship a god called Alla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901000" y="641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685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lity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lims are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onotheistic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worship the same one God as Christians and Jew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8850240" y="64612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1:09:24Z</dcterms:created>
  <dc:creator>Aman Adeli</dc:creator>
  <dc:description/>
  <dc:language>en-US</dc:language>
  <cp:lastModifiedBy>Andrew Wells</cp:lastModifiedBy>
  <dcterms:modified xsi:type="dcterms:W3CDTF">2012-11-08T00:58:24Z</dcterms:modified>
  <cp:revision>31</cp:revision>
  <dc:subject/>
  <dc:title>Calligraphy</dc:title>
</cp:coreProperties>
</file>