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8058-A82A-4046-9E95-CB1511E5F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D563-8238-4B60-BA6D-B9C4D9A9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5A5F-1C26-4F68-BAC7-DD85100D4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96A6-1A03-4402-A104-3612BF164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3FE1-4438-4998-A7FA-6AFBE607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028B-FF77-4062-9356-4E6FF93B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46FC-460E-4BAE-96B0-6606A64A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675A-9A17-4501-86BD-1079591B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AF1E-A7E8-46A5-B943-45C64998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C119-64A1-48F6-AA9A-F34A1640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4920-A79D-4F9B-BA91-DA38A8D3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4F7A-9064-4A56-B2C4-C606B8F0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39F0-5BCC-41EF-A062-FCCB9FAF6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slam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ths and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72400" cy="15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llah</a:t>
            </a: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is the Arabic word for </a:t>
            </a: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od.</a:t>
            </a: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8678520" y="6461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yth #3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52388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uslims believe it is o.k. to kill civilians in a holy war (</a:t>
            </a: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jihad</a:t>
            </a: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8678520" y="6461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54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a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29528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nly Muslim extremists believe this.  (Just like most Christians do NOT believe in bombing abortion clinics.)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8678520" y="6461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yth #4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ost Muslim women wear veils over their faces and are treated very badl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8678520" y="6461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alit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lim women have many different styles of dress.  (Very few cultures require women to cover their faces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eatment of women varies from country to country and family to fam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Muslim countries, like Pakistan, have had female prime ministers.  The U.S. has never had a female presiden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8678520" y="6461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kistani dress (left); Saudi Arabian (righ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Illustration on women's dress"/>
          <p:cNvPicPr/>
          <p:nvPr/>
        </p:nvPicPr>
        <p:blipFill>
          <a:blip r:embed="rId1"/>
          <a:stretch/>
        </p:blipFill>
        <p:spPr>
          <a:xfrm>
            <a:off x="2362320" y="1752480"/>
            <a:ext cx="4800600" cy="43513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6004080" y="6059520"/>
            <a:ext cx="28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ah TV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8678520" y="6461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ranian wom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iran-ten-2"/>
          <p:cNvPicPr/>
          <p:nvPr/>
        </p:nvPicPr>
        <p:blipFill>
          <a:blip r:embed="rId1"/>
          <a:stretch/>
        </p:blipFill>
        <p:spPr>
          <a:xfrm>
            <a:off x="1371600" y="1600200"/>
            <a:ext cx="6248520" cy="45212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5851440" y="633564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6477120" y="6248520"/>
            <a:ext cx="21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en Cine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8678520" y="6461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ali (left); West African (righ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Illustration on women's dress"/>
          <p:cNvPicPr/>
          <p:nvPr/>
        </p:nvPicPr>
        <p:blipFill>
          <a:blip r:embed="rId1"/>
          <a:stretch/>
        </p:blipFill>
        <p:spPr>
          <a:xfrm>
            <a:off x="2057400" y="1523880"/>
            <a:ext cx="4805280" cy="43563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7"/>
          <p:cNvSpPr/>
          <p:nvPr/>
        </p:nvSpPr>
        <p:spPr>
          <a:xfrm>
            <a:off x="6400800" y="5791320"/>
            <a:ext cx="238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ah TV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8672040" y="6411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fghani women wearing burqa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IMG_0056-705316"/>
          <p:cNvPicPr/>
          <p:nvPr/>
        </p:nvPicPr>
        <p:blipFill>
          <a:blip r:embed="rId1"/>
          <a:stretch/>
        </p:blipFill>
        <p:spPr>
          <a:xfrm>
            <a:off x="1143000" y="1219320"/>
            <a:ext cx="6886440" cy="51624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7"/>
          <p:cNvSpPr/>
          <p:nvPr/>
        </p:nvSpPr>
        <p:spPr>
          <a:xfrm>
            <a:off x="4644360" y="6461280"/>
            <a:ext cx="398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Medical Corps pho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8678520" y="6461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Beliefs of Isl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Pillars of Isl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8672040" y="63356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rminology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religion is called ISLA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people are MUSLIM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8309520" y="6461280"/>
            <a:ext cx="13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74CC-DFBF-4660-80D5-C0A72C504429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ith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792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lief in one God and that Muhammad is His prophet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8596080" y="6411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y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 times a day – facing Mecc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5"/>
          <p:cNvPicPr/>
          <p:nvPr/>
        </p:nvPicPr>
        <p:blipFill>
          <a:blip r:embed="rId2"/>
          <a:stretch/>
        </p:blipFill>
        <p:spPr>
          <a:xfrm>
            <a:off x="2590920" y="3124080"/>
            <a:ext cx="4143240" cy="31147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8"/>
          <p:cNvSpPr/>
          <p:nvPr/>
        </p:nvSpPr>
        <p:spPr>
          <a:xfrm>
            <a:off x="1212480" y="6461280"/>
            <a:ext cx="66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bbc.co.uk/religion/galleries/salah/images/5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8678520" y="6461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9528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iving money to the poor is REQUIRED, not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8678520" y="6461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44792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the month of Ramadan, Muslims cannot eat or drink anything during the daylight h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8678520" y="6461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lgrim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29528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ce in their lives – IF they can afford it, Muslims make a pilgrimage to Mec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8678520" y="6461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ecca during the pilgrim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20061001220111_29"/>
          <p:cNvPicPr/>
          <p:nvPr/>
        </p:nvPicPr>
        <p:blipFill>
          <a:blip r:embed="rId1"/>
          <a:stretch/>
        </p:blipFill>
        <p:spPr>
          <a:xfrm>
            <a:off x="2057400" y="1523880"/>
            <a:ext cx="5448240" cy="50342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7"/>
          <p:cNvSpPr/>
          <p:nvPr/>
        </p:nvSpPr>
        <p:spPr>
          <a:xfrm>
            <a:off x="5638680" y="646128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thefaithclub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8678520" y="6461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4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Vocabulary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29528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SQUE: a Muslim place of wo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8678520" y="6461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hammed Ali mosque, Cairo, Egy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Egypt_Mohammed_ali_basha_mosque"/>
          <p:cNvPicPr/>
          <p:nvPr/>
        </p:nvPicPr>
        <p:blipFill>
          <a:blip r:embed="rId1"/>
          <a:stretch/>
        </p:blipFill>
        <p:spPr>
          <a:xfrm>
            <a:off x="1676520" y="1523880"/>
            <a:ext cx="6143400" cy="48387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1"/>
          <p:cNvSpPr/>
          <p:nvPr/>
        </p:nvSpPr>
        <p:spPr>
          <a:xfrm>
            <a:off x="1743840" y="6461280"/>
            <a:ext cx="592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solarnavigator.net/geography/egypt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8678520" y="6461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citadle0_05"/>
          <p:cNvPicPr/>
          <p:nvPr/>
        </p:nvPicPr>
        <p:blipFill>
          <a:blip r:embed="rId1"/>
          <a:stretch/>
        </p:blipFill>
        <p:spPr>
          <a:xfrm>
            <a:off x="1295280" y="1523880"/>
            <a:ext cx="6610320" cy="49579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8"/>
          <p:cNvSpPr/>
          <p:nvPr/>
        </p:nvSpPr>
        <p:spPr>
          <a:xfrm>
            <a:off x="4419720" y="6461280"/>
            <a:ext cx="601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ask-aladdi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me of the Mohammed Ali mos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8678520" y="6461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me of a mosque, Esfahan, Ir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" descr="masjid-i-shah1"/>
          <p:cNvPicPr/>
          <p:nvPr/>
        </p:nvPicPr>
        <p:blipFill>
          <a:blip r:embed="rId1"/>
          <a:stretch/>
        </p:blipFill>
        <p:spPr>
          <a:xfrm>
            <a:off x="1752480" y="1219320"/>
            <a:ext cx="5477040" cy="49910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9"/>
          <p:cNvSpPr/>
          <p:nvPr/>
        </p:nvSpPr>
        <p:spPr>
          <a:xfrm>
            <a:off x="1057320" y="6324480"/>
            <a:ext cx="68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perceptivetravel.com/issues/1106/maclean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8678520" y="6461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133720"/>
            <a:ext cx="8610480" cy="14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yth #1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ost Muslims are Arabs who live in the Middle Eas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8820000" y="6461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que in Djenne, Mali (West Afric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3" descr="Djenne - the Grande Mosque"/>
          <p:cNvPicPr/>
          <p:nvPr/>
        </p:nvPicPr>
        <p:blipFill>
          <a:blip r:embed="rId1"/>
          <a:stretch/>
        </p:blipFill>
        <p:spPr>
          <a:xfrm>
            <a:off x="1447920" y="144792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4"/>
          <p:cNvSpPr/>
          <p:nvPr/>
        </p:nvSpPr>
        <p:spPr>
          <a:xfrm>
            <a:off x="1981080" y="646128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travelblog.org/Photos/17028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8678520" y="6461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sque in Tempe, Arizo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752760" y="6461280"/>
            <a:ext cx="779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4uth.gov.ua/usa/english/society/muslimlife/mosques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azmos"/>
          <p:cNvPicPr/>
          <p:nvPr/>
        </p:nvPicPr>
        <p:blipFill>
          <a:blip r:embed="rId1"/>
          <a:stretch/>
        </p:blipFill>
        <p:spPr>
          <a:xfrm>
            <a:off x="2743200" y="1219320"/>
            <a:ext cx="3567240" cy="51814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>
            <a:off x="8678520" y="6461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Vocabulary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RAN (or KORAN): Muslim holy boo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8678520" y="6461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Qu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914400" y="6461280"/>
            <a:ext cx="72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minhajsisters.com/home/articles/index.minhaj?id=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2" descr="quran"/>
          <p:cNvPicPr/>
          <p:nvPr/>
        </p:nvPicPr>
        <p:blipFill>
          <a:blip r:embed="rId1"/>
          <a:stretch/>
        </p:blipFill>
        <p:spPr>
          <a:xfrm>
            <a:off x="2590920" y="1447920"/>
            <a:ext cx="3922560" cy="47577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3"/>
          <p:cNvSpPr/>
          <p:nvPr/>
        </p:nvSpPr>
        <p:spPr>
          <a:xfrm>
            <a:off x="8748360" y="6411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lam is an important religion, which shares many beliefs and practices with Christianity and Juda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lims live in many different countries.  Islam is especially widespread in Africa, Asia, and southeastern Europe (the Balkans)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lam has had a great impact on world art and cul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8678520" y="6461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ve 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a Muslim from Egypt and you just moved to the Erwin Distri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bout what it would be like to live in this commun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it be like to go to school 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bout going out to e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and why you think people in the community would react certain w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19320" y="1142640"/>
            <a:ext cx="63244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ality: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f more than 1 billion Muslims worldwide, only about 1/5 are Arabs.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8672400" y="6411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772400" cy="15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o Guess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country has more Muslims than any other country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8764560" y="6461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onesia - with over 200 million Muslims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: The U.S. has about 5 million Muslim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8824680" y="6411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islam_map"/>
          <p:cNvPicPr/>
          <p:nvPr/>
        </p:nvPicPr>
        <p:blipFill>
          <a:blip r:embed="rId1"/>
          <a:stretch/>
        </p:blipFill>
        <p:spPr>
          <a:xfrm>
            <a:off x="1066680" y="380880"/>
            <a:ext cx="7467840" cy="62150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8688240" y="6461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674640" y="6461280"/>
            <a:ext cx="786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skidmore.edu/academics/arthistory/ah369/islam_map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yth #2: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6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uslims have a strange religion and worship a god called Allah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8901000" y="6411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19320" y="6858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ality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uslims are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monotheistic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and worship the same one God as Christians and Jews.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8850240" y="6461280"/>
            <a:ext cx="2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31T01:09:24Z</dcterms:created>
  <dc:creator>Aman Adeli</dc:creator>
  <dc:description/>
  <dc:language>en-US</dc:language>
  <cp:lastModifiedBy>Andrew Wells</cp:lastModifiedBy>
  <dcterms:modified xsi:type="dcterms:W3CDTF">2012-11-08T00:58:24Z</dcterms:modified>
  <cp:revision>31</cp:revision>
  <dc:subject/>
  <dc:title>Calligraphy</dc:title>
</cp:coreProperties>
</file>