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AllahuAkhbaru.wav" ContentType="audio/x-wav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MOSLEM5"/>
          <p:cNvPicPr/>
          <p:nvPr/>
        </p:nvPicPr>
        <p:blipFill>
          <a:blip r:embed="rId2"/>
          <a:stretch/>
        </p:blipFill>
        <p:spPr>
          <a:xfrm>
            <a:off x="228600" y="304920"/>
            <a:ext cx="86364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Line 31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28440">
            <a:solidFill>
              <a:srgbClr val="0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AllahuAkhbaru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_AnOiSdsz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905120" y="15998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A RELIGION, AT TIMES, SPREAD SO QUICKL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514600" y="685800"/>
            <a:ext cx="5334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Five Pillar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of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Islam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365040"/>
            <a:ext cx="6610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ligrapher"/>
              </a:rPr>
              <a:t>HOW TO REMEMBER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alligrapher"/>
              </a:rPr>
              <a:t>THE 5 PILL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9051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er"/>
              </a:rPr>
              <a:t>*Double F… Double P… and C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F - Fa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F – Fa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P -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P - Pilgr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er"/>
              </a:rPr>
              <a:t>C - Ch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olumn"/>
          <p:cNvPicPr/>
          <p:nvPr/>
        </p:nvPicPr>
        <p:blipFill>
          <a:blip r:embed="rId1"/>
          <a:stretch/>
        </p:blipFill>
        <p:spPr>
          <a:xfrm>
            <a:off x="8172360" y="164772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600200" y="304920"/>
            <a:ext cx="7391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1.  Faith -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Shah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08720" y="32479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057400" y="1371600"/>
            <a:ext cx="5715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testimon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declaration of fa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618640" y="2666880"/>
            <a:ext cx="5158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alligrapher"/>
              </a:rPr>
              <a:t>There is no god worthy of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Calligrapher"/>
              </a:rPr>
              <a:t>worship except God, and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Calligrapher"/>
              </a:rPr>
              <a:t>Muhammad is His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Calligrapher"/>
              </a:rPr>
              <a:t>Messenger [or Prophet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Qur'an 48:29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0400" y="4876920"/>
            <a:ext cx="3809880" cy="1611360"/>
          </a:xfrm>
          <a:prstGeom prst="rect">
            <a:avLst/>
          </a:prstGeom>
          <a:ln w="9360">
            <a:solidFill>
              <a:srgbClr val="005800"/>
            </a:solidFill>
            <a:miter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umn"/>
          <p:cNvPicPr/>
          <p:nvPr/>
        </p:nvPicPr>
        <p:blipFill>
          <a:blip r:embed="rId1"/>
          <a:stretch/>
        </p:blipFill>
        <p:spPr>
          <a:xfrm>
            <a:off x="8172360" y="164772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581120" y="160200"/>
            <a:ext cx="7334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2. Fasting - 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Saw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243640" y="32479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00200" y="1143000"/>
            <a:ext cx="655308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sting during the holy mon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Ramad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nsidered a method of self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purif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o eating or drinking from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sunrise to sunset dur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Ramad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Muslim Woman Preparing Foods at Home"/>
          <p:cNvPicPr/>
          <p:nvPr/>
        </p:nvPicPr>
        <p:blipFill>
          <a:blip r:embed="rId2">
            <a:lum contrast="6000"/>
          </a:blip>
          <a:srcRect l="0" t="0" r="0" b="5892"/>
          <a:stretch/>
        </p:blipFill>
        <p:spPr>
          <a:xfrm>
            <a:off x="4618080" y="4724280"/>
            <a:ext cx="29257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286000" y="304920"/>
            <a:ext cx="5867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Eid Mubar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EudUSA_Stamp"/>
          <p:cNvPicPr/>
          <p:nvPr/>
        </p:nvPicPr>
        <p:blipFill>
          <a:blip r:embed="rId1"/>
          <a:stretch/>
        </p:blipFill>
        <p:spPr>
          <a:xfrm>
            <a:off x="3538440" y="1371600"/>
            <a:ext cx="3395880" cy="4343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1447920" y="6033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 of th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amada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lumn"/>
          <p:cNvPicPr/>
          <p:nvPr/>
        </p:nvPicPr>
        <p:blipFill>
          <a:blip r:embed="rId1"/>
          <a:stretch/>
        </p:blipFill>
        <p:spPr>
          <a:xfrm>
            <a:off x="8248680" y="137160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600200" y="304920"/>
            <a:ext cx="7162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3. Prayer -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Sal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308800" y="29718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47920" y="1219320"/>
            <a:ext cx="70866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mandatory praye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performed 5 times a day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daw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no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late afterno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 *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unse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 *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efore going to b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sh before pray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ce Mecca and use a prayer ru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lumn"/>
          <p:cNvPicPr/>
          <p:nvPr/>
        </p:nvPicPr>
        <p:blipFill>
          <a:blip r:embed="rId1"/>
          <a:stretch/>
        </p:blipFill>
        <p:spPr>
          <a:xfrm>
            <a:off x="8248680" y="137160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86000" y="304920"/>
            <a:ext cx="5867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3. 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Sal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308800" y="29718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676520" y="1371600"/>
            <a:ext cx="647676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call to prayer by th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muezzi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in the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minare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ay in the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mosqu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n Fri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Muslims in Mosque praying"/>
          <p:cNvPicPr/>
          <p:nvPr/>
        </p:nvPicPr>
        <p:blipFill>
          <a:blip r:embed="rId2"/>
          <a:stretch/>
        </p:blipFill>
        <p:spPr>
          <a:xfrm>
            <a:off x="1752480" y="3809880"/>
            <a:ext cx="358164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13" descr="10291558"/>
          <p:cNvPicPr/>
          <p:nvPr/>
        </p:nvPicPr>
        <p:blipFill>
          <a:blip r:embed="rId3">
            <a:lum contrast="6000"/>
          </a:blip>
          <a:srcRect l="0" t="0" r="17663" b="0"/>
          <a:stretch/>
        </p:blipFill>
        <p:spPr>
          <a:xfrm>
            <a:off x="5638680" y="3505320"/>
            <a:ext cx="236232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llahuAkhbar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olumn"/>
          <p:cNvPicPr/>
          <p:nvPr/>
        </p:nvPicPr>
        <p:blipFill>
          <a:blip r:embed="rId1"/>
          <a:stretch/>
        </p:blipFill>
        <p:spPr>
          <a:xfrm>
            <a:off x="8172360" y="164772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523880" y="228600"/>
            <a:ext cx="7391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4. Pilgrimage -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Haj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227800" y="32479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523880" y="1219320"/>
            <a:ext cx="662940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ilgrimage to Mecc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st be done at least once in a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uslim’s life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3 million Muslims make th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pilgrimag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every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Kaabah-2"/>
          <p:cNvPicPr/>
          <p:nvPr/>
        </p:nvPicPr>
        <p:blipFill>
          <a:blip r:embed="rId2"/>
          <a:stretch/>
        </p:blipFill>
        <p:spPr>
          <a:xfrm>
            <a:off x="4343400" y="3886200"/>
            <a:ext cx="3581280" cy="265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olumn"/>
          <p:cNvPicPr/>
          <p:nvPr/>
        </p:nvPicPr>
        <p:blipFill>
          <a:blip r:embed="rId1"/>
          <a:stretch/>
        </p:blipFill>
        <p:spPr>
          <a:xfrm>
            <a:off x="8172360" y="164772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438280" y="304920"/>
            <a:ext cx="5639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5. 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Haj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227800" y="32479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600200" y="1554120"/>
            <a:ext cx="6553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ose who complete th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pilgrimage can add the tit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hajji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 their n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_3b"/>
          <p:cNvPicPr/>
          <p:nvPr/>
        </p:nvPicPr>
        <p:blipFill>
          <a:blip r:embed="rId2"/>
          <a:stretch/>
        </p:blipFill>
        <p:spPr>
          <a:xfrm>
            <a:off x="5486400" y="3429000"/>
            <a:ext cx="2406600" cy="25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7" descr="hajj-pilgrims-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523880" y="365760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olumn"/>
          <p:cNvPicPr/>
          <p:nvPr/>
        </p:nvPicPr>
        <p:blipFill>
          <a:blip r:embed="rId1"/>
          <a:stretch/>
        </p:blipFill>
        <p:spPr>
          <a:xfrm>
            <a:off x="8172360" y="172404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523880" y="152280"/>
            <a:ext cx="7315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5. Charity -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Zak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18440" y="33242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523880" y="990720"/>
            <a:ext cx="65534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lmsgiving (charitabl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donatio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slims believe that all thing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belong to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Zakat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ans both “purification”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and “growth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bout 2.5% of your inc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rab paper money"/>
          <p:cNvPicPr/>
          <p:nvPr/>
        </p:nvPicPr>
        <p:blipFill>
          <a:blip r:embed="rId2">
            <a:lum contrast="6000"/>
          </a:blip>
          <a:srcRect l="0" t="0" r="0" b="50414"/>
          <a:stretch/>
        </p:blipFill>
        <p:spPr>
          <a:xfrm>
            <a:off x="2587680" y="5181480"/>
            <a:ext cx="2692440" cy="13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Picture 7" descr="UAE dinar"/>
          <p:cNvPicPr/>
          <p:nvPr/>
        </p:nvPicPr>
        <p:blipFill>
          <a:blip r:embed="rId3"/>
          <a:stretch/>
        </p:blipFill>
        <p:spPr>
          <a:xfrm>
            <a:off x="6016680" y="5257800"/>
            <a:ext cx="1146240" cy="11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819520" y="762120"/>
            <a:ext cx="46479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ISLAM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Submiss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to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Will of Alla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38280" y="5568840"/>
            <a:ext cx="5486400" cy="46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50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WHAT ARE THE 5 PILLARS OF ISL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828800" y="1828800"/>
            <a:ext cx="66866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 - 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 - 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- 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- 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 - 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olumn"/>
          <p:cNvPicPr/>
          <p:nvPr/>
        </p:nvPicPr>
        <p:blipFill>
          <a:blip r:embed="rId1"/>
          <a:stretch/>
        </p:blipFill>
        <p:spPr>
          <a:xfrm>
            <a:off x="2590920" y="2409840"/>
            <a:ext cx="514080" cy="4067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276200" y="104760"/>
            <a:ext cx="754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ligrapher"/>
              </a:rPr>
              <a:t>The </a:t>
            </a:r>
            <a:r>
              <a:rPr b="1" i="1" lang="en-US" sz="3600" spc="-1" strike="noStrike">
                <a:solidFill>
                  <a:srgbClr val="006600"/>
                </a:solidFill>
                <a:latin typeface="Calligrapher"/>
              </a:rPr>
              <a:t>Dar al-Islam – The Land of 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626920" y="40100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column"/>
          <p:cNvPicPr/>
          <p:nvPr/>
        </p:nvPicPr>
        <p:blipFill>
          <a:blip r:embed="rId2"/>
          <a:stretch/>
        </p:blipFill>
        <p:spPr>
          <a:xfrm>
            <a:off x="3828960" y="240984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89080" y="40100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column"/>
          <p:cNvPicPr/>
          <p:nvPr/>
        </p:nvPicPr>
        <p:blipFill>
          <a:blip r:embed="rId3"/>
          <a:stretch/>
        </p:blipFill>
        <p:spPr>
          <a:xfrm>
            <a:off x="4971960" y="240984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5018040" y="40100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column"/>
          <p:cNvPicPr/>
          <p:nvPr/>
        </p:nvPicPr>
        <p:blipFill>
          <a:blip r:embed="rId4"/>
          <a:stretch/>
        </p:blipFill>
        <p:spPr>
          <a:xfrm>
            <a:off x="6191280" y="240984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6262560" y="40100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column"/>
          <p:cNvPicPr/>
          <p:nvPr/>
        </p:nvPicPr>
        <p:blipFill>
          <a:blip r:embed="rId5"/>
          <a:stretch/>
        </p:blipFill>
        <p:spPr>
          <a:xfrm>
            <a:off x="7334280" y="2409840"/>
            <a:ext cx="514440" cy="4067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7389720" y="40100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ligrapher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666880" y="1295280"/>
            <a:ext cx="5029200" cy="121932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809880" y="1600200"/>
            <a:ext cx="2743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800"/>
                </a:solidFill>
                <a:latin typeface="Calligrapher"/>
              </a:rPr>
              <a:t>The World</a:t>
            </a:r>
            <a:br>
              <a:rPr sz="2400"/>
            </a:br>
            <a:r>
              <a:rPr b="1" i="1" lang="en-US" sz="2400" spc="-1" strike="noStrike">
                <a:solidFill>
                  <a:srgbClr val="007800"/>
                </a:solidFill>
                <a:latin typeface="Calligrapher"/>
              </a:rPr>
              <a:t>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752480" y="228600"/>
            <a:ext cx="6934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ligrapher"/>
              </a:rPr>
              <a:t>The Mos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676520" y="1143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Muslim place of w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artsOfMosque"/>
          <p:cNvPicPr/>
          <p:nvPr/>
        </p:nvPicPr>
        <p:blipFill>
          <a:blip r:embed="rId1"/>
          <a:stretch/>
        </p:blipFill>
        <p:spPr>
          <a:xfrm>
            <a:off x="2590920" y="1905120"/>
            <a:ext cx="5029200" cy="46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228600"/>
            <a:ext cx="6934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ligrapher"/>
              </a:rPr>
              <a:t>The Dome of the Rock Mosque in Jerusa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447920" y="54100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Mount Moriah Rock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Muhammad ascended into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Dome of the Rock, Jerusalem"/>
          <p:cNvPicPr/>
          <p:nvPr/>
        </p:nvPicPr>
        <p:blipFill>
          <a:blip r:embed="rId1"/>
          <a:srcRect l="0" t="0" r="0" b="3927"/>
          <a:stretch/>
        </p:blipFill>
        <p:spPr>
          <a:xfrm>
            <a:off x="1600200" y="1905120"/>
            <a:ext cx="32004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Picture 6" descr="Mount_Moriah_rock"/>
          <p:cNvPicPr/>
          <p:nvPr/>
        </p:nvPicPr>
        <p:blipFill>
          <a:blip r:embed="rId2"/>
          <a:stretch/>
        </p:blipFill>
        <p:spPr>
          <a:xfrm>
            <a:off x="5111640" y="2670120"/>
            <a:ext cx="380376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752480" y="228600"/>
            <a:ext cx="6934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ligrapher"/>
              </a:rPr>
              <a:t>Other Islamic Religious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76520" y="2011320"/>
            <a:ext cx="70866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Up to four wives allowed at o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o alcohol or p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o gambl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Sharia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body of Islamic law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       regulate daily li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ree holiest cities in Islam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Mecca, Medina, Jerusa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4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752480" y="380880"/>
            <a:ext cx="69343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Essential Ques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905120" y="1676520"/>
            <a:ext cx="66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Why was Islam able to spread so quickly and convert so many to the new relig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752480" y="152280"/>
            <a:ext cx="6934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ligrapher"/>
              </a:rPr>
              <a:t>The Spread of 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676520" y="982800"/>
            <a:ext cx="7086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sy to learn and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priest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es e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Muslims, who were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“Peoples of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   the Book,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ere allowed religiou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freedom, but paid additional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sily “portable”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mads &amp; tra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ro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Jihad</a:t>
            </a:r>
            <a:r>
              <a:rPr b="1" i="1" lang="en-US" sz="2800" spc="-1" strike="noStrike">
                <a:solidFill>
                  <a:srgbClr val="0078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“Holy War”) against paga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and other non-believers (“infidels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752480" y="152280"/>
            <a:ext cx="6934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Muslims in the World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map-World Religions-1"/>
          <p:cNvPicPr/>
          <p:nvPr/>
        </p:nvPicPr>
        <p:blipFill>
          <a:blip r:embed="rId1"/>
          <a:srcRect l="0" t="2546" r="0" b="2682"/>
          <a:stretch/>
        </p:blipFill>
        <p:spPr>
          <a:xfrm>
            <a:off x="1600200" y="190512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371600" y="272880"/>
            <a:ext cx="7696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Countries with the Largest Muslim Pop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482920"/>
          <a:ext cx="7391520" cy="1859040"/>
        </p:xfrm>
        <a:graphic>
          <a:graphicData uri="http://schemas.openxmlformats.org/drawingml/2006/table">
            <a:tbl>
              <a:tblPr/>
              <a:tblGrid>
                <a:gridCol w="476280"/>
                <a:gridCol w="1484280"/>
                <a:gridCol w="1544760"/>
                <a:gridCol w="1143000"/>
                <a:gridCol w="1219320"/>
                <a:gridCol w="152388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3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4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y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g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nglad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oc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150"/>
          <p:cNvSpPr/>
          <p:nvPr/>
        </p:nvSpPr>
        <p:spPr>
          <a:xfrm>
            <a:off x="1447920" y="5073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abs make up only 20% of the total Muslim population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Ethnicity_of_Muslims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990720"/>
            <a:ext cx="739152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286000" y="914400"/>
            <a:ext cx="5334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Th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Judeo-Christi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Foundation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of Islam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Ethnicity_of_Converts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1143000"/>
            <a:ext cx="72388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Number_of_Mosques_Founded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1066680"/>
            <a:ext cx="72388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76520" y="228600"/>
            <a:ext cx="70866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Islam</a:t>
            </a:r>
            <a:r>
              <a:rPr b="1" lang="en-US" sz="48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An Abrahamic 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828800" y="1905120"/>
            <a:ext cx="678168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slims are strict monothe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y believe in the Judeo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Christian God, which they call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000" spc="-1" strike="noStrike">
                <a:solidFill>
                  <a:srgbClr val="0078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Allah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slims believe that th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Tora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and th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Bibl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 like the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Qur’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is the word of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905120" y="59738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Peoples of the 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5410080" y="5638680"/>
            <a:ext cx="0" cy="3812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0"/>
          <p:cNvSpPr/>
          <p:nvPr/>
        </p:nvSpPr>
        <p:spPr>
          <a:xfrm>
            <a:off x="1523880" y="1600200"/>
            <a:ext cx="7391520" cy="4191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600200" y="304920"/>
            <a:ext cx="7162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Abraham’s Genea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4114800" y="1905120"/>
            <a:ext cx="228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ABRA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4"/>
          <p:cNvSpPr/>
          <p:nvPr/>
        </p:nvSpPr>
        <p:spPr>
          <a:xfrm>
            <a:off x="632448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5"/>
          <p:cNvSpPr/>
          <p:nvPr/>
        </p:nvSpPr>
        <p:spPr>
          <a:xfrm>
            <a:off x="632448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6"/>
          <p:cNvSpPr/>
          <p:nvPr/>
        </p:nvSpPr>
        <p:spPr>
          <a:xfrm>
            <a:off x="297180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7"/>
          <p:cNvSpPr/>
          <p:nvPr/>
        </p:nvSpPr>
        <p:spPr>
          <a:xfrm>
            <a:off x="297180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8"/>
          <p:cNvSpPr/>
          <p:nvPr/>
        </p:nvSpPr>
        <p:spPr>
          <a:xfrm>
            <a:off x="73915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9"/>
          <p:cNvSpPr/>
          <p:nvPr/>
        </p:nvSpPr>
        <p:spPr>
          <a:xfrm>
            <a:off x="14479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H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0"/>
          <p:cNvSpPr/>
          <p:nvPr/>
        </p:nvSpPr>
        <p:spPr>
          <a:xfrm>
            <a:off x="693432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1"/>
          <p:cNvSpPr/>
          <p:nvPr/>
        </p:nvSpPr>
        <p:spPr>
          <a:xfrm>
            <a:off x="6172200" y="28195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Isa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2"/>
          <p:cNvSpPr/>
          <p:nvPr/>
        </p:nvSpPr>
        <p:spPr>
          <a:xfrm>
            <a:off x="6934320" y="3276720"/>
            <a:ext cx="0" cy="5331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3"/>
          <p:cNvSpPr/>
          <p:nvPr/>
        </p:nvSpPr>
        <p:spPr>
          <a:xfrm>
            <a:off x="6172200" y="3809880"/>
            <a:ext cx="152388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4"/>
          <p:cNvSpPr/>
          <p:nvPr/>
        </p:nvSpPr>
        <p:spPr>
          <a:xfrm>
            <a:off x="617220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5"/>
          <p:cNvSpPr/>
          <p:nvPr/>
        </p:nvSpPr>
        <p:spPr>
          <a:xfrm>
            <a:off x="769608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6"/>
          <p:cNvSpPr/>
          <p:nvPr/>
        </p:nvSpPr>
        <p:spPr>
          <a:xfrm>
            <a:off x="69343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E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7"/>
          <p:cNvSpPr/>
          <p:nvPr/>
        </p:nvSpPr>
        <p:spPr>
          <a:xfrm>
            <a:off x="53341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J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8"/>
          <p:cNvSpPr/>
          <p:nvPr/>
        </p:nvSpPr>
        <p:spPr>
          <a:xfrm>
            <a:off x="4876920" y="487692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9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0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1"/>
          <p:cNvSpPr/>
          <p:nvPr/>
        </p:nvSpPr>
        <p:spPr>
          <a:xfrm>
            <a:off x="5334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2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3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4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5"/>
          <p:cNvSpPr/>
          <p:nvPr/>
        </p:nvSpPr>
        <p:spPr>
          <a:xfrm>
            <a:off x="6248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6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7"/>
          <p:cNvSpPr/>
          <p:nvPr/>
        </p:nvSpPr>
        <p:spPr>
          <a:xfrm>
            <a:off x="6705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8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9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0"/>
          <p:cNvSpPr/>
          <p:nvPr/>
        </p:nvSpPr>
        <p:spPr>
          <a:xfrm>
            <a:off x="7391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1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2"/>
          <p:cNvSpPr/>
          <p:nvPr/>
        </p:nvSpPr>
        <p:spPr>
          <a:xfrm>
            <a:off x="4648320" y="519588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12 Tribes of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3"/>
          <p:cNvSpPr/>
          <p:nvPr/>
        </p:nvSpPr>
        <p:spPr>
          <a:xfrm>
            <a:off x="358128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"/>
          <p:cNvSpPr/>
          <p:nvPr/>
        </p:nvSpPr>
        <p:spPr>
          <a:xfrm>
            <a:off x="2743200" y="2819520"/>
            <a:ext cx="1600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Ishm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5"/>
          <p:cNvSpPr/>
          <p:nvPr/>
        </p:nvSpPr>
        <p:spPr>
          <a:xfrm>
            <a:off x="2438280" y="365760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6"/>
          <p:cNvSpPr/>
          <p:nvPr/>
        </p:nvSpPr>
        <p:spPr>
          <a:xfrm>
            <a:off x="2438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7"/>
          <p:cNvSpPr/>
          <p:nvPr/>
        </p:nvSpPr>
        <p:spPr>
          <a:xfrm>
            <a:off x="2666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8"/>
          <p:cNvSpPr/>
          <p:nvPr/>
        </p:nvSpPr>
        <p:spPr>
          <a:xfrm>
            <a:off x="2895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9"/>
          <p:cNvSpPr/>
          <p:nvPr/>
        </p:nvSpPr>
        <p:spPr>
          <a:xfrm>
            <a:off x="3124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0"/>
          <p:cNvSpPr/>
          <p:nvPr/>
        </p:nvSpPr>
        <p:spPr>
          <a:xfrm>
            <a:off x="3352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"/>
          <p:cNvSpPr/>
          <p:nvPr/>
        </p:nvSpPr>
        <p:spPr>
          <a:xfrm>
            <a:off x="3581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2"/>
          <p:cNvSpPr/>
          <p:nvPr/>
        </p:nvSpPr>
        <p:spPr>
          <a:xfrm>
            <a:off x="3809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3"/>
          <p:cNvSpPr/>
          <p:nvPr/>
        </p:nvSpPr>
        <p:spPr>
          <a:xfrm>
            <a:off x="4038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4"/>
          <p:cNvSpPr/>
          <p:nvPr/>
        </p:nvSpPr>
        <p:spPr>
          <a:xfrm>
            <a:off x="4267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5"/>
          <p:cNvSpPr/>
          <p:nvPr/>
        </p:nvSpPr>
        <p:spPr>
          <a:xfrm>
            <a:off x="4495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6"/>
          <p:cNvSpPr/>
          <p:nvPr/>
        </p:nvSpPr>
        <p:spPr>
          <a:xfrm>
            <a:off x="4724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7"/>
          <p:cNvSpPr/>
          <p:nvPr/>
        </p:nvSpPr>
        <p:spPr>
          <a:xfrm>
            <a:off x="4951440" y="3649680"/>
            <a:ext cx="144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8"/>
          <p:cNvSpPr/>
          <p:nvPr/>
        </p:nvSpPr>
        <p:spPr>
          <a:xfrm>
            <a:off x="3581280" y="334476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9"/>
          <p:cNvSpPr/>
          <p:nvPr/>
        </p:nvSpPr>
        <p:spPr>
          <a:xfrm>
            <a:off x="2209680" y="396252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12 Arabia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352680" y="5985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The 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1828800" y="318960"/>
            <a:ext cx="6781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The Prophetic Tra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048120" y="1523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048120" y="2316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048120" y="3154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ra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048120" y="3992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048120" y="48308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048120" y="566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Comic Sans MS"/>
              </a:rPr>
              <a:t>Muham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9528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9528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4952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9528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952880" y="5410080"/>
            <a:ext cx="0" cy="381240"/>
          </a:xfrm>
          <a:prstGeom prst="line">
            <a:avLst/>
          </a:prstGeom>
          <a:ln w="9360">
            <a:solidFill>
              <a:srgbClr val="0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514600" y="914400"/>
            <a:ext cx="52578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The Qur'an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God's Las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Calligrapher"/>
              </a:rPr>
              <a:t>Revel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Calligrapher"/>
              <a:ea typeface="Calligrap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04920"/>
            <a:ext cx="7543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The Origins of 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Qur’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3880" y="1371600"/>
            <a:ext cx="74678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hammad received his firs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revelation from the angel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Gabriel in the </a:t>
            </a:r>
            <a:r>
              <a:rPr b="1" lang="en-US" sz="3000" spc="-1" strike="noStrike">
                <a:solidFill>
                  <a:srgbClr val="007800"/>
                </a:solidFill>
                <a:latin typeface="Comic Sans MS"/>
              </a:rPr>
              <a:t>Cave of Hira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in 6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22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000" spc="-1" strike="noStrike">
                <a:solidFill>
                  <a:srgbClr val="0078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Hijrah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Muhamme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flees Mecca for Medina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beginning of th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   Muslim calendar (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1 A.H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hammad’s revelations wer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compiled into th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Qur’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aft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his dea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152280"/>
            <a:ext cx="70866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ligrapher"/>
              </a:rPr>
              <a:t>The </a:t>
            </a:r>
            <a:r>
              <a:rPr b="1" i="1" lang="en-US" sz="4800" spc="-1" strike="noStrike">
                <a:solidFill>
                  <a:srgbClr val="006600"/>
                </a:solidFill>
                <a:latin typeface="Calligrapher"/>
              </a:rPr>
              <a:t>Qur’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47920" y="1066680"/>
            <a:ext cx="746748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uslims believe it contains th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word of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14 </a:t>
            </a:r>
            <a:r>
              <a:rPr b="1" i="1" lang="en-US" sz="3000" spc="-1" strike="noStrike">
                <a:solidFill>
                  <a:srgbClr val="cc3300"/>
                </a:solidFill>
                <a:latin typeface="Comic Sans MS"/>
              </a:rPr>
              <a:t>sura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(chapter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400" spc="-1" strike="noStrike">
                <a:solidFill>
                  <a:srgbClr val="007800"/>
                </a:solidFill>
                <a:latin typeface="Calligrapher"/>
              </a:rPr>
              <a:t>In the name of Allah, </a:t>
            </a:r>
            <a:br>
              <a:rPr sz="3400"/>
            </a:br>
            <a:r>
              <a:rPr b="1" i="1" lang="en-US" sz="3400" spc="-1" strike="noStrike">
                <a:solidFill>
                  <a:srgbClr val="007800"/>
                </a:solidFill>
                <a:latin typeface="Calligrapher"/>
              </a:rPr>
              <a:t>   the compassionate, </a:t>
            </a:r>
            <a:br>
              <a:rPr sz="3400"/>
            </a:br>
            <a:r>
              <a:rPr b="1" i="1" lang="en-US" sz="3400" spc="-1" strike="noStrike">
                <a:solidFill>
                  <a:srgbClr val="007800"/>
                </a:solidFill>
                <a:latin typeface="Calligrapher"/>
              </a:rPr>
              <a:t>   the mercifu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a200"/>
              </a:buClr>
              <a:buSzPct val="80000"/>
              <a:buFont typeface="Wing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8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ritte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in Arab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lluminatedQuran-2"/>
          <p:cNvPicPr/>
          <p:nvPr/>
        </p:nvPicPr>
        <p:blipFill>
          <a:blip r:embed="rId1">
            <a:lum contrast="6000"/>
          </a:blip>
          <a:srcRect l="4574" t="6057" r="13137" b="6057"/>
          <a:stretch/>
        </p:blipFill>
        <p:spPr>
          <a:xfrm>
            <a:off x="6781680" y="2057400"/>
            <a:ext cx="203544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5" descr="QuranPages"/>
          <p:cNvPicPr/>
          <p:nvPr/>
        </p:nvPicPr>
        <p:blipFill>
          <a:blip r:embed="rId2">
            <a:lum contrast="12000"/>
          </a:blip>
          <a:srcRect l="5432" t="5043" r="5432" b="5043"/>
          <a:stretch/>
        </p:blipFill>
        <p:spPr>
          <a:xfrm>
            <a:off x="4572000" y="4572000"/>
            <a:ext cx="19051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5:39:53Z</dcterms:created>
  <dc:creator>Susan M. Pojer</dc:creator>
  <dc:description/>
  <dc:language>en-US</dc:language>
  <cp:lastModifiedBy>Katherine Silver</cp:lastModifiedBy>
  <cp:lastPrinted>2016-10-06T12:04:44Z</cp:lastPrinted>
  <dcterms:modified xsi:type="dcterms:W3CDTF">2016-10-06T18:09:29Z</dcterms:modified>
  <cp:revision>92</cp:revision>
  <dc:subject/>
  <dc:title>Islam-Submission to Allah</dc:title>
</cp:coreProperties>
</file>