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42A4C-9C4D-4866-9108-74B5AAB6B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31FDE-2A0F-446D-A7BD-40F95CB01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63DDA23-4769-44C7-8367-F72EEE92578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EAC2984-787B-4EE4-B57F-60A0A1BC83A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3F1648F-45FE-48EB-8281-A84E443716A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E796193-74ED-4009-88D9-8304849A960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5336E0-EB4A-4474-9AD6-06D5EBE39EB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EF57C3-0894-488E-AA01-2502502A31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96C34AB-CB14-4B14-9D09-C98579BD2FB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FFD6347-B3E5-4CEB-912F-E22A2DDF19C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EAD0D3D-1191-48E9-9249-53F6D85EE60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4DA8D45-29A1-4FB2-A7AF-F6B6455023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CC214-0295-4DF1-84D3-05C4B2692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5652655-2259-4915-A65B-9CB1034EA7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678233F-C40C-4C63-B061-DF48EEF7C8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DF2B98C-FCF8-4556-A401-BA730CBD4A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ACD779B-F285-41DD-B19C-A91B3880AB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9343747-9E0D-4DC8-87EC-F006328B16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62EE196-5B9B-4ADB-895D-064BA3BD7D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1A16D97-2ADA-4EDC-BFEB-CB6177B0B8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378E1AF-6583-46B9-88D6-561ABE0233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2C518EC-D03D-4C60-B3DC-915DCE3E2A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AA9A17C-4668-438C-B28B-AF0E72136A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38859-3530-4118-81B5-ECF91F94B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B540BCD-809C-41C8-BA51-2E5FDBE245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608F11-489D-4E96-9B04-8A37C9EC7A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DE29D7-CFDC-404C-9401-5F61F22283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12C4DC-7250-411E-AB16-AE566DD154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9E3234-7434-4960-872A-467E4F2003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6104EA-0387-43CD-8CE1-3136C85413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10696E-7F54-4A7F-9820-CD626A10B5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D38564-F0AC-4AAB-AAEF-AAE70632D8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5AC849-D0B9-47B5-AD5E-B894AA533C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7B02FD-6513-40BF-917E-E2F8104D81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DEDB4-B3B8-4632-93D8-AAD5A7259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ABC2EF-FA47-45C7-9994-FB781C2330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ED1004-C429-4CA8-995D-3CA8F5AC57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A7E025-ADE2-4EEB-8631-3CD4A95C6A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ACEED51-C591-4888-856B-5E99596B36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2C310CC-78C7-4390-9C3E-C39C3768D6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8FCABFA-833D-4F91-A185-F5AD8BA119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6C22759-6AEA-4A98-9B46-B1EAEA8E3E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C7DBC63-0D42-48C4-987F-0430E155AB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058B7DD-D3B2-4CCE-93C6-2C49CB026F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403AEE-FB90-4142-AB4F-B50C79CBB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7CB8C-C097-4579-A227-33F32C233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682AE32-C7D3-419F-86C8-E7B2E66AC2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F68A662-9E49-43A8-BCED-C81BA6B905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AD105E4-438B-41EB-A3C1-4A2ED79E23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CD92191-C6DF-4334-B244-76E10346E5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57706F8-DD47-4AA8-A585-1F38216990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E8F08-45FC-44DA-90C8-A353238D4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FCA3D-3EA4-4024-A821-E0B8A5A02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4E5A8-05DB-49FF-AEA9-D132E07D4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0F88D-04C9-493C-9D5B-796C44AFC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31A6F-3F2B-4AC9-8547-F3BF8B871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DA2EE-CFA5-4023-839D-D862C1C88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8EA24-AF81-410C-B6C5-B877D4EA7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B4C98-7B3B-4135-9246-005FEAADD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9777A-94A5-406E-92DB-3E63E31E7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B31F2-F4FA-4982-BEC0-60D41655C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A9319-5312-4974-AD10-5BAFB6216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5CC604-55C7-4AEE-9DF1-3E414CFD30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5595FE-9D33-46F5-B686-6AAF6490A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66095F-2ECA-4CDE-8D71-00C3D83AB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54CE0-F569-4EA3-A526-AABE3FD3F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CFA53-BC02-4243-89D4-2082BD939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7F547-E3A5-4BA0-96DF-DF0F75A8E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D4774-FF59-4E3B-871F-9008820C3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4A163-7EA2-4C3F-BE08-37FF423C2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9FD3A-829B-41D0-93B9-E7061A9EE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E307E-F9FE-4A86-8EF6-4E7A3F71E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B12E2F-A175-4A2A-BB7A-49ED2CA99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80744F-50C7-42B5-B3D9-DE2E46790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4FC24E-694E-428B-8C87-1174ED134E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F7619E6-AEE0-4B78-AA28-B45500DC0D7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B1DF4D7-23D6-4619-9F7E-2196D4E9F52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FB33D90-C9A9-42E0-9412-3D4314838B4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F21CD-0EF7-4A3E-8DC8-459F33F5C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704EAE7-F61B-4380-95BA-6712AC9F3B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6769DFA-5C38-47E2-89AA-337CAEC125D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1171867-08A2-4A80-88D7-4CBDE068B44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2BCA875-E891-4E26-92D2-5276B8AF48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F67512D-729F-4339-A822-8CA8CB7038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EB6DC97-C971-4C66-80FC-55F2B2842D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7A3830A-DD6A-474C-A6DA-F7E3379992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B90430E-2BD3-4081-B424-EA2125B3085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F7B69D9-4981-4186-B535-111F6B76B34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656498-C9BB-4546-9621-515781F9CC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0616A-774F-41D0-AEFA-FDAA4FC33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BCF46-8BD5-4725-80B0-F01F45037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03F4B-021C-4DF9-B14D-537D6B2927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95069-DE11-4195-AC48-634FD3F27A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26947A-CF9D-4E37-8D7B-7C24C7B3C2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8264E-94AD-4051-AC9D-167528E4BC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D60B7-471C-4416-982A-134F7202F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E121E-B9FA-4EA3-84AF-A33049C4A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21D76-8608-4E27-920F-974CA2A9F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1E9F9A-39C2-4F49-817F-0BF8868BED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E6152A-C49A-455D-A75D-3B4482D1D4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B9946-62B8-4660-8AB7-64B9B511F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A77051-0F41-4FF7-B867-583560E062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06F641-42F2-4429-8180-F50A6F0C34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CED565-6C15-44A1-8901-A9A38DDC0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EFD45E-1CBE-4A17-9448-4D48944D77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7168B-8E39-4248-A21E-D44DB146B2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4B476E-499E-42D5-BEF8-5CD8605B9D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09D9D-A19E-41B1-8F08-AD0548DBF6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9FAE1-B2DA-4653-A645-E445C6DA7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23B4E-FFFE-4531-829D-55AD6300F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D2A74-AD15-4DBA-9046-F718A5601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17832-EF75-4110-9071-AB513FAA7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CB99A-379F-44FD-A06F-E1EC41C62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5AD06B-5B08-4EB3-B21E-895DB6BA1E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0F8051-EB2F-415D-B954-626398C49D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B20E91-04B0-4ADB-9932-05AB7C3B38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7D23B8-E6A5-44B5-97E7-C33173471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F1651-4E52-44EB-A795-7A97A785F0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BAC259-19EB-48CB-9EB1-5DAFE69BF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4B37DC-A0DF-4A7D-A73A-5AC30565FD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699622-6725-49EE-985C-A35B36E4A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2B8A3-7A04-466B-8727-D1660F809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8B96E-B33E-4633-B559-7AFA813B2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D4559-EB45-4CD8-B165-5E52CAF34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ABBFD-06F1-4C04-BA10-6A11433CF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6B1CD8-7228-46F6-8A86-4CA72F986A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7E70E1-830C-43CF-8CFE-700A5BE808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76EA7F-1ED0-4E28-8783-8F6A7679DC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293DBD-4B77-4263-B483-0359579783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FDE08F-735E-47EE-823A-D8FDC29013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7564A3-77DB-4236-982C-56EED43CEE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28C98F-7D05-41DE-B2CA-4AC9DFD38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E6979-674F-4D63-9D5F-A147183D1C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1B187-BBCE-41BF-875D-28FC76A1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7454BE-9150-45A2-9F16-96B442CE76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6FCDD-01A7-4ECA-8BA8-3C9414214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3082FA-1937-4E19-BB0F-25BC371341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2440EC-A3DD-4C3A-8A9F-06D4CA68F1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C88763-69E0-476E-8E16-2BD5B2D5F8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D5B390-3D0F-475F-9581-00ADDDFD9E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7C9687-4F47-4617-AABF-6FCDD2399D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E77F20C-4E78-426E-AAAB-F53E77F1CB9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0C29FCF-C664-485C-8775-0909F45B4D9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868712B-783A-4E94-BD5D-E0EBDBF5FB2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AE3C9-CA02-413A-B5CA-33449991ABF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D2A25-A45A-4029-8ADA-0D448948BB0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AD2F1-93FB-4415-90A0-6923C576EE0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497A9-8542-4F40-A19F-33CA0B69C7D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83C3E-E6D1-4DF2-A8F1-401A8D6B4B0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C9991-0889-4BAE-B5CB-B43864EC327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77FA2-534F-4820-98B2-BA7A62C3646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D800B-91A2-4E06-9B0C-F33A07441A0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D4FBB-B022-49E2-831F-54EF86344F4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E08D3-CDA2-4311-B1D2-5AAC976EB44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23FB5-D7EC-4263-BA3D-F8C8EC08C91F}"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31A2F-3335-4E20-9D00-CDB50A471CD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oDALXORbtR4"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file:///Video%20Clip%20-%20Hammurabi&apos;s%20Code%20-%20influences%20today"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826920" y="37620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6349"/>
                </a:solidFill>
                <a:latin typeface="Georgia"/>
              </a:rPr>
              <a:t>Do Now</a:t>
            </a:r>
            <a:endParaRPr b="0" lang="en-US" sz="5400" spc="-1" strike="noStrike">
              <a:solidFill>
                <a:srgbClr val="7b9899"/>
              </a:solidFill>
              <a:latin typeface="Georgia"/>
            </a:endParaRPr>
          </a:p>
        </p:txBody>
      </p:sp>
      <p:sp>
        <p:nvSpPr>
          <p:cNvPr id="607" name="TextBox 4"/>
          <p:cNvSpPr/>
          <p:nvPr/>
        </p:nvSpPr>
        <p:spPr>
          <a:xfrm>
            <a:off x="1633680" y="2565360"/>
            <a:ext cx="60465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Georgia"/>
              </a:rPr>
              <a:t>Why does a society need laws? </a:t>
            </a: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Georgia"/>
              </a:rPr>
              <a:t>Describe a world without laws as part of your answ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10</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sister of god" (nun) who is not living in a convent opens a wine shop or enters a wine shop for a drink, they shall burn that woma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happens if a man is unable to pay his deb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17</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man be in debt and is unable to pay his creditors, he shall sell his wife, son, or daughter, or bind them over to service. For three years they shall work in the houses of their purchaser or master; in the fourth year they shall be given their freedom.</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happens to the wine seller who fails to arrest bad characters gathered at her shop?</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09 </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bad characters gather in the house of a wine seller and she does not arrest those characters and bring them to the palace, that wine seller shall be put to deat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about a wife who ignores her duties and belittles her husban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43 </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woman has not been careful but has gadded about, neglecting her house and belittling her husband, they shall throw that woman into the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4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if a son is adopted and then the birth-parents want him bac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85 </a:t>
            </a:r>
            <a:endParaRPr b="0" lang="en-US" sz="33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man takes in his own home a young boy as a son and rears him, one may not bring claim for that adopted s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happen to a boy who slaps his fath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aws</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Code of Hammurab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95 </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son strike his father, his hands shall be hewn off.</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is the truth determined when one man brings an accusation against anoth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2</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ny one bring an accusation against a man, and the accused go to the river and leap into the river, if he sink in the river his accuser shall take possession of his house. But if the river prove that the accused is not guilty, and he escape unhurt, then he who had brought the accusation shall be put to death, while he who leaped into the river shall take possession of the house that had belonged to his accus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de of Hammurabi Activity </a:t>
            </a:r>
            <a:endParaRPr b="0" lang="en-US" sz="3300" spc="-1" strike="noStrike">
              <a:solidFill>
                <a:srgbClr val="7b9899"/>
              </a:solidFill>
              <a:latin typeface="Georgia"/>
            </a:endParaRPr>
          </a:p>
        </p:txBody>
      </p:sp>
      <p:sp>
        <p:nvSpPr>
          <p:cNvPr id="652" name=""/>
          <p:cNvSpPr txBox="1"/>
          <p:nvPr/>
        </p:nvSpPr>
        <p:spPr>
          <a:xfrm>
            <a:off x="301320" y="1526760"/>
            <a:ext cx="8504280" cy="5086440"/>
          </a:xfrm>
          <a:prstGeom prst="rect">
            <a:avLst/>
          </a:prstGeom>
          <a:noFill/>
          <a:ln w="0">
            <a:noFill/>
          </a:ln>
        </p:spPr>
        <p:txBody>
          <a:bodyPr anchor="t">
            <a:normAutofit fontScale="96000"/>
          </a:bodyPr>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a:t>
            </a:r>
            <a:r>
              <a:rPr b="0" lang="en-US" sz="3200" spc="-1" strike="noStrike" baseline="30000">
                <a:solidFill>
                  <a:srgbClr val="000000"/>
                </a:solidFill>
                <a:latin typeface="Georgia"/>
              </a:rPr>
              <a:t>st</a:t>
            </a:r>
            <a:r>
              <a:rPr b="0" lang="en-US" sz="3200" spc="-1" strike="noStrike">
                <a:solidFill>
                  <a:srgbClr val="000000"/>
                </a:solidFill>
                <a:latin typeface="Georgia"/>
              </a:rPr>
              <a:t> – Use the Sumerian Alphabet and write your name (s) on the butcher paper provided.</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2</a:t>
            </a:r>
            <a:r>
              <a:rPr b="0" lang="en-US" sz="3200" spc="-1" strike="noStrike" baseline="30000">
                <a:solidFill>
                  <a:srgbClr val="000000"/>
                </a:solidFill>
                <a:latin typeface="Georgia"/>
              </a:rPr>
              <a:t>nd</a:t>
            </a:r>
            <a:r>
              <a:rPr b="0" lang="en-US" sz="3200" spc="-1" strike="noStrike">
                <a:solidFill>
                  <a:srgbClr val="000000"/>
                </a:solidFill>
                <a:latin typeface="Georgia"/>
              </a:rPr>
              <a:t> – For the law(s) assigned:</a:t>
            </a:r>
            <a:endParaRPr b="0" lang="en-US" sz="3200" spc="-1" strike="noStrike">
              <a:solidFill>
                <a:srgbClr val="000000"/>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Write your laws on the butcher paper</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What is the purpose of each law?</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Provide an illustration of each law</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Explain…do you agree with that law? Why or Why not?</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 Provide a contemporary example of each law.</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rab a Textbook!!</a:t>
            </a:r>
            <a:endParaRPr b="0" lang="en-US" sz="3300" spc="-1" strike="noStrike">
              <a:solidFill>
                <a:srgbClr val="7b9899"/>
              </a:solidFill>
              <a:latin typeface="Georgia"/>
            </a:endParaRPr>
          </a:p>
        </p:txBody>
      </p:sp>
      <p:sp>
        <p:nvSpPr>
          <p:cNvPr id="654"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pen to page 32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d the section: Turning Point – Hammurabi’s Cod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swer questions 1 and 2 in complete sentences on your own properly headed pap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in when you are don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a:t>
            </a:r>
            <a:endParaRPr b="0" lang="en-US" sz="3300" spc="-1" strike="noStrike">
              <a:solidFill>
                <a:srgbClr val="7b9899"/>
              </a:solidFill>
              <a:latin typeface="Georgia"/>
            </a:endParaRPr>
          </a:p>
        </p:txBody>
      </p:sp>
      <p:sp>
        <p:nvSpPr>
          <p:cNvPr id="611" name=""/>
          <p:cNvSpPr txBox="1"/>
          <p:nvPr/>
        </p:nvSpPr>
        <p:spPr>
          <a:xfrm>
            <a:off x="301680" y="1527120"/>
            <a:ext cx="558936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ing of Babylon</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Babylonians overtook Sumerians around 2000 BC</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1790, Hammurabi developed a </a:t>
            </a:r>
            <a:r>
              <a:rPr b="1" lang="en-US" sz="2700" spc="-1" strike="noStrike" u="sng">
                <a:solidFill>
                  <a:srgbClr val="000000"/>
                </a:solidFill>
                <a:uFillTx/>
                <a:latin typeface="Georgia"/>
              </a:rPr>
              <a:t>written</a:t>
            </a:r>
            <a:r>
              <a:rPr b="0" lang="en-US" sz="2700" spc="-1" strike="noStrike">
                <a:solidFill>
                  <a:srgbClr val="000000"/>
                </a:solidFill>
                <a:latin typeface="Georgia"/>
              </a:rPr>
              <a:t> code of laws</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Eye for an eye”</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ember: Mesopotamians developed the world’s first WRITING system</a:t>
            </a:r>
            <a:endParaRPr b="0" lang="en-US" sz="2700" spc="-1" strike="noStrike">
              <a:solidFill>
                <a:srgbClr val="000000"/>
              </a:solidFill>
              <a:latin typeface="Georgia"/>
            </a:endParaRPr>
          </a:p>
          <a:p>
            <a:pPr lvl="1" marL="531000" indent="-264600">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Cuneiform</a:t>
            </a:r>
            <a:endParaRPr b="0" lang="en-US" sz="2300" spc="-1" strike="noStrike">
              <a:solidFill>
                <a:srgbClr val="646b86"/>
              </a:solidFill>
              <a:latin typeface="Georgia"/>
            </a:endParaRPr>
          </a:p>
        </p:txBody>
      </p:sp>
      <p:pic>
        <p:nvPicPr>
          <p:cNvPr id="612" name="Picture 3" descr=""/>
          <p:cNvPicPr/>
          <p:nvPr/>
        </p:nvPicPr>
        <p:blipFill>
          <a:blip r:embed="rId1"/>
          <a:stretch/>
        </p:blipFill>
        <p:spPr>
          <a:xfrm>
            <a:off x="6307200" y="1989000"/>
            <a:ext cx="2498760" cy="378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neiform</a:t>
            </a:r>
            <a:endParaRPr b="0" lang="en-US" sz="3300" spc="-1" strike="noStrike">
              <a:solidFill>
                <a:srgbClr val="7b9899"/>
              </a:solidFill>
              <a:latin typeface="Georgia"/>
            </a:endParaRPr>
          </a:p>
        </p:txBody>
      </p:sp>
      <p:pic>
        <p:nvPicPr>
          <p:cNvPr id="614" name="Picture 2" descr=""/>
          <p:cNvPicPr/>
          <p:nvPr/>
        </p:nvPicPr>
        <p:blipFill>
          <a:blip r:embed="rId1">
            <a:lum contrast="2000"/>
          </a:blip>
          <a:stretch/>
        </p:blipFill>
        <p:spPr>
          <a:xfrm>
            <a:off x="1282680" y="1827360"/>
            <a:ext cx="6572160" cy="39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ele of Hammurabi</a:t>
            </a:r>
            <a:endParaRPr b="0" lang="en-US" sz="3300" spc="-1" strike="noStrike">
              <a:solidFill>
                <a:srgbClr val="7b9899"/>
              </a:solidFill>
              <a:latin typeface="Georgia"/>
            </a:endParaRPr>
          </a:p>
        </p:txBody>
      </p:sp>
      <p:pic>
        <p:nvPicPr>
          <p:cNvPr id="616" name="Content Placeholder 3" descr=""/>
          <p:cNvPicPr/>
          <p:nvPr/>
        </p:nvPicPr>
        <p:blipFill>
          <a:blip r:embed="rId1"/>
          <a:srcRect l="-90613" t="0" r="-90613" b="0"/>
          <a:stretch/>
        </p:blipFill>
        <p:spPr>
          <a:xfrm>
            <a:off x="301680" y="1527120"/>
            <a:ext cx="8504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de of Hammurabi</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Video Clip - Hammurabi's Code - influences toda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20" name=""/>
          <p:cNvSpPr txBox="1"/>
          <p:nvPr/>
        </p:nvSpPr>
        <p:spPr>
          <a:xfrm>
            <a:off x="331560" y="16606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to the carpenter who builds a house that falls and kills the own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229</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builder builds a house for a man and does not make its construction sound, and the house which he has built collapses and causes the death of the owner of the house, the builder shall be put to deat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24" name=""/>
          <p:cNvSpPr txBox="1"/>
          <p:nvPr/>
        </p:nvSpPr>
        <p:spPr>
          <a:xfrm>
            <a:off x="301320" y="1526760"/>
            <a:ext cx="8534520" cy="4761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when a "sister of god" (or nun)  enters the wine shop for a drin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03:32:48Z</dcterms:created>
  <dc:creator>Andrew Wells</dc:creator>
  <dc:description/>
  <dc:language>en-US</dc:language>
  <cp:lastModifiedBy>Katherine Silver</cp:lastModifiedBy>
  <cp:lastPrinted>2017-02-07T19:39:38Z</cp:lastPrinted>
  <dcterms:modified xsi:type="dcterms:W3CDTF">2017-02-07T19:54:52Z</dcterms:modified>
  <cp:revision>16</cp:revision>
  <dc:subject/>
  <dc:title>Notebook Dividers</dc:title>
</cp:coreProperties>
</file>