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02E92C-DF8E-449C-A0A1-A778E77713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8152F-1FF6-47F8-9687-949526A39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9FF631D-C814-4406-B826-5705A449D22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BE621F4-3C47-46B4-A25B-AA09482690F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0ACD4F0-52F3-48B2-A1F7-DBDB824C9D7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B826372-CF3B-4E1B-9BFA-29E98AE551F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AE9CC0C-DB9B-4E55-AD2C-0159878E6ED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8E943E1-AA8D-46DC-A0D5-D7CBC6CED75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9399D91-6537-4178-9D53-0FF9ECC1A20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8952D566-5B36-4BAE-963B-5CBACDC3E78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017AC04B-80CD-45AF-A918-98BFA02F36E9}"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7368E0F1-2778-49AB-943A-17C26ADB105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C70B69-30C7-4682-94ED-2B4B1D2A36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8D88AC72-E46E-4F70-B12D-978721EB03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C50AD5C-D9B9-4144-8561-3D649A2AE9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06A90BF-C1B1-4878-B25F-D2C8D58681B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35B898C-1263-4E10-8753-AEAF8BFCFA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216CED8-0615-486F-B126-851411262DC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E805D97-6CD3-430D-9D8C-C6F38A7C58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BB269FE-805E-4309-9538-037A75001C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E33CC42-AE41-44B2-AB2C-AAC2E0EA73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1BD024D-D2DA-4679-85D4-025CC8AA8D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E5AF2AE2-27DB-43D4-B857-91689D5467D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893C30-E471-441E-9132-70B5DD6784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724230D8-C17B-4255-BFF9-E30268751D0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03D4F38-94AC-4E84-B315-853B74BA5E3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1397B47-A9DF-47C5-8839-E792D4A30B8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4F8FAEC-18BA-48C5-85FE-44FB39BE088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1DD8FC8-38B3-42AF-9011-E412EBC646E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658A12B-82C5-432B-840B-D305AC45BFD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A9B5EE3-CC3F-4A9F-AC1D-E4CD394B6B1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4C2FB0-2152-4C3F-9F9A-BAFD7C85F0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F9F491C-08F6-4E11-A6E3-C911239AF81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09CBF1F-07A6-406A-99B5-8AED3106E7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6CB826-FD5F-43CA-9DF1-A8C34CD473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67C9B32-6969-4F79-A228-05CEBA96048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0805D25-7290-41DC-8479-FD8D4026C8E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6D5BEEC-374C-46CE-8D02-37DC02FA5E2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B6F305DE-6349-4FBE-899A-35CD495C480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127F896-0E15-4FCF-B158-CC521E96F0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6AA792E-43A9-4C61-AF7B-A339799F3E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9B4AA4E-06AB-4939-A720-1326BC328B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B1F0040-F8E7-45BE-A9BF-BF66983915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44654E3-7529-4093-9196-785D370ACBD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1BB1666-223F-4FF0-92A0-440388DACF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DBD6C6-AE89-4C35-BDC9-2295635025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D91A0A4-FC9E-4095-8344-4D1090B962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77CDFA3-A30E-4CCA-B71C-137A9204CC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2577E50-89E0-4026-A67A-DA60BC3281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22A43A0C-EE51-4262-B37D-C6C50370689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D56F5D5E-3E8B-4D24-8A5D-0268350826E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B9F8D4-354D-4CFC-B9CF-C348F3D014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FCC0B7-A375-4ABB-A967-32A0978A5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FDB2EB-8B78-483A-9383-7C6C4E3D8F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03FC55-A84F-4BD8-925F-0DF42C89D6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AC30F-12B4-4ED6-9857-BA3537704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36554-8ADB-4875-BE6E-4C98CDBCE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4A238-2FF5-4047-9BC1-5111AE159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96197F-B79F-47F8-A442-C12D36AB3E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862C64-C89E-415D-81F0-CC737C18A7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54846D-EFA8-4474-AA30-DBB7B1A2DE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2DC690-FD57-47FB-B873-86229C4164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CAA382-1963-44F4-8736-34D984D6B9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1FDEBA-76F9-4268-A76F-E8AC99CE12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2FC228-DCFF-4428-9306-BA262DDC54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FADF45-D122-45AC-8388-4525E4FE2F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5A1027-2A3F-4444-BFFE-8D7E2DB080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96822-947E-4416-B6C2-8CD4819D6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76743C-6071-4130-8764-5609EF5FF8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A39848-4B29-4878-961E-6CDC2E8E3B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C3044B-60C0-4653-A562-74684E6ED4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67190D-A2FF-43B5-93E4-A180255C95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205ADA-BEBF-47EE-B2A0-656431CDD9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421454-2351-42A7-B470-F30B78C9D2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8BEF2F-A951-4071-B74E-F7035D1F2E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A9BA9333-6FD7-453B-B403-F9F9A583176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37DFD309-E1ED-4C67-9F40-0A70BBF68F7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DA42709-26C7-4ED4-941B-1FDF0985808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60418-AB25-4247-B6DC-5CAA0B76B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C907C97-3D03-40BD-A21F-83FFD2DD297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BD8AEEE-D5A3-4C20-80D8-A251CC16920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E223DA4-709E-4D1E-95A2-26C4F98980B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C9458D7-2B5F-4A85-9148-D0D5B63FB7F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7B12C43-4E96-4562-81E0-D6F06AC58CA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9B7A529-D0CD-4F5A-BF8D-160B2E21332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3039A0D-482A-458A-A126-7750EF00B88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8C18CA21-D9A9-471C-8A70-A96B8FF85A4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D677FA2A-D67F-4DBE-9F98-0CA2FA8F0C8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73D549-D738-4086-89DF-1F3F326714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38237-B336-440C-BE1E-BE27DB1E3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9167C1-83AB-4E57-B39B-519C17BFA3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1BA7A2-1462-49CC-B253-A8F0FD3BEC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C6B6AE-A882-4309-ADDE-7039E9A606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CC0C64-0805-4313-BE10-C927F1F5AB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22E43C-3B65-4AD7-ADEF-B2D76886E4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B978F2-8952-4B12-AA0A-D5265FB291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DABDAA-D7C2-438C-A669-CCC988EB24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CAE8D6-D0AC-4251-822C-6628BD6E22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3DDD36-E600-44AE-ADE5-9B0BE0BC22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B7200A-D305-4AD9-9AB4-5217CE14F7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C43A4-3BC8-4F69-A0DB-F271D836B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128BA3-20D8-430E-92F5-60CFD7BB36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9E5FB8A-0F3E-4F78-A1EE-3D854DB09C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313E8B-66D9-44DD-8A05-793D3C98DC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EB5C0C-9176-4CB9-96DD-6E1B76FECF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BC2C43-8567-4A32-B2F5-2B0924D5A7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6DDD88-5155-40DC-84D8-478D3709AB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A690C1-F8E6-440E-B357-437B8945C9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EE3AD8-4078-489E-ADE6-2D8467D8CF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466992-0EE5-4876-8DB9-459FFB81E7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CD9EC9-186C-418A-917B-1EFA720B2D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716F2-9C05-44CB-8CA9-BEF198B77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85F2B3-9082-4F66-922C-6BFB36E4D0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D16E9A-CBD2-48BE-92AA-EE5980AC65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D724EF-BC07-486E-80E2-81B15CFBE0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711E011-6D1D-4A67-B703-3F887F93017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2D4C2F-B369-4E2D-94C7-1BCFCF794F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D4BEF0-214C-41BB-9815-8B8DB1CBBF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C9827B-81AD-4B61-B8CF-026056ACA2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A21896-B86B-434C-B9E4-E10EBC9F76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8C61B2-48AE-4C11-8AE8-4E86AD794D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165896-256B-4F4E-9870-B01006FFA6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C37AF-0F5F-40D9-9842-2E771DFFD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F49772-9349-4F55-B8F9-811063B798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41F1D8-B703-44BE-A5F0-13D7B4448C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943671-EC84-48B4-A675-6061E42443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B749C8-6206-4FDA-A780-ADBABD7A10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0C6F70-7E7E-4EA3-A4E0-DAA6046594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4FB1543-73C8-4447-9899-15CA34AC7A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1055DB-5A3A-4B29-BB76-72DE57E08D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68D2CA-E76F-4C78-BAEE-DFEBC51819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88BE53-D2C1-4690-AD99-0104544953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D39D05-FC8C-439A-8AF6-DA887763DF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FFBA9-2DED-4BEC-A9A4-22D096988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6494D9-F6CF-4594-A869-0354F4815A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9C57D6-E3F5-43DF-95BC-9C01AF64ED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97E62B-0E47-4A5F-BAFA-1CBD87EAE3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BE9AFA-5058-4E46-91BE-B922A5E2F7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FAC355-096C-4808-B6C0-5E609ADD63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4BBE49-78FF-4997-BBB1-D296D23E14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D00A402-0ABA-47B7-BBD9-6B3148C254C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D91C1C37-40F6-4D48-AD65-BC048B54119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F98E556-97EC-41E8-9538-7B9BFD57375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E9B150C-23C8-4EAF-9FA9-AE3D38EBEB91}"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B8312F-50F6-4DE7-B950-2A73331B3927}"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20"/>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18"/>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6" name="Rectangle 1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7" name="Rectangle 16"/>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9" name="Rectangle 19"/>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0" name="Rectangle 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1" name="Rectangle 1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2" name="Oval 11"/>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3" name="Oval 12"/>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4" name="Rectangle 2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80731C-87AC-480B-8218-C0B481F3655D}"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A16893-045E-49B4-A28E-6B98905D1B8B}"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7" name="Rectangle 7"/>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8" name="Rectangle 8"/>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9" name="Rectangle 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0" name="Rectangle 10"/>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1" name="Rectangle 11"/>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2" name="Straight Connector 12"/>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1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4" name="Oval 1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24CF48-AF0D-4C9C-804D-9977E187AC03}"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Rectangle 18"/>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 name="Rectangle 15"/>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 name="Rectangle 1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 name="Straight Connector 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9"/>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Oval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DA3F30-5886-43EE-B6FC-7DDE4FFF0CA8}"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9BB6FC-F4DF-4B78-B15E-3D8CAD3C9F17}"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1"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2" name="Rectangle 15"/>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Rectangle 17"/>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 name="Rectangle 18"/>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5" name="Rectangle 11"/>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6" name="Rectangle 12"/>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Rectangle 1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Straight Connector 7"/>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 name="Oval 1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90B6FB-44AB-4E8D-9A30-B1240F24965F}"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Straight Connector 7"/>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9991AD-5E59-4C21-8013-27C335E3087F}"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19"/>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5" name="Rectangle 18"/>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6" name="Rectangle 20"/>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8" name="Rectangle 1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9" name="Rectangle 21"/>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0" name="Straight Connector 14"/>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1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2" name="Oval 24"/>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B0A30F-0856-4C65-ABD6-440D6AB1244E}"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6A17B4-C80E-46D1-B812-2F490610BD98}"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6" name="Rectangle 7"/>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Rectangle 9"/>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8" name="Rectangle 8"/>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9" name="Rectangle 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0" name="Rectangle 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ffffff"/>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C90D9C-48FE-49A5-98CE-F7D03EA893E6}" type="slidenum">
              <a:rPr b="0" lang="en-US"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8"/>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3"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4" name="Rectangle 17"/>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5" name="Rectangle 15"/>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6" name="Rectangle 1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7" name="Rectangle 12"/>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8" name="Rectangle 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9" name="Straight Connector 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1" name="Oval 1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2" name="Rectangle 2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D8D42A-B412-47B1-832C-885A27F4E5D3}"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hyperlink" Target="https://www.youtube.com/watch?v=oDALXORbtR4" TargetMode="External"/><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file:///Video%20Clip%20-%20Hammurabi&apos;s%20Code%20-%20influences%20today" TargetMode="External"/><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826920" y="376200"/>
            <a:ext cx="7772400" cy="1470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16349"/>
                </a:solidFill>
                <a:latin typeface="Georgia"/>
              </a:rPr>
              <a:t>Do Now</a:t>
            </a:r>
            <a:endParaRPr b="0" lang="en-US" sz="5400" spc="-1" strike="noStrike">
              <a:solidFill>
                <a:srgbClr val="7b9899"/>
              </a:solidFill>
              <a:latin typeface="Georgia"/>
            </a:endParaRPr>
          </a:p>
        </p:txBody>
      </p:sp>
      <p:sp>
        <p:nvSpPr>
          <p:cNvPr id="607" name="TextBox 4"/>
          <p:cNvSpPr/>
          <p:nvPr/>
        </p:nvSpPr>
        <p:spPr>
          <a:xfrm>
            <a:off x="1633680" y="2565360"/>
            <a:ext cx="604656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Georgia"/>
              </a:rPr>
              <a:t>Why does a society need laws? </a:t>
            </a:r>
            <a:endParaRPr b="0" lang="en-US" sz="4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Georgia"/>
              </a:rPr>
              <a:t>Describe a world without laws as part of your answe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Hammurabi’s Ruling: Code 110</a:t>
            </a:r>
            <a:endParaRPr b="0" lang="en-US" sz="3300" spc="-1" strike="noStrike">
              <a:solidFill>
                <a:srgbClr val="7b9899"/>
              </a:solidFill>
              <a:latin typeface="Georgia"/>
            </a:endParaRPr>
          </a:p>
        </p:txBody>
      </p:sp>
      <p:sp>
        <p:nvSpPr>
          <p:cNvPr id="62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f a "sister of god" (nun) who is not living in a convent opens a wine shop or enters a wine shop for a drink, they shall burn that woman.</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You be the Judge</a:t>
            </a:r>
            <a:endParaRPr b="0" lang="en-US" sz="3300" spc="-1" strike="noStrike">
              <a:solidFill>
                <a:srgbClr val="7b9899"/>
              </a:solidFill>
              <a:latin typeface="Georgia"/>
            </a:endParaRPr>
          </a:p>
        </p:txBody>
      </p:sp>
      <p:sp>
        <p:nvSpPr>
          <p:cNvPr id="62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happens if a man is unable to pay his debt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Hammurabi’s Ruling: Code 117</a:t>
            </a:r>
            <a:endParaRPr b="0" lang="en-US" sz="3300" spc="-1" strike="noStrike">
              <a:solidFill>
                <a:srgbClr val="7b9899"/>
              </a:solidFill>
              <a:latin typeface="Georgia"/>
            </a:endParaRPr>
          </a:p>
        </p:txBody>
      </p:sp>
      <p:sp>
        <p:nvSpPr>
          <p:cNvPr id="63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f a man be in debt and is unable to pay his creditors, he shall sell his wife, son, or daughter, or bind them over to service. For three years they shall work in the houses of their purchaser or master; in the fourth year they shall be given their freedom.</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You be the Judge</a:t>
            </a:r>
            <a:endParaRPr b="0" lang="en-US" sz="3300" spc="-1" strike="noStrike">
              <a:solidFill>
                <a:srgbClr val="7b9899"/>
              </a:solidFill>
              <a:latin typeface="Georgia"/>
            </a:endParaRPr>
          </a:p>
        </p:txBody>
      </p:sp>
      <p:sp>
        <p:nvSpPr>
          <p:cNvPr id="63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happens to the wine seller who fails to arrest bad characters gathered at her shop?</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Hammurabi’s Ruling: Code 109 </a:t>
            </a:r>
            <a:endParaRPr b="0" lang="en-US" sz="3300" spc="-1" strike="noStrike">
              <a:solidFill>
                <a:srgbClr val="7b9899"/>
              </a:solidFill>
              <a:latin typeface="Georgia"/>
            </a:endParaRPr>
          </a:p>
        </p:txBody>
      </p:sp>
      <p:sp>
        <p:nvSpPr>
          <p:cNvPr id="63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f bad characters gather in the house of a wine seller and she does not arrest those characters and bring them to the palace, that wine seller shall be put to death.</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You be the Judge</a:t>
            </a:r>
            <a:endParaRPr b="0" lang="en-US" sz="3300" spc="-1" strike="noStrike">
              <a:solidFill>
                <a:srgbClr val="7b9899"/>
              </a:solidFill>
              <a:latin typeface="Georgia"/>
            </a:endParaRPr>
          </a:p>
        </p:txBody>
      </p:sp>
      <p:sp>
        <p:nvSpPr>
          <p:cNvPr id="63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should be done about a wife who ignores her duties and belittles her husband?</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Hammurabi’s Ruling: Code 143 </a:t>
            </a:r>
            <a:endParaRPr b="0" lang="en-US" sz="3300" spc="-1" strike="noStrike">
              <a:solidFill>
                <a:srgbClr val="7b9899"/>
              </a:solidFill>
              <a:latin typeface="Georgia"/>
            </a:endParaRPr>
          </a:p>
        </p:txBody>
      </p:sp>
      <p:sp>
        <p:nvSpPr>
          <p:cNvPr id="63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f the woman has not been careful but has gadded about, neglecting her house and belittling her husband, they shall throw that woman into the wate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You be the Judge</a:t>
            </a:r>
            <a:endParaRPr b="0" lang="en-US" sz="3300" spc="-1" strike="noStrike">
              <a:solidFill>
                <a:srgbClr val="7b9899"/>
              </a:solidFill>
              <a:latin typeface="Georgia"/>
            </a:endParaRPr>
          </a:p>
        </p:txBody>
      </p:sp>
      <p:sp>
        <p:nvSpPr>
          <p:cNvPr id="64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should be done if a son is adopted and then the birth-parents want him bac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Hammurabi’s Ruling: Code 185 </a:t>
            </a:r>
            <a:endParaRPr b="0" lang="en-US" sz="3300" spc="-1" strike="noStrike">
              <a:solidFill>
                <a:srgbClr val="7b9899"/>
              </a:solidFill>
              <a:latin typeface="Georgia"/>
            </a:endParaRPr>
          </a:p>
        </p:txBody>
      </p:sp>
      <p:sp>
        <p:nvSpPr>
          <p:cNvPr id="64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f a man takes in his own home a young boy as a son and rears him, one may not bring claim for that adopted son.</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You be the Judge</a:t>
            </a:r>
            <a:endParaRPr b="0" lang="en-US" sz="3300" spc="-1" strike="noStrike">
              <a:solidFill>
                <a:srgbClr val="7b9899"/>
              </a:solidFill>
              <a:latin typeface="Georgia"/>
            </a:endParaRPr>
          </a:p>
        </p:txBody>
      </p:sp>
      <p:sp>
        <p:nvSpPr>
          <p:cNvPr id="64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should happen to a boy who slaps his fathe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Laws</a:t>
            </a:r>
            <a:endParaRPr b="0" lang="en-US" sz="3300" spc="-1" strike="noStrike">
              <a:solidFill>
                <a:srgbClr val="7b9899"/>
              </a:solidFill>
              <a:latin typeface="Georgia"/>
            </a:endParaRPr>
          </a:p>
        </p:txBody>
      </p:sp>
      <p:sp>
        <p:nvSpPr>
          <p:cNvPr id="60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a3d6"/>
                </a:solidFill>
                <a:uFillTx/>
                <a:latin typeface="Georgia"/>
                <a:hlinkClick r:id="rId1"/>
              </a:rPr>
              <a:t>Code of Hammurabi</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Hammurabi’s Ruling: Code 195 </a:t>
            </a:r>
            <a:endParaRPr b="0" lang="en-US" sz="3300" spc="-1" strike="noStrike">
              <a:solidFill>
                <a:srgbClr val="7b9899"/>
              </a:solidFill>
              <a:latin typeface="Georgia"/>
            </a:endParaRPr>
          </a:p>
        </p:txBody>
      </p:sp>
      <p:sp>
        <p:nvSpPr>
          <p:cNvPr id="64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f a son strike his father, his hands shall be hewn off.</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You be the Judge</a:t>
            </a:r>
            <a:endParaRPr b="0" lang="en-US" sz="3300" spc="-1" strike="noStrike">
              <a:solidFill>
                <a:srgbClr val="7b9899"/>
              </a:solidFill>
              <a:latin typeface="Georgia"/>
            </a:endParaRPr>
          </a:p>
        </p:txBody>
      </p:sp>
      <p:sp>
        <p:nvSpPr>
          <p:cNvPr id="64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ow is the truth determined when one man brings an accusation against anothe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Hammurabi’s Ruling: Code 2</a:t>
            </a:r>
            <a:endParaRPr b="0" lang="en-US" sz="3300" spc="-1" strike="noStrike">
              <a:solidFill>
                <a:srgbClr val="7b9899"/>
              </a:solidFill>
              <a:latin typeface="Georgia"/>
            </a:endParaRPr>
          </a:p>
        </p:txBody>
      </p:sp>
      <p:sp>
        <p:nvSpPr>
          <p:cNvPr id="65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f any one bring an accusation against a man, and the accused go to the river and leap into the river, if he sink in the river his accuser shall take possession of his house. But if the river prove that the accused is not guilty, and he escape unhurt, then he who had brought the accusation shall be put to death, while he who leaped into the river shall take possession of the house that had belonged to his accuse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ode of Hammurabi Activity </a:t>
            </a:r>
            <a:endParaRPr b="0" lang="en-US" sz="3300" spc="-1" strike="noStrike">
              <a:solidFill>
                <a:srgbClr val="7b9899"/>
              </a:solidFill>
              <a:latin typeface="Georgia"/>
            </a:endParaRPr>
          </a:p>
        </p:txBody>
      </p:sp>
      <p:sp>
        <p:nvSpPr>
          <p:cNvPr id="652" name=""/>
          <p:cNvSpPr txBox="1"/>
          <p:nvPr/>
        </p:nvSpPr>
        <p:spPr>
          <a:xfrm>
            <a:off x="301320" y="1526760"/>
            <a:ext cx="8504280" cy="5086440"/>
          </a:xfrm>
          <a:prstGeom prst="rect">
            <a:avLst/>
          </a:prstGeom>
          <a:noFill/>
          <a:ln w="0">
            <a:noFill/>
          </a:ln>
        </p:spPr>
        <p:txBody>
          <a:bodyPr anchor="t">
            <a:normAutofit fontScale="96000"/>
          </a:bodyPr>
          <a:p>
            <a:pPr marL="261720" indent="-26172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1</a:t>
            </a:r>
            <a:r>
              <a:rPr b="0" lang="en-US" sz="3200" spc="-1" strike="noStrike" baseline="30000">
                <a:solidFill>
                  <a:srgbClr val="000000"/>
                </a:solidFill>
                <a:latin typeface="Georgia"/>
              </a:rPr>
              <a:t>st</a:t>
            </a:r>
            <a:r>
              <a:rPr b="0" lang="en-US" sz="3200" spc="-1" strike="noStrike">
                <a:solidFill>
                  <a:srgbClr val="000000"/>
                </a:solidFill>
                <a:latin typeface="Georgia"/>
              </a:rPr>
              <a:t> – Use the Sumerian Alphabet and write your name (s) on the butcher paper provided.</a:t>
            </a:r>
            <a:endParaRPr b="0" lang="en-US" sz="3200" spc="-1" strike="noStrike">
              <a:solidFill>
                <a:srgbClr val="000000"/>
              </a:solidFill>
              <a:latin typeface="Georgia"/>
            </a:endParaRPr>
          </a:p>
          <a:p>
            <a:pPr marL="261720" indent="-26172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2</a:t>
            </a:r>
            <a:r>
              <a:rPr b="0" lang="en-US" sz="3200" spc="-1" strike="noStrike" baseline="30000">
                <a:solidFill>
                  <a:srgbClr val="000000"/>
                </a:solidFill>
                <a:latin typeface="Georgia"/>
              </a:rPr>
              <a:t>nd</a:t>
            </a:r>
            <a:r>
              <a:rPr b="0" lang="en-US" sz="3200" spc="-1" strike="noStrike">
                <a:solidFill>
                  <a:srgbClr val="000000"/>
                </a:solidFill>
                <a:latin typeface="Georgia"/>
              </a:rPr>
              <a:t> – For the law(s) assigned:</a:t>
            </a:r>
            <a:endParaRPr b="0" lang="en-US" sz="3200" spc="-1" strike="noStrike">
              <a:solidFill>
                <a:srgbClr val="000000"/>
              </a:solidFill>
              <a:latin typeface="Georgia"/>
            </a:endParaRPr>
          </a:p>
          <a:p>
            <a:pPr lvl="1" marL="525600" indent="-26172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Write your laws on the butcher paper</a:t>
            </a:r>
            <a:endParaRPr b="0" lang="en-US" sz="2800" spc="-1" strike="noStrike">
              <a:solidFill>
                <a:srgbClr val="646b86"/>
              </a:solidFill>
              <a:latin typeface="Georgia"/>
            </a:endParaRPr>
          </a:p>
          <a:p>
            <a:pPr lvl="1" marL="525600" indent="-26172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 What is the purpose of each law?</a:t>
            </a:r>
            <a:endParaRPr b="0" lang="en-US" sz="2800" spc="-1" strike="noStrike">
              <a:solidFill>
                <a:srgbClr val="646b86"/>
              </a:solidFill>
              <a:latin typeface="Georgia"/>
            </a:endParaRPr>
          </a:p>
          <a:p>
            <a:pPr lvl="1" marL="525600" indent="-26172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 Provide an illustration of each law</a:t>
            </a:r>
            <a:endParaRPr b="0" lang="en-US" sz="2800" spc="-1" strike="noStrike">
              <a:solidFill>
                <a:srgbClr val="646b86"/>
              </a:solidFill>
              <a:latin typeface="Georgia"/>
            </a:endParaRPr>
          </a:p>
          <a:p>
            <a:pPr lvl="1" marL="525600" indent="-26172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 Explain…do you agree with that law? Why or Why not?</a:t>
            </a:r>
            <a:endParaRPr b="0" lang="en-US" sz="2800" spc="-1" strike="noStrike">
              <a:solidFill>
                <a:srgbClr val="646b86"/>
              </a:solidFill>
              <a:latin typeface="Georgia"/>
            </a:endParaRPr>
          </a:p>
          <a:p>
            <a:pPr lvl="1" marL="525600" indent="-26172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 Provide a contemporary example of each law.</a:t>
            </a:r>
            <a:endParaRPr b="0" lang="en-US" sz="28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Grab a Textbook!!</a:t>
            </a:r>
            <a:endParaRPr b="0" lang="en-US" sz="3300" spc="-1" strike="noStrike">
              <a:solidFill>
                <a:srgbClr val="7b9899"/>
              </a:solidFill>
              <a:latin typeface="Georgia"/>
            </a:endParaRPr>
          </a:p>
        </p:txBody>
      </p:sp>
      <p:sp>
        <p:nvSpPr>
          <p:cNvPr id="654" name="PlaceHolder 2"/>
          <p:cNvSpPr>
            <a:spLocks noGrp="1"/>
          </p:cNvSpPr>
          <p:nvPr>
            <p:ph/>
          </p:nvPr>
        </p:nvSpPr>
        <p:spPr>
          <a:xfrm>
            <a:off x="301320" y="1523520"/>
            <a:ext cx="8534520" cy="4599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pen to page 32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ad the section: Turning Point – Hammurabi’s Cod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nswer questions 1 and 2 in complete sentences on your own properly headed pape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urn in when you are don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Hammurabi</a:t>
            </a:r>
            <a:endParaRPr b="0" lang="en-US" sz="3300" spc="-1" strike="noStrike">
              <a:solidFill>
                <a:srgbClr val="7b9899"/>
              </a:solidFill>
              <a:latin typeface="Georgia"/>
            </a:endParaRPr>
          </a:p>
        </p:txBody>
      </p:sp>
      <p:sp>
        <p:nvSpPr>
          <p:cNvPr id="611" name=""/>
          <p:cNvSpPr txBox="1"/>
          <p:nvPr/>
        </p:nvSpPr>
        <p:spPr>
          <a:xfrm>
            <a:off x="301680" y="1527120"/>
            <a:ext cx="5589360" cy="4572000"/>
          </a:xfrm>
          <a:prstGeom prst="rect">
            <a:avLst/>
          </a:prstGeom>
          <a:noFill/>
          <a:ln w="0">
            <a:noFill/>
          </a:ln>
        </p:spPr>
        <p:txBody>
          <a:bodyPr anchor="t">
            <a:normAutofit fontScale="97000"/>
          </a:bodyPr>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King of Babylon</a:t>
            </a:r>
            <a:endParaRPr b="0" lang="en-US" sz="2700" spc="-1" strike="noStrike">
              <a:solidFill>
                <a:srgbClr val="000000"/>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Babylonians overtook Sumerians around 2000 BC</a:t>
            </a:r>
            <a:endParaRPr b="0" lang="en-US" sz="2200" spc="-1" strike="noStrike">
              <a:solidFill>
                <a:srgbClr val="646b86"/>
              </a:solidFill>
              <a:latin typeface="Georgia"/>
            </a:endParaRPr>
          </a:p>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 1790, Hammurabi developed a </a:t>
            </a:r>
            <a:r>
              <a:rPr b="1" lang="en-US" sz="2700" spc="-1" strike="noStrike" u="sng">
                <a:solidFill>
                  <a:srgbClr val="000000"/>
                </a:solidFill>
                <a:uFillTx/>
                <a:latin typeface="Georgia"/>
              </a:rPr>
              <a:t>written</a:t>
            </a:r>
            <a:r>
              <a:rPr b="0" lang="en-US" sz="2700" spc="-1" strike="noStrike">
                <a:solidFill>
                  <a:srgbClr val="000000"/>
                </a:solidFill>
                <a:latin typeface="Georgia"/>
              </a:rPr>
              <a:t> code of laws</a:t>
            </a:r>
            <a:endParaRPr b="0" lang="en-US" sz="2700" spc="-1" strike="noStrike">
              <a:solidFill>
                <a:srgbClr val="000000"/>
              </a:solidFill>
              <a:latin typeface="Georgia"/>
            </a:endParaRPr>
          </a:p>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t>
            </a:r>
            <a:r>
              <a:rPr b="0" lang="en-US" sz="2700" spc="-1" strike="noStrike">
                <a:solidFill>
                  <a:srgbClr val="000000"/>
                </a:solidFill>
                <a:latin typeface="Georgia"/>
              </a:rPr>
              <a:t>Eye for an eye”</a:t>
            </a:r>
            <a:endParaRPr b="0" lang="en-US" sz="2700" spc="-1" strike="noStrike">
              <a:solidFill>
                <a:srgbClr val="000000"/>
              </a:solidFill>
              <a:latin typeface="Georgia"/>
            </a:endParaRPr>
          </a:p>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member: Mesopotamians developed the world’s first WRITING system</a:t>
            </a:r>
            <a:endParaRPr b="0" lang="en-US" sz="2700" spc="-1" strike="noStrike">
              <a:solidFill>
                <a:srgbClr val="000000"/>
              </a:solidFill>
              <a:latin typeface="Georgia"/>
            </a:endParaRPr>
          </a:p>
          <a:p>
            <a:pPr lvl="1" marL="531000" indent="-264600">
              <a:spcBef>
                <a:spcPts val="5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46b86"/>
                </a:solidFill>
                <a:latin typeface="Georgia"/>
              </a:rPr>
              <a:t>Cuneiform</a:t>
            </a:r>
            <a:endParaRPr b="0" lang="en-US" sz="2300" spc="-1" strike="noStrike">
              <a:solidFill>
                <a:srgbClr val="646b86"/>
              </a:solidFill>
              <a:latin typeface="Georgia"/>
            </a:endParaRPr>
          </a:p>
        </p:txBody>
      </p:sp>
      <p:pic>
        <p:nvPicPr>
          <p:cNvPr id="612" name="Picture 3" descr=""/>
          <p:cNvPicPr/>
          <p:nvPr/>
        </p:nvPicPr>
        <p:blipFill>
          <a:blip r:embed="rId1"/>
          <a:stretch/>
        </p:blipFill>
        <p:spPr>
          <a:xfrm>
            <a:off x="6307200" y="1989000"/>
            <a:ext cx="2498760" cy="3787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uneiform</a:t>
            </a:r>
            <a:endParaRPr b="0" lang="en-US" sz="3300" spc="-1" strike="noStrike">
              <a:solidFill>
                <a:srgbClr val="7b9899"/>
              </a:solidFill>
              <a:latin typeface="Georgia"/>
            </a:endParaRPr>
          </a:p>
        </p:txBody>
      </p:sp>
      <p:pic>
        <p:nvPicPr>
          <p:cNvPr id="614" name="Picture 2" descr=""/>
          <p:cNvPicPr/>
          <p:nvPr/>
        </p:nvPicPr>
        <p:blipFill>
          <a:blip r:embed="rId1">
            <a:lum contrast="2000"/>
          </a:blip>
          <a:stretch/>
        </p:blipFill>
        <p:spPr>
          <a:xfrm>
            <a:off x="1282680" y="1827360"/>
            <a:ext cx="6572160" cy="3990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tele of Hammurabi</a:t>
            </a:r>
            <a:endParaRPr b="0" lang="en-US" sz="3300" spc="-1" strike="noStrike">
              <a:solidFill>
                <a:srgbClr val="7b9899"/>
              </a:solidFill>
              <a:latin typeface="Georgia"/>
            </a:endParaRPr>
          </a:p>
        </p:txBody>
      </p:sp>
      <p:pic>
        <p:nvPicPr>
          <p:cNvPr id="616" name="Content Placeholder 3" descr=""/>
          <p:cNvPicPr/>
          <p:nvPr/>
        </p:nvPicPr>
        <p:blipFill>
          <a:blip r:embed="rId1"/>
          <a:srcRect l="-90613" t="0" r="-90613" b="0"/>
          <a:stretch/>
        </p:blipFill>
        <p:spPr>
          <a:xfrm>
            <a:off x="301680" y="1527120"/>
            <a:ext cx="8504280" cy="457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ode of Hammurabi</a:t>
            </a:r>
            <a:endParaRPr b="0" lang="en-US" sz="3300" spc="-1" strike="noStrike">
              <a:solidFill>
                <a:srgbClr val="7b9899"/>
              </a:solidFill>
              <a:latin typeface="Georgia"/>
            </a:endParaRPr>
          </a:p>
        </p:txBody>
      </p:sp>
      <p:sp>
        <p:nvSpPr>
          <p:cNvPr id="61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a3d6"/>
                </a:solidFill>
                <a:uFillTx/>
                <a:latin typeface="Georgia"/>
                <a:hlinkClick r:id="rId1"/>
              </a:rPr>
              <a:t>Video Clip - Hammurabi's Code - influences today</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You be the Judge</a:t>
            </a:r>
            <a:endParaRPr b="0" lang="en-US" sz="3300" spc="-1" strike="noStrike">
              <a:solidFill>
                <a:srgbClr val="7b9899"/>
              </a:solidFill>
              <a:latin typeface="Georgia"/>
            </a:endParaRPr>
          </a:p>
        </p:txBody>
      </p:sp>
      <p:sp>
        <p:nvSpPr>
          <p:cNvPr id="620" name=""/>
          <p:cNvSpPr txBox="1"/>
          <p:nvPr/>
        </p:nvSpPr>
        <p:spPr>
          <a:xfrm>
            <a:off x="331560" y="166068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should be done to the carpenter who builds a house that falls and kills the owne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Hammurabi’s Ruling: Code 229</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f a builder builds a house for a man and does not make its construction sound, and the house which he has built collapses and causes the death of the owner of the house, the builder shall be put to death.</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You be the Judge</a:t>
            </a:r>
            <a:endParaRPr b="0" lang="en-US" sz="3300" spc="-1" strike="noStrike">
              <a:solidFill>
                <a:srgbClr val="7b9899"/>
              </a:solidFill>
              <a:latin typeface="Georgia"/>
            </a:endParaRPr>
          </a:p>
        </p:txBody>
      </p:sp>
      <p:sp>
        <p:nvSpPr>
          <p:cNvPr id="624" name=""/>
          <p:cNvSpPr txBox="1"/>
          <p:nvPr/>
        </p:nvSpPr>
        <p:spPr>
          <a:xfrm>
            <a:off x="301320" y="1526760"/>
            <a:ext cx="8534520" cy="4761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should be done when a "sister of god" (or nun)  enters the wine shop for a drin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1T03:32:48Z</dcterms:created>
  <dc:creator>Andrew Wells</dc:creator>
  <dc:description/>
  <dc:language>en-US</dc:language>
  <cp:lastModifiedBy>Katherine Silver</cp:lastModifiedBy>
  <cp:lastPrinted>2017-02-07T19:39:38Z</cp:lastPrinted>
  <dcterms:modified xsi:type="dcterms:W3CDTF">2017-02-07T19:54:52Z</dcterms:modified>
  <cp:revision>16</cp:revision>
  <dc:subject/>
  <dc:title>Notebook Dividers</dc:title>
</cp:coreProperties>
</file>