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CBD-70ED-4D55-B4B7-2DD56DAB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02DF-4795-4085-9284-2176AC56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5EFF-353D-4AB6-BA4D-1AB681E37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7B8-B036-4E65-BDD2-2CF25376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5FEA-952D-41B4-8D28-6B5A7615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F227-7ECD-43A6-A0F4-7161E06E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601C-4EAE-4F04-9512-C7C97203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E36-FF3D-4267-BCAE-454CF7B1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BDBF-AF8D-4EEA-BE38-722F42E5F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B617-2107-4BCF-9EF5-534397CE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C35-7341-4C1C-A222-DC967291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3C9-02B6-4EFD-8C67-FBCB95AE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D03A-E75E-44AE-BB14-5223F4AD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983-A759-42D8-8288-B378B46A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2D7-3B27-4095-A9FC-DB96D986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D91-AA83-4400-BB5B-EC7BB7550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1C5-8D9B-4CAD-BEA8-BCA36A5F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F24-CF28-45AA-A40C-D70E1656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297-197A-4ABA-88F8-702EDC5F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79D-BEC3-4A11-8F0F-30AEFBD4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ED1-8F8D-4136-9942-E14FEF0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15B-2AF2-443A-BE9B-DA1BAC89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06B-8620-47FD-8AE8-BC98EC4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E48-4858-4C6E-A2E0-E918653B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DF4-F1AF-4F93-889A-64204B51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2C0-52E5-4DB2-B3FB-24CCDF4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28D-3BD8-4F90-B72F-FC49952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1E7-FBEC-4416-8BA0-02D641D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C89-0836-4797-9D04-12CC5ED49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9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ush Script MT"/>
              </a:rPr>
              <a:t>Geography and Early Greek Civ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mappery.com/maps/Greece-Map.jpg"/>
          <p:cNvPicPr/>
          <p:nvPr/>
        </p:nvPicPr>
        <p:blipFill>
          <a:blip r:embed="rId1"/>
          <a:stretch/>
        </p:blipFill>
        <p:spPr>
          <a:xfrm>
            <a:off x="0" y="2190600"/>
            <a:ext cx="4848120" cy="4667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416720" y="2803680"/>
            <a:ext cx="190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www.ariacunningham.com/wp-content/uploads/2014/01/mycenae-city-map.gif"/>
          <p:cNvPicPr/>
          <p:nvPr/>
        </p:nvPicPr>
        <p:blipFill>
          <a:blip r:embed="rId2"/>
          <a:stretch/>
        </p:blipFill>
        <p:spPr>
          <a:xfrm>
            <a:off x="4848120" y="2190600"/>
            <a:ext cx="4295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s was the Greek word for “city-state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olis was an independent city and its surrounding farm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polis had its own government and laws but the Greeks shared a common language and relig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arming1"/>
          <p:cNvPicPr/>
          <p:nvPr/>
        </p:nvPicPr>
        <p:blipFill>
          <a:blip r:embed="rId1"/>
          <a:stretch/>
        </p:blipFill>
        <p:spPr>
          <a:xfrm>
            <a:off x="457200" y="1571760"/>
            <a:ext cx="8305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57560" y="380880"/>
            <a:ext cx="83113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cient Greeks farmed but it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icult.  Hills are not suited for farm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NTIPAROS-P1010019"/>
          <p:cNvPicPr/>
          <p:nvPr/>
        </p:nvPicPr>
        <p:blipFill>
          <a:blip r:embed="rId1"/>
          <a:stretch/>
        </p:blipFill>
        <p:spPr>
          <a:xfrm>
            <a:off x="457200" y="1089000"/>
            <a:ext cx="8229600" cy="5388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57200" y="380880"/>
            <a:ext cx="822960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owever, there is always the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66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today, the Greeks have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Mediterranean and Aegean S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is a peninsula and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 surround parts of Gre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 allowed the Greeks to travel and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encouraged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 and Cultur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 allowed the Greeks to depend heavily on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encouraged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ks were exposed to the Phoenician alphabet and Egyptian geo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difficult to farm in ancient Gre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Greeks depend heavily on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wo geographic features and their effects on the Gr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ancient Greeks never develop a unified system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o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the Geography of Greece with the Geography of any of the Early River Valley Civ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Content Placeholder 3"/>
          <p:cNvGraphicFramePr/>
          <p:nvPr/>
        </p:nvGraphicFramePr>
        <p:xfrm>
          <a:off x="457200" y="1752480"/>
          <a:ext cx="8229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the relationship between Greek colonies and their trading routes students will identify key regions of Greece and the surrounding areas to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Asia Minor, Crete, Peloponnesus, Balkan Peninsula, Aegean Sea, Mediterranean Sea, Mycenae, Athens, and Spar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ouse08"/>
          <p:cNvPicPr/>
          <p:nvPr/>
        </p:nvPicPr>
        <p:blipFill>
          <a:blip r:embed="rId1"/>
          <a:stretch/>
        </p:blipFill>
        <p:spPr>
          <a:xfrm>
            <a:off x="304920" y="14032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9760" y="228600"/>
            <a:ext cx="87685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important to remember that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the Greek city-st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Do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tique Olive Roman"/>
              </a:rPr>
              <a:t>How does geography influence how you interact with your neighbo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360" y="380520"/>
            <a:ext cx="87948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Learning Target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600" spc="-1" strike="noStrike">
                <a:solidFill>
                  <a:srgbClr val="404040"/>
                </a:solidFill>
                <a:latin typeface="Arial"/>
              </a:rPr>
              <a:t>Intentions of the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60360" y="1684440"/>
            <a:ext cx="86868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c00000"/>
                </a:solidFill>
                <a:latin typeface="Times New Roman"/>
                <a:ea typeface="Calibri"/>
              </a:rPr>
              <a:t>I Want Students to: </a:t>
            </a:r>
            <a:br>
              <a:rPr sz="4500"/>
            </a:b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KNOW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ifferences and similarities of the Geography of Greece to River Valley Civilizations. 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NDERST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plain the how Greece’s geography influences their interaction in the region. 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mplete a chart comparing the characteristics of Minoan and Mycenaean culture 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ill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ountain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rebuchet MS"/>
              </a:rPr>
              <a:t>Greece is mountaino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eece-map"/>
          <p:cNvPicPr/>
          <p:nvPr/>
        </p:nvPicPr>
        <p:blipFill>
          <a:blip r:embed="rId1"/>
          <a:stretch/>
        </p:blipFill>
        <p:spPr>
          <a:xfrm>
            <a:off x="0" y="1216080"/>
            <a:ext cx="9220320" cy="5641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15840"/>
            <a:ext cx="914400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ce is a Mountainous Penins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Isl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ography of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ient Greece consisted of a large mountainous peninsula and islands in the Aegean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hilly terrain made farming diffi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location encouraged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View of Athens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ountains separated Greek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Effects of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066680" y="17524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’s mountainous terrain separated the ancient Greek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uch, the ancient Greeks never developed a unified system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cient Greeks developed the polis or the city-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ancient-greece-map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9080" y="0"/>
            <a:ext cx="912492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e Greeks lived in Separate City-Sta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02:57Z</dcterms:created>
  <dc:creator>White Plains City School District</dc:creator>
  <dc:description/>
  <dc:language>en-US</dc:language>
  <cp:lastModifiedBy>Katherine Silver</cp:lastModifiedBy>
  <cp:lastPrinted>2017-02-13T12:05:21Z</cp:lastPrinted>
  <dcterms:modified xsi:type="dcterms:W3CDTF">2018-02-10T14:42:40Z</dcterms:modified>
  <cp:revision>26</cp:revision>
  <dc:subject/>
  <dc:title>Geography and Early Greek Civilization</dc:title>
</cp:coreProperties>
</file>