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566C-9A7E-4C04-9E62-1E6934170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1219-2A68-428E-B1EC-43FA652D0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74AE-7452-4AA4-8928-37C359FCB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ED16-BFED-4E34-BECC-F4836AF75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696-FF5A-47DA-A1BC-B869315B2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9D09-F509-4852-9BB9-6B96516DE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A101-020B-4EFD-81F1-0B083C0CF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DC8F-9181-470B-AD94-5900FC22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87E-4175-47FE-9AD5-7EC228913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CB25-ED70-432A-8560-DBDB4A96E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1280-A8A3-49B2-93A4-CCF6B741A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AF76-4B37-4A2B-863C-A566E7348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8488-4398-4B9E-B072-3D650EFEE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4CF2-9B90-4522-92EF-2292ED23F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D7F3-1D2F-4D54-A233-0DA6F2772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5EEF-CE16-4852-A9BF-28074E91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D0B-CEE7-46AD-8F34-9A082A6B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5DA-855B-46AC-BE82-2B92C797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31F-37C9-49E6-B5A4-2253EFDE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306-5114-4C0F-A33C-982CFB8E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DF7-878E-4299-A2AE-13640E7D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55A-E544-446A-8F65-5F18D64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FEE-BC85-4959-B3E2-54508C73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B1A-B04B-44BD-A509-8EBF44B0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785-DEA4-41BD-B86E-DA2F56EA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22F-4CD2-4703-A618-77A58B7C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CB2-DD98-4A85-AD91-F9942C7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EA4-F9A2-41EE-A294-A832FB2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N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9A30-9C1E-4C73-880F-797512FC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90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ush Script MT"/>
              </a:rPr>
              <a:t>Geography and Early Greek Civ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mappery.com/maps/Greece-Map.jpg"/>
          <p:cNvPicPr/>
          <p:nvPr/>
        </p:nvPicPr>
        <p:blipFill>
          <a:blip r:embed="rId1"/>
          <a:stretch/>
        </p:blipFill>
        <p:spPr>
          <a:xfrm>
            <a:off x="0" y="2190600"/>
            <a:ext cx="4848120" cy="4667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416720" y="2803680"/>
            <a:ext cx="190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www.ariacunningham.com/wp-content/uploads/2014/01/mycenae-city-map.gif"/>
          <p:cNvPicPr/>
          <p:nvPr/>
        </p:nvPicPr>
        <p:blipFill>
          <a:blip r:embed="rId2"/>
          <a:stretch/>
        </p:blipFill>
        <p:spPr>
          <a:xfrm>
            <a:off x="4848120" y="2190600"/>
            <a:ext cx="4295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s was the Greek word for “city-state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olis was an independent city and its surrounding farm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 polis had its own government and laws but the Greeks shared a common language and relig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farming1"/>
          <p:cNvPicPr/>
          <p:nvPr/>
        </p:nvPicPr>
        <p:blipFill>
          <a:blip r:embed="rId1"/>
          <a:stretch/>
        </p:blipFill>
        <p:spPr>
          <a:xfrm>
            <a:off x="457200" y="1571760"/>
            <a:ext cx="8305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57560" y="380880"/>
            <a:ext cx="83113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ncient Greeks farmed but it 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icult.  Hills are not suited for farm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ANTIPAROS-P1010019"/>
          <p:cNvPicPr/>
          <p:nvPr/>
        </p:nvPicPr>
        <p:blipFill>
          <a:blip r:embed="rId1"/>
          <a:stretch/>
        </p:blipFill>
        <p:spPr>
          <a:xfrm>
            <a:off x="457200" y="1089000"/>
            <a:ext cx="8229600" cy="5388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457200" y="380880"/>
            <a:ext cx="822960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However, there is always the s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66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today, the Greeks have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the Mediterranean and Aegean S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is a peninsula and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 surround parts of Gre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s allowed the Greeks to travel and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encouraged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 and Cultural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s allowed the Greeks to depend heavily on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encouraged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ks were exposed to the Phoenician alphabet and Egyptian geom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it difficult to farm in ancient Gre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Greeks depend heavily on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wo geographic features and their effects on the Gr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ancient Greeks never develop a unified system of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po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the Geography of Greece with the Geography of any of the Early River Valley Civ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Content Placeholder 3"/>
          <p:cNvGraphicFramePr/>
          <p:nvPr/>
        </p:nvGraphicFramePr>
        <p:xfrm>
          <a:off x="457200" y="1752480"/>
          <a:ext cx="82296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understand the relationship between Greek colonies and their trading routes students will identify key regions of Greece and the surrounding areas to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Asia Minor, Crete, Peloponnesus, Balkan Peninsula, Aegean Sea, Mediterranean Sea, Mycenae, Athens, and Spar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ouse08"/>
          <p:cNvPicPr/>
          <p:nvPr/>
        </p:nvPicPr>
        <p:blipFill>
          <a:blip r:embed="rId1"/>
          <a:stretch/>
        </p:blipFill>
        <p:spPr>
          <a:xfrm>
            <a:off x="304920" y="1403280"/>
            <a:ext cx="8458200" cy="5181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9760" y="228600"/>
            <a:ext cx="87685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important to remember that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ed the Greek city-sta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Do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9f4f5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tique Olive Roman"/>
              </a:rPr>
              <a:t>How does geography influence how you interact with your neighbo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360" y="380520"/>
            <a:ext cx="87948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Learning Target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600" spc="-1" strike="noStrike">
                <a:solidFill>
                  <a:srgbClr val="404040"/>
                </a:solidFill>
                <a:latin typeface="Arial"/>
              </a:rPr>
              <a:t>Intentions of the L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60360" y="1684440"/>
            <a:ext cx="868680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c00000"/>
                </a:solidFill>
                <a:latin typeface="Times New Roman"/>
                <a:ea typeface="Calibri"/>
              </a:rPr>
              <a:t>I Want Students to: </a:t>
            </a:r>
            <a:br>
              <a:rPr sz="4500"/>
            </a:br>
            <a:r>
              <a:rPr b="1" i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KNOW</a:t>
            </a:r>
            <a:r>
              <a:rPr b="1" lang="en-US" sz="33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differences and similarities of the Geography of Greece to River Valley Civilizations.  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NDERSTAND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xplain the how Greece’s geography influences their interaction in the region.  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mplete a chart comparing the characteristics of Minoan and Mycenaean culture 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kill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mountain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5689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rebuchet MS"/>
              </a:rPr>
              <a:t>Greece is mountaino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eece-map"/>
          <p:cNvPicPr/>
          <p:nvPr/>
        </p:nvPicPr>
        <p:blipFill>
          <a:blip r:embed="rId1"/>
          <a:stretch/>
        </p:blipFill>
        <p:spPr>
          <a:xfrm>
            <a:off x="0" y="1216080"/>
            <a:ext cx="9220320" cy="5641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15840"/>
            <a:ext cx="914400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ce is a Mountainous Penins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Isl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ography of 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ient Greece consisted of a large mountainous peninsula and islands in the Aegean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hilly terrain made farming diffic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location encouraged tr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View of Athens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ountains separated Greek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Effects of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066680" y="175248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’s mountainous terrain separated the ancient Greek 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uch, the ancient Greeks never developed a unified system of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cient Greeks developed the polis or the city-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ancient-greece-map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5513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9080" y="0"/>
            <a:ext cx="912492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he Greeks lived in Separate City-Sta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02:57Z</dcterms:created>
  <dc:creator>White Plains City School District</dc:creator>
  <dc:description/>
  <dc:language>en-US</dc:language>
  <cp:lastModifiedBy>Katherine Silver</cp:lastModifiedBy>
  <cp:lastPrinted>2017-02-13T12:05:21Z</cp:lastPrinted>
  <dcterms:modified xsi:type="dcterms:W3CDTF">2018-02-10T14:42:40Z</dcterms:modified>
  <cp:revision>26</cp:revision>
  <dc:subject/>
  <dc:title>Geography and Early Greek Civilization</dc:title>
</cp:coreProperties>
</file>