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5EB7-4439-4ED8-B76A-71AC58123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67D0-4685-4463-9286-36AD44723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9666-0A17-4DD1-A121-272E88827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27F2-BF7A-484D-8F64-89C7BBF06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E365-3221-4E10-BC09-13D782939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36A3-DB69-4510-88D7-6CFBAC416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3488-938F-4664-A57E-DAE630278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1676-D7BB-4939-8015-39CE1DE35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03B1-7BE2-4227-A8E6-794598C0D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D59C-D55B-43C9-8950-EE7EBEBDD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D3C1-BF5A-451C-80C0-AED0DC1C7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FD58-9F86-4848-8D6E-7590D92BB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3C24-9B7F-4277-8461-CDDEC12F8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C82B-3A98-4CAC-BA14-D90D10723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8EBC-76F2-49D1-8F85-70CB0E9E5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F77D-1E5B-433F-8453-947C1E1D1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10F-BAEF-4CB3-B491-F3FF7DE2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996-3CD4-4227-BF7E-0E9230CA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C80-4AC4-47AA-A282-44118D65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652-BAA1-422B-93F5-C80F9DB9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A05-E669-48FF-A1F1-3ACE3DDA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38B8-5F0B-474D-AF33-A02F87CA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9A6-0FD4-4D7F-9A2D-727218DA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9E9-EDF0-4310-9094-C123698E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3B2-A261-42E0-9AC8-1D904F40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1DD-8D5B-4978-B21A-BC12FBF3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8EB-F016-4E58-910C-791B707B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DFA-35CF-411B-9940-AC9CB6F9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N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B884-23E2-4AAB-A16C-F0F351F60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90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ush Script MT"/>
              </a:rPr>
              <a:t>Geography and Early Greek Civi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mappery.com/maps/Greece-Map.jpg"/>
          <p:cNvPicPr/>
          <p:nvPr/>
        </p:nvPicPr>
        <p:blipFill>
          <a:blip r:embed="rId1"/>
          <a:stretch/>
        </p:blipFill>
        <p:spPr>
          <a:xfrm>
            <a:off x="0" y="2190600"/>
            <a:ext cx="4848120" cy="4667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7416720" y="2803680"/>
            <a:ext cx="190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www.ariacunningham.com/wp-content/uploads/2014/01/mycenae-city-map.gif"/>
          <p:cNvPicPr/>
          <p:nvPr/>
        </p:nvPicPr>
        <p:blipFill>
          <a:blip r:embed="rId2"/>
          <a:stretch/>
        </p:blipFill>
        <p:spPr>
          <a:xfrm>
            <a:off x="4848120" y="2190600"/>
            <a:ext cx="42958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s was the Greek word for “city-state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olis was an independent city and its surrounding farm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ry polis had its own government and laws but the Greeks shared a common language and relig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farming1"/>
          <p:cNvPicPr/>
          <p:nvPr/>
        </p:nvPicPr>
        <p:blipFill>
          <a:blip r:embed="rId1"/>
          <a:stretch/>
        </p:blipFill>
        <p:spPr>
          <a:xfrm>
            <a:off x="457200" y="1571760"/>
            <a:ext cx="8305920" cy="4876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457560" y="380880"/>
            <a:ext cx="831132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ncient Greeks farmed but it 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icult.  Hills are not suited for farm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ANTIPAROS-P1010019"/>
          <p:cNvPicPr/>
          <p:nvPr/>
        </p:nvPicPr>
        <p:blipFill>
          <a:blip r:embed="rId1"/>
          <a:stretch/>
        </p:blipFill>
        <p:spPr>
          <a:xfrm>
            <a:off x="457200" y="1089000"/>
            <a:ext cx="8229600" cy="5388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457200" y="380880"/>
            <a:ext cx="8229600" cy="70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However, there is always the s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66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80880" y="228600"/>
            <a:ext cx="838224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today, the Greeks have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the Mediterranean and Aegean Se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is a peninsula and is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 surround parts of Gre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s allowed the Greeks to travel and t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encouraged cultural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 and Cultural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s allowed the Greeks to depend heavily on t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encouraged cultural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eks were exposed to the Phoenician alphabet and Egyptian geome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for Reflec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as it difficult to farm in ancient Gree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e Greeks depend heavily on tr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wo geographic features and their effects on the Gr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e ancient Greeks never develop a unified system of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pol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the Geography of Greece with the Geography of any of the Early River Valley Civi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Content Placeholder 3"/>
          <p:cNvGraphicFramePr/>
          <p:nvPr/>
        </p:nvGraphicFramePr>
        <p:xfrm>
          <a:off x="457200" y="1752480"/>
          <a:ext cx="82296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29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understand the relationship between Greek colonies and their trading routes students will identify key regions of Greece and the surrounding areas to inclu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Arial"/>
              </a:rPr>
              <a:t>Asia Minor, Crete, Peloponnesus, Balkan Peninsula, Aegean Sea, Mediterranean Sea, Mycenae, Athens, and Spar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ouse08"/>
          <p:cNvPicPr/>
          <p:nvPr/>
        </p:nvPicPr>
        <p:blipFill>
          <a:blip r:embed="rId1"/>
          <a:stretch/>
        </p:blipFill>
        <p:spPr>
          <a:xfrm>
            <a:off x="304920" y="1403280"/>
            <a:ext cx="8458200" cy="51818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9760" y="228600"/>
            <a:ext cx="876852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important to remember that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arated the Greek city-sta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Do 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9f4f5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tique Olive Roman"/>
              </a:rPr>
              <a:t>How does geography influence how you interact with your neighbo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360" y="380520"/>
            <a:ext cx="8794800" cy="12193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Learning Target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3600" spc="-1" strike="noStrike">
                <a:solidFill>
                  <a:srgbClr val="404040"/>
                </a:solidFill>
                <a:latin typeface="Arial"/>
              </a:rPr>
              <a:t>Intentions of the Le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60360" y="1684440"/>
            <a:ext cx="868680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c00000"/>
                </a:solidFill>
                <a:latin typeface="Times New Roman"/>
                <a:ea typeface="Calibri"/>
              </a:rPr>
              <a:t>I Want Students to: </a:t>
            </a:r>
            <a:br>
              <a:rPr sz="4500"/>
            </a:br>
            <a:r>
              <a:rPr b="1" i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 KNOW</a:t>
            </a:r>
            <a:r>
              <a:rPr b="1" lang="en-US" sz="33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differences and similarities of the Geography of Greece to River Valley Civilizations.  </a:t>
            </a: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NDERSTAND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explain the how Greece’s geography influences their interaction in the region.  </a:t>
            </a: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omplete a chart comparing the characteristics of Minoan and Mycenaean culture </a:t>
            </a: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kill)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mountain"/>
          <p:cNvPicPr/>
          <p:nvPr/>
        </p:nvPicPr>
        <p:blipFill>
          <a:blip r:embed="rId1"/>
          <a:stretch/>
        </p:blipFill>
        <p:spPr>
          <a:xfrm>
            <a:off x="0" y="1108080"/>
            <a:ext cx="9144000" cy="5689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rebuchet MS"/>
              </a:rPr>
              <a:t>Greece is mountaino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greece-map"/>
          <p:cNvPicPr/>
          <p:nvPr/>
        </p:nvPicPr>
        <p:blipFill>
          <a:blip r:embed="rId1"/>
          <a:stretch/>
        </p:blipFill>
        <p:spPr>
          <a:xfrm>
            <a:off x="0" y="1216080"/>
            <a:ext cx="9220320" cy="5641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0" y="15840"/>
            <a:ext cx="914400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ece is a Mountainous Penins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 Isl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eography of Gre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cient Greece consisted of a large mountainous peninsula and islands in the Aegean S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s hilly terrain made farming diffic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s location encouraged tr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View of Athens"/>
          <p:cNvPicPr/>
          <p:nvPr/>
        </p:nvPicPr>
        <p:blipFill>
          <a:blip r:embed="rId1"/>
          <a:stretch/>
        </p:blipFill>
        <p:spPr>
          <a:xfrm>
            <a:off x="0" y="77004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ountains separated Greek 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Effects of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066680" y="1752480"/>
            <a:ext cx="716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’s mountainous terrain separated the ancient Greek 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such, the ancient Greeks never developed a unified system of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cient Greeks developed the polis or the city-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ancient-greece-map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5513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9080" y="0"/>
            <a:ext cx="9124920" cy="131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he Greeks lived in Separate City-Sta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02:57Z</dcterms:created>
  <dc:creator>White Plains City School District</dc:creator>
  <dc:description/>
  <dc:language>en-US</dc:language>
  <cp:lastModifiedBy>Katherine Silver</cp:lastModifiedBy>
  <cp:lastPrinted>2017-02-13T12:05:21Z</cp:lastPrinted>
  <dcterms:modified xsi:type="dcterms:W3CDTF">2018-02-10T14:42:40Z</dcterms:modified>
  <cp:revision>26</cp:revision>
  <dc:subject/>
  <dc:title>Geography and Early Greek Civilization</dc:title>
</cp:coreProperties>
</file>