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wmf" ContentType="image/x-wmf"/>
  <Override PartName="/ppt/media/image13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7344-C14C-4A30-BAC5-932B0CF8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242F-E48A-4BD0-B670-282F79D6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F336-6896-4367-BC3A-C0BB385B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C5291-1F77-4F97-B638-5D0E21A3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AADB-6268-4977-8361-6FC52077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5895-01A3-48C9-84E8-010E959E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A241-714C-4193-8EC2-DF858528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4E99-A05B-4012-BBD7-B26FD36E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F8A9-CC36-49DE-AEF6-1EA054D8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62EE-A6C0-4CB8-979A-5B2ABEF3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58F9-3858-4407-8A85-E91F550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B889-54CD-4161-A1BE-4106B11E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C2FB-8F3D-42A7-9B7F-D870A3D2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130D-B7ED-4D90-8C89-3DFA206B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0BAF-C219-48C5-A350-F015FF6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9C85-3CF7-468A-BCB5-B40B6D39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2C90-5B84-4BD1-B8D6-E8C2DE8F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C576-7559-4D59-8793-17828D32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610B-1A49-4768-A80D-459C4EB3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71DE-7C6C-425F-BCBF-88DA1C71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CEC1-0CA9-42D8-88B5-2853D707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3613-380F-4216-A3F4-055EE67B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06E6-5071-40A6-AC3D-545E699A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ECD1-4979-4DF2-B3BC-F17F4C3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9A24-A99B-446E-9AEA-88046962CD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6AFD-10DF-497F-A52A-6062F0FF2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rds.yahoo.com/_ylt=A9G_bDp4lbFKlAgAHCSjzbkF/SIG=1270coonv/EXP=1253238520/**http%3A//www.atlastours.net/holyland/western_wall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O NOW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Garamond"/>
              </a:rPr>
              <a:t>EXPLAIN WHY, OR WHY NOT, RELIGION, RELIGIOUS BELIEFES, OR FAITH IS IMPORTANT TO THE WELL-BEING OF MANKIND.</a:t>
            </a:r>
            <a:endParaRPr b="0" lang="en-US" sz="5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Pros and Cons of Christian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y did Christianity appeal to peop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braced All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ised life after death f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ealed to poorer peop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o were not wealthy like Roma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cause of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ax Romana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ideas of Christianity were able to spread quickly through the empi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Picture 7" descr="C:\Users\glennlauren\AppData\Local\Microsoft\Windows\Temporary Internet Files\Content.IE5\52LECQ0G\MC900250877[1].wmf"/>
          <p:cNvPicPr/>
          <p:nvPr/>
        </p:nvPicPr>
        <p:blipFill>
          <a:blip r:embed="rId1"/>
          <a:stretch/>
        </p:blipFill>
        <p:spPr>
          <a:xfrm>
            <a:off x="6248520" y="2819520"/>
            <a:ext cx="2178000" cy="2008080"/>
          </a:xfrm>
          <a:prstGeom prst="rect">
            <a:avLst/>
          </a:prstGeom>
          <a:ln w="0">
            <a:noFill/>
          </a:ln>
        </p:spPr>
      </p:pic>
      <p:sp>
        <p:nvSpPr>
          <p:cNvPr id="270" name="SMARTInkShape-192"/>
          <p:cNvSpPr/>
          <p:nvPr/>
        </p:nvSpPr>
        <p:spPr>
          <a:xfrm>
            <a:off x="2556000" y="2152800"/>
            <a:ext cx="782640" cy="525240"/>
          </a:xfrm>
          <a:custGeom>
            <a:avLst/>
            <a:gdLst>
              <a:gd name="textAreaLeft" fmla="*/ 0 w 782640"/>
              <a:gd name="textAreaRight" fmla="*/ 783000 w 7826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783905" h="526430">
                <a:moveTo>
                  <a:pt x="409393" y="88880"/>
                </a:moveTo>
                <a:lnTo>
                  <a:pt x="409393" y="88880"/>
                </a:lnTo>
                <a:lnTo>
                  <a:pt x="392612" y="81813"/>
                </a:lnTo>
                <a:lnTo>
                  <a:pt x="348755" y="79965"/>
                </a:lnTo>
                <a:lnTo>
                  <a:pt x="340089" y="79954"/>
                </a:lnTo>
                <a:lnTo>
                  <a:pt x="331248" y="87080"/>
                </a:lnTo>
                <a:lnTo>
                  <a:pt x="322850" y="94190"/>
                </a:lnTo>
                <a:lnTo>
                  <a:pt x="311122" y="99741"/>
                </a:lnTo>
                <a:lnTo>
                  <a:pt x="286236" y="118485"/>
                </a:lnTo>
                <a:lnTo>
                  <a:pt x="272838" y="135298"/>
                </a:lnTo>
                <a:lnTo>
                  <a:pt x="250569" y="153875"/>
                </a:lnTo>
                <a:lnTo>
                  <a:pt x="214851" y="196653"/>
                </a:lnTo>
                <a:lnTo>
                  <a:pt x="184528" y="237744"/>
                </a:lnTo>
                <a:lnTo>
                  <a:pt x="162418" y="280375"/>
                </a:lnTo>
                <a:lnTo>
                  <a:pt x="153093" y="310261"/>
                </a:lnTo>
                <a:lnTo>
                  <a:pt x="148575" y="329430"/>
                </a:lnTo>
                <a:lnTo>
                  <a:pt x="143598" y="347678"/>
                </a:lnTo>
                <a:lnTo>
                  <a:pt x="141687" y="390614"/>
                </a:lnTo>
                <a:lnTo>
                  <a:pt x="142519" y="422008"/>
                </a:lnTo>
                <a:lnTo>
                  <a:pt x="148639" y="439049"/>
                </a:lnTo>
                <a:lnTo>
                  <a:pt x="166411" y="466733"/>
                </a:lnTo>
                <a:lnTo>
                  <a:pt x="184310" y="483811"/>
                </a:lnTo>
                <a:lnTo>
                  <a:pt x="187900" y="489089"/>
                </a:lnTo>
                <a:lnTo>
                  <a:pt x="199827" y="497600"/>
                </a:lnTo>
                <a:lnTo>
                  <a:pt x="239362" y="517326"/>
                </a:lnTo>
                <a:lnTo>
                  <a:pt x="251472" y="522386"/>
                </a:lnTo>
                <a:lnTo>
                  <a:pt x="294469" y="526080"/>
                </a:lnTo>
                <a:lnTo>
                  <a:pt x="338109" y="526388"/>
                </a:lnTo>
                <a:lnTo>
                  <a:pt x="378202" y="526429"/>
                </a:lnTo>
                <a:lnTo>
                  <a:pt x="417453" y="521693"/>
                </a:lnTo>
                <a:lnTo>
                  <a:pt x="454862" y="511204"/>
                </a:lnTo>
                <a:lnTo>
                  <a:pt x="496794" y="502223"/>
                </a:lnTo>
                <a:lnTo>
                  <a:pt x="514715" y="498807"/>
                </a:lnTo>
                <a:lnTo>
                  <a:pt x="553398" y="479680"/>
                </a:lnTo>
                <a:lnTo>
                  <a:pt x="594419" y="456974"/>
                </a:lnTo>
                <a:lnTo>
                  <a:pt x="620236" y="438741"/>
                </a:lnTo>
                <a:lnTo>
                  <a:pt x="661380" y="398362"/>
                </a:lnTo>
                <a:lnTo>
                  <a:pt x="688031" y="361725"/>
                </a:lnTo>
                <a:lnTo>
                  <a:pt x="700655" y="318903"/>
                </a:lnTo>
                <a:lnTo>
                  <a:pt x="708917" y="276293"/>
                </a:lnTo>
                <a:lnTo>
                  <a:pt x="700166" y="239299"/>
                </a:lnTo>
                <a:lnTo>
                  <a:pt x="683156" y="194674"/>
                </a:lnTo>
                <a:lnTo>
                  <a:pt x="660630" y="150027"/>
                </a:lnTo>
                <a:lnTo>
                  <a:pt x="631267" y="110120"/>
                </a:lnTo>
                <a:lnTo>
                  <a:pt x="610941" y="86976"/>
                </a:lnTo>
                <a:lnTo>
                  <a:pt x="570077" y="55260"/>
                </a:lnTo>
                <a:lnTo>
                  <a:pt x="528453" y="32449"/>
                </a:lnTo>
                <a:lnTo>
                  <a:pt x="497513" y="21436"/>
                </a:lnTo>
                <a:lnTo>
                  <a:pt x="453886" y="13228"/>
                </a:lnTo>
                <a:lnTo>
                  <a:pt x="409373" y="9134"/>
                </a:lnTo>
                <a:lnTo>
                  <a:pt x="382599" y="11343"/>
                </a:lnTo>
                <a:lnTo>
                  <a:pt x="337955" y="18624"/>
                </a:lnTo>
                <a:lnTo>
                  <a:pt x="293307" y="37454"/>
                </a:lnTo>
                <a:lnTo>
                  <a:pt x="251452" y="51015"/>
                </a:lnTo>
                <a:lnTo>
                  <a:pt x="216138" y="71773"/>
                </a:lnTo>
                <a:lnTo>
                  <a:pt x="177459" y="100885"/>
                </a:lnTo>
                <a:lnTo>
                  <a:pt x="137816" y="137506"/>
                </a:lnTo>
                <a:lnTo>
                  <a:pt x="100867" y="181319"/>
                </a:lnTo>
                <a:lnTo>
                  <a:pt x="72786" y="223239"/>
                </a:lnTo>
                <a:lnTo>
                  <a:pt x="52956" y="260461"/>
                </a:lnTo>
                <a:lnTo>
                  <a:pt x="38414" y="303445"/>
                </a:lnTo>
                <a:lnTo>
                  <a:pt x="36543" y="329065"/>
                </a:lnTo>
                <a:lnTo>
                  <a:pt x="42193" y="366952"/>
                </a:lnTo>
                <a:lnTo>
                  <a:pt x="52847" y="400800"/>
                </a:lnTo>
                <a:lnTo>
                  <a:pt x="64238" y="425110"/>
                </a:lnTo>
                <a:lnTo>
                  <a:pt x="72767" y="434438"/>
                </a:lnTo>
                <a:lnTo>
                  <a:pt x="111895" y="465505"/>
                </a:lnTo>
                <a:lnTo>
                  <a:pt x="155158" y="492329"/>
                </a:lnTo>
                <a:lnTo>
                  <a:pt x="198349" y="501328"/>
                </a:lnTo>
                <a:lnTo>
                  <a:pt x="238611" y="507144"/>
                </a:lnTo>
                <a:lnTo>
                  <a:pt x="276219" y="508293"/>
                </a:lnTo>
                <a:lnTo>
                  <a:pt x="318190" y="508520"/>
                </a:lnTo>
                <a:lnTo>
                  <a:pt x="346321" y="505913"/>
                </a:lnTo>
                <a:lnTo>
                  <a:pt x="387233" y="500884"/>
                </a:lnTo>
                <a:lnTo>
                  <a:pt x="426403" y="492761"/>
                </a:lnTo>
                <a:lnTo>
                  <a:pt x="462804" y="481603"/>
                </a:lnTo>
                <a:lnTo>
                  <a:pt x="498657" y="465104"/>
                </a:lnTo>
                <a:lnTo>
                  <a:pt x="534402" y="448873"/>
                </a:lnTo>
                <a:lnTo>
                  <a:pt x="574316" y="421841"/>
                </a:lnTo>
                <a:lnTo>
                  <a:pt x="612682" y="392435"/>
                </a:lnTo>
                <a:lnTo>
                  <a:pt x="650311" y="354120"/>
                </a:lnTo>
                <a:lnTo>
                  <a:pt x="679129" y="310028"/>
                </a:lnTo>
                <a:lnTo>
                  <a:pt x="703450" y="268074"/>
                </a:lnTo>
                <a:lnTo>
                  <a:pt x="708757" y="254842"/>
                </a:lnTo>
                <a:lnTo>
                  <a:pt x="712630" y="211771"/>
                </a:lnTo>
                <a:lnTo>
                  <a:pt x="711977" y="169139"/>
                </a:lnTo>
                <a:lnTo>
                  <a:pt x="694909" y="124767"/>
                </a:lnTo>
                <a:lnTo>
                  <a:pt x="683498" y="106789"/>
                </a:lnTo>
                <a:lnTo>
                  <a:pt x="644383" y="65071"/>
                </a:lnTo>
                <a:lnTo>
                  <a:pt x="601120" y="37038"/>
                </a:lnTo>
                <a:lnTo>
                  <a:pt x="556594" y="14880"/>
                </a:lnTo>
                <a:lnTo>
                  <a:pt x="518433" y="8779"/>
                </a:lnTo>
                <a:lnTo>
                  <a:pt x="481203" y="1694"/>
                </a:lnTo>
                <a:lnTo>
                  <a:pt x="440445" y="0"/>
                </a:lnTo>
                <a:lnTo>
                  <a:pt x="401306" y="658"/>
                </a:lnTo>
                <a:lnTo>
                  <a:pt x="362265" y="9313"/>
                </a:lnTo>
                <a:lnTo>
                  <a:pt x="321371" y="20578"/>
                </a:lnTo>
                <a:lnTo>
                  <a:pt x="278492" y="33349"/>
                </a:lnTo>
                <a:lnTo>
                  <a:pt x="240331" y="53952"/>
                </a:lnTo>
                <a:lnTo>
                  <a:pt x="204129" y="77130"/>
                </a:lnTo>
                <a:lnTo>
                  <a:pt x="169307" y="95673"/>
                </a:lnTo>
                <a:lnTo>
                  <a:pt x="129947" y="135926"/>
                </a:lnTo>
                <a:lnTo>
                  <a:pt x="99877" y="170935"/>
                </a:lnTo>
                <a:lnTo>
                  <a:pt x="77139" y="211472"/>
                </a:lnTo>
                <a:lnTo>
                  <a:pt x="71805" y="218233"/>
                </a:lnTo>
                <a:lnTo>
                  <a:pt x="65877" y="233684"/>
                </a:lnTo>
                <a:lnTo>
                  <a:pt x="55623" y="275665"/>
                </a:lnTo>
                <a:lnTo>
                  <a:pt x="52656" y="313397"/>
                </a:lnTo>
                <a:lnTo>
                  <a:pt x="57079" y="334549"/>
                </a:lnTo>
                <a:lnTo>
                  <a:pt x="73208" y="376273"/>
                </a:lnTo>
                <a:lnTo>
                  <a:pt x="81715" y="387928"/>
                </a:lnTo>
                <a:lnTo>
                  <a:pt x="95014" y="402714"/>
                </a:lnTo>
                <a:lnTo>
                  <a:pt x="103974" y="413901"/>
                </a:lnTo>
                <a:lnTo>
                  <a:pt x="125753" y="430364"/>
                </a:lnTo>
                <a:lnTo>
                  <a:pt x="168569" y="453285"/>
                </a:lnTo>
                <a:lnTo>
                  <a:pt x="204065" y="467962"/>
                </a:lnTo>
                <a:lnTo>
                  <a:pt x="242386" y="474536"/>
                </a:lnTo>
                <a:lnTo>
                  <a:pt x="276235" y="482284"/>
                </a:lnTo>
                <a:lnTo>
                  <a:pt x="311399" y="488218"/>
                </a:lnTo>
                <a:lnTo>
                  <a:pt x="354097" y="490223"/>
                </a:lnTo>
                <a:lnTo>
                  <a:pt x="398323" y="489627"/>
                </a:lnTo>
                <a:lnTo>
                  <a:pt x="442631" y="483629"/>
                </a:lnTo>
                <a:lnTo>
                  <a:pt x="480341" y="477410"/>
                </a:lnTo>
                <a:lnTo>
                  <a:pt x="522589" y="466627"/>
                </a:lnTo>
                <a:lnTo>
                  <a:pt x="560627" y="452297"/>
                </a:lnTo>
                <a:lnTo>
                  <a:pt x="604779" y="431013"/>
                </a:lnTo>
                <a:lnTo>
                  <a:pt x="642797" y="403981"/>
                </a:lnTo>
                <a:lnTo>
                  <a:pt x="683729" y="374576"/>
                </a:lnTo>
                <a:lnTo>
                  <a:pt x="700691" y="356755"/>
                </a:lnTo>
                <a:lnTo>
                  <a:pt x="732399" y="315098"/>
                </a:lnTo>
                <a:lnTo>
                  <a:pt x="751572" y="271692"/>
                </a:lnTo>
                <a:lnTo>
                  <a:pt x="762587" y="246883"/>
                </a:lnTo>
                <a:lnTo>
                  <a:pt x="766230" y="204804"/>
                </a:lnTo>
                <a:lnTo>
                  <a:pt x="765485" y="184964"/>
                </a:lnTo>
                <a:lnTo>
                  <a:pt x="754138" y="154475"/>
                </a:lnTo>
                <a:lnTo>
                  <a:pt x="724713" y="112699"/>
                </a:lnTo>
                <a:lnTo>
                  <a:pt x="700800" y="88882"/>
                </a:lnTo>
                <a:lnTo>
                  <a:pt x="659921" y="60230"/>
                </a:lnTo>
                <a:lnTo>
                  <a:pt x="646746" y="50350"/>
                </a:lnTo>
                <a:lnTo>
                  <a:pt x="602724" y="29625"/>
                </a:lnTo>
                <a:lnTo>
                  <a:pt x="577140" y="21493"/>
                </a:lnTo>
                <a:lnTo>
                  <a:pt x="536088" y="18243"/>
                </a:lnTo>
                <a:lnTo>
                  <a:pt x="494281" y="17601"/>
                </a:lnTo>
                <a:lnTo>
                  <a:pt x="459570" y="17490"/>
                </a:lnTo>
                <a:lnTo>
                  <a:pt x="424150" y="22197"/>
                </a:lnTo>
                <a:lnTo>
                  <a:pt x="388520" y="29876"/>
                </a:lnTo>
                <a:lnTo>
                  <a:pt x="352828" y="38435"/>
                </a:lnTo>
                <a:lnTo>
                  <a:pt x="317116" y="47255"/>
                </a:lnTo>
                <a:lnTo>
                  <a:pt x="281400" y="60892"/>
                </a:lnTo>
                <a:lnTo>
                  <a:pt x="245682" y="77501"/>
                </a:lnTo>
                <a:lnTo>
                  <a:pt x="209963" y="94990"/>
                </a:lnTo>
                <a:lnTo>
                  <a:pt x="174245" y="117480"/>
                </a:lnTo>
                <a:lnTo>
                  <a:pt x="133749" y="145609"/>
                </a:lnTo>
                <a:lnTo>
                  <a:pt x="97086" y="178800"/>
                </a:lnTo>
                <a:lnTo>
                  <a:pt x="59365" y="222907"/>
                </a:lnTo>
                <a:lnTo>
                  <a:pt x="28552" y="267485"/>
                </a:lnTo>
                <a:lnTo>
                  <a:pt x="8362" y="312124"/>
                </a:lnTo>
                <a:lnTo>
                  <a:pt x="1512" y="338912"/>
                </a:lnTo>
                <a:lnTo>
                  <a:pt x="0" y="377423"/>
                </a:lnTo>
                <a:lnTo>
                  <a:pt x="13892" y="421325"/>
                </a:lnTo>
                <a:lnTo>
                  <a:pt x="28137" y="445884"/>
                </a:lnTo>
                <a:lnTo>
                  <a:pt x="44082" y="461227"/>
                </a:lnTo>
                <a:lnTo>
                  <a:pt x="86414" y="484591"/>
                </a:lnTo>
                <a:lnTo>
                  <a:pt x="123345" y="499024"/>
                </a:lnTo>
                <a:lnTo>
                  <a:pt x="164043" y="511429"/>
                </a:lnTo>
                <a:lnTo>
                  <a:pt x="198562" y="515705"/>
                </a:lnTo>
                <a:lnTo>
                  <a:pt x="233926" y="516972"/>
                </a:lnTo>
                <a:lnTo>
                  <a:pt x="269539" y="517347"/>
                </a:lnTo>
                <a:lnTo>
                  <a:pt x="305227" y="517458"/>
                </a:lnTo>
                <a:lnTo>
                  <a:pt x="345676" y="512751"/>
                </a:lnTo>
                <a:lnTo>
                  <a:pt x="384341" y="509813"/>
                </a:lnTo>
                <a:lnTo>
                  <a:pt x="420932" y="504202"/>
                </a:lnTo>
                <a:lnTo>
                  <a:pt x="456909" y="496256"/>
                </a:lnTo>
                <a:lnTo>
                  <a:pt x="492704" y="482877"/>
                </a:lnTo>
                <a:lnTo>
                  <a:pt x="528446" y="471085"/>
                </a:lnTo>
                <a:lnTo>
                  <a:pt x="568950" y="451083"/>
                </a:lnTo>
                <a:lnTo>
                  <a:pt x="605614" y="428023"/>
                </a:lnTo>
                <a:lnTo>
                  <a:pt x="641519" y="404360"/>
                </a:lnTo>
                <a:lnTo>
                  <a:pt x="683562" y="374626"/>
                </a:lnTo>
                <a:lnTo>
                  <a:pt x="721699" y="331843"/>
                </a:lnTo>
                <a:lnTo>
                  <a:pt x="754985" y="287359"/>
                </a:lnTo>
                <a:lnTo>
                  <a:pt x="775276" y="247147"/>
                </a:lnTo>
                <a:lnTo>
                  <a:pt x="782630" y="218149"/>
                </a:lnTo>
                <a:lnTo>
                  <a:pt x="783904" y="199392"/>
                </a:lnTo>
                <a:lnTo>
                  <a:pt x="779541" y="181266"/>
                </a:lnTo>
                <a:lnTo>
                  <a:pt x="763435" y="145445"/>
                </a:lnTo>
                <a:lnTo>
                  <a:pt x="725612" y="109717"/>
                </a:lnTo>
                <a:lnTo>
                  <a:pt x="686977" y="92041"/>
                </a:lnTo>
                <a:lnTo>
                  <a:pt x="652816" y="77139"/>
                </a:lnTo>
                <a:lnTo>
                  <a:pt x="617558" y="65998"/>
                </a:lnTo>
                <a:lnTo>
                  <a:pt x="581976" y="57406"/>
                </a:lnTo>
                <a:lnTo>
                  <a:pt x="546297" y="54419"/>
                </a:lnTo>
                <a:lnTo>
                  <a:pt x="509599" y="53534"/>
                </a:lnTo>
                <a:lnTo>
                  <a:pt x="467747" y="54264"/>
                </a:lnTo>
                <a:lnTo>
                  <a:pt x="423927" y="60323"/>
                </a:lnTo>
                <a:lnTo>
                  <a:pt x="380516" y="68403"/>
                </a:lnTo>
                <a:lnTo>
                  <a:pt x="341086" y="78073"/>
                </a:lnTo>
                <a:lnTo>
                  <a:pt x="298424" y="94056"/>
                </a:lnTo>
                <a:lnTo>
                  <a:pt x="255356" y="116211"/>
                </a:lnTo>
                <a:lnTo>
                  <a:pt x="217019" y="136776"/>
                </a:lnTo>
                <a:lnTo>
                  <a:pt x="180524" y="162272"/>
                </a:lnTo>
                <a:lnTo>
                  <a:pt x="145568" y="194521"/>
                </a:lnTo>
                <a:lnTo>
                  <a:pt x="115918" y="230204"/>
                </a:lnTo>
                <a:lnTo>
                  <a:pt x="89273" y="270763"/>
                </a:lnTo>
                <a:lnTo>
                  <a:pt x="61135" y="32105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SMARTInkShape-193"/>
          <p:cNvSpPr/>
          <p:nvPr/>
        </p:nvSpPr>
        <p:spPr>
          <a:xfrm>
            <a:off x="2652840" y="3125880"/>
            <a:ext cx="2749320" cy="125280"/>
          </a:xfrm>
          <a:custGeom>
            <a:avLst/>
            <a:gdLst>
              <a:gd name="textAreaLeft" fmla="*/ 0 w 2749320"/>
              <a:gd name="textAreaRight" fmla="*/ 2749680 w 27493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750345" h="125017">
                <a:moveTo>
                  <a:pt x="0" y="17860"/>
                </a:moveTo>
                <a:lnTo>
                  <a:pt x="0" y="17860"/>
                </a:lnTo>
                <a:lnTo>
                  <a:pt x="9481" y="17860"/>
                </a:lnTo>
                <a:lnTo>
                  <a:pt x="16781" y="15214"/>
                </a:lnTo>
                <a:lnTo>
                  <a:pt x="23334" y="11723"/>
                </a:lnTo>
                <a:lnTo>
                  <a:pt x="33593" y="9758"/>
                </a:lnTo>
                <a:lnTo>
                  <a:pt x="77307" y="8952"/>
                </a:lnTo>
                <a:lnTo>
                  <a:pt x="117516" y="8932"/>
                </a:lnTo>
                <a:lnTo>
                  <a:pt x="152087" y="6285"/>
                </a:lnTo>
                <a:lnTo>
                  <a:pt x="187579" y="1242"/>
                </a:lnTo>
                <a:lnTo>
                  <a:pt x="230382" y="246"/>
                </a:lnTo>
                <a:lnTo>
                  <a:pt x="265266" y="73"/>
                </a:lnTo>
                <a:lnTo>
                  <a:pt x="300737" y="22"/>
                </a:lnTo>
                <a:lnTo>
                  <a:pt x="336383" y="7"/>
                </a:lnTo>
                <a:lnTo>
                  <a:pt x="372080" y="2"/>
                </a:lnTo>
                <a:lnTo>
                  <a:pt x="407792" y="1"/>
                </a:lnTo>
                <a:lnTo>
                  <a:pt x="443509" y="0"/>
                </a:lnTo>
                <a:lnTo>
                  <a:pt x="480219" y="0"/>
                </a:lnTo>
                <a:lnTo>
                  <a:pt x="521082" y="993"/>
                </a:lnTo>
                <a:lnTo>
                  <a:pt x="559758" y="6137"/>
                </a:lnTo>
                <a:lnTo>
                  <a:pt x="602196" y="8103"/>
                </a:lnTo>
                <a:lnTo>
                  <a:pt x="645198" y="8685"/>
                </a:lnTo>
                <a:lnTo>
                  <a:pt x="685500" y="8857"/>
                </a:lnTo>
                <a:lnTo>
                  <a:pt x="717416" y="8898"/>
                </a:lnTo>
                <a:lnTo>
                  <a:pt x="759373" y="8920"/>
                </a:lnTo>
                <a:lnTo>
                  <a:pt x="801681" y="8927"/>
                </a:lnTo>
                <a:lnTo>
                  <a:pt x="845635" y="8930"/>
                </a:lnTo>
                <a:lnTo>
                  <a:pt x="890078" y="8930"/>
                </a:lnTo>
                <a:lnTo>
                  <a:pt x="934666" y="8930"/>
                </a:lnTo>
                <a:lnTo>
                  <a:pt x="979297" y="8930"/>
                </a:lnTo>
                <a:lnTo>
                  <a:pt x="1023940" y="8930"/>
                </a:lnTo>
                <a:lnTo>
                  <a:pt x="1068587" y="8930"/>
                </a:lnTo>
                <a:lnTo>
                  <a:pt x="1100997" y="8930"/>
                </a:lnTo>
                <a:lnTo>
                  <a:pt x="1134254" y="9923"/>
                </a:lnTo>
                <a:lnTo>
                  <a:pt x="1165571" y="13671"/>
                </a:lnTo>
                <a:lnTo>
                  <a:pt x="1196027" y="13352"/>
                </a:lnTo>
                <a:lnTo>
                  <a:pt x="1226098" y="10896"/>
                </a:lnTo>
                <a:lnTo>
                  <a:pt x="1256000" y="9804"/>
                </a:lnTo>
                <a:lnTo>
                  <a:pt x="1288473" y="9318"/>
                </a:lnTo>
                <a:lnTo>
                  <a:pt x="1321756" y="10095"/>
                </a:lnTo>
                <a:lnTo>
                  <a:pt x="1353085" y="13747"/>
                </a:lnTo>
                <a:lnTo>
                  <a:pt x="1386192" y="16032"/>
                </a:lnTo>
                <a:lnTo>
                  <a:pt x="1420749" y="17048"/>
                </a:lnTo>
                <a:lnTo>
                  <a:pt x="1455952" y="17499"/>
                </a:lnTo>
                <a:lnTo>
                  <a:pt x="1491441" y="17699"/>
                </a:lnTo>
                <a:lnTo>
                  <a:pt x="1527059" y="17788"/>
                </a:lnTo>
                <a:lnTo>
                  <a:pt x="1562732" y="17828"/>
                </a:lnTo>
                <a:lnTo>
                  <a:pt x="1598430" y="17846"/>
                </a:lnTo>
                <a:lnTo>
                  <a:pt x="1633147" y="17854"/>
                </a:lnTo>
                <a:lnTo>
                  <a:pt x="1665114" y="17857"/>
                </a:lnTo>
                <a:lnTo>
                  <a:pt x="1698504" y="17859"/>
                </a:lnTo>
                <a:lnTo>
                  <a:pt x="1733187" y="17859"/>
                </a:lnTo>
                <a:lnTo>
                  <a:pt x="1768447" y="17860"/>
                </a:lnTo>
                <a:lnTo>
                  <a:pt x="1801315" y="20506"/>
                </a:lnTo>
                <a:lnTo>
                  <a:pt x="1833451" y="23997"/>
                </a:lnTo>
                <a:lnTo>
                  <a:pt x="1867578" y="25548"/>
                </a:lnTo>
                <a:lnTo>
                  <a:pt x="1899944" y="26238"/>
                </a:lnTo>
                <a:lnTo>
                  <a:pt x="1931857" y="26544"/>
                </a:lnTo>
                <a:lnTo>
                  <a:pt x="1965884" y="26680"/>
                </a:lnTo>
                <a:lnTo>
                  <a:pt x="1998206" y="29387"/>
                </a:lnTo>
                <a:lnTo>
                  <a:pt x="2030099" y="32905"/>
                </a:lnTo>
                <a:lnTo>
                  <a:pt x="2064118" y="34468"/>
                </a:lnTo>
                <a:lnTo>
                  <a:pt x="2096435" y="35163"/>
                </a:lnTo>
                <a:lnTo>
                  <a:pt x="2128328" y="36464"/>
                </a:lnTo>
                <a:lnTo>
                  <a:pt x="2162345" y="40350"/>
                </a:lnTo>
                <a:lnTo>
                  <a:pt x="2194662" y="45384"/>
                </a:lnTo>
                <a:lnTo>
                  <a:pt x="2226554" y="49937"/>
                </a:lnTo>
                <a:lnTo>
                  <a:pt x="2260571" y="51960"/>
                </a:lnTo>
                <a:lnTo>
                  <a:pt x="2292889" y="55505"/>
                </a:lnTo>
                <a:lnTo>
                  <a:pt x="2323788" y="59395"/>
                </a:lnTo>
                <a:lnTo>
                  <a:pt x="2354058" y="61125"/>
                </a:lnTo>
                <a:lnTo>
                  <a:pt x="2384047" y="64539"/>
                </a:lnTo>
                <a:lnTo>
                  <a:pt x="2413912" y="69364"/>
                </a:lnTo>
                <a:lnTo>
                  <a:pt x="2457625" y="76666"/>
                </a:lnTo>
                <a:lnTo>
                  <a:pt x="2496153" y="80263"/>
                </a:lnTo>
                <a:lnTo>
                  <a:pt x="2532705" y="86179"/>
                </a:lnTo>
                <a:lnTo>
                  <a:pt x="2568670" y="89366"/>
                </a:lnTo>
                <a:lnTo>
                  <a:pt x="2603469" y="96153"/>
                </a:lnTo>
                <a:lnTo>
                  <a:pt x="2645043" y="107335"/>
                </a:lnTo>
                <a:lnTo>
                  <a:pt x="2681697" y="114358"/>
                </a:lnTo>
                <a:lnTo>
                  <a:pt x="2713192" y="116737"/>
                </a:lnTo>
                <a:lnTo>
                  <a:pt x="2750344" y="12501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SMARTInkShape-194"/>
          <p:cNvSpPr/>
          <p:nvPr/>
        </p:nvSpPr>
        <p:spPr>
          <a:xfrm>
            <a:off x="-106200" y="3044880"/>
            <a:ext cx="2166840" cy="857160"/>
          </a:xfrm>
          <a:custGeom>
            <a:avLst/>
            <a:gdLst>
              <a:gd name="textAreaLeft" fmla="*/ 0 w 2166840"/>
              <a:gd name="textAreaRight" fmla="*/ 2167200 w 21668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8489" h="856057">
                <a:moveTo>
                  <a:pt x="1750218" y="70865"/>
                </a:moveTo>
                <a:lnTo>
                  <a:pt x="1750218" y="70865"/>
                </a:lnTo>
                <a:lnTo>
                  <a:pt x="1742097" y="63736"/>
                </a:lnTo>
                <a:lnTo>
                  <a:pt x="1727858" y="56626"/>
                </a:lnTo>
                <a:lnTo>
                  <a:pt x="1684976" y="43504"/>
                </a:lnTo>
                <a:lnTo>
                  <a:pt x="1656192" y="36797"/>
                </a:lnTo>
                <a:lnTo>
                  <a:pt x="1613874" y="35363"/>
                </a:lnTo>
                <a:lnTo>
                  <a:pt x="1572926" y="35174"/>
                </a:lnTo>
                <a:lnTo>
                  <a:pt x="1533517" y="35152"/>
                </a:lnTo>
                <a:lnTo>
                  <a:pt x="1499479" y="35148"/>
                </a:lnTo>
                <a:lnTo>
                  <a:pt x="1464259" y="37793"/>
                </a:lnTo>
                <a:lnTo>
                  <a:pt x="1428687" y="44860"/>
                </a:lnTo>
                <a:lnTo>
                  <a:pt x="1390367" y="53238"/>
                </a:lnTo>
                <a:lnTo>
                  <a:pt x="1352885" y="62004"/>
                </a:lnTo>
                <a:lnTo>
                  <a:pt x="1308813" y="78595"/>
                </a:lnTo>
                <a:lnTo>
                  <a:pt x="1268969" y="90464"/>
                </a:lnTo>
                <a:lnTo>
                  <a:pt x="1230485" y="105004"/>
                </a:lnTo>
                <a:lnTo>
                  <a:pt x="1193946" y="117140"/>
                </a:lnTo>
                <a:lnTo>
                  <a:pt x="1157985" y="131760"/>
                </a:lnTo>
                <a:lnTo>
                  <a:pt x="1116414" y="160615"/>
                </a:lnTo>
                <a:lnTo>
                  <a:pt x="1082647" y="180250"/>
                </a:lnTo>
                <a:lnTo>
                  <a:pt x="1038327" y="207308"/>
                </a:lnTo>
                <a:lnTo>
                  <a:pt x="1000615" y="236282"/>
                </a:lnTo>
                <a:lnTo>
                  <a:pt x="958187" y="276864"/>
                </a:lnTo>
                <a:lnTo>
                  <a:pt x="919931" y="320977"/>
                </a:lnTo>
                <a:lnTo>
                  <a:pt x="887430" y="365555"/>
                </a:lnTo>
                <a:lnTo>
                  <a:pt x="864372" y="410194"/>
                </a:lnTo>
                <a:lnTo>
                  <a:pt x="846750" y="445912"/>
                </a:lnTo>
                <a:lnTo>
                  <a:pt x="837714" y="490560"/>
                </a:lnTo>
                <a:lnTo>
                  <a:pt x="834676" y="508419"/>
                </a:lnTo>
                <a:lnTo>
                  <a:pt x="838574" y="553068"/>
                </a:lnTo>
                <a:lnTo>
                  <a:pt x="848996" y="595071"/>
                </a:lnTo>
                <a:lnTo>
                  <a:pt x="864284" y="633271"/>
                </a:lnTo>
                <a:lnTo>
                  <a:pt x="890526" y="665764"/>
                </a:lnTo>
                <a:lnTo>
                  <a:pt x="933446" y="701860"/>
                </a:lnTo>
                <a:lnTo>
                  <a:pt x="976608" y="724589"/>
                </a:lnTo>
                <a:lnTo>
                  <a:pt x="1016867" y="742171"/>
                </a:lnTo>
                <a:lnTo>
                  <a:pt x="1060611" y="754206"/>
                </a:lnTo>
                <a:lnTo>
                  <a:pt x="1096650" y="758185"/>
                </a:lnTo>
                <a:lnTo>
                  <a:pt x="1137314" y="764215"/>
                </a:lnTo>
                <a:lnTo>
                  <a:pt x="1175931" y="766442"/>
                </a:lnTo>
                <a:lnTo>
                  <a:pt x="1218352" y="767103"/>
                </a:lnTo>
                <a:lnTo>
                  <a:pt x="1262340" y="767298"/>
                </a:lnTo>
                <a:lnTo>
                  <a:pt x="1305801" y="767357"/>
                </a:lnTo>
                <a:lnTo>
                  <a:pt x="1345247" y="766381"/>
                </a:lnTo>
                <a:lnTo>
                  <a:pt x="1387912" y="760249"/>
                </a:lnTo>
                <a:lnTo>
                  <a:pt x="1431974" y="752149"/>
                </a:lnTo>
                <a:lnTo>
                  <a:pt x="1476448" y="743464"/>
                </a:lnTo>
                <a:lnTo>
                  <a:pt x="1521045" y="734608"/>
                </a:lnTo>
                <a:lnTo>
                  <a:pt x="1565678" y="724707"/>
                </a:lnTo>
                <a:lnTo>
                  <a:pt x="1609330" y="710639"/>
                </a:lnTo>
                <a:lnTo>
                  <a:pt x="1648832" y="698754"/>
                </a:lnTo>
                <a:lnTo>
                  <a:pt x="1690523" y="683106"/>
                </a:lnTo>
                <a:lnTo>
                  <a:pt x="1728452" y="665901"/>
                </a:lnTo>
                <a:lnTo>
                  <a:pt x="1764826" y="648236"/>
                </a:lnTo>
                <a:lnTo>
                  <a:pt x="1799746" y="630435"/>
                </a:lnTo>
                <a:lnTo>
                  <a:pt x="1838715" y="603996"/>
                </a:lnTo>
                <a:lnTo>
                  <a:pt x="1879816" y="575144"/>
                </a:lnTo>
                <a:lnTo>
                  <a:pt x="1921172" y="541656"/>
                </a:lnTo>
                <a:lnTo>
                  <a:pt x="1957572" y="500155"/>
                </a:lnTo>
                <a:lnTo>
                  <a:pt x="1979546" y="470774"/>
                </a:lnTo>
                <a:lnTo>
                  <a:pt x="1996899" y="428791"/>
                </a:lnTo>
                <a:lnTo>
                  <a:pt x="2012106" y="391059"/>
                </a:lnTo>
                <a:lnTo>
                  <a:pt x="2017319" y="347517"/>
                </a:lnTo>
                <a:lnTo>
                  <a:pt x="2017013" y="309152"/>
                </a:lnTo>
                <a:lnTo>
                  <a:pt x="2005667" y="266947"/>
                </a:lnTo>
                <a:lnTo>
                  <a:pt x="1981536" y="229688"/>
                </a:lnTo>
                <a:lnTo>
                  <a:pt x="1951520" y="193828"/>
                </a:lnTo>
                <a:lnTo>
                  <a:pt x="1910416" y="158520"/>
                </a:lnTo>
                <a:lnTo>
                  <a:pt x="1873144" y="131247"/>
                </a:lnTo>
                <a:lnTo>
                  <a:pt x="1835148" y="112789"/>
                </a:lnTo>
                <a:lnTo>
                  <a:pt x="1798313" y="95744"/>
                </a:lnTo>
                <a:lnTo>
                  <a:pt x="1761272" y="82977"/>
                </a:lnTo>
                <a:lnTo>
                  <a:pt x="1719318" y="68060"/>
                </a:lnTo>
                <a:lnTo>
                  <a:pt x="1690183" y="60358"/>
                </a:lnTo>
                <a:lnTo>
                  <a:pt x="1658052" y="50981"/>
                </a:lnTo>
                <a:lnTo>
                  <a:pt x="1623927" y="42184"/>
                </a:lnTo>
                <a:lnTo>
                  <a:pt x="1588917" y="38274"/>
                </a:lnTo>
                <a:lnTo>
                  <a:pt x="1553513" y="33890"/>
                </a:lnTo>
                <a:lnTo>
                  <a:pt x="1516942" y="29627"/>
                </a:lnTo>
                <a:lnTo>
                  <a:pt x="1477538" y="27732"/>
                </a:lnTo>
                <a:lnTo>
                  <a:pt x="1439519" y="26890"/>
                </a:lnTo>
                <a:lnTo>
                  <a:pt x="1401786" y="26516"/>
                </a:lnTo>
                <a:lnTo>
                  <a:pt x="1361865" y="26349"/>
                </a:lnTo>
                <a:lnTo>
                  <a:pt x="1320971" y="28921"/>
                </a:lnTo>
                <a:lnTo>
                  <a:pt x="1279645" y="33372"/>
                </a:lnTo>
                <a:lnTo>
                  <a:pt x="1238127" y="38657"/>
                </a:lnTo>
                <a:lnTo>
                  <a:pt x="1193877" y="46959"/>
                </a:lnTo>
                <a:lnTo>
                  <a:pt x="1149737" y="56271"/>
                </a:lnTo>
                <a:lnTo>
                  <a:pt x="1110275" y="63717"/>
                </a:lnTo>
                <a:lnTo>
                  <a:pt x="1072893" y="72980"/>
                </a:lnTo>
                <a:lnTo>
                  <a:pt x="1035443" y="84703"/>
                </a:lnTo>
                <a:lnTo>
                  <a:pt x="995647" y="99835"/>
                </a:lnTo>
                <a:lnTo>
                  <a:pt x="957455" y="113837"/>
                </a:lnTo>
                <a:lnTo>
                  <a:pt x="921629" y="127667"/>
                </a:lnTo>
                <a:lnTo>
                  <a:pt x="889170" y="143735"/>
                </a:lnTo>
                <a:lnTo>
                  <a:pt x="858207" y="163444"/>
                </a:lnTo>
                <a:lnTo>
                  <a:pt x="827910" y="184441"/>
                </a:lnTo>
                <a:lnTo>
                  <a:pt x="783954" y="212996"/>
                </a:lnTo>
                <a:lnTo>
                  <a:pt x="746346" y="241301"/>
                </a:lnTo>
                <a:lnTo>
                  <a:pt x="703823" y="285918"/>
                </a:lnTo>
                <a:lnTo>
                  <a:pt x="677183" y="318470"/>
                </a:lnTo>
                <a:lnTo>
                  <a:pt x="654553" y="360876"/>
                </a:lnTo>
                <a:lnTo>
                  <a:pt x="636898" y="395690"/>
                </a:lnTo>
                <a:lnTo>
                  <a:pt x="628580" y="431141"/>
                </a:lnTo>
                <a:lnTo>
                  <a:pt x="621375" y="466781"/>
                </a:lnTo>
                <a:lnTo>
                  <a:pt x="622437" y="497736"/>
                </a:lnTo>
                <a:lnTo>
                  <a:pt x="631685" y="540999"/>
                </a:lnTo>
                <a:lnTo>
                  <a:pt x="645712" y="581883"/>
                </a:lnTo>
                <a:lnTo>
                  <a:pt x="667298" y="623142"/>
                </a:lnTo>
                <a:lnTo>
                  <a:pt x="697800" y="658962"/>
                </a:lnTo>
                <a:lnTo>
                  <a:pt x="735134" y="688822"/>
                </a:lnTo>
                <a:lnTo>
                  <a:pt x="768812" y="711692"/>
                </a:lnTo>
                <a:lnTo>
                  <a:pt x="803926" y="731037"/>
                </a:lnTo>
                <a:lnTo>
                  <a:pt x="844757" y="746690"/>
                </a:lnTo>
                <a:lnTo>
                  <a:pt x="876502" y="755208"/>
                </a:lnTo>
                <a:lnTo>
                  <a:pt x="907148" y="765609"/>
                </a:lnTo>
                <a:lnTo>
                  <a:pt x="939950" y="774200"/>
                </a:lnTo>
                <a:lnTo>
                  <a:pt x="974373" y="781325"/>
                </a:lnTo>
                <a:lnTo>
                  <a:pt x="1009515" y="787800"/>
                </a:lnTo>
                <a:lnTo>
                  <a:pt x="1047624" y="793984"/>
                </a:lnTo>
                <a:lnTo>
                  <a:pt x="1086720" y="799048"/>
                </a:lnTo>
                <a:lnTo>
                  <a:pt x="1123939" y="801299"/>
                </a:lnTo>
                <a:lnTo>
                  <a:pt x="1162971" y="802299"/>
                </a:lnTo>
                <a:lnTo>
                  <a:pt x="1203470" y="802744"/>
                </a:lnTo>
                <a:lnTo>
                  <a:pt x="1244620" y="802941"/>
                </a:lnTo>
                <a:lnTo>
                  <a:pt x="1286060" y="803029"/>
                </a:lnTo>
                <a:lnTo>
                  <a:pt x="1328621" y="803068"/>
                </a:lnTo>
                <a:lnTo>
                  <a:pt x="1351083" y="803078"/>
                </a:lnTo>
                <a:lnTo>
                  <a:pt x="1373996" y="803085"/>
                </a:lnTo>
                <a:lnTo>
                  <a:pt x="1417975" y="803093"/>
                </a:lnTo>
                <a:lnTo>
                  <a:pt x="1461664" y="803097"/>
                </a:lnTo>
                <a:lnTo>
                  <a:pt x="1484427" y="803097"/>
                </a:lnTo>
                <a:lnTo>
                  <a:pt x="1507540" y="803098"/>
                </a:lnTo>
                <a:lnTo>
                  <a:pt x="1551741" y="800453"/>
                </a:lnTo>
                <a:lnTo>
                  <a:pt x="1594537" y="795970"/>
                </a:lnTo>
                <a:lnTo>
                  <a:pt x="1636709" y="790670"/>
                </a:lnTo>
                <a:lnTo>
                  <a:pt x="1678603" y="785008"/>
                </a:lnTo>
                <a:lnTo>
                  <a:pt x="1719381" y="778191"/>
                </a:lnTo>
                <a:lnTo>
                  <a:pt x="1757349" y="768547"/>
                </a:lnTo>
                <a:lnTo>
                  <a:pt x="1794067" y="760292"/>
                </a:lnTo>
                <a:lnTo>
                  <a:pt x="1830230" y="752324"/>
                </a:lnTo>
                <a:lnTo>
                  <a:pt x="1866146" y="742168"/>
                </a:lnTo>
                <a:lnTo>
                  <a:pt x="1899307" y="731039"/>
                </a:lnTo>
                <a:lnTo>
                  <a:pt x="1943221" y="713618"/>
                </a:lnTo>
                <a:lnTo>
                  <a:pt x="1984014" y="693243"/>
                </a:lnTo>
                <a:lnTo>
                  <a:pt x="2022228" y="671000"/>
                </a:lnTo>
                <a:lnTo>
                  <a:pt x="2066548" y="640965"/>
                </a:lnTo>
                <a:lnTo>
                  <a:pt x="2105399" y="606369"/>
                </a:lnTo>
                <a:lnTo>
                  <a:pt x="2125773" y="578783"/>
                </a:lnTo>
                <a:lnTo>
                  <a:pt x="2144695" y="537054"/>
                </a:lnTo>
                <a:lnTo>
                  <a:pt x="2162507" y="495114"/>
                </a:lnTo>
                <a:lnTo>
                  <a:pt x="2167719" y="460380"/>
                </a:lnTo>
                <a:lnTo>
                  <a:pt x="2168488" y="419225"/>
                </a:lnTo>
                <a:lnTo>
                  <a:pt x="2160114" y="376552"/>
                </a:lnTo>
                <a:lnTo>
                  <a:pt x="2144165" y="334425"/>
                </a:lnTo>
                <a:lnTo>
                  <a:pt x="2132409" y="299659"/>
                </a:lnTo>
                <a:lnTo>
                  <a:pt x="2105289" y="258493"/>
                </a:lnTo>
                <a:lnTo>
                  <a:pt x="2068623" y="215818"/>
                </a:lnTo>
                <a:lnTo>
                  <a:pt x="2035060" y="187567"/>
                </a:lnTo>
                <a:lnTo>
                  <a:pt x="1997335" y="157698"/>
                </a:lnTo>
                <a:lnTo>
                  <a:pt x="1954738" y="129005"/>
                </a:lnTo>
                <a:lnTo>
                  <a:pt x="1924460" y="113572"/>
                </a:lnTo>
                <a:lnTo>
                  <a:pt x="1891159" y="96791"/>
                </a:lnTo>
                <a:lnTo>
                  <a:pt x="1856515" y="82057"/>
                </a:lnTo>
                <a:lnTo>
                  <a:pt x="1821274" y="68894"/>
                </a:lnTo>
                <a:lnTo>
                  <a:pt x="1785767" y="56429"/>
                </a:lnTo>
                <a:lnTo>
                  <a:pt x="1750143" y="46920"/>
                </a:lnTo>
                <a:lnTo>
                  <a:pt x="1714466" y="38395"/>
                </a:lnTo>
                <a:lnTo>
                  <a:pt x="1678766" y="27991"/>
                </a:lnTo>
                <a:lnTo>
                  <a:pt x="1640410" y="22044"/>
                </a:lnTo>
                <a:lnTo>
                  <a:pt x="1600211" y="19401"/>
                </a:lnTo>
                <a:lnTo>
                  <a:pt x="1559194" y="18226"/>
                </a:lnTo>
                <a:lnTo>
                  <a:pt x="1520459" y="20350"/>
                </a:lnTo>
                <a:lnTo>
                  <a:pt x="1483400" y="23609"/>
                </a:lnTo>
                <a:lnTo>
                  <a:pt x="1447086" y="25058"/>
                </a:lnTo>
                <a:lnTo>
                  <a:pt x="1411102" y="28347"/>
                </a:lnTo>
                <a:lnTo>
                  <a:pt x="1375266" y="34108"/>
                </a:lnTo>
                <a:lnTo>
                  <a:pt x="1339495" y="43284"/>
                </a:lnTo>
                <a:lnTo>
                  <a:pt x="1306399" y="51331"/>
                </a:lnTo>
                <a:lnTo>
                  <a:pt x="1274160" y="60199"/>
                </a:lnTo>
                <a:lnTo>
                  <a:pt x="1239989" y="74062"/>
                </a:lnTo>
                <a:lnTo>
                  <a:pt x="1207603" y="87499"/>
                </a:lnTo>
                <a:lnTo>
                  <a:pt x="1164126" y="108867"/>
                </a:lnTo>
                <a:lnTo>
                  <a:pt x="1126108" y="134049"/>
                </a:lnTo>
                <a:lnTo>
                  <a:pt x="1089708" y="160362"/>
                </a:lnTo>
                <a:lnTo>
                  <a:pt x="1053788" y="189656"/>
                </a:lnTo>
                <a:lnTo>
                  <a:pt x="1020655" y="223471"/>
                </a:lnTo>
                <a:lnTo>
                  <a:pt x="982793" y="265712"/>
                </a:lnTo>
                <a:lnTo>
                  <a:pt x="947643" y="309848"/>
                </a:lnTo>
                <a:lnTo>
                  <a:pt x="926917" y="344963"/>
                </a:lnTo>
                <a:lnTo>
                  <a:pt x="908209" y="380503"/>
                </a:lnTo>
                <a:lnTo>
                  <a:pt x="892082" y="416169"/>
                </a:lnTo>
                <a:lnTo>
                  <a:pt x="885430" y="451872"/>
                </a:lnTo>
                <a:lnTo>
                  <a:pt x="877616" y="486593"/>
                </a:lnTo>
                <a:lnTo>
                  <a:pt x="868733" y="528141"/>
                </a:lnTo>
                <a:lnTo>
                  <a:pt x="869582" y="559904"/>
                </a:lnTo>
                <a:lnTo>
                  <a:pt x="878758" y="597303"/>
                </a:lnTo>
                <a:lnTo>
                  <a:pt x="891117" y="633353"/>
                </a:lnTo>
                <a:lnTo>
                  <a:pt x="914284" y="669138"/>
                </a:lnTo>
                <a:lnTo>
                  <a:pt x="955932" y="706671"/>
                </a:lnTo>
                <a:lnTo>
                  <a:pt x="993931" y="731429"/>
                </a:lnTo>
                <a:lnTo>
                  <a:pt x="1027724" y="749452"/>
                </a:lnTo>
                <a:lnTo>
                  <a:pt x="1065518" y="767360"/>
                </a:lnTo>
                <a:lnTo>
                  <a:pt x="1108136" y="782588"/>
                </a:lnTo>
                <a:lnTo>
                  <a:pt x="1152183" y="796030"/>
                </a:lnTo>
                <a:lnTo>
                  <a:pt x="1182800" y="805910"/>
                </a:lnTo>
                <a:lnTo>
                  <a:pt x="1216251" y="813609"/>
                </a:lnTo>
                <a:lnTo>
                  <a:pt x="1250962" y="820338"/>
                </a:lnTo>
                <a:lnTo>
                  <a:pt x="1286233" y="826636"/>
                </a:lnTo>
                <a:lnTo>
                  <a:pt x="1321753" y="832742"/>
                </a:lnTo>
                <a:lnTo>
                  <a:pt x="1360029" y="838763"/>
                </a:lnTo>
                <a:lnTo>
                  <a:pt x="1398207" y="843755"/>
                </a:lnTo>
                <a:lnTo>
                  <a:pt x="1431712" y="845973"/>
                </a:lnTo>
                <a:lnTo>
                  <a:pt x="1465785" y="849605"/>
                </a:lnTo>
                <a:lnTo>
                  <a:pt x="1500772" y="853534"/>
                </a:lnTo>
                <a:lnTo>
                  <a:pt x="1536166" y="855280"/>
                </a:lnTo>
                <a:lnTo>
                  <a:pt x="1569095" y="856056"/>
                </a:lnTo>
                <a:lnTo>
                  <a:pt x="1601258" y="855409"/>
                </a:lnTo>
                <a:lnTo>
                  <a:pt x="1635397" y="851815"/>
                </a:lnTo>
                <a:lnTo>
                  <a:pt x="1667767" y="849555"/>
                </a:lnTo>
                <a:lnTo>
                  <a:pt x="1711236" y="845637"/>
                </a:lnTo>
                <a:lnTo>
                  <a:pt x="1749252" y="838193"/>
                </a:lnTo>
                <a:lnTo>
                  <a:pt x="1785650" y="827058"/>
                </a:lnTo>
                <a:lnTo>
                  <a:pt x="1828765" y="810257"/>
                </a:lnTo>
                <a:lnTo>
                  <a:pt x="1872082" y="791247"/>
                </a:lnTo>
                <a:lnTo>
                  <a:pt x="1907684" y="774263"/>
                </a:lnTo>
                <a:lnTo>
                  <a:pt x="1927844" y="755198"/>
                </a:lnTo>
                <a:lnTo>
                  <a:pt x="1943738" y="730698"/>
                </a:lnTo>
                <a:lnTo>
                  <a:pt x="1961168" y="686886"/>
                </a:lnTo>
                <a:lnTo>
                  <a:pt x="1970739" y="648623"/>
                </a:lnTo>
                <a:lnTo>
                  <a:pt x="1970008" y="614784"/>
                </a:lnTo>
                <a:lnTo>
                  <a:pt x="1963508" y="579623"/>
                </a:lnTo>
                <a:lnTo>
                  <a:pt x="1952652" y="541423"/>
                </a:lnTo>
                <a:lnTo>
                  <a:pt x="1936868" y="501331"/>
                </a:lnTo>
                <a:lnTo>
                  <a:pt x="1916978" y="461671"/>
                </a:lnTo>
                <a:lnTo>
                  <a:pt x="1892233" y="421146"/>
                </a:lnTo>
                <a:lnTo>
                  <a:pt x="1863404" y="381358"/>
                </a:lnTo>
                <a:lnTo>
                  <a:pt x="1829726" y="338149"/>
                </a:lnTo>
                <a:lnTo>
                  <a:pt x="1791966" y="293927"/>
                </a:lnTo>
                <a:lnTo>
                  <a:pt x="1762820" y="265253"/>
                </a:lnTo>
                <a:lnTo>
                  <a:pt x="1730022" y="239281"/>
                </a:lnTo>
                <a:lnTo>
                  <a:pt x="1698248" y="214508"/>
                </a:lnTo>
                <a:lnTo>
                  <a:pt x="1666597" y="190269"/>
                </a:lnTo>
                <a:lnTo>
                  <a:pt x="1632686" y="166266"/>
                </a:lnTo>
                <a:lnTo>
                  <a:pt x="1595125" y="142370"/>
                </a:lnTo>
                <a:lnTo>
                  <a:pt x="1555280" y="119512"/>
                </a:lnTo>
                <a:lnTo>
                  <a:pt x="1514420" y="99431"/>
                </a:lnTo>
                <a:lnTo>
                  <a:pt x="1473109" y="80585"/>
                </a:lnTo>
                <a:lnTo>
                  <a:pt x="1430606" y="63279"/>
                </a:lnTo>
                <a:lnTo>
                  <a:pt x="1408159" y="55885"/>
                </a:lnTo>
                <a:lnTo>
                  <a:pt x="1385257" y="48972"/>
                </a:lnTo>
                <a:lnTo>
                  <a:pt x="1362051" y="42379"/>
                </a:lnTo>
                <a:lnTo>
                  <a:pt x="1338644" y="35999"/>
                </a:lnTo>
                <a:lnTo>
                  <a:pt x="1315101" y="29761"/>
                </a:lnTo>
                <a:lnTo>
                  <a:pt x="1291468" y="24611"/>
                </a:lnTo>
                <a:lnTo>
                  <a:pt x="1267775" y="20185"/>
                </a:lnTo>
                <a:lnTo>
                  <a:pt x="1244043" y="16242"/>
                </a:lnTo>
                <a:lnTo>
                  <a:pt x="1219292" y="12622"/>
                </a:lnTo>
                <a:lnTo>
                  <a:pt x="1193861" y="9216"/>
                </a:lnTo>
                <a:lnTo>
                  <a:pt x="1167977" y="5953"/>
                </a:lnTo>
                <a:lnTo>
                  <a:pt x="1141792" y="3778"/>
                </a:lnTo>
                <a:lnTo>
                  <a:pt x="1115406" y="2327"/>
                </a:lnTo>
                <a:lnTo>
                  <a:pt x="1088885" y="1361"/>
                </a:lnTo>
                <a:lnTo>
                  <a:pt x="1063267" y="716"/>
                </a:lnTo>
                <a:lnTo>
                  <a:pt x="1038251" y="286"/>
                </a:lnTo>
                <a:lnTo>
                  <a:pt x="1013636" y="0"/>
                </a:lnTo>
                <a:lnTo>
                  <a:pt x="988296" y="802"/>
                </a:lnTo>
                <a:lnTo>
                  <a:pt x="962473" y="2328"/>
                </a:lnTo>
                <a:lnTo>
                  <a:pt x="936329" y="4337"/>
                </a:lnTo>
                <a:lnTo>
                  <a:pt x="909969" y="7662"/>
                </a:lnTo>
                <a:lnTo>
                  <a:pt x="883466" y="11862"/>
                </a:lnTo>
                <a:lnTo>
                  <a:pt x="856868" y="16647"/>
                </a:lnTo>
                <a:lnTo>
                  <a:pt x="831198" y="21821"/>
                </a:lnTo>
                <a:lnTo>
                  <a:pt x="806148" y="27255"/>
                </a:lnTo>
                <a:lnTo>
                  <a:pt x="781510" y="32862"/>
                </a:lnTo>
                <a:lnTo>
                  <a:pt x="756155" y="38584"/>
                </a:lnTo>
                <a:lnTo>
                  <a:pt x="730322" y="44384"/>
                </a:lnTo>
                <a:lnTo>
                  <a:pt x="704170" y="50234"/>
                </a:lnTo>
                <a:lnTo>
                  <a:pt x="677806" y="57111"/>
                </a:lnTo>
                <a:lnTo>
                  <a:pt x="651300" y="64672"/>
                </a:lnTo>
                <a:lnTo>
                  <a:pt x="624700" y="72690"/>
                </a:lnTo>
                <a:lnTo>
                  <a:pt x="599029" y="82003"/>
                </a:lnTo>
                <a:lnTo>
                  <a:pt x="573978" y="92181"/>
                </a:lnTo>
                <a:lnTo>
                  <a:pt x="549339" y="102935"/>
                </a:lnTo>
                <a:lnTo>
                  <a:pt x="524976" y="114073"/>
                </a:lnTo>
                <a:lnTo>
                  <a:pt x="500796" y="125467"/>
                </a:lnTo>
                <a:lnTo>
                  <a:pt x="476739" y="137032"/>
                </a:lnTo>
                <a:lnTo>
                  <a:pt x="452764" y="148711"/>
                </a:lnTo>
                <a:lnTo>
                  <a:pt x="428842" y="160465"/>
                </a:lnTo>
                <a:lnTo>
                  <a:pt x="404957" y="172270"/>
                </a:lnTo>
                <a:lnTo>
                  <a:pt x="382089" y="186093"/>
                </a:lnTo>
                <a:lnTo>
                  <a:pt x="338158" y="217328"/>
                </a:lnTo>
                <a:lnTo>
                  <a:pt x="295482" y="248407"/>
                </a:lnTo>
                <a:lnTo>
                  <a:pt x="254357" y="279749"/>
                </a:lnTo>
                <a:lnTo>
                  <a:pt x="216235" y="313523"/>
                </a:lnTo>
                <a:lnTo>
                  <a:pt x="179448" y="351023"/>
                </a:lnTo>
                <a:lnTo>
                  <a:pt x="144247" y="391832"/>
                </a:lnTo>
                <a:lnTo>
                  <a:pt x="112065" y="436428"/>
                </a:lnTo>
                <a:lnTo>
                  <a:pt x="96538" y="460425"/>
                </a:lnTo>
                <a:lnTo>
                  <a:pt x="81226" y="485353"/>
                </a:lnTo>
                <a:lnTo>
                  <a:pt x="66057" y="510901"/>
                </a:lnTo>
                <a:lnTo>
                  <a:pt x="51975" y="536863"/>
                </a:lnTo>
                <a:lnTo>
                  <a:pt x="38619" y="563100"/>
                </a:lnTo>
                <a:lnTo>
                  <a:pt x="17164" y="607136"/>
                </a:lnTo>
                <a:lnTo>
                  <a:pt x="0" y="64236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SMARTInkShape-195"/>
          <p:cNvSpPr/>
          <p:nvPr/>
        </p:nvSpPr>
        <p:spPr>
          <a:xfrm>
            <a:off x="2813040" y="4133880"/>
            <a:ext cx="2446200" cy="98280"/>
          </a:xfrm>
          <a:custGeom>
            <a:avLst/>
            <a:gdLst>
              <a:gd name="textAreaLeft" fmla="*/ 0 w 2446200"/>
              <a:gd name="textAreaRight" fmla="*/ 2446560 w 24462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2446736" h="98227">
                <a:moveTo>
                  <a:pt x="0" y="62508"/>
                </a:moveTo>
                <a:lnTo>
                  <a:pt x="0" y="62508"/>
                </a:lnTo>
                <a:lnTo>
                  <a:pt x="17197" y="53414"/>
                </a:lnTo>
                <a:lnTo>
                  <a:pt x="24498" y="47687"/>
                </a:lnTo>
                <a:lnTo>
                  <a:pt x="32946" y="45549"/>
                </a:lnTo>
                <a:lnTo>
                  <a:pt x="47652" y="44767"/>
                </a:lnTo>
                <a:lnTo>
                  <a:pt x="53591" y="42055"/>
                </a:lnTo>
                <a:lnTo>
                  <a:pt x="56563" y="39943"/>
                </a:lnTo>
                <a:lnTo>
                  <a:pt x="96647" y="28140"/>
                </a:lnTo>
                <a:lnTo>
                  <a:pt x="113202" y="26064"/>
                </a:lnTo>
                <a:lnTo>
                  <a:pt x="134552" y="19774"/>
                </a:lnTo>
                <a:lnTo>
                  <a:pt x="179162" y="17909"/>
                </a:lnTo>
                <a:lnTo>
                  <a:pt x="190753" y="16890"/>
                </a:lnTo>
                <a:lnTo>
                  <a:pt x="229541" y="9483"/>
                </a:lnTo>
                <a:lnTo>
                  <a:pt x="272971" y="8962"/>
                </a:lnTo>
                <a:lnTo>
                  <a:pt x="315465" y="8932"/>
                </a:lnTo>
                <a:lnTo>
                  <a:pt x="357367" y="8930"/>
                </a:lnTo>
                <a:lnTo>
                  <a:pt x="395638" y="7937"/>
                </a:lnTo>
                <a:lnTo>
                  <a:pt x="432573" y="828"/>
                </a:lnTo>
                <a:lnTo>
                  <a:pt x="476413" y="73"/>
                </a:lnTo>
                <a:lnTo>
                  <a:pt x="520991" y="7"/>
                </a:lnTo>
                <a:lnTo>
                  <a:pt x="544629" y="994"/>
                </a:lnTo>
                <a:lnTo>
                  <a:pt x="581791" y="7689"/>
                </a:lnTo>
                <a:lnTo>
                  <a:pt x="622612" y="8767"/>
                </a:lnTo>
                <a:lnTo>
                  <a:pt x="644853" y="6236"/>
                </a:lnTo>
                <a:lnTo>
                  <a:pt x="687838" y="822"/>
                </a:lnTo>
                <a:lnTo>
                  <a:pt x="713458" y="1236"/>
                </a:lnTo>
                <a:lnTo>
                  <a:pt x="756085" y="7721"/>
                </a:lnTo>
                <a:lnTo>
                  <a:pt x="794162" y="8691"/>
                </a:lnTo>
                <a:lnTo>
                  <a:pt x="830346" y="8883"/>
                </a:lnTo>
                <a:lnTo>
                  <a:pt x="866157" y="8921"/>
                </a:lnTo>
                <a:lnTo>
                  <a:pt x="901894" y="8928"/>
                </a:lnTo>
                <a:lnTo>
                  <a:pt x="937617" y="8929"/>
                </a:lnTo>
                <a:lnTo>
                  <a:pt x="973336" y="8930"/>
                </a:lnTo>
                <a:lnTo>
                  <a:pt x="1017985" y="8930"/>
                </a:lnTo>
                <a:lnTo>
                  <a:pt x="1062633" y="8930"/>
                </a:lnTo>
                <a:lnTo>
                  <a:pt x="1107281" y="8930"/>
                </a:lnTo>
                <a:lnTo>
                  <a:pt x="1151930" y="1863"/>
                </a:lnTo>
                <a:lnTo>
                  <a:pt x="1196578" y="246"/>
                </a:lnTo>
                <a:lnTo>
                  <a:pt x="1234943" y="49"/>
                </a:lnTo>
                <a:lnTo>
                  <a:pt x="1275704" y="10"/>
                </a:lnTo>
                <a:lnTo>
                  <a:pt x="1312419" y="2"/>
                </a:lnTo>
                <a:lnTo>
                  <a:pt x="1348335" y="1"/>
                </a:lnTo>
                <a:lnTo>
                  <a:pt x="1384092" y="0"/>
                </a:lnTo>
                <a:lnTo>
                  <a:pt x="1425955" y="0"/>
                </a:lnTo>
                <a:lnTo>
                  <a:pt x="1463917" y="0"/>
                </a:lnTo>
                <a:lnTo>
                  <a:pt x="1500079" y="0"/>
                </a:lnTo>
                <a:lnTo>
                  <a:pt x="1542022" y="0"/>
                </a:lnTo>
                <a:lnTo>
                  <a:pt x="1582645" y="2646"/>
                </a:lnTo>
                <a:lnTo>
                  <a:pt x="1623852" y="7688"/>
                </a:lnTo>
                <a:lnTo>
                  <a:pt x="1667784" y="8684"/>
                </a:lnTo>
                <a:lnTo>
                  <a:pt x="1702864" y="9849"/>
                </a:lnTo>
                <a:lnTo>
                  <a:pt x="1738393" y="15045"/>
                </a:lnTo>
                <a:lnTo>
                  <a:pt x="1774055" y="17026"/>
                </a:lnTo>
                <a:lnTo>
                  <a:pt x="1809757" y="18604"/>
                </a:lnTo>
                <a:lnTo>
                  <a:pt x="1845471" y="23923"/>
                </a:lnTo>
                <a:lnTo>
                  <a:pt x="1881188" y="26932"/>
                </a:lnTo>
                <a:lnTo>
                  <a:pt x="1917899" y="32675"/>
                </a:lnTo>
                <a:lnTo>
                  <a:pt x="1958762" y="35809"/>
                </a:lnTo>
                <a:lnTo>
                  <a:pt x="1996446" y="41588"/>
                </a:lnTo>
                <a:lnTo>
                  <a:pt x="2033740" y="44734"/>
                </a:lnTo>
                <a:lnTo>
                  <a:pt x="2074775" y="51508"/>
                </a:lnTo>
                <a:lnTo>
                  <a:pt x="2112510" y="58808"/>
                </a:lnTo>
                <a:lnTo>
                  <a:pt x="2149819" y="62404"/>
                </a:lnTo>
                <a:lnTo>
                  <a:pt x="2190860" y="68320"/>
                </a:lnTo>
                <a:lnTo>
                  <a:pt x="2228596" y="71506"/>
                </a:lnTo>
                <a:lnTo>
                  <a:pt x="2271611" y="78323"/>
                </a:lnTo>
                <a:lnTo>
                  <a:pt x="2312255" y="80098"/>
                </a:lnTo>
                <a:lnTo>
                  <a:pt x="2349809" y="80332"/>
                </a:lnTo>
                <a:lnTo>
                  <a:pt x="2389772" y="80364"/>
                </a:lnTo>
                <a:lnTo>
                  <a:pt x="2407775" y="81359"/>
                </a:lnTo>
                <a:lnTo>
                  <a:pt x="2422733" y="87496"/>
                </a:lnTo>
                <a:lnTo>
                  <a:pt x="2437179" y="95813"/>
                </a:lnTo>
                <a:lnTo>
                  <a:pt x="2446735" y="9822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SMARTInkShape-196"/>
          <p:cNvSpPr/>
          <p:nvPr/>
        </p:nvSpPr>
        <p:spPr>
          <a:xfrm>
            <a:off x="2776680" y="5062680"/>
            <a:ext cx="2197080" cy="893520"/>
          </a:xfrm>
          <a:custGeom>
            <a:avLst/>
            <a:gdLst>
              <a:gd name="textAreaLeft" fmla="*/ 0 w 2197080"/>
              <a:gd name="textAreaRight" fmla="*/ 2197080 w 219708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2196704" h="892969">
                <a:moveTo>
                  <a:pt x="0" y="634007"/>
                </a:moveTo>
                <a:lnTo>
                  <a:pt x="0" y="634007"/>
                </a:lnTo>
                <a:lnTo>
                  <a:pt x="7688" y="634007"/>
                </a:lnTo>
                <a:lnTo>
                  <a:pt x="16509" y="626319"/>
                </a:lnTo>
                <a:lnTo>
                  <a:pt x="26386" y="625110"/>
                </a:lnTo>
                <a:lnTo>
                  <a:pt x="34442" y="625080"/>
                </a:lnTo>
                <a:lnTo>
                  <a:pt x="43295" y="617390"/>
                </a:lnTo>
                <a:lnTo>
                  <a:pt x="53175" y="616180"/>
                </a:lnTo>
                <a:lnTo>
                  <a:pt x="65971" y="616150"/>
                </a:lnTo>
                <a:lnTo>
                  <a:pt x="71654" y="613503"/>
                </a:lnTo>
                <a:lnTo>
                  <a:pt x="78646" y="608460"/>
                </a:lnTo>
                <a:lnTo>
                  <a:pt x="87156" y="607464"/>
                </a:lnTo>
                <a:lnTo>
                  <a:pt x="102477" y="607228"/>
                </a:lnTo>
                <a:lnTo>
                  <a:pt x="107722" y="604577"/>
                </a:lnTo>
                <a:lnTo>
                  <a:pt x="113360" y="601084"/>
                </a:lnTo>
                <a:lnTo>
                  <a:pt x="123285" y="598657"/>
                </a:lnTo>
                <a:lnTo>
                  <a:pt x="137939" y="597369"/>
                </a:lnTo>
                <a:lnTo>
                  <a:pt x="151418" y="591235"/>
                </a:lnTo>
                <a:lnTo>
                  <a:pt x="193549" y="588369"/>
                </a:lnTo>
                <a:lnTo>
                  <a:pt x="205397" y="582291"/>
                </a:lnTo>
                <a:lnTo>
                  <a:pt x="248047" y="580436"/>
                </a:lnTo>
                <a:lnTo>
                  <a:pt x="289665" y="580429"/>
                </a:lnTo>
                <a:lnTo>
                  <a:pt x="333368" y="580429"/>
                </a:lnTo>
                <a:lnTo>
                  <a:pt x="377914" y="580429"/>
                </a:lnTo>
                <a:lnTo>
                  <a:pt x="419695" y="580429"/>
                </a:lnTo>
                <a:lnTo>
                  <a:pt x="440715" y="581421"/>
                </a:lnTo>
                <a:lnTo>
                  <a:pt x="453282" y="588117"/>
                </a:lnTo>
                <a:lnTo>
                  <a:pt x="493659" y="589344"/>
                </a:lnTo>
                <a:lnTo>
                  <a:pt x="535732" y="589359"/>
                </a:lnTo>
                <a:lnTo>
                  <a:pt x="574660" y="590351"/>
                </a:lnTo>
                <a:lnTo>
                  <a:pt x="591968" y="597047"/>
                </a:lnTo>
                <a:lnTo>
                  <a:pt x="635316" y="598284"/>
                </a:lnTo>
                <a:lnTo>
                  <a:pt x="676559" y="598288"/>
                </a:lnTo>
                <a:lnTo>
                  <a:pt x="688093" y="605356"/>
                </a:lnTo>
                <a:lnTo>
                  <a:pt x="720334" y="608189"/>
                </a:lnTo>
                <a:lnTo>
                  <a:pt x="732235" y="614282"/>
                </a:lnTo>
                <a:lnTo>
                  <a:pt x="776699" y="616147"/>
                </a:lnTo>
                <a:lnTo>
                  <a:pt x="797828" y="616148"/>
                </a:lnTo>
                <a:lnTo>
                  <a:pt x="803720" y="618793"/>
                </a:lnTo>
                <a:lnTo>
                  <a:pt x="810847" y="623836"/>
                </a:lnTo>
                <a:lnTo>
                  <a:pt x="819384" y="624833"/>
                </a:lnTo>
                <a:lnTo>
                  <a:pt x="863205" y="625078"/>
                </a:lnTo>
                <a:lnTo>
                  <a:pt x="887015" y="625078"/>
                </a:lnTo>
                <a:lnTo>
                  <a:pt x="892968" y="627723"/>
                </a:lnTo>
                <a:lnTo>
                  <a:pt x="898922" y="631214"/>
                </a:lnTo>
                <a:lnTo>
                  <a:pt x="910828" y="633456"/>
                </a:lnTo>
                <a:lnTo>
                  <a:pt x="955476" y="634006"/>
                </a:lnTo>
                <a:lnTo>
                  <a:pt x="967382" y="634007"/>
                </a:lnTo>
                <a:lnTo>
                  <a:pt x="973335" y="636653"/>
                </a:lnTo>
                <a:lnTo>
                  <a:pt x="979289" y="640144"/>
                </a:lnTo>
                <a:lnTo>
                  <a:pt x="991195" y="642385"/>
                </a:lnTo>
                <a:lnTo>
                  <a:pt x="1033981" y="642933"/>
                </a:lnTo>
                <a:lnTo>
                  <a:pt x="1078501" y="642937"/>
                </a:lnTo>
                <a:lnTo>
                  <a:pt x="1123115" y="642937"/>
                </a:lnTo>
                <a:lnTo>
                  <a:pt x="1126766" y="642937"/>
                </a:lnTo>
                <a:lnTo>
                  <a:pt x="1133470" y="645582"/>
                </a:lnTo>
                <a:lnTo>
                  <a:pt x="1139756" y="649073"/>
                </a:lnTo>
                <a:lnTo>
                  <a:pt x="1149866" y="651039"/>
                </a:lnTo>
                <a:lnTo>
                  <a:pt x="1190129" y="651852"/>
                </a:lnTo>
                <a:lnTo>
                  <a:pt x="1230238" y="651867"/>
                </a:lnTo>
                <a:lnTo>
                  <a:pt x="1244365" y="652859"/>
                </a:lnTo>
                <a:lnTo>
                  <a:pt x="1261692" y="659555"/>
                </a:lnTo>
                <a:lnTo>
                  <a:pt x="1306212" y="660782"/>
                </a:lnTo>
                <a:lnTo>
                  <a:pt x="1350005" y="660796"/>
                </a:lnTo>
                <a:lnTo>
                  <a:pt x="1391415" y="660796"/>
                </a:lnTo>
                <a:lnTo>
                  <a:pt x="1434788" y="660796"/>
                </a:lnTo>
                <a:lnTo>
                  <a:pt x="1479247" y="660796"/>
                </a:lnTo>
                <a:lnTo>
                  <a:pt x="1523891" y="660796"/>
                </a:lnTo>
                <a:lnTo>
                  <a:pt x="1568539" y="660796"/>
                </a:lnTo>
                <a:lnTo>
                  <a:pt x="1613187" y="660796"/>
                </a:lnTo>
                <a:lnTo>
                  <a:pt x="1655871" y="660796"/>
                </a:lnTo>
                <a:lnTo>
                  <a:pt x="1699476" y="660796"/>
                </a:lnTo>
                <a:lnTo>
                  <a:pt x="1743541" y="659805"/>
                </a:lnTo>
                <a:lnTo>
                  <a:pt x="1761062" y="653729"/>
                </a:lnTo>
                <a:lnTo>
                  <a:pt x="1803062" y="651915"/>
                </a:lnTo>
                <a:lnTo>
                  <a:pt x="1846012" y="651867"/>
                </a:lnTo>
                <a:lnTo>
                  <a:pt x="1876827" y="651867"/>
                </a:lnTo>
                <a:lnTo>
                  <a:pt x="1883549" y="649221"/>
                </a:lnTo>
                <a:lnTo>
                  <a:pt x="1886731" y="647127"/>
                </a:lnTo>
                <a:lnTo>
                  <a:pt x="1900690" y="644179"/>
                </a:lnTo>
                <a:lnTo>
                  <a:pt x="1944367" y="642959"/>
                </a:lnTo>
                <a:lnTo>
                  <a:pt x="1985254" y="642937"/>
                </a:lnTo>
                <a:lnTo>
                  <a:pt x="2026874" y="642937"/>
                </a:lnTo>
                <a:lnTo>
                  <a:pt x="2055554" y="642937"/>
                </a:lnTo>
                <a:lnTo>
                  <a:pt x="2057955" y="641945"/>
                </a:lnTo>
                <a:lnTo>
                  <a:pt x="2059556" y="640291"/>
                </a:lnTo>
                <a:lnTo>
                  <a:pt x="2060623" y="638197"/>
                </a:lnTo>
                <a:lnTo>
                  <a:pt x="2063319" y="636800"/>
                </a:lnTo>
                <a:lnTo>
                  <a:pt x="2092254" y="634116"/>
                </a:lnTo>
                <a:lnTo>
                  <a:pt x="2134194" y="634007"/>
                </a:lnTo>
                <a:lnTo>
                  <a:pt x="2137171" y="634007"/>
                </a:lnTo>
                <a:lnTo>
                  <a:pt x="2143125" y="631362"/>
                </a:lnTo>
                <a:lnTo>
                  <a:pt x="2150291" y="626319"/>
                </a:lnTo>
                <a:lnTo>
                  <a:pt x="2159589" y="625186"/>
                </a:lnTo>
                <a:lnTo>
                  <a:pt x="2196703" y="625078"/>
                </a:lnTo>
                <a:lnTo>
                  <a:pt x="2196703" y="616148"/>
                </a:lnTo>
                <a:lnTo>
                  <a:pt x="2179211" y="616148"/>
                </a:lnTo>
                <a:lnTo>
                  <a:pt x="2178853" y="607586"/>
                </a:lnTo>
                <a:lnTo>
                  <a:pt x="2172709" y="600162"/>
                </a:lnTo>
                <a:lnTo>
                  <a:pt x="2170282" y="590978"/>
                </a:lnTo>
                <a:lnTo>
                  <a:pt x="2169923" y="568410"/>
                </a:lnTo>
                <a:lnTo>
                  <a:pt x="2167272" y="562519"/>
                </a:lnTo>
                <a:lnTo>
                  <a:pt x="2163779" y="556594"/>
                </a:lnTo>
                <a:lnTo>
                  <a:pt x="2161536" y="544706"/>
                </a:lnTo>
                <a:lnTo>
                  <a:pt x="2160993" y="501642"/>
                </a:lnTo>
                <a:lnTo>
                  <a:pt x="2158342" y="493157"/>
                </a:lnTo>
                <a:lnTo>
                  <a:pt x="2154849" y="486080"/>
                </a:lnTo>
                <a:lnTo>
                  <a:pt x="2152606" y="470805"/>
                </a:lnTo>
                <a:lnTo>
                  <a:pt x="2152069" y="428009"/>
                </a:lnTo>
                <a:lnTo>
                  <a:pt x="2151064" y="398777"/>
                </a:lnTo>
                <a:lnTo>
                  <a:pt x="2146909" y="380975"/>
                </a:lnTo>
                <a:lnTo>
                  <a:pt x="2149097" y="362141"/>
                </a:lnTo>
                <a:lnTo>
                  <a:pt x="2146327" y="339142"/>
                </a:lnTo>
                <a:lnTo>
                  <a:pt x="2151632" y="294843"/>
                </a:lnTo>
                <a:lnTo>
                  <a:pt x="2154575" y="274222"/>
                </a:lnTo>
                <a:lnTo>
                  <a:pt x="2163067" y="232728"/>
                </a:lnTo>
                <a:lnTo>
                  <a:pt x="2168561" y="213209"/>
                </a:lnTo>
                <a:lnTo>
                  <a:pt x="2170827" y="181515"/>
                </a:lnTo>
                <a:lnTo>
                  <a:pt x="2178287" y="159478"/>
                </a:lnTo>
                <a:lnTo>
                  <a:pt x="2178843" y="134098"/>
                </a:lnTo>
                <a:lnTo>
                  <a:pt x="2170282" y="125387"/>
                </a:lnTo>
                <a:lnTo>
                  <a:pt x="2165282" y="125126"/>
                </a:lnTo>
                <a:lnTo>
                  <a:pt x="2160249" y="122418"/>
                </a:lnTo>
                <a:lnTo>
                  <a:pt x="2153673" y="117336"/>
                </a:lnTo>
                <a:lnTo>
                  <a:pt x="2145245" y="116333"/>
                </a:lnTo>
                <a:lnTo>
                  <a:pt x="2101281" y="116087"/>
                </a:lnTo>
                <a:lnTo>
                  <a:pt x="2085637" y="117078"/>
                </a:lnTo>
                <a:lnTo>
                  <a:pt x="2056906" y="124187"/>
                </a:lnTo>
                <a:lnTo>
                  <a:pt x="2017941" y="124967"/>
                </a:lnTo>
                <a:lnTo>
                  <a:pt x="1975308" y="125011"/>
                </a:lnTo>
                <a:lnTo>
                  <a:pt x="1935258" y="125015"/>
                </a:lnTo>
                <a:lnTo>
                  <a:pt x="1891013" y="125015"/>
                </a:lnTo>
                <a:lnTo>
                  <a:pt x="1875302" y="124023"/>
                </a:lnTo>
                <a:lnTo>
                  <a:pt x="1838152" y="117327"/>
                </a:lnTo>
                <a:lnTo>
                  <a:pt x="1797334" y="116249"/>
                </a:lnTo>
                <a:lnTo>
                  <a:pt x="1759289" y="116107"/>
                </a:lnTo>
                <a:lnTo>
                  <a:pt x="1722076" y="116088"/>
                </a:lnTo>
                <a:lnTo>
                  <a:pt x="1678603" y="109018"/>
                </a:lnTo>
                <a:lnTo>
                  <a:pt x="1634109" y="107401"/>
                </a:lnTo>
                <a:lnTo>
                  <a:pt x="1589481" y="107188"/>
                </a:lnTo>
                <a:lnTo>
                  <a:pt x="1544835" y="100093"/>
                </a:lnTo>
                <a:lnTo>
                  <a:pt x="1501179" y="97479"/>
                </a:lnTo>
                <a:lnTo>
                  <a:pt x="1463227" y="90570"/>
                </a:lnTo>
                <a:lnTo>
                  <a:pt x="1419657" y="89464"/>
                </a:lnTo>
                <a:lnTo>
                  <a:pt x="1379328" y="84589"/>
                </a:lnTo>
                <a:lnTo>
                  <a:pt x="1340274" y="81201"/>
                </a:lnTo>
                <a:lnTo>
                  <a:pt x="1299653" y="80477"/>
                </a:lnTo>
                <a:lnTo>
                  <a:pt x="1255902" y="77735"/>
                </a:lnTo>
                <a:lnTo>
                  <a:pt x="1215572" y="72682"/>
                </a:lnTo>
                <a:lnTo>
                  <a:pt x="1177950" y="65546"/>
                </a:lnTo>
                <a:lnTo>
                  <a:pt x="1135977" y="63108"/>
                </a:lnTo>
                <a:lnTo>
                  <a:pt x="1098728" y="57886"/>
                </a:lnTo>
                <a:lnTo>
                  <a:pt x="1062707" y="54429"/>
                </a:lnTo>
                <a:lnTo>
                  <a:pt x="1026929" y="53745"/>
                </a:lnTo>
                <a:lnTo>
                  <a:pt x="991198" y="53611"/>
                </a:lnTo>
                <a:lnTo>
                  <a:pt x="954484" y="47448"/>
                </a:lnTo>
                <a:lnTo>
                  <a:pt x="912690" y="45201"/>
                </a:lnTo>
                <a:lnTo>
                  <a:pt x="887236" y="42165"/>
                </a:lnTo>
                <a:lnTo>
                  <a:pt x="856117" y="36992"/>
                </a:lnTo>
                <a:lnTo>
                  <a:pt x="812452" y="35886"/>
                </a:lnTo>
                <a:lnTo>
                  <a:pt x="767933" y="35740"/>
                </a:lnTo>
                <a:lnTo>
                  <a:pt x="734875" y="33077"/>
                </a:lnTo>
                <a:lnTo>
                  <a:pt x="704203" y="28031"/>
                </a:lnTo>
                <a:lnTo>
                  <a:pt x="660633" y="26952"/>
                </a:lnTo>
                <a:lnTo>
                  <a:pt x="636605" y="24191"/>
                </a:lnTo>
                <a:lnTo>
                  <a:pt x="614272" y="19735"/>
                </a:lnTo>
                <a:lnTo>
                  <a:pt x="577390" y="18106"/>
                </a:lnTo>
                <a:lnTo>
                  <a:pt x="553732" y="16940"/>
                </a:lnTo>
                <a:lnTo>
                  <a:pt x="510069" y="9763"/>
                </a:lnTo>
                <a:lnTo>
                  <a:pt x="473523" y="8010"/>
                </a:lnTo>
                <a:lnTo>
                  <a:pt x="451347" y="1876"/>
                </a:lnTo>
                <a:lnTo>
                  <a:pt x="409837" y="109"/>
                </a:lnTo>
                <a:lnTo>
                  <a:pt x="368610" y="4"/>
                </a:lnTo>
                <a:lnTo>
                  <a:pt x="345427" y="0"/>
                </a:lnTo>
                <a:lnTo>
                  <a:pt x="339393" y="2645"/>
                </a:lnTo>
                <a:lnTo>
                  <a:pt x="333403" y="6136"/>
                </a:lnTo>
                <a:lnTo>
                  <a:pt x="327435" y="7688"/>
                </a:lnTo>
                <a:lnTo>
                  <a:pt x="325446" y="9094"/>
                </a:lnTo>
                <a:lnTo>
                  <a:pt x="324120" y="11023"/>
                </a:lnTo>
                <a:lnTo>
                  <a:pt x="323236" y="13302"/>
                </a:lnTo>
                <a:lnTo>
                  <a:pt x="321655" y="14821"/>
                </a:lnTo>
                <a:lnTo>
                  <a:pt x="317252" y="16508"/>
                </a:lnTo>
                <a:lnTo>
                  <a:pt x="315681" y="17951"/>
                </a:lnTo>
                <a:lnTo>
                  <a:pt x="306678" y="34004"/>
                </a:lnTo>
                <a:lnTo>
                  <a:pt x="303729" y="77556"/>
                </a:lnTo>
                <a:lnTo>
                  <a:pt x="303619" y="117864"/>
                </a:lnTo>
                <a:lnTo>
                  <a:pt x="303609" y="162131"/>
                </a:lnTo>
                <a:lnTo>
                  <a:pt x="303609" y="205566"/>
                </a:lnTo>
                <a:lnTo>
                  <a:pt x="300963" y="232226"/>
                </a:lnTo>
                <a:lnTo>
                  <a:pt x="295921" y="267901"/>
                </a:lnTo>
                <a:lnTo>
                  <a:pt x="293933" y="309748"/>
                </a:lnTo>
                <a:lnTo>
                  <a:pt x="285014" y="347706"/>
                </a:lnTo>
                <a:lnTo>
                  <a:pt x="278439" y="388607"/>
                </a:lnTo>
                <a:lnTo>
                  <a:pt x="270011" y="428767"/>
                </a:lnTo>
                <a:lnTo>
                  <a:pt x="261437" y="471244"/>
                </a:lnTo>
                <a:lnTo>
                  <a:pt x="254709" y="513331"/>
                </a:lnTo>
                <a:lnTo>
                  <a:pt x="243826" y="553725"/>
                </a:lnTo>
                <a:lnTo>
                  <a:pt x="236065" y="587290"/>
                </a:lnTo>
                <a:lnTo>
                  <a:pt x="232333" y="622370"/>
                </a:lnTo>
                <a:lnTo>
                  <a:pt x="226377" y="657900"/>
                </a:lnTo>
                <a:lnTo>
                  <a:pt x="224170" y="692570"/>
                </a:lnTo>
                <a:lnTo>
                  <a:pt x="223426" y="734100"/>
                </a:lnTo>
                <a:lnTo>
                  <a:pt x="223297" y="768505"/>
                </a:lnTo>
                <a:lnTo>
                  <a:pt x="227993" y="810946"/>
                </a:lnTo>
                <a:lnTo>
                  <a:pt x="239467" y="854129"/>
                </a:lnTo>
                <a:lnTo>
                  <a:pt x="258961" y="89296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5" name="SMARTInkShape-Group210"/>
          <p:cNvGrpSpPr/>
          <p:nvPr/>
        </p:nvGrpSpPr>
        <p:grpSpPr>
          <a:xfrm>
            <a:off x="4010040" y="4946760"/>
            <a:ext cx="365040" cy="455400"/>
            <a:chOff x="4010040" y="4946760"/>
            <a:chExt cx="365040" cy="455400"/>
          </a:xfrm>
        </p:grpSpPr>
        <p:sp>
          <p:nvSpPr>
            <p:cNvPr id="276" name="SMARTInkShape-197"/>
            <p:cNvSpPr/>
            <p:nvPr/>
          </p:nvSpPr>
          <p:spPr>
            <a:xfrm>
              <a:off x="4045680" y="4946760"/>
              <a:ext cx="329400" cy="4107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330399" h="410767">
                  <a:moveTo>
                    <a:pt x="330398" y="0"/>
                  </a:moveTo>
                  <a:lnTo>
                    <a:pt x="330398" y="0"/>
                  </a:lnTo>
                  <a:lnTo>
                    <a:pt x="310281" y="12428"/>
                  </a:lnTo>
                  <a:lnTo>
                    <a:pt x="280667" y="41867"/>
                  </a:lnTo>
                  <a:lnTo>
                    <a:pt x="271125" y="55509"/>
                  </a:lnTo>
                  <a:lnTo>
                    <a:pt x="262014" y="62418"/>
                  </a:lnTo>
                  <a:lnTo>
                    <a:pt x="252038" y="75158"/>
                  </a:lnTo>
                  <a:lnTo>
                    <a:pt x="234038" y="91501"/>
                  </a:lnTo>
                  <a:lnTo>
                    <a:pt x="204763" y="132277"/>
                  </a:lnTo>
                  <a:lnTo>
                    <a:pt x="176528" y="170620"/>
                  </a:lnTo>
                  <a:lnTo>
                    <a:pt x="153529" y="209698"/>
                  </a:lnTo>
                  <a:lnTo>
                    <a:pt x="124851" y="250599"/>
                  </a:lnTo>
                  <a:lnTo>
                    <a:pt x="96221" y="288617"/>
                  </a:lnTo>
                  <a:lnTo>
                    <a:pt x="68624" y="332451"/>
                  </a:lnTo>
                  <a:lnTo>
                    <a:pt x="34106" y="376223"/>
                  </a:lnTo>
                  <a:lnTo>
                    <a:pt x="22098" y="389574"/>
                  </a:lnTo>
                  <a:lnTo>
                    <a:pt x="16051" y="401766"/>
                  </a:lnTo>
                  <a:lnTo>
                    <a:pt x="10337" y="408987"/>
                  </a:lnTo>
                  <a:lnTo>
                    <a:pt x="6909" y="409975"/>
                  </a:lnTo>
                  <a:lnTo>
                    <a:pt x="0" y="41076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7" name="SMARTInkShape-198"/>
            <p:cNvSpPr/>
            <p:nvPr/>
          </p:nvSpPr>
          <p:spPr>
            <a:xfrm>
              <a:off x="4010040" y="5160960"/>
              <a:ext cx="213840" cy="24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314" h="241102">
                  <a:moveTo>
                    <a:pt x="26789" y="0"/>
                  </a:moveTo>
                  <a:lnTo>
                    <a:pt x="26789" y="0"/>
                  </a:lnTo>
                  <a:lnTo>
                    <a:pt x="22049" y="0"/>
                  </a:lnTo>
                  <a:lnTo>
                    <a:pt x="20653" y="992"/>
                  </a:lnTo>
                  <a:lnTo>
                    <a:pt x="19722" y="2646"/>
                  </a:lnTo>
                  <a:lnTo>
                    <a:pt x="17969" y="8562"/>
                  </a:lnTo>
                  <a:lnTo>
                    <a:pt x="13151" y="13561"/>
                  </a:lnTo>
                  <a:lnTo>
                    <a:pt x="10807" y="21241"/>
                  </a:lnTo>
                  <a:lnTo>
                    <a:pt x="6449" y="46807"/>
                  </a:lnTo>
                  <a:lnTo>
                    <a:pt x="2867" y="58506"/>
                  </a:lnTo>
                  <a:lnTo>
                    <a:pt x="252" y="100460"/>
                  </a:lnTo>
                  <a:lnTo>
                    <a:pt x="22" y="137849"/>
                  </a:lnTo>
                  <a:lnTo>
                    <a:pt x="2" y="180737"/>
                  </a:lnTo>
                  <a:lnTo>
                    <a:pt x="0" y="222996"/>
                  </a:lnTo>
                  <a:lnTo>
                    <a:pt x="0" y="239323"/>
                  </a:lnTo>
                  <a:lnTo>
                    <a:pt x="992" y="239916"/>
                  </a:lnTo>
                  <a:lnTo>
                    <a:pt x="9677" y="241071"/>
                  </a:lnTo>
                  <a:lnTo>
                    <a:pt x="22223" y="241101"/>
                  </a:lnTo>
                  <a:lnTo>
                    <a:pt x="27406" y="238455"/>
                  </a:lnTo>
                  <a:lnTo>
                    <a:pt x="41753" y="226862"/>
                  </a:lnTo>
                  <a:lnTo>
                    <a:pt x="53595" y="221311"/>
                  </a:lnTo>
                  <a:lnTo>
                    <a:pt x="59539" y="215438"/>
                  </a:lnTo>
                  <a:lnTo>
                    <a:pt x="96242" y="171715"/>
                  </a:lnTo>
                  <a:lnTo>
                    <a:pt x="136428" y="134110"/>
                  </a:lnTo>
                  <a:lnTo>
                    <a:pt x="177270" y="104183"/>
                  </a:lnTo>
                  <a:lnTo>
                    <a:pt x="214313" y="714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78" name="SMARTInkShape-199"/>
          <p:cNvSpPr/>
          <p:nvPr/>
        </p:nvSpPr>
        <p:spPr>
          <a:xfrm>
            <a:off x="3054240" y="6010200"/>
            <a:ext cx="5759640" cy="29376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59649" h="294665">
                <a:moveTo>
                  <a:pt x="0" y="17844"/>
                </a:moveTo>
                <a:lnTo>
                  <a:pt x="0" y="17844"/>
                </a:lnTo>
                <a:lnTo>
                  <a:pt x="31021" y="17844"/>
                </a:lnTo>
                <a:lnTo>
                  <a:pt x="36276" y="15198"/>
                </a:lnTo>
                <a:lnTo>
                  <a:pt x="41920" y="11707"/>
                </a:lnTo>
                <a:lnTo>
                  <a:pt x="79820" y="585"/>
                </a:lnTo>
                <a:lnTo>
                  <a:pt x="122588" y="0"/>
                </a:lnTo>
                <a:lnTo>
                  <a:pt x="162972" y="977"/>
                </a:lnTo>
                <a:lnTo>
                  <a:pt x="180506" y="7052"/>
                </a:lnTo>
                <a:lnTo>
                  <a:pt x="225153" y="8866"/>
                </a:lnTo>
                <a:lnTo>
                  <a:pt x="253259" y="9900"/>
                </a:lnTo>
                <a:lnTo>
                  <a:pt x="288749" y="17016"/>
                </a:lnTo>
                <a:lnTo>
                  <a:pt x="330399" y="17796"/>
                </a:lnTo>
                <a:lnTo>
                  <a:pt x="360164" y="18830"/>
                </a:lnTo>
                <a:lnTo>
                  <a:pt x="402019" y="25946"/>
                </a:lnTo>
                <a:lnTo>
                  <a:pt x="421845" y="27520"/>
                </a:lnTo>
                <a:lnTo>
                  <a:pt x="464455" y="34854"/>
                </a:lnTo>
                <a:lnTo>
                  <a:pt x="508924" y="41765"/>
                </a:lnTo>
                <a:lnTo>
                  <a:pt x="553557" y="44382"/>
                </a:lnTo>
                <a:lnTo>
                  <a:pt x="598204" y="44611"/>
                </a:lnTo>
                <a:lnTo>
                  <a:pt x="627119" y="47274"/>
                </a:lnTo>
                <a:lnTo>
                  <a:pt x="664851" y="52735"/>
                </a:lnTo>
                <a:lnTo>
                  <a:pt x="708797" y="53453"/>
                </a:lnTo>
                <a:lnTo>
                  <a:pt x="747889" y="53548"/>
                </a:lnTo>
                <a:lnTo>
                  <a:pt x="769946" y="56204"/>
                </a:lnTo>
                <a:lnTo>
                  <a:pt x="812864" y="61664"/>
                </a:lnTo>
                <a:lnTo>
                  <a:pt x="857284" y="62383"/>
                </a:lnTo>
                <a:lnTo>
                  <a:pt x="901903" y="62477"/>
                </a:lnTo>
                <a:lnTo>
                  <a:pt x="946547" y="62491"/>
                </a:lnTo>
                <a:lnTo>
                  <a:pt x="991195" y="62492"/>
                </a:lnTo>
                <a:lnTo>
                  <a:pt x="1035843" y="62492"/>
                </a:lnTo>
                <a:lnTo>
                  <a:pt x="1062633" y="65138"/>
                </a:lnTo>
                <a:lnTo>
                  <a:pt x="1107281" y="70594"/>
                </a:lnTo>
                <a:lnTo>
                  <a:pt x="1151929" y="71313"/>
                </a:lnTo>
                <a:lnTo>
                  <a:pt x="1193785" y="71400"/>
                </a:lnTo>
                <a:lnTo>
                  <a:pt x="1234391" y="71418"/>
                </a:lnTo>
                <a:lnTo>
                  <a:pt x="1275595" y="71422"/>
                </a:lnTo>
                <a:lnTo>
                  <a:pt x="1313389" y="71422"/>
                </a:lnTo>
                <a:lnTo>
                  <a:pt x="1355398" y="71422"/>
                </a:lnTo>
                <a:lnTo>
                  <a:pt x="1397394" y="71422"/>
                </a:lnTo>
                <a:lnTo>
                  <a:pt x="1437769" y="71422"/>
                </a:lnTo>
                <a:lnTo>
                  <a:pt x="1480288" y="74067"/>
                </a:lnTo>
                <a:lnTo>
                  <a:pt x="1522384" y="79110"/>
                </a:lnTo>
                <a:lnTo>
                  <a:pt x="1562780" y="86243"/>
                </a:lnTo>
                <a:lnTo>
                  <a:pt x="1596345" y="89373"/>
                </a:lnTo>
                <a:lnTo>
                  <a:pt x="1631425" y="96144"/>
                </a:lnTo>
                <a:lnTo>
                  <a:pt x="1665962" y="103442"/>
                </a:lnTo>
                <a:lnTo>
                  <a:pt x="1707448" y="109057"/>
                </a:lnTo>
                <a:lnTo>
                  <a:pt x="1741845" y="116638"/>
                </a:lnTo>
                <a:lnTo>
                  <a:pt x="1777172" y="122523"/>
                </a:lnTo>
                <a:lnTo>
                  <a:pt x="1819925" y="129252"/>
                </a:lnTo>
                <a:lnTo>
                  <a:pt x="1864161" y="139142"/>
                </a:lnTo>
                <a:lnTo>
                  <a:pt x="1908472" y="144771"/>
                </a:lnTo>
                <a:lnTo>
                  <a:pt x="1950923" y="150403"/>
                </a:lnTo>
                <a:lnTo>
                  <a:pt x="1985744" y="156119"/>
                </a:lnTo>
                <a:lnTo>
                  <a:pt x="2026929" y="165947"/>
                </a:lnTo>
                <a:lnTo>
                  <a:pt x="2069608" y="171563"/>
                </a:lnTo>
                <a:lnTo>
                  <a:pt x="2111736" y="181933"/>
                </a:lnTo>
                <a:lnTo>
                  <a:pt x="2152138" y="187398"/>
                </a:lnTo>
                <a:lnTo>
                  <a:pt x="2185704" y="194311"/>
                </a:lnTo>
                <a:lnTo>
                  <a:pt x="2229955" y="202889"/>
                </a:lnTo>
                <a:lnTo>
                  <a:pt x="2267653" y="209618"/>
                </a:lnTo>
                <a:lnTo>
                  <a:pt x="2309901" y="219510"/>
                </a:lnTo>
                <a:lnTo>
                  <a:pt x="2350583" y="225138"/>
                </a:lnTo>
                <a:lnTo>
                  <a:pt x="2391803" y="230770"/>
                </a:lnTo>
                <a:lnTo>
                  <a:pt x="2429599" y="238020"/>
                </a:lnTo>
                <a:lnTo>
                  <a:pt x="2471609" y="243126"/>
                </a:lnTo>
                <a:lnTo>
                  <a:pt x="2513604" y="248655"/>
                </a:lnTo>
                <a:lnTo>
                  <a:pt x="2552988" y="250740"/>
                </a:lnTo>
                <a:lnTo>
                  <a:pt x="2589432" y="257030"/>
                </a:lnTo>
                <a:lnTo>
                  <a:pt x="2625293" y="258566"/>
                </a:lnTo>
                <a:lnTo>
                  <a:pt x="2667177" y="258871"/>
                </a:lnTo>
                <a:lnTo>
                  <a:pt x="2705142" y="258930"/>
                </a:lnTo>
                <a:lnTo>
                  <a:pt x="2746045" y="258943"/>
                </a:lnTo>
                <a:lnTo>
                  <a:pt x="2785213" y="258945"/>
                </a:lnTo>
                <a:lnTo>
                  <a:pt x="2821614" y="258945"/>
                </a:lnTo>
                <a:lnTo>
                  <a:pt x="2862208" y="258945"/>
                </a:lnTo>
                <a:lnTo>
                  <a:pt x="2902307" y="258945"/>
                </a:lnTo>
                <a:lnTo>
                  <a:pt x="2942124" y="258945"/>
                </a:lnTo>
                <a:lnTo>
                  <a:pt x="2965918" y="256300"/>
                </a:lnTo>
                <a:lnTo>
                  <a:pt x="3005364" y="251257"/>
                </a:lnTo>
                <a:lnTo>
                  <a:pt x="3044244" y="250261"/>
                </a:lnTo>
                <a:lnTo>
                  <a:pt x="3083234" y="250064"/>
                </a:lnTo>
                <a:lnTo>
                  <a:pt x="3124120" y="245285"/>
                </a:lnTo>
                <a:lnTo>
                  <a:pt x="3166996" y="241915"/>
                </a:lnTo>
                <a:lnTo>
                  <a:pt x="3205156" y="238603"/>
                </a:lnTo>
                <a:lnTo>
                  <a:pt x="3246098" y="233430"/>
                </a:lnTo>
                <a:lnTo>
                  <a:pt x="3280659" y="227794"/>
                </a:lnTo>
                <a:lnTo>
                  <a:pt x="3316035" y="224580"/>
                </a:lnTo>
                <a:lnTo>
                  <a:pt x="3351652" y="223627"/>
                </a:lnTo>
                <a:lnTo>
                  <a:pt x="3387341" y="218604"/>
                </a:lnTo>
                <a:lnTo>
                  <a:pt x="3423050" y="215573"/>
                </a:lnTo>
                <a:lnTo>
                  <a:pt x="3458767" y="214675"/>
                </a:lnTo>
                <a:lnTo>
                  <a:pt x="3494484" y="209668"/>
                </a:lnTo>
                <a:lnTo>
                  <a:pt x="3530202" y="206642"/>
                </a:lnTo>
                <a:lnTo>
                  <a:pt x="3565921" y="205745"/>
                </a:lnTo>
                <a:lnTo>
                  <a:pt x="3601640" y="200738"/>
                </a:lnTo>
                <a:lnTo>
                  <a:pt x="3637359" y="197711"/>
                </a:lnTo>
                <a:lnTo>
                  <a:pt x="3677818" y="192075"/>
                </a:lnTo>
                <a:lnTo>
                  <a:pt x="3716484" y="188861"/>
                </a:lnTo>
                <a:lnTo>
                  <a:pt x="3753077" y="183168"/>
                </a:lnTo>
                <a:lnTo>
                  <a:pt x="3789055" y="179938"/>
                </a:lnTo>
                <a:lnTo>
                  <a:pt x="3829590" y="178982"/>
                </a:lnTo>
                <a:lnTo>
                  <a:pt x="3868280" y="178698"/>
                </a:lnTo>
                <a:lnTo>
                  <a:pt x="3904879" y="173873"/>
                </a:lnTo>
                <a:lnTo>
                  <a:pt x="3945600" y="170900"/>
                </a:lnTo>
                <a:lnTo>
                  <a:pt x="3984343" y="170019"/>
                </a:lnTo>
                <a:lnTo>
                  <a:pt x="4020959" y="169758"/>
                </a:lnTo>
                <a:lnTo>
                  <a:pt x="4061683" y="169681"/>
                </a:lnTo>
                <a:lnTo>
                  <a:pt x="4105169" y="169658"/>
                </a:lnTo>
                <a:lnTo>
                  <a:pt x="4144732" y="169651"/>
                </a:lnTo>
                <a:lnTo>
                  <a:pt x="4186331" y="169649"/>
                </a:lnTo>
                <a:lnTo>
                  <a:pt x="4230076" y="174388"/>
                </a:lnTo>
                <a:lnTo>
                  <a:pt x="4269715" y="177337"/>
                </a:lnTo>
                <a:lnTo>
                  <a:pt x="4311337" y="178210"/>
                </a:lnTo>
                <a:lnTo>
                  <a:pt x="4355088" y="178469"/>
                </a:lnTo>
                <a:lnTo>
                  <a:pt x="4394730" y="183287"/>
                </a:lnTo>
                <a:lnTo>
                  <a:pt x="4436353" y="186257"/>
                </a:lnTo>
                <a:lnTo>
                  <a:pt x="4480103" y="187137"/>
                </a:lnTo>
                <a:lnTo>
                  <a:pt x="4519746" y="192138"/>
                </a:lnTo>
                <a:lnTo>
                  <a:pt x="4561368" y="195164"/>
                </a:lnTo>
                <a:lnTo>
                  <a:pt x="4600379" y="196061"/>
                </a:lnTo>
                <a:lnTo>
                  <a:pt x="4641814" y="201067"/>
                </a:lnTo>
                <a:lnTo>
                  <a:pt x="4685510" y="199352"/>
                </a:lnTo>
                <a:lnTo>
                  <a:pt x="4725136" y="202042"/>
                </a:lnTo>
                <a:lnTo>
                  <a:pt x="4766753" y="204382"/>
                </a:lnTo>
                <a:lnTo>
                  <a:pt x="4805763" y="205075"/>
                </a:lnTo>
                <a:lnTo>
                  <a:pt x="4842457" y="205280"/>
                </a:lnTo>
                <a:lnTo>
                  <a:pt x="4883204" y="205341"/>
                </a:lnTo>
                <a:lnTo>
                  <a:pt x="4921956" y="205359"/>
                </a:lnTo>
                <a:lnTo>
                  <a:pt x="4963315" y="205364"/>
                </a:lnTo>
                <a:lnTo>
                  <a:pt x="5002248" y="205367"/>
                </a:lnTo>
                <a:lnTo>
                  <a:pt x="5038920" y="205367"/>
                </a:lnTo>
                <a:lnTo>
                  <a:pt x="5074921" y="205367"/>
                </a:lnTo>
                <a:lnTo>
                  <a:pt x="5110722" y="205367"/>
                </a:lnTo>
                <a:lnTo>
                  <a:pt x="5151207" y="205367"/>
                </a:lnTo>
                <a:lnTo>
                  <a:pt x="5189880" y="205367"/>
                </a:lnTo>
                <a:lnTo>
                  <a:pt x="5226474" y="200627"/>
                </a:lnTo>
                <a:lnTo>
                  <a:pt x="5262453" y="197679"/>
                </a:lnTo>
                <a:lnTo>
                  <a:pt x="5302989" y="196806"/>
                </a:lnTo>
                <a:lnTo>
                  <a:pt x="5336938" y="196546"/>
                </a:lnTo>
                <a:lnTo>
                  <a:pt x="5375329" y="201210"/>
                </a:lnTo>
                <a:lnTo>
                  <a:pt x="5413384" y="204135"/>
                </a:lnTo>
                <a:lnTo>
                  <a:pt x="5449795" y="205001"/>
                </a:lnTo>
                <a:lnTo>
                  <a:pt x="5485719" y="209999"/>
                </a:lnTo>
                <a:lnTo>
                  <a:pt x="5521499" y="217765"/>
                </a:lnTo>
                <a:lnTo>
                  <a:pt x="5557235" y="226348"/>
                </a:lnTo>
                <a:lnTo>
                  <a:pt x="5592957" y="235175"/>
                </a:lnTo>
                <a:lnTo>
                  <a:pt x="5628679" y="244076"/>
                </a:lnTo>
                <a:lnTo>
                  <a:pt x="5664399" y="257736"/>
                </a:lnTo>
                <a:lnTo>
                  <a:pt x="5700117" y="269611"/>
                </a:lnTo>
                <a:lnTo>
                  <a:pt x="5743773" y="287658"/>
                </a:lnTo>
                <a:lnTo>
                  <a:pt x="5759648" y="29466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Crucifixion of 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es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opularity of Jesus with the poor angered the Romans and the Je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sus was called the “Son of God” and a “King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ws feared Jesus’s preaching would anger the Rom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wish leaders turned Jesus over to the Roman governor of Jerusalem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ntius Pilat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Crucifi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ive to Caesar what belongs to Caesar, and to God what belongs to God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SMARTInkShape-200"/>
          <p:cNvSpPr/>
          <p:nvPr/>
        </p:nvSpPr>
        <p:spPr>
          <a:xfrm>
            <a:off x="4170240" y="2867040"/>
            <a:ext cx="1839960" cy="2700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839516" h="26791">
                <a:moveTo>
                  <a:pt x="0" y="26790"/>
                </a:moveTo>
                <a:lnTo>
                  <a:pt x="0" y="26790"/>
                </a:lnTo>
                <a:lnTo>
                  <a:pt x="0" y="19101"/>
                </a:lnTo>
                <a:lnTo>
                  <a:pt x="992" y="18687"/>
                </a:lnTo>
                <a:lnTo>
                  <a:pt x="38910" y="16874"/>
                </a:lnTo>
                <a:lnTo>
                  <a:pt x="56191" y="10172"/>
                </a:lnTo>
                <a:lnTo>
                  <a:pt x="79122" y="9039"/>
                </a:lnTo>
                <a:lnTo>
                  <a:pt x="87420" y="11625"/>
                </a:lnTo>
                <a:lnTo>
                  <a:pt x="95408" y="15089"/>
                </a:lnTo>
                <a:lnTo>
                  <a:pt x="139796" y="17788"/>
                </a:lnTo>
                <a:lnTo>
                  <a:pt x="179029" y="17853"/>
                </a:lnTo>
                <a:lnTo>
                  <a:pt x="218058" y="17859"/>
                </a:lnTo>
                <a:lnTo>
                  <a:pt x="241219" y="16868"/>
                </a:lnTo>
                <a:lnTo>
                  <a:pt x="261090" y="12715"/>
                </a:lnTo>
                <a:lnTo>
                  <a:pt x="303719" y="17278"/>
                </a:lnTo>
                <a:lnTo>
                  <a:pt x="348090" y="17826"/>
                </a:lnTo>
                <a:lnTo>
                  <a:pt x="391029" y="17857"/>
                </a:lnTo>
                <a:lnTo>
                  <a:pt x="435527" y="17860"/>
                </a:lnTo>
                <a:lnTo>
                  <a:pt x="474182" y="17860"/>
                </a:lnTo>
                <a:lnTo>
                  <a:pt x="518042" y="17860"/>
                </a:lnTo>
                <a:lnTo>
                  <a:pt x="555518" y="17860"/>
                </a:lnTo>
                <a:lnTo>
                  <a:pt x="597544" y="17860"/>
                </a:lnTo>
                <a:lnTo>
                  <a:pt x="635281" y="17860"/>
                </a:lnTo>
                <a:lnTo>
                  <a:pt x="676178" y="17860"/>
                </a:lnTo>
                <a:lnTo>
                  <a:pt x="715223" y="17860"/>
                </a:lnTo>
                <a:lnTo>
                  <a:pt x="754394" y="17860"/>
                </a:lnTo>
                <a:lnTo>
                  <a:pt x="795308" y="17860"/>
                </a:lnTo>
                <a:lnTo>
                  <a:pt x="839465" y="17860"/>
                </a:lnTo>
                <a:lnTo>
                  <a:pt x="884049" y="17860"/>
                </a:lnTo>
                <a:lnTo>
                  <a:pt x="926043" y="17860"/>
                </a:lnTo>
                <a:lnTo>
                  <a:pt x="965234" y="17860"/>
                </a:lnTo>
                <a:lnTo>
                  <a:pt x="1009163" y="17860"/>
                </a:lnTo>
                <a:lnTo>
                  <a:pt x="1053718" y="10792"/>
                </a:lnTo>
                <a:lnTo>
                  <a:pt x="1098353" y="9175"/>
                </a:lnTo>
                <a:lnTo>
                  <a:pt x="1143000" y="8963"/>
                </a:lnTo>
                <a:lnTo>
                  <a:pt x="1184855" y="8937"/>
                </a:lnTo>
                <a:lnTo>
                  <a:pt x="1222815" y="8931"/>
                </a:lnTo>
                <a:lnTo>
                  <a:pt x="1266951" y="7938"/>
                </a:lnTo>
                <a:lnTo>
                  <a:pt x="1304966" y="1242"/>
                </a:lnTo>
                <a:lnTo>
                  <a:pt x="1348545" y="164"/>
                </a:lnTo>
                <a:lnTo>
                  <a:pt x="1393053" y="22"/>
                </a:lnTo>
                <a:lnTo>
                  <a:pt x="1437682" y="4"/>
                </a:lnTo>
                <a:lnTo>
                  <a:pt x="1475260" y="1"/>
                </a:lnTo>
                <a:lnTo>
                  <a:pt x="1518292" y="0"/>
                </a:lnTo>
                <a:lnTo>
                  <a:pt x="1562728" y="0"/>
                </a:lnTo>
                <a:lnTo>
                  <a:pt x="1600280" y="0"/>
                </a:lnTo>
                <a:lnTo>
                  <a:pt x="1637171" y="0"/>
                </a:lnTo>
                <a:lnTo>
                  <a:pt x="1680848" y="0"/>
                </a:lnTo>
                <a:lnTo>
                  <a:pt x="1723376" y="0"/>
                </a:lnTo>
                <a:lnTo>
                  <a:pt x="1762950" y="0"/>
                </a:lnTo>
                <a:lnTo>
                  <a:pt x="1806628" y="0"/>
                </a:lnTo>
                <a:lnTo>
                  <a:pt x="1825870" y="0"/>
                </a:lnTo>
                <a:lnTo>
                  <a:pt x="1827442" y="993"/>
                </a:lnTo>
                <a:lnTo>
                  <a:pt x="1828490" y="2646"/>
                </a:lnTo>
                <a:lnTo>
                  <a:pt x="1830464" y="8562"/>
                </a:lnTo>
                <a:lnTo>
                  <a:pt x="1838263" y="8898"/>
                </a:lnTo>
                <a:lnTo>
                  <a:pt x="1838680" y="7916"/>
                </a:lnTo>
                <a:lnTo>
                  <a:pt x="1839515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82" name="SMARTInkShape-Group213"/>
          <p:cNvGrpSpPr/>
          <p:nvPr/>
        </p:nvGrpSpPr>
        <p:grpSpPr>
          <a:xfrm>
            <a:off x="6892920" y="2357280"/>
            <a:ext cx="1054080" cy="517680"/>
            <a:chOff x="6892920" y="2357280"/>
            <a:chExt cx="1054080" cy="517680"/>
          </a:xfrm>
        </p:grpSpPr>
        <p:sp>
          <p:nvSpPr>
            <p:cNvPr id="283" name="SMARTInkShape-201"/>
            <p:cNvSpPr/>
            <p:nvPr/>
          </p:nvSpPr>
          <p:spPr>
            <a:xfrm>
              <a:off x="6919560" y="2357280"/>
              <a:ext cx="1027440" cy="491040"/>
            </a:xfrm>
            <a:custGeom>
              <a:avLst/>
              <a:gdLst>
                <a:gd name="textAreaLeft" fmla="*/ 0 w 1027440"/>
                <a:gd name="textAreaRight" fmla="*/ 1027800 w 102744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1026915" h="491112">
                  <a:moveTo>
                    <a:pt x="973336" y="482181"/>
                  </a:moveTo>
                  <a:lnTo>
                    <a:pt x="973336" y="482181"/>
                  </a:lnTo>
                  <a:lnTo>
                    <a:pt x="973336" y="443808"/>
                  </a:lnTo>
                  <a:lnTo>
                    <a:pt x="975982" y="437676"/>
                  </a:lnTo>
                  <a:lnTo>
                    <a:pt x="979474" y="431643"/>
                  </a:lnTo>
                  <a:lnTo>
                    <a:pt x="981715" y="419686"/>
                  </a:lnTo>
                  <a:lnTo>
                    <a:pt x="982261" y="376887"/>
                  </a:lnTo>
                  <a:lnTo>
                    <a:pt x="982263" y="373290"/>
                  </a:lnTo>
                  <a:lnTo>
                    <a:pt x="984910" y="366647"/>
                  </a:lnTo>
                  <a:lnTo>
                    <a:pt x="988402" y="360388"/>
                  </a:lnTo>
                  <a:lnTo>
                    <a:pt x="990367" y="350294"/>
                  </a:lnTo>
                  <a:lnTo>
                    <a:pt x="991944" y="336167"/>
                  </a:lnTo>
                  <a:lnTo>
                    <a:pt x="997260" y="324265"/>
                  </a:lnTo>
                  <a:lnTo>
                    <a:pt x="1006187" y="281843"/>
                  </a:lnTo>
                  <a:lnTo>
                    <a:pt x="1015117" y="237252"/>
                  </a:lnTo>
                  <a:lnTo>
                    <a:pt x="1018128" y="220984"/>
                  </a:lnTo>
                  <a:lnTo>
                    <a:pt x="1025561" y="202874"/>
                  </a:lnTo>
                  <a:lnTo>
                    <a:pt x="1026878" y="162306"/>
                  </a:lnTo>
                  <a:lnTo>
                    <a:pt x="1026914" y="117979"/>
                  </a:lnTo>
                  <a:lnTo>
                    <a:pt x="1026914" y="82119"/>
                  </a:lnTo>
                  <a:lnTo>
                    <a:pt x="1020776" y="73567"/>
                  </a:lnTo>
                  <a:lnTo>
                    <a:pt x="1017819" y="65218"/>
                  </a:lnTo>
                  <a:lnTo>
                    <a:pt x="1013612" y="59401"/>
                  </a:lnTo>
                  <a:lnTo>
                    <a:pt x="1008434" y="56154"/>
                  </a:lnTo>
                  <a:lnTo>
                    <a:pt x="975896" y="45484"/>
                  </a:lnTo>
                  <a:lnTo>
                    <a:pt x="961416" y="43888"/>
                  </a:lnTo>
                  <a:lnTo>
                    <a:pt x="948418" y="38565"/>
                  </a:lnTo>
                  <a:lnTo>
                    <a:pt x="906693" y="35865"/>
                  </a:lnTo>
                  <a:lnTo>
                    <a:pt x="892123" y="36764"/>
                  </a:lnTo>
                  <a:lnTo>
                    <a:pt x="853469" y="43806"/>
                  </a:lnTo>
                  <a:lnTo>
                    <a:pt x="809478" y="44555"/>
                  </a:lnTo>
                  <a:lnTo>
                    <a:pt x="767542" y="44617"/>
                  </a:lnTo>
                  <a:lnTo>
                    <a:pt x="730319" y="44626"/>
                  </a:lnTo>
                  <a:lnTo>
                    <a:pt x="687335" y="44627"/>
                  </a:lnTo>
                  <a:lnTo>
                    <a:pt x="642905" y="44627"/>
                  </a:lnTo>
                  <a:lnTo>
                    <a:pt x="606220" y="44627"/>
                  </a:lnTo>
                  <a:lnTo>
                    <a:pt x="564431" y="44627"/>
                  </a:lnTo>
                  <a:lnTo>
                    <a:pt x="527219" y="44627"/>
                  </a:lnTo>
                  <a:lnTo>
                    <a:pt x="491206" y="43635"/>
                  </a:lnTo>
                  <a:lnTo>
                    <a:pt x="455430" y="37559"/>
                  </a:lnTo>
                  <a:lnTo>
                    <a:pt x="419699" y="36065"/>
                  </a:lnTo>
                  <a:lnTo>
                    <a:pt x="383977" y="29633"/>
                  </a:lnTo>
                  <a:lnTo>
                    <a:pt x="344069" y="27145"/>
                  </a:lnTo>
                  <a:lnTo>
                    <a:pt x="303058" y="24171"/>
                  </a:lnTo>
                  <a:lnTo>
                    <a:pt x="259882" y="18672"/>
                  </a:lnTo>
                  <a:lnTo>
                    <a:pt x="239279" y="17093"/>
                  </a:lnTo>
                  <a:lnTo>
                    <a:pt x="196371" y="9757"/>
                  </a:lnTo>
                  <a:lnTo>
                    <a:pt x="176475" y="8167"/>
                  </a:lnTo>
                  <a:lnTo>
                    <a:pt x="139974" y="828"/>
                  </a:lnTo>
                  <a:lnTo>
                    <a:pt x="95417" y="0"/>
                  </a:lnTo>
                  <a:lnTo>
                    <a:pt x="83284" y="977"/>
                  </a:lnTo>
                  <a:lnTo>
                    <a:pt x="57465" y="8081"/>
                  </a:lnTo>
                  <a:lnTo>
                    <a:pt x="51006" y="8541"/>
                  </a:lnTo>
                  <a:lnTo>
                    <a:pt x="44829" y="11390"/>
                  </a:lnTo>
                  <a:lnTo>
                    <a:pt x="38776" y="14972"/>
                  </a:lnTo>
                  <a:lnTo>
                    <a:pt x="32779" y="16564"/>
                  </a:lnTo>
                  <a:lnTo>
                    <a:pt x="30783" y="17981"/>
                  </a:lnTo>
                  <a:lnTo>
                    <a:pt x="29451" y="19918"/>
                  </a:lnTo>
                  <a:lnTo>
                    <a:pt x="28565" y="22201"/>
                  </a:lnTo>
                  <a:lnTo>
                    <a:pt x="26981" y="23723"/>
                  </a:lnTo>
                  <a:lnTo>
                    <a:pt x="22575" y="25414"/>
                  </a:lnTo>
                  <a:lnTo>
                    <a:pt x="21003" y="26857"/>
                  </a:lnTo>
                  <a:lnTo>
                    <a:pt x="10976" y="44807"/>
                  </a:lnTo>
                  <a:lnTo>
                    <a:pt x="7962" y="77371"/>
                  </a:lnTo>
                  <a:lnTo>
                    <a:pt x="2800" y="87292"/>
                  </a:lnTo>
                  <a:lnTo>
                    <a:pt x="49" y="131898"/>
                  </a:lnTo>
                  <a:lnTo>
                    <a:pt x="2" y="176106"/>
                  </a:lnTo>
                  <a:lnTo>
                    <a:pt x="0" y="217519"/>
                  </a:lnTo>
                  <a:lnTo>
                    <a:pt x="992" y="253009"/>
                  </a:lnTo>
                  <a:lnTo>
                    <a:pt x="8379" y="287591"/>
                  </a:lnTo>
                  <a:lnTo>
                    <a:pt x="8908" y="327289"/>
                  </a:lnTo>
                  <a:lnTo>
                    <a:pt x="9916" y="343132"/>
                  </a:lnTo>
                  <a:lnTo>
                    <a:pt x="17032" y="371939"/>
                  </a:lnTo>
                  <a:lnTo>
                    <a:pt x="17838" y="413631"/>
                  </a:lnTo>
                  <a:lnTo>
                    <a:pt x="17857" y="431176"/>
                  </a:lnTo>
                  <a:lnTo>
                    <a:pt x="23004" y="448551"/>
                  </a:lnTo>
                  <a:lnTo>
                    <a:pt x="22282" y="450832"/>
                  </a:lnTo>
                  <a:lnTo>
                    <a:pt x="20808" y="452352"/>
                  </a:lnTo>
                  <a:lnTo>
                    <a:pt x="18733" y="463973"/>
                  </a:lnTo>
                  <a:lnTo>
                    <a:pt x="19435" y="467066"/>
                  </a:lnTo>
                  <a:lnTo>
                    <a:pt x="20893" y="469128"/>
                  </a:lnTo>
                  <a:lnTo>
                    <a:pt x="22859" y="470503"/>
                  </a:lnTo>
                  <a:lnTo>
                    <a:pt x="24170" y="472411"/>
                  </a:lnTo>
                  <a:lnTo>
                    <a:pt x="26013" y="479838"/>
                  </a:lnTo>
                  <a:lnTo>
                    <a:pt x="26789" y="49111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4" name="SMARTInkShape-202"/>
            <p:cNvSpPr/>
            <p:nvPr/>
          </p:nvSpPr>
          <p:spPr>
            <a:xfrm>
              <a:off x="6892920" y="2839320"/>
              <a:ext cx="964800" cy="35640"/>
            </a:xfrm>
            <a:custGeom>
              <a:avLst/>
              <a:gdLst>
                <a:gd name="textAreaLeft" fmla="*/ 0 w 964800"/>
                <a:gd name="textAreaRight" fmla="*/ 965160 w 9648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964407" h="35720">
                  <a:moveTo>
                    <a:pt x="0" y="0"/>
                  </a:moveTo>
                  <a:lnTo>
                    <a:pt x="0" y="0"/>
                  </a:lnTo>
                  <a:lnTo>
                    <a:pt x="13303" y="0"/>
                  </a:lnTo>
                  <a:lnTo>
                    <a:pt x="18479" y="2646"/>
                  </a:lnTo>
                  <a:lnTo>
                    <a:pt x="24088" y="6137"/>
                  </a:lnTo>
                  <a:lnTo>
                    <a:pt x="35774" y="8378"/>
                  </a:lnTo>
                  <a:lnTo>
                    <a:pt x="78507" y="8926"/>
                  </a:lnTo>
                  <a:lnTo>
                    <a:pt x="113202" y="7938"/>
                  </a:lnTo>
                  <a:lnTo>
                    <a:pt x="135563" y="1242"/>
                  </a:lnTo>
                  <a:lnTo>
                    <a:pt x="176979" y="33"/>
                  </a:lnTo>
                  <a:lnTo>
                    <a:pt x="193562" y="999"/>
                  </a:lnTo>
                  <a:lnTo>
                    <a:pt x="220669" y="7690"/>
                  </a:lnTo>
                  <a:lnTo>
                    <a:pt x="260839" y="8882"/>
                  </a:lnTo>
                  <a:lnTo>
                    <a:pt x="300743" y="8927"/>
                  </a:lnTo>
                  <a:lnTo>
                    <a:pt x="339885" y="8930"/>
                  </a:lnTo>
                  <a:lnTo>
                    <a:pt x="381898" y="8930"/>
                  </a:lnTo>
                  <a:lnTo>
                    <a:pt x="389999" y="9923"/>
                  </a:lnTo>
                  <a:lnTo>
                    <a:pt x="412379" y="16618"/>
                  </a:lnTo>
                  <a:lnTo>
                    <a:pt x="453799" y="17827"/>
                  </a:lnTo>
                  <a:lnTo>
                    <a:pt x="462302" y="20491"/>
                  </a:lnTo>
                  <a:lnTo>
                    <a:pt x="470382" y="23990"/>
                  </a:lnTo>
                  <a:lnTo>
                    <a:pt x="511459" y="26741"/>
                  </a:lnTo>
                  <a:lnTo>
                    <a:pt x="554256" y="26789"/>
                  </a:lnTo>
                  <a:lnTo>
                    <a:pt x="564828" y="27781"/>
                  </a:lnTo>
                  <a:lnTo>
                    <a:pt x="582346" y="33857"/>
                  </a:lnTo>
                  <a:lnTo>
                    <a:pt x="599880" y="35351"/>
                  </a:lnTo>
                  <a:lnTo>
                    <a:pt x="640685" y="27029"/>
                  </a:lnTo>
                  <a:lnTo>
                    <a:pt x="681135" y="26794"/>
                  </a:lnTo>
                  <a:lnTo>
                    <a:pt x="724928" y="26789"/>
                  </a:lnTo>
                  <a:lnTo>
                    <a:pt x="765701" y="35474"/>
                  </a:lnTo>
                  <a:lnTo>
                    <a:pt x="808545" y="35713"/>
                  </a:lnTo>
                  <a:lnTo>
                    <a:pt x="850917" y="35719"/>
                  </a:lnTo>
                  <a:lnTo>
                    <a:pt x="892413" y="35719"/>
                  </a:lnTo>
                  <a:lnTo>
                    <a:pt x="935886" y="35719"/>
                  </a:lnTo>
                  <a:lnTo>
                    <a:pt x="964397" y="35719"/>
                  </a:lnTo>
                  <a:lnTo>
                    <a:pt x="964406" y="26899"/>
                  </a:lnTo>
                  <a:lnTo>
                    <a:pt x="955477" y="267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85" name="SMARTInkShape-Group214"/>
          <p:cNvGrpSpPr/>
          <p:nvPr/>
        </p:nvGrpSpPr>
        <p:grpSpPr>
          <a:xfrm>
            <a:off x="4017960" y="1795320"/>
            <a:ext cx="2813040" cy="1079640"/>
            <a:chOff x="4017960" y="1795320"/>
            <a:chExt cx="2813040" cy="1079640"/>
          </a:xfrm>
        </p:grpSpPr>
        <p:sp>
          <p:nvSpPr>
            <p:cNvPr id="286" name="SMARTInkShape-203"/>
            <p:cNvSpPr/>
            <p:nvPr/>
          </p:nvSpPr>
          <p:spPr>
            <a:xfrm>
              <a:off x="4017960" y="2348640"/>
              <a:ext cx="1982520" cy="526320"/>
            </a:xfrm>
            <a:custGeom>
              <a:avLst/>
              <a:gdLst>
                <a:gd name="textAreaLeft" fmla="*/ 0 w 1982520"/>
                <a:gd name="textAreaRight" fmla="*/ 1982880 w 1982520"/>
                <a:gd name="textAreaTop" fmla="*/ 0 h 526320"/>
                <a:gd name="textAreaBottom" fmla="*/ 526680 h 526320"/>
              </a:gdLst>
              <a:ahLst/>
              <a:rect l="textAreaLeft" t="textAreaTop" r="textAreaRight" b="textAreaBottom"/>
              <a:pathLst>
                <a:path w="1982379" h="526740">
                  <a:moveTo>
                    <a:pt x="1884161" y="491020"/>
                  </a:moveTo>
                  <a:lnTo>
                    <a:pt x="1884161" y="491020"/>
                  </a:lnTo>
                  <a:lnTo>
                    <a:pt x="1884161" y="481540"/>
                  </a:lnTo>
                  <a:lnTo>
                    <a:pt x="1881515" y="474239"/>
                  </a:lnTo>
                  <a:lnTo>
                    <a:pt x="1876473" y="466208"/>
                  </a:lnTo>
                  <a:lnTo>
                    <a:pt x="1875395" y="454778"/>
                  </a:lnTo>
                  <a:lnTo>
                    <a:pt x="1875264" y="448033"/>
                  </a:lnTo>
                  <a:lnTo>
                    <a:pt x="1890678" y="428345"/>
                  </a:lnTo>
                  <a:lnTo>
                    <a:pt x="1893765" y="413608"/>
                  </a:lnTo>
                  <a:lnTo>
                    <a:pt x="1900095" y="401719"/>
                  </a:lnTo>
                  <a:lnTo>
                    <a:pt x="1900738" y="398744"/>
                  </a:lnTo>
                  <a:lnTo>
                    <a:pt x="1921796" y="354981"/>
                  </a:lnTo>
                  <a:lnTo>
                    <a:pt x="1926731" y="341241"/>
                  </a:lnTo>
                  <a:lnTo>
                    <a:pt x="1939780" y="301455"/>
                  </a:lnTo>
                  <a:lnTo>
                    <a:pt x="1944628" y="287679"/>
                  </a:lnTo>
                  <a:lnTo>
                    <a:pt x="1948710" y="274667"/>
                  </a:lnTo>
                  <a:lnTo>
                    <a:pt x="1953558" y="260890"/>
                  </a:lnTo>
                  <a:lnTo>
                    <a:pt x="1956323" y="238097"/>
                  </a:lnTo>
                  <a:lnTo>
                    <a:pt x="1962613" y="221088"/>
                  </a:lnTo>
                  <a:lnTo>
                    <a:pt x="1964669" y="211308"/>
                  </a:lnTo>
                  <a:lnTo>
                    <a:pt x="1971427" y="196946"/>
                  </a:lnTo>
                  <a:lnTo>
                    <a:pt x="1981985" y="153283"/>
                  </a:lnTo>
                  <a:lnTo>
                    <a:pt x="1982378" y="114357"/>
                  </a:lnTo>
                  <a:lnTo>
                    <a:pt x="1979737" y="107649"/>
                  </a:lnTo>
                  <a:lnTo>
                    <a:pt x="1976248" y="101360"/>
                  </a:lnTo>
                  <a:lnTo>
                    <a:pt x="1974009" y="89238"/>
                  </a:lnTo>
                  <a:lnTo>
                    <a:pt x="1972711" y="82263"/>
                  </a:lnTo>
                  <a:lnTo>
                    <a:pt x="1962449" y="54019"/>
                  </a:lnTo>
                  <a:lnTo>
                    <a:pt x="1958643" y="47759"/>
                  </a:lnTo>
                  <a:lnTo>
                    <a:pt x="1956952" y="41669"/>
                  </a:lnTo>
                  <a:lnTo>
                    <a:pt x="1955509" y="39648"/>
                  </a:lnTo>
                  <a:lnTo>
                    <a:pt x="1953554" y="38301"/>
                  </a:lnTo>
                  <a:lnTo>
                    <a:pt x="1948736" y="35812"/>
                  </a:lnTo>
                  <a:lnTo>
                    <a:pt x="1943288" y="31398"/>
                  </a:lnTo>
                  <a:lnTo>
                    <a:pt x="1940206" y="26129"/>
                  </a:lnTo>
                  <a:lnTo>
                    <a:pt x="1938227" y="19403"/>
                  </a:lnTo>
                  <a:lnTo>
                    <a:pt x="1933143" y="13497"/>
                  </a:lnTo>
                  <a:lnTo>
                    <a:pt x="1928089" y="10897"/>
                  </a:lnTo>
                  <a:lnTo>
                    <a:pt x="1913832" y="8099"/>
                  </a:lnTo>
                  <a:lnTo>
                    <a:pt x="1902002" y="1804"/>
                  </a:lnTo>
                  <a:lnTo>
                    <a:pt x="1881183" y="0"/>
                  </a:lnTo>
                  <a:lnTo>
                    <a:pt x="1875231" y="2584"/>
                  </a:lnTo>
                  <a:lnTo>
                    <a:pt x="1869278" y="6047"/>
                  </a:lnTo>
                  <a:lnTo>
                    <a:pt x="1859357" y="7997"/>
                  </a:lnTo>
                  <a:lnTo>
                    <a:pt x="1833396" y="9737"/>
                  </a:lnTo>
                  <a:lnTo>
                    <a:pt x="1811097" y="16496"/>
                  </a:lnTo>
                  <a:lnTo>
                    <a:pt x="1785328" y="20228"/>
                  </a:lnTo>
                  <a:lnTo>
                    <a:pt x="1770541" y="27412"/>
                  </a:lnTo>
                  <a:lnTo>
                    <a:pt x="1766742" y="30143"/>
                  </a:lnTo>
                  <a:lnTo>
                    <a:pt x="1757230" y="33179"/>
                  </a:lnTo>
                  <a:lnTo>
                    <a:pt x="1730120" y="36279"/>
                  </a:lnTo>
                  <a:lnTo>
                    <a:pt x="1712585" y="42611"/>
                  </a:lnTo>
                  <a:lnTo>
                    <a:pt x="1696071" y="46612"/>
                  </a:lnTo>
                  <a:lnTo>
                    <a:pt x="1660869" y="59932"/>
                  </a:lnTo>
                  <a:lnTo>
                    <a:pt x="1643044" y="64312"/>
                  </a:lnTo>
                  <a:lnTo>
                    <a:pt x="1625196" y="69247"/>
                  </a:lnTo>
                  <a:lnTo>
                    <a:pt x="1607340" y="73356"/>
                  </a:lnTo>
                  <a:lnTo>
                    <a:pt x="1589481" y="78211"/>
                  </a:lnTo>
                  <a:lnTo>
                    <a:pt x="1553763" y="82722"/>
                  </a:lnTo>
                  <a:lnTo>
                    <a:pt x="1533258" y="87269"/>
                  </a:lnTo>
                  <a:lnTo>
                    <a:pt x="1491806" y="91662"/>
                  </a:lnTo>
                  <a:lnTo>
                    <a:pt x="1473559" y="96203"/>
                  </a:lnTo>
                  <a:lnTo>
                    <a:pt x="1435045" y="97947"/>
                  </a:lnTo>
                  <a:lnTo>
                    <a:pt x="1390936" y="98100"/>
                  </a:lnTo>
                  <a:lnTo>
                    <a:pt x="1365619" y="100756"/>
                  </a:lnTo>
                  <a:lnTo>
                    <a:pt x="1327646" y="106216"/>
                  </a:lnTo>
                  <a:lnTo>
                    <a:pt x="1285493" y="106935"/>
                  </a:lnTo>
                  <a:lnTo>
                    <a:pt x="1248242" y="104384"/>
                  </a:lnTo>
                  <a:lnTo>
                    <a:pt x="1205253" y="98940"/>
                  </a:lnTo>
                  <a:lnTo>
                    <a:pt x="1160824" y="98223"/>
                  </a:lnTo>
                  <a:lnTo>
                    <a:pt x="1123272" y="98128"/>
                  </a:lnTo>
                  <a:lnTo>
                    <a:pt x="1080244" y="97124"/>
                  </a:lnTo>
                  <a:lnTo>
                    <a:pt x="1035809" y="90426"/>
                  </a:lnTo>
                  <a:lnTo>
                    <a:pt x="991188" y="89348"/>
                  </a:lnTo>
                  <a:lnTo>
                    <a:pt x="946544" y="89206"/>
                  </a:lnTo>
                  <a:lnTo>
                    <a:pt x="908180" y="89189"/>
                  </a:lnTo>
                  <a:lnTo>
                    <a:pt x="867418" y="89185"/>
                  </a:lnTo>
                  <a:lnTo>
                    <a:pt x="824566" y="89184"/>
                  </a:lnTo>
                  <a:lnTo>
                    <a:pt x="786410" y="89184"/>
                  </a:lnTo>
                  <a:lnTo>
                    <a:pt x="750210" y="89184"/>
                  </a:lnTo>
                  <a:lnTo>
                    <a:pt x="714396" y="90177"/>
                  </a:lnTo>
                  <a:lnTo>
                    <a:pt x="676012" y="96252"/>
                  </a:lnTo>
                  <a:lnTo>
                    <a:pt x="635247" y="97746"/>
                  </a:lnTo>
                  <a:lnTo>
                    <a:pt x="598531" y="99034"/>
                  </a:lnTo>
                  <a:lnTo>
                    <a:pt x="562616" y="105168"/>
                  </a:lnTo>
                  <a:lnTo>
                    <a:pt x="526859" y="106674"/>
                  </a:lnTo>
                  <a:lnTo>
                    <a:pt x="484995" y="113108"/>
                  </a:lnTo>
                  <a:lnTo>
                    <a:pt x="447034" y="115407"/>
                  </a:lnTo>
                  <a:lnTo>
                    <a:pt x="402898" y="122036"/>
                  </a:lnTo>
                  <a:lnTo>
                    <a:pt x="364882" y="124526"/>
                  </a:lnTo>
                  <a:lnTo>
                    <a:pt x="321303" y="124854"/>
                  </a:lnTo>
                  <a:lnTo>
                    <a:pt x="277587" y="124899"/>
                  </a:lnTo>
                  <a:lnTo>
                    <a:pt x="238520" y="124903"/>
                  </a:lnTo>
                  <a:lnTo>
                    <a:pt x="203240" y="123911"/>
                  </a:lnTo>
                  <a:lnTo>
                    <a:pt x="160781" y="116525"/>
                  </a:lnTo>
                  <a:lnTo>
                    <a:pt x="130973" y="115054"/>
                  </a:lnTo>
                  <a:lnTo>
                    <a:pt x="96362" y="107600"/>
                  </a:lnTo>
                  <a:lnTo>
                    <a:pt x="53630" y="107049"/>
                  </a:lnTo>
                  <a:lnTo>
                    <a:pt x="13261" y="107044"/>
                  </a:lnTo>
                  <a:lnTo>
                    <a:pt x="11817" y="108036"/>
                  </a:lnTo>
                  <a:lnTo>
                    <a:pt x="10853" y="109690"/>
                  </a:lnTo>
                  <a:lnTo>
                    <a:pt x="9307" y="114732"/>
                  </a:lnTo>
                  <a:lnTo>
                    <a:pt x="6450" y="115422"/>
                  </a:lnTo>
                  <a:lnTo>
                    <a:pt x="4299" y="115606"/>
                  </a:lnTo>
                  <a:lnTo>
                    <a:pt x="2865" y="116720"/>
                  </a:lnTo>
                  <a:lnTo>
                    <a:pt x="1272" y="120605"/>
                  </a:lnTo>
                  <a:lnTo>
                    <a:pt x="0" y="163603"/>
                  </a:lnTo>
                  <a:lnTo>
                    <a:pt x="9674" y="208186"/>
                  </a:lnTo>
                  <a:lnTo>
                    <a:pt x="15946" y="225176"/>
                  </a:lnTo>
                  <a:lnTo>
                    <a:pt x="17745" y="264922"/>
                  </a:lnTo>
                  <a:lnTo>
                    <a:pt x="17852" y="304054"/>
                  </a:lnTo>
                  <a:lnTo>
                    <a:pt x="17856" y="343041"/>
                  </a:lnTo>
                  <a:lnTo>
                    <a:pt x="18849" y="376993"/>
                  </a:lnTo>
                  <a:lnTo>
                    <a:pt x="24924" y="394670"/>
                  </a:lnTo>
                  <a:lnTo>
                    <a:pt x="25545" y="399998"/>
                  </a:lnTo>
                  <a:lnTo>
                    <a:pt x="23589" y="408563"/>
                  </a:lnTo>
                  <a:lnTo>
                    <a:pt x="20404" y="415677"/>
                  </a:lnTo>
                  <a:lnTo>
                    <a:pt x="18080" y="434385"/>
                  </a:lnTo>
                  <a:lnTo>
                    <a:pt x="17857" y="476137"/>
                  </a:lnTo>
                  <a:lnTo>
                    <a:pt x="17856" y="485068"/>
                  </a:lnTo>
                  <a:lnTo>
                    <a:pt x="16865" y="487052"/>
                  </a:lnTo>
                  <a:lnTo>
                    <a:pt x="15211" y="488374"/>
                  </a:lnTo>
                  <a:lnTo>
                    <a:pt x="13116" y="489256"/>
                  </a:lnTo>
                  <a:lnTo>
                    <a:pt x="11720" y="490837"/>
                  </a:lnTo>
                  <a:lnTo>
                    <a:pt x="10168" y="495238"/>
                  </a:lnTo>
                  <a:lnTo>
                    <a:pt x="10747" y="497801"/>
                  </a:lnTo>
                  <a:lnTo>
                    <a:pt x="16724" y="507225"/>
                  </a:lnTo>
                  <a:lnTo>
                    <a:pt x="17790" y="517878"/>
                  </a:lnTo>
                  <a:lnTo>
                    <a:pt x="17856" y="5267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7" name="SMARTInkShape-204"/>
            <p:cNvSpPr/>
            <p:nvPr/>
          </p:nvSpPr>
          <p:spPr>
            <a:xfrm>
              <a:off x="5777280" y="2143080"/>
              <a:ext cx="580320" cy="25740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0431" h="257566">
                  <a:moveTo>
                    <a:pt x="580430" y="0"/>
                  </a:moveTo>
                  <a:lnTo>
                    <a:pt x="580430" y="0"/>
                  </a:lnTo>
                  <a:lnTo>
                    <a:pt x="550878" y="0"/>
                  </a:lnTo>
                  <a:lnTo>
                    <a:pt x="544806" y="2646"/>
                  </a:lnTo>
                  <a:lnTo>
                    <a:pt x="538800" y="6137"/>
                  </a:lnTo>
                  <a:lnTo>
                    <a:pt x="503789" y="18480"/>
                  </a:lnTo>
                  <a:lnTo>
                    <a:pt x="463657" y="44664"/>
                  </a:lnTo>
                  <a:lnTo>
                    <a:pt x="421498" y="62509"/>
                  </a:lnTo>
                  <a:lnTo>
                    <a:pt x="383038" y="83528"/>
                  </a:lnTo>
                  <a:lnTo>
                    <a:pt x="339205" y="100836"/>
                  </a:lnTo>
                  <a:lnTo>
                    <a:pt x="294664" y="123105"/>
                  </a:lnTo>
                  <a:lnTo>
                    <a:pt x="251022" y="140639"/>
                  </a:lnTo>
                  <a:lnTo>
                    <a:pt x="213072" y="162437"/>
                  </a:lnTo>
                  <a:lnTo>
                    <a:pt x="176569" y="178426"/>
                  </a:lnTo>
                  <a:lnTo>
                    <a:pt x="139816" y="193455"/>
                  </a:lnTo>
                  <a:lnTo>
                    <a:pt x="97150" y="211334"/>
                  </a:lnTo>
                  <a:lnTo>
                    <a:pt x="56223" y="235148"/>
                  </a:lnTo>
                  <a:lnTo>
                    <a:pt x="38814" y="246062"/>
                  </a:lnTo>
                  <a:lnTo>
                    <a:pt x="19941" y="251893"/>
                  </a:lnTo>
                  <a:lnTo>
                    <a:pt x="12832" y="255819"/>
                  </a:lnTo>
                  <a:lnTo>
                    <a:pt x="6364" y="257565"/>
                  </a:lnTo>
                  <a:lnTo>
                    <a:pt x="4243" y="257038"/>
                  </a:lnTo>
                  <a:lnTo>
                    <a:pt x="2829" y="255694"/>
                  </a:lnTo>
                  <a:lnTo>
                    <a:pt x="0" y="2500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8" name="SMARTInkShape-205"/>
            <p:cNvSpPr/>
            <p:nvPr/>
          </p:nvSpPr>
          <p:spPr>
            <a:xfrm>
              <a:off x="5777280" y="2161080"/>
              <a:ext cx="392760" cy="24984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392787" h="249999">
                  <a:moveTo>
                    <a:pt x="115965" y="0"/>
                  </a:moveTo>
                  <a:lnTo>
                    <a:pt x="115965" y="0"/>
                  </a:lnTo>
                  <a:lnTo>
                    <a:pt x="115965" y="7689"/>
                  </a:lnTo>
                  <a:lnTo>
                    <a:pt x="100520" y="26973"/>
                  </a:lnTo>
                  <a:lnTo>
                    <a:pt x="93843" y="43472"/>
                  </a:lnTo>
                  <a:lnTo>
                    <a:pt x="65341" y="86413"/>
                  </a:lnTo>
                  <a:lnTo>
                    <a:pt x="57419" y="102113"/>
                  </a:lnTo>
                  <a:lnTo>
                    <a:pt x="51594" y="122549"/>
                  </a:lnTo>
                  <a:lnTo>
                    <a:pt x="26620" y="162765"/>
                  </a:lnTo>
                  <a:lnTo>
                    <a:pt x="20370" y="176549"/>
                  </a:lnTo>
                  <a:lnTo>
                    <a:pt x="17916" y="183639"/>
                  </a:lnTo>
                  <a:lnTo>
                    <a:pt x="11948" y="193208"/>
                  </a:lnTo>
                  <a:lnTo>
                    <a:pt x="8747" y="202327"/>
                  </a:lnTo>
                  <a:lnTo>
                    <a:pt x="2948" y="211312"/>
                  </a:lnTo>
                  <a:lnTo>
                    <a:pt x="284" y="221475"/>
                  </a:lnTo>
                  <a:lnTo>
                    <a:pt x="0" y="227459"/>
                  </a:lnTo>
                  <a:lnTo>
                    <a:pt x="951" y="229030"/>
                  </a:lnTo>
                  <a:lnTo>
                    <a:pt x="2579" y="230078"/>
                  </a:lnTo>
                  <a:lnTo>
                    <a:pt x="7579" y="231759"/>
                  </a:lnTo>
                  <a:lnTo>
                    <a:pt x="8262" y="234634"/>
                  </a:lnTo>
                  <a:lnTo>
                    <a:pt x="8445" y="236790"/>
                  </a:lnTo>
                  <a:lnTo>
                    <a:pt x="9559" y="238228"/>
                  </a:lnTo>
                  <a:lnTo>
                    <a:pt x="17882" y="241842"/>
                  </a:lnTo>
                  <a:lnTo>
                    <a:pt x="24616" y="247164"/>
                  </a:lnTo>
                  <a:lnTo>
                    <a:pt x="33956" y="249654"/>
                  </a:lnTo>
                  <a:lnTo>
                    <a:pt x="47883" y="249998"/>
                  </a:lnTo>
                  <a:lnTo>
                    <a:pt x="53625" y="247371"/>
                  </a:lnTo>
                  <a:lnTo>
                    <a:pt x="59485" y="243888"/>
                  </a:lnTo>
                  <a:lnTo>
                    <a:pt x="69355" y="241927"/>
                  </a:lnTo>
                  <a:lnTo>
                    <a:pt x="95296" y="240182"/>
                  </a:lnTo>
                  <a:lnTo>
                    <a:pt x="139901" y="227802"/>
                  </a:lnTo>
                  <a:lnTo>
                    <a:pt x="179274" y="221197"/>
                  </a:lnTo>
                  <a:lnTo>
                    <a:pt x="217090" y="214227"/>
                  </a:lnTo>
                  <a:lnTo>
                    <a:pt x="254481" y="206744"/>
                  </a:lnTo>
                  <a:lnTo>
                    <a:pt x="295161" y="205562"/>
                  </a:lnTo>
                  <a:lnTo>
                    <a:pt x="338476" y="205399"/>
                  </a:lnTo>
                  <a:lnTo>
                    <a:pt x="380837" y="205384"/>
                  </a:lnTo>
                  <a:lnTo>
                    <a:pt x="384819" y="204392"/>
                  </a:lnTo>
                  <a:lnTo>
                    <a:pt x="387475" y="202738"/>
                  </a:lnTo>
                  <a:lnTo>
                    <a:pt x="392786" y="1964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9" name="SMARTInkShape-206"/>
            <p:cNvSpPr/>
            <p:nvPr/>
          </p:nvSpPr>
          <p:spPr>
            <a:xfrm>
              <a:off x="6304320" y="1912320"/>
              <a:ext cx="491040" cy="36432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491097" h="364834">
                  <a:moveTo>
                    <a:pt x="53578" y="52301"/>
                  </a:moveTo>
                  <a:lnTo>
                    <a:pt x="53578" y="52301"/>
                  </a:lnTo>
                  <a:lnTo>
                    <a:pt x="44097" y="57041"/>
                  </a:lnTo>
                  <a:lnTo>
                    <a:pt x="41304" y="59430"/>
                  </a:lnTo>
                  <a:lnTo>
                    <a:pt x="38202" y="64730"/>
                  </a:lnTo>
                  <a:lnTo>
                    <a:pt x="31197" y="86853"/>
                  </a:lnTo>
                  <a:lnTo>
                    <a:pt x="20302" y="105334"/>
                  </a:lnTo>
                  <a:lnTo>
                    <a:pt x="17953" y="111590"/>
                  </a:lnTo>
                  <a:lnTo>
                    <a:pt x="12044" y="121682"/>
                  </a:lnTo>
                  <a:lnTo>
                    <a:pt x="4311" y="165563"/>
                  </a:lnTo>
                  <a:lnTo>
                    <a:pt x="852" y="183116"/>
                  </a:lnTo>
                  <a:lnTo>
                    <a:pt x="112" y="210431"/>
                  </a:lnTo>
                  <a:lnTo>
                    <a:pt x="2696" y="219484"/>
                  </a:lnTo>
                  <a:lnTo>
                    <a:pt x="6159" y="227808"/>
                  </a:lnTo>
                  <a:lnTo>
                    <a:pt x="13562" y="264990"/>
                  </a:lnTo>
                  <a:lnTo>
                    <a:pt x="25132" y="281580"/>
                  </a:lnTo>
                  <a:lnTo>
                    <a:pt x="50795" y="307378"/>
                  </a:lnTo>
                  <a:lnTo>
                    <a:pt x="95148" y="335051"/>
                  </a:lnTo>
                  <a:lnTo>
                    <a:pt x="128244" y="351940"/>
                  </a:lnTo>
                  <a:lnTo>
                    <a:pt x="169680" y="362746"/>
                  </a:lnTo>
                  <a:lnTo>
                    <a:pt x="211337" y="364718"/>
                  </a:lnTo>
                  <a:lnTo>
                    <a:pt x="253007" y="364833"/>
                  </a:lnTo>
                  <a:lnTo>
                    <a:pt x="288726" y="363847"/>
                  </a:lnTo>
                  <a:lnTo>
                    <a:pt x="305594" y="357711"/>
                  </a:lnTo>
                  <a:lnTo>
                    <a:pt x="318309" y="350601"/>
                  </a:lnTo>
                  <a:lnTo>
                    <a:pt x="357351" y="337479"/>
                  </a:lnTo>
                  <a:lnTo>
                    <a:pt x="398869" y="317182"/>
                  </a:lnTo>
                  <a:lnTo>
                    <a:pt x="438107" y="286334"/>
                  </a:lnTo>
                  <a:lnTo>
                    <a:pt x="447722" y="279347"/>
                  </a:lnTo>
                  <a:lnTo>
                    <a:pt x="455120" y="269835"/>
                  </a:lnTo>
                  <a:lnTo>
                    <a:pt x="468005" y="259741"/>
                  </a:lnTo>
                  <a:lnTo>
                    <a:pt x="477556" y="245615"/>
                  </a:lnTo>
                  <a:lnTo>
                    <a:pt x="483931" y="231451"/>
                  </a:lnTo>
                  <a:lnTo>
                    <a:pt x="486332" y="228289"/>
                  </a:lnTo>
                  <a:lnTo>
                    <a:pt x="488999" y="219484"/>
                  </a:lnTo>
                  <a:lnTo>
                    <a:pt x="491096" y="175693"/>
                  </a:lnTo>
                  <a:lnTo>
                    <a:pt x="482036" y="145481"/>
                  </a:lnTo>
                  <a:lnTo>
                    <a:pt x="452401" y="104154"/>
                  </a:lnTo>
                  <a:lnTo>
                    <a:pt x="424471" y="76003"/>
                  </a:lnTo>
                  <a:lnTo>
                    <a:pt x="383908" y="52469"/>
                  </a:lnTo>
                  <a:lnTo>
                    <a:pt x="348065" y="38433"/>
                  </a:lnTo>
                  <a:lnTo>
                    <a:pt x="308815" y="27663"/>
                  </a:lnTo>
                  <a:lnTo>
                    <a:pt x="276085" y="19065"/>
                  </a:lnTo>
                  <a:lnTo>
                    <a:pt x="252459" y="14672"/>
                  </a:lnTo>
                  <a:lnTo>
                    <a:pt x="226698" y="9039"/>
                  </a:lnTo>
                  <a:lnTo>
                    <a:pt x="189449" y="5189"/>
                  </a:lnTo>
                  <a:lnTo>
                    <a:pt x="164091" y="0"/>
                  </a:lnTo>
                  <a:lnTo>
                    <a:pt x="122062" y="6900"/>
                  </a:lnTo>
                  <a:lnTo>
                    <a:pt x="104186" y="8422"/>
                  </a:lnTo>
                  <a:lnTo>
                    <a:pt x="62508" y="18664"/>
                  </a:lnTo>
                  <a:lnTo>
                    <a:pt x="47294" y="26129"/>
                  </a:lnTo>
                  <a:lnTo>
                    <a:pt x="33265" y="37540"/>
                  </a:lnTo>
                  <a:lnTo>
                    <a:pt x="3978" y="76863"/>
                  </a:lnTo>
                  <a:lnTo>
                    <a:pt x="785" y="97685"/>
                  </a:lnTo>
                  <a:lnTo>
                    <a:pt x="0" y="13266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0" name="SMARTInkShape-207"/>
            <p:cNvSpPr/>
            <p:nvPr/>
          </p:nvSpPr>
          <p:spPr>
            <a:xfrm>
              <a:off x="6188040" y="1795320"/>
              <a:ext cx="642960" cy="71388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642938" h="714376">
                  <a:moveTo>
                    <a:pt x="642937" y="0"/>
                  </a:moveTo>
                  <a:lnTo>
                    <a:pt x="642937" y="0"/>
                  </a:lnTo>
                  <a:lnTo>
                    <a:pt x="630509" y="20117"/>
                  </a:lnTo>
                  <a:lnTo>
                    <a:pt x="587620" y="64238"/>
                  </a:lnTo>
                  <a:lnTo>
                    <a:pt x="547197" y="104670"/>
                  </a:lnTo>
                  <a:lnTo>
                    <a:pt x="505987" y="146872"/>
                  </a:lnTo>
                  <a:lnTo>
                    <a:pt x="464158" y="189675"/>
                  </a:lnTo>
                  <a:lnTo>
                    <a:pt x="424901" y="233275"/>
                  </a:lnTo>
                  <a:lnTo>
                    <a:pt x="388227" y="272225"/>
                  </a:lnTo>
                  <a:lnTo>
                    <a:pt x="357355" y="313110"/>
                  </a:lnTo>
                  <a:lnTo>
                    <a:pt x="336732" y="336851"/>
                  </a:lnTo>
                  <a:lnTo>
                    <a:pt x="300475" y="375897"/>
                  </a:lnTo>
                  <a:lnTo>
                    <a:pt x="263289" y="415067"/>
                  </a:lnTo>
                  <a:lnTo>
                    <a:pt x="225282" y="455980"/>
                  </a:lnTo>
                  <a:lnTo>
                    <a:pt x="203341" y="479725"/>
                  </a:lnTo>
                  <a:lnTo>
                    <a:pt x="161457" y="517779"/>
                  </a:lnTo>
                  <a:lnTo>
                    <a:pt x="123740" y="554994"/>
                  </a:lnTo>
                  <a:lnTo>
                    <a:pt x="89913" y="598467"/>
                  </a:lnTo>
                  <a:lnTo>
                    <a:pt x="59612" y="636824"/>
                  </a:lnTo>
                  <a:lnTo>
                    <a:pt x="29776" y="679027"/>
                  </a:lnTo>
                  <a:lnTo>
                    <a:pt x="0" y="7143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91" name="SMARTInkShape-Group215"/>
          <p:cNvGrpSpPr/>
          <p:nvPr/>
        </p:nvGrpSpPr>
        <p:grpSpPr>
          <a:xfrm>
            <a:off x="7608960" y="2143080"/>
            <a:ext cx="579240" cy="534960"/>
            <a:chOff x="7608960" y="2143080"/>
            <a:chExt cx="579240" cy="534960"/>
          </a:xfrm>
        </p:grpSpPr>
        <p:sp>
          <p:nvSpPr>
            <p:cNvPr id="292" name="SMARTInkShape-208"/>
            <p:cNvSpPr/>
            <p:nvPr/>
          </p:nvSpPr>
          <p:spPr>
            <a:xfrm>
              <a:off x="7608960" y="2294640"/>
              <a:ext cx="579240" cy="383400"/>
            </a:xfrm>
            <a:custGeom>
              <a:avLst/>
              <a:gdLst>
                <a:gd name="textAreaLeft" fmla="*/ 0 w 579240"/>
                <a:gd name="textAreaRight" fmla="*/ 579240 w 5792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580420" h="383945">
                  <a:moveTo>
                    <a:pt x="160723" y="0"/>
                  </a:moveTo>
                  <a:lnTo>
                    <a:pt x="160723" y="0"/>
                  </a:lnTo>
                  <a:lnTo>
                    <a:pt x="153656" y="16782"/>
                  </a:lnTo>
                  <a:lnTo>
                    <a:pt x="153035" y="20118"/>
                  </a:lnTo>
                  <a:lnTo>
                    <a:pt x="149699" y="26470"/>
                  </a:lnTo>
                  <a:lnTo>
                    <a:pt x="137628" y="42622"/>
                  </a:lnTo>
                  <a:lnTo>
                    <a:pt x="129338" y="71097"/>
                  </a:lnTo>
                  <a:lnTo>
                    <a:pt x="104127" y="113546"/>
                  </a:lnTo>
                  <a:lnTo>
                    <a:pt x="88733" y="153684"/>
                  </a:lnTo>
                  <a:lnTo>
                    <a:pt x="68417" y="193587"/>
                  </a:lnTo>
                  <a:lnTo>
                    <a:pt x="60631" y="220611"/>
                  </a:lnTo>
                  <a:lnTo>
                    <a:pt x="48360" y="243916"/>
                  </a:lnTo>
                  <a:lnTo>
                    <a:pt x="33678" y="287790"/>
                  </a:lnTo>
                  <a:lnTo>
                    <a:pt x="26177" y="301568"/>
                  </a:lnTo>
                  <a:lnTo>
                    <a:pt x="21550" y="308656"/>
                  </a:lnTo>
                  <a:lnTo>
                    <a:pt x="15934" y="321290"/>
                  </a:lnTo>
                  <a:lnTo>
                    <a:pt x="12036" y="327343"/>
                  </a:lnTo>
                  <a:lnTo>
                    <a:pt x="8850" y="336328"/>
                  </a:lnTo>
                  <a:lnTo>
                    <a:pt x="3055" y="345275"/>
                  </a:lnTo>
                  <a:lnTo>
                    <a:pt x="897" y="354209"/>
                  </a:lnTo>
                  <a:lnTo>
                    <a:pt x="0" y="373652"/>
                  </a:lnTo>
                  <a:lnTo>
                    <a:pt x="989" y="374117"/>
                  </a:lnTo>
                  <a:lnTo>
                    <a:pt x="4733" y="374634"/>
                  </a:lnTo>
                  <a:lnTo>
                    <a:pt x="6128" y="375764"/>
                  </a:lnTo>
                  <a:lnTo>
                    <a:pt x="7678" y="379665"/>
                  </a:lnTo>
                  <a:lnTo>
                    <a:pt x="9084" y="381103"/>
                  </a:lnTo>
                  <a:lnTo>
                    <a:pt x="16499" y="383598"/>
                  </a:lnTo>
                  <a:lnTo>
                    <a:pt x="30159" y="383944"/>
                  </a:lnTo>
                  <a:lnTo>
                    <a:pt x="35888" y="381316"/>
                  </a:lnTo>
                  <a:lnTo>
                    <a:pt x="41741" y="377834"/>
                  </a:lnTo>
                  <a:lnTo>
                    <a:pt x="50615" y="374881"/>
                  </a:lnTo>
                  <a:lnTo>
                    <a:pt x="60520" y="369155"/>
                  </a:lnTo>
                  <a:lnTo>
                    <a:pt x="98450" y="356582"/>
                  </a:lnTo>
                  <a:lnTo>
                    <a:pt x="110226" y="351957"/>
                  </a:lnTo>
                  <a:lnTo>
                    <a:pt x="151987" y="341454"/>
                  </a:lnTo>
                  <a:lnTo>
                    <a:pt x="196382" y="324371"/>
                  </a:lnTo>
                  <a:lnTo>
                    <a:pt x="233525" y="309553"/>
                  </a:lnTo>
                  <a:lnTo>
                    <a:pt x="274344" y="301747"/>
                  </a:lnTo>
                  <a:lnTo>
                    <a:pt x="313379" y="289474"/>
                  </a:lnTo>
                  <a:lnTo>
                    <a:pt x="352548" y="281500"/>
                  </a:lnTo>
                  <a:lnTo>
                    <a:pt x="394515" y="272491"/>
                  </a:lnTo>
                  <a:lnTo>
                    <a:pt x="434187" y="260606"/>
                  </a:lnTo>
                  <a:lnTo>
                    <a:pt x="476217" y="250956"/>
                  </a:lnTo>
                  <a:lnTo>
                    <a:pt x="494091" y="249313"/>
                  </a:lnTo>
                  <a:lnTo>
                    <a:pt x="523679" y="241954"/>
                  </a:lnTo>
                  <a:lnTo>
                    <a:pt x="538582" y="240362"/>
                  </a:lnTo>
                  <a:lnTo>
                    <a:pt x="556192" y="233447"/>
                  </a:lnTo>
                  <a:lnTo>
                    <a:pt x="580419" y="23217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3" name="SMARTInkShape-209"/>
            <p:cNvSpPr/>
            <p:nvPr/>
          </p:nvSpPr>
          <p:spPr>
            <a:xfrm>
              <a:off x="7697880" y="2143080"/>
              <a:ext cx="463680" cy="4190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464345" h="419696">
                  <a:moveTo>
                    <a:pt x="464344" y="0"/>
                  </a:moveTo>
                  <a:lnTo>
                    <a:pt x="464344" y="0"/>
                  </a:lnTo>
                  <a:lnTo>
                    <a:pt x="454864" y="4740"/>
                  </a:lnTo>
                  <a:lnTo>
                    <a:pt x="452071" y="7129"/>
                  </a:lnTo>
                  <a:lnTo>
                    <a:pt x="442480" y="20991"/>
                  </a:lnTo>
                  <a:lnTo>
                    <a:pt x="434452" y="24212"/>
                  </a:lnTo>
                  <a:lnTo>
                    <a:pt x="429533" y="25071"/>
                  </a:lnTo>
                  <a:lnTo>
                    <a:pt x="425262" y="27628"/>
                  </a:lnTo>
                  <a:lnTo>
                    <a:pt x="381344" y="71403"/>
                  </a:lnTo>
                  <a:lnTo>
                    <a:pt x="359645" y="88078"/>
                  </a:lnTo>
                  <a:lnTo>
                    <a:pt x="326564" y="128095"/>
                  </a:lnTo>
                  <a:lnTo>
                    <a:pt x="303440" y="149179"/>
                  </a:lnTo>
                  <a:lnTo>
                    <a:pt x="261928" y="184916"/>
                  </a:lnTo>
                  <a:lnTo>
                    <a:pt x="220266" y="226240"/>
                  </a:lnTo>
                  <a:lnTo>
                    <a:pt x="178594" y="267892"/>
                  </a:lnTo>
                  <a:lnTo>
                    <a:pt x="136922" y="304822"/>
                  </a:lnTo>
                  <a:lnTo>
                    <a:pt x="96647" y="346632"/>
                  </a:lnTo>
                  <a:lnTo>
                    <a:pt x="65402" y="371801"/>
                  </a:lnTo>
                  <a:lnTo>
                    <a:pt x="20916" y="406795"/>
                  </a:lnTo>
                  <a:lnTo>
                    <a:pt x="14919" y="409001"/>
                  </a:lnTo>
                  <a:lnTo>
                    <a:pt x="12922" y="410581"/>
                  </a:lnTo>
                  <a:lnTo>
                    <a:pt x="9121" y="416554"/>
                  </a:lnTo>
                  <a:lnTo>
                    <a:pt x="0" y="41969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94" name="SMARTInkShape-Group216"/>
          <p:cNvGrpSpPr/>
          <p:nvPr/>
        </p:nvGrpSpPr>
        <p:grpSpPr>
          <a:xfrm>
            <a:off x="7429680" y="2455920"/>
            <a:ext cx="1231560" cy="1463760"/>
            <a:chOff x="7429680" y="2455920"/>
            <a:chExt cx="1231560" cy="1463760"/>
          </a:xfrm>
        </p:grpSpPr>
        <p:sp>
          <p:nvSpPr>
            <p:cNvPr id="295" name="SMARTInkShape-210"/>
            <p:cNvSpPr/>
            <p:nvPr/>
          </p:nvSpPr>
          <p:spPr>
            <a:xfrm>
              <a:off x="8085240" y="3233520"/>
              <a:ext cx="299520" cy="27648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299707" h="276408">
                  <a:moveTo>
                    <a:pt x="58616" y="124602"/>
                  </a:moveTo>
                  <a:lnTo>
                    <a:pt x="58616" y="124602"/>
                  </a:lnTo>
                  <a:lnTo>
                    <a:pt x="58616" y="129343"/>
                  </a:lnTo>
                  <a:lnTo>
                    <a:pt x="63908" y="134316"/>
                  </a:lnTo>
                  <a:lnTo>
                    <a:pt x="78733" y="145593"/>
                  </a:lnTo>
                  <a:lnTo>
                    <a:pt x="96886" y="167410"/>
                  </a:lnTo>
                  <a:lnTo>
                    <a:pt x="137660" y="203725"/>
                  </a:lnTo>
                  <a:lnTo>
                    <a:pt x="179559" y="225435"/>
                  </a:lnTo>
                  <a:lnTo>
                    <a:pt x="222264" y="246620"/>
                  </a:lnTo>
                  <a:lnTo>
                    <a:pt x="265210" y="270453"/>
                  </a:lnTo>
                  <a:lnTo>
                    <a:pt x="274791" y="273761"/>
                  </a:lnTo>
                  <a:lnTo>
                    <a:pt x="299706" y="276407"/>
                  </a:lnTo>
                  <a:lnTo>
                    <a:pt x="290234" y="276407"/>
                  </a:lnTo>
                  <a:lnTo>
                    <a:pt x="282936" y="273761"/>
                  </a:lnTo>
                  <a:lnTo>
                    <a:pt x="241866" y="251499"/>
                  </a:lnTo>
                  <a:lnTo>
                    <a:pt x="200928" y="225269"/>
                  </a:lnTo>
                  <a:lnTo>
                    <a:pt x="156769" y="195969"/>
                  </a:lnTo>
                  <a:lnTo>
                    <a:pt x="113177" y="166265"/>
                  </a:lnTo>
                  <a:lnTo>
                    <a:pt x="86187" y="139814"/>
                  </a:lnTo>
                  <a:lnTo>
                    <a:pt x="67778" y="120180"/>
                  </a:lnTo>
                  <a:lnTo>
                    <a:pt x="38803" y="94255"/>
                  </a:lnTo>
                  <a:lnTo>
                    <a:pt x="9111" y="56474"/>
                  </a:lnTo>
                  <a:lnTo>
                    <a:pt x="6245" y="47310"/>
                  </a:lnTo>
                  <a:lnTo>
                    <a:pt x="5575" y="41303"/>
                  </a:lnTo>
                  <a:lnTo>
                    <a:pt x="4404" y="39303"/>
                  </a:lnTo>
                  <a:lnTo>
                    <a:pt x="2630" y="37971"/>
                  </a:lnTo>
                  <a:lnTo>
                    <a:pt x="457" y="37083"/>
                  </a:lnTo>
                  <a:lnTo>
                    <a:pt x="0" y="35498"/>
                  </a:lnTo>
                  <a:lnTo>
                    <a:pt x="686" y="33450"/>
                  </a:lnTo>
                  <a:lnTo>
                    <a:pt x="3103" y="28527"/>
                  </a:lnTo>
                  <a:lnTo>
                    <a:pt x="4784" y="14361"/>
                  </a:lnTo>
                  <a:lnTo>
                    <a:pt x="5861" y="12413"/>
                  </a:lnTo>
                  <a:lnTo>
                    <a:pt x="7571" y="11114"/>
                  </a:lnTo>
                  <a:lnTo>
                    <a:pt x="12117" y="8679"/>
                  </a:lnTo>
                  <a:lnTo>
                    <a:pt x="20254" y="2722"/>
                  </a:lnTo>
                  <a:lnTo>
                    <a:pt x="28948" y="516"/>
                  </a:lnTo>
                  <a:lnTo>
                    <a:pt x="34848" y="0"/>
                  </a:lnTo>
                  <a:lnTo>
                    <a:pt x="74896" y="12900"/>
                  </a:lnTo>
                  <a:lnTo>
                    <a:pt x="100803" y="26561"/>
                  </a:lnTo>
                  <a:lnTo>
                    <a:pt x="141550" y="56145"/>
                  </a:lnTo>
                  <a:lnTo>
                    <a:pt x="145085" y="64742"/>
                  </a:lnTo>
                  <a:lnTo>
                    <a:pt x="147649" y="74185"/>
                  </a:lnTo>
                  <a:lnTo>
                    <a:pt x="154733" y="88332"/>
                  </a:lnTo>
                  <a:lnTo>
                    <a:pt x="156833" y="122836"/>
                  </a:lnTo>
                  <a:lnTo>
                    <a:pt x="155844" y="123425"/>
                  </a:lnTo>
                  <a:lnTo>
                    <a:pt x="138983" y="1246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6" name="SMARTInkShape-211"/>
            <p:cNvSpPr/>
            <p:nvPr/>
          </p:nvSpPr>
          <p:spPr>
            <a:xfrm>
              <a:off x="7840080" y="3404160"/>
              <a:ext cx="303480" cy="25776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303610" h="257703">
                  <a:moveTo>
                    <a:pt x="0" y="141620"/>
                  </a:moveTo>
                  <a:lnTo>
                    <a:pt x="0" y="141620"/>
                  </a:lnTo>
                  <a:lnTo>
                    <a:pt x="12429" y="161737"/>
                  </a:lnTo>
                  <a:lnTo>
                    <a:pt x="47630" y="202909"/>
                  </a:lnTo>
                  <a:lnTo>
                    <a:pt x="85494" y="244899"/>
                  </a:lnTo>
                  <a:lnTo>
                    <a:pt x="95006" y="253470"/>
                  </a:lnTo>
                  <a:lnTo>
                    <a:pt x="101094" y="255823"/>
                  </a:lnTo>
                  <a:lnTo>
                    <a:pt x="123729" y="257702"/>
                  </a:lnTo>
                  <a:lnTo>
                    <a:pt x="124158" y="256711"/>
                  </a:lnTo>
                  <a:lnTo>
                    <a:pt x="124635" y="252964"/>
                  </a:lnTo>
                  <a:lnTo>
                    <a:pt x="122202" y="247992"/>
                  </a:lnTo>
                  <a:lnTo>
                    <a:pt x="89275" y="205983"/>
                  </a:lnTo>
                  <a:lnTo>
                    <a:pt x="68789" y="179363"/>
                  </a:lnTo>
                  <a:lnTo>
                    <a:pt x="51842" y="165832"/>
                  </a:lnTo>
                  <a:lnTo>
                    <a:pt x="42039" y="151881"/>
                  </a:lnTo>
                  <a:lnTo>
                    <a:pt x="37592" y="139920"/>
                  </a:lnTo>
                  <a:lnTo>
                    <a:pt x="35097" y="126989"/>
                  </a:lnTo>
                  <a:lnTo>
                    <a:pt x="28724" y="114880"/>
                  </a:lnTo>
                  <a:lnTo>
                    <a:pt x="26793" y="97094"/>
                  </a:lnTo>
                  <a:lnTo>
                    <a:pt x="34478" y="89293"/>
                  </a:lnTo>
                  <a:lnTo>
                    <a:pt x="35884" y="89868"/>
                  </a:lnTo>
                  <a:lnTo>
                    <a:pt x="40092" y="93153"/>
                  </a:lnTo>
                  <a:lnTo>
                    <a:pt x="47915" y="95274"/>
                  </a:lnTo>
                  <a:lnTo>
                    <a:pt x="67715" y="97740"/>
                  </a:lnTo>
                  <a:lnTo>
                    <a:pt x="96322" y="112404"/>
                  </a:lnTo>
                  <a:lnTo>
                    <a:pt x="114497" y="119092"/>
                  </a:lnTo>
                  <a:lnTo>
                    <a:pt x="133345" y="130213"/>
                  </a:lnTo>
                  <a:lnTo>
                    <a:pt x="139632" y="132581"/>
                  </a:lnTo>
                  <a:lnTo>
                    <a:pt x="148749" y="138501"/>
                  </a:lnTo>
                  <a:lnTo>
                    <a:pt x="160578" y="141584"/>
                  </a:lnTo>
                  <a:lnTo>
                    <a:pt x="165429" y="136869"/>
                  </a:lnTo>
                  <a:lnTo>
                    <a:pt x="165849" y="134484"/>
                  </a:lnTo>
                  <a:lnTo>
                    <a:pt x="165136" y="131902"/>
                  </a:lnTo>
                  <a:lnTo>
                    <a:pt x="162691" y="126386"/>
                  </a:lnTo>
                  <a:lnTo>
                    <a:pt x="160322" y="117703"/>
                  </a:lnTo>
                  <a:lnTo>
                    <a:pt x="136834" y="75784"/>
                  </a:lnTo>
                  <a:lnTo>
                    <a:pt x="111867" y="31638"/>
                  </a:lnTo>
                  <a:lnTo>
                    <a:pt x="109251" y="25601"/>
                  </a:lnTo>
                  <a:lnTo>
                    <a:pt x="107167" y="7830"/>
                  </a:lnTo>
                  <a:lnTo>
                    <a:pt x="114846" y="0"/>
                  </a:lnTo>
                  <a:lnTo>
                    <a:pt x="116251" y="574"/>
                  </a:lnTo>
                  <a:lnTo>
                    <a:pt x="122971" y="5129"/>
                  </a:lnTo>
                  <a:lnTo>
                    <a:pt x="162845" y="18654"/>
                  </a:lnTo>
                  <a:lnTo>
                    <a:pt x="202530" y="37560"/>
                  </a:lnTo>
                  <a:lnTo>
                    <a:pt x="229543" y="45271"/>
                  </a:lnTo>
                  <a:lnTo>
                    <a:pt x="237948" y="49189"/>
                  </a:lnTo>
                  <a:lnTo>
                    <a:pt x="265283" y="51910"/>
                  </a:lnTo>
                  <a:lnTo>
                    <a:pt x="303609" y="433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7" name="SMARTInkShape-212"/>
            <p:cNvSpPr/>
            <p:nvPr/>
          </p:nvSpPr>
          <p:spPr>
            <a:xfrm>
              <a:off x="7777800" y="3626280"/>
              <a:ext cx="97920" cy="293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98228" h="293439">
                  <a:moveTo>
                    <a:pt x="0" y="285750"/>
                  </a:moveTo>
                  <a:lnTo>
                    <a:pt x="0" y="285750"/>
                  </a:lnTo>
                  <a:lnTo>
                    <a:pt x="0" y="293438"/>
                  </a:lnTo>
                  <a:lnTo>
                    <a:pt x="4741" y="289571"/>
                  </a:lnTo>
                  <a:lnTo>
                    <a:pt x="7069" y="284803"/>
                  </a:lnTo>
                  <a:lnTo>
                    <a:pt x="8562" y="278397"/>
                  </a:lnTo>
                  <a:lnTo>
                    <a:pt x="14994" y="270003"/>
                  </a:lnTo>
                  <a:lnTo>
                    <a:pt x="28834" y="230062"/>
                  </a:lnTo>
                  <a:lnTo>
                    <a:pt x="44828" y="198914"/>
                  </a:lnTo>
                  <a:lnTo>
                    <a:pt x="47745" y="195117"/>
                  </a:lnTo>
                  <a:lnTo>
                    <a:pt x="50986" y="185607"/>
                  </a:lnTo>
                  <a:lnTo>
                    <a:pt x="55456" y="169096"/>
                  </a:lnTo>
                  <a:lnTo>
                    <a:pt x="71602" y="126828"/>
                  </a:lnTo>
                  <a:lnTo>
                    <a:pt x="85350" y="94496"/>
                  </a:lnTo>
                  <a:lnTo>
                    <a:pt x="95087" y="50458"/>
                  </a:lnTo>
                  <a:lnTo>
                    <a:pt x="9822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8" name="SMARTInkShape-213"/>
            <p:cNvSpPr/>
            <p:nvPr/>
          </p:nvSpPr>
          <p:spPr>
            <a:xfrm>
              <a:off x="7581240" y="3546000"/>
              <a:ext cx="142560" cy="249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42876" h="250032">
                  <a:moveTo>
                    <a:pt x="0" y="250031"/>
                  </a:moveTo>
                  <a:lnTo>
                    <a:pt x="0" y="250031"/>
                  </a:lnTo>
                  <a:lnTo>
                    <a:pt x="15835" y="215717"/>
                  </a:lnTo>
                  <a:lnTo>
                    <a:pt x="17952" y="208983"/>
                  </a:lnTo>
                  <a:lnTo>
                    <a:pt x="23730" y="198622"/>
                  </a:lnTo>
                  <a:lnTo>
                    <a:pt x="26875" y="184418"/>
                  </a:lnTo>
                  <a:lnTo>
                    <a:pt x="47745" y="145440"/>
                  </a:lnTo>
                  <a:lnTo>
                    <a:pt x="68468" y="104156"/>
                  </a:lnTo>
                  <a:lnTo>
                    <a:pt x="89297" y="62506"/>
                  </a:lnTo>
                  <a:lnTo>
                    <a:pt x="96242" y="51593"/>
                  </a:lnTo>
                  <a:lnTo>
                    <a:pt x="109325" y="38879"/>
                  </a:lnTo>
                  <a:lnTo>
                    <a:pt x="119937" y="16278"/>
                  </a:lnTo>
                  <a:lnTo>
                    <a:pt x="128252" y="6366"/>
                  </a:lnTo>
                  <a:lnTo>
                    <a:pt x="134061" y="2829"/>
                  </a:lnTo>
                  <a:lnTo>
                    <a:pt x="14287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9" name="SMARTInkShape-214"/>
            <p:cNvSpPr/>
            <p:nvPr/>
          </p:nvSpPr>
          <p:spPr>
            <a:xfrm>
              <a:off x="7429680" y="3295800"/>
              <a:ext cx="178200" cy="26784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78595" h="267892">
                  <a:moveTo>
                    <a:pt x="0" y="267891"/>
                  </a:moveTo>
                  <a:lnTo>
                    <a:pt x="0" y="267891"/>
                  </a:lnTo>
                  <a:lnTo>
                    <a:pt x="0" y="263151"/>
                  </a:lnTo>
                  <a:lnTo>
                    <a:pt x="992" y="261754"/>
                  </a:lnTo>
                  <a:lnTo>
                    <a:pt x="2647" y="260823"/>
                  </a:lnTo>
                  <a:lnTo>
                    <a:pt x="4741" y="260203"/>
                  </a:lnTo>
                  <a:lnTo>
                    <a:pt x="12429" y="254589"/>
                  </a:lnTo>
                  <a:lnTo>
                    <a:pt x="15447" y="249411"/>
                  </a:lnTo>
                  <a:lnTo>
                    <a:pt x="17779" y="243803"/>
                  </a:lnTo>
                  <a:lnTo>
                    <a:pt x="40756" y="208188"/>
                  </a:lnTo>
                  <a:lnTo>
                    <a:pt x="46526" y="189548"/>
                  </a:lnTo>
                  <a:lnTo>
                    <a:pt x="76637" y="148559"/>
                  </a:lnTo>
                  <a:lnTo>
                    <a:pt x="98182" y="107141"/>
                  </a:lnTo>
                  <a:lnTo>
                    <a:pt x="125015" y="64602"/>
                  </a:lnTo>
                  <a:lnTo>
                    <a:pt x="145522" y="37765"/>
                  </a:lnTo>
                  <a:lnTo>
                    <a:pt x="162471" y="24217"/>
                  </a:lnTo>
                  <a:lnTo>
                    <a:pt x="166467" y="18040"/>
                  </a:lnTo>
                  <a:lnTo>
                    <a:pt x="169236" y="11986"/>
                  </a:lnTo>
                  <a:lnTo>
                    <a:pt x="17859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0" name="SMARTInkShape-215"/>
            <p:cNvSpPr/>
            <p:nvPr/>
          </p:nvSpPr>
          <p:spPr>
            <a:xfrm>
              <a:off x="7465320" y="3483360"/>
              <a:ext cx="187200" cy="3304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87489" h="330362">
                  <a:moveTo>
                    <a:pt x="0" y="0"/>
                  </a:moveTo>
                  <a:lnTo>
                    <a:pt x="0" y="0"/>
                  </a:lnTo>
                  <a:lnTo>
                    <a:pt x="0" y="12429"/>
                  </a:lnTo>
                  <a:lnTo>
                    <a:pt x="2646" y="18092"/>
                  </a:lnTo>
                  <a:lnTo>
                    <a:pt x="6138" y="23916"/>
                  </a:lnTo>
                  <a:lnTo>
                    <a:pt x="9095" y="32773"/>
                  </a:lnTo>
                  <a:lnTo>
                    <a:pt x="14822" y="41681"/>
                  </a:lnTo>
                  <a:lnTo>
                    <a:pt x="17952" y="50604"/>
                  </a:lnTo>
                  <a:lnTo>
                    <a:pt x="44702" y="91391"/>
                  </a:lnTo>
                  <a:lnTo>
                    <a:pt x="70228" y="131092"/>
                  </a:lnTo>
                  <a:lnTo>
                    <a:pt x="95006" y="172647"/>
                  </a:lnTo>
                  <a:lnTo>
                    <a:pt x="116072" y="214313"/>
                  </a:lnTo>
                  <a:lnTo>
                    <a:pt x="136922" y="255984"/>
                  </a:lnTo>
                  <a:lnTo>
                    <a:pt x="160734" y="296541"/>
                  </a:lnTo>
                  <a:lnTo>
                    <a:pt x="176830" y="319291"/>
                  </a:lnTo>
                  <a:lnTo>
                    <a:pt x="187488" y="330361"/>
                  </a:lnTo>
                  <a:lnTo>
                    <a:pt x="178594" y="32146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SMARTInkShape-216"/>
            <p:cNvSpPr/>
            <p:nvPr/>
          </p:nvSpPr>
          <p:spPr>
            <a:xfrm>
              <a:off x="8174520" y="3027600"/>
              <a:ext cx="209880" cy="26784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10253" h="267723">
                  <a:moveTo>
                    <a:pt x="13799" y="267722"/>
                  </a:moveTo>
                  <a:lnTo>
                    <a:pt x="13799" y="267722"/>
                  </a:lnTo>
                  <a:lnTo>
                    <a:pt x="18539" y="262982"/>
                  </a:lnTo>
                  <a:lnTo>
                    <a:pt x="23512" y="260655"/>
                  </a:lnTo>
                  <a:lnTo>
                    <a:pt x="26227" y="260034"/>
                  </a:lnTo>
                  <a:lnTo>
                    <a:pt x="40657" y="251888"/>
                  </a:lnTo>
                  <a:lnTo>
                    <a:pt x="55480" y="249137"/>
                  </a:lnTo>
                  <a:lnTo>
                    <a:pt x="70355" y="237469"/>
                  </a:lnTo>
                  <a:lnTo>
                    <a:pt x="97143" y="211155"/>
                  </a:lnTo>
                  <a:lnTo>
                    <a:pt x="100449" y="202563"/>
                  </a:lnTo>
                  <a:lnTo>
                    <a:pt x="103027" y="159946"/>
                  </a:lnTo>
                  <a:lnTo>
                    <a:pt x="103092" y="118858"/>
                  </a:lnTo>
                  <a:lnTo>
                    <a:pt x="95966" y="95075"/>
                  </a:lnTo>
                  <a:lnTo>
                    <a:pt x="76238" y="53410"/>
                  </a:lnTo>
                  <a:lnTo>
                    <a:pt x="55467" y="16479"/>
                  </a:lnTo>
                  <a:lnTo>
                    <a:pt x="46540" y="6308"/>
                  </a:lnTo>
                  <a:lnTo>
                    <a:pt x="40587" y="2710"/>
                  </a:lnTo>
                  <a:lnTo>
                    <a:pt x="28681" y="400"/>
                  </a:lnTo>
                  <a:lnTo>
                    <a:pt x="19752" y="0"/>
                  </a:lnTo>
                  <a:lnTo>
                    <a:pt x="17767" y="936"/>
                  </a:lnTo>
                  <a:lnTo>
                    <a:pt x="16446" y="2553"/>
                  </a:lnTo>
                  <a:lnTo>
                    <a:pt x="15563" y="4622"/>
                  </a:lnTo>
                  <a:lnTo>
                    <a:pt x="13983" y="6002"/>
                  </a:lnTo>
                  <a:lnTo>
                    <a:pt x="9582" y="7535"/>
                  </a:lnTo>
                  <a:lnTo>
                    <a:pt x="8011" y="8936"/>
                  </a:lnTo>
                  <a:lnTo>
                    <a:pt x="543" y="21083"/>
                  </a:lnTo>
                  <a:lnTo>
                    <a:pt x="0" y="23921"/>
                  </a:lnTo>
                  <a:lnTo>
                    <a:pt x="631" y="26805"/>
                  </a:lnTo>
                  <a:lnTo>
                    <a:pt x="2985" y="32656"/>
                  </a:lnTo>
                  <a:lnTo>
                    <a:pt x="5697" y="50441"/>
                  </a:lnTo>
                  <a:lnTo>
                    <a:pt x="34918" y="91462"/>
                  </a:lnTo>
                  <a:lnTo>
                    <a:pt x="73748" y="131182"/>
                  </a:lnTo>
                  <a:lnTo>
                    <a:pt x="85422" y="137585"/>
                  </a:lnTo>
                  <a:lnTo>
                    <a:pt x="126919" y="150095"/>
                  </a:lnTo>
                  <a:lnTo>
                    <a:pt x="140030" y="151180"/>
                  </a:lnTo>
                  <a:lnTo>
                    <a:pt x="154940" y="146761"/>
                  </a:lnTo>
                  <a:lnTo>
                    <a:pt x="181836" y="130634"/>
                  </a:lnTo>
                  <a:lnTo>
                    <a:pt x="190348" y="122128"/>
                  </a:lnTo>
                  <a:lnTo>
                    <a:pt x="203895" y="100498"/>
                  </a:lnTo>
                  <a:lnTo>
                    <a:pt x="208368" y="83016"/>
                  </a:lnTo>
                  <a:lnTo>
                    <a:pt x="210252" y="534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2" name="SMARTInkShape-217"/>
            <p:cNvSpPr/>
            <p:nvPr/>
          </p:nvSpPr>
          <p:spPr>
            <a:xfrm>
              <a:off x="8268840" y="2786400"/>
              <a:ext cx="142560" cy="223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42836" h="223242">
                  <a:moveTo>
                    <a:pt x="98189" y="187523"/>
                  </a:moveTo>
                  <a:lnTo>
                    <a:pt x="98189" y="187523"/>
                  </a:lnTo>
                  <a:lnTo>
                    <a:pt x="105258" y="204304"/>
                  </a:lnTo>
                  <a:lnTo>
                    <a:pt x="105879" y="207640"/>
                  </a:lnTo>
                  <a:lnTo>
                    <a:pt x="107285" y="209864"/>
                  </a:lnTo>
                  <a:lnTo>
                    <a:pt x="109214" y="211347"/>
                  </a:lnTo>
                  <a:lnTo>
                    <a:pt x="115649" y="214138"/>
                  </a:lnTo>
                  <a:lnTo>
                    <a:pt x="123703" y="221985"/>
                  </a:lnTo>
                  <a:lnTo>
                    <a:pt x="132556" y="223131"/>
                  </a:lnTo>
                  <a:lnTo>
                    <a:pt x="142835" y="223241"/>
                  </a:lnTo>
                  <a:lnTo>
                    <a:pt x="130409" y="223241"/>
                  </a:lnTo>
                  <a:lnTo>
                    <a:pt x="124747" y="220596"/>
                  </a:lnTo>
                  <a:lnTo>
                    <a:pt x="83139" y="190469"/>
                  </a:lnTo>
                  <a:lnTo>
                    <a:pt x="51281" y="171645"/>
                  </a:lnTo>
                  <a:lnTo>
                    <a:pt x="33765" y="153666"/>
                  </a:lnTo>
                  <a:lnTo>
                    <a:pt x="23916" y="145686"/>
                  </a:lnTo>
                  <a:lnTo>
                    <a:pt x="13785" y="131029"/>
                  </a:lnTo>
                  <a:lnTo>
                    <a:pt x="7214" y="116685"/>
                  </a:lnTo>
                  <a:lnTo>
                    <a:pt x="3187" y="110399"/>
                  </a:lnTo>
                  <a:lnTo>
                    <a:pt x="917" y="101282"/>
                  </a:lnTo>
                  <a:lnTo>
                    <a:pt x="0" y="77393"/>
                  </a:lnTo>
                  <a:lnTo>
                    <a:pt x="2625" y="71438"/>
                  </a:lnTo>
                  <a:lnTo>
                    <a:pt x="35703" y="28650"/>
                  </a:lnTo>
                  <a:lnTo>
                    <a:pt x="53541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3" name="SMARTInkShape-218"/>
            <p:cNvSpPr/>
            <p:nvPr/>
          </p:nvSpPr>
          <p:spPr>
            <a:xfrm>
              <a:off x="8384760" y="2723760"/>
              <a:ext cx="168120" cy="169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68379" h="169377">
                  <a:moveTo>
                    <a:pt x="8929" y="17737"/>
                  </a:moveTo>
                  <a:lnTo>
                    <a:pt x="8929" y="17737"/>
                  </a:lnTo>
                  <a:lnTo>
                    <a:pt x="8929" y="47548"/>
                  </a:lnTo>
                  <a:lnTo>
                    <a:pt x="19954" y="89409"/>
                  </a:lnTo>
                  <a:lnTo>
                    <a:pt x="24763" y="107104"/>
                  </a:lnTo>
                  <a:lnTo>
                    <a:pt x="26882" y="117979"/>
                  </a:lnTo>
                  <a:lnTo>
                    <a:pt x="31130" y="126120"/>
                  </a:lnTo>
                  <a:lnTo>
                    <a:pt x="65152" y="163175"/>
                  </a:lnTo>
                  <a:lnTo>
                    <a:pt x="71290" y="166712"/>
                  </a:lnTo>
                  <a:lnTo>
                    <a:pt x="82971" y="168704"/>
                  </a:lnTo>
                  <a:lnTo>
                    <a:pt x="99953" y="169376"/>
                  </a:lnTo>
                  <a:lnTo>
                    <a:pt x="106600" y="166822"/>
                  </a:lnTo>
                  <a:lnTo>
                    <a:pt x="112863" y="163372"/>
                  </a:lnTo>
                  <a:lnTo>
                    <a:pt x="121964" y="160437"/>
                  </a:lnTo>
                  <a:lnTo>
                    <a:pt x="154781" y="130810"/>
                  </a:lnTo>
                  <a:lnTo>
                    <a:pt x="158088" y="124877"/>
                  </a:lnTo>
                  <a:lnTo>
                    <a:pt x="159950" y="113313"/>
                  </a:lnTo>
                  <a:lnTo>
                    <a:pt x="161378" y="103871"/>
                  </a:lnTo>
                  <a:lnTo>
                    <a:pt x="166769" y="91986"/>
                  </a:lnTo>
                  <a:lnTo>
                    <a:pt x="168378" y="81825"/>
                  </a:lnTo>
                  <a:lnTo>
                    <a:pt x="166446" y="73340"/>
                  </a:lnTo>
                  <a:lnTo>
                    <a:pt x="163274" y="65270"/>
                  </a:lnTo>
                  <a:lnTo>
                    <a:pt x="159964" y="39479"/>
                  </a:lnTo>
                  <a:lnTo>
                    <a:pt x="151066" y="26846"/>
                  </a:lnTo>
                  <a:lnTo>
                    <a:pt x="144531" y="20793"/>
                  </a:lnTo>
                  <a:lnTo>
                    <a:pt x="130689" y="12800"/>
                  </a:lnTo>
                  <a:lnTo>
                    <a:pt x="91856" y="1275"/>
                  </a:lnTo>
                  <a:lnTo>
                    <a:pt x="64207" y="0"/>
                  </a:lnTo>
                  <a:lnTo>
                    <a:pt x="21161" y="9556"/>
                  </a:lnTo>
                  <a:lnTo>
                    <a:pt x="8995" y="15827"/>
                  </a:lnTo>
                  <a:lnTo>
                    <a:pt x="0" y="177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4" name="SMARTInkShape-219"/>
            <p:cNvSpPr/>
            <p:nvPr/>
          </p:nvSpPr>
          <p:spPr>
            <a:xfrm>
              <a:off x="8509680" y="2455920"/>
              <a:ext cx="151560" cy="25884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51741" h="258962">
                  <a:moveTo>
                    <a:pt x="44593" y="187524"/>
                  </a:moveTo>
                  <a:lnTo>
                    <a:pt x="44593" y="187524"/>
                  </a:lnTo>
                  <a:lnTo>
                    <a:pt x="61375" y="194591"/>
                  </a:lnTo>
                  <a:lnTo>
                    <a:pt x="69406" y="196085"/>
                  </a:lnTo>
                  <a:lnTo>
                    <a:pt x="92321" y="217434"/>
                  </a:lnTo>
                  <a:lnTo>
                    <a:pt x="95571" y="223307"/>
                  </a:lnTo>
                  <a:lnTo>
                    <a:pt x="96438" y="226262"/>
                  </a:lnTo>
                  <a:lnTo>
                    <a:pt x="98008" y="228232"/>
                  </a:lnTo>
                  <a:lnTo>
                    <a:pt x="125010" y="247549"/>
                  </a:lnTo>
                  <a:lnTo>
                    <a:pt x="132136" y="249541"/>
                  </a:lnTo>
                  <a:lnTo>
                    <a:pt x="142407" y="258580"/>
                  </a:lnTo>
                  <a:lnTo>
                    <a:pt x="151740" y="258961"/>
                  </a:lnTo>
                  <a:lnTo>
                    <a:pt x="138447" y="258961"/>
                  </a:lnTo>
                  <a:lnTo>
                    <a:pt x="133270" y="256315"/>
                  </a:lnTo>
                  <a:lnTo>
                    <a:pt x="118926" y="244722"/>
                  </a:lnTo>
                  <a:lnTo>
                    <a:pt x="107084" y="239171"/>
                  </a:lnTo>
                  <a:lnTo>
                    <a:pt x="101141" y="233298"/>
                  </a:lnTo>
                  <a:lnTo>
                    <a:pt x="77335" y="202741"/>
                  </a:lnTo>
                  <a:lnTo>
                    <a:pt x="41984" y="175626"/>
                  </a:lnTo>
                  <a:lnTo>
                    <a:pt x="38472" y="169668"/>
                  </a:lnTo>
                  <a:lnTo>
                    <a:pt x="35920" y="163713"/>
                  </a:lnTo>
                  <a:lnTo>
                    <a:pt x="11473" y="133945"/>
                  </a:lnTo>
                  <a:lnTo>
                    <a:pt x="9037" y="127992"/>
                  </a:lnTo>
                  <a:lnTo>
                    <a:pt x="4646" y="122039"/>
                  </a:lnTo>
                  <a:lnTo>
                    <a:pt x="2034" y="113440"/>
                  </a:lnTo>
                  <a:lnTo>
                    <a:pt x="0" y="70817"/>
                  </a:lnTo>
                  <a:lnTo>
                    <a:pt x="961" y="59255"/>
                  </a:lnTo>
                  <a:lnTo>
                    <a:pt x="7081" y="42582"/>
                  </a:lnTo>
                  <a:lnTo>
                    <a:pt x="24157" y="18087"/>
                  </a:lnTo>
                  <a:lnTo>
                    <a:pt x="26580" y="12008"/>
                  </a:lnTo>
                  <a:lnTo>
                    <a:pt x="3566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5" name="SMARTInkShape-220"/>
            <p:cNvSpPr/>
            <p:nvPr/>
          </p:nvSpPr>
          <p:spPr>
            <a:xfrm>
              <a:off x="7920360" y="2947320"/>
              <a:ext cx="169560" cy="169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69665" h="169665">
                  <a:moveTo>
                    <a:pt x="169664" y="169664"/>
                  </a:moveTo>
                  <a:lnTo>
                    <a:pt x="169664" y="169664"/>
                  </a:lnTo>
                  <a:lnTo>
                    <a:pt x="164924" y="169664"/>
                  </a:lnTo>
                  <a:lnTo>
                    <a:pt x="159951" y="167018"/>
                  </a:lnTo>
                  <a:lnTo>
                    <a:pt x="135739" y="148926"/>
                  </a:lnTo>
                  <a:lnTo>
                    <a:pt x="127798" y="139612"/>
                  </a:lnTo>
                  <a:lnTo>
                    <a:pt x="90909" y="108474"/>
                  </a:lnTo>
                  <a:lnTo>
                    <a:pt x="85054" y="100135"/>
                  </a:lnTo>
                  <a:lnTo>
                    <a:pt x="83492" y="96522"/>
                  </a:lnTo>
                  <a:lnTo>
                    <a:pt x="76465" y="89862"/>
                  </a:lnTo>
                  <a:lnTo>
                    <a:pt x="67718" y="82603"/>
                  </a:lnTo>
                  <a:lnTo>
                    <a:pt x="38754" y="39774"/>
                  </a:lnTo>
                  <a:lnTo>
                    <a:pt x="21834" y="20930"/>
                  </a:lnTo>
                  <a:lnTo>
                    <a:pt x="15999" y="8948"/>
                  </a:lnTo>
                  <a:lnTo>
                    <a:pt x="13643" y="5965"/>
                  </a:lnTo>
                  <a:lnTo>
                    <a:pt x="8379" y="265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6" name="SMARTInkShape-221"/>
            <p:cNvSpPr/>
            <p:nvPr/>
          </p:nvSpPr>
          <p:spPr>
            <a:xfrm>
              <a:off x="7795440" y="2813040"/>
              <a:ext cx="294480" cy="241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94681" h="241092">
                  <a:moveTo>
                    <a:pt x="0" y="241091"/>
                  </a:moveTo>
                  <a:lnTo>
                    <a:pt x="0" y="241091"/>
                  </a:lnTo>
                  <a:lnTo>
                    <a:pt x="0" y="220974"/>
                  </a:lnTo>
                  <a:lnTo>
                    <a:pt x="2647" y="214621"/>
                  </a:lnTo>
                  <a:lnTo>
                    <a:pt x="7690" y="207199"/>
                  </a:lnTo>
                  <a:lnTo>
                    <a:pt x="18601" y="165890"/>
                  </a:lnTo>
                  <a:lnTo>
                    <a:pt x="23922" y="154427"/>
                  </a:lnTo>
                  <a:lnTo>
                    <a:pt x="26933" y="139896"/>
                  </a:lnTo>
                  <a:lnTo>
                    <a:pt x="32674" y="127874"/>
                  </a:lnTo>
                  <a:lnTo>
                    <a:pt x="42609" y="89106"/>
                  </a:lnTo>
                  <a:lnTo>
                    <a:pt x="45372" y="60489"/>
                  </a:lnTo>
                  <a:lnTo>
                    <a:pt x="51664" y="42771"/>
                  </a:lnTo>
                  <a:lnTo>
                    <a:pt x="53720" y="32894"/>
                  </a:lnTo>
                  <a:lnTo>
                    <a:pt x="60479" y="18469"/>
                  </a:lnTo>
                  <a:lnTo>
                    <a:pt x="62107" y="10805"/>
                  </a:lnTo>
                  <a:lnTo>
                    <a:pt x="71405" y="26"/>
                  </a:lnTo>
                  <a:lnTo>
                    <a:pt x="76169" y="0"/>
                  </a:lnTo>
                  <a:lnTo>
                    <a:pt x="77569" y="989"/>
                  </a:lnTo>
                  <a:lnTo>
                    <a:pt x="78502" y="2640"/>
                  </a:lnTo>
                  <a:lnTo>
                    <a:pt x="79123" y="4733"/>
                  </a:lnTo>
                  <a:lnTo>
                    <a:pt x="80531" y="6129"/>
                  </a:lnTo>
                  <a:lnTo>
                    <a:pt x="89917" y="11014"/>
                  </a:lnTo>
                  <a:lnTo>
                    <a:pt x="114279" y="29608"/>
                  </a:lnTo>
                  <a:lnTo>
                    <a:pt x="127636" y="46409"/>
                  </a:lnTo>
                  <a:lnTo>
                    <a:pt x="171023" y="82061"/>
                  </a:lnTo>
                  <a:lnTo>
                    <a:pt x="185832" y="91886"/>
                  </a:lnTo>
                  <a:lnTo>
                    <a:pt x="225155" y="105037"/>
                  </a:lnTo>
                  <a:lnTo>
                    <a:pt x="257338" y="107022"/>
                  </a:lnTo>
                  <a:lnTo>
                    <a:pt x="294680" y="982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7" name="SMARTInkShape-222"/>
            <p:cNvSpPr/>
            <p:nvPr/>
          </p:nvSpPr>
          <p:spPr>
            <a:xfrm>
              <a:off x="7902720" y="2973960"/>
              <a:ext cx="169560" cy="178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69655" h="178594">
                  <a:moveTo>
                    <a:pt x="0" y="133945"/>
                  </a:moveTo>
                  <a:lnTo>
                    <a:pt x="0" y="133945"/>
                  </a:lnTo>
                  <a:lnTo>
                    <a:pt x="32996" y="165949"/>
                  </a:lnTo>
                  <a:lnTo>
                    <a:pt x="44699" y="171576"/>
                  </a:lnTo>
                  <a:lnTo>
                    <a:pt x="50624" y="175474"/>
                  </a:lnTo>
                  <a:lnTo>
                    <a:pt x="62354" y="178557"/>
                  </a:lnTo>
                  <a:lnTo>
                    <a:pt x="71065" y="178593"/>
                  </a:lnTo>
                  <a:lnTo>
                    <a:pt x="71327" y="173853"/>
                  </a:lnTo>
                  <a:lnTo>
                    <a:pt x="68741" y="168880"/>
                  </a:lnTo>
                  <a:lnTo>
                    <a:pt x="26783" y="125014"/>
                  </a:lnTo>
                  <a:lnTo>
                    <a:pt x="21825" y="119062"/>
                  </a:lnTo>
                  <a:lnTo>
                    <a:pt x="17862" y="107165"/>
                  </a:lnTo>
                  <a:lnTo>
                    <a:pt x="17861" y="107162"/>
                  </a:lnTo>
                  <a:lnTo>
                    <a:pt x="17861" y="107160"/>
                  </a:lnTo>
                  <a:lnTo>
                    <a:pt x="17860" y="107157"/>
                  </a:lnTo>
                  <a:lnTo>
                    <a:pt x="31162" y="107156"/>
                  </a:lnTo>
                  <a:lnTo>
                    <a:pt x="36340" y="109802"/>
                  </a:lnTo>
                  <a:lnTo>
                    <a:pt x="39109" y="111896"/>
                  </a:lnTo>
                  <a:lnTo>
                    <a:pt x="47477" y="114224"/>
                  </a:lnTo>
                  <a:lnTo>
                    <a:pt x="89331" y="116081"/>
                  </a:lnTo>
                  <a:lnTo>
                    <a:pt x="102446" y="116086"/>
                  </a:lnTo>
                  <a:lnTo>
                    <a:pt x="104016" y="115093"/>
                  </a:lnTo>
                  <a:lnTo>
                    <a:pt x="105062" y="113440"/>
                  </a:lnTo>
                  <a:lnTo>
                    <a:pt x="107033" y="107524"/>
                  </a:lnTo>
                  <a:lnTo>
                    <a:pt x="107155" y="90650"/>
                  </a:lnTo>
                  <a:lnTo>
                    <a:pt x="64268" y="46409"/>
                  </a:lnTo>
                  <a:lnTo>
                    <a:pt x="58288" y="40429"/>
                  </a:lnTo>
                  <a:lnTo>
                    <a:pt x="55672" y="35166"/>
                  </a:lnTo>
                  <a:lnTo>
                    <a:pt x="53700" y="27279"/>
                  </a:lnTo>
                  <a:lnTo>
                    <a:pt x="44758" y="26793"/>
                  </a:lnTo>
                  <a:lnTo>
                    <a:pt x="52347" y="26789"/>
                  </a:lnTo>
                  <a:lnTo>
                    <a:pt x="52756" y="25797"/>
                  </a:lnTo>
                  <a:lnTo>
                    <a:pt x="53471" y="19101"/>
                  </a:lnTo>
                  <a:lnTo>
                    <a:pt x="56175" y="18411"/>
                  </a:lnTo>
                  <a:lnTo>
                    <a:pt x="58286" y="18227"/>
                  </a:lnTo>
                  <a:lnTo>
                    <a:pt x="59694" y="17112"/>
                  </a:lnTo>
                  <a:lnTo>
                    <a:pt x="62137" y="10203"/>
                  </a:lnTo>
                  <a:lnTo>
                    <a:pt x="64989" y="9495"/>
                  </a:lnTo>
                  <a:lnTo>
                    <a:pt x="84730" y="8930"/>
                  </a:lnTo>
                  <a:lnTo>
                    <a:pt x="86252" y="9922"/>
                  </a:lnTo>
                  <a:lnTo>
                    <a:pt x="87267" y="11576"/>
                  </a:lnTo>
                  <a:lnTo>
                    <a:pt x="87943" y="13670"/>
                  </a:lnTo>
                  <a:lnTo>
                    <a:pt x="89386" y="15066"/>
                  </a:lnTo>
                  <a:lnTo>
                    <a:pt x="93637" y="16618"/>
                  </a:lnTo>
                  <a:lnTo>
                    <a:pt x="95166" y="18024"/>
                  </a:lnTo>
                  <a:lnTo>
                    <a:pt x="102564" y="30179"/>
                  </a:lnTo>
                  <a:lnTo>
                    <a:pt x="112387" y="41753"/>
                  </a:lnTo>
                  <a:lnTo>
                    <a:pt x="118000" y="53594"/>
                  </a:lnTo>
                  <a:lnTo>
                    <a:pt x="132293" y="69675"/>
                  </a:lnTo>
                  <a:lnTo>
                    <a:pt x="135857" y="70654"/>
                  </a:lnTo>
                  <a:lnTo>
                    <a:pt x="159373" y="71436"/>
                  </a:lnTo>
                  <a:lnTo>
                    <a:pt x="168303" y="63749"/>
                  </a:lnTo>
                  <a:lnTo>
                    <a:pt x="169485" y="55603"/>
                  </a:lnTo>
                  <a:lnTo>
                    <a:pt x="169654" y="41267"/>
                  </a:lnTo>
                  <a:lnTo>
                    <a:pt x="168665" y="39418"/>
                  </a:lnTo>
                  <a:lnTo>
                    <a:pt x="167014" y="38185"/>
                  </a:lnTo>
                  <a:lnTo>
                    <a:pt x="164921" y="37363"/>
                  </a:lnTo>
                  <a:lnTo>
                    <a:pt x="163525" y="35823"/>
                  </a:lnTo>
                  <a:lnTo>
                    <a:pt x="161975" y="31465"/>
                  </a:lnTo>
                  <a:lnTo>
                    <a:pt x="160568" y="29906"/>
                  </a:lnTo>
                  <a:lnTo>
                    <a:pt x="156361" y="28174"/>
                  </a:lnTo>
                  <a:lnTo>
                    <a:pt x="154843" y="26720"/>
                  </a:lnTo>
                  <a:lnTo>
                    <a:pt x="144234" y="10574"/>
                  </a:lnTo>
                  <a:lnTo>
                    <a:pt x="140833" y="9661"/>
                  </a:lnTo>
                  <a:lnTo>
                    <a:pt x="126376" y="8942"/>
                  </a:lnTo>
                  <a:lnTo>
                    <a:pt x="117446" y="1242"/>
                  </a:lnTo>
                  <a:lnTo>
                    <a:pt x="10715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8" name="SMARTInkShape-223"/>
            <p:cNvSpPr/>
            <p:nvPr/>
          </p:nvSpPr>
          <p:spPr>
            <a:xfrm>
              <a:off x="8009640" y="2902320"/>
              <a:ext cx="87840" cy="62280"/>
            </a:xfrm>
            <a:custGeom>
              <a:avLst/>
              <a:gdLst>
                <a:gd name="textAreaLeft" fmla="*/ 0 w 87840"/>
                <a:gd name="textAreaRight" fmla="*/ 87840 w 878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88020" h="62476">
                  <a:moveTo>
                    <a:pt x="0" y="0"/>
                  </a:moveTo>
                  <a:lnTo>
                    <a:pt x="0" y="0"/>
                  </a:lnTo>
                  <a:lnTo>
                    <a:pt x="9480" y="4741"/>
                  </a:lnTo>
                  <a:lnTo>
                    <a:pt x="12274" y="7129"/>
                  </a:lnTo>
                  <a:lnTo>
                    <a:pt x="17124" y="16251"/>
                  </a:lnTo>
                  <a:lnTo>
                    <a:pt x="20178" y="17144"/>
                  </a:lnTo>
                  <a:lnTo>
                    <a:pt x="22382" y="17383"/>
                  </a:lnTo>
                  <a:lnTo>
                    <a:pt x="27477" y="20294"/>
                  </a:lnTo>
                  <a:lnTo>
                    <a:pt x="30224" y="22459"/>
                  </a:lnTo>
                  <a:lnTo>
                    <a:pt x="33276" y="27510"/>
                  </a:lnTo>
                  <a:lnTo>
                    <a:pt x="34091" y="30247"/>
                  </a:lnTo>
                  <a:lnTo>
                    <a:pt x="35626" y="32071"/>
                  </a:lnTo>
                  <a:lnTo>
                    <a:pt x="39977" y="34098"/>
                  </a:lnTo>
                  <a:lnTo>
                    <a:pt x="41534" y="35630"/>
                  </a:lnTo>
                  <a:lnTo>
                    <a:pt x="43264" y="39979"/>
                  </a:lnTo>
                  <a:lnTo>
                    <a:pt x="44717" y="41535"/>
                  </a:lnTo>
                  <a:lnTo>
                    <a:pt x="62687" y="51534"/>
                  </a:lnTo>
                  <a:lnTo>
                    <a:pt x="69709" y="53175"/>
                  </a:lnTo>
                  <a:lnTo>
                    <a:pt x="79955" y="62130"/>
                  </a:lnTo>
                  <a:lnTo>
                    <a:pt x="88019" y="62475"/>
                  </a:lnTo>
                  <a:lnTo>
                    <a:pt x="80367" y="5357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9" name="SMARTInkShape-224"/>
            <p:cNvSpPr/>
            <p:nvPr/>
          </p:nvSpPr>
          <p:spPr>
            <a:xfrm>
              <a:off x="7965000" y="2759400"/>
              <a:ext cx="97920" cy="1785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98228" h="178595">
                  <a:moveTo>
                    <a:pt x="0" y="178594"/>
                  </a:moveTo>
                  <a:lnTo>
                    <a:pt x="0" y="178594"/>
                  </a:lnTo>
                  <a:lnTo>
                    <a:pt x="0" y="166165"/>
                  </a:lnTo>
                  <a:lnTo>
                    <a:pt x="18092" y="124763"/>
                  </a:lnTo>
                  <a:lnTo>
                    <a:pt x="39903" y="88088"/>
                  </a:lnTo>
                  <a:lnTo>
                    <a:pt x="68620" y="44490"/>
                  </a:lnTo>
                  <a:lnTo>
                    <a:pt x="9822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10" name="SMARTInkShape-225"/>
          <p:cNvSpPr/>
          <p:nvPr/>
        </p:nvSpPr>
        <p:spPr>
          <a:xfrm>
            <a:off x="2830680" y="2921040"/>
            <a:ext cx="1089000" cy="48096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089228" h="481404">
                <a:moveTo>
                  <a:pt x="785776" y="124215"/>
                </a:moveTo>
                <a:lnTo>
                  <a:pt x="785776" y="124215"/>
                </a:lnTo>
                <a:lnTo>
                  <a:pt x="781036" y="124215"/>
                </a:lnTo>
                <a:lnTo>
                  <a:pt x="776063" y="121569"/>
                </a:lnTo>
                <a:lnTo>
                  <a:pt x="761860" y="109976"/>
                </a:lnTo>
                <a:lnTo>
                  <a:pt x="721173" y="95395"/>
                </a:lnTo>
                <a:lnTo>
                  <a:pt x="707434" y="90541"/>
                </a:lnTo>
                <a:lnTo>
                  <a:pt x="667649" y="85904"/>
                </a:lnTo>
                <a:lnTo>
                  <a:pt x="651226" y="81444"/>
                </a:lnTo>
                <a:lnTo>
                  <a:pt x="606615" y="79616"/>
                </a:lnTo>
                <a:lnTo>
                  <a:pt x="595024" y="78596"/>
                </a:lnTo>
                <a:lnTo>
                  <a:pt x="556235" y="71190"/>
                </a:lnTo>
                <a:lnTo>
                  <a:pt x="531939" y="69717"/>
                </a:lnTo>
                <a:lnTo>
                  <a:pt x="496977" y="62541"/>
                </a:lnTo>
                <a:lnTo>
                  <a:pt x="479169" y="62947"/>
                </a:lnTo>
                <a:lnTo>
                  <a:pt x="437333" y="69831"/>
                </a:lnTo>
                <a:lnTo>
                  <a:pt x="417509" y="71391"/>
                </a:lnTo>
                <a:lnTo>
                  <a:pt x="373907" y="79711"/>
                </a:lnTo>
                <a:lnTo>
                  <a:pt x="334957" y="91884"/>
                </a:lnTo>
                <a:lnTo>
                  <a:pt x="296718" y="106410"/>
                </a:lnTo>
                <a:lnTo>
                  <a:pt x="259014" y="121246"/>
                </a:lnTo>
                <a:lnTo>
                  <a:pt x="219506" y="139099"/>
                </a:lnTo>
                <a:lnTo>
                  <a:pt x="177424" y="156957"/>
                </a:lnTo>
                <a:lnTo>
                  <a:pt x="136551" y="180770"/>
                </a:lnTo>
                <a:lnTo>
                  <a:pt x="107076" y="198299"/>
                </a:lnTo>
                <a:lnTo>
                  <a:pt x="68588" y="235279"/>
                </a:lnTo>
                <a:lnTo>
                  <a:pt x="56456" y="251491"/>
                </a:lnTo>
                <a:lnTo>
                  <a:pt x="37728" y="269007"/>
                </a:lnTo>
                <a:lnTo>
                  <a:pt x="11593" y="311005"/>
                </a:lnTo>
                <a:lnTo>
                  <a:pt x="378" y="350054"/>
                </a:lnTo>
                <a:lnTo>
                  <a:pt x="0" y="368260"/>
                </a:lnTo>
                <a:lnTo>
                  <a:pt x="9060" y="397229"/>
                </a:lnTo>
                <a:lnTo>
                  <a:pt x="24052" y="415846"/>
                </a:lnTo>
                <a:lnTo>
                  <a:pt x="47599" y="439728"/>
                </a:lnTo>
                <a:lnTo>
                  <a:pt x="56192" y="443037"/>
                </a:lnTo>
                <a:lnTo>
                  <a:pt x="100109" y="453217"/>
                </a:lnTo>
                <a:lnTo>
                  <a:pt x="144248" y="466920"/>
                </a:lnTo>
                <a:lnTo>
                  <a:pt x="183251" y="474387"/>
                </a:lnTo>
                <a:lnTo>
                  <a:pt x="222369" y="480017"/>
                </a:lnTo>
                <a:lnTo>
                  <a:pt x="264896" y="481129"/>
                </a:lnTo>
                <a:lnTo>
                  <a:pt x="305634" y="481349"/>
                </a:lnTo>
                <a:lnTo>
                  <a:pt x="339903" y="481387"/>
                </a:lnTo>
                <a:lnTo>
                  <a:pt x="375191" y="481398"/>
                </a:lnTo>
                <a:lnTo>
                  <a:pt x="410783" y="481401"/>
                </a:lnTo>
                <a:lnTo>
                  <a:pt x="446464" y="481403"/>
                </a:lnTo>
                <a:lnTo>
                  <a:pt x="484818" y="481403"/>
                </a:lnTo>
                <a:lnTo>
                  <a:pt x="524955" y="478757"/>
                </a:lnTo>
                <a:lnTo>
                  <a:pt x="564629" y="474335"/>
                </a:lnTo>
                <a:lnTo>
                  <a:pt x="605157" y="470379"/>
                </a:lnTo>
                <a:lnTo>
                  <a:pt x="642301" y="465569"/>
                </a:lnTo>
                <a:lnTo>
                  <a:pt x="681088" y="461498"/>
                </a:lnTo>
                <a:lnTo>
                  <a:pt x="721354" y="456653"/>
                </a:lnTo>
                <a:lnTo>
                  <a:pt x="758420" y="452572"/>
                </a:lnTo>
                <a:lnTo>
                  <a:pt x="794538" y="445079"/>
                </a:lnTo>
                <a:lnTo>
                  <a:pt x="830374" y="436575"/>
                </a:lnTo>
                <a:lnTo>
                  <a:pt x="873299" y="429553"/>
                </a:lnTo>
                <a:lnTo>
                  <a:pt x="916578" y="414900"/>
                </a:lnTo>
                <a:lnTo>
                  <a:pt x="954819" y="401423"/>
                </a:lnTo>
                <a:lnTo>
                  <a:pt x="993870" y="385212"/>
                </a:lnTo>
                <a:lnTo>
                  <a:pt x="1037846" y="359203"/>
                </a:lnTo>
                <a:lnTo>
                  <a:pt x="1055373" y="343551"/>
                </a:lnTo>
                <a:lnTo>
                  <a:pt x="1083267" y="304508"/>
                </a:lnTo>
                <a:lnTo>
                  <a:pt x="1087573" y="292288"/>
                </a:lnTo>
                <a:lnTo>
                  <a:pt x="1089227" y="268424"/>
                </a:lnTo>
                <a:lnTo>
                  <a:pt x="1080282" y="229291"/>
                </a:lnTo>
                <a:lnTo>
                  <a:pt x="1074562" y="216644"/>
                </a:lnTo>
                <a:lnTo>
                  <a:pt x="1070441" y="200770"/>
                </a:lnTo>
                <a:lnTo>
                  <a:pt x="1042463" y="159885"/>
                </a:lnTo>
                <a:lnTo>
                  <a:pt x="1002932" y="118259"/>
                </a:lnTo>
                <a:lnTo>
                  <a:pt x="960393" y="76590"/>
                </a:lnTo>
                <a:lnTo>
                  <a:pt x="927866" y="55424"/>
                </a:lnTo>
                <a:lnTo>
                  <a:pt x="883899" y="32107"/>
                </a:lnTo>
                <a:lnTo>
                  <a:pt x="845618" y="17679"/>
                </a:lnTo>
                <a:lnTo>
                  <a:pt x="809129" y="8313"/>
                </a:lnTo>
                <a:lnTo>
                  <a:pt x="766899" y="1900"/>
                </a:lnTo>
                <a:lnTo>
                  <a:pt x="722967" y="0"/>
                </a:lnTo>
                <a:lnTo>
                  <a:pt x="678531" y="2083"/>
                </a:lnTo>
                <a:lnTo>
                  <a:pt x="647823" y="6434"/>
                </a:lnTo>
                <a:lnTo>
                  <a:pt x="614331" y="11676"/>
                </a:lnTo>
                <a:lnTo>
                  <a:pt x="579602" y="17312"/>
                </a:lnTo>
                <a:lnTo>
                  <a:pt x="544323" y="24117"/>
                </a:lnTo>
                <a:lnTo>
                  <a:pt x="508800" y="33756"/>
                </a:lnTo>
                <a:lnTo>
                  <a:pt x="473168" y="44654"/>
                </a:lnTo>
                <a:lnTo>
                  <a:pt x="437488" y="58097"/>
                </a:lnTo>
                <a:lnTo>
                  <a:pt x="401786" y="77301"/>
                </a:lnTo>
                <a:lnTo>
                  <a:pt x="366075" y="96419"/>
                </a:lnTo>
                <a:lnTo>
                  <a:pt x="331351" y="116822"/>
                </a:lnTo>
                <a:lnTo>
                  <a:pt x="299383" y="142427"/>
                </a:lnTo>
                <a:lnTo>
                  <a:pt x="265992" y="172989"/>
                </a:lnTo>
                <a:lnTo>
                  <a:pt x="232300" y="207408"/>
                </a:lnTo>
                <a:lnTo>
                  <a:pt x="200789" y="245856"/>
                </a:lnTo>
                <a:lnTo>
                  <a:pt x="170248" y="288742"/>
                </a:lnTo>
                <a:lnTo>
                  <a:pt x="155159" y="311290"/>
                </a:lnTo>
                <a:lnTo>
                  <a:pt x="141130" y="336244"/>
                </a:lnTo>
                <a:lnTo>
                  <a:pt x="127809" y="362802"/>
                </a:lnTo>
                <a:lnTo>
                  <a:pt x="114959" y="390430"/>
                </a:lnTo>
                <a:lnTo>
                  <a:pt x="89261" y="44568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SMARTInkShape-226"/>
          <p:cNvSpPr/>
          <p:nvPr/>
        </p:nvSpPr>
        <p:spPr>
          <a:xfrm>
            <a:off x="795240" y="3741840"/>
            <a:ext cx="1874880" cy="142920"/>
          </a:xfrm>
          <a:custGeom>
            <a:avLst/>
            <a:gdLst>
              <a:gd name="textAreaLeft" fmla="*/ 0 w 1874880"/>
              <a:gd name="textAreaRight" fmla="*/ 1875240 w 1874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875231" h="142876">
                <a:moveTo>
                  <a:pt x="1696641" y="53578"/>
                </a:moveTo>
                <a:lnTo>
                  <a:pt x="1696641" y="53578"/>
                </a:lnTo>
                <a:lnTo>
                  <a:pt x="1652080" y="38132"/>
                </a:lnTo>
                <a:lnTo>
                  <a:pt x="1641117" y="35799"/>
                </a:lnTo>
                <a:lnTo>
                  <a:pt x="1627383" y="29900"/>
                </a:lnTo>
                <a:lnTo>
                  <a:pt x="1587091" y="20925"/>
                </a:lnTo>
                <a:lnTo>
                  <a:pt x="1546594" y="17979"/>
                </a:lnTo>
                <a:lnTo>
                  <a:pt x="1517623" y="18875"/>
                </a:lnTo>
                <a:lnTo>
                  <a:pt x="1480900" y="25550"/>
                </a:lnTo>
                <a:lnTo>
                  <a:pt x="1437492" y="33694"/>
                </a:lnTo>
                <a:lnTo>
                  <a:pt x="1393007" y="41589"/>
                </a:lnTo>
                <a:lnTo>
                  <a:pt x="1348380" y="44245"/>
                </a:lnTo>
                <a:lnTo>
                  <a:pt x="1303734" y="51663"/>
                </a:lnTo>
                <a:lnTo>
                  <a:pt x="1265223" y="53325"/>
                </a:lnTo>
                <a:lnTo>
                  <a:pt x="1229099" y="50883"/>
                </a:lnTo>
                <a:lnTo>
                  <a:pt x="1188781" y="45879"/>
                </a:lnTo>
                <a:lnTo>
                  <a:pt x="1152154" y="44892"/>
                </a:lnTo>
                <a:lnTo>
                  <a:pt x="1116256" y="44697"/>
                </a:lnTo>
                <a:lnTo>
                  <a:pt x="1075761" y="44658"/>
                </a:lnTo>
                <a:lnTo>
                  <a:pt x="1036673" y="50787"/>
                </a:lnTo>
                <a:lnTo>
                  <a:pt x="1000289" y="53027"/>
                </a:lnTo>
                <a:lnTo>
                  <a:pt x="964439" y="53469"/>
                </a:lnTo>
                <a:lnTo>
                  <a:pt x="922557" y="53556"/>
                </a:lnTo>
                <a:lnTo>
                  <a:pt x="884592" y="53574"/>
                </a:lnTo>
                <a:lnTo>
                  <a:pt x="848430" y="53577"/>
                </a:lnTo>
                <a:lnTo>
                  <a:pt x="812623" y="53578"/>
                </a:lnTo>
                <a:lnTo>
                  <a:pt x="776887" y="53578"/>
                </a:lnTo>
                <a:lnTo>
                  <a:pt x="741165" y="53578"/>
                </a:lnTo>
                <a:lnTo>
                  <a:pt x="705445" y="53578"/>
                </a:lnTo>
                <a:lnTo>
                  <a:pt x="665538" y="53578"/>
                </a:lnTo>
                <a:lnTo>
                  <a:pt x="624526" y="53578"/>
                </a:lnTo>
                <a:lnTo>
                  <a:pt x="581349" y="53578"/>
                </a:lnTo>
                <a:lnTo>
                  <a:pt x="543460" y="53578"/>
                </a:lnTo>
                <a:lnTo>
                  <a:pt x="506966" y="53578"/>
                </a:lnTo>
                <a:lnTo>
                  <a:pt x="464950" y="53578"/>
                </a:lnTo>
                <a:lnTo>
                  <a:pt x="422707" y="53578"/>
                </a:lnTo>
                <a:lnTo>
                  <a:pt x="382116" y="53578"/>
                </a:lnTo>
                <a:lnTo>
                  <a:pt x="371244" y="54570"/>
                </a:lnTo>
                <a:lnTo>
                  <a:pt x="340064" y="61956"/>
                </a:lnTo>
                <a:lnTo>
                  <a:pt x="303610" y="62507"/>
                </a:lnTo>
                <a:lnTo>
                  <a:pt x="345476" y="63500"/>
                </a:lnTo>
                <a:lnTo>
                  <a:pt x="372488" y="70196"/>
                </a:lnTo>
                <a:lnTo>
                  <a:pt x="415514" y="71328"/>
                </a:lnTo>
                <a:lnTo>
                  <a:pt x="456039" y="68777"/>
                </a:lnTo>
                <a:lnTo>
                  <a:pt x="491256" y="63746"/>
                </a:lnTo>
                <a:lnTo>
                  <a:pt x="533013" y="62752"/>
                </a:lnTo>
                <a:lnTo>
                  <a:pt x="573599" y="59910"/>
                </a:lnTo>
                <a:lnTo>
                  <a:pt x="614799" y="54829"/>
                </a:lnTo>
                <a:lnTo>
                  <a:pt x="658730" y="53825"/>
                </a:lnTo>
                <a:lnTo>
                  <a:pt x="694801" y="53651"/>
                </a:lnTo>
                <a:lnTo>
                  <a:pt x="735475" y="53600"/>
                </a:lnTo>
                <a:lnTo>
                  <a:pt x="774095" y="52592"/>
                </a:lnTo>
                <a:lnTo>
                  <a:pt x="816516" y="47443"/>
                </a:lnTo>
                <a:lnTo>
                  <a:pt x="860504" y="45476"/>
                </a:lnTo>
                <a:lnTo>
                  <a:pt x="890116" y="45016"/>
                </a:lnTo>
                <a:lnTo>
                  <a:pt x="922459" y="44812"/>
                </a:lnTo>
                <a:lnTo>
                  <a:pt x="956677" y="44721"/>
                </a:lnTo>
                <a:lnTo>
                  <a:pt x="991729" y="44681"/>
                </a:lnTo>
                <a:lnTo>
                  <a:pt x="1024505" y="42017"/>
                </a:lnTo>
                <a:lnTo>
                  <a:pt x="1056601" y="38518"/>
                </a:lnTo>
                <a:lnTo>
                  <a:pt x="1090710" y="36963"/>
                </a:lnTo>
                <a:lnTo>
                  <a:pt x="1123067" y="36272"/>
                </a:lnTo>
                <a:lnTo>
                  <a:pt x="1155969" y="35965"/>
                </a:lnTo>
                <a:lnTo>
                  <a:pt x="1193743" y="35828"/>
                </a:lnTo>
                <a:lnTo>
                  <a:pt x="1228391" y="35767"/>
                </a:lnTo>
                <a:lnTo>
                  <a:pt x="1260327" y="35740"/>
                </a:lnTo>
                <a:lnTo>
                  <a:pt x="1291057" y="35729"/>
                </a:lnTo>
                <a:lnTo>
                  <a:pt x="1323897" y="35723"/>
                </a:lnTo>
                <a:lnTo>
                  <a:pt x="1357344" y="35720"/>
                </a:lnTo>
                <a:lnTo>
                  <a:pt x="1388746" y="35719"/>
                </a:lnTo>
                <a:lnTo>
                  <a:pt x="1421885" y="35719"/>
                </a:lnTo>
                <a:lnTo>
                  <a:pt x="1455464" y="35718"/>
                </a:lnTo>
                <a:lnTo>
                  <a:pt x="1486925" y="35718"/>
                </a:lnTo>
                <a:lnTo>
                  <a:pt x="1517444" y="35718"/>
                </a:lnTo>
                <a:lnTo>
                  <a:pt x="1547545" y="34726"/>
                </a:lnTo>
                <a:lnTo>
                  <a:pt x="1577459" y="30978"/>
                </a:lnTo>
                <a:lnTo>
                  <a:pt x="1607291" y="28651"/>
                </a:lnTo>
                <a:lnTo>
                  <a:pt x="1649331" y="27341"/>
                </a:lnTo>
                <a:lnTo>
                  <a:pt x="1686922" y="26953"/>
                </a:lnTo>
                <a:lnTo>
                  <a:pt x="1723196" y="24192"/>
                </a:lnTo>
                <a:lnTo>
                  <a:pt x="1759079" y="19736"/>
                </a:lnTo>
                <a:lnTo>
                  <a:pt x="1797279" y="18230"/>
                </a:lnTo>
                <a:lnTo>
                  <a:pt x="1837187" y="17908"/>
                </a:lnTo>
                <a:lnTo>
                  <a:pt x="1875230" y="17859"/>
                </a:lnTo>
                <a:lnTo>
                  <a:pt x="1836201" y="17859"/>
                </a:lnTo>
                <a:lnTo>
                  <a:pt x="1793335" y="17859"/>
                </a:lnTo>
                <a:lnTo>
                  <a:pt x="1750017" y="17859"/>
                </a:lnTo>
                <a:lnTo>
                  <a:pt x="1709720" y="17859"/>
                </a:lnTo>
                <a:lnTo>
                  <a:pt x="1669679" y="17859"/>
                </a:lnTo>
                <a:lnTo>
                  <a:pt x="1636176" y="17859"/>
                </a:lnTo>
                <a:lnTo>
                  <a:pt x="1600122" y="18852"/>
                </a:lnTo>
                <a:lnTo>
                  <a:pt x="1559453" y="23996"/>
                </a:lnTo>
                <a:lnTo>
                  <a:pt x="1521827" y="25961"/>
                </a:lnTo>
                <a:lnTo>
                  <a:pt x="1484551" y="26543"/>
                </a:lnTo>
                <a:lnTo>
                  <a:pt x="1442528" y="26716"/>
                </a:lnTo>
                <a:lnTo>
                  <a:pt x="1399649" y="26767"/>
                </a:lnTo>
                <a:lnTo>
                  <a:pt x="1360376" y="26783"/>
                </a:lnTo>
                <a:lnTo>
                  <a:pt x="1317761" y="26787"/>
                </a:lnTo>
                <a:lnTo>
                  <a:pt x="1273715" y="25797"/>
                </a:lnTo>
                <a:lnTo>
                  <a:pt x="1229245" y="20652"/>
                </a:lnTo>
                <a:lnTo>
                  <a:pt x="1184650" y="18687"/>
                </a:lnTo>
                <a:lnTo>
                  <a:pt x="1140017" y="18105"/>
                </a:lnTo>
                <a:lnTo>
                  <a:pt x="1110255" y="17968"/>
                </a:lnTo>
                <a:lnTo>
                  <a:pt x="1077845" y="15262"/>
                </a:lnTo>
                <a:lnTo>
                  <a:pt x="1044589" y="11744"/>
                </a:lnTo>
                <a:lnTo>
                  <a:pt x="1013272" y="10180"/>
                </a:lnTo>
                <a:lnTo>
                  <a:pt x="982817" y="9486"/>
                </a:lnTo>
                <a:lnTo>
                  <a:pt x="951753" y="9177"/>
                </a:lnTo>
                <a:lnTo>
                  <a:pt x="918103" y="9039"/>
                </a:lnTo>
                <a:lnTo>
                  <a:pt x="885949" y="8978"/>
                </a:lnTo>
                <a:lnTo>
                  <a:pt x="855123" y="8951"/>
                </a:lnTo>
                <a:lnTo>
                  <a:pt x="810869" y="7944"/>
                </a:lnTo>
                <a:lnTo>
                  <a:pt x="771188" y="2795"/>
                </a:lnTo>
                <a:lnTo>
                  <a:pt x="728453" y="828"/>
                </a:lnTo>
                <a:lnTo>
                  <a:pt x="685363" y="245"/>
                </a:lnTo>
                <a:lnTo>
                  <a:pt x="646027" y="73"/>
                </a:lnTo>
                <a:lnTo>
                  <a:pt x="604386" y="21"/>
                </a:lnTo>
                <a:lnTo>
                  <a:pt x="565480" y="7"/>
                </a:lnTo>
                <a:lnTo>
                  <a:pt x="522973" y="2"/>
                </a:lnTo>
                <a:lnTo>
                  <a:pt x="479952" y="0"/>
                </a:lnTo>
                <a:lnTo>
                  <a:pt x="440636" y="992"/>
                </a:lnTo>
                <a:lnTo>
                  <a:pt x="398009" y="7129"/>
                </a:lnTo>
                <a:lnTo>
                  <a:pt x="354951" y="15231"/>
                </a:lnTo>
                <a:lnTo>
                  <a:pt x="315625" y="23916"/>
                </a:lnTo>
                <a:lnTo>
                  <a:pt x="273986" y="32773"/>
                </a:lnTo>
                <a:lnTo>
                  <a:pt x="235081" y="42673"/>
                </a:lnTo>
                <a:lnTo>
                  <a:pt x="193567" y="56741"/>
                </a:lnTo>
                <a:lnTo>
                  <a:pt x="155690" y="68626"/>
                </a:lnTo>
                <a:lnTo>
                  <a:pt x="119332" y="84274"/>
                </a:lnTo>
                <a:lnTo>
                  <a:pt x="83424" y="101478"/>
                </a:lnTo>
                <a:lnTo>
                  <a:pt x="47649" y="119144"/>
                </a:lnTo>
                <a:lnTo>
                  <a:pt x="0" y="14287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2" name="SMARTInkShape-Group219"/>
          <p:cNvGrpSpPr/>
          <p:nvPr/>
        </p:nvGrpSpPr>
        <p:grpSpPr>
          <a:xfrm>
            <a:off x="2736720" y="3411360"/>
            <a:ext cx="2487600" cy="650880"/>
            <a:chOff x="2736720" y="3411360"/>
            <a:chExt cx="2487600" cy="650880"/>
          </a:xfrm>
        </p:grpSpPr>
        <p:sp>
          <p:nvSpPr>
            <p:cNvPr id="313" name="SMARTInkShape-227"/>
            <p:cNvSpPr/>
            <p:nvPr/>
          </p:nvSpPr>
          <p:spPr>
            <a:xfrm>
              <a:off x="2736720" y="3491640"/>
              <a:ext cx="424800" cy="12456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24841" h="125017">
                  <a:moveTo>
                    <a:pt x="5145" y="125016"/>
                  </a:moveTo>
                  <a:lnTo>
                    <a:pt x="5145" y="125016"/>
                  </a:lnTo>
                  <a:lnTo>
                    <a:pt x="404" y="120276"/>
                  </a:lnTo>
                  <a:lnTo>
                    <a:pt x="0" y="117887"/>
                  </a:lnTo>
                  <a:lnTo>
                    <a:pt x="723" y="115303"/>
                  </a:lnTo>
                  <a:lnTo>
                    <a:pt x="4886" y="107633"/>
                  </a:lnTo>
                  <a:lnTo>
                    <a:pt x="5068" y="102558"/>
                  </a:lnTo>
                  <a:lnTo>
                    <a:pt x="6086" y="101114"/>
                  </a:lnTo>
                  <a:lnTo>
                    <a:pt x="7757" y="100152"/>
                  </a:lnTo>
                  <a:lnTo>
                    <a:pt x="50094" y="87253"/>
                  </a:lnTo>
                  <a:lnTo>
                    <a:pt x="86727" y="74146"/>
                  </a:lnTo>
                  <a:lnTo>
                    <a:pt x="130321" y="59496"/>
                  </a:lnTo>
                  <a:lnTo>
                    <a:pt x="172047" y="53755"/>
                  </a:lnTo>
                  <a:lnTo>
                    <a:pt x="209982" y="44096"/>
                  </a:lnTo>
                  <a:lnTo>
                    <a:pt x="250879" y="37374"/>
                  </a:lnTo>
                  <a:lnTo>
                    <a:pt x="290046" y="28917"/>
                  </a:lnTo>
                  <a:lnTo>
                    <a:pt x="326446" y="20338"/>
                  </a:lnTo>
                  <a:lnTo>
                    <a:pt x="370248" y="17194"/>
                  </a:lnTo>
                  <a:lnTo>
                    <a:pt x="402478" y="8794"/>
                  </a:lnTo>
                  <a:lnTo>
                    <a:pt x="415609" y="2031"/>
                  </a:lnTo>
                  <a:lnTo>
                    <a:pt x="42484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4" name="SMARTInkShape-228"/>
            <p:cNvSpPr/>
            <p:nvPr/>
          </p:nvSpPr>
          <p:spPr>
            <a:xfrm>
              <a:off x="2938320" y="3411360"/>
              <a:ext cx="374400" cy="3924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374512" h="392905">
                  <a:moveTo>
                    <a:pt x="0" y="17858"/>
                  </a:moveTo>
                  <a:lnTo>
                    <a:pt x="0" y="17858"/>
                  </a:lnTo>
                  <a:lnTo>
                    <a:pt x="8121" y="10729"/>
                  </a:lnTo>
                  <a:lnTo>
                    <a:pt x="21368" y="3619"/>
                  </a:lnTo>
                  <a:lnTo>
                    <a:pt x="33010" y="1071"/>
                  </a:lnTo>
                  <a:lnTo>
                    <a:pt x="77517" y="40"/>
                  </a:lnTo>
                  <a:lnTo>
                    <a:pt x="116643" y="0"/>
                  </a:lnTo>
                  <a:lnTo>
                    <a:pt x="128239" y="992"/>
                  </a:lnTo>
                  <a:lnTo>
                    <a:pt x="164725" y="8101"/>
                  </a:lnTo>
                  <a:lnTo>
                    <a:pt x="208526" y="8855"/>
                  </a:lnTo>
                  <a:lnTo>
                    <a:pt x="232111" y="9899"/>
                  </a:lnTo>
                  <a:lnTo>
                    <a:pt x="276738" y="17028"/>
                  </a:lnTo>
                  <a:lnTo>
                    <a:pt x="295757" y="18604"/>
                  </a:lnTo>
                  <a:lnTo>
                    <a:pt x="314222" y="24877"/>
                  </a:lnTo>
                  <a:lnTo>
                    <a:pt x="330897" y="28867"/>
                  </a:lnTo>
                  <a:lnTo>
                    <a:pt x="356447" y="37762"/>
                  </a:lnTo>
                  <a:lnTo>
                    <a:pt x="368947" y="48027"/>
                  </a:lnTo>
                  <a:lnTo>
                    <a:pt x="372336" y="53756"/>
                  </a:lnTo>
                  <a:lnTo>
                    <a:pt x="374511" y="65518"/>
                  </a:lnTo>
                  <a:lnTo>
                    <a:pt x="373949" y="84525"/>
                  </a:lnTo>
                  <a:lnTo>
                    <a:pt x="370259" y="95774"/>
                  </a:lnTo>
                  <a:lnTo>
                    <a:pt x="326803" y="137943"/>
                  </a:lnTo>
                  <a:lnTo>
                    <a:pt x="291324" y="167807"/>
                  </a:lnTo>
                  <a:lnTo>
                    <a:pt x="257966" y="189618"/>
                  </a:lnTo>
                  <a:lnTo>
                    <a:pt x="222948" y="214932"/>
                  </a:lnTo>
                  <a:lnTo>
                    <a:pt x="187436" y="238638"/>
                  </a:lnTo>
                  <a:lnTo>
                    <a:pt x="144622" y="269167"/>
                  </a:lnTo>
                  <a:lnTo>
                    <a:pt x="107501" y="296731"/>
                  </a:lnTo>
                  <a:lnTo>
                    <a:pt x="67294" y="327299"/>
                  </a:lnTo>
                  <a:lnTo>
                    <a:pt x="38603" y="350102"/>
                  </a:lnTo>
                  <a:lnTo>
                    <a:pt x="9467" y="391978"/>
                  </a:lnTo>
                  <a:lnTo>
                    <a:pt x="10280" y="392287"/>
                  </a:lnTo>
                  <a:lnTo>
                    <a:pt x="17859" y="3929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5" name="SMARTInkShape-229"/>
            <p:cNvSpPr/>
            <p:nvPr/>
          </p:nvSpPr>
          <p:spPr>
            <a:xfrm>
              <a:off x="3598920" y="3678840"/>
              <a:ext cx="160560" cy="1335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60735" h="133821">
                  <a:moveTo>
                    <a:pt x="0" y="89294"/>
                  </a:moveTo>
                  <a:lnTo>
                    <a:pt x="0" y="89294"/>
                  </a:lnTo>
                  <a:lnTo>
                    <a:pt x="0" y="105544"/>
                  </a:lnTo>
                  <a:lnTo>
                    <a:pt x="992" y="106081"/>
                  </a:lnTo>
                  <a:lnTo>
                    <a:pt x="7688" y="107012"/>
                  </a:lnTo>
                  <a:lnTo>
                    <a:pt x="16509" y="114829"/>
                  </a:lnTo>
                  <a:lnTo>
                    <a:pt x="17951" y="114255"/>
                  </a:lnTo>
                  <a:lnTo>
                    <a:pt x="24721" y="109698"/>
                  </a:lnTo>
                  <a:lnTo>
                    <a:pt x="35898" y="107656"/>
                  </a:lnTo>
                  <a:lnTo>
                    <a:pt x="38815" y="107488"/>
                  </a:lnTo>
                  <a:lnTo>
                    <a:pt x="44702" y="104656"/>
                  </a:lnTo>
                  <a:lnTo>
                    <a:pt x="73608" y="83244"/>
                  </a:lnTo>
                  <a:lnTo>
                    <a:pt x="84218" y="68445"/>
                  </a:lnTo>
                  <a:lnTo>
                    <a:pt x="100567" y="56549"/>
                  </a:lnTo>
                  <a:lnTo>
                    <a:pt x="114588" y="37480"/>
                  </a:lnTo>
                  <a:lnTo>
                    <a:pt x="115641" y="31498"/>
                  </a:lnTo>
                  <a:lnTo>
                    <a:pt x="116046" y="14771"/>
                  </a:lnTo>
                  <a:lnTo>
                    <a:pt x="115068" y="12822"/>
                  </a:lnTo>
                  <a:lnTo>
                    <a:pt x="113423" y="11524"/>
                  </a:lnTo>
                  <a:lnTo>
                    <a:pt x="108949" y="9089"/>
                  </a:lnTo>
                  <a:lnTo>
                    <a:pt x="100852" y="3132"/>
                  </a:lnTo>
                  <a:lnTo>
                    <a:pt x="92169" y="926"/>
                  </a:lnTo>
                  <a:lnTo>
                    <a:pt x="50860" y="0"/>
                  </a:lnTo>
                  <a:lnTo>
                    <a:pt x="44763" y="2644"/>
                  </a:lnTo>
                  <a:lnTo>
                    <a:pt x="38746" y="6134"/>
                  </a:lnTo>
                  <a:lnTo>
                    <a:pt x="32765" y="7686"/>
                  </a:lnTo>
                  <a:lnTo>
                    <a:pt x="30773" y="9092"/>
                  </a:lnTo>
                  <a:lnTo>
                    <a:pt x="29445" y="11021"/>
                  </a:lnTo>
                  <a:lnTo>
                    <a:pt x="28560" y="13299"/>
                  </a:lnTo>
                  <a:lnTo>
                    <a:pt x="26977" y="14819"/>
                  </a:lnTo>
                  <a:lnTo>
                    <a:pt x="22573" y="16506"/>
                  </a:lnTo>
                  <a:lnTo>
                    <a:pt x="17308" y="22548"/>
                  </a:lnTo>
                  <a:lnTo>
                    <a:pt x="12654" y="30855"/>
                  </a:lnTo>
                  <a:lnTo>
                    <a:pt x="10585" y="37855"/>
                  </a:lnTo>
                  <a:lnTo>
                    <a:pt x="9041" y="40118"/>
                  </a:lnTo>
                  <a:lnTo>
                    <a:pt x="7019" y="41628"/>
                  </a:lnTo>
                  <a:lnTo>
                    <a:pt x="4679" y="42633"/>
                  </a:lnTo>
                  <a:lnTo>
                    <a:pt x="3120" y="45288"/>
                  </a:lnTo>
                  <a:lnTo>
                    <a:pt x="411" y="64586"/>
                  </a:lnTo>
                  <a:lnTo>
                    <a:pt x="4862" y="78886"/>
                  </a:lnTo>
                  <a:lnTo>
                    <a:pt x="15255" y="94367"/>
                  </a:lnTo>
                  <a:lnTo>
                    <a:pt x="38710" y="119025"/>
                  </a:lnTo>
                  <a:lnTo>
                    <a:pt x="44655" y="122352"/>
                  </a:lnTo>
                  <a:lnTo>
                    <a:pt x="77555" y="133011"/>
                  </a:lnTo>
                  <a:lnTo>
                    <a:pt x="99852" y="133820"/>
                  </a:lnTo>
                  <a:lnTo>
                    <a:pt x="140409" y="122914"/>
                  </a:lnTo>
                  <a:lnTo>
                    <a:pt x="160734" y="1071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6" name="SMARTInkShape-230"/>
            <p:cNvSpPr/>
            <p:nvPr/>
          </p:nvSpPr>
          <p:spPr>
            <a:xfrm>
              <a:off x="3411360" y="3589560"/>
              <a:ext cx="35640" cy="2941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35711" h="294681">
                  <a:moveTo>
                    <a:pt x="26789" y="0"/>
                  </a:moveTo>
                  <a:lnTo>
                    <a:pt x="26789" y="0"/>
                  </a:lnTo>
                  <a:lnTo>
                    <a:pt x="26789" y="12429"/>
                  </a:lnTo>
                  <a:lnTo>
                    <a:pt x="35352" y="52011"/>
                  </a:lnTo>
                  <a:lnTo>
                    <a:pt x="35710" y="95655"/>
                  </a:lnTo>
                  <a:lnTo>
                    <a:pt x="34725" y="125279"/>
                  </a:lnTo>
                  <a:lnTo>
                    <a:pt x="27617" y="169610"/>
                  </a:lnTo>
                  <a:lnTo>
                    <a:pt x="26042" y="189602"/>
                  </a:lnTo>
                  <a:lnTo>
                    <a:pt x="18237" y="233349"/>
                  </a:lnTo>
                  <a:lnTo>
                    <a:pt x="16890" y="264973"/>
                  </a:lnTo>
                  <a:lnTo>
                    <a:pt x="9039" y="294038"/>
                  </a:lnTo>
                  <a:lnTo>
                    <a:pt x="0" y="29468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7" name="SMARTInkShape-231"/>
            <p:cNvSpPr/>
            <p:nvPr/>
          </p:nvSpPr>
          <p:spPr>
            <a:xfrm>
              <a:off x="3386160" y="3475440"/>
              <a:ext cx="211320" cy="2656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211415" h="265978">
                  <a:moveTo>
                    <a:pt x="61108" y="24875"/>
                  </a:moveTo>
                  <a:lnTo>
                    <a:pt x="61108" y="24875"/>
                  </a:lnTo>
                  <a:lnTo>
                    <a:pt x="69229" y="17746"/>
                  </a:lnTo>
                  <a:lnTo>
                    <a:pt x="83468" y="10636"/>
                  </a:lnTo>
                  <a:lnTo>
                    <a:pt x="123705" y="160"/>
                  </a:lnTo>
                  <a:lnTo>
                    <a:pt x="135562" y="0"/>
                  </a:lnTo>
                  <a:lnTo>
                    <a:pt x="173668" y="6684"/>
                  </a:lnTo>
                  <a:lnTo>
                    <a:pt x="194054" y="19416"/>
                  </a:lnTo>
                  <a:lnTo>
                    <a:pt x="199570" y="25094"/>
                  </a:lnTo>
                  <a:lnTo>
                    <a:pt x="205322" y="33870"/>
                  </a:lnTo>
                  <a:lnTo>
                    <a:pt x="209539" y="39787"/>
                  </a:lnTo>
                  <a:lnTo>
                    <a:pt x="211414" y="45724"/>
                  </a:lnTo>
                  <a:lnTo>
                    <a:pt x="209601" y="54316"/>
                  </a:lnTo>
                  <a:lnTo>
                    <a:pt x="205648" y="70310"/>
                  </a:lnTo>
                  <a:lnTo>
                    <a:pt x="203731" y="80787"/>
                  </a:lnTo>
                  <a:lnTo>
                    <a:pt x="199572" y="88751"/>
                  </a:lnTo>
                  <a:lnTo>
                    <a:pt x="166114" y="132201"/>
                  </a:lnTo>
                  <a:lnTo>
                    <a:pt x="126467" y="173713"/>
                  </a:lnTo>
                  <a:lnTo>
                    <a:pt x="86122" y="201735"/>
                  </a:lnTo>
                  <a:lnTo>
                    <a:pt x="41509" y="235108"/>
                  </a:lnTo>
                  <a:lnTo>
                    <a:pt x="9343" y="264200"/>
                  </a:lnTo>
                  <a:lnTo>
                    <a:pt x="5690" y="265187"/>
                  </a:lnTo>
                  <a:lnTo>
                    <a:pt x="0" y="265821"/>
                  </a:lnTo>
                  <a:lnTo>
                    <a:pt x="7530" y="26597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8" name="SMARTInkShape-232"/>
            <p:cNvSpPr/>
            <p:nvPr/>
          </p:nvSpPr>
          <p:spPr>
            <a:xfrm>
              <a:off x="4250880" y="3653280"/>
              <a:ext cx="160560" cy="2037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0699" h="204005">
                  <a:moveTo>
                    <a:pt x="116050" y="52215"/>
                  </a:moveTo>
                  <a:lnTo>
                    <a:pt x="116050" y="52215"/>
                  </a:lnTo>
                  <a:lnTo>
                    <a:pt x="107130" y="43295"/>
                  </a:lnTo>
                  <a:lnTo>
                    <a:pt x="99433" y="43286"/>
                  </a:lnTo>
                  <a:lnTo>
                    <a:pt x="99018" y="42294"/>
                  </a:lnTo>
                  <a:lnTo>
                    <a:pt x="98559" y="38545"/>
                  </a:lnTo>
                  <a:lnTo>
                    <a:pt x="97444" y="37149"/>
                  </a:lnTo>
                  <a:lnTo>
                    <a:pt x="93559" y="35597"/>
                  </a:lnTo>
                  <a:lnTo>
                    <a:pt x="92126" y="34191"/>
                  </a:lnTo>
                  <a:lnTo>
                    <a:pt x="87181" y="24806"/>
                  </a:lnTo>
                  <a:lnTo>
                    <a:pt x="75992" y="12242"/>
                  </a:lnTo>
                  <a:lnTo>
                    <a:pt x="70796" y="9645"/>
                  </a:lnTo>
                  <a:lnTo>
                    <a:pt x="68021" y="8952"/>
                  </a:lnTo>
                  <a:lnTo>
                    <a:pt x="66171" y="7497"/>
                  </a:lnTo>
                  <a:lnTo>
                    <a:pt x="64116" y="3237"/>
                  </a:lnTo>
                  <a:lnTo>
                    <a:pt x="62576" y="1703"/>
                  </a:lnTo>
                  <a:lnTo>
                    <a:pt x="58219" y="0"/>
                  </a:lnTo>
                  <a:lnTo>
                    <a:pt x="56660" y="537"/>
                  </a:lnTo>
                  <a:lnTo>
                    <a:pt x="55621" y="1889"/>
                  </a:lnTo>
                  <a:lnTo>
                    <a:pt x="54928" y="3781"/>
                  </a:lnTo>
                  <a:lnTo>
                    <a:pt x="53473" y="5043"/>
                  </a:lnTo>
                  <a:lnTo>
                    <a:pt x="44011" y="9714"/>
                  </a:lnTo>
                  <a:lnTo>
                    <a:pt x="31430" y="20840"/>
                  </a:lnTo>
                  <a:lnTo>
                    <a:pt x="21540" y="37786"/>
                  </a:lnTo>
                  <a:lnTo>
                    <a:pt x="8826" y="81271"/>
                  </a:lnTo>
                  <a:lnTo>
                    <a:pt x="3030" y="93787"/>
                  </a:lnTo>
                  <a:lnTo>
                    <a:pt x="44" y="135469"/>
                  </a:lnTo>
                  <a:lnTo>
                    <a:pt x="0" y="143126"/>
                  </a:lnTo>
                  <a:lnTo>
                    <a:pt x="2625" y="149836"/>
                  </a:lnTo>
                  <a:lnTo>
                    <a:pt x="6108" y="156126"/>
                  </a:lnTo>
                  <a:lnTo>
                    <a:pt x="9061" y="165245"/>
                  </a:lnTo>
                  <a:lnTo>
                    <a:pt x="29853" y="189134"/>
                  </a:lnTo>
                  <a:lnTo>
                    <a:pt x="35737" y="192442"/>
                  </a:lnTo>
                  <a:lnTo>
                    <a:pt x="41660" y="194906"/>
                  </a:lnTo>
                  <a:lnTo>
                    <a:pt x="50572" y="200878"/>
                  </a:lnTo>
                  <a:lnTo>
                    <a:pt x="59497" y="203089"/>
                  </a:lnTo>
                  <a:lnTo>
                    <a:pt x="100285" y="204004"/>
                  </a:lnTo>
                  <a:lnTo>
                    <a:pt x="110035" y="203020"/>
                  </a:lnTo>
                  <a:lnTo>
                    <a:pt x="151165" y="184229"/>
                  </a:lnTo>
                  <a:lnTo>
                    <a:pt x="160698" y="1772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9" name="SMARTInkShape-233"/>
            <p:cNvSpPr/>
            <p:nvPr/>
          </p:nvSpPr>
          <p:spPr>
            <a:xfrm>
              <a:off x="5135400" y="3447000"/>
              <a:ext cx="71280" cy="615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71274" h="616149">
                  <a:moveTo>
                    <a:pt x="26624" y="0"/>
                  </a:moveTo>
                  <a:lnTo>
                    <a:pt x="26624" y="0"/>
                  </a:lnTo>
                  <a:lnTo>
                    <a:pt x="21884" y="4741"/>
                  </a:lnTo>
                  <a:lnTo>
                    <a:pt x="19557" y="9714"/>
                  </a:lnTo>
                  <a:lnTo>
                    <a:pt x="10038" y="54086"/>
                  </a:lnTo>
                  <a:lnTo>
                    <a:pt x="8932" y="90540"/>
                  </a:lnTo>
                  <a:lnTo>
                    <a:pt x="4057" y="134743"/>
                  </a:lnTo>
                  <a:lnTo>
                    <a:pt x="1086" y="176736"/>
                  </a:lnTo>
                  <a:lnTo>
                    <a:pt x="206" y="220597"/>
                  </a:lnTo>
                  <a:lnTo>
                    <a:pt x="0" y="252825"/>
                  </a:lnTo>
                  <a:lnTo>
                    <a:pt x="900" y="287984"/>
                  </a:lnTo>
                  <a:lnTo>
                    <a:pt x="4608" y="326761"/>
                  </a:lnTo>
                  <a:lnTo>
                    <a:pt x="9563" y="367147"/>
                  </a:lnTo>
                  <a:lnTo>
                    <a:pt x="16065" y="408247"/>
                  </a:lnTo>
                  <a:lnTo>
                    <a:pt x="25569" y="449664"/>
                  </a:lnTo>
                  <a:lnTo>
                    <a:pt x="36409" y="491223"/>
                  </a:lnTo>
                  <a:lnTo>
                    <a:pt x="47840" y="532845"/>
                  </a:lnTo>
                  <a:lnTo>
                    <a:pt x="59535" y="574495"/>
                  </a:lnTo>
                  <a:lnTo>
                    <a:pt x="71273" y="61614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0" name="SMARTInkShape-234"/>
            <p:cNvSpPr/>
            <p:nvPr/>
          </p:nvSpPr>
          <p:spPr>
            <a:xfrm>
              <a:off x="5047200" y="3660840"/>
              <a:ext cx="177120" cy="13356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77198" h="133807">
                  <a:moveTo>
                    <a:pt x="168268" y="44632"/>
                  </a:moveTo>
                  <a:lnTo>
                    <a:pt x="168268" y="44632"/>
                  </a:lnTo>
                  <a:lnTo>
                    <a:pt x="168268" y="39892"/>
                  </a:lnTo>
                  <a:lnTo>
                    <a:pt x="165622" y="34919"/>
                  </a:lnTo>
                  <a:lnTo>
                    <a:pt x="163527" y="32203"/>
                  </a:lnTo>
                  <a:lnTo>
                    <a:pt x="158553" y="29186"/>
                  </a:lnTo>
                  <a:lnTo>
                    <a:pt x="153036" y="26854"/>
                  </a:lnTo>
                  <a:lnTo>
                    <a:pt x="134502" y="12628"/>
                  </a:lnTo>
                  <a:lnTo>
                    <a:pt x="116545" y="7002"/>
                  </a:lnTo>
                  <a:lnTo>
                    <a:pt x="109561" y="3103"/>
                  </a:lnTo>
                  <a:lnTo>
                    <a:pt x="99059" y="907"/>
                  </a:lnTo>
                  <a:lnTo>
                    <a:pt x="58633" y="0"/>
                  </a:lnTo>
                  <a:lnTo>
                    <a:pt x="49095" y="983"/>
                  </a:lnTo>
                  <a:lnTo>
                    <a:pt x="25560" y="11008"/>
                  </a:lnTo>
                  <a:lnTo>
                    <a:pt x="19514" y="16790"/>
                  </a:lnTo>
                  <a:lnTo>
                    <a:pt x="11524" y="30209"/>
                  </a:lnTo>
                  <a:lnTo>
                    <a:pt x="0" y="64129"/>
                  </a:lnTo>
                  <a:lnTo>
                    <a:pt x="527" y="67551"/>
                  </a:lnTo>
                  <a:lnTo>
                    <a:pt x="5855" y="82820"/>
                  </a:lnTo>
                  <a:lnTo>
                    <a:pt x="7779" y="92362"/>
                  </a:lnTo>
                  <a:lnTo>
                    <a:pt x="14441" y="103312"/>
                  </a:lnTo>
                  <a:lnTo>
                    <a:pt x="28494" y="118934"/>
                  </a:lnTo>
                  <a:lnTo>
                    <a:pt x="34378" y="122304"/>
                  </a:lnTo>
                  <a:lnTo>
                    <a:pt x="40300" y="124794"/>
                  </a:lnTo>
                  <a:lnTo>
                    <a:pt x="49212" y="130781"/>
                  </a:lnTo>
                  <a:lnTo>
                    <a:pt x="59128" y="132996"/>
                  </a:lnTo>
                  <a:lnTo>
                    <a:pt x="80706" y="133806"/>
                  </a:lnTo>
                  <a:lnTo>
                    <a:pt x="87348" y="131229"/>
                  </a:lnTo>
                  <a:lnTo>
                    <a:pt x="93608" y="127768"/>
                  </a:lnTo>
                  <a:lnTo>
                    <a:pt x="113444" y="120623"/>
                  </a:lnTo>
                  <a:lnTo>
                    <a:pt x="131992" y="106956"/>
                  </a:lnTo>
                  <a:lnTo>
                    <a:pt x="147358" y="91241"/>
                  </a:lnTo>
                  <a:lnTo>
                    <a:pt x="168263" y="50683"/>
                  </a:lnTo>
                  <a:lnTo>
                    <a:pt x="177197" y="2677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1" name="SMARTInkShape-235"/>
            <p:cNvSpPr/>
            <p:nvPr/>
          </p:nvSpPr>
          <p:spPr>
            <a:xfrm>
              <a:off x="3902760" y="3643200"/>
              <a:ext cx="160560" cy="2124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60547" h="212926">
                  <a:moveTo>
                    <a:pt x="98227" y="0"/>
                  </a:moveTo>
                  <a:lnTo>
                    <a:pt x="98227" y="0"/>
                  </a:lnTo>
                  <a:lnTo>
                    <a:pt x="93487" y="4741"/>
                  </a:lnTo>
                  <a:lnTo>
                    <a:pt x="88513" y="7068"/>
                  </a:lnTo>
                  <a:lnTo>
                    <a:pt x="72496" y="13302"/>
                  </a:lnTo>
                  <a:lnTo>
                    <a:pt x="46518" y="33992"/>
                  </a:lnTo>
                  <a:lnTo>
                    <a:pt x="40462" y="39947"/>
                  </a:lnTo>
                  <a:lnTo>
                    <a:pt x="37827" y="45205"/>
                  </a:lnTo>
                  <a:lnTo>
                    <a:pt x="37124" y="47996"/>
                  </a:lnTo>
                  <a:lnTo>
                    <a:pt x="35664" y="49857"/>
                  </a:lnTo>
                  <a:lnTo>
                    <a:pt x="31395" y="51925"/>
                  </a:lnTo>
                  <a:lnTo>
                    <a:pt x="29860" y="53468"/>
                  </a:lnTo>
                  <a:lnTo>
                    <a:pt x="26825" y="62386"/>
                  </a:lnTo>
                  <a:lnTo>
                    <a:pt x="31541" y="67212"/>
                  </a:lnTo>
                  <a:lnTo>
                    <a:pt x="36508" y="69560"/>
                  </a:lnTo>
                  <a:lnTo>
                    <a:pt x="39221" y="70186"/>
                  </a:lnTo>
                  <a:lnTo>
                    <a:pt x="41030" y="69611"/>
                  </a:lnTo>
                  <a:lnTo>
                    <a:pt x="42237" y="68235"/>
                  </a:lnTo>
                  <a:lnTo>
                    <a:pt x="43040" y="66326"/>
                  </a:lnTo>
                  <a:lnTo>
                    <a:pt x="45560" y="65054"/>
                  </a:lnTo>
                  <a:lnTo>
                    <a:pt x="78124" y="60011"/>
                  </a:lnTo>
                  <a:lnTo>
                    <a:pt x="85324" y="56437"/>
                  </a:lnTo>
                  <a:lnTo>
                    <a:pt x="100676" y="54143"/>
                  </a:lnTo>
                  <a:lnTo>
                    <a:pt x="127613" y="53612"/>
                  </a:lnTo>
                  <a:lnTo>
                    <a:pt x="153507" y="61270"/>
                  </a:lnTo>
                  <a:lnTo>
                    <a:pt x="155916" y="62675"/>
                  </a:lnTo>
                  <a:lnTo>
                    <a:pt x="157522" y="64604"/>
                  </a:lnTo>
                  <a:lnTo>
                    <a:pt x="159307" y="69392"/>
                  </a:lnTo>
                  <a:lnTo>
                    <a:pt x="160546" y="83467"/>
                  </a:lnTo>
                  <a:lnTo>
                    <a:pt x="158005" y="89352"/>
                  </a:lnTo>
                  <a:lnTo>
                    <a:pt x="139739" y="117825"/>
                  </a:lnTo>
                  <a:lnTo>
                    <a:pt x="97988" y="149894"/>
                  </a:lnTo>
                  <a:lnTo>
                    <a:pt x="56541" y="180217"/>
                  </a:lnTo>
                  <a:lnTo>
                    <a:pt x="14802" y="201636"/>
                  </a:lnTo>
                  <a:lnTo>
                    <a:pt x="7240" y="203718"/>
                  </a:lnTo>
                  <a:lnTo>
                    <a:pt x="4827" y="205265"/>
                  </a:lnTo>
                  <a:lnTo>
                    <a:pt x="3218" y="207289"/>
                  </a:lnTo>
                  <a:lnTo>
                    <a:pt x="636" y="212925"/>
                  </a:lnTo>
                  <a:lnTo>
                    <a:pt x="424" y="212396"/>
                  </a:lnTo>
                  <a:lnTo>
                    <a:pt x="0" y="2053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2" name="SMARTInkShape-236"/>
            <p:cNvSpPr/>
            <p:nvPr/>
          </p:nvSpPr>
          <p:spPr>
            <a:xfrm>
              <a:off x="4679640" y="3662280"/>
              <a:ext cx="410760" cy="10512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10767" h="105468">
                  <a:moveTo>
                    <a:pt x="0" y="79083"/>
                  </a:moveTo>
                  <a:lnTo>
                    <a:pt x="0" y="79083"/>
                  </a:lnTo>
                  <a:lnTo>
                    <a:pt x="16781" y="72015"/>
                  </a:lnTo>
                  <a:lnTo>
                    <a:pt x="60638" y="67522"/>
                  </a:lnTo>
                  <a:lnTo>
                    <a:pt x="68622" y="64023"/>
                  </a:lnTo>
                  <a:lnTo>
                    <a:pt x="78785" y="62467"/>
                  </a:lnTo>
                  <a:lnTo>
                    <a:pt x="122707" y="69930"/>
                  </a:lnTo>
                  <a:lnTo>
                    <a:pt x="154109" y="69141"/>
                  </a:lnTo>
                  <a:lnTo>
                    <a:pt x="171589" y="63082"/>
                  </a:lnTo>
                  <a:lnTo>
                    <a:pt x="212978" y="61256"/>
                  </a:lnTo>
                  <a:lnTo>
                    <a:pt x="224942" y="61233"/>
                  </a:lnTo>
                  <a:lnTo>
                    <a:pt x="231605" y="58582"/>
                  </a:lnTo>
                  <a:lnTo>
                    <a:pt x="237873" y="55089"/>
                  </a:lnTo>
                  <a:lnTo>
                    <a:pt x="249981" y="52846"/>
                  </a:lnTo>
                  <a:lnTo>
                    <a:pt x="271234" y="52304"/>
                  </a:lnTo>
                  <a:lnTo>
                    <a:pt x="273096" y="51308"/>
                  </a:lnTo>
                  <a:lnTo>
                    <a:pt x="274337" y="49652"/>
                  </a:lnTo>
                  <a:lnTo>
                    <a:pt x="275165" y="47557"/>
                  </a:lnTo>
                  <a:lnTo>
                    <a:pt x="276709" y="46159"/>
                  </a:lnTo>
                  <a:lnTo>
                    <a:pt x="284364" y="43732"/>
                  </a:lnTo>
                  <a:lnTo>
                    <a:pt x="285133" y="40882"/>
                  </a:lnTo>
                  <a:lnTo>
                    <a:pt x="285740" y="26858"/>
                  </a:lnTo>
                  <a:lnTo>
                    <a:pt x="273321" y="13195"/>
                  </a:lnTo>
                  <a:lnTo>
                    <a:pt x="267658" y="10112"/>
                  </a:lnTo>
                  <a:lnTo>
                    <a:pt x="252977" y="6978"/>
                  </a:lnTo>
                  <a:lnTo>
                    <a:pt x="241094" y="642"/>
                  </a:lnTo>
                  <a:lnTo>
                    <a:pt x="238121" y="0"/>
                  </a:lnTo>
                  <a:lnTo>
                    <a:pt x="235146" y="564"/>
                  </a:lnTo>
                  <a:lnTo>
                    <a:pt x="223242" y="5953"/>
                  </a:lnTo>
                  <a:lnTo>
                    <a:pt x="216076" y="7311"/>
                  </a:lnTo>
                  <a:lnTo>
                    <a:pt x="206778" y="15304"/>
                  </a:lnTo>
                  <a:lnTo>
                    <a:pt x="205393" y="55197"/>
                  </a:lnTo>
                  <a:lnTo>
                    <a:pt x="208034" y="61191"/>
                  </a:lnTo>
                  <a:lnTo>
                    <a:pt x="210127" y="64179"/>
                  </a:lnTo>
                  <a:lnTo>
                    <a:pt x="237401" y="84043"/>
                  </a:lnTo>
                  <a:lnTo>
                    <a:pt x="278903" y="98968"/>
                  </a:lnTo>
                  <a:lnTo>
                    <a:pt x="289652" y="102803"/>
                  </a:lnTo>
                  <a:lnTo>
                    <a:pt x="318613" y="105467"/>
                  </a:lnTo>
                  <a:lnTo>
                    <a:pt x="360171" y="96754"/>
                  </a:lnTo>
                  <a:lnTo>
                    <a:pt x="386624" y="84741"/>
                  </a:lnTo>
                  <a:lnTo>
                    <a:pt x="410766" y="701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3" name="SMARTInkShape-237"/>
            <p:cNvSpPr/>
            <p:nvPr/>
          </p:nvSpPr>
          <p:spPr>
            <a:xfrm>
              <a:off x="4706640" y="3562920"/>
              <a:ext cx="80280" cy="266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80368" h="266495">
                  <a:moveTo>
                    <a:pt x="0" y="0"/>
                  </a:moveTo>
                  <a:lnTo>
                    <a:pt x="0" y="0"/>
                  </a:lnTo>
                  <a:lnTo>
                    <a:pt x="0" y="17169"/>
                  </a:lnTo>
                  <a:lnTo>
                    <a:pt x="2645" y="25160"/>
                  </a:lnTo>
                  <a:lnTo>
                    <a:pt x="6136" y="32018"/>
                  </a:lnTo>
                  <a:lnTo>
                    <a:pt x="18595" y="72209"/>
                  </a:lnTo>
                  <a:lnTo>
                    <a:pt x="23147" y="83687"/>
                  </a:lnTo>
                  <a:lnTo>
                    <a:pt x="32606" y="125229"/>
                  </a:lnTo>
                  <a:lnTo>
                    <a:pt x="42575" y="164461"/>
                  </a:lnTo>
                  <a:lnTo>
                    <a:pt x="58618" y="206518"/>
                  </a:lnTo>
                  <a:lnTo>
                    <a:pt x="62348" y="218838"/>
                  </a:lnTo>
                  <a:lnTo>
                    <a:pt x="69348" y="231890"/>
                  </a:lnTo>
                  <a:lnTo>
                    <a:pt x="71501" y="238000"/>
                  </a:lnTo>
                  <a:lnTo>
                    <a:pt x="77299" y="247018"/>
                  </a:lnTo>
                  <a:lnTo>
                    <a:pt x="79963" y="257192"/>
                  </a:lnTo>
                  <a:lnTo>
                    <a:pt x="80332" y="266494"/>
                  </a:lnTo>
                  <a:lnTo>
                    <a:pt x="80367" y="2589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4" name="SMARTInkShape-238"/>
            <p:cNvSpPr/>
            <p:nvPr/>
          </p:nvSpPr>
          <p:spPr>
            <a:xfrm>
              <a:off x="4438440" y="3687840"/>
              <a:ext cx="267840" cy="1335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67892" h="133932">
                  <a:moveTo>
                    <a:pt x="0" y="17858"/>
                  </a:moveTo>
                  <a:lnTo>
                    <a:pt x="0" y="17858"/>
                  </a:lnTo>
                  <a:lnTo>
                    <a:pt x="0" y="25547"/>
                  </a:lnTo>
                  <a:lnTo>
                    <a:pt x="7689" y="34367"/>
                  </a:lnTo>
                  <a:lnTo>
                    <a:pt x="13561" y="52768"/>
                  </a:lnTo>
                  <a:lnTo>
                    <a:pt x="24362" y="70938"/>
                  </a:lnTo>
                  <a:lnTo>
                    <a:pt x="26703" y="77168"/>
                  </a:lnTo>
                  <a:lnTo>
                    <a:pt x="32606" y="87246"/>
                  </a:lnTo>
                  <a:lnTo>
                    <a:pt x="35789" y="101366"/>
                  </a:lnTo>
                  <a:lnTo>
                    <a:pt x="43286" y="113951"/>
                  </a:lnTo>
                  <a:lnTo>
                    <a:pt x="60864" y="132280"/>
                  </a:lnTo>
                  <a:lnTo>
                    <a:pt x="64423" y="133204"/>
                  </a:lnTo>
                  <a:lnTo>
                    <a:pt x="84619" y="133931"/>
                  </a:lnTo>
                  <a:lnTo>
                    <a:pt x="86178" y="132944"/>
                  </a:lnTo>
                  <a:lnTo>
                    <a:pt x="87218" y="131292"/>
                  </a:lnTo>
                  <a:lnTo>
                    <a:pt x="87911" y="129200"/>
                  </a:lnTo>
                  <a:lnTo>
                    <a:pt x="89366" y="127805"/>
                  </a:lnTo>
                  <a:lnTo>
                    <a:pt x="98829" y="122920"/>
                  </a:lnTo>
                  <a:lnTo>
                    <a:pt x="136925" y="86308"/>
                  </a:lnTo>
                  <a:lnTo>
                    <a:pt x="140231" y="80361"/>
                  </a:lnTo>
                  <a:lnTo>
                    <a:pt x="147094" y="63718"/>
                  </a:lnTo>
                  <a:lnTo>
                    <a:pt x="158253" y="45199"/>
                  </a:lnTo>
                  <a:lnTo>
                    <a:pt x="160517" y="26836"/>
                  </a:lnTo>
                  <a:lnTo>
                    <a:pt x="160692" y="14891"/>
                  </a:lnTo>
                  <a:lnTo>
                    <a:pt x="158070" y="8933"/>
                  </a:lnTo>
                  <a:lnTo>
                    <a:pt x="151815" y="13"/>
                  </a:lnTo>
                  <a:lnTo>
                    <a:pt x="144117" y="0"/>
                  </a:lnTo>
                  <a:lnTo>
                    <a:pt x="143703" y="992"/>
                  </a:lnTo>
                  <a:lnTo>
                    <a:pt x="142885" y="29810"/>
                  </a:lnTo>
                  <a:lnTo>
                    <a:pt x="143874" y="31780"/>
                  </a:lnTo>
                  <a:lnTo>
                    <a:pt x="145526" y="33092"/>
                  </a:lnTo>
                  <a:lnTo>
                    <a:pt x="147619" y="33967"/>
                  </a:lnTo>
                  <a:lnTo>
                    <a:pt x="149014" y="35543"/>
                  </a:lnTo>
                  <a:lnTo>
                    <a:pt x="150565" y="39940"/>
                  </a:lnTo>
                  <a:lnTo>
                    <a:pt x="152553" y="55991"/>
                  </a:lnTo>
                  <a:lnTo>
                    <a:pt x="154289" y="58163"/>
                  </a:lnTo>
                  <a:lnTo>
                    <a:pt x="164202" y="66389"/>
                  </a:lnTo>
                  <a:lnTo>
                    <a:pt x="167237" y="71839"/>
                  </a:lnTo>
                  <a:lnTo>
                    <a:pt x="169578" y="77569"/>
                  </a:lnTo>
                  <a:lnTo>
                    <a:pt x="190613" y="101209"/>
                  </a:lnTo>
                  <a:lnTo>
                    <a:pt x="196504" y="104512"/>
                  </a:lnTo>
                  <a:lnTo>
                    <a:pt x="202429" y="106972"/>
                  </a:lnTo>
                  <a:lnTo>
                    <a:pt x="211343" y="112944"/>
                  </a:lnTo>
                  <a:lnTo>
                    <a:pt x="221479" y="115671"/>
                  </a:lnTo>
                  <a:lnTo>
                    <a:pt x="244188" y="116074"/>
                  </a:lnTo>
                  <a:lnTo>
                    <a:pt x="250080" y="113434"/>
                  </a:lnTo>
                  <a:lnTo>
                    <a:pt x="261947" y="103655"/>
                  </a:lnTo>
                  <a:lnTo>
                    <a:pt x="265250" y="97993"/>
                  </a:lnTo>
                  <a:lnTo>
                    <a:pt x="267891" y="8929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5" name="SMARTInkShape-239"/>
            <p:cNvSpPr/>
            <p:nvPr/>
          </p:nvSpPr>
          <p:spPr>
            <a:xfrm>
              <a:off x="4090320" y="3634200"/>
              <a:ext cx="160560" cy="1692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60736" h="169651">
                  <a:moveTo>
                    <a:pt x="0" y="98213"/>
                  </a:moveTo>
                  <a:lnTo>
                    <a:pt x="0" y="98213"/>
                  </a:lnTo>
                  <a:lnTo>
                    <a:pt x="15377" y="90525"/>
                  </a:lnTo>
                  <a:lnTo>
                    <a:pt x="51677" y="88292"/>
                  </a:lnTo>
                  <a:lnTo>
                    <a:pt x="59850" y="83147"/>
                  </a:lnTo>
                  <a:lnTo>
                    <a:pt x="69716" y="80722"/>
                  </a:lnTo>
                  <a:lnTo>
                    <a:pt x="75668" y="75722"/>
                  </a:lnTo>
                  <a:lnTo>
                    <a:pt x="78279" y="70689"/>
                  </a:lnTo>
                  <a:lnTo>
                    <a:pt x="78976" y="67957"/>
                  </a:lnTo>
                  <a:lnTo>
                    <a:pt x="80432" y="66136"/>
                  </a:lnTo>
                  <a:lnTo>
                    <a:pt x="84696" y="64113"/>
                  </a:lnTo>
                  <a:lnTo>
                    <a:pt x="86230" y="62581"/>
                  </a:lnTo>
                  <a:lnTo>
                    <a:pt x="87934" y="58234"/>
                  </a:lnTo>
                  <a:lnTo>
                    <a:pt x="89295" y="22555"/>
                  </a:lnTo>
                  <a:lnTo>
                    <a:pt x="86650" y="17293"/>
                  </a:lnTo>
                  <a:lnTo>
                    <a:pt x="83160" y="11647"/>
                  </a:lnTo>
                  <a:lnTo>
                    <a:pt x="80735" y="1718"/>
                  </a:lnTo>
                  <a:lnTo>
                    <a:pt x="79621" y="1141"/>
                  </a:lnTo>
                  <a:lnTo>
                    <a:pt x="59121" y="0"/>
                  </a:lnTo>
                  <a:lnTo>
                    <a:pt x="57274" y="988"/>
                  </a:lnTo>
                  <a:lnTo>
                    <a:pt x="56042" y="2639"/>
                  </a:lnTo>
                  <a:lnTo>
                    <a:pt x="53681" y="7119"/>
                  </a:lnTo>
                  <a:lnTo>
                    <a:pt x="39436" y="23902"/>
                  </a:lnTo>
                  <a:lnTo>
                    <a:pt x="33808" y="35726"/>
                  </a:lnTo>
                  <a:lnTo>
                    <a:pt x="31468" y="38696"/>
                  </a:lnTo>
                  <a:lnTo>
                    <a:pt x="28869" y="47287"/>
                  </a:lnTo>
                  <a:lnTo>
                    <a:pt x="26722" y="56728"/>
                  </a:lnTo>
                  <a:lnTo>
                    <a:pt x="19904" y="70873"/>
                  </a:lnTo>
                  <a:lnTo>
                    <a:pt x="17979" y="96968"/>
                  </a:lnTo>
                  <a:lnTo>
                    <a:pt x="20558" y="105267"/>
                  </a:lnTo>
                  <a:lnTo>
                    <a:pt x="24020" y="112262"/>
                  </a:lnTo>
                  <a:lnTo>
                    <a:pt x="26961" y="121779"/>
                  </a:lnTo>
                  <a:lnTo>
                    <a:pt x="32684" y="130882"/>
                  </a:lnTo>
                  <a:lnTo>
                    <a:pt x="34370" y="136876"/>
                  </a:lnTo>
                  <a:lnTo>
                    <a:pt x="43058" y="142847"/>
                  </a:lnTo>
                  <a:lnTo>
                    <a:pt x="73799" y="158956"/>
                  </a:lnTo>
                  <a:lnTo>
                    <a:pt x="92336" y="161365"/>
                  </a:lnTo>
                  <a:lnTo>
                    <a:pt x="104308" y="166755"/>
                  </a:lnTo>
                  <a:lnTo>
                    <a:pt x="145343" y="169600"/>
                  </a:lnTo>
                  <a:lnTo>
                    <a:pt x="160735" y="1696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SMARTInkShape-240"/>
            <p:cNvSpPr/>
            <p:nvPr/>
          </p:nvSpPr>
          <p:spPr>
            <a:xfrm>
              <a:off x="3768840" y="3643200"/>
              <a:ext cx="124920" cy="1605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24963" h="160725">
                  <a:moveTo>
                    <a:pt x="44595" y="80367"/>
                  </a:moveTo>
                  <a:lnTo>
                    <a:pt x="44595" y="80367"/>
                  </a:lnTo>
                  <a:lnTo>
                    <a:pt x="44595" y="102490"/>
                  </a:lnTo>
                  <a:lnTo>
                    <a:pt x="41950" y="107728"/>
                  </a:lnTo>
                  <a:lnTo>
                    <a:pt x="38459" y="113364"/>
                  </a:lnTo>
                  <a:lnTo>
                    <a:pt x="36034" y="123286"/>
                  </a:lnTo>
                  <a:lnTo>
                    <a:pt x="35665" y="160331"/>
                  </a:lnTo>
                  <a:lnTo>
                    <a:pt x="27104" y="160724"/>
                  </a:lnTo>
                  <a:lnTo>
                    <a:pt x="13444" y="147432"/>
                  </a:lnTo>
                  <a:lnTo>
                    <a:pt x="10907" y="142255"/>
                  </a:lnTo>
                  <a:lnTo>
                    <a:pt x="10230" y="139485"/>
                  </a:lnTo>
                  <a:lnTo>
                    <a:pt x="3007" y="126919"/>
                  </a:lnTo>
                  <a:lnTo>
                    <a:pt x="0" y="86813"/>
                  </a:lnTo>
                  <a:lnTo>
                    <a:pt x="962" y="77279"/>
                  </a:lnTo>
                  <a:lnTo>
                    <a:pt x="19737" y="36320"/>
                  </a:lnTo>
                  <a:lnTo>
                    <a:pt x="30094" y="23932"/>
                  </a:lnTo>
                  <a:lnTo>
                    <a:pt x="35835" y="20558"/>
                  </a:lnTo>
                  <a:lnTo>
                    <a:pt x="41694" y="18067"/>
                  </a:lnTo>
                  <a:lnTo>
                    <a:pt x="50571" y="12078"/>
                  </a:lnTo>
                  <a:lnTo>
                    <a:pt x="59485" y="8871"/>
                  </a:lnTo>
                  <a:lnTo>
                    <a:pt x="69401" y="3069"/>
                  </a:lnTo>
                  <a:lnTo>
                    <a:pt x="114008" y="54"/>
                  </a:lnTo>
                  <a:lnTo>
                    <a:pt x="1249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7" name="SMARTInkShape-241"/>
          <p:cNvSpPr/>
          <p:nvPr/>
        </p:nvSpPr>
        <p:spPr>
          <a:xfrm>
            <a:off x="4224240" y="3902040"/>
            <a:ext cx="954360" cy="509760"/>
          </a:xfrm>
          <a:custGeom>
            <a:avLst/>
            <a:gdLst>
              <a:gd name="textAreaLeft" fmla="*/ 0 w 954360"/>
              <a:gd name="textAreaRight" fmla="*/ 954720 w 9543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955475" h="508988">
                <a:moveTo>
                  <a:pt x="0" y="419690"/>
                </a:moveTo>
                <a:lnTo>
                  <a:pt x="0" y="419690"/>
                </a:lnTo>
                <a:lnTo>
                  <a:pt x="4740" y="419690"/>
                </a:lnTo>
                <a:lnTo>
                  <a:pt x="9713" y="422336"/>
                </a:lnTo>
                <a:lnTo>
                  <a:pt x="15231" y="425827"/>
                </a:lnTo>
                <a:lnTo>
                  <a:pt x="25071" y="428253"/>
                </a:lnTo>
                <a:lnTo>
                  <a:pt x="34326" y="428588"/>
                </a:lnTo>
                <a:lnTo>
                  <a:pt x="43285" y="436306"/>
                </a:lnTo>
                <a:lnTo>
                  <a:pt x="48985" y="437182"/>
                </a:lnTo>
                <a:lnTo>
                  <a:pt x="60864" y="437518"/>
                </a:lnTo>
                <a:lnTo>
                  <a:pt x="69312" y="443680"/>
                </a:lnTo>
                <a:lnTo>
                  <a:pt x="77643" y="445650"/>
                </a:lnTo>
                <a:lnTo>
                  <a:pt x="101213" y="446447"/>
                </a:lnTo>
                <a:lnTo>
                  <a:pt x="107161" y="449111"/>
                </a:lnTo>
                <a:lnTo>
                  <a:pt x="113111" y="452610"/>
                </a:lnTo>
                <a:lnTo>
                  <a:pt x="125015" y="454856"/>
                </a:lnTo>
                <a:lnTo>
                  <a:pt x="136922" y="455300"/>
                </a:lnTo>
                <a:lnTo>
                  <a:pt x="142875" y="458007"/>
                </a:lnTo>
                <a:lnTo>
                  <a:pt x="145851" y="460117"/>
                </a:lnTo>
                <a:lnTo>
                  <a:pt x="189764" y="471917"/>
                </a:lnTo>
                <a:lnTo>
                  <a:pt x="208398" y="473994"/>
                </a:lnTo>
                <a:lnTo>
                  <a:pt x="225831" y="480922"/>
                </a:lnTo>
                <a:lnTo>
                  <a:pt x="256126" y="483116"/>
                </a:lnTo>
                <a:lnTo>
                  <a:pt x="278443" y="489877"/>
                </a:lnTo>
                <a:lnTo>
                  <a:pt x="319852" y="491095"/>
                </a:lnTo>
                <a:lnTo>
                  <a:pt x="328357" y="493759"/>
                </a:lnTo>
                <a:lnTo>
                  <a:pt x="336437" y="497258"/>
                </a:lnTo>
                <a:lnTo>
                  <a:pt x="375226" y="502540"/>
                </a:lnTo>
                <a:lnTo>
                  <a:pt x="394154" y="507714"/>
                </a:lnTo>
                <a:lnTo>
                  <a:pt x="437719" y="508938"/>
                </a:lnTo>
                <a:lnTo>
                  <a:pt x="477084" y="508986"/>
                </a:lnTo>
                <a:lnTo>
                  <a:pt x="517971" y="508987"/>
                </a:lnTo>
                <a:lnTo>
                  <a:pt x="560713" y="508987"/>
                </a:lnTo>
                <a:lnTo>
                  <a:pt x="604134" y="508987"/>
                </a:lnTo>
                <a:lnTo>
                  <a:pt x="628033" y="507995"/>
                </a:lnTo>
                <a:lnTo>
                  <a:pt x="669726" y="497963"/>
                </a:lnTo>
                <a:lnTo>
                  <a:pt x="687586" y="493154"/>
                </a:lnTo>
                <a:lnTo>
                  <a:pt x="705446" y="489082"/>
                </a:lnTo>
                <a:lnTo>
                  <a:pt x="723305" y="484238"/>
                </a:lnTo>
                <a:lnTo>
                  <a:pt x="734219" y="482113"/>
                </a:lnTo>
                <a:lnTo>
                  <a:pt x="746933" y="476330"/>
                </a:lnTo>
                <a:lnTo>
                  <a:pt x="780105" y="466409"/>
                </a:lnTo>
                <a:lnTo>
                  <a:pt x="824349" y="441495"/>
                </a:lnTo>
                <a:lnTo>
                  <a:pt x="851206" y="430767"/>
                </a:lnTo>
                <a:lnTo>
                  <a:pt x="895542" y="398845"/>
                </a:lnTo>
                <a:lnTo>
                  <a:pt x="933647" y="360160"/>
                </a:lnTo>
                <a:lnTo>
                  <a:pt x="939478" y="348253"/>
                </a:lnTo>
                <a:lnTo>
                  <a:pt x="943405" y="342300"/>
                </a:lnTo>
                <a:lnTo>
                  <a:pt x="946608" y="333370"/>
                </a:lnTo>
                <a:lnTo>
                  <a:pt x="952408" y="324441"/>
                </a:lnTo>
                <a:lnTo>
                  <a:pt x="954567" y="315511"/>
                </a:lnTo>
                <a:lnTo>
                  <a:pt x="955469" y="271108"/>
                </a:lnTo>
                <a:lnTo>
                  <a:pt x="955474" y="265018"/>
                </a:lnTo>
                <a:lnTo>
                  <a:pt x="952829" y="259005"/>
                </a:lnTo>
                <a:lnTo>
                  <a:pt x="950735" y="256012"/>
                </a:lnTo>
                <a:lnTo>
                  <a:pt x="944452" y="234033"/>
                </a:lnTo>
                <a:lnTo>
                  <a:pt x="940655" y="227043"/>
                </a:lnTo>
                <a:lnTo>
                  <a:pt x="930754" y="202290"/>
                </a:lnTo>
                <a:lnTo>
                  <a:pt x="907816" y="175724"/>
                </a:lnTo>
                <a:lnTo>
                  <a:pt x="890793" y="163728"/>
                </a:lnTo>
                <a:lnTo>
                  <a:pt x="884056" y="154783"/>
                </a:lnTo>
                <a:lnTo>
                  <a:pt x="841381" y="125011"/>
                </a:lnTo>
                <a:lnTo>
                  <a:pt x="797208" y="98222"/>
                </a:lnTo>
                <a:lnTo>
                  <a:pt x="755795" y="74410"/>
                </a:lnTo>
                <a:lnTo>
                  <a:pt x="714360" y="53573"/>
                </a:lnTo>
                <a:lnTo>
                  <a:pt x="684608" y="39683"/>
                </a:lnTo>
                <a:lnTo>
                  <a:pt x="642937" y="28878"/>
                </a:lnTo>
                <a:lnTo>
                  <a:pt x="625078" y="24759"/>
                </a:lnTo>
                <a:lnTo>
                  <a:pt x="607219" y="19901"/>
                </a:lnTo>
                <a:lnTo>
                  <a:pt x="589359" y="15815"/>
                </a:lnTo>
                <a:lnTo>
                  <a:pt x="571500" y="10966"/>
                </a:lnTo>
                <a:lnTo>
                  <a:pt x="528714" y="6458"/>
                </a:lnTo>
                <a:lnTo>
                  <a:pt x="503407" y="1272"/>
                </a:lnTo>
                <a:lnTo>
                  <a:pt x="461389" y="70"/>
                </a:lnTo>
                <a:lnTo>
                  <a:pt x="417051" y="0"/>
                </a:lnTo>
                <a:lnTo>
                  <a:pt x="381828" y="988"/>
                </a:lnTo>
                <a:lnTo>
                  <a:pt x="339376" y="8373"/>
                </a:lnTo>
                <a:lnTo>
                  <a:pt x="309569" y="9844"/>
                </a:lnTo>
                <a:lnTo>
                  <a:pt x="270536" y="19945"/>
                </a:lnTo>
                <a:lnTo>
                  <a:pt x="246227" y="32020"/>
                </a:lnTo>
                <a:lnTo>
                  <a:pt x="229942" y="35612"/>
                </a:lnTo>
                <a:lnTo>
                  <a:pt x="190122" y="56662"/>
                </a:lnTo>
                <a:lnTo>
                  <a:pt x="148741" y="86318"/>
                </a:lnTo>
                <a:lnTo>
                  <a:pt x="122151" y="110128"/>
                </a:lnTo>
                <a:lnTo>
                  <a:pt x="92275" y="154715"/>
                </a:lnTo>
                <a:lnTo>
                  <a:pt x="84337" y="165783"/>
                </a:lnTo>
                <a:lnTo>
                  <a:pt x="70886" y="194534"/>
                </a:lnTo>
                <a:lnTo>
                  <a:pt x="66231" y="201551"/>
                </a:lnTo>
                <a:lnTo>
                  <a:pt x="54964" y="233869"/>
                </a:lnTo>
                <a:lnTo>
                  <a:pt x="51115" y="252504"/>
                </a:lnTo>
                <a:lnTo>
                  <a:pt x="45926" y="269588"/>
                </a:lnTo>
                <a:lnTo>
                  <a:pt x="44664" y="311968"/>
                </a:lnTo>
                <a:lnTo>
                  <a:pt x="44649" y="333337"/>
                </a:lnTo>
                <a:lnTo>
                  <a:pt x="47294" y="339308"/>
                </a:lnTo>
                <a:lnTo>
                  <a:pt x="50785" y="345269"/>
                </a:lnTo>
                <a:lnTo>
                  <a:pt x="53027" y="357181"/>
                </a:lnTo>
                <a:lnTo>
                  <a:pt x="53469" y="369089"/>
                </a:lnTo>
                <a:lnTo>
                  <a:pt x="54497" y="371073"/>
                </a:lnTo>
                <a:lnTo>
                  <a:pt x="56175" y="372396"/>
                </a:lnTo>
                <a:lnTo>
                  <a:pt x="58287" y="373278"/>
                </a:lnTo>
                <a:lnTo>
                  <a:pt x="59694" y="374859"/>
                </a:lnTo>
                <a:lnTo>
                  <a:pt x="61257" y="379260"/>
                </a:lnTo>
                <a:lnTo>
                  <a:pt x="62398" y="391246"/>
                </a:lnTo>
                <a:lnTo>
                  <a:pt x="70187" y="400445"/>
                </a:lnTo>
                <a:lnTo>
                  <a:pt x="71328" y="409398"/>
                </a:lnTo>
                <a:lnTo>
                  <a:pt x="72356" y="409852"/>
                </a:lnTo>
                <a:lnTo>
                  <a:pt x="76145" y="410357"/>
                </a:lnTo>
                <a:lnTo>
                  <a:pt x="77553" y="411484"/>
                </a:lnTo>
                <a:lnTo>
                  <a:pt x="80335" y="419579"/>
                </a:lnTo>
                <a:lnTo>
                  <a:pt x="98216" y="437540"/>
                </a:lnTo>
                <a:lnTo>
                  <a:pt x="107156" y="437550"/>
                </a:lnTo>
                <a:lnTo>
                  <a:pt x="107156" y="44647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SMARTInkShape-242"/>
          <p:cNvSpPr/>
          <p:nvPr/>
        </p:nvSpPr>
        <p:spPr>
          <a:xfrm>
            <a:off x="4249800" y="4795920"/>
            <a:ext cx="2608200" cy="52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607469" h="52337">
                <a:moveTo>
                  <a:pt x="0" y="34477"/>
                </a:moveTo>
                <a:lnTo>
                  <a:pt x="0" y="34477"/>
                </a:lnTo>
                <a:lnTo>
                  <a:pt x="42524" y="34477"/>
                </a:lnTo>
                <a:lnTo>
                  <a:pt x="86322" y="34477"/>
                </a:lnTo>
                <a:lnTo>
                  <a:pt x="117821" y="34477"/>
                </a:lnTo>
                <a:lnTo>
                  <a:pt x="124464" y="31831"/>
                </a:lnTo>
                <a:lnTo>
                  <a:pt x="130723" y="28340"/>
                </a:lnTo>
                <a:lnTo>
                  <a:pt x="136812" y="26789"/>
                </a:lnTo>
                <a:lnTo>
                  <a:pt x="139826" y="27367"/>
                </a:lnTo>
                <a:lnTo>
                  <a:pt x="151790" y="32778"/>
                </a:lnTo>
                <a:lnTo>
                  <a:pt x="163708" y="34142"/>
                </a:lnTo>
                <a:lnTo>
                  <a:pt x="208250" y="25653"/>
                </a:lnTo>
                <a:lnTo>
                  <a:pt x="252898" y="25548"/>
                </a:lnTo>
                <a:lnTo>
                  <a:pt x="296772" y="25547"/>
                </a:lnTo>
                <a:lnTo>
                  <a:pt x="337997" y="25547"/>
                </a:lnTo>
                <a:lnTo>
                  <a:pt x="381394" y="25547"/>
                </a:lnTo>
                <a:lnTo>
                  <a:pt x="425783" y="24555"/>
                </a:lnTo>
                <a:lnTo>
                  <a:pt x="448107" y="17859"/>
                </a:lnTo>
                <a:lnTo>
                  <a:pt x="489516" y="16650"/>
                </a:lnTo>
                <a:lnTo>
                  <a:pt x="498021" y="19277"/>
                </a:lnTo>
                <a:lnTo>
                  <a:pt x="501679" y="21367"/>
                </a:lnTo>
                <a:lnTo>
                  <a:pt x="506101" y="21769"/>
                </a:lnTo>
                <a:lnTo>
                  <a:pt x="528468" y="17492"/>
                </a:lnTo>
                <a:lnTo>
                  <a:pt x="535177" y="19652"/>
                </a:lnTo>
                <a:lnTo>
                  <a:pt x="538355" y="21617"/>
                </a:lnTo>
                <a:lnTo>
                  <a:pt x="552309" y="24383"/>
                </a:lnTo>
                <a:lnTo>
                  <a:pt x="595984" y="25527"/>
                </a:lnTo>
                <a:lnTo>
                  <a:pt x="636914" y="25546"/>
                </a:lnTo>
                <a:lnTo>
                  <a:pt x="680697" y="25547"/>
                </a:lnTo>
                <a:lnTo>
                  <a:pt x="724920" y="25547"/>
                </a:lnTo>
                <a:lnTo>
                  <a:pt x="734808" y="25547"/>
                </a:lnTo>
                <a:lnTo>
                  <a:pt x="779360" y="16781"/>
                </a:lnTo>
                <a:lnTo>
                  <a:pt x="820206" y="16620"/>
                </a:lnTo>
                <a:lnTo>
                  <a:pt x="863293" y="16617"/>
                </a:lnTo>
                <a:lnTo>
                  <a:pt x="904790" y="15625"/>
                </a:lnTo>
                <a:lnTo>
                  <a:pt x="921799" y="9550"/>
                </a:lnTo>
                <a:lnTo>
                  <a:pt x="966022" y="7720"/>
                </a:lnTo>
                <a:lnTo>
                  <a:pt x="1007438" y="7688"/>
                </a:lnTo>
                <a:lnTo>
                  <a:pt x="1050812" y="7687"/>
                </a:lnTo>
                <a:lnTo>
                  <a:pt x="1092313" y="7687"/>
                </a:lnTo>
                <a:lnTo>
                  <a:pt x="1135771" y="7687"/>
                </a:lnTo>
                <a:lnTo>
                  <a:pt x="1177105" y="7687"/>
                </a:lnTo>
                <a:lnTo>
                  <a:pt x="1220476" y="7687"/>
                </a:lnTo>
                <a:lnTo>
                  <a:pt x="1252730" y="7687"/>
                </a:lnTo>
                <a:lnTo>
                  <a:pt x="1293214" y="16250"/>
                </a:lnTo>
                <a:lnTo>
                  <a:pt x="1337539" y="16613"/>
                </a:lnTo>
                <a:lnTo>
                  <a:pt x="1377215" y="16617"/>
                </a:lnTo>
                <a:lnTo>
                  <a:pt x="1420425" y="16617"/>
                </a:lnTo>
                <a:lnTo>
                  <a:pt x="1462390" y="16617"/>
                </a:lnTo>
                <a:lnTo>
                  <a:pt x="1485215" y="15625"/>
                </a:lnTo>
                <a:lnTo>
                  <a:pt x="1492872" y="11877"/>
                </a:lnTo>
                <a:lnTo>
                  <a:pt x="1497295" y="11473"/>
                </a:lnTo>
                <a:lnTo>
                  <a:pt x="1513001" y="13660"/>
                </a:lnTo>
                <a:lnTo>
                  <a:pt x="1541979" y="8670"/>
                </a:lnTo>
                <a:lnTo>
                  <a:pt x="1551173" y="10770"/>
                </a:lnTo>
                <a:lnTo>
                  <a:pt x="1561927" y="14885"/>
                </a:lnTo>
                <a:lnTo>
                  <a:pt x="1565159" y="15463"/>
                </a:lnTo>
                <a:lnTo>
                  <a:pt x="1608697" y="8025"/>
                </a:lnTo>
                <a:lnTo>
                  <a:pt x="1650370" y="7696"/>
                </a:lnTo>
                <a:lnTo>
                  <a:pt x="1692757" y="7687"/>
                </a:lnTo>
                <a:lnTo>
                  <a:pt x="1734668" y="7687"/>
                </a:lnTo>
                <a:lnTo>
                  <a:pt x="1779039" y="7687"/>
                </a:lnTo>
                <a:lnTo>
                  <a:pt x="1822261" y="7687"/>
                </a:lnTo>
                <a:lnTo>
                  <a:pt x="1832839" y="6696"/>
                </a:lnTo>
                <a:lnTo>
                  <a:pt x="1850935" y="0"/>
                </a:lnTo>
                <a:lnTo>
                  <a:pt x="1891500" y="7352"/>
                </a:lnTo>
                <a:lnTo>
                  <a:pt x="1936042" y="7679"/>
                </a:lnTo>
                <a:lnTo>
                  <a:pt x="1979498" y="7687"/>
                </a:lnTo>
                <a:lnTo>
                  <a:pt x="2021001" y="7687"/>
                </a:lnTo>
                <a:lnTo>
                  <a:pt x="2064799" y="7687"/>
                </a:lnTo>
                <a:lnTo>
                  <a:pt x="2109022" y="7687"/>
                </a:lnTo>
                <a:lnTo>
                  <a:pt x="2115732" y="10333"/>
                </a:lnTo>
                <a:lnTo>
                  <a:pt x="2118909" y="12428"/>
                </a:lnTo>
                <a:lnTo>
                  <a:pt x="2132863" y="15376"/>
                </a:lnTo>
                <a:lnTo>
                  <a:pt x="2176932" y="16602"/>
                </a:lnTo>
                <a:lnTo>
                  <a:pt x="2220659" y="16617"/>
                </a:lnTo>
                <a:lnTo>
                  <a:pt x="2261678" y="16617"/>
                </a:lnTo>
                <a:lnTo>
                  <a:pt x="2271222" y="17609"/>
                </a:lnTo>
                <a:lnTo>
                  <a:pt x="2288598" y="24305"/>
                </a:lnTo>
                <a:lnTo>
                  <a:pt x="2330480" y="25532"/>
                </a:lnTo>
                <a:lnTo>
                  <a:pt x="2374744" y="25547"/>
                </a:lnTo>
                <a:lnTo>
                  <a:pt x="2387094" y="25547"/>
                </a:lnTo>
                <a:lnTo>
                  <a:pt x="2393108" y="28192"/>
                </a:lnTo>
                <a:lnTo>
                  <a:pt x="2399087" y="31683"/>
                </a:lnTo>
                <a:lnTo>
                  <a:pt x="2411011" y="33925"/>
                </a:lnTo>
                <a:lnTo>
                  <a:pt x="2455501" y="34472"/>
                </a:lnTo>
                <a:lnTo>
                  <a:pt x="2498449" y="34477"/>
                </a:lnTo>
                <a:lnTo>
                  <a:pt x="2541978" y="34477"/>
                </a:lnTo>
                <a:lnTo>
                  <a:pt x="2584898" y="34477"/>
                </a:lnTo>
                <a:lnTo>
                  <a:pt x="2607468" y="34477"/>
                </a:lnTo>
                <a:lnTo>
                  <a:pt x="2602729" y="34477"/>
                </a:lnTo>
                <a:lnTo>
                  <a:pt x="2601332" y="35469"/>
                </a:lnTo>
                <a:lnTo>
                  <a:pt x="2600401" y="37122"/>
                </a:lnTo>
                <a:lnTo>
                  <a:pt x="2599780" y="39217"/>
                </a:lnTo>
                <a:lnTo>
                  <a:pt x="2593799" y="44190"/>
                </a:lnTo>
                <a:lnTo>
                  <a:pt x="2580679" y="5233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SMARTInkShape-243"/>
          <p:cNvSpPr/>
          <p:nvPr/>
        </p:nvSpPr>
        <p:spPr>
          <a:xfrm>
            <a:off x="5170320" y="4352760"/>
            <a:ext cx="3035520" cy="39960"/>
          </a:xfrm>
          <a:custGeom>
            <a:avLst/>
            <a:gdLst>
              <a:gd name="textAreaLeft" fmla="*/ 0 w 3035520"/>
              <a:gd name="textAreaRight" fmla="*/ 3035880 w 3035520"/>
              <a:gd name="textAreaTop" fmla="*/ 0 h 39960"/>
              <a:gd name="textAreaBottom" fmla="*/ 39960 h 39960"/>
            </a:gdLst>
            <a:ahLst/>
            <a:rect l="textAreaLeft" t="textAreaTop" r="textAreaRight" b="textAreaBottom"/>
            <a:pathLst>
              <a:path w="3036094" h="40858">
                <a:moveTo>
                  <a:pt x="0" y="14075"/>
                </a:moveTo>
                <a:lnTo>
                  <a:pt x="0" y="14075"/>
                </a:lnTo>
                <a:lnTo>
                  <a:pt x="4740" y="9334"/>
                </a:lnTo>
                <a:lnTo>
                  <a:pt x="9713" y="7007"/>
                </a:lnTo>
                <a:lnTo>
                  <a:pt x="42739" y="5152"/>
                </a:lnTo>
                <a:lnTo>
                  <a:pt x="68632" y="6138"/>
                </a:lnTo>
                <a:lnTo>
                  <a:pt x="95664" y="12834"/>
                </a:lnTo>
                <a:lnTo>
                  <a:pt x="136946" y="14002"/>
                </a:lnTo>
                <a:lnTo>
                  <a:pt x="154788" y="15046"/>
                </a:lnTo>
                <a:lnTo>
                  <a:pt x="191492" y="22175"/>
                </a:lnTo>
                <a:lnTo>
                  <a:pt x="235312" y="22932"/>
                </a:lnTo>
                <a:lnTo>
                  <a:pt x="277234" y="22994"/>
                </a:lnTo>
                <a:lnTo>
                  <a:pt x="314455" y="23003"/>
                </a:lnTo>
                <a:lnTo>
                  <a:pt x="357440" y="23004"/>
                </a:lnTo>
                <a:lnTo>
                  <a:pt x="401870" y="23004"/>
                </a:lnTo>
                <a:lnTo>
                  <a:pt x="446489" y="25650"/>
                </a:lnTo>
                <a:lnTo>
                  <a:pt x="486944" y="30693"/>
                </a:lnTo>
                <a:lnTo>
                  <a:pt x="526024" y="32681"/>
                </a:lnTo>
                <a:lnTo>
                  <a:pt x="565054" y="38954"/>
                </a:lnTo>
                <a:lnTo>
                  <a:pt x="605945" y="40486"/>
                </a:lnTo>
                <a:lnTo>
                  <a:pt x="649815" y="40789"/>
                </a:lnTo>
                <a:lnTo>
                  <a:pt x="684883" y="40841"/>
                </a:lnTo>
                <a:lnTo>
                  <a:pt x="719417" y="40857"/>
                </a:lnTo>
                <a:lnTo>
                  <a:pt x="760901" y="38217"/>
                </a:lnTo>
                <a:lnTo>
                  <a:pt x="795298" y="33795"/>
                </a:lnTo>
                <a:lnTo>
                  <a:pt x="837737" y="32302"/>
                </a:lnTo>
                <a:lnTo>
                  <a:pt x="881911" y="31015"/>
                </a:lnTo>
                <a:lnTo>
                  <a:pt x="917032" y="25819"/>
                </a:lnTo>
                <a:lnTo>
                  <a:pt x="952574" y="23839"/>
                </a:lnTo>
                <a:lnTo>
                  <a:pt x="988241" y="23252"/>
                </a:lnTo>
                <a:lnTo>
                  <a:pt x="1023944" y="23078"/>
                </a:lnTo>
                <a:lnTo>
                  <a:pt x="1059658" y="22034"/>
                </a:lnTo>
                <a:lnTo>
                  <a:pt x="1095375" y="17866"/>
                </a:lnTo>
                <a:lnTo>
                  <a:pt x="1132086" y="21041"/>
                </a:lnTo>
                <a:lnTo>
                  <a:pt x="1172949" y="22423"/>
                </a:lnTo>
                <a:lnTo>
                  <a:pt x="1210633" y="22832"/>
                </a:lnTo>
                <a:lnTo>
                  <a:pt x="1246934" y="22954"/>
                </a:lnTo>
                <a:lnTo>
                  <a:pt x="1282826" y="22990"/>
                </a:lnTo>
                <a:lnTo>
                  <a:pt x="1318595" y="23000"/>
                </a:lnTo>
                <a:lnTo>
                  <a:pt x="1355321" y="23003"/>
                </a:lnTo>
                <a:lnTo>
                  <a:pt x="1396189" y="23004"/>
                </a:lnTo>
                <a:lnTo>
                  <a:pt x="1433875" y="22013"/>
                </a:lnTo>
                <a:lnTo>
                  <a:pt x="1470176" y="16868"/>
                </a:lnTo>
                <a:lnTo>
                  <a:pt x="1506068" y="14903"/>
                </a:lnTo>
                <a:lnTo>
                  <a:pt x="1541837" y="14321"/>
                </a:lnTo>
                <a:lnTo>
                  <a:pt x="1578563" y="14148"/>
                </a:lnTo>
                <a:lnTo>
                  <a:pt x="1619431" y="14097"/>
                </a:lnTo>
                <a:lnTo>
                  <a:pt x="1658109" y="14081"/>
                </a:lnTo>
                <a:lnTo>
                  <a:pt x="1699555" y="14077"/>
                </a:lnTo>
                <a:lnTo>
                  <a:pt x="1737412" y="14076"/>
                </a:lnTo>
                <a:lnTo>
                  <a:pt x="1773764" y="13083"/>
                </a:lnTo>
                <a:lnTo>
                  <a:pt x="1809670" y="7938"/>
                </a:lnTo>
                <a:lnTo>
                  <a:pt x="1846437" y="5973"/>
                </a:lnTo>
                <a:lnTo>
                  <a:pt x="1887317" y="5391"/>
                </a:lnTo>
                <a:lnTo>
                  <a:pt x="1925998" y="5218"/>
                </a:lnTo>
                <a:lnTo>
                  <a:pt x="1967446" y="5167"/>
                </a:lnTo>
                <a:lnTo>
                  <a:pt x="2005302" y="5152"/>
                </a:lnTo>
                <a:lnTo>
                  <a:pt x="2041655" y="5147"/>
                </a:lnTo>
                <a:lnTo>
                  <a:pt x="2078553" y="5146"/>
                </a:lnTo>
                <a:lnTo>
                  <a:pt x="2119472" y="5145"/>
                </a:lnTo>
                <a:lnTo>
                  <a:pt x="2158165" y="4153"/>
                </a:lnTo>
                <a:lnTo>
                  <a:pt x="2199615" y="0"/>
                </a:lnTo>
                <a:lnTo>
                  <a:pt x="2237474" y="3180"/>
                </a:lnTo>
                <a:lnTo>
                  <a:pt x="2273826" y="4563"/>
                </a:lnTo>
                <a:lnTo>
                  <a:pt x="2310725" y="4973"/>
                </a:lnTo>
                <a:lnTo>
                  <a:pt x="2351644" y="5095"/>
                </a:lnTo>
                <a:lnTo>
                  <a:pt x="2389344" y="5130"/>
                </a:lnTo>
                <a:lnTo>
                  <a:pt x="2425651" y="5141"/>
                </a:lnTo>
                <a:lnTo>
                  <a:pt x="2461544" y="5144"/>
                </a:lnTo>
                <a:lnTo>
                  <a:pt x="2496322" y="5144"/>
                </a:lnTo>
                <a:lnTo>
                  <a:pt x="2537889" y="5145"/>
                </a:lnTo>
                <a:lnTo>
                  <a:pt x="2572300" y="5145"/>
                </a:lnTo>
                <a:lnTo>
                  <a:pt x="2607632" y="5145"/>
                </a:lnTo>
                <a:lnTo>
                  <a:pt x="2650386" y="5145"/>
                </a:lnTo>
                <a:lnTo>
                  <a:pt x="2693630" y="5145"/>
                </a:lnTo>
                <a:lnTo>
                  <a:pt x="2731865" y="5145"/>
                </a:lnTo>
                <a:lnTo>
                  <a:pt x="2776058" y="5145"/>
                </a:lnTo>
                <a:lnTo>
                  <a:pt x="2805768" y="7791"/>
                </a:lnTo>
                <a:lnTo>
                  <a:pt x="2842675" y="13247"/>
                </a:lnTo>
                <a:lnTo>
                  <a:pt x="2886355" y="14002"/>
                </a:lnTo>
                <a:lnTo>
                  <a:pt x="2922905" y="15061"/>
                </a:lnTo>
                <a:lnTo>
                  <a:pt x="2957582" y="22453"/>
                </a:lnTo>
                <a:lnTo>
                  <a:pt x="2994299" y="22994"/>
                </a:lnTo>
                <a:lnTo>
                  <a:pt x="3000320" y="25645"/>
                </a:lnTo>
                <a:lnTo>
                  <a:pt x="3006303" y="29139"/>
                </a:lnTo>
                <a:lnTo>
                  <a:pt x="3016467" y="31566"/>
                </a:lnTo>
                <a:lnTo>
                  <a:pt x="3036093" y="319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30" name="SMARTInkShape-Group223"/>
          <p:cNvGrpSpPr/>
          <p:nvPr/>
        </p:nvGrpSpPr>
        <p:grpSpPr>
          <a:xfrm>
            <a:off x="6616800" y="4295880"/>
            <a:ext cx="536400" cy="303120"/>
            <a:chOff x="6616800" y="4295880"/>
            <a:chExt cx="536400" cy="303120"/>
          </a:xfrm>
        </p:grpSpPr>
        <p:sp>
          <p:nvSpPr>
            <p:cNvPr id="331" name="SMARTInkShape-244"/>
            <p:cNvSpPr/>
            <p:nvPr/>
          </p:nvSpPr>
          <p:spPr>
            <a:xfrm>
              <a:off x="6616800" y="4465440"/>
              <a:ext cx="241200" cy="133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41102" h="133947">
                  <a:moveTo>
                    <a:pt x="44648" y="0"/>
                  </a:moveTo>
                  <a:lnTo>
                    <a:pt x="44648" y="0"/>
                  </a:lnTo>
                  <a:lnTo>
                    <a:pt x="37581" y="16782"/>
                  </a:lnTo>
                  <a:lnTo>
                    <a:pt x="34972" y="32600"/>
                  </a:lnTo>
                  <a:lnTo>
                    <a:pt x="28699" y="44621"/>
                  </a:lnTo>
                  <a:lnTo>
                    <a:pt x="18426" y="88746"/>
                  </a:lnTo>
                  <a:lnTo>
                    <a:pt x="18237" y="91906"/>
                  </a:lnTo>
                  <a:lnTo>
                    <a:pt x="15382" y="98063"/>
                  </a:lnTo>
                  <a:lnTo>
                    <a:pt x="11797" y="104108"/>
                  </a:lnTo>
                  <a:lnTo>
                    <a:pt x="9307" y="114313"/>
                  </a:lnTo>
                  <a:lnTo>
                    <a:pt x="8940" y="129343"/>
                  </a:lnTo>
                  <a:lnTo>
                    <a:pt x="7944" y="130878"/>
                  </a:lnTo>
                  <a:lnTo>
                    <a:pt x="6288" y="131900"/>
                  </a:lnTo>
                  <a:lnTo>
                    <a:pt x="3" y="133945"/>
                  </a:lnTo>
                  <a:lnTo>
                    <a:pt x="0" y="133946"/>
                  </a:lnTo>
                  <a:lnTo>
                    <a:pt x="29911" y="133946"/>
                  </a:lnTo>
                  <a:lnTo>
                    <a:pt x="35784" y="131300"/>
                  </a:lnTo>
                  <a:lnTo>
                    <a:pt x="41700" y="127810"/>
                  </a:lnTo>
                  <a:lnTo>
                    <a:pt x="77556" y="116986"/>
                  </a:lnTo>
                  <a:lnTo>
                    <a:pt x="92213" y="115361"/>
                  </a:lnTo>
                  <a:lnTo>
                    <a:pt x="125622" y="100657"/>
                  </a:lnTo>
                  <a:lnTo>
                    <a:pt x="143055" y="96301"/>
                  </a:lnTo>
                  <a:lnTo>
                    <a:pt x="160788" y="91372"/>
                  </a:lnTo>
                  <a:lnTo>
                    <a:pt x="199267" y="88386"/>
                  </a:lnTo>
                  <a:lnTo>
                    <a:pt x="216338" y="82245"/>
                  </a:lnTo>
                  <a:lnTo>
                    <a:pt x="229044" y="80738"/>
                  </a:lnTo>
                  <a:lnTo>
                    <a:pt x="233427" y="83178"/>
                  </a:lnTo>
                  <a:lnTo>
                    <a:pt x="241101" y="8929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2" name="SMARTInkShape-245"/>
            <p:cNvSpPr/>
            <p:nvPr/>
          </p:nvSpPr>
          <p:spPr>
            <a:xfrm>
              <a:off x="6670440" y="4295880"/>
              <a:ext cx="482760" cy="27648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82204" h="276822">
                  <a:moveTo>
                    <a:pt x="482203" y="0"/>
                  </a:moveTo>
                  <a:lnTo>
                    <a:pt x="482203" y="0"/>
                  </a:lnTo>
                  <a:lnTo>
                    <a:pt x="474515" y="0"/>
                  </a:lnTo>
                  <a:lnTo>
                    <a:pt x="466390" y="6137"/>
                  </a:lnTo>
                  <a:lnTo>
                    <a:pt x="458116" y="9095"/>
                  </a:lnTo>
                  <a:lnTo>
                    <a:pt x="428460" y="33253"/>
                  </a:lnTo>
                  <a:lnTo>
                    <a:pt x="422599" y="35615"/>
                  </a:lnTo>
                  <a:lnTo>
                    <a:pt x="380815" y="67492"/>
                  </a:lnTo>
                  <a:lnTo>
                    <a:pt x="369921" y="71260"/>
                  </a:lnTo>
                  <a:lnTo>
                    <a:pt x="328673" y="101236"/>
                  </a:lnTo>
                  <a:lnTo>
                    <a:pt x="297565" y="121049"/>
                  </a:lnTo>
                  <a:lnTo>
                    <a:pt x="278860" y="126878"/>
                  </a:lnTo>
                  <a:lnTo>
                    <a:pt x="237857" y="148901"/>
                  </a:lnTo>
                  <a:lnTo>
                    <a:pt x="196438" y="169669"/>
                  </a:lnTo>
                  <a:lnTo>
                    <a:pt x="156930" y="193477"/>
                  </a:lnTo>
                  <a:lnTo>
                    <a:pt x="136429" y="202738"/>
                  </a:lnTo>
                  <a:lnTo>
                    <a:pt x="117789" y="209601"/>
                  </a:lnTo>
                  <a:lnTo>
                    <a:pt x="98843" y="220760"/>
                  </a:lnTo>
                  <a:lnTo>
                    <a:pt x="81702" y="227493"/>
                  </a:lnTo>
                  <a:lnTo>
                    <a:pt x="65345" y="237385"/>
                  </a:lnTo>
                  <a:lnTo>
                    <a:pt x="46679" y="243013"/>
                  </a:lnTo>
                  <a:lnTo>
                    <a:pt x="39598" y="246912"/>
                  </a:lnTo>
                  <a:lnTo>
                    <a:pt x="33144" y="248645"/>
                  </a:lnTo>
                  <a:lnTo>
                    <a:pt x="31026" y="250100"/>
                  </a:lnTo>
                  <a:lnTo>
                    <a:pt x="29613" y="252062"/>
                  </a:lnTo>
                  <a:lnTo>
                    <a:pt x="28672" y="254362"/>
                  </a:lnTo>
                  <a:lnTo>
                    <a:pt x="27052" y="255895"/>
                  </a:lnTo>
                  <a:lnTo>
                    <a:pt x="17324" y="261001"/>
                  </a:lnTo>
                  <a:lnTo>
                    <a:pt x="0" y="2768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33" name="SMARTInkShape-246"/>
          <p:cNvSpPr/>
          <p:nvPr/>
        </p:nvSpPr>
        <p:spPr>
          <a:xfrm>
            <a:off x="581040" y="4848120"/>
            <a:ext cx="2033640" cy="642960"/>
          </a:xfrm>
          <a:custGeom>
            <a:avLst/>
            <a:gdLst>
              <a:gd name="textAreaLeft" fmla="*/ 0 w 2033640"/>
              <a:gd name="textAreaRight" fmla="*/ 2034000 w 203364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034673" h="642939">
                <a:moveTo>
                  <a:pt x="410756" y="562571"/>
                </a:moveTo>
                <a:lnTo>
                  <a:pt x="410756" y="562571"/>
                </a:lnTo>
                <a:lnTo>
                  <a:pt x="427538" y="569638"/>
                </a:lnTo>
                <a:lnTo>
                  <a:pt x="440309" y="571132"/>
                </a:lnTo>
                <a:lnTo>
                  <a:pt x="484186" y="562676"/>
                </a:lnTo>
                <a:lnTo>
                  <a:pt x="521180" y="561585"/>
                </a:lnTo>
                <a:lnTo>
                  <a:pt x="555510" y="554193"/>
                </a:lnTo>
                <a:lnTo>
                  <a:pt x="598361" y="553673"/>
                </a:lnTo>
                <a:lnTo>
                  <a:pt x="625856" y="552655"/>
                </a:lnTo>
                <a:lnTo>
                  <a:pt x="669709" y="544547"/>
                </a:lnTo>
                <a:lnTo>
                  <a:pt x="714287" y="535689"/>
                </a:lnTo>
                <a:lnTo>
                  <a:pt x="751446" y="528211"/>
                </a:lnTo>
                <a:lnTo>
                  <a:pt x="794912" y="519963"/>
                </a:lnTo>
                <a:lnTo>
                  <a:pt x="839405" y="517198"/>
                </a:lnTo>
                <a:lnTo>
                  <a:pt x="877751" y="510907"/>
                </a:lnTo>
                <a:lnTo>
                  <a:pt x="918508" y="509370"/>
                </a:lnTo>
                <a:lnTo>
                  <a:pt x="956214" y="508075"/>
                </a:lnTo>
                <a:lnTo>
                  <a:pt x="998205" y="501939"/>
                </a:lnTo>
                <a:lnTo>
                  <a:pt x="1040197" y="500433"/>
                </a:lnTo>
                <a:lnTo>
                  <a:pt x="1080573" y="500136"/>
                </a:lnTo>
                <a:lnTo>
                  <a:pt x="1114134" y="500085"/>
                </a:lnTo>
                <a:lnTo>
                  <a:pt x="1158384" y="500067"/>
                </a:lnTo>
                <a:lnTo>
                  <a:pt x="1200822" y="500063"/>
                </a:lnTo>
                <a:lnTo>
                  <a:pt x="1240293" y="500063"/>
                </a:lnTo>
                <a:lnTo>
                  <a:pt x="1279399" y="500063"/>
                </a:lnTo>
                <a:lnTo>
                  <a:pt x="1320307" y="504802"/>
                </a:lnTo>
                <a:lnTo>
                  <a:pt x="1358043" y="508164"/>
                </a:lnTo>
                <a:lnTo>
                  <a:pt x="1397394" y="511475"/>
                </a:lnTo>
                <a:lnTo>
                  <a:pt x="1429604" y="516648"/>
                </a:lnTo>
                <a:lnTo>
                  <a:pt x="1473503" y="517754"/>
                </a:lnTo>
                <a:lnTo>
                  <a:pt x="1511915" y="517900"/>
                </a:lnTo>
                <a:lnTo>
                  <a:pt x="1555803" y="516928"/>
                </a:lnTo>
                <a:lnTo>
                  <a:pt x="1598507" y="509820"/>
                </a:lnTo>
                <a:lnTo>
                  <a:pt x="1642984" y="508072"/>
                </a:lnTo>
                <a:lnTo>
                  <a:pt x="1687618" y="499904"/>
                </a:lnTo>
                <a:lnTo>
                  <a:pt x="1732265" y="491041"/>
                </a:lnTo>
                <a:lnTo>
                  <a:pt x="1776914" y="482118"/>
                </a:lnTo>
                <a:lnTo>
                  <a:pt x="1821562" y="468044"/>
                </a:lnTo>
                <a:lnTo>
                  <a:pt x="1866211" y="457540"/>
                </a:lnTo>
                <a:lnTo>
                  <a:pt x="1910765" y="437504"/>
                </a:lnTo>
                <a:lnTo>
                  <a:pt x="1952605" y="416716"/>
                </a:lnTo>
                <a:lnTo>
                  <a:pt x="1961871" y="408118"/>
                </a:lnTo>
                <a:lnTo>
                  <a:pt x="1970289" y="398675"/>
                </a:lnTo>
                <a:lnTo>
                  <a:pt x="2002803" y="372179"/>
                </a:lnTo>
                <a:lnTo>
                  <a:pt x="2023037" y="343139"/>
                </a:lnTo>
                <a:lnTo>
                  <a:pt x="2025847" y="333622"/>
                </a:lnTo>
                <a:lnTo>
                  <a:pt x="2026504" y="327532"/>
                </a:lnTo>
                <a:lnTo>
                  <a:pt x="2029442" y="321518"/>
                </a:lnTo>
                <a:lnTo>
                  <a:pt x="2033063" y="315538"/>
                </a:lnTo>
                <a:lnTo>
                  <a:pt x="2034672" y="309572"/>
                </a:lnTo>
                <a:lnTo>
                  <a:pt x="2034109" y="306592"/>
                </a:lnTo>
                <a:lnTo>
                  <a:pt x="2028722" y="294680"/>
                </a:lnTo>
                <a:lnTo>
                  <a:pt x="2028158" y="291704"/>
                </a:lnTo>
                <a:lnTo>
                  <a:pt x="2022624" y="282774"/>
                </a:lnTo>
                <a:lnTo>
                  <a:pt x="1997227" y="255985"/>
                </a:lnTo>
                <a:lnTo>
                  <a:pt x="1955358" y="225104"/>
                </a:lnTo>
                <a:lnTo>
                  <a:pt x="1943582" y="219109"/>
                </a:lnTo>
                <a:lnTo>
                  <a:pt x="1900829" y="207605"/>
                </a:lnTo>
                <a:lnTo>
                  <a:pt x="1857209" y="193376"/>
                </a:lnTo>
                <a:lnTo>
                  <a:pt x="1815479" y="181550"/>
                </a:lnTo>
                <a:lnTo>
                  <a:pt x="1777544" y="169660"/>
                </a:lnTo>
                <a:lnTo>
                  <a:pt x="1741387" y="162497"/>
                </a:lnTo>
                <a:lnTo>
                  <a:pt x="1704590" y="153954"/>
                </a:lnTo>
                <a:lnTo>
                  <a:pt x="1660133" y="142711"/>
                </a:lnTo>
                <a:lnTo>
                  <a:pt x="1624963" y="133897"/>
                </a:lnTo>
                <a:lnTo>
                  <a:pt x="1589407" y="127647"/>
                </a:lnTo>
                <a:lnTo>
                  <a:pt x="1553736" y="123150"/>
                </a:lnTo>
                <a:lnTo>
                  <a:pt x="1518032" y="115533"/>
                </a:lnTo>
                <a:lnTo>
                  <a:pt x="1482317" y="106993"/>
                </a:lnTo>
                <a:lnTo>
                  <a:pt x="1443954" y="98178"/>
                </a:lnTo>
                <a:lnTo>
                  <a:pt x="1403813" y="89282"/>
                </a:lnTo>
                <a:lnTo>
                  <a:pt x="1366785" y="80363"/>
                </a:lnTo>
                <a:lnTo>
                  <a:pt x="1330678" y="74081"/>
                </a:lnTo>
                <a:lnTo>
                  <a:pt x="1294844" y="69576"/>
                </a:lnTo>
                <a:lnTo>
                  <a:pt x="1259091" y="61956"/>
                </a:lnTo>
                <a:lnTo>
                  <a:pt x="1223362" y="53414"/>
                </a:lnTo>
                <a:lnTo>
                  <a:pt x="1187640" y="44600"/>
                </a:lnTo>
                <a:lnTo>
                  <a:pt x="1151921" y="38350"/>
                </a:lnTo>
                <a:lnTo>
                  <a:pt x="1116201" y="33853"/>
                </a:lnTo>
                <a:lnTo>
                  <a:pt x="1080483" y="26236"/>
                </a:lnTo>
                <a:lnTo>
                  <a:pt x="1037598" y="19514"/>
                </a:lnTo>
                <a:lnTo>
                  <a:pt x="993335" y="12050"/>
                </a:lnTo>
                <a:lnTo>
                  <a:pt x="958199" y="8862"/>
                </a:lnTo>
                <a:lnTo>
                  <a:pt x="922652" y="3066"/>
                </a:lnTo>
                <a:lnTo>
                  <a:pt x="886985" y="909"/>
                </a:lnTo>
                <a:lnTo>
                  <a:pt x="852273" y="269"/>
                </a:lnTo>
                <a:lnTo>
                  <a:pt x="810729" y="53"/>
                </a:lnTo>
                <a:lnTo>
                  <a:pt x="776321" y="15"/>
                </a:lnTo>
                <a:lnTo>
                  <a:pt x="733880" y="3"/>
                </a:lnTo>
                <a:lnTo>
                  <a:pt x="695841" y="1"/>
                </a:lnTo>
                <a:lnTo>
                  <a:pt x="653784" y="0"/>
                </a:lnTo>
                <a:lnTo>
                  <a:pt x="616519" y="0"/>
                </a:lnTo>
                <a:lnTo>
                  <a:pt x="574358" y="992"/>
                </a:lnTo>
                <a:lnTo>
                  <a:pt x="536338" y="7068"/>
                </a:lnTo>
                <a:lnTo>
                  <a:pt x="500165" y="8562"/>
                </a:lnTo>
                <a:lnTo>
                  <a:pt x="464356" y="14994"/>
                </a:lnTo>
                <a:lnTo>
                  <a:pt x="428620" y="19939"/>
                </a:lnTo>
                <a:lnTo>
                  <a:pt x="392898" y="25436"/>
                </a:lnTo>
                <a:lnTo>
                  <a:pt x="350894" y="36324"/>
                </a:lnTo>
                <a:lnTo>
                  <a:pt x="336526" y="40949"/>
                </a:lnTo>
                <a:lnTo>
                  <a:pt x="294302" y="48902"/>
                </a:lnTo>
                <a:lnTo>
                  <a:pt x="252619" y="62676"/>
                </a:lnTo>
                <a:lnTo>
                  <a:pt x="214461" y="76420"/>
                </a:lnTo>
                <a:lnTo>
                  <a:pt x="175883" y="87150"/>
                </a:lnTo>
                <a:lnTo>
                  <a:pt x="135682" y="102477"/>
                </a:lnTo>
                <a:lnTo>
                  <a:pt x="116698" y="109186"/>
                </a:lnTo>
                <a:lnTo>
                  <a:pt x="84186" y="130056"/>
                </a:lnTo>
                <a:lnTo>
                  <a:pt x="71596" y="135823"/>
                </a:lnTo>
                <a:lnTo>
                  <a:pt x="50602" y="154892"/>
                </a:lnTo>
                <a:lnTo>
                  <a:pt x="30749" y="183726"/>
                </a:lnTo>
                <a:lnTo>
                  <a:pt x="24918" y="196291"/>
                </a:lnTo>
                <a:lnTo>
                  <a:pt x="22562" y="199322"/>
                </a:lnTo>
                <a:lnTo>
                  <a:pt x="19944" y="207980"/>
                </a:lnTo>
                <a:lnTo>
                  <a:pt x="17789" y="217452"/>
                </a:lnTo>
                <a:lnTo>
                  <a:pt x="11989" y="229354"/>
                </a:lnTo>
                <a:lnTo>
                  <a:pt x="8198" y="255084"/>
                </a:lnTo>
                <a:lnTo>
                  <a:pt x="1906" y="267713"/>
                </a:lnTo>
                <a:lnTo>
                  <a:pt x="13" y="309315"/>
                </a:lnTo>
                <a:lnTo>
                  <a:pt x="0" y="315406"/>
                </a:lnTo>
                <a:lnTo>
                  <a:pt x="9086" y="344448"/>
                </a:lnTo>
                <a:lnTo>
                  <a:pt x="14812" y="354956"/>
                </a:lnTo>
                <a:lnTo>
                  <a:pt x="17942" y="369205"/>
                </a:lnTo>
                <a:lnTo>
                  <a:pt x="30160" y="391316"/>
                </a:lnTo>
                <a:lnTo>
                  <a:pt x="38535" y="399807"/>
                </a:lnTo>
                <a:lnTo>
                  <a:pt x="47879" y="407879"/>
                </a:lnTo>
                <a:lnTo>
                  <a:pt x="81987" y="447816"/>
                </a:lnTo>
                <a:lnTo>
                  <a:pt x="105108" y="466773"/>
                </a:lnTo>
                <a:lnTo>
                  <a:pt x="113186" y="476338"/>
                </a:lnTo>
                <a:lnTo>
                  <a:pt x="154687" y="505940"/>
                </a:lnTo>
                <a:lnTo>
                  <a:pt x="193870" y="537514"/>
                </a:lnTo>
                <a:lnTo>
                  <a:pt x="235163" y="559521"/>
                </a:lnTo>
                <a:lnTo>
                  <a:pt x="277989" y="577447"/>
                </a:lnTo>
                <a:lnTo>
                  <a:pt x="316874" y="592335"/>
                </a:lnTo>
                <a:lnTo>
                  <a:pt x="357750" y="607219"/>
                </a:lnTo>
                <a:lnTo>
                  <a:pt x="386783" y="613503"/>
                </a:lnTo>
                <a:lnTo>
                  <a:pt x="427408" y="615626"/>
                </a:lnTo>
                <a:lnTo>
                  <a:pt x="470233" y="622182"/>
                </a:lnTo>
                <a:lnTo>
                  <a:pt x="511030" y="624506"/>
                </a:lnTo>
                <a:lnTo>
                  <a:pt x="545308" y="627555"/>
                </a:lnTo>
                <a:lnTo>
                  <a:pt x="580600" y="632096"/>
                </a:lnTo>
                <a:lnTo>
                  <a:pt x="616193" y="633441"/>
                </a:lnTo>
                <a:lnTo>
                  <a:pt x="654519" y="636486"/>
                </a:lnTo>
                <a:lnTo>
                  <a:pt x="697295" y="641026"/>
                </a:lnTo>
                <a:lnTo>
                  <a:pt x="741388" y="642371"/>
                </a:lnTo>
                <a:lnTo>
                  <a:pt x="783227" y="642770"/>
                </a:lnTo>
                <a:lnTo>
                  <a:pt x="823404" y="642888"/>
                </a:lnTo>
                <a:lnTo>
                  <a:pt x="866728" y="642922"/>
                </a:lnTo>
                <a:lnTo>
                  <a:pt x="908338" y="642933"/>
                </a:lnTo>
                <a:lnTo>
                  <a:pt x="943157" y="642937"/>
                </a:lnTo>
                <a:lnTo>
                  <a:pt x="981589" y="642938"/>
                </a:lnTo>
                <a:lnTo>
                  <a:pt x="1035834" y="64293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lgotha- “Place of the Skull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6" name="Picture 5" descr="WKES-Golgotha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After the Apost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Followers of Jesus became known a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ristia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ch of what is known about Jesus comes from the writings of hi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ost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ostle means “One wh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vels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ostles traveled, spread Christian teaching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wrote the Gospels of the B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and Paul were two very influential Apostl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9" name="Picture 4" descr="C:\Users\glennlauren\AppData\Local\Microsoft\Windows\Temporary Internet Files\Content.IE5\52LECQ0G\MC900193976[1].wmf"/>
          <p:cNvPicPr/>
          <p:nvPr/>
        </p:nvPicPr>
        <p:blipFill>
          <a:blip r:embed="rId1"/>
          <a:stretch/>
        </p:blipFill>
        <p:spPr>
          <a:xfrm>
            <a:off x="7848720" y="3200400"/>
            <a:ext cx="1066680" cy="3429000"/>
          </a:xfrm>
          <a:prstGeom prst="rect">
            <a:avLst/>
          </a:prstGeom>
          <a:ln w="0">
            <a:noFill/>
          </a:ln>
        </p:spPr>
      </p:pic>
      <p:sp>
        <p:nvSpPr>
          <p:cNvPr id="340" name="SMARTInkShape-247"/>
          <p:cNvSpPr/>
          <p:nvPr/>
        </p:nvSpPr>
        <p:spPr>
          <a:xfrm>
            <a:off x="6224760" y="2089080"/>
            <a:ext cx="2241360" cy="5400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1352" h="53579">
                <a:moveTo>
                  <a:pt x="0" y="17859"/>
                </a:moveTo>
                <a:lnTo>
                  <a:pt x="0" y="17859"/>
                </a:lnTo>
                <a:lnTo>
                  <a:pt x="9481" y="17859"/>
                </a:lnTo>
                <a:lnTo>
                  <a:pt x="16781" y="15213"/>
                </a:lnTo>
                <a:lnTo>
                  <a:pt x="34293" y="5430"/>
                </a:lnTo>
                <a:lnTo>
                  <a:pt x="51061" y="1609"/>
                </a:lnTo>
                <a:lnTo>
                  <a:pt x="95258" y="94"/>
                </a:lnTo>
                <a:lnTo>
                  <a:pt x="134730" y="12"/>
                </a:lnTo>
                <a:lnTo>
                  <a:pt x="175957" y="2"/>
                </a:lnTo>
                <a:lnTo>
                  <a:pt x="216438" y="0"/>
                </a:lnTo>
                <a:lnTo>
                  <a:pt x="250660" y="0"/>
                </a:lnTo>
                <a:lnTo>
                  <a:pt x="285936" y="0"/>
                </a:lnTo>
                <a:lnTo>
                  <a:pt x="321524" y="0"/>
                </a:lnTo>
                <a:lnTo>
                  <a:pt x="359849" y="2646"/>
                </a:lnTo>
                <a:lnTo>
                  <a:pt x="399979" y="4422"/>
                </a:lnTo>
                <a:lnTo>
                  <a:pt x="437005" y="1310"/>
                </a:lnTo>
                <a:lnTo>
                  <a:pt x="475756" y="3034"/>
                </a:lnTo>
                <a:lnTo>
                  <a:pt x="518657" y="7183"/>
                </a:lnTo>
                <a:lnTo>
                  <a:pt x="562788" y="8412"/>
                </a:lnTo>
                <a:lnTo>
                  <a:pt x="607283" y="8776"/>
                </a:lnTo>
                <a:lnTo>
                  <a:pt x="651886" y="8884"/>
                </a:lnTo>
                <a:lnTo>
                  <a:pt x="696521" y="8916"/>
                </a:lnTo>
                <a:lnTo>
                  <a:pt x="741166" y="8925"/>
                </a:lnTo>
                <a:lnTo>
                  <a:pt x="771922" y="8928"/>
                </a:lnTo>
                <a:lnTo>
                  <a:pt x="805436" y="8929"/>
                </a:lnTo>
                <a:lnTo>
                  <a:pt x="837530" y="8929"/>
                </a:lnTo>
                <a:lnTo>
                  <a:pt x="869322" y="8929"/>
                </a:lnTo>
                <a:lnTo>
                  <a:pt x="903295" y="8929"/>
                </a:lnTo>
                <a:lnTo>
                  <a:pt x="935592" y="8929"/>
                </a:lnTo>
                <a:lnTo>
                  <a:pt x="967474" y="8929"/>
                </a:lnTo>
                <a:lnTo>
                  <a:pt x="1001489" y="8929"/>
                </a:lnTo>
                <a:lnTo>
                  <a:pt x="1036450" y="8929"/>
                </a:lnTo>
                <a:lnTo>
                  <a:pt x="1071832" y="8929"/>
                </a:lnTo>
                <a:lnTo>
                  <a:pt x="1107401" y="8929"/>
                </a:lnTo>
                <a:lnTo>
                  <a:pt x="1143053" y="8929"/>
                </a:lnTo>
                <a:lnTo>
                  <a:pt x="1178743" y="8929"/>
                </a:lnTo>
                <a:lnTo>
                  <a:pt x="1214448" y="8929"/>
                </a:lnTo>
                <a:lnTo>
                  <a:pt x="1250161" y="8929"/>
                </a:lnTo>
                <a:lnTo>
                  <a:pt x="1286869" y="8929"/>
                </a:lnTo>
                <a:lnTo>
                  <a:pt x="1326335" y="8929"/>
                </a:lnTo>
                <a:lnTo>
                  <a:pt x="1364381" y="8929"/>
                </a:lnTo>
                <a:lnTo>
                  <a:pt x="1401134" y="8929"/>
                </a:lnTo>
                <a:lnTo>
                  <a:pt x="1437312" y="8929"/>
                </a:lnTo>
                <a:lnTo>
                  <a:pt x="1473235" y="8929"/>
                </a:lnTo>
                <a:lnTo>
                  <a:pt x="1509045" y="8929"/>
                </a:lnTo>
                <a:lnTo>
                  <a:pt x="1544804" y="8929"/>
                </a:lnTo>
                <a:lnTo>
                  <a:pt x="1580540" y="8929"/>
                </a:lnTo>
                <a:lnTo>
                  <a:pt x="1615274" y="8929"/>
                </a:lnTo>
                <a:lnTo>
                  <a:pt x="1647248" y="8929"/>
                </a:lnTo>
                <a:lnTo>
                  <a:pt x="1680641" y="11576"/>
                </a:lnTo>
                <a:lnTo>
                  <a:pt x="1715326" y="15066"/>
                </a:lnTo>
                <a:lnTo>
                  <a:pt x="1750586" y="16618"/>
                </a:lnTo>
                <a:lnTo>
                  <a:pt x="1783455" y="17308"/>
                </a:lnTo>
                <a:lnTo>
                  <a:pt x="1814600" y="17614"/>
                </a:lnTo>
                <a:lnTo>
                  <a:pt x="1844979" y="17750"/>
                </a:lnTo>
                <a:lnTo>
                  <a:pt x="1875016" y="17811"/>
                </a:lnTo>
                <a:lnTo>
                  <a:pt x="1904903" y="18830"/>
                </a:lnTo>
                <a:lnTo>
                  <a:pt x="1934723" y="22590"/>
                </a:lnTo>
                <a:lnTo>
                  <a:pt x="1964512" y="24923"/>
                </a:lnTo>
                <a:lnTo>
                  <a:pt x="1994289" y="25960"/>
                </a:lnTo>
                <a:lnTo>
                  <a:pt x="2037950" y="27535"/>
                </a:lnTo>
                <a:lnTo>
                  <a:pt x="2076464" y="32853"/>
                </a:lnTo>
                <a:lnTo>
                  <a:pt x="2113012" y="35861"/>
                </a:lnTo>
                <a:lnTo>
                  <a:pt x="2147981" y="41604"/>
                </a:lnTo>
                <a:lnTo>
                  <a:pt x="2186968" y="46693"/>
                </a:lnTo>
                <a:lnTo>
                  <a:pt x="2228922" y="52973"/>
                </a:lnTo>
                <a:lnTo>
                  <a:pt x="2241351" y="5357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SMARTInkShape-248"/>
          <p:cNvSpPr/>
          <p:nvPr/>
        </p:nvSpPr>
        <p:spPr>
          <a:xfrm>
            <a:off x="2965320" y="2482920"/>
            <a:ext cx="2622600" cy="758880"/>
          </a:xfrm>
          <a:custGeom>
            <a:avLst/>
            <a:gdLst>
              <a:gd name="textAreaLeft" fmla="*/ 0 w 2622600"/>
              <a:gd name="textAreaRight" fmla="*/ 2622960 w 26226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2623059" h="758901">
                <a:moveTo>
                  <a:pt x="491047" y="741041"/>
                </a:moveTo>
                <a:lnTo>
                  <a:pt x="491047" y="741041"/>
                </a:lnTo>
                <a:lnTo>
                  <a:pt x="495787" y="741041"/>
                </a:lnTo>
                <a:lnTo>
                  <a:pt x="529207" y="733353"/>
                </a:lnTo>
                <a:lnTo>
                  <a:pt x="569103" y="731364"/>
                </a:lnTo>
                <a:lnTo>
                  <a:pt x="609322" y="725092"/>
                </a:lnTo>
                <a:lnTo>
                  <a:pt x="646147" y="723748"/>
                </a:lnTo>
                <a:lnTo>
                  <a:pt x="683185" y="725995"/>
                </a:lnTo>
                <a:lnTo>
                  <a:pt x="727107" y="730903"/>
                </a:lnTo>
                <a:lnTo>
                  <a:pt x="766925" y="731753"/>
                </a:lnTo>
                <a:lnTo>
                  <a:pt x="798206" y="731952"/>
                </a:lnTo>
                <a:lnTo>
                  <a:pt x="831953" y="732041"/>
                </a:lnTo>
                <a:lnTo>
                  <a:pt x="866795" y="732080"/>
                </a:lnTo>
                <a:lnTo>
                  <a:pt x="902124" y="732098"/>
                </a:lnTo>
                <a:lnTo>
                  <a:pt x="937670" y="732105"/>
                </a:lnTo>
                <a:lnTo>
                  <a:pt x="973311" y="732109"/>
                </a:lnTo>
                <a:lnTo>
                  <a:pt x="1011642" y="732111"/>
                </a:lnTo>
                <a:lnTo>
                  <a:pt x="1050837" y="732111"/>
                </a:lnTo>
                <a:lnTo>
                  <a:pt x="1088101" y="732111"/>
                </a:lnTo>
                <a:lnTo>
                  <a:pt x="1127151" y="732111"/>
                </a:lnTo>
                <a:lnTo>
                  <a:pt x="1166666" y="732111"/>
                </a:lnTo>
                <a:lnTo>
                  <a:pt x="1204073" y="732111"/>
                </a:lnTo>
                <a:lnTo>
                  <a:pt x="1245832" y="732111"/>
                </a:lnTo>
                <a:lnTo>
                  <a:pt x="1289859" y="732111"/>
                </a:lnTo>
                <a:lnTo>
                  <a:pt x="1332577" y="732111"/>
                </a:lnTo>
                <a:lnTo>
                  <a:pt x="1374714" y="732111"/>
                </a:lnTo>
                <a:lnTo>
                  <a:pt x="1417585" y="732111"/>
                </a:lnTo>
                <a:lnTo>
                  <a:pt x="1440129" y="732111"/>
                </a:lnTo>
                <a:lnTo>
                  <a:pt x="1463096" y="732111"/>
                </a:lnTo>
                <a:lnTo>
                  <a:pt x="1507137" y="729465"/>
                </a:lnTo>
                <a:lnTo>
                  <a:pt x="1550853" y="725974"/>
                </a:lnTo>
                <a:lnTo>
                  <a:pt x="1573623" y="725043"/>
                </a:lnTo>
                <a:lnTo>
                  <a:pt x="1596741" y="724423"/>
                </a:lnTo>
                <a:lnTo>
                  <a:pt x="1620090" y="723017"/>
                </a:lnTo>
                <a:lnTo>
                  <a:pt x="1643594" y="721088"/>
                </a:lnTo>
                <a:lnTo>
                  <a:pt x="1667201" y="718809"/>
                </a:lnTo>
                <a:lnTo>
                  <a:pt x="1689884" y="717290"/>
                </a:lnTo>
                <a:lnTo>
                  <a:pt x="1733608" y="715602"/>
                </a:lnTo>
                <a:lnTo>
                  <a:pt x="1755983" y="714160"/>
                </a:lnTo>
                <a:lnTo>
                  <a:pt x="1778838" y="712206"/>
                </a:lnTo>
                <a:lnTo>
                  <a:pt x="1802012" y="709911"/>
                </a:lnTo>
                <a:lnTo>
                  <a:pt x="1825399" y="708382"/>
                </a:lnTo>
                <a:lnTo>
                  <a:pt x="1848927" y="707362"/>
                </a:lnTo>
                <a:lnTo>
                  <a:pt x="1872550" y="706682"/>
                </a:lnTo>
                <a:lnTo>
                  <a:pt x="1895245" y="705237"/>
                </a:lnTo>
                <a:lnTo>
                  <a:pt x="1938982" y="700985"/>
                </a:lnTo>
                <a:lnTo>
                  <a:pt x="1961359" y="699454"/>
                </a:lnTo>
                <a:lnTo>
                  <a:pt x="1984216" y="698434"/>
                </a:lnTo>
                <a:lnTo>
                  <a:pt x="2028795" y="696307"/>
                </a:lnTo>
                <a:lnTo>
                  <a:pt x="2068452" y="692055"/>
                </a:lnTo>
                <a:lnTo>
                  <a:pt x="2108567" y="686858"/>
                </a:lnTo>
                <a:lnTo>
                  <a:pt x="2149546" y="681241"/>
                </a:lnTo>
                <a:lnTo>
                  <a:pt x="2190910" y="675437"/>
                </a:lnTo>
                <a:lnTo>
                  <a:pt x="2229799" y="669550"/>
                </a:lnTo>
                <a:lnTo>
                  <a:pt x="2265935" y="663627"/>
                </a:lnTo>
                <a:lnTo>
                  <a:pt x="2298532" y="657687"/>
                </a:lnTo>
                <a:lnTo>
                  <a:pt x="2332202" y="651740"/>
                </a:lnTo>
                <a:lnTo>
                  <a:pt x="2365026" y="645789"/>
                </a:lnTo>
                <a:lnTo>
                  <a:pt x="2405817" y="635869"/>
                </a:lnTo>
                <a:lnTo>
                  <a:pt x="2444031" y="620803"/>
                </a:lnTo>
                <a:lnTo>
                  <a:pt x="2484347" y="604763"/>
                </a:lnTo>
                <a:lnTo>
                  <a:pt x="2522997" y="587306"/>
                </a:lnTo>
                <a:lnTo>
                  <a:pt x="2565028" y="553348"/>
                </a:lnTo>
                <a:lnTo>
                  <a:pt x="2584912" y="535608"/>
                </a:lnTo>
                <a:lnTo>
                  <a:pt x="2610089" y="493983"/>
                </a:lnTo>
                <a:lnTo>
                  <a:pt x="2622560" y="457153"/>
                </a:lnTo>
                <a:lnTo>
                  <a:pt x="2623058" y="444212"/>
                </a:lnTo>
                <a:lnTo>
                  <a:pt x="2608914" y="400610"/>
                </a:lnTo>
                <a:lnTo>
                  <a:pt x="2587729" y="361660"/>
                </a:lnTo>
                <a:lnTo>
                  <a:pt x="2552392" y="320775"/>
                </a:lnTo>
                <a:lnTo>
                  <a:pt x="2513067" y="285514"/>
                </a:lnTo>
                <a:lnTo>
                  <a:pt x="2478785" y="263545"/>
                </a:lnTo>
                <a:lnTo>
                  <a:pt x="2438752" y="239727"/>
                </a:lnTo>
                <a:lnTo>
                  <a:pt x="2395470" y="213819"/>
                </a:lnTo>
                <a:lnTo>
                  <a:pt x="2351228" y="187291"/>
                </a:lnTo>
                <a:lnTo>
                  <a:pt x="2318911" y="172138"/>
                </a:lnTo>
                <a:lnTo>
                  <a:pt x="2284705" y="157797"/>
                </a:lnTo>
                <a:lnTo>
                  <a:pt x="2249658" y="141501"/>
                </a:lnTo>
                <a:lnTo>
                  <a:pt x="2211592" y="126983"/>
                </a:lnTo>
                <a:lnTo>
                  <a:pt x="2172515" y="113915"/>
                </a:lnTo>
                <a:lnTo>
                  <a:pt x="2135304" y="101493"/>
                </a:lnTo>
                <a:lnTo>
                  <a:pt x="2093629" y="89357"/>
                </a:lnTo>
                <a:lnTo>
                  <a:pt x="2049641" y="77349"/>
                </a:lnTo>
                <a:lnTo>
                  <a:pt x="2006940" y="65398"/>
                </a:lnTo>
                <a:lnTo>
                  <a:pt x="1964811" y="56117"/>
                </a:lnTo>
                <a:lnTo>
                  <a:pt x="1920952" y="47693"/>
                </a:lnTo>
                <a:lnTo>
                  <a:pt x="1896755" y="42668"/>
                </a:lnTo>
                <a:lnTo>
                  <a:pt x="1871693" y="37334"/>
                </a:lnTo>
                <a:lnTo>
                  <a:pt x="1847048" y="32786"/>
                </a:lnTo>
                <a:lnTo>
                  <a:pt x="1822680" y="28762"/>
                </a:lnTo>
                <a:lnTo>
                  <a:pt x="1798499" y="25087"/>
                </a:lnTo>
                <a:lnTo>
                  <a:pt x="1774439" y="21644"/>
                </a:lnTo>
                <a:lnTo>
                  <a:pt x="1750462" y="18357"/>
                </a:lnTo>
                <a:lnTo>
                  <a:pt x="1726539" y="15174"/>
                </a:lnTo>
                <a:lnTo>
                  <a:pt x="1702654" y="13051"/>
                </a:lnTo>
                <a:lnTo>
                  <a:pt x="1678793" y="11637"/>
                </a:lnTo>
                <a:lnTo>
                  <a:pt x="1654948" y="10693"/>
                </a:lnTo>
                <a:lnTo>
                  <a:pt x="1630121" y="9072"/>
                </a:lnTo>
                <a:lnTo>
                  <a:pt x="1604641" y="6999"/>
                </a:lnTo>
                <a:lnTo>
                  <a:pt x="1578724" y="4625"/>
                </a:lnTo>
                <a:lnTo>
                  <a:pt x="1553508" y="3043"/>
                </a:lnTo>
                <a:lnTo>
                  <a:pt x="1528761" y="1987"/>
                </a:lnTo>
                <a:lnTo>
                  <a:pt x="1504325" y="1284"/>
                </a:lnTo>
                <a:lnTo>
                  <a:pt x="1478112" y="815"/>
                </a:lnTo>
                <a:lnTo>
                  <a:pt x="1450716" y="502"/>
                </a:lnTo>
                <a:lnTo>
                  <a:pt x="1422529" y="294"/>
                </a:lnTo>
                <a:lnTo>
                  <a:pt x="1395801" y="155"/>
                </a:lnTo>
                <a:lnTo>
                  <a:pt x="1370044" y="62"/>
                </a:lnTo>
                <a:lnTo>
                  <a:pt x="1344935" y="0"/>
                </a:lnTo>
                <a:lnTo>
                  <a:pt x="1318275" y="951"/>
                </a:lnTo>
                <a:lnTo>
                  <a:pt x="1290579" y="2578"/>
                </a:lnTo>
                <a:lnTo>
                  <a:pt x="1262193" y="4654"/>
                </a:lnTo>
                <a:lnTo>
                  <a:pt x="1234340" y="6038"/>
                </a:lnTo>
                <a:lnTo>
                  <a:pt x="1206841" y="6961"/>
                </a:lnTo>
                <a:lnTo>
                  <a:pt x="1179579" y="7576"/>
                </a:lnTo>
                <a:lnTo>
                  <a:pt x="1152475" y="9971"/>
                </a:lnTo>
                <a:lnTo>
                  <a:pt x="1125475" y="13551"/>
                </a:lnTo>
                <a:lnTo>
                  <a:pt x="1098546" y="17923"/>
                </a:lnTo>
                <a:lnTo>
                  <a:pt x="1072655" y="21829"/>
                </a:lnTo>
                <a:lnTo>
                  <a:pt x="1047458" y="25426"/>
                </a:lnTo>
                <a:lnTo>
                  <a:pt x="1022722" y="28816"/>
                </a:lnTo>
                <a:lnTo>
                  <a:pt x="997302" y="32068"/>
                </a:lnTo>
                <a:lnTo>
                  <a:pt x="971425" y="35228"/>
                </a:lnTo>
                <a:lnTo>
                  <a:pt x="945245" y="38327"/>
                </a:lnTo>
                <a:lnTo>
                  <a:pt x="918860" y="42378"/>
                </a:lnTo>
                <a:lnTo>
                  <a:pt x="892342" y="47062"/>
                </a:lnTo>
                <a:lnTo>
                  <a:pt x="865733" y="52170"/>
                </a:lnTo>
                <a:lnTo>
                  <a:pt x="840057" y="57559"/>
                </a:lnTo>
                <a:lnTo>
                  <a:pt x="815001" y="63136"/>
                </a:lnTo>
                <a:lnTo>
                  <a:pt x="790361" y="68839"/>
                </a:lnTo>
                <a:lnTo>
                  <a:pt x="765996" y="74625"/>
                </a:lnTo>
                <a:lnTo>
                  <a:pt x="741815" y="80467"/>
                </a:lnTo>
                <a:lnTo>
                  <a:pt x="717757" y="86346"/>
                </a:lnTo>
                <a:lnTo>
                  <a:pt x="693780" y="92249"/>
                </a:lnTo>
                <a:lnTo>
                  <a:pt x="669859" y="98170"/>
                </a:lnTo>
                <a:lnTo>
                  <a:pt x="645973" y="104101"/>
                </a:lnTo>
                <a:lnTo>
                  <a:pt x="623105" y="111031"/>
                </a:lnTo>
                <a:lnTo>
                  <a:pt x="579174" y="126669"/>
                </a:lnTo>
                <a:lnTo>
                  <a:pt x="536499" y="143542"/>
                </a:lnTo>
                <a:lnTo>
                  <a:pt x="494380" y="160962"/>
                </a:lnTo>
                <a:lnTo>
                  <a:pt x="452510" y="178627"/>
                </a:lnTo>
                <a:lnTo>
                  <a:pt x="413396" y="193754"/>
                </a:lnTo>
                <a:lnTo>
                  <a:pt x="376168" y="209076"/>
                </a:lnTo>
                <a:lnTo>
                  <a:pt x="339779" y="229114"/>
                </a:lnTo>
                <a:lnTo>
                  <a:pt x="306408" y="248604"/>
                </a:lnTo>
                <a:lnTo>
                  <a:pt x="275040" y="267188"/>
                </a:lnTo>
                <a:lnTo>
                  <a:pt x="244562" y="285369"/>
                </a:lnTo>
                <a:lnTo>
                  <a:pt x="214480" y="303372"/>
                </a:lnTo>
                <a:lnTo>
                  <a:pt x="172299" y="330241"/>
                </a:lnTo>
                <a:lnTo>
                  <a:pt x="137311" y="354409"/>
                </a:lnTo>
                <a:lnTo>
                  <a:pt x="98822" y="385093"/>
                </a:lnTo>
                <a:lnTo>
                  <a:pt x="56228" y="428665"/>
                </a:lnTo>
                <a:lnTo>
                  <a:pt x="30224" y="467035"/>
                </a:lnTo>
                <a:lnTo>
                  <a:pt x="7311" y="504499"/>
                </a:lnTo>
                <a:lnTo>
                  <a:pt x="1375" y="535566"/>
                </a:lnTo>
                <a:lnTo>
                  <a:pt x="0" y="580127"/>
                </a:lnTo>
                <a:lnTo>
                  <a:pt x="944" y="592133"/>
                </a:lnTo>
                <a:lnTo>
                  <a:pt x="4671" y="604084"/>
                </a:lnTo>
                <a:lnTo>
                  <a:pt x="17088" y="621968"/>
                </a:lnTo>
                <a:lnTo>
                  <a:pt x="39062" y="638660"/>
                </a:lnTo>
                <a:lnTo>
                  <a:pt x="82954" y="667673"/>
                </a:lnTo>
                <a:lnTo>
                  <a:pt x="126274" y="683240"/>
                </a:lnTo>
                <a:lnTo>
                  <a:pt x="170432" y="689275"/>
                </a:lnTo>
                <a:lnTo>
                  <a:pt x="205549" y="696929"/>
                </a:lnTo>
                <a:lnTo>
                  <a:pt x="243736" y="702836"/>
                </a:lnTo>
                <a:lnTo>
                  <a:pt x="286470" y="704585"/>
                </a:lnTo>
                <a:lnTo>
                  <a:pt x="330551" y="705104"/>
                </a:lnTo>
                <a:lnTo>
                  <a:pt x="361176" y="705225"/>
                </a:lnTo>
                <a:lnTo>
                  <a:pt x="394631" y="705279"/>
                </a:lnTo>
                <a:lnTo>
                  <a:pt x="429344" y="705303"/>
                </a:lnTo>
                <a:lnTo>
                  <a:pt x="464616" y="705313"/>
                </a:lnTo>
                <a:lnTo>
                  <a:pt x="500136" y="705318"/>
                </a:lnTo>
                <a:lnTo>
                  <a:pt x="538412" y="705321"/>
                </a:lnTo>
                <a:lnTo>
                  <a:pt x="577583" y="705322"/>
                </a:lnTo>
                <a:lnTo>
                  <a:pt x="614835" y="705322"/>
                </a:lnTo>
                <a:lnTo>
                  <a:pt x="653881" y="702676"/>
                </a:lnTo>
                <a:lnTo>
                  <a:pt x="694387" y="699185"/>
                </a:lnTo>
                <a:lnTo>
                  <a:pt x="735540" y="697634"/>
                </a:lnTo>
                <a:lnTo>
                  <a:pt x="779627" y="696944"/>
                </a:lnTo>
                <a:lnTo>
                  <a:pt x="802496" y="696760"/>
                </a:lnTo>
                <a:lnTo>
                  <a:pt x="846427" y="693911"/>
                </a:lnTo>
                <a:lnTo>
                  <a:pt x="889102" y="690328"/>
                </a:lnTo>
                <a:lnTo>
                  <a:pt x="931221" y="688736"/>
                </a:lnTo>
                <a:lnTo>
                  <a:pt x="975738" y="688029"/>
                </a:lnTo>
                <a:lnTo>
                  <a:pt x="998721" y="687840"/>
                </a:lnTo>
                <a:lnTo>
                  <a:pt x="1042779" y="687630"/>
                </a:lnTo>
                <a:lnTo>
                  <a:pt x="1086503" y="687537"/>
                </a:lnTo>
                <a:lnTo>
                  <a:pt x="1109276" y="687512"/>
                </a:lnTo>
                <a:lnTo>
                  <a:pt x="1132394" y="687496"/>
                </a:lnTo>
                <a:lnTo>
                  <a:pt x="1155745" y="687485"/>
                </a:lnTo>
                <a:lnTo>
                  <a:pt x="1179250" y="687477"/>
                </a:lnTo>
                <a:lnTo>
                  <a:pt x="1202857" y="687473"/>
                </a:lnTo>
                <a:lnTo>
                  <a:pt x="1226532" y="687469"/>
                </a:lnTo>
                <a:lnTo>
                  <a:pt x="1250253" y="687467"/>
                </a:lnTo>
                <a:lnTo>
                  <a:pt x="1274004" y="687466"/>
                </a:lnTo>
                <a:lnTo>
                  <a:pt x="1296784" y="687465"/>
                </a:lnTo>
                <a:lnTo>
                  <a:pt x="1340616" y="687463"/>
                </a:lnTo>
                <a:lnTo>
                  <a:pt x="1363020" y="687463"/>
                </a:lnTo>
                <a:lnTo>
                  <a:pt x="1385893" y="687463"/>
                </a:lnTo>
                <a:lnTo>
                  <a:pt x="1409081" y="687463"/>
                </a:lnTo>
                <a:lnTo>
                  <a:pt x="1432475" y="687463"/>
                </a:lnTo>
                <a:lnTo>
                  <a:pt x="1456009" y="687463"/>
                </a:lnTo>
                <a:lnTo>
                  <a:pt x="1479636" y="687463"/>
                </a:lnTo>
                <a:lnTo>
                  <a:pt x="1502333" y="687463"/>
                </a:lnTo>
                <a:lnTo>
                  <a:pt x="1546073" y="687463"/>
                </a:lnTo>
                <a:lnTo>
                  <a:pt x="1568452" y="687463"/>
                </a:lnTo>
                <a:lnTo>
                  <a:pt x="1591309" y="687463"/>
                </a:lnTo>
                <a:lnTo>
                  <a:pt x="1614485" y="687463"/>
                </a:lnTo>
                <a:lnTo>
                  <a:pt x="1658756" y="687463"/>
                </a:lnTo>
                <a:lnTo>
                  <a:pt x="1702576" y="687463"/>
                </a:lnTo>
                <a:lnTo>
                  <a:pt x="1725373" y="687463"/>
                </a:lnTo>
                <a:lnTo>
                  <a:pt x="1748509" y="687463"/>
                </a:lnTo>
                <a:lnTo>
                  <a:pt x="1792737" y="687463"/>
                </a:lnTo>
                <a:lnTo>
                  <a:pt x="1836537" y="687463"/>
                </a:lnTo>
                <a:lnTo>
                  <a:pt x="1859329" y="687463"/>
                </a:lnTo>
                <a:lnTo>
                  <a:pt x="1882462" y="687463"/>
                </a:lnTo>
                <a:lnTo>
                  <a:pt x="1905821" y="688455"/>
                </a:lnTo>
                <a:lnTo>
                  <a:pt x="1929331" y="690109"/>
                </a:lnTo>
                <a:lnTo>
                  <a:pt x="1952942" y="692203"/>
                </a:lnTo>
                <a:lnTo>
                  <a:pt x="1975628" y="693600"/>
                </a:lnTo>
                <a:lnTo>
                  <a:pt x="2019355" y="695151"/>
                </a:lnTo>
                <a:lnTo>
                  <a:pt x="2061941" y="698486"/>
                </a:lnTo>
                <a:lnTo>
                  <a:pt x="2104019" y="702284"/>
                </a:lnTo>
                <a:lnTo>
                  <a:pt x="2145871" y="703972"/>
                </a:lnTo>
                <a:lnTo>
                  <a:pt x="2187623" y="707368"/>
                </a:lnTo>
                <a:lnTo>
                  <a:pt x="2229331" y="711192"/>
                </a:lnTo>
                <a:lnTo>
                  <a:pt x="2271019" y="712892"/>
                </a:lnTo>
                <a:lnTo>
                  <a:pt x="2312697" y="716294"/>
                </a:lnTo>
                <a:lnTo>
                  <a:pt x="2353380" y="721112"/>
                </a:lnTo>
                <a:lnTo>
                  <a:pt x="2391305" y="726561"/>
                </a:lnTo>
                <a:lnTo>
                  <a:pt x="2430650" y="732291"/>
                </a:lnTo>
                <a:lnTo>
                  <a:pt x="2469304" y="738144"/>
                </a:lnTo>
                <a:lnTo>
                  <a:pt x="2503019" y="744053"/>
                </a:lnTo>
                <a:lnTo>
                  <a:pt x="2537186" y="749987"/>
                </a:lnTo>
                <a:lnTo>
                  <a:pt x="2589524" y="75890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SMARTInkShape-249"/>
          <p:cNvSpPr/>
          <p:nvPr/>
        </p:nvSpPr>
        <p:spPr>
          <a:xfrm>
            <a:off x="3232080" y="3637080"/>
            <a:ext cx="4313160" cy="33120"/>
          </a:xfrm>
          <a:custGeom>
            <a:avLst/>
            <a:gdLst>
              <a:gd name="textAreaLeft" fmla="*/ 0 w 4313160"/>
              <a:gd name="textAreaRight" fmla="*/ 4313520 w 43131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4312503" h="32517">
                <a:moveTo>
                  <a:pt x="0" y="23586"/>
                </a:moveTo>
                <a:lnTo>
                  <a:pt x="0" y="23586"/>
                </a:lnTo>
                <a:lnTo>
                  <a:pt x="29141" y="20941"/>
                </a:lnTo>
                <a:lnTo>
                  <a:pt x="72740" y="15485"/>
                </a:lnTo>
                <a:lnTo>
                  <a:pt x="116931" y="14821"/>
                </a:lnTo>
                <a:lnTo>
                  <a:pt x="154701" y="12060"/>
                </a:lnTo>
                <a:lnTo>
                  <a:pt x="197686" y="6978"/>
                </a:lnTo>
                <a:lnTo>
                  <a:pt x="233088" y="6098"/>
                </a:lnTo>
                <a:lnTo>
                  <a:pt x="274997" y="5837"/>
                </a:lnTo>
                <a:lnTo>
                  <a:pt x="318834" y="5760"/>
                </a:lnTo>
                <a:lnTo>
                  <a:pt x="363241" y="5737"/>
                </a:lnTo>
                <a:lnTo>
                  <a:pt x="395597" y="5732"/>
                </a:lnTo>
                <a:lnTo>
                  <a:pt x="428829" y="5729"/>
                </a:lnTo>
                <a:lnTo>
                  <a:pt x="460134" y="5728"/>
                </a:lnTo>
                <a:lnTo>
                  <a:pt x="493231" y="5728"/>
                </a:lnTo>
                <a:lnTo>
                  <a:pt x="528777" y="5727"/>
                </a:lnTo>
                <a:lnTo>
                  <a:pt x="567725" y="5727"/>
                </a:lnTo>
                <a:lnTo>
                  <a:pt x="605541" y="5727"/>
                </a:lnTo>
                <a:lnTo>
                  <a:pt x="643183" y="5727"/>
                </a:lnTo>
                <a:lnTo>
                  <a:pt x="683065" y="5727"/>
                </a:lnTo>
                <a:lnTo>
                  <a:pt x="723941" y="5727"/>
                </a:lnTo>
                <a:lnTo>
                  <a:pt x="766251" y="5727"/>
                </a:lnTo>
                <a:lnTo>
                  <a:pt x="788646" y="5727"/>
                </a:lnTo>
                <a:lnTo>
                  <a:pt x="811514" y="5727"/>
                </a:lnTo>
                <a:lnTo>
                  <a:pt x="855443" y="5727"/>
                </a:lnTo>
                <a:lnTo>
                  <a:pt x="899111" y="5727"/>
                </a:lnTo>
                <a:lnTo>
                  <a:pt x="921868" y="5727"/>
                </a:lnTo>
                <a:lnTo>
                  <a:pt x="944977" y="5727"/>
                </a:lnTo>
                <a:lnTo>
                  <a:pt x="989174" y="5727"/>
                </a:lnTo>
                <a:lnTo>
                  <a:pt x="1032960" y="5727"/>
                </a:lnTo>
                <a:lnTo>
                  <a:pt x="1055750" y="5727"/>
                </a:lnTo>
                <a:lnTo>
                  <a:pt x="1078880" y="5727"/>
                </a:lnTo>
                <a:lnTo>
                  <a:pt x="1102237" y="5727"/>
                </a:lnTo>
                <a:lnTo>
                  <a:pt x="1125747" y="5727"/>
                </a:lnTo>
                <a:lnTo>
                  <a:pt x="1149357" y="5727"/>
                </a:lnTo>
                <a:lnTo>
                  <a:pt x="1173035" y="5727"/>
                </a:lnTo>
                <a:lnTo>
                  <a:pt x="1196758" y="5727"/>
                </a:lnTo>
                <a:lnTo>
                  <a:pt x="1220510" y="5727"/>
                </a:lnTo>
                <a:lnTo>
                  <a:pt x="1244282" y="5727"/>
                </a:lnTo>
                <a:lnTo>
                  <a:pt x="1268069" y="5727"/>
                </a:lnTo>
                <a:lnTo>
                  <a:pt x="1291864" y="5727"/>
                </a:lnTo>
                <a:lnTo>
                  <a:pt x="1316656" y="5727"/>
                </a:lnTo>
                <a:lnTo>
                  <a:pt x="1342115" y="5727"/>
                </a:lnTo>
                <a:lnTo>
                  <a:pt x="1368017" y="5727"/>
                </a:lnTo>
                <a:lnTo>
                  <a:pt x="1393222" y="5727"/>
                </a:lnTo>
                <a:lnTo>
                  <a:pt x="1417963" y="5727"/>
                </a:lnTo>
                <a:lnTo>
                  <a:pt x="1442395" y="5727"/>
                </a:lnTo>
                <a:lnTo>
                  <a:pt x="1467612" y="5727"/>
                </a:lnTo>
                <a:lnTo>
                  <a:pt x="1493353" y="5727"/>
                </a:lnTo>
                <a:lnTo>
                  <a:pt x="1519444" y="5727"/>
                </a:lnTo>
                <a:lnTo>
                  <a:pt x="1544775" y="5727"/>
                </a:lnTo>
                <a:lnTo>
                  <a:pt x="1569600" y="5727"/>
                </a:lnTo>
                <a:lnTo>
                  <a:pt x="1594087" y="5727"/>
                </a:lnTo>
                <a:lnTo>
                  <a:pt x="1619341" y="5727"/>
                </a:lnTo>
                <a:lnTo>
                  <a:pt x="1645108" y="5727"/>
                </a:lnTo>
                <a:lnTo>
                  <a:pt x="1671215" y="5727"/>
                </a:lnTo>
                <a:lnTo>
                  <a:pt x="1698542" y="5727"/>
                </a:lnTo>
                <a:lnTo>
                  <a:pt x="1726682" y="5727"/>
                </a:lnTo>
                <a:lnTo>
                  <a:pt x="1755363" y="5727"/>
                </a:lnTo>
                <a:lnTo>
                  <a:pt x="1783413" y="5727"/>
                </a:lnTo>
                <a:lnTo>
                  <a:pt x="1811043" y="5727"/>
                </a:lnTo>
                <a:lnTo>
                  <a:pt x="1838394" y="5727"/>
                </a:lnTo>
                <a:lnTo>
                  <a:pt x="1865556" y="5727"/>
                </a:lnTo>
                <a:lnTo>
                  <a:pt x="1892595" y="5727"/>
                </a:lnTo>
                <a:lnTo>
                  <a:pt x="1919551" y="5727"/>
                </a:lnTo>
                <a:lnTo>
                  <a:pt x="1946450" y="5727"/>
                </a:lnTo>
                <a:lnTo>
                  <a:pt x="1973312" y="5727"/>
                </a:lnTo>
                <a:lnTo>
                  <a:pt x="2000152" y="5727"/>
                </a:lnTo>
                <a:lnTo>
                  <a:pt x="2026973" y="5727"/>
                </a:lnTo>
                <a:lnTo>
                  <a:pt x="2053785" y="5727"/>
                </a:lnTo>
                <a:lnTo>
                  <a:pt x="2080588" y="5727"/>
                </a:lnTo>
                <a:lnTo>
                  <a:pt x="2107386" y="5727"/>
                </a:lnTo>
                <a:lnTo>
                  <a:pt x="2134182" y="5727"/>
                </a:lnTo>
                <a:lnTo>
                  <a:pt x="2160975" y="5727"/>
                </a:lnTo>
                <a:lnTo>
                  <a:pt x="2187767" y="5727"/>
                </a:lnTo>
                <a:lnTo>
                  <a:pt x="2214559" y="5727"/>
                </a:lnTo>
                <a:lnTo>
                  <a:pt x="2241348" y="5727"/>
                </a:lnTo>
                <a:lnTo>
                  <a:pt x="2267146" y="5727"/>
                </a:lnTo>
                <a:lnTo>
                  <a:pt x="2292282" y="5727"/>
                </a:lnTo>
                <a:lnTo>
                  <a:pt x="2316977" y="5727"/>
                </a:lnTo>
                <a:lnTo>
                  <a:pt x="2343362" y="5727"/>
                </a:lnTo>
                <a:lnTo>
                  <a:pt x="2370874" y="5727"/>
                </a:lnTo>
                <a:lnTo>
                  <a:pt x="2399138" y="5727"/>
                </a:lnTo>
                <a:lnTo>
                  <a:pt x="2425917" y="5727"/>
                </a:lnTo>
                <a:lnTo>
                  <a:pt x="2451707" y="5727"/>
                </a:lnTo>
                <a:lnTo>
                  <a:pt x="2476839" y="5727"/>
                </a:lnTo>
                <a:lnTo>
                  <a:pt x="2503514" y="4735"/>
                </a:lnTo>
                <a:lnTo>
                  <a:pt x="2531221" y="3082"/>
                </a:lnTo>
                <a:lnTo>
                  <a:pt x="2559613" y="987"/>
                </a:lnTo>
                <a:lnTo>
                  <a:pt x="2587471" y="582"/>
                </a:lnTo>
                <a:lnTo>
                  <a:pt x="2614973" y="1305"/>
                </a:lnTo>
                <a:lnTo>
                  <a:pt x="2642237" y="2779"/>
                </a:lnTo>
                <a:lnTo>
                  <a:pt x="2669343" y="2770"/>
                </a:lnTo>
                <a:lnTo>
                  <a:pt x="2696343" y="1772"/>
                </a:lnTo>
                <a:lnTo>
                  <a:pt x="2723272" y="114"/>
                </a:lnTo>
                <a:lnTo>
                  <a:pt x="2750156" y="0"/>
                </a:lnTo>
                <a:lnTo>
                  <a:pt x="2777008" y="917"/>
                </a:lnTo>
                <a:lnTo>
                  <a:pt x="2803838" y="2520"/>
                </a:lnTo>
                <a:lnTo>
                  <a:pt x="2830655" y="3590"/>
                </a:lnTo>
                <a:lnTo>
                  <a:pt x="2857463" y="4302"/>
                </a:lnTo>
                <a:lnTo>
                  <a:pt x="2884264" y="4777"/>
                </a:lnTo>
                <a:lnTo>
                  <a:pt x="2911061" y="5094"/>
                </a:lnTo>
                <a:lnTo>
                  <a:pt x="2937856" y="5305"/>
                </a:lnTo>
                <a:lnTo>
                  <a:pt x="2964648" y="5446"/>
                </a:lnTo>
                <a:lnTo>
                  <a:pt x="2991440" y="5540"/>
                </a:lnTo>
                <a:lnTo>
                  <a:pt x="3018231" y="5602"/>
                </a:lnTo>
                <a:lnTo>
                  <a:pt x="3045020" y="5644"/>
                </a:lnTo>
                <a:lnTo>
                  <a:pt x="3070817" y="5672"/>
                </a:lnTo>
                <a:lnTo>
                  <a:pt x="3095954" y="5690"/>
                </a:lnTo>
                <a:lnTo>
                  <a:pt x="3120649" y="5703"/>
                </a:lnTo>
                <a:lnTo>
                  <a:pt x="3146042" y="5711"/>
                </a:lnTo>
                <a:lnTo>
                  <a:pt x="3171900" y="5716"/>
                </a:lnTo>
                <a:lnTo>
                  <a:pt x="3198069" y="5720"/>
                </a:lnTo>
                <a:lnTo>
                  <a:pt x="3224444" y="5722"/>
                </a:lnTo>
                <a:lnTo>
                  <a:pt x="3250957" y="5724"/>
                </a:lnTo>
                <a:lnTo>
                  <a:pt x="3277562" y="5726"/>
                </a:lnTo>
                <a:lnTo>
                  <a:pt x="3303236" y="5726"/>
                </a:lnTo>
                <a:lnTo>
                  <a:pt x="3328290" y="5726"/>
                </a:lnTo>
                <a:lnTo>
                  <a:pt x="3352931" y="5727"/>
                </a:lnTo>
                <a:lnTo>
                  <a:pt x="3377295" y="6719"/>
                </a:lnTo>
                <a:lnTo>
                  <a:pt x="3401475" y="8373"/>
                </a:lnTo>
                <a:lnTo>
                  <a:pt x="3425533" y="10467"/>
                </a:lnTo>
                <a:lnTo>
                  <a:pt x="3449509" y="11864"/>
                </a:lnTo>
                <a:lnTo>
                  <a:pt x="3473430" y="12795"/>
                </a:lnTo>
                <a:lnTo>
                  <a:pt x="3497315" y="13415"/>
                </a:lnTo>
                <a:lnTo>
                  <a:pt x="3521176" y="14822"/>
                </a:lnTo>
                <a:lnTo>
                  <a:pt x="3545021" y="16751"/>
                </a:lnTo>
                <a:lnTo>
                  <a:pt x="3568856" y="19029"/>
                </a:lnTo>
                <a:lnTo>
                  <a:pt x="3611212" y="21561"/>
                </a:lnTo>
                <a:lnTo>
                  <a:pt x="3651866" y="22687"/>
                </a:lnTo>
                <a:lnTo>
                  <a:pt x="3696392" y="23187"/>
                </a:lnTo>
                <a:lnTo>
                  <a:pt x="3737349" y="23409"/>
                </a:lnTo>
                <a:lnTo>
                  <a:pt x="3775396" y="23507"/>
                </a:lnTo>
                <a:lnTo>
                  <a:pt x="3812149" y="23552"/>
                </a:lnTo>
                <a:lnTo>
                  <a:pt x="3848327" y="23571"/>
                </a:lnTo>
                <a:lnTo>
                  <a:pt x="3883257" y="22587"/>
                </a:lnTo>
                <a:lnTo>
                  <a:pt x="3915319" y="18843"/>
                </a:lnTo>
                <a:lnTo>
                  <a:pt x="3946104" y="16518"/>
                </a:lnTo>
                <a:lnTo>
                  <a:pt x="3976324" y="15484"/>
                </a:lnTo>
                <a:lnTo>
                  <a:pt x="4020235" y="14902"/>
                </a:lnTo>
                <a:lnTo>
                  <a:pt x="4058823" y="14729"/>
                </a:lnTo>
                <a:lnTo>
                  <a:pt x="4096383" y="14679"/>
                </a:lnTo>
                <a:lnTo>
                  <a:pt x="4136506" y="14664"/>
                </a:lnTo>
                <a:lnTo>
                  <a:pt x="4177736" y="14658"/>
                </a:lnTo>
                <a:lnTo>
                  <a:pt x="4214543" y="14657"/>
                </a:lnTo>
                <a:lnTo>
                  <a:pt x="4255937" y="22345"/>
                </a:lnTo>
                <a:lnTo>
                  <a:pt x="4297619" y="23554"/>
                </a:lnTo>
                <a:lnTo>
                  <a:pt x="4312502" y="23586"/>
                </a:lnTo>
                <a:lnTo>
                  <a:pt x="4308138" y="28327"/>
                </a:lnTo>
                <a:lnTo>
                  <a:pt x="4303254" y="30654"/>
                </a:lnTo>
                <a:lnTo>
                  <a:pt x="4286249" y="3251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SMARTInkShape-250"/>
          <p:cNvSpPr/>
          <p:nvPr/>
        </p:nvSpPr>
        <p:spPr>
          <a:xfrm>
            <a:off x="2751120" y="4106880"/>
            <a:ext cx="2428920" cy="19692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428876" h="196454">
                <a:moveTo>
                  <a:pt x="0" y="0"/>
                </a:moveTo>
                <a:lnTo>
                  <a:pt x="0" y="0"/>
                </a:lnTo>
                <a:lnTo>
                  <a:pt x="14258" y="992"/>
                </a:lnTo>
                <a:lnTo>
                  <a:pt x="44002" y="11024"/>
                </a:lnTo>
                <a:lnTo>
                  <a:pt x="47194" y="13302"/>
                </a:lnTo>
                <a:lnTo>
                  <a:pt x="61167" y="16509"/>
                </a:lnTo>
                <a:lnTo>
                  <a:pt x="100134" y="22481"/>
                </a:lnTo>
                <a:lnTo>
                  <a:pt x="143126" y="28868"/>
                </a:lnTo>
                <a:lnTo>
                  <a:pt x="187556" y="35809"/>
                </a:lnTo>
                <a:lnTo>
                  <a:pt x="225894" y="42609"/>
                </a:lnTo>
                <a:lnTo>
                  <a:pt x="259747" y="44044"/>
                </a:lnTo>
                <a:lnTo>
                  <a:pt x="294912" y="44469"/>
                </a:lnTo>
                <a:lnTo>
                  <a:pt x="330467" y="44595"/>
                </a:lnTo>
                <a:lnTo>
                  <a:pt x="366137" y="44632"/>
                </a:lnTo>
                <a:lnTo>
                  <a:pt x="404487" y="44644"/>
                </a:lnTo>
                <a:lnTo>
                  <a:pt x="444624" y="44648"/>
                </a:lnTo>
                <a:lnTo>
                  <a:pt x="484298" y="47294"/>
                </a:lnTo>
                <a:lnTo>
                  <a:pt x="513892" y="50785"/>
                </a:lnTo>
                <a:lnTo>
                  <a:pt x="546888" y="52337"/>
                </a:lnTo>
                <a:lnTo>
                  <a:pt x="578752" y="53026"/>
                </a:lnTo>
                <a:lnTo>
                  <a:pt x="610441" y="53333"/>
                </a:lnTo>
                <a:lnTo>
                  <a:pt x="644369" y="53469"/>
                </a:lnTo>
                <a:lnTo>
                  <a:pt x="676647" y="53530"/>
                </a:lnTo>
                <a:lnTo>
                  <a:pt x="708520" y="52564"/>
                </a:lnTo>
                <a:lnTo>
                  <a:pt x="742531" y="48828"/>
                </a:lnTo>
                <a:lnTo>
                  <a:pt x="777490" y="46506"/>
                </a:lnTo>
                <a:lnTo>
                  <a:pt x="812871" y="45474"/>
                </a:lnTo>
                <a:lnTo>
                  <a:pt x="848440" y="45015"/>
                </a:lnTo>
                <a:lnTo>
                  <a:pt x="884092" y="44812"/>
                </a:lnTo>
                <a:lnTo>
                  <a:pt x="919781" y="44721"/>
                </a:lnTo>
                <a:lnTo>
                  <a:pt x="955487" y="44681"/>
                </a:lnTo>
                <a:lnTo>
                  <a:pt x="991199" y="44663"/>
                </a:lnTo>
                <a:lnTo>
                  <a:pt x="1027908" y="43663"/>
                </a:lnTo>
                <a:lnTo>
                  <a:pt x="1067374" y="39911"/>
                </a:lnTo>
                <a:lnTo>
                  <a:pt x="1108065" y="37582"/>
                </a:lnTo>
                <a:lnTo>
                  <a:pt x="1149302" y="36547"/>
                </a:lnTo>
                <a:lnTo>
                  <a:pt x="1190780" y="36087"/>
                </a:lnTo>
                <a:lnTo>
                  <a:pt x="1229720" y="33237"/>
                </a:lnTo>
                <a:lnTo>
                  <a:pt x="1267862" y="29655"/>
                </a:lnTo>
                <a:lnTo>
                  <a:pt x="1307966" y="28062"/>
                </a:lnTo>
                <a:lnTo>
                  <a:pt x="1348940" y="24709"/>
                </a:lnTo>
                <a:lnTo>
                  <a:pt x="1390302" y="20904"/>
                </a:lnTo>
                <a:lnTo>
                  <a:pt x="1431836" y="19213"/>
                </a:lnTo>
                <a:lnTo>
                  <a:pt x="1473447" y="18460"/>
                </a:lnTo>
                <a:lnTo>
                  <a:pt x="1515091" y="18127"/>
                </a:lnTo>
                <a:lnTo>
                  <a:pt x="1556751" y="17978"/>
                </a:lnTo>
                <a:lnTo>
                  <a:pt x="1601064" y="17912"/>
                </a:lnTo>
                <a:lnTo>
                  <a:pt x="1623993" y="17895"/>
                </a:lnTo>
                <a:lnTo>
                  <a:pt x="1667991" y="17875"/>
                </a:lnTo>
                <a:lnTo>
                  <a:pt x="1711689" y="17866"/>
                </a:lnTo>
                <a:lnTo>
                  <a:pt x="1734454" y="17864"/>
                </a:lnTo>
                <a:lnTo>
                  <a:pt x="1757568" y="17862"/>
                </a:lnTo>
                <a:lnTo>
                  <a:pt x="1801771" y="20506"/>
                </a:lnTo>
                <a:lnTo>
                  <a:pt x="1845560" y="24989"/>
                </a:lnTo>
                <a:lnTo>
                  <a:pt x="1868350" y="27573"/>
                </a:lnTo>
                <a:lnTo>
                  <a:pt x="1891481" y="30289"/>
                </a:lnTo>
                <a:lnTo>
                  <a:pt x="1935702" y="35951"/>
                </a:lnTo>
                <a:lnTo>
                  <a:pt x="1978507" y="41775"/>
                </a:lnTo>
                <a:lnTo>
                  <a:pt x="2020683" y="47671"/>
                </a:lnTo>
                <a:lnTo>
                  <a:pt x="2062578" y="56244"/>
                </a:lnTo>
                <a:lnTo>
                  <a:pt x="2103358" y="66670"/>
                </a:lnTo>
                <a:lnTo>
                  <a:pt x="2141325" y="77917"/>
                </a:lnTo>
                <a:lnTo>
                  <a:pt x="2180690" y="89531"/>
                </a:lnTo>
                <a:lnTo>
                  <a:pt x="2221336" y="101308"/>
                </a:lnTo>
                <a:lnTo>
                  <a:pt x="2262551" y="113156"/>
                </a:lnTo>
                <a:lnTo>
                  <a:pt x="2301375" y="127682"/>
                </a:lnTo>
                <a:lnTo>
                  <a:pt x="2337481" y="144060"/>
                </a:lnTo>
                <a:lnTo>
                  <a:pt x="2370065" y="161261"/>
                </a:lnTo>
                <a:lnTo>
                  <a:pt x="2414171" y="187444"/>
                </a:lnTo>
                <a:lnTo>
                  <a:pt x="2428875" y="19645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SMARTInkShape-251"/>
          <p:cNvSpPr/>
          <p:nvPr/>
        </p:nvSpPr>
        <p:spPr>
          <a:xfrm>
            <a:off x="125280" y="5276880"/>
            <a:ext cx="3168720" cy="8571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3169157" h="857198">
                <a:moveTo>
                  <a:pt x="178238" y="526798"/>
                </a:moveTo>
                <a:lnTo>
                  <a:pt x="178238" y="526798"/>
                </a:lnTo>
                <a:lnTo>
                  <a:pt x="195020" y="519731"/>
                </a:lnTo>
                <a:lnTo>
                  <a:pt x="237512" y="517891"/>
                </a:lnTo>
                <a:lnTo>
                  <a:pt x="278741" y="517869"/>
                </a:lnTo>
                <a:lnTo>
                  <a:pt x="322555" y="517869"/>
                </a:lnTo>
                <a:lnTo>
                  <a:pt x="358884" y="515223"/>
                </a:lnTo>
                <a:lnTo>
                  <a:pt x="401751" y="509767"/>
                </a:lnTo>
                <a:lnTo>
                  <a:pt x="446165" y="509048"/>
                </a:lnTo>
                <a:lnTo>
                  <a:pt x="487992" y="508961"/>
                </a:lnTo>
                <a:lnTo>
                  <a:pt x="528592" y="508944"/>
                </a:lnTo>
                <a:lnTo>
                  <a:pt x="562836" y="511586"/>
                </a:lnTo>
                <a:lnTo>
                  <a:pt x="598118" y="516008"/>
                </a:lnTo>
                <a:lnTo>
                  <a:pt x="633707" y="517317"/>
                </a:lnTo>
                <a:lnTo>
                  <a:pt x="672033" y="520352"/>
                </a:lnTo>
                <a:lnTo>
                  <a:pt x="712162" y="522243"/>
                </a:lnTo>
                <a:lnTo>
                  <a:pt x="749188" y="519165"/>
                </a:lnTo>
                <a:lnTo>
                  <a:pt x="787940" y="520898"/>
                </a:lnTo>
                <a:lnTo>
                  <a:pt x="830841" y="525051"/>
                </a:lnTo>
                <a:lnTo>
                  <a:pt x="874972" y="526281"/>
                </a:lnTo>
                <a:lnTo>
                  <a:pt x="919467" y="526645"/>
                </a:lnTo>
                <a:lnTo>
                  <a:pt x="964070" y="526753"/>
                </a:lnTo>
                <a:lnTo>
                  <a:pt x="994817" y="526779"/>
                </a:lnTo>
                <a:lnTo>
                  <a:pt x="1028326" y="526790"/>
                </a:lnTo>
                <a:lnTo>
                  <a:pt x="1060417" y="526795"/>
                </a:lnTo>
                <a:lnTo>
                  <a:pt x="1093200" y="527789"/>
                </a:lnTo>
                <a:lnTo>
                  <a:pt x="1130922" y="531539"/>
                </a:lnTo>
                <a:lnTo>
                  <a:pt x="1165547" y="533866"/>
                </a:lnTo>
                <a:lnTo>
                  <a:pt x="1199456" y="534900"/>
                </a:lnTo>
                <a:lnTo>
                  <a:pt x="1237678" y="535360"/>
                </a:lnTo>
                <a:lnTo>
                  <a:pt x="1275170" y="535565"/>
                </a:lnTo>
                <a:lnTo>
                  <a:pt x="1311678" y="535655"/>
                </a:lnTo>
                <a:lnTo>
                  <a:pt x="1347747" y="535696"/>
                </a:lnTo>
                <a:lnTo>
                  <a:pt x="1386267" y="535713"/>
                </a:lnTo>
                <a:lnTo>
                  <a:pt x="1425546" y="535721"/>
                </a:lnTo>
                <a:lnTo>
                  <a:pt x="1462847" y="535725"/>
                </a:lnTo>
                <a:lnTo>
                  <a:pt x="1501915" y="535727"/>
                </a:lnTo>
                <a:lnTo>
                  <a:pt x="1542430" y="535728"/>
                </a:lnTo>
                <a:lnTo>
                  <a:pt x="1583587" y="535728"/>
                </a:lnTo>
                <a:lnTo>
                  <a:pt x="1622385" y="538374"/>
                </a:lnTo>
                <a:lnTo>
                  <a:pt x="1660464" y="541865"/>
                </a:lnTo>
                <a:lnTo>
                  <a:pt x="1700539" y="543416"/>
                </a:lnTo>
                <a:lnTo>
                  <a:pt x="1741501" y="544106"/>
                </a:lnTo>
                <a:lnTo>
                  <a:pt x="1782858" y="544413"/>
                </a:lnTo>
                <a:lnTo>
                  <a:pt x="1824390" y="544549"/>
                </a:lnTo>
                <a:lnTo>
                  <a:pt x="1865999" y="544610"/>
                </a:lnTo>
                <a:lnTo>
                  <a:pt x="1907643" y="544636"/>
                </a:lnTo>
                <a:lnTo>
                  <a:pt x="1949303" y="544649"/>
                </a:lnTo>
                <a:lnTo>
                  <a:pt x="1988324" y="544654"/>
                </a:lnTo>
                <a:lnTo>
                  <a:pt x="2026502" y="544657"/>
                </a:lnTo>
                <a:lnTo>
                  <a:pt x="2066621" y="544658"/>
                </a:lnTo>
                <a:lnTo>
                  <a:pt x="2107603" y="544658"/>
                </a:lnTo>
                <a:lnTo>
                  <a:pt x="2148968" y="545650"/>
                </a:lnTo>
                <a:lnTo>
                  <a:pt x="2190504" y="549398"/>
                </a:lnTo>
                <a:lnTo>
                  <a:pt x="2229469" y="551726"/>
                </a:lnTo>
                <a:lnTo>
                  <a:pt x="2267623" y="552760"/>
                </a:lnTo>
                <a:lnTo>
                  <a:pt x="2307731" y="553219"/>
                </a:lnTo>
                <a:lnTo>
                  <a:pt x="2346062" y="553424"/>
                </a:lnTo>
                <a:lnTo>
                  <a:pt x="2383934" y="553515"/>
                </a:lnTo>
                <a:lnTo>
                  <a:pt x="2423917" y="553555"/>
                </a:lnTo>
                <a:lnTo>
                  <a:pt x="2462193" y="550928"/>
                </a:lnTo>
                <a:lnTo>
                  <a:pt x="2499048" y="547444"/>
                </a:lnTo>
                <a:lnTo>
                  <a:pt x="2535271" y="545896"/>
                </a:lnTo>
                <a:lnTo>
                  <a:pt x="2571215" y="542562"/>
                </a:lnTo>
                <a:lnTo>
                  <a:pt x="2607033" y="538766"/>
                </a:lnTo>
                <a:lnTo>
                  <a:pt x="2642797" y="537078"/>
                </a:lnTo>
                <a:lnTo>
                  <a:pt x="2678535" y="533682"/>
                </a:lnTo>
                <a:lnTo>
                  <a:pt x="2713270" y="528865"/>
                </a:lnTo>
                <a:lnTo>
                  <a:pt x="2745244" y="523418"/>
                </a:lnTo>
                <a:lnTo>
                  <a:pt x="2775992" y="520335"/>
                </a:lnTo>
                <a:lnTo>
                  <a:pt x="2806194" y="517973"/>
                </a:lnTo>
                <a:lnTo>
                  <a:pt x="2836153" y="513615"/>
                </a:lnTo>
                <a:lnTo>
                  <a:pt x="2866005" y="508372"/>
                </a:lnTo>
                <a:lnTo>
                  <a:pt x="2908057" y="497195"/>
                </a:lnTo>
                <a:lnTo>
                  <a:pt x="2945651" y="483962"/>
                </a:lnTo>
                <a:lnTo>
                  <a:pt x="2981926" y="471111"/>
                </a:lnTo>
                <a:lnTo>
                  <a:pt x="3024999" y="453732"/>
                </a:lnTo>
                <a:lnTo>
                  <a:pt x="3062170" y="440745"/>
                </a:lnTo>
                <a:lnTo>
                  <a:pt x="3088218" y="430635"/>
                </a:lnTo>
                <a:lnTo>
                  <a:pt x="3126662" y="404602"/>
                </a:lnTo>
                <a:lnTo>
                  <a:pt x="3154632" y="367677"/>
                </a:lnTo>
                <a:lnTo>
                  <a:pt x="3167015" y="341741"/>
                </a:lnTo>
                <a:lnTo>
                  <a:pt x="3169156" y="323115"/>
                </a:lnTo>
                <a:lnTo>
                  <a:pt x="3164787" y="306155"/>
                </a:lnTo>
                <a:lnTo>
                  <a:pt x="3144767" y="272940"/>
                </a:lnTo>
                <a:lnTo>
                  <a:pt x="3104291" y="232069"/>
                </a:lnTo>
                <a:lnTo>
                  <a:pt x="3067292" y="202346"/>
                </a:lnTo>
                <a:lnTo>
                  <a:pt x="3028043" y="178540"/>
                </a:lnTo>
                <a:lnTo>
                  <a:pt x="2986593" y="154728"/>
                </a:lnTo>
                <a:lnTo>
                  <a:pt x="2951944" y="141609"/>
                </a:lnTo>
                <a:lnTo>
                  <a:pt x="2916543" y="126698"/>
                </a:lnTo>
                <a:lnTo>
                  <a:pt x="2876177" y="114452"/>
                </a:lnTo>
                <a:lnTo>
                  <a:pt x="2837538" y="99800"/>
                </a:lnTo>
                <a:lnTo>
                  <a:pt x="2796214" y="87631"/>
                </a:lnTo>
                <a:lnTo>
                  <a:pt x="2752550" y="77742"/>
                </a:lnTo>
                <a:lnTo>
                  <a:pt x="2708193" y="63787"/>
                </a:lnTo>
                <a:lnTo>
                  <a:pt x="2675850" y="55441"/>
                </a:lnTo>
                <a:lnTo>
                  <a:pt x="2642624" y="49416"/>
                </a:lnTo>
                <a:lnTo>
                  <a:pt x="2611320" y="46737"/>
                </a:lnTo>
                <a:lnTo>
                  <a:pt x="2578225" y="42902"/>
                </a:lnTo>
                <a:lnTo>
                  <a:pt x="2544665" y="37890"/>
                </a:lnTo>
                <a:lnTo>
                  <a:pt x="2513212" y="32355"/>
                </a:lnTo>
                <a:lnTo>
                  <a:pt x="2477406" y="26588"/>
                </a:lnTo>
                <a:lnTo>
                  <a:pt x="2440325" y="21709"/>
                </a:lnTo>
                <a:lnTo>
                  <a:pt x="2407308" y="19541"/>
                </a:lnTo>
                <a:lnTo>
                  <a:pt x="2370806" y="15931"/>
                </a:lnTo>
                <a:lnTo>
                  <a:pt x="2332424" y="12012"/>
                </a:lnTo>
                <a:lnTo>
                  <a:pt x="2295521" y="10270"/>
                </a:lnTo>
                <a:lnTo>
                  <a:pt x="2259276" y="6850"/>
                </a:lnTo>
                <a:lnTo>
                  <a:pt x="2222331" y="3015"/>
                </a:lnTo>
                <a:lnTo>
                  <a:pt x="2182761" y="1310"/>
                </a:lnTo>
                <a:lnTo>
                  <a:pt x="2142023" y="553"/>
                </a:lnTo>
                <a:lnTo>
                  <a:pt x="2101758" y="217"/>
                </a:lnTo>
                <a:lnTo>
                  <a:pt x="2064019" y="67"/>
                </a:lnTo>
                <a:lnTo>
                  <a:pt x="2024756" y="0"/>
                </a:lnTo>
                <a:lnTo>
                  <a:pt x="1984155" y="963"/>
                </a:lnTo>
                <a:lnTo>
                  <a:pt x="1942959" y="4699"/>
                </a:lnTo>
                <a:lnTo>
                  <a:pt x="1898853" y="7020"/>
                </a:lnTo>
                <a:lnTo>
                  <a:pt x="1875979" y="7639"/>
                </a:lnTo>
                <a:lnTo>
                  <a:pt x="1832042" y="8327"/>
                </a:lnTo>
                <a:lnTo>
                  <a:pt x="1789364" y="9625"/>
                </a:lnTo>
                <a:lnTo>
                  <a:pt x="1747245" y="13508"/>
                </a:lnTo>
                <a:lnTo>
                  <a:pt x="1705374" y="15896"/>
                </a:lnTo>
                <a:lnTo>
                  <a:pt x="1662621" y="17949"/>
                </a:lnTo>
                <a:lnTo>
                  <a:pt x="1640108" y="19886"/>
                </a:lnTo>
                <a:lnTo>
                  <a:pt x="1617162" y="22169"/>
                </a:lnTo>
                <a:lnTo>
                  <a:pt x="1573145" y="27352"/>
                </a:lnTo>
                <a:lnTo>
                  <a:pt x="1529439" y="31971"/>
                </a:lnTo>
                <a:lnTo>
                  <a:pt x="1506672" y="33203"/>
                </a:lnTo>
                <a:lnTo>
                  <a:pt x="1483556" y="34024"/>
                </a:lnTo>
                <a:lnTo>
                  <a:pt x="1439351" y="37582"/>
                </a:lnTo>
                <a:lnTo>
                  <a:pt x="1396553" y="41478"/>
                </a:lnTo>
                <a:lnTo>
                  <a:pt x="1354381" y="43210"/>
                </a:lnTo>
                <a:lnTo>
                  <a:pt x="1312487" y="46625"/>
                </a:lnTo>
                <a:lnTo>
                  <a:pt x="1270716" y="50459"/>
                </a:lnTo>
                <a:lnTo>
                  <a:pt x="1229000" y="52163"/>
                </a:lnTo>
                <a:lnTo>
                  <a:pt x="1187308" y="55566"/>
                </a:lnTo>
                <a:lnTo>
                  <a:pt x="1146620" y="60385"/>
                </a:lnTo>
                <a:lnTo>
                  <a:pt x="1108693" y="65835"/>
                </a:lnTo>
                <a:lnTo>
                  <a:pt x="1069346" y="68918"/>
                </a:lnTo>
                <a:lnTo>
                  <a:pt x="1029700" y="71281"/>
                </a:lnTo>
                <a:lnTo>
                  <a:pt x="992236" y="75638"/>
                </a:lnTo>
                <a:lnTo>
                  <a:pt x="953096" y="78236"/>
                </a:lnTo>
                <a:lnTo>
                  <a:pt x="913541" y="79390"/>
                </a:lnTo>
                <a:lnTo>
                  <a:pt x="876118" y="79904"/>
                </a:lnTo>
                <a:lnTo>
                  <a:pt x="839642" y="82778"/>
                </a:lnTo>
                <a:lnTo>
                  <a:pt x="803586" y="86370"/>
                </a:lnTo>
                <a:lnTo>
                  <a:pt x="767717" y="87966"/>
                </a:lnTo>
                <a:lnTo>
                  <a:pt x="734578" y="91322"/>
                </a:lnTo>
                <a:lnTo>
                  <a:pt x="702321" y="95128"/>
                </a:lnTo>
                <a:lnTo>
                  <a:pt x="668140" y="96820"/>
                </a:lnTo>
                <a:lnTo>
                  <a:pt x="635751" y="100217"/>
                </a:lnTo>
                <a:lnTo>
                  <a:pt x="592272" y="105063"/>
                </a:lnTo>
                <a:lnTo>
                  <a:pt x="551608" y="106499"/>
                </a:lnTo>
                <a:lnTo>
                  <a:pt x="508140" y="109570"/>
                </a:lnTo>
                <a:lnTo>
                  <a:pt x="466487" y="116764"/>
                </a:lnTo>
                <a:lnTo>
                  <a:pt x="426364" y="122533"/>
                </a:lnTo>
                <a:lnTo>
                  <a:pt x="385703" y="126888"/>
                </a:lnTo>
                <a:lnTo>
                  <a:pt x="341148" y="137249"/>
                </a:lnTo>
                <a:lnTo>
                  <a:pt x="296555" y="142714"/>
                </a:lnTo>
                <a:lnTo>
                  <a:pt x="252174" y="152319"/>
                </a:lnTo>
                <a:lnTo>
                  <a:pt x="209710" y="168510"/>
                </a:lnTo>
                <a:lnTo>
                  <a:pt x="170234" y="183688"/>
                </a:lnTo>
                <a:lnTo>
                  <a:pt x="143786" y="194177"/>
                </a:lnTo>
                <a:lnTo>
                  <a:pt x="103205" y="220357"/>
                </a:lnTo>
                <a:lnTo>
                  <a:pt x="66419" y="247412"/>
                </a:lnTo>
                <a:lnTo>
                  <a:pt x="32627" y="289690"/>
                </a:lnTo>
                <a:lnTo>
                  <a:pt x="11833" y="332496"/>
                </a:lnTo>
                <a:lnTo>
                  <a:pt x="3697" y="351929"/>
                </a:lnTo>
                <a:lnTo>
                  <a:pt x="0" y="394981"/>
                </a:lnTo>
                <a:lnTo>
                  <a:pt x="668" y="437612"/>
                </a:lnTo>
                <a:lnTo>
                  <a:pt x="17738" y="481983"/>
                </a:lnTo>
                <a:lnTo>
                  <a:pt x="29149" y="499960"/>
                </a:lnTo>
                <a:lnTo>
                  <a:pt x="56557" y="528776"/>
                </a:lnTo>
                <a:lnTo>
                  <a:pt x="100538" y="560423"/>
                </a:lnTo>
                <a:lnTo>
                  <a:pt x="142871" y="583261"/>
                </a:lnTo>
                <a:lnTo>
                  <a:pt x="187214" y="600808"/>
                </a:lnTo>
                <a:lnTo>
                  <a:pt x="229033" y="613039"/>
                </a:lnTo>
                <a:lnTo>
                  <a:pt x="269631" y="625009"/>
                </a:lnTo>
                <a:lnTo>
                  <a:pt x="303875" y="633950"/>
                </a:lnTo>
                <a:lnTo>
                  <a:pt x="341803" y="642884"/>
                </a:lnTo>
                <a:lnTo>
                  <a:pt x="381814" y="651814"/>
                </a:lnTo>
                <a:lnTo>
                  <a:pt x="421450" y="660744"/>
                </a:lnTo>
                <a:lnTo>
                  <a:pt x="464614" y="667028"/>
                </a:lnTo>
                <a:lnTo>
                  <a:pt x="506176" y="668889"/>
                </a:lnTo>
                <a:lnTo>
                  <a:pt x="546272" y="669441"/>
                </a:lnTo>
                <a:lnTo>
                  <a:pt x="575965" y="669570"/>
                </a:lnTo>
                <a:lnTo>
                  <a:pt x="609006" y="669628"/>
                </a:lnTo>
                <a:lnTo>
                  <a:pt x="643534" y="669653"/>
                </a:lnTo>
                <a:lnTo>
                  <a:pt x="678724" y="670656"/>
                </a:lnTo>
                <a:lnTo>
                  <a:pt x="714208" y="674410"/>
                </a:lnTo>
                <a:lnTo>
                  <a:pt x="749822" y="676739"/>
                </a:lnTo>
                <a:lnTo>
                  <a:pt x="785494" y="677775"/>
                </a:lnTo>
                <a:lnTo>
                  <a:pt x="821192" y="678235"/>
                </a:lnTo>
                <a:lnTo>
                  <a:pt x="856902" y="678440"/>
                </a:lnTo>
                <a:lnTo>
                  <a:pt x="892617" y="678530"/>
                </a:lnTo>
                <a:lnTo>
                  <a:pt x="928334" y="678571"/>
                </a:lnTo>
                <a:lnTo>
                  <a:pt x="966697" y="681235"/>
                </a:lnTo>
                <a:lnTo>
                  <a:pt x="1006899" y="684733"/>
                </a:lnTo>
                <a:lnTo>
                  <a:pt x="1047917" y="686288"/>
                </a:lnTo>
                <a:lnTo>
                  <a:pt x="1091945" y="686980"/>
                </a:lnTo>
                <a:lnTo>
                  <a:pt x="1114798" y="687165"/>
                </a:lnTo>
                <a:lnTo>
                  <a:pt x="1158711" y="690016"/>
                </a:lnTo>
                <a:lnTo>
                  <a:pt x="1201379" y="693598"/>
                </a:lnTo>
                <a:lnTo>
                  <a:pt x="1243494" y="695189"/>
                </a:lnTo>
                <a:lnTo>
                  <a:pt x="1288008" y="695896"/>
                </a:lnTo>
                <a:lnTo>
                  <a:pt x="1310991" y="696086"/>
                </a:lnTo>
                <a:lnTo>
                  <a:pt x="1355048" y="696295"/>
                </a:lnTo>
                <a:lnTo>
                  <a:pt x="1398773" y="697380"/>
                </a:lnTo>
                <a:lnTo>
                  <a:pt x="1421545" y="699059"/>
                </a:lnTo>
                <a:lnTo>
                  <a:pt x="1444664" y="701171"/>
                </a:lnTo>
                <a:lnTo>
                  <a:pt x="1468014" y="702578"/>
                </a:lnTo>
                <a:lnTo>
                  <a:pt x="1491519" y="703516"/>
                </a:lnTo>
                <a:lnTo>
                  <a:pt x="1515126" y="704142"/>
                </a:lnTo>
                <a:lnTo>
                  <a:pt x="1538801" y="704559"/>
                </a:lnTo>
                <a:lnTo>
                  <a:pt x="1562522" y="704836"/>
                </a:lnTo>
                <a:lnTo>
                  <a:pt x="1586274" y="705022"/>
                </a:lnTo>
                <a:lnTo>
                  <a:pt x="1611038" y="705145"/>
                </a:lnTo>
                <a:lnTo>
                  <a:pt x="1636477" y="705227"/>
                </a:lnTo>
                <a:lnTo>
                  <a:pt x="1662366" y="705283"/>
                </a:lnTo>
                <a:lnTo>
                  <a:pt x="1688555" y="706312"/>
                </a:lnTo>
                <a:lnTo>
                  <a:pt x="1714944" y="707989"/>
                </a:lnTo>
                <a:lnTo>
                  <a:pt x="1741467" y="710100"/>
                </a:lnTo>
                <a:lnTo>
                  <a:pt x="1768078" y="711507"/>
                </a:lnTo>
                <a:lnTo>
                  <a:pt x="1794749" y="712445"/>
                </a:lnTo>
                <a:lnTo>
                  <a:pt x="1821459" y="713071"/>
                </a:lnTo>
                <a:lnTo>
                  <a:pt x="1848195" y="713488"/>
                </a:lnTo>
                <a:lnTo>
                  <a:pt x="1874949" y="713766"/>
                </a:lnTo>
                <a:lnTo>
                  <a:pt x="1901715" y="713951"/>
                </a:lnTo>
                <a:lnTo>
                  <a:pt x="1929480" y="715067"/>
                </a:lnTo>
                <a:lnTo>
                  <a:pt x="1957912" y="716803"/>
                </a:lnTo>
                <a:lnTo>
                  <a:pt x="1986789" y="718953"/>
                </a:lnTo>
                <a:lnTo>
                  <a:pt x="2015962" y="720386"/>
                </a:lnTo>
                <a:lnTo>
                  <a:pt x="2045333" y="721341"/>
                </a:lnTo>
                <a:lnTo>
                  <a:pt x="2074835" y="721978"/>
                </a:lnTo>
                <a:lnTo>
                  <a:pt x="2106410" y="723395"/>
                </a:lnTo>
                <a:lnTo>
                  <a:pt x="2139366" y="725331"/>
                </a:lnTo>
                <a:lnTo>
                  <a:pt x="2173242" y="727615"/>
                </a:lnTo>
                <a:lnTo>
                  <a:pt x="2206741" y="730129"/>
                </a:lnTo>
                <a:lnTo>
                  <a:pt x="2239988" y="732798"/>
                </a:lnTo>
                <a:lnTo>
                  <a:pt x="2273066" y="735569"/>
                </a:lnTo>
                <a:lnTo>
                  <a:pt x="2307025" y="738408"/>
                </a:lnTo>
                <a:lnTo>
                  <a:pt x="2341569" y="741294"/>
                </a:lnTo>
                <a:lnTo>
                  <a:pt x="2376506" y="744209"/>
                </a:lnTo>
                <a:lnTo>
                  <a:pt x="2412695" y="748138"/>
                </a:lnTo>
                <a:lnTo>
                  <a:pt x="2449720" y="752741"/>
                </a:lnTo>
                <a:lnTo>
                  <a:pt x="2487302" y="757794"/>
                </a:lnTo>
                <a:lnTo>
                  <a:pt x="2525254" y="763147"/>
                </a:lnTo>
                <a:lnTo>
                  <a:pt x="2563455" y="768700"/>
                </a:lnTo>
                <a:lnTo>
                  <a:pt x="2601820" y="774387"/>
                </a:lnTo>
                <a:lnTo>
                  <a:pt x="2642280" y="782146"/>
                </a:lnTo>
                <a:lnTo>
                  <a:pt x="2684136" y="791288"/>
                </a:lnTo>
                <a:lnTo>
                  <a:pt x="2726923" y="801351"/>
                </a:lnTo>
                <a:lnTo>
                  <a:pt x="2770330" y="812029"/>
                </a:lnTo>
                <a:lnTo>
                  <a:pt x="2814151" y="823116"/>
                </a:lnTo>
                <a:lnTo>
                  <a:pt x="2858248" y="834476"/>
                </a:lnTo>
                <a:lnTo>
                  <a:pt x="2887646" y="842049"/>
                </a:lnTo>
                <a:lnTo>
                  <a:pt x="2946441" y="85719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12 Apost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7" name="Picture 5" descr="lastsupp_apostles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Roman Persecution of Jews and Christia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did the Romans hate Christianity/Judai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otheism vs. Polythe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istians/Jews didn’t recognize the emperors as G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lamed for any problems in Roman socie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perors such as Nero crucified and tortured Christians and Jews as trait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Jews fled their homeland to escape- Known as the Jewish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aspor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or “spreading ou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ristians and Jews becam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rtyrs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ying for their belief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50" name="SMARTInkShape-Group230"/>
          <p:cNvGrpSpPr/>
          <p:nvPr/>
        </p:nvGrpSpPr>
        <p:grpSpPr>
          <a:xfrm>
            <a:off x="3610080" y="3911760"/>
            <a:ext cx="3427200" cy="704520"/>
            <a:chOff x="3610080" y="3911760"/>
            <a:chExt cx="3427200" cy="704520"/>
          </a:xfrm>
        </p:grpSpPr>
        <p:sp>
          <p:nvSpPr>
            <p:cNvPr id="351" name="SMARTInkShape-252"/>
            <p:cNvSpPr/>
            <p:nvPr/>
          </p:nvSpPr>
          <p:spPr>
            <a:xfrm>
              <a:off x="4608000" y="4143600"/>
              <a:ext cx="330120" cy="712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30400" h="71438">
                  <a:moveTo>
                    <a:pt x="0" y="71437"/>
                  </a:moveTo>
                  <a:lnTo>
                    <a:pt x="0" y="71437"/>
                  </a:lnTo>
                  <a:lnTo>
                    <a:pt x="32546" y="63749"/>
                  </a:lnTo>
                  <a:lnTo>
                    <a:pt x="69550" y="60025"/>
                  </a:lnTo>
                  <a:lnTo>
                    <a:pt x="91384" y="55488"/>
                  </a:lnTo>
                  <a:lnTo>
                    <a:pt x="132236" y="47693"/>
                  </a:lnTo>
                  <a:lnTo>
                    <a:pt x="171344" y="38779"/>
                  </a:lnTo>
                  <a:lnTo>
                    <a:pt x="214534" y="31381"/>
                  </a:lnTo>
                  <a:lnTo>
                    <a:pt x="258991" y="20326"/>
                  </a:lnTo>
                  <a:lnTo>
                    <a:pt x="302622" y="11055"/>
                  </a:lnTo>
                  <a:lnTo>
                    <a:pt x="33039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2" name="SMARTInkShape-253"/>
            <p:cNvSpPr/>
            <p:nvPr/>
          </p:nvSpPr>
          <p:spPr>
            <a:xfrm>
              <a:off x="4572360" y="4000680"/>
              <a:ext cx="437400" cy="106920"/>
            </a:xfrm>
            <a:custGeom>
              <a:avLst/>
              <a:gdLst>
                <a:gd name="textAreaLeft" fmla="*/ 0 w 437400"/>
                <a:gd name="textAreaRight" fmla="*/ 437760 w 4374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37556" h="107157">
                  <a:moveTo>
                    <a:pt x="0" y="107156"/>
                  </a:moveTo>
                  <a:lnTo>
                    <a:pt x="0" y="107156"/>
                  </a:lnTo>
                  <a:lnTo>
                    <a:pt x="0" y="102415"/>
                  </a:lnTo>
                  <a:lnTo>
                    <a:pt x="1984" y="101019"/>
                  </a:lnTo>
                  <a:lnTo>
                    <a:pt x="19427" y="98778"/>
                  </a:lnTo>
                  <a:lnTo>
                    <a:pt x="56362" y="95629"/>
                  </a:lnTo>
                  <a:lnTo>
                    <a:pt x="93448" y="90130"/>
                  </a:lnTo>
                  <a:lnTo>
                    <a:pt x="121174" y="88552"/>
                  </a:lnTo>
                  <a:lnTo>
                    <a:pt x="161234" y="81216"/>
                  </a:lnTo>
                  <a:lnTo>
                    <a:pt x="202631" y="75738"/>
                  </a:lnTo>
                  <a:lnTo>
                    <a:pt x="242601" y="69357"/>
                  </a:lnTo>
                  <a:lnTo>
                    <a:pt x="284955" y="57273"/>
                  </a:lnTo>
                  <a:lnTo>
                    <a:pt x="322735" y="49324"/>
                  </a:lnTo>
                  <a:lnTo>
                    <a:pt x="362729" y="32630"/>
                  </a:lnTo>
                  <a:lnTo>
                    <a:pt x="403797" y="20001"/>
                  </a:lnTo>
                  <a:lnTo>
                    <a:pt x="418906" y="11411"/>
                  </a:lnTo>
                  <a:lnTo>
                    <a:pt x="425298" y="9040"/>
                  </a:lnTo>
                  <a:lnTo>
                    <a:pt x="43755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3" name="SMARTInkShape-254"/>
            <p:cNvSpPr/>
            <p:nvPr/>
          </p:nvSpPr>
          <p:spPr>
            <a:xfrm>
              <a:off x="4893840" y="3956040"/>
              <a:ext cx="35640" cy="2854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5720" h="285751">
                  <a:moveTo>
                    <a:pt x="26789" y="0"/>
                  </a:moveTo>
                  <a:lnTo>
                    <a:pt x="26789" y="0"/>
                  </a:lnTo>
                  <a:lnTo>
                    <a:pt x="26789" y="4741"/>
                  </a:lnTo>
                  <a:lnTo>
                    <a:pt x="21644" y="21369"/>
                  </a:lnTo>
                  <a:lnTo>
                    <a:pt x="27198" y="47595"/>
                  </a:lnTo>
                  <a:lnTo>
                    <a:pt x="32753" y="59633"/>
                  </a:lnTo>
                  <a:lnTo>
                    <a:pt x="35641" y="102111"/>
                  </a:lnTo>
                  <a:lnTo>
                    <a:pt x="35714" y="145574"/>
                  </a:lnTo>
                  <a:lnTo>
                    <a:pt x="35719" y="186977"/>
                  </a:lnTo>
                  <a:lnTo>
                    <a:pt x="34726" y="216225"/>
                  </a:lnTo>
                  <a:lnTo>
                    <a:pt x="28651" y="234020"/>
                  </a:lnTo>
                  <a:lnTo>
                    <a:pt x="26623" y="243907"/>
                  </a:lnTo>
                  <a:lnTo>
                    <a:pt x="19884" y="258339"/>
                  </a:lnTo>
                  <a:lnTo>
                    <a:pt x="17134" y="273763"/>
                  </a:lnTo>
                  <a:lnTo>
                    <a:pt x="9308" y="285225"/>
                  </a:lnTo>
                  <a:lnTo>
                    <a:pt x="0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4" name="SMARTInkShape-255"/>
            <p:cNvSpPr/>
            <p:nvPr/>
          </p:nvSpPr>
          <p:spPr>
            <a:xfrm>
              <a:off x="4768920" y="4009680"/>
              <a:ext cx="22680" cy="25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3005" h="258962">
                  <a:moveTo>
                    <a:pt x="17859" y="0"/>
                  </a:moveTo>
                  <a:lnTo>
                    <a:pt x="17859" y="0"/>
                  </a:lnTo>
                  <a:lnTo>
                    <a:pt x="17859" y="4741"/>
                  </a:lnTo>
                  <a:lnTo>
                    <a:pt x="20505" y="9714"/>
                  </a:lnTo>
                  <a:lnTo>
                    <a:pt x="22599" y="12429"/>
                  </a:lnTo>
                  <a:lnTo>
                    <a:pt x="23004" y="16224"/>
                  </a:lnTo>
                  <a:lnTo>
                    <a:pt x="17910" y="60454"/>
                  </a:lnTo>
                  <a:lnTo>
                    <a:pt x="16872" y="92616"/>
                  </a:lnTo>
                  <a:lnTo>
                    <a:pt x="9757" y="128023"/>
                  </a:lnTo>
                  <a:lnTo>
                    <a:pt x="8010" y="163714"/>
                  </a:lnTo>
                  <a:lnTo>
                    <a:pt x="834" y="199430"/>
                  </a:lnTo>
                  <a:lnTo>
                    <a:pt x="22" y="242922"/>
                  </a:lnTo>
                  <a:lnTo>
                    <a:pt x="0" y="2589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5" name="SMARTInkShape-256"/>
            <p:cNvSpPr/>
            <p:nvPr/>
          </p:nvSpPr>
          <p:spPr>
            <a:xfrm>
              <a:off x="3610080" y="4054320"/>
              <a:ext cx="1203120" cy="56196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203019" h="562472">
                  <a:moveTo>
                    <a:pt x="828259" y="62492"/>
                  </a:moveTo>
                  <a:lnTo>
                    <a:pt x="828259" y="62492"/>
                  </a:lnTo>
                  <a:lnTo>
                    <a:pt x="786277" y="41501"/>
                  </a:lnTo>
                  <a:lnTo>
                    <a:pt x="747068" y="26753"/>
                  </a:lnTo>
                  <a:lnTo>
                    <a:pt x="707270" y="14863"/>
                  </a:lnTo>
                  <a:lnTo>
                    <a:pt x="672907" y="10676"/>
                  </a:lnTo>
                  <a:lnTo>
                    <a:pt x="632850" y="4695"/>
                  </a:lnTo>
                  <a:lnTo>
                    <a:pt x="594272" y="915"/>
                  </a:lnTo>
                  <a:lnTo>
                    <a:pt x="550493" y="168"/>
                  </a:lnTo>
                  <a:lnTo>
                    <a:pt x="512794" y="38"/>
                  </a:lnTo>
                  <a:lnTo>
                    <a:pt x="470205" y="0"/>
                  </a:lnTo>
                  <a:lnTo>
                    <a:pt x="426166" y="2634"/>
                  </a:lnTo>
                  <a:lnTo>
                    <a:pt x="381699" y="9699"/>
                  </a:lnTo>
                  <a:lnTo>
                    <a:pt x="337104" y="18076"/>
                  </a:lnTo>
                  <a:lnTo>
                    <a:pt x="295117" y="29488"/>
                  </a:lnTo>
                  <a:lnTo>
                    <a:pt x="254895" y="42791"/>
                  </a:lnTo>
                  <a:lnTo>
                    <a:pt x="214205" y="55663"/>
                  </a:lnTo>
                  <a:lnTo>
                    <a:pt x="177013" y="72044"/>
                  </a:lnTo>
                  <a:lnTo>
                    <a:pt x="133630" y="95357"/>
                  </a:lnTo>
                  <a:lnTo>
                    <a:pt x="96397" y="120063"/>
                  </a:lnTo>
                  <a:lnTo>
                    <a:pt x="56167" y="161244"/>
                  </a:lnTo>
                  <a:lnTo>
                    <a:pt x="27472" y="198368"/>
                  </a:lnTo>
                  <a:lnTo>
                    <a:pt x="10084" y="235203"/>
                  </a:lnTo>
                  <a:lnTo>
                    <a:pt x="520" y="268476"/>
                  </a:lnTo>
                  <a:lnTo>
                    <a:pt x="0" y="285009"/>
                  </a:lnTo>
                  <a:lnTo>
                    <a:pt x="5646" y="322729"/>
                  </a:lnTo>
                  <a:lnTo>
                    <a:pt x="16300" y="366269"/>
                  </a:lnTo>
                  <a:lnTo>
                    <a:pt x="22888" y="383043"/>
                  </a:lnTo>
                  <a:lnTo>
                    <a:pt x="53735" y="423306"/>
                  </a:lnTo>
                  <a:lnTo>
                    <a:pt x="67179" y="446551"/>
                  </a:lnTo>
                  <a:lnTo>
                    <a:pt x="105860" y="478829"/>
                  </a:lnTo>
                  <a:lnTo>
                    <a:pt x="149723" y="501858"/>
                  </a:lnTo>
                  <a:lnTo>
                    <a:pt x="185345" y="519476"/>
                  </a:lnTo>
                  <a:lnTo>
                    <a:pt x="227183" y="538648"/>
                  </a:lnTo>
                  <a:lnTo>
                    <a:pt x="256926" y="548746"/>
                  </a:lnTo>
                  <a:lnTo>
                    <a:pt x="290432" y="553172"/>
                  </a:lnTo>
                  <a:lnTo>
                    <a:pt x="326488" y="559333"/>
                  </a:lnTo>
                  <a:lnTo>
                    <a:pt x="368149" y="561600"/>
                  </a:lnTo>
                  <a:lnTo>
                    <a:pt x="411913" y="562272"/>
                  </a:lnTo>
                  <a:lnTo>
                    <a:pt x="456299" y="562471"/>
                  </a:lnTo>
                  <a:lnTo>
                    <a:pt x="500870" y="561537"/>
                  </a:lnTo>
                  <a:lnTo>
                    <a:pt x="545496" y="555418"/>
                  </a:lnTo>
                  <a:lnTo>
                    <a:pt x="590137" y="547321"/>
                  </a:lnTo>
                  <a:lnTo>
                    <a:pt x="634784" y="538638"/>
                  </a:lnTo>
                  <a:lnTo>
                    <a:pt x="664549" y="532742"/>
                  </a:lnTo>
                  <a:lnTo>
                    <a:pt x="696960" y="524169"/>
                  </a:lnTo>
                  <a:lnTo>
                    <a:pt x="730216" y="514736"/>
                  </a:lnTo>
                  <a:lnTo>
                    <a:pt x="761534" y="507237"/>
                  </a:lnTo>
                  <a:lnTo>
                    <a:pt x="794635" y="497951"/>
                  </a:lnTo>
                  <a:lnTo>
                    <a:pt x="828198" y="487209"/>
                  </a:lnTo>
                  <a:lnTo>
                    <a:pt x="859652" y="475820"/>
                  </a:lnTo>
                  <a:lnTo>
                    <a:pt x="900510" y="458252"/>
                  </a:lnTo>
                  <a:lnTo>
                    <a:pt x="942491" y="435739"/>
                  </a:lnTo>
                  <a:lnTo>
                    <a:pt x="981610" y="414956"/>
                  </a:lnTo>
                  <a:lnTo>
                    <a:pt x="1018336" y="396231"/>
                  </a:lnTo>
                  <a:lnTo>
                    <a:pt x="1054352" y="373375"/>
                  </a:lnTo>
                  <a:lnTo>
                    <a:pt x="1094949" y="345122"/>
                  </a:lnTo>
                  <a:lnTo>
                    <a:pt x="1135900" y="307923"/>
                  </a:lnTo>
                  <a:lnTo>
                    <a:pt x="1166399" y="282032"/>
                  </a:lnTo>
                  <a:lnTo>
                    <a:pt x="1195917" y="238960"/>
                  </a:lnTo>
                  <a:lnTo>
                    <a:pt x="1201117" y="219510"/>
                  </a:lnTo>
                  <a:lnTo>
                    <a:pt x="1203018" y="182828"/>
                  </a:lnTo>
                  <a:lnTo>
                    <a:pt x="1198480" y="164072"/>
                  </a:lnTo>
                  <a:lnTo>
                    <a:pt x="1185203" y="136625"/>
                  </a:lnTo>
                  <a:lnTo>
                    <a:pt x="1152167" y="100823"/>
                  </a:lnTo>
                  <a:lnTo>
                    <a:pt x="1113155" y="78441"/>
                  </a:lnTo>
                  <a:lnTo>
                    <a:pt x="1084322" y="64571"/>
                  </a:lnTo>
                  <a:lnTo>
                    <a:pt x="1050643" y="54178"/>
                  </a:lnTo>
                  <a:lnTo>
                    <a:pt x="1015528" y="47461"/>
                  </a:lnTo>
                  <a:lnTo>
                    <a:pt x="979989" y="42824"/>
                  </a:lnTo>
                  <a:lnTo>
                    <a:pt x="941677" y="37813"/>
                  </a:lnTo>
                  <a:lnTo>
                    <a:pt x="898906" y="36328"/>
                  </a:lnTo>
                  <a:lnTo>
                    <a:pt x="854814" y="38534"/>
                  </a:lnTo>
                  <a:lnTo>
                    <a:pt x="824187" y="41922"/>
                  </a:lnTo>
                  <a:lnTo>
                    <a:pt x="790731" y="43428"/>
                  </a:lnTo>
                  <a:lnTo>
                    <a:pt x="758664" y="46743"/>
                  </a:lnTo>
                  <a:lnTo>
                    <a:pt x="727875" y="52515"/>
                  </a:lnTo>
                  <a:lnTo>
                    <a:pt x="697654" y="61696"/>
                  </a:lnTo>
                  <a:lnTo>
                    <a:pt x="665041" y="69745"/>
                  </a:lnTo>
                  <a:lnTo>
                    <a:pt x="631695" y="77622"/>
                  </a:lnTo>
                  <a:lnTo>
                    <a:pt x="600337" y="87737"/>
                  </a:lnTo>
                  <a:lnTo>
                    <a:pt x="559534" y="104588"/>
                  </a:lnTo>
                  <a:lnTo>
                    <a:pt x="522308" y="122148"/>
                  </a:lnTo>
                  <a:lnTo>
                    <a:pt x="486143" y="139919"/>
                  </a:lnTo>
                  <a:lnTo>
                    <a:pt x="450292" y="162493"/>
                  </a:lnTo>
                  <a:lnTo>
                    <a:pt x="410743" y="189659"/>
                  </a:lnTo>
                  <a:lnTo>
                    <a:pt x="371314" y="226130"/>
                  </a:lnTo>
                  <a:lnTo>
                    <a:pt x="354986" y="25001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6" name="SMARTInkShape-257"/>
            <p:cNvSpPr/>
            <p:nvPr/>
          </p:nvSpPr>
          <p:spPr>
            <a:xfrm>
              <a:off x="6662160" y="4089960"/>
              <a:ext cx="142560" cy="133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42754" h="133791">
                  <a:moveTo>
                    <a:pt x="26789" y="0"/>
                  </a:moveTo>
                  <a:lnTo>
                    <a:pt x="26789" y="0"/>
                  </a:lnTo>
                  <a:lnTo>
                    <a:pt x="13488" y="13303"/>
                  </a:lnTo>
                  <a:lnTo>
                    <a:pt x="10955" y="18481"/>
                  </a:lnTo>
                  <a:lnTo>
                    <a:pt x="10280" y="21250"/>
                  </a:lnTo>
                  <a:lnTo>
                    <a:pt x="3060" y="33817"/>
                  </a:lnTo>
                  <a:lnTo>
                    <a:pt x="79" y="75347"/>
                  </a:lnTo>
                  <a:lnTo>
                    <a:pt x="11" y="99563"/>
                  </a:lnTo>
                  <a:lnTo>
                    <a:pt x="2651" y="106427"/>
                  </a:lnTo>
                  <a:lnTo>
                    <a:pt x="6139" y="112786"/>
                  </a:lnTo>
                  <a:lnTo>
                    <a:pt x="9095" y="121944"/>
                  </a:lnTo>
                  <a:lnTo>
                    <a:pt x="13303" y="127950"/>
                  </a:lnTo>
                  <a:lnTo>
                    <a:pt x="18480" y="131281"/>
                  </a:lnTo>
                  <a:lnTo>
                    <a:pt x="29889" y="133419"/>
                  </a:lnTo>
                  <a:lnTo>
                    <a:pt x="38733" y="133790"/>
                  </a:lnTo>
                  <a:lnTo>
                    <a:pt x="44665" y="131230"/>
                  </a:lnTo>
                  <a:lnTo>
                    <a:pt x="50609" y="127779"/>
                  </a:lnTo>
                  <a:lnTo>
                    <a:pt x="59534" y="124842"/>
                  </a:lnTo>
                  <a:lnTo>
                    <a:pt x="68462" y="119122"/>
                  </a:lnTo>
                  <a:lnTo>
                    <a:pt x="77392" y="115994"/>
                  </a:lnTo>
                  <a:lnTo>
                    <a:pt x="122040" y="74408"/>
                  </a:lnTo>
                  <a:lnTo>
                    <a:pt x="129977" y="65483"/>
                  </a:lnTo>
                  <a:lnTo>
                    <a:pt x="135808" y="53578"/>
                  </a:lnTo>
                  <a:lnTo>
                    <a:pt x="139735" y="47626"/>
                  </a:lnTo>
                  <a:lnTo>
                    <a:pt x="141945" y="38696"/>
                  </a:lnTo>
                  <a:lnTo>
                    <a:pt x="142753" y="23813"/>
                  </a:lnTo>
                  <a:lnTo>
                    <a:pt x="140174" y="17860"/>
                  </a:lnTo>
                  <a:lnTo>
                    <a:pt x="138099" y="14883"/>
                  </a:lnTo>
                  <a:lnTo>
                    <a:pt x="133145" y="11576"/>
                  </a:lnTo>
                  <a:lnTo>
                    <a:pt x="124779" y="9714"/>
                  </a:lnTo>
                  <a:lnTo>
                    <a:pt x="121882" y="9453"/>
                  </a:lnTo>
                  <a:lnTo>
                    <a:pt x="116016" y="6517"/>
                  </a:lnTo>
                  <a:lnTo>
                    <a:pt x="113063" y="4345"/>
                  </a:lnTo>
                  <a:lnTo>
                    <a:pt x="104491" y="1931"/>
                  </a:lnTo>
                  <a:lnTo>
                    <a:pt x="70069" y="114"/>
                  </a:lnTo>
                  <a:lnTo>
                    <a:pt x="25464" y="8566"/>
                  </a:lnTo>
                  <a:lnTo>
                    <a:pt x="18594" y="11415"/>
                  </a:lnTo>
                  <a:lnTo>
                    <a:pt x="12233" y="14995"/>
                  </a:lnTo>
                  <a:lnTo>
                    <a:pt x="0" y="1786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7" name="SMARTInkShape-258"/>
            <p:cNvSpPr/>
            <p:nvPr/>
          </p:nvSpPr>
          <p:spPr>
            <a:xfrm>
              <a:off x="5090400" y="3911760"/>
              <a:ext cx="214200" cy="312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14313" h="312522">
                  <a:moveTo>
                    <a:pt x="0" y="125011"/>
                  </a:moveTo>
                  <a:lnTo>
                    <a:pt x="0" y="125011"/>
                  </a:lnTo>
                  <a:lnTo>
                    <a:pt x="12428" y="125011"/>
                  </a:lnTo>
                  <a:lnTo>
                    <a:pt x="56106" y="106823"/>
                  </a:lnTo>
                  <a:lnTo>
                    <a:pt x="98200" y="80780"/>
                  </a:lnTo>
                  <a:lnTo>
                    <a:pt x="139897" y="59551"/>
                  </a:lnTo>
                  <a:lnTo>
                    <a:pt x="149158" y="50939"/>
                  </a:lnTo>
                  <a:lnTo>
                    <a:pt x="157573" y="41489"/>
                  </a:lnTo>
                  <a:lnTo>
                    <a:pt x="183615" y="22070"/>
                  </a:lnTo>
                  <a:lnTo>
                    <a:pt x="196269" y="16042"/>
                  </a:lnTo>
                  <a:lnTo>
                    <a:pt x="199307" y="13670"/>
                  </a:lnTo>
                  <a:lnTo>
                    <a:pt x="202682" y="8388"/>
                  </a:lnTo>
                  <a:lnTo>
                    <a:pt x="203582" y="5591"/>
                  </a:lnTo>
                  <a:lnTo>
                    <a:pt x="205174" y="3726"/>
                  </a:lnTo>
                  <a:lnTo>
                    <a:pt x="214302" y="0"/>
                  </a:lnTo>
                  <a:lnTo>
                    <a:pt x="214312" y="29884"/>
                  </a:lnTo>
                  <a:lnTo>
                    <a:pt x="211666" y="35769"/>
                  </a:lnTo>
                  <a:lnTo>
                    <a:pt x="209572" y="38727"/>
                  </a:lnTo>
                  <a:lnTo>
                    <a:pt x="206624" y="52372"/>
                  </a:lnTo>
                  <a:lnTo>
                    <a:pt x="204635" y="68624"/>
                  </a:lnTo>
                  <a:lnTo>
                    <a:pt x="190567" y="111038"/>
                  </a:lnTo>
                  <a:lnTo>
                    <a:pt x="183184" y="140014"/>
                  </a:lnTo>
                  <a:lnTo>
                    <a:pt x="173363" y="157593"/>
                  </a:lnTo>
                  <a:lnTo>
                    <a:pt x="160167" y="196614"/>
                  </a:lnTo>
                  <a:lnTo>
                    <a:pt x="139865" y="238131"/>
                  </a:lnTo>
                  <a:lnTo>
                    <a:pt x="128977" y="255799"/>
                  </a:lnTo>
                  <a:lnTo>
                    <a:pt x="123152" y="274722"/>
                  </a:lnTo>
                  <a:lnTo>
                    <a:pt x="119226" y="281839"/>
                  </a:lnTo>
                  <a:lnTo>
                    <a:pt x="116706" y="294492"/>
                  </a:lnTo>
                  <a:lnTo>
                    <a:pt x="116499" y="297530"/>
                  </a:lnTo>
                  <a:lnTo>
                    <a:pt x="113624" y="303550"/>
                  </a:lnTo>
                  <a:lnTo>
                    <a:pt x="107166" y="312521"/>
                  </a:lnTo>
                  <a:lnTo>
                    <a:pt x="102418" y="307791"/>
                  </a:lnTo>
                  <a:lnTo>
                    <a:pt x="100090" y="302819"/>
                  </a:lnTo>
                  <a:lnTo>
                    <a:pt x="97479" y="288619"/>
                  </a:lnTo>
                  <a:lnTo>
                    <a:pt x="89297" y="2768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8" name="SMARTInkShape-259"/>
            <p:cNvSpPr/>
            <p:nvPr/>
          </p:nvSpPr>
          <p:spPr>
            <a:xfrm>
              <a:off x="4956480" y="4188240"/>
              <a:ext cx="517680" cy="8028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17890" h="80368">
                  <a:moveTo>
                    <a:pt x="0" y="62508"/>
                  </a:moveTo>
                  <a:lnTo>
                    <a:pt x="0" y="62508"/>
                  </a:lnTo>
                  <a:lnTo>
                    <a:pt x="4739" y="67248"/>
                  </a:lnTo>
                  <a:lnTo>
                    <a:pt x="9713" y="69575"/>
                  </a:lnTo>
                  <a:lnTo>
                    <a:pt x="12428" y="70196"/>
                  </a:lnTo>
                  <a:lnTo>
                    <a:pt x="26857" y="78342"/>
                  </a:lnTo>
                  <a:lnTo>
                    <a:pt x="68698" y="80361"/>
                  </a:lnTo>
                  <a:lnTo>
                    <a:pt x="108494" y="80367"/>
                  </a:lnTo>
                  <a:lnTo>
                    <a:pt x="147965" y="72679"/>
                  </a:lnTo>
                  <a:lnTo>
                    <a:pt x="189211" y="63859"/>
                  </a:lnTo>
                  <a:lnTo>
                    <a:pt x="233561" y="50197"/>
                  </a:lnTo>
                  <a:lnTo>
                    <a:pt x="274357" y="42733"/>
                  </a:lnTo>
                  <a:lnTo>
                    <a:pt x="296595" y="37798"/>
                  </a:lnTo>
                  <a:lnTo>
                    <a:pt x="330776" y="31389"/>
                  </a:lnTo>
                  <a:lnTo>
                    <a:pt x="371580" y="19505"/>
                  </a:lnTo>
                  <a:lnTo>
                    <a:pt x="415434" y="10315"/>
                  </a:lnTo>
                  <a:lnTo>
                    <a:pt x="439285" y="8212"/>
                  </a:lnTo>
                  <a:lnTo>
                    <a:pt x="457226" y="1916"/>
                  </a:lnTo>
                  <a:lnTo>
                    <a:pt x="500007" y="15"/>
                  </a:lnTo>
                  <a:lnTo>
                    <a:pt x="513686" y="0"/>
                  </a:lnTo>
                  <a:lnTo>
                    <a:pt x="515098" y="993"/>
                  </a:lnTo>
                  <a:lnTo>
                    <a:pt x="516039" y="2646"/>
                  </a:lnTo>
                  <a:lnTo>
                    <a:pt x="517889" y="8820"/>
                  </a:lnTo>
                  <a:lnTo>
                    <a:pt x="508992" y="893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9" name="SMARTInkShape-260"/>
            <p:cNvSpPr/>
            <p:nvPr/>
          </p:nvSpPr>
          <p:spPr>
            <a:xfrm>
              <a:off x="5599440" y="3965040"/>
              <a:ext cx="258840" cy="2764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258962" h="276820">
                  <a:moveTo>
                    <a:pt x="44648" y="0"/>
                  </a:moveTo>
                  <a:lnTo>
                    <a:pt x="44648" y="0"/>
                  </a:lnTo>
                  <a:lnTo>
                    <a:pt x="37581" y="16781"/>
                  </a:lnTo>
                  <a:lnTo>
                    <a:pt x="35733" y="60638"/>
                  </a:lnTo>
                  <a:lnTo>
                    <a:pt x="34733" y="68622"/>
                  </a:lnTo>
                  <a:lnTo>
                    <a:pt x="28031" y="95663"/>
                  </a:lnTo>
                  <a:lnTo>
                    <a:pt x="24306" y="132138"/>
                  </a:lnTo>
                  <a:lnTo>
                    <a:pt x="19133" y="157401"/>
                  </a:lnTo>
                  <a:lnTo>
                    <a:pt x="15381" y="187477"/>
                  </a:lnTo>
                  <a:lnTo>
                    <a:pt x="10841" y="205369"/>
                  </a:lnTo>
                  <a:lnTo>
                    <a:pt x="8012" y="245878"/>
                  </a:lnTo>
                  <a:lnTo>
                    <a:pt x="1876" y="258729"/>
                  </a:lnTo>
                  <a:lnTo>
                    <a:pt x="0" y="276819"/>
                  </a:lnTo>
                  <a:lnTo>
                    <a:pt x="4740" y="272079"/>
                  </a:lnTo>
                  <a:lnTo>
                    <a:pt x="7067" y="267106"/>
                  </a:lnTo>
                  <a:lnTo>
                    <a:pt x="7688" y="264391"/>
                  </a:lnTo>
                  <a:lnTo>
                    <a:pt x="35773" y="221142"/>
                  </a:lnTo>
                  <a:lnTo>
                    <a:pt x="52377" y="199015"/>
                  </a:lnTo>
                  <a:lnTo>
                    <a:pt x="91227" y="158856"/>
                  </a:lnTo>
                  <a:lnTo>
                    <a:pt x="131082" y="126641"/>
                  </a:lnTo>
                  <a:lnTo>
                    <a:pt x="144121" y="114473"/>
                  </a:lnTo>
                  <a:lnTo>
                    <a:pt x="153682" y="110408"/>
                  </a:lnTo>
                  <a:lnTo>
                    <a:pt x="198066" y="107212"/>
                  </a:lnTo>
                  <a:lnTo>
                    <a:pt x="203215" y="107173"/>
                  </a:lnTo>
                  <a:lnTo>
                    <a:pt x="214811" y="114226"/>
                  </a:lnTo>
                  <a:lnTo>
                    <a:pt x="217621" y="114846"/>
                  </a:lnTo>
                  <a:lnTo>
                    <a:pt x="219494" y="117244"/>
                  </a:lnTo>
                  <a:lnTo>
                    <a:pt x="230888" y="153835"/>
                  </a:lnTo>
                  <a:lnTo>
                    <a:pt x="231791" y="168171"/>
                  </a:lnTo>
                  <a:lnTo>
                    <a:pt x="223779" y="211725"/>
                  </a:lnTo>
                  <a:lnTo>
                    <a:pt x="222488" y="220107"/>
                  </a:lnTo>
                  <a:lnTo>
                    <a:pt x="215161" y="246126"/>
                  </a:lnTo>
                  <a:lnTo>
                    <a:pt x="214424" y="261815"/>
                  </a:lnTo>
                  <a:lnTo>
                    <a:pt x="215379" y="263840"/>
                  </a:lnTo>
                  <a:lnTo>
                    <a:pt x="217007" y="265191"/>
                  </a:lnTo>
                  <a:lnTo>
                    <a:pt x="222011" y="267357"/>
                  </a:lnTo>
                  <a:lnTo>
                    <a:pt x="227618" y="267732"/>
                  </a:lnTo>
                  <a:lnTo>
                    <a:pt x="232794" y="265175"/>
                  </a:lnTo>
                  <a:lnTo>
                    <a:pt x="235563" y="263103"/>
                  </a:lnTo>
                  <a:lnTo>
                    <a:pt x="238640" y="258156"/>
                  </a:lnTo>
                  <a:lnTo>
                    <a:pt x="241000" y="252650"/>
                  </a:lnTo>
                  <a:lnTo>
                    <a:pt x="258961" y="23217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0" name="SMARTInkShape-261"/>
            <p:cNvSpPr/>
            <p:nvPr/>
          </p:nvSpPr>
          <p:spPr>
            <a:xfrm>
              <a:off x="6832080" y="4116960"/>
              <a:ext cx="205200" cy="3564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5384" h="35719">
                  <a:moveTo>
                    <a:pt x="0" y="35718"/>
                  </a:moveTo>
                  <a:lnTo>
                    <a:pt x="0" y="35718"/>
                  </a:lnTo>
                  <a:lnTo>
                    <a:pt x="43526" y="35718"/>
                  </a:lnTo>
                  <a:lnTo>
                    <a:pt x="83638" y="33073"/>
                  </a:lnTo>
                  <a:lnTo>
                    <a:pt x="127165" y="24695"/>
                  </a:lnTo>
                  <a:lnTo>
                    <a:pt x="169947" y="11630"/>
                  </a:lnTo>
                  <a:lnTo>
                    <a:pt x="20538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1" name="SMARTInkShape-262"/>
            <p:cNvSpPr/>
            <p:nvPr/>
          </p:nvSpPr>
          <p:spPr>
            <a:xfrm>
              <a:off x="5814000" y="4072320"/>
              <a:ext cx="258840" cy="142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58839" h="142747">
                  <a:moveTo>
                    <a:pt x="160612" y="26779"/>
                  </a:moveTo>
                  <a:lnTo>
                    <a:pt x="160612" y="26779"/>
                  </a:lnTo>
                  <a:lnTo>
                    <a:pt x="155872" y="26779"/>
                  </a:lnTo>
                  <a:lnTo>
                    <a:pt x="154475" y="25787"/>
                  </a:lnTo>
                  <a:lnTo>
                    <a:pt x="153544" y="24134"/>
                  </a:lnTo>
                  <a:lnTo>
                    <a:pt x="152924" y="22039"/>
                  </a:lnTo>
                  <a:lnTo>
                    <a:pt x="151517" y="20643"/>
                  </a:lnTo>
                  <a:lnTo>
                    <a:pt x="143153" y="17959"/>
                  </a:lnTo>
                  <a:lnTo>
                    <a:pt x="135702" y="11734"/>
                  </a:lnTo>
                  <a:lnTo>
                    <a:pt x="126512" y="9290"/>
                  </a:lnTo>
                  <a:lnTo>
                    <a:pt x="118084" y="2857"/>
                  </a:lnTo>
                  <a:lnTo>
                    <a:pt x="109756" y="840"/>
                  </a:lnTo>
                  <a:lnTo>
                    <a:pt x="77265" y="0"/>
                  </a:lnTo>
                  <a:lnTo>
                    <a:pt x="71314" y="2641"/>
                  </a:lnTo>
                  <a:lnTo>
                    <a:pt x="65362" y="6129"/>
                  </a:lnTo>
                  <a:lnTo>
                    <a:pt x="56432" y="9085"/>
                  </a:lnTo>
                  <a:lnTo>
                    <a:pt x="24931" y="29879"/>
                  </a:lnTo>
                  <a:lnTo>
                    <a:pt x="15128" y="43463"/>
                  </a:lnTo>
                  <a:lnTo>
                    <a:pt x="1283" y="74296"/>
                  </a:lnTo>
                  <a:lnTo>
                    <a:pt x="0" y="99943"/>
                  </a:lnTo>
                  <a:lnTo>
                    <a:pt x="2579" y="106591"/>
                  </a:lnTo>
                  <a:lnTo>
                    <a:pt x="6039" y="112853"/>
                  </a:lnTo>
                  <a:lnTo>
                    <a:pt x="7577" y="118943"/>
                  </a:lnTo>
                  <a:lnTo>
                    <a:pt x="8979" y="120964"/>
                  </a:lnTo>
                  <a:lnTo>
                    <a:pt x="10906" y="122311"/>
                  </a:lnTo>
                  <a:lnTo>
                    <a:pt x="15692" y="124800"/>
                  </a:lnTo>
                  <a:lnTo>
                    <a:pt x="23966" y="130788"/>
                  </a:lnTo>
                  <a:lnTo>
                    <a:pt x="32702" y="133003"/>
                  </a:lnTo>
                  <a:lnTo>
                    <a:pt x="47512" y="133813"/>
                  </a:lnTo>
                  <a:lnTo>
                    <a:pt x="49494" y="132862"/>
                  </a:lnTo>
                  <a:lnTo>
                    <a:pt x="50814" y="131236"/>
                  </a:lnTo>
                  <a:lnTo>
                    <a:pt x="51694" y="129159"/>
                  </a:lnTo>
                  <a:lnTo>
                    <a:pt x="53274" y="127774"/>
                  </a:lnTo>
                  <a:lnTo>
                    <a:pt x="78546" y="118100"/>
                  </a:lnTo>
                  <a:lnTo>
                    <a:pt x="85443" y="115983"/>
                  </a:lnTo>
                  <a:lnTo>
                    <a:pt x="97955" y="109186"/>
                  </a:lnTo>
                  <a:lnTo>
                    <a:pt x="100981" y="108506"/>
                  </a:lnTo>
                  <a:lnTo>
                    <a:pt x="109981" y="102809"/>
                  </a:lnTo>
                  <a:lnTo>
                    <a:pt x="118931" y="94837"/>
                  </a:lnTo>
                  <a:lnTo>
                    <a:pt x="122243" y="89108"/>
                  </a:lnTo>
                  <a:lnTo>
                    <a:pt x="124707" y="83254"/>
                  </a:lnTo>
                  <a:lnTo>
                    <a:pt x="129110" y="77345"/>
                  </a:lnTo>
                  <a:lnTo>
                    <a:pt x="134374" y="74058"/>
                  </a:lnTo>
                  <a:lnTo>
                    <a:pt x="140021" y="71604"/>
                  </a:lnTo>
                  <a:lnTo>
                    <a:pt x="151678" y="62501"/>
                  </a:lnTo>
                  <a:lnTo>
                    <a:pt x="151680" y="62499"/>
                  </a:lnTo>
                  <a:lnTo>
                    <a:pt x="151682" y="62498"/>
                  </a:lnTo>
                  <a:lnTo>
                    <a:pt x="151682" y="67238"/>
                  </a:lnTo>
                  <a:lnTo>
                    <a:pt x="152674" y="68635"/>
                  </a:lnTo>
                  <a:lnTo>
                    <a:pt x="154327" y="69565"/>
                  </a:lnTo>
                  <a:lnTo>
                    <a:pt x="156422" y="70186"/>
                  </a:lnTo>
                  <a:lnTo>
                    <a:pt x="157818" y="71593"/>
                  </a:lnTo>
                  <a:lnTo>
                    <a:pt x="160243" y="79007"/>
                  </a:lnTo>
                  <a:lnTo>
                    <a:pt x="160609" y="105419"/>
                  </a:lnTo>
                  <a:lnTo>
                    <a:pt x="166748" y="113934"/>
                  </a:lnTo>
                  <a:lnTo>
                    <a:pt x="169173" y="123352"/>
                  </a:lnTo>
                  <a:lnTo>
                    <a:pt x="186048" y="141502"/>
                  </a:lnTo>
                  <a:lnTo>
                    <a:pt x="194970" y="142746"/>
                  </a:lnTo>
                  <a:lnTo>
                    <a:pt x="203191" y="136705"/>
                  </a:lnTo>
                  <a:lnTo>
                    <a:pt x="211482" y="133764"/>
                  </a:lnTo>
                  <a:lnTo>
                    <a:pt x="226130" y="121615"/>
                  </a:lnTo>
                  <a:lnTo>
                    <a:pt x="258838" y="803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SMARTInkShape-263"/>
            <p:cNvSpPr/>
            <p:nvPr/>
          </p:nvSpPr>
          <p:spPr>
            <a:xfrm>
              <a:off x="6082200" y="3992040"/>
              <a:ext cx="25920" cy="2574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6239" h="257684">
                  <a:moveTo>
                    <a:pt x="26238" y="0"/>
                  </a:moveTo>
                  <a:lnTo>
                    <a:pt x="26238" y="0"/>
                  </a:lnTo>
                  <a:lnTo>
                    <a:pt x="18550" y="7689"/>
                  </a:lnTo>
                  <a:lnTo>
                    <a:pt x="17676" y="13302"/>
                  </a:lnTo>
                  <a:lnTo>
                    <a:pt x="17341" y="25148"/>
                  </a:lnTo>
                  <a:lnTo>
                    <a:pt x="11178" y="33594"/>
                  </a:lnTo>
                  <a:lnTo>
                    <a:pt x="9208" y="41924"/>
                  </a:lnTo>
                  <a:lnTo>
                    <a:pt x="8401" y="83699"/>
                  </a:lnTo>
                  <a:lnTo>
                    <a:pt x="8379" y="125036"/>
                  </a:lnTo>
                  <a:lnTo>
                    <a:pt x="7387" y="136931"/>
                  </a:lnTo>
                  <a:lnTo>
                    <a:pt x="0" y="171527"/>
                  </a:lnTo>
                  <a:lnTo>
                    <a:pt x="687" y="182398"/>
                  </a:lnTo>
                  <a:lnTo>
                    <a:pt x="8021" y="216799"/>
                  </a:lnTo>
                  <a:lnTo>
                    <a:pt x="8378" y="257683"/>
                  </a:lnTo>
                  <a:lnTo>
                    <a:pt x="8378" y="2500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SMARTInkShape-264"/>
            <p:cNvSpPr/>
            <p:nvPr/>
          </p:nvSpPr>
          <p:spPr>
            <a:xfrm>
              <a:off x="6054840" y="4045320"/>
              <a:ext cx="401760" cy="1962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401837" h="196418">
                  <a:moveTo>
                    <a:pt x="0" y="71438"/>
                  </a:moveTo>
                  <a:lnTo>
                    <a:pt x="0" y="71438"/>
                  </a:lnTo>
                  <a:lnTo>
                    <a:pt x="7688" y="79126"/>
                  </a:lnTo>
                  <a:lnTo>
                    <a:pt x="15813" y="81114"/>
                  </a:lnTo>
                  <a:lnTo>
                    <a:pt x="24087" y="86432"/>
                  </a:lnTo>
                  <a:lnTo>
                    <a:pt x="32824" y="88448"/>
                  </a:lnTo>
                  <a:lnTo>
                    <a:pt x="42687" y="90038"/>
                  </a:lnTo>
                  <a:lnTo>
                    <a:pt x="52377" y="93926"/>
                  </a:lnTo>
                  <a:lnTo>
                    <a:pt x="56745" y="94367"/>
                  </a:lnTo>
                  <a:lnTo>
                    <a:pt x="100273" y="86765"/>
                  </a:lnTo>
                  <a:lnTo>
                    <a:pt x="116692" y="82263"/>
                  </a:lnTo>
                  <a:lnTo>
                    <a:pt x="127270" y="80218"/>
                  </a:lnTo>
                  <a:lnTo>
                    <a:pt x="139795" y="74480"/>
                  </a:lnTo>
                  <a:lnTo>
                    <a:pt x="154640" y="71347"/>
                  </a:lnTo>
                  <a:lnTo>
                    <a:pt x="167490" y="63868"/>
                  </a:lnTo>
                  <a:lnTo>
                    <a:pt x="176363" y="56640"/>
                  </a:lnTo>
                  <a:lnTo>
                    <a:pt x="184768" y="53493"/>
                  </a:lnTo>
                  <a:lnTo>
                    <a:pt x="194718" y="46009"/>
                  </a:lnTo>
                  <a:lnTo>
                    <a:pt x="200680" y="45052"/>
                  </a:lnTo>
                  <a:lnTo>
                    <a:pt x="202248" y="43925"/>
                  </a:lnTo>
                  <a:lnTo>
                    <a:pt x="203292" y="42182"/>
                  </a:lnTo>
                  <a:lnTo>
                    <a:pt x="205107" y="35578"/>
                  </a:lnTo>
                  <a:lnTo>
                    <a:pt x="205260" y="31357"/>
                  </a:lnTo>
                  <a:lnTo>
                    <a:pt x="204309" y="29834"/>
                  </a:lnTo>
                  <a:lnTo>
                    <a:pt x="202682" y="28819"/>
                  </a:lnTo>
                  <a:lnTo>
                    <a:pt x="196281" y="27057"/>
                  </a:lnTo>
                  <a:lnTo>
                    <a:pt x="175494" y="26800"/>
                  </a:lnTo>
                  <a:lnTo>
                    <a:pt x="169610" y="29440"/>
                  </a:lnTo>
                  <a:lnTo>
                    <a:pt x="166651" y="31533"/>
                  </a:lnTo>
                  <a:lnTo>
                    <a:pt x="148637" y="36877"/>
                  </a:lnTo>
                  <a:lnTo>
                    <a:pt x="119135" y="69290"/>
                  </a:lnTo>
                  <a:lnTo>
                    <a:pt x="93267" y="110068"/>
                  </a:lnTo>
                  <a:lnTo>
                    <a:pt x="90474" y="122130"/>
                  </a:lnTo>
                  <a:lnTo>
                    <a:pt x="89328" y="163626"/>
                  </a:lnTo>
                  <a:lnTo>
                    <a:pt x="89311" y="171280"/>
                  </a:lnTo>
                  <a:lnTo>
                    <a:pt x="91948" y="177989"/>
                  </a:lnTo>
                  <a:lnTo>
                    <a:pt x="94041" y="181168"/>
                  </a:lnTo>
                  <a:lnTo>
                    <a:pt x="96428" y="183286"/>
                  </a:lnTo>
                  <a:lnTo>
                    <a:pt x="116155" y="194343"/>
                  </a:lnTo>
                  <a:lnTo>
                    <a:pt x="139901" y="196371"/>
                  </a:lnTo>
                  <a:lnTo>
                    <a:pt x="145853" y="196417"/>
                  </a:lnTo>
                  <a:lnTo>
                    <a:pt x="151805" y="193791"/>
                  </a:lnTo>
                  <a:lnTo>
                    <a:pt x="157758" y="190309"/>
                  </a:lnTo>
                  <a:lnTo>
                    <a:pt x="177380" y="183150"/>
                  </a:lnTo>
                  <a:lnTo>
                    <a:pt x="206750" y="158876"/>
                  </a:lnTo>
                  <a:lnTo>
                    <a:pt x="242795" y="114748"/>
                  </a:lnTo>
                  <a:lnTo>
                    <a:pt x="270834" y="77802"/>
                  </a:lnTo>
                  <a:lnTo>
                    <a:pt x="276805" y="74266"/>
                  </a:lnTo>
                  <a:lnTo>
                    <a:pt x="282766" y="71703"/>
                  </a:lnTo>
                  <a:lnTo>
                    <a:pt x="294665" y="62519"/>
                  </a:lnTo>
                  <a:lnTo>
                    <a:pt x="294679" y="104255"/>
                  </a:lnTo>
                  <a:lnTo>
                    <a:pt x="294679" y="142865"/>
                  </a:lnTo>
                  <a:lnTo>
                    <a:pt x="289939" y="142872"/>
                  </a:lnTo>
                  <a:lnTo>
                    <a:pt x="288543" y="141881"/>
                  </a:lnTo>
                  <a:lnTo>
                    <a:pt x="287612" y="140228"/>
                  </a:lnTo>
                  <a:lnTo>
                    <a:pt x="285859" y="126624"/>
                  </a:lnTo>
                  <a:lnTo>
                    <a:pt x="285750" y="95217"/>
                  </a:lnTo>
                  <a:lnTo>
                    <a:pt x="290490" y="81570"/>
                  </a:lnTo>
                  <a:lnTo>
                    <a:pt x="303842" y="63059"/>
                  </a:lnTo>
                  <a:lnTo>
                    <a:pt x="328423" y="38717"/>
                  </a:lnTo>
                  <a:lnTo>
                    <a:pt x="368600" y="8930"/>
                  </a:lnTo>
                  <a:lnTo>
                    <a:pt x="382066" y="2646"/>
                  </a:lnTo>
                  <a:lnTo>
                    <a:pt x="40183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SMARTInkShape-265"/>
            <p:cNvSpPr/>
            <p:nvPr/>
          </p:nvSpPr>
          <p:spPr>
            <a:xfrm>
              <a:off x="6858720" y="3974040"/>
              <a:ext cx="62280" cy="294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62362" h="294557">
                  <a:moveTo>
                    <a:pt x="44614" y="0"/>
                  </a:moveTo>
                  <a:lnTo>
                    <a:pt x="44614" y="0"/>
                  </a:lnTo>
                  <a:lnTo>
                    <a:pt x="31053" y="0"/>
                  </a:lnTo>
                  <a:lnTo>
                    <a:pt x="29620" y="992"/>
                  </a:lnTo>
                  <a:lnTo>
                    <a:pt x="28665" y="2646"/>
                  </a:lnTo>
                  <a:lnTo>
                    <a:pt x="28029" y="4740"/>
                  </a:lnTo>
                  <a:lnTo>
                    <a:pt x="26612" y="6137"/>
                  </a:lnTo>
                  <a:lnTo>
                    <a:pt x="22392" y="7688"/>
                  </a:lnTo>
                  <a:lnTo>
                    <a:pt x="20869" y="9094"/>
                  </a:lnTo>
                  <a:lnTo>
                    <a:pt x="19178" y="13302"/>
                  </a:lnTo>
                  <a:lnTo>
                    <a:pt x="17736" y="14821"/>
                  </a:lnTo>
                  <a:lnTo>
                    <a:pt x="13485" y="16509"/>
                  </a:lnTo>
                  <a:lnTo>
                    <a:pt x="11955" y="17951"/>
                  </a:lnTo>
                  <a:lnTo>
                    <a:pt x="2007" y="35898"/>
                  </a:lnTo>
                  <a:lnTo>
                    <a:pt x="0" y="65487"/>
                  </a:lnTo>
                  <a:lnTo>
                    <a:pt x="2627" y="71439"/>
                  </a:lnTo>
                  <a:lnTo>
                    <a:pt x="4716" y="74414"/>
                  </a:lnTo>
                  <a:lnTo>
                    <a:pt x="10991" y="96364"/>
                  </a:lnTo>
                  <a:lnTo>
                    <a:pt x="13269" y="99962"/>
                  </a:lnTo>
                  <a:lnTo>
                    <a:pt x="24715" y="143058"/>
                  </a:lnTo>
                  <a:lnTo>
                    <a:pt x="28797" y="160789"/>
                  </a:lnTo>
                  <a:lnTo>
                    <a:pt x="32624" y="173657"/>
                  </a:lnTo>
                  <a:lnTo>
                    <a:pt x="36407" y="215471"/>
                  </a:lnTo>
                  <a:lnTo>
                    <a:pt x="42699" y="233871"/>
                  </a:lnTo>
                  <a:lnTo>
                    <a:pt x="45354" y="261169"/>
                  </a:lnTo>
                  <a:lnTo>
                    <a:pt x="54284" y="285469"/>
                  </a:lnTo>
                  <a:lnTo>
                    <a:pt x="62361" y="294556"/>
                  </a:lnTo>
                  <a:lnTo>
                    <a:pt x="53543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65" name="SMARTInkShape-Group231"/>
          <p:cNvGrpSpPr/>
          <p:nvPr/>
        </p:nvGrpSpPr>
        <p:grpSpPr>
          <a:xfrm>
            <a:off x="7243920" y="3848040"/>
            <a:ext cx="1800000" cy="436680"/>
            <a:chOff x="7243920" y="3848040"/>
            <a:chExt cx="1800000" cy="436680"/>
          </a:xfrm>
        </p:grpSpPr>
        <p:sp>
          <p:nvSpPr>
            <p:cNvPr id="366" name="SMARTInkShape-266"/>
            <p:cNvSpPr/>
            <p:nvPr/>
          </p:nvSpPr>
          <p:spPr>
            <a:xfrm>
              <a:off x="8599320" y="3999960"/>
              <a:ext cx="14040" cy="1249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4055" h="125016">
                  <a:moveTo>
                    <a:pt x="0" y="0"/>
                  </a:moveTo>
                  <a:lnTo>
                    <a:pt x="0" y="0"/>
                  </a:lnTo>
                  <a:lnTo>
                    <a:pt x="0" y="9480"/>
                  </a:lnTo>
                  <a:lnTo>
                    <a:pt x="2647" y="16781"/>
                  </a:lnTo>
                  <a:lnTo>
                    <a:pt x="6137" y="23333"/>
                  </a:lnTo>
                  <a:lnTo>
                    <a:pt x="8103" y="33592"/>
                  </a:lnTo>
                  <a:lnTo>
                    <a:pt x="11527" y="76953"/>
                  </a:lnTo>
                  <a:lnTo>
                    <a:pt x="14054" y="95717"/>
                  </a:lnTo>
                  <a:lnTo>
                    <a:pt x="8930" y="12501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SMARTInkShape-267"/>
            <p:cNvSpPr/>
            <p:nvPr/>
          </p:nvSpPr>
          <p:spPr>
            <a:xfrm>
              <a:off x="8822160" y="3964320"/>
              <a:ext cx="221760" cy="195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221879" h="195199">
                  <a:moveTo>
                    <a:pt x="142875" y="0"/>
                  </a:moveTo>
                  <a:lnTo>
                    <a:pt x="142875" y="0"/>
                  </a:lnTo>
                  <a:lnTo>
                    <a:pt x="138135" y="0"/>
                  </a:lnTo>
                  <a:lnTo>
                    <a:pt x="136739" y="992"/>
                  </a:lnTo>
                  <a:lnTo>
                    <a:pt x="135808" y="2646"/>
                  </a:lnTo>
                  <a:lnTo>
                    <a:pt x="135187" y="4741"/>
                  </a:lnTo>
                  <a:lnTo>
                    <a:pt x="129572" y="12429"/>
                  </a:lnTo>
                  <a:lnTo>
                    <a:pt x="124396" y="15446"/>
                  </a:lnTo>
                  <a:lnTo>
                    <a:pt x="121627" y="16250"/>
                  </a:lnTo>
                  <a:lnTo>
                    <a:pt x="119780" y="17779"/>
                  </a:lnTo>
                  <a:lnTo>
                    <a:pt x="99329" y="44487"/>
                  </a:lnTo>
                  <a:lnTo>
                    <a:pt x="98718" y="48876"/>
                  </a:lnTo>
                  <a:lnTo>
                    <a:pt x="99546" y="50443"/>
                  </a:lnTo>
                  <a:lnTo>
                    <a:pt x="101092" y="51489"/>
                  </a:lnTo>
                  <a:lnTo>
                    <a:pt x="103114" y="52185"/>
                  </a:lnTo>
                  <a:lnTo>
                    <a:pt x="104461" y="53642"/>
                  </a:lnTo>
                  <a:lnTo>
                    <a:pt x="105960" y="57906"/>
                  </a:lnTo>
                  <a:lnTo>
                    <a:pt x="107350" y="59440"/>
                  </a:lnTo>
                  <a:lnTo>
                    <a:pt x="125203" y="69396"/>
                  </a:lnTo>
                  <a:lnTo>
                    <a:pt x="156938" y="80452"/>
                  </a:lnTo>
                  <a:lnTo>
                    <a:pt x="195888" y="104563"/>
                  </a:lnTo>
                  <a:lnTo>
                    <a:pt x="199053" y="105428"/>
                  </a:lnTo>
                  <a:lnTo>
                    <a:pt x="201163" y="106996"/>
                  </a:lnTo>
                  <a:lnTo>
                    <a:pt x="202571" y="109034"/>
                  </a:lnTo>
                  <a:lnTo>
                    <a:pt x="205126" y="113944"/>
                  </a:lnTo>
                  <a:lnTo>
                    <a:pt x="211150" y="122286"/>
                  </a:lnTo>
                  <a:lnTo>
                    <a:pt x="214369" y="131042"/>
                  </a:lnTo>
                  <a:lnTo>
                    <a:pt x="221878" y="141121"/>
                  </a:lnTo>
                  <a:lnTo>
                    <a:pt x="215435" y="158098"/>
                  </a:lnTo>
                  <a:lnTo>
                    <a:pt x="209905" y="164693"/>
                  </a:lnTo>
                  <a:lnTo>
                    <a:pt x="180923" y="181657"/>
                  </a:lnTo>
                  <a:lnTo>
                    <a:pt x="163520" y="185785"/>
                  </a:lnTo>
                  <a:lnTo>
                    <a:pt x="122029" y="188414"/>
                  </a:lnTo>
                  <a:lnTo>
                    <a:pt x="92272" y="195198"/>
                  </a:lnTo>
                  <a:lnTo>
                    <a:pt x="50602" y="188278"/>
                  </a:lnTo>
                  <a:lnTo>
                    <a:pt x="32743" y="186755"/>
                  </a:lnTo>
                  <a:lnTo>
                    <a:pt x="15876" y="180461"/>
                  </a:lnTo>
                  <a:lnTo>
                    <a:pt x="0" y="1696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SMARTInkShape-268"/>
            <p:cNvSpPr/>
            <p:nvPr/>
          </p:nvSpPr>
          <p:spPr>
            <a:xfrm>
              <a:off x="8724240" y="3964320"/>
              <a:ext cx="97920" cy="160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98227" h="160721">
                  <a:moveTo>
                    <a:pt x="8930" y="53564"/>
                  </a:moveTo>
                  <a:lnTo>
                    <a:pt x="8930" y="53564"/>
                  </a:lnTo>
                  <a:lnTo>
                    <a:pt x="8930" y="58305"/>
                  </a:lnTo>
                  <a:lnTo>
                    <a:pt x="7938" y="59701"/>
                  </a:lnTo>
                  <a:lnTo>
                    <a:pt x="6283" y="60632"/>
                  </a:lnTo>
                  <a:lnTo>
                    <a:pt x="4190" y="61253"/>
                  </a:lnTo>
                  <a:lnTo>
                    <a:pt x="2794" y="62659"/>
                  </a:lnTo>
                  <a:lnTo>
                    <a:pt x="1241" y="66866"/>
                  </a:lnTo>
                  <a:lnTo>
                    <a:pt x="13" y="109252"/>
                  </a:lnTo>
                  <a:lnTo>
                    <a:pt x="0" y="153049"/>
                  </a:lnTo>
                  <a:lnTo>
                    <a:pt x="0" y="160709"/>
                  </a:lnTo>
                  <a:lnTo>
                    <a:pt x="0" y="117914"/>
                  </a:lnTo>
                  <a:lnTo>
                    <a:pt x="992" y="109945"/>
                  </a:lnTo>
                  <a:lnTo>
                    <a:pt x="14821" y="68530"/>
                  </a:lnTo>
                  <a:lnTo>
                    <a:pt x="22200" y="46250"/>
                  </a:lnTo>
                  <a:lnTo>
                    <a:pt x="33252" y="27380"/>
                  </a:lnTo>
                  <a:lnTo>
                    <a:pt x="35614" y="21091"/>
                  </a:lnTo>
                  <a:lnTo>
                    <a:pt x="51926" y="1760"/>
                  </a:lnTo>
                  <a:lnTo>
                    <a:pt x="55489" y="775"/>
                  </a:lnTo>
                  <a:lnTo>
                    <a:pt x="70948" y="0"/>
                  </a:lnTo>
                  <a:lnTo>
                    <a:pt x="78470" y="6126"/>
                  </a:lnTo>
                  <a:lnTo>
                    <a:pt x="83823" y="7676"/>
                  </a:lnTo>
                  <a:lnTo>
                    <a:pt x="85648" y="9081"/>
                  </a:lnTo>
                  <a:lnTo>
                    <a:pt x="95113" y="25067"/>
                  </a:lnTo>
                  <a:lnTo>
                    <a:pt x="98146" y="66408"/>
                  </a:lnTo>
                  <a:lnTo>
                    <a:pt x="98223" y="107197"/>
                  </a:lnTo>
                  <a:lnTo>
                    <a:pt x="98226" y="151008"/>
                  </a:lnTo>
                  <a:lnTo>
                    <a:pt x="98226" y="1607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SMARTInkShape-269"/>
            <p:cNvSpPr/>
            <p:nvPr/>
          </p:nvSpPr>
          <p:spPr>
            <a:xfrm>
              <a:off x="8483040" y="3990960"/>
              <a:ext cx="205200" cy="14184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205337" h="141579">
                  <a:moveTo>
                    <a:pt x="124969" y="26779"/>
                  </a:moveTo>
                  <a:lnTo>
                    <a:pt x="124969" y="26779"/>
                  </a:lnTo>
                  <a:lnTo>
                    <a:pt x="117280" y="26779"/>
                  </a:lnTo>
                  <a:lnTo>
                    <a:pt x="116867" y="25787"/>
                  </a:lnTo>
                  <a:lnTo>
                    <a:pt x="116407" y="22039"/>
                  </a:lnTo>
                  <a:lnTo>
                    <a:pt x="115292" y="20642"/>
                  </a:lnTo>
                  <a:lnTo>
                    <a:pt x="111408" y="19091"/>
                  </a:lnTo>
                  <a:lnTo>
                    <a:pt x="109976" y="17685"/>
                  </a:lnTo>
                  <a:lnTo>
                    <a:pt x="107487" y="10270"/>
                  </a:lnTo>
                  <a:lnTo>
                    <a:pt x="104631" y="9520"/>
                  </a:lnTo>
                  <a:lnTo>
                    <a:pt x="99454" y="9038"/>
                  </a:lnTo>
                  <a:lnTo>
                    <a:pt x="91303" y="2806"/>
                  </a:lnTo>
                  <a:lnTo>
                    <a:pt x="83023" y="825"/>
                  </a:lnTo>
                  <a:lnTo>
                    <a:pt x="50552" y="0"/>
                  </a:lnTo>
                  <a:lnTo>
                    <a:pt x="44601" y="2640"/>
                  </a:lnTo>
                  <a:lnTo>
                    <a:pt x="23766" y="20981"/>
                  </a:lnTo>
                  <a:lnTo>
                    <a:pt x="5906" y="51128"/>
                  </a:lnTo>
                  <a:lnTo>
                    <a:pt x="1718" y="63869"/>
                  </a:lnTo>
                  <a:lnTo>
                    <a:pt x="0" y="108472"/>
                  </a:lnTo>
                  <a:lnTo>
                    <a:pt x="2620" y="115342"/>
                  </a:lnTo>
                  <a:lnTo>
                    <a:pt x="4707" y="118563"/>
                  </a:lnTo>
                  <a:lnTo>
                    <a:pt x="7092" y="120710"/>
                  </a:lnTo>
                  <a:lnTo>
                    <a:pt x="12387" y="123096"/>
                  </a:lnTo>
                  <a:lnTo>
                    <a:pt x="14195" y="124725"/>
                  </a:lnTo>
                  <a:lnTo>
                    <a:pt x="16205" y="129180"/>
                  </a:lnTo>
                  <a:lnTo>
                    <a:pt x="17734" y="130766"/>
                  </a:lnTo>
                  <a:lnTo>
                    <a:pt x="22078" y="132526"/>
                  </a:lnTo>
                  <a:lnTo>
                    <a:pt x="56519" y="133924"/>
                  </a:lnTo>
                  <a:lnTo>
                    <a:pt x="62466" y="131285"/>
                  </a:lnTo>
                  <a:lnTo>
                    <a:pt x="68416" y="127796"/>
                  </a:lnTo>
                  <a:lnTo>
                    <a:pt x="77344" y="124840"/>
                  </a:lnTo>
                  <a:lnTo>
                    <a:pt x="92228" y="112686"/>
                  </a:lnTo>
                  <a:lnTo>
                    <a:pt x="95534" y="106962"/>
                  </a:lnTo>
                  <a:lnTo>
                    <a:pt x="97995" y="101111"/>
                  </a:lnTo>
                  <a:lnTo>
                    <a:pt x="102398" y="95203"/>
                  </a:lnTo>
                  <a:lnTo>
                    <a:pt x="107662" y="91917"/>
                  </a:lnTo>
                  <a:lnTo>
                    <a:pt x="110454" y="91040"/>
                  </a:lnTo>
                  <a:lnTo>
                    <a:pt x="112315" y="89464"/>
                  </a:lnTo>
                  <a:lnTo>
                    <a:pt x="114385" y="85066"/>
                  </a:lnTo>
                  <a:lnTo>
                    <a:pt x="115928" y="83496"/>
                  </a:lnTo>
                  <a:lnTo>
                    <a:pt x="124933" y="80368"/>
                  </a:lnTo>
                  <a:lnTo>
                    <a:pt x="124966" y="72670"/>
                  </a:lnTo>
                  <a:lnTo>
                    <a:pt x="124969" y="79225"/>
                  </a:lnTo>
                  <a:lnTo>
                    <a:pt x="131106" y="87263"/>
                  </a:lnTo>
                  <a:lnTo>
                    <a:pt x="133072" y="95522"/>
                  </a:lnTo>
                  <a:lnTo>
                    <a:pt x="133531" y="101319"/>
                  </a:lnTo>
                  <a:lnTo>
                    <a:pt x="136381" y="107202"/>
                  </a:lnTo>
                  <a:lnTo>
                    <a:pt x="148116" y="122036"/>
                  </a:lnTo>
                  <a:lnTo>
                    <a:pt x="150141" y="127986"/>
                  </a:lnTo>
                  <a:lnTo>
                    <a:pt x="151672" y="129969"/>
                  </a:lnTo>
                  <a:lnTo>
                    <a:pt x="156020" y="132173"/>
                  </a:lnTo>
                  <a:lnTo>
                    <a:pt x="166894" y="134580"/>
                  </a:lnTo>
                  <a:lnTo>
                    <a:pt x="175646" y="139969"/>
                  </a:lnTo>
                  <a:lnTo>
                    <a:pt x="181557" y="141578"/>
                  </a:lnTo>
                  <a:lnTo>
                    <a:pt x="184523" y="141015"/>
                  </a:lnTo>
                  <a:lnTo>
                    <a:pt x="193438" y="135482"/>
                  </a:lnTo>
                  <a:lnTo>
                    <a:pt x="205336" y="1250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SMARTInkShape-270"/>
            <p:cNvSpPr/>
            <p:nvPr/>
          </p:nvSpPr>
          <p:spPr>
            <a:xfrm>
              <a:off x="8385120" y="394632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35720" h="8931">
                  <a:moveTo>
                    <a:pt x="0" y="0"/>
                  </a:moveTo>
                  <a:lnTo>
                    <a:pt x="0" y="0"/>
                  </a:lnTo>
                  <a:lnTo>
                    <a:pt x="4741" y="4741"/>
                  </a:lnTo>
                  <a:lnTo>
                    <a:pt x="9713" y="7068"/>
                  </a:lnTo>
                  <a:lnTo>
                    <a:pt x="-29817" y="893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SMARTInkShape-271"/>
            <p:cNvSpPr/>
            <p:nvPr/>
          </p:nvSpPr>
          <p:spPr>
            <a:xfrm>
              <a:off x="8233200" y="3990960"/>
              <a:ext cx="204840" cy="1692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69200"/>
                <a:gd name="textAreaBottom" fmla="*/ 169200 h 169200"/>
              </a:gdLst>
              <a:ahLst/>
              <a:rect l="textAreaLeft" t="textAreaTop" r="textAreaRight" b="textAreaBottom"/>
              <a:pathLst>
                <a:path w="205016" h="168987">
                  <a:moveTo>
                    <a:pt x="0" y="26679"/>
                  </a:moveTo>
                  <a:lnTo>
                    <a:pt x="0" y="26679"/>
                  </a:lnTo>
                  <a:lnTo>
                    <a:pt x="4741" y="21939"/>
                  </a:lnTo>
                  <a:lnTo>
                    <a:pt x="12361" y="19611"/>
                  </a:lnTo>
                  <a:lnTo>
                    <a:pt x="37882" y="15268"/>
                  </a:lnTo>
                  <a:lnTo>
                    <a:pt x="55219" y="10093"/>
                  </a:lnTo>
                  <a:lnTo>
                    <a:pt x="83449" y="7902"/>
                  </a:lnTo>
                  <a:lnTo>
                    <a:pt x="100306" y="1767"/>
                  </a:lnTo>
                  <a:lnTo>
                    <a:pt x="135280" y="0"/>
                  </a:lnTo>
                  <a:lnTo>
                    <a:pt x="142146" y="2585"/>
                  </a:lnTo>
                  <a:lnTo>
                    <a:pt x="148504" y="6048"/>
                  </a:lnTo>
                  <a:lnTo>
                    <a:pt x="157662" y="8991"/>
                  </a:lnTo>
                  <a:lnTo>
                    <a:pt x="166660" y="14713"/>
                  </a:lnTo>
                  <a:lnTo>
                    <a:pt x="172628" y="16400"/>
                  </a:lnTo>
                  <a:lnTo>
                    <a:pt x="174617" y="17842"/>
                  </a:lnTo>
                  <a:lnTo>
                    <a:pt x="175942" y="19796"/>
                  </a:lnTo>
                  <a:lnTo>
                    <a:pt x="185428" y="45502"/>
                  </a:lnTo>
                  <a:lnTo>
                    <a:pt x="189549" y="62683"/>
                  </a:lnTo>
                  <a:lnTo>
                    <a:pt x="194408" y="80342"/>
                  </a:lnTo>
                  <a:lnTo>
                    <a:pt x="196334" y="121934"/>
                  </a:lnTo>
                  <a:lnTo>
                    <a:pt x="197421" y="144750"/>
                  </a:lnTo>
                  <a:lnTo>
                    <a:pt x="205015" y="167635"/>
                  </a:lnTo>
                  <a:lnTo>
                    <a:pt x="204145" y="168275"/>
                  </a:lnTo>
                  <a:lnTo>
                    <a:pt x="200534" y="168986"/>
                  </a:lnTo>
                  <a:lnTo>
                    <a:pt x="199173" y="168183"/>
                  </a:lnTo>
                  <a:lnTo>
                    <a:pt x="198266" y="166656"/>
                  </a:lnTo>
                  <a:lnTo>
                    <a:pt x="196453" y="1606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2" name="SMARTInkShape-272"/>
            <p:cNvSpPr/>
            <p:nvPr/>
          </p:nvSpPr>
          <p:spPr>
            <a:xfrm>
              <a:off x="8242200" y="3848040"/>
              <a:ext cx="53280" cy="330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53546" h="330356">
                  <a:moveTo>
                    <a:pt x="0" y="0"/>
                  </a:moveTo>
                  <a:lnTo>
                    <a:pt x="0" y="0"/>
                  </a:lnTo>
                  <a:lnTo>
                    <a:pt x="0" y="7689"/>
                  </a:lnTo>
                  <a:lnTo>
                    <a:pt x="4741" y="13302"/>
                  </a:lnTo>
                  <a:lnTo>
                    <a:pt x="7068" y="21126"/>
                  </a:lnTo>
                  <a:lnTo>
                    <a:pt x="14994" y="62654"/>
                  </a:lnTo>
                  <a:lnTo>
                    <a:pt x="24760" y="101317"/>
                  </a:lnTo>
                  <a:lnTo>
                    <a:pt x="26388" y="139296"/>
                  </a:lnTo>
                  <a:lnTo>
                    <a:pt x="27703" y="177887"/>
                  </a:lnTo>
                  <a:lnTo>
                    <a:pt x="33841" y="214173"/>
                  </a:lnTo>
                  <a:lnTo>
                    <a:pt x="35472" y="257951"/>
                  </a:lnTo>
                  <a:lnTo>
                    <a:pt x="36689" y="291169"/>
                  </a:lnTo>
                  <a:lnTo>
                    <a:pt x="44095" y="313760"/>
                  </a:lnTo>
                  <a:lnTo>
                    <a:pt x="44540" y="324687"/>
                  </a:lnTo>
                  <a:lnTo>
                    <a:pt x="45569" y="326591"/>
                  </a:lnTo>
                  <a:lnTo>
                    <a:pt x="47246" y="327860"/>
                  </a:lnTo>
                  <a:lnTo>
                    <a:pt x="53468" y="330355"/>
                  </a:lnTo>
                  <a:lnTo>
                    <a:pt x="53545" y="325645"/>
                  </a:lnTo>
                  <a:lnTo>
                    <a:pt x="50918" y="320679"/>
                  </a:lnTo>
                  <a:lnTo>
                    <a:pt x="35719" y="29468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3" name="SMARTInkShape-273"/>
            <p:cNvSpPr/>
            <p:nvPr/>
          </p:nvSpPr>
          <p:spPr>
            <a:xfrm>
              <a:off x="8019000" y="3999960"/>
              <a:ext cx="124920" cy="195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25004" h="195057">
                  <a:moveTo>
                    <a:pt x="26789" y="0"/>
                  </a:moveTo>
                  <a:lnTo>
                    <a:pt x="26789" y="0"/>
                  </a:lnTo>
                  <a:lnTo>
                    <a:pt x="22049" y="0"/>
                  </a:lnTo>
                  <a:lnTo>
                    <a:pt x="17075" y="2646"/>
                  </a:lnTo>
                  <a:lnTo>
                    <a:pt x="509" y="17383"/>
                  </a:lnTo>
                  <a:lnTo>
                    <a:pt x="0" y="52292"/>
                  </a:lnTo>
                  <a:lnTo>
                    <a:pt x="992" y="52720"/>
                  </a:lnTo>
                  <a:lnTo>
                    <a:pt x="4740" y="53197"/>
                  </a:lnTo>
                  <a:lnTo>
                    <a:pt x="6137" y="54316"/>
                  </a:lnTo>
                  <a:lnTo>
                    <a:pt x="7689" y="58205"/>
                  </a:lnTo>
                  <a:lnTo>
                    <a:pt x="9095" y="59640"/>
                  </a:lnTo>
                  <a:lnTo>
                    <a:pt x="13303" y="61233"/>
                  </a:lnTo>
                  <a:lnTo>
                    <a:pt x="47834" y="63478"/>
                  </a:lnTo>
                  <a:lnTo>
                    <a:pt x="64607" y="69571"/>
                  </a:lnTo>
                  <a:lnTo>
                    <a:pt x="77254" y="71069"/>
                  </a:lnTo>
                  <a:lnTo>
                    <a:pt x="93017" y="78494"/>
                  </a:lnTo>
                  <a:lnTo>
                    <a:pt x="118975" y="101246"/>
                  </a:lnTo>
                  <a:lnTo>
                    <a:pt x="122331" y="107175"/>
                  </a:lnTo>
                  <a:lnTo>
                    <a:pt x="124485" y="119066"/>
                  </a:lnTo>
                  <a:lnTo>
                    <a:pt x="125003" y="154413"/>
                  </a:lnTo>
                  <a:lnTo>
                    <a:pt x="122363" y="160571"/>
                  </a:lnTo>
                  <a:lnTo>
                    <a:pt x="112586" y="172608"/>
                  </a:lnTo>
                  <a:lnTo>
                    <a:pt x="99283" y="181561"/>
                  </a:lnTo>
                  <a:lnTo>
                    <a:pt x="68565" y="195056"/>
                  </a:lnTo>
                  <a:lnTo>
                    <a:pt x="65555" y="194530"/>
                  </a:lnTo>
                  <a:lnTo>
                    <a:pt x="53592" y="189200"/>
                  </a:lnTo>
                  <a:lnTo>
                    <a:pt x="50611" y="188642"/>
                  </a:lnTo>
                  <a:lnTo>
                    <a:pt x="41675" y="183114"/>
                  </a:lnTo>
                  <a:lnTo>
                    <a:pt x="38365" y="177957"/>
                  </a:lnTo>
                  <a:lnTo>
                    <a:pt x="20342" y="136342"/>
                  </a:lnTo>
                  <a:lnTo>
                    <a:pt x="17859" y="12501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4" name="SMARTInkShape-274"/>
            <p:cNvSpPr/>
            <p:nvPr/>
          </p:nvSpPr>
          <p:spPr>
            <a:xfrm>
              <a:off x="7920720" y="3964320"/>
              <a:ext cx="26640" cy="8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6790" h="8821">
                  <a:moveTo>
                    <a:pt x="0" y="0"/>
                  </a:moveTo>
                  <a:lnTo>
                    <a:pt x="0" y="0"/>
                  </a:lnTo>
                  <a:lnTo>
                    <a:pt x="4741" y="4741"/>
                  </a:lnTo>
                  <a:lnTo>
                    <a:pt x="9713" y="7068"/>
                  </a:lnTo>
                  <a:lnTo>
                    <a:pt x="22123" y="8820"/>
                  </a:lnTo>
                  <a:lnTo>
                    <a:pt x="23678" y="7865"/>
                  </a:lnTo>
                  <a:lnTo>
                    <a:pt x="24716" y="6235"/>
                  </a:lnTo>
                  <a:lnTo>
                    <a:pt x="2678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5" name="SMARTInkShape-275"/>
            <p:cNvSpPr/>
            <p:nvPr/>
          </p:nvSpPr>
          <p:spPr>
            <a:xfrm>
              <a:off x="7492320" y="3955320"/>
              <a:ext cx="222840" cy="3218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23241" h="321423">
                  <a:moveTo>
                    <a:pt x="17857" y="0"/>
                  </a:moveTo>
                  <a:lnTo>
                    <a:pt x="17857" y="0"/>
                  </a:lnTo>
                  <a:lnTo>
                    <a:pt x="8377" y="4741"/>
                  </a:lnTo>
                  <a:lnTo>
                    <a:pt x="5585" y="7130"/>
                  </a:lnTo>
                  <a:lnTo>
                    <a:pt x="734" y="16250"/>
                  </a:lnTo>
                  <a:lnTo>
                    <a:pt x="18" y="59800"/>
                  </a:lnTo>
                  <a:lnTo>
                    <a:pt x="0" y="98789"/>
                  </a:lnTo>
                  <a:lnTo>
                    <a:pt x="2644" y="118898"/>
                  </a:lnTo>
                  <a:lnTo>
                    <a:pt x="9093" y="162097"/>
                  </a:lnTo>
                  <a:lnTo>
                    <a:pt x="15833" y="203595"/>
                  </a:lnTo>
                  <a:lnTo>
                    <a:pt x="22198" y="240748"/>
                  </a:lnTo>
                  <a:lnTo>
                    <a:pt x="31126" y="282220"/>
                  </a:lnTo>
                  <a:lnTo>
                    <a:pt x="35113" y="302753"/>
                  </a:lnTo>
                  <a:lnTo>
                    <a:pt x="35717" y="321422"/>
                  </a:lnTo>
                  <a:lnTo>
                    <a:pt x="35717" y="281567"/>
                  </a:lnTo>
                  <a:lnTo>
                    <a:pt x="35717" y="241031"/>
                  </a:lnTo>
                  <a:lnTo>
                    <a:pt x="35717" y="199426"/>
                  </a:lnTo>
                  <a:lnTo>
                    <a:pt x="35717" y="186310"/>
                  </a:lnTo>
                  <a:lnTo>
                    <a:pt x="38363" y="179378"/>
                  </a:lnTo>
                  <a:lnTo>
                    <a:pt x="51163" y="160804"/>
                  </a:lnTo>
                  <a:lnTo>
                    <a:pt x="53496" y="154812"/>
                  </a:lnTo>
                  <a:lnTo>
                    <a:pt x="57839" y="148842"/>
                  </a:lnTo>
                  <a:lnTo>
                    <a:pt x="63078" y="145527"/>
                  </a:lnTo>
                  <a:lnTo>
                    <a:pt x="65864" y="144643"/>
                  </a:lnTo>
                  <a:lnTo>
                    <a:pt x="67721" y="143062"/>
                  </a:lnTo>
                  <a:lnTo>
                    <a:pt x="69785" y="138659"/>
                  </a:lnTo>
                  <a:lnTo>
                    <a:pt x="71328" y="137088"/>
                  </a:lnTo>
                  <a:lnTo>
                    <a:pt x="75687" y="135342"/>
                  </a:lnTo>
                  <a:lnTo>
                    <a:pt x="101234" y="133982"/>
                  </a:lnTo>
                  <a:lnTo>
                    <a:pt x="107170" y="136608"/>
                  </a:lnTo>
                  <a:lnTo>
                    <a:pt x="113114" y="140090"/>
                  </a:lnTo>
                  <a:lnTo>
                    <a:pt x="122039" y="143043"/>
                  </a:lnTo>
                  <a:lnTo>
                    <a:pt x="145850" y="163834"/>
                  </a:lnTo>
                  <a:lnTo>
                    <a:pt x="165693" y="193649"/>
                  </a:lnTo>
                  <a:lnTo>
                    <a:pt x="177196" y="238248"/>
                  </a:lnTo>
                  <a:lnTo>
                    <a:pt x="180617" y="247440"/>
                  </a:lnTo>
                  <a:lnTo>
                    <a:pt x="184453" y="254833"/>
                  </a:lnTo>
                  <a:lnTo>
                    <a:pt x="187605" y="264573"/>
                  </a:lnTo>
                  <a:lnTo>
                    <a:pt x="191858" y="270716"/>
                  </a:lnTo>
                  <a:lnTo>
                    <a:pt x="197056" y="274107"/>
                  </a:lnTo>
                  <a:lnTo>
                    <a:pt x="205277" y="276463"/>
                  </a:lnTo>
                  <a:lnTo>
                    <a:pt x="209634" y="276662"/>
                  </a:lnTo>
                  <a:lnTo>
                    <a:pt x="211194" y="275722"/>
                  </a:lnTo>
                  <a:lnTo>
                    <a:pt x="212233" y="274104"/>
                  </a:lnTo>
                  <a:lnTo>
                    <a:pt x="213900" y="269119"/>
                  </a:lnTo>
                  <a:lnTo>
                    <a:pt x="223240" y="2589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6" name="SMARTInkShape-276"/>
            <p:cNvSpPr/>
            <p:nvPr/>
          </p:nvSpPr>
          <p:spPr>
            <a:xfrm>
              <a:off x="7929720" y="4071600"/>
              <a:ext cx="53280" cy="1249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3579" h="125006">
                  <a:moveTo>
                    <a:pt x="0" y="0"/>
                  </a:moveTo>
                  <a:lnTo>
                    <a:pt x="0" y="0"/>
                  </a:lnTo>
                  <a:lnTo>
                    <a:pt x="0" y="42692"/>
                  </a:lnTo>
                  <a:lnTo>
                    <a:pt x="0" y="73058"/>
                  </a:lnTo>
                  <a:lnTo>
                    <a:pt x="2646" y="79765"/>
                  </a:lnTo>
                  <a:lnTo>
                    <a:pt x="6137" y="86053"/>
                  </a:lnTo>
                  <a:lnTo>
                    <a:pt x="9095" y="95171"/>
                  </a:lnTo>
                  <a:lnTo>
                    <a:pt x="34333" y="123619"/>
                  </a:lnTo>
                  <a:lnTo>
                    <a:pt x="44245" y="124979"/>
                  </a:lnTo>
                  <a:lnTo>
                    <a:pt x="49270" y="125005"/>
                  </a:lnTo>
                  <a:lnTo>
                    <a:pt x="50706" y="124017"/>
                  </a:lnTo>
                  <a:lnTo>
                    <a:pt x="51663" y="122366"/>
                  </a:lnTo>
                  <a:lnTo>
                    <a:pt x="53011" y="115301"/>
                  </a:lnTo>
                  <a:lnTo>
                    <a:pt x="53578" y="1071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7" name="SMARTInkShape-277"/>
            <p:cNvSpPr/>
            <p:nvPr/>
          </p:nvSpPr>
          <p:spPr>
            <a:xfrm>
              <a:off x="7733880" y="4044600"/>
              <a:ext cx="124560" cy="1965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24649" h="196332">
                  <a:moveTo>
                    <a:pt x="8562" y="71438"/>
                  </a:moveTo>
                  <a:lnTo>
                    <a:pt x="8562" y="71438"/>
                  </a:lnTo>
                  <a:lnTo>
                    <a:pt x="1495" y="88219"/>
                  </a:lnTo>
                  <a:lnTo>
                    <a:pt x="0" y="105731"/>
                  </a:lnTo>
                  <a:lnTo>
                    <a:pt x="8024" y="149220"/>
                  </a:lnTo>
                  <a:lnTo>
                    <a:pt x="8456" y="163201"/>
                  </a:lnTo>
                  <a:lnTo>
                    <a:pt x="11161" y="169437"/>
                  </a:lnTo>
                  <a:lnTo>
                    <a:pt x="14678" y="175517"/>
                  </a:lnTo>
                  <a:lnTo>
                    <a:pt x="17121" y="185746"/>
                  </a:lnTo>
                  <a:lnTo>
                    <a:pt x="26310" y="196331"/>
                  </a:lnTo>
                  <a:lnTo>
                    <a:pt x="26412" y="188754"/>
                  </a:lnTo>
                  <a:lnTo>
                    <a:pt x="31159" y="183148"/>
                  </a:lnTo>
                  <a:lnTo>
                    <a:pt x="31566" y="180638"/>
                  </a:lnTo>
                  <a:lnTo>
                    <a:pt x="30842" y="177972"/>
                  </a:lnTo>
                  <a:lnTo>
                    <a:pt x="29369" y="175203"/>
                  </a:lnTo>
                  <a:lnTo>
                    <a:pt x="29379" y="172364"/>
                  </a:lnTo>
                  <a:lnTo>
                    <a:pt x="32035" y="166565"/>
                  </a:lnTo>
                  <a:lnTo>
                    <a:pt x="32148" y="162637"/>
                  </a:lnTo>
                  <a:lnTo>
                    <a:pt x="27372" y="141129"/>
                  </a:lnTo>
                  <a:lnTo>
                    <a:pt x="31755" y="122098"/>
                  </a:lnTo>
                  <a:lnTo>
                    <a:pt x="29435" y="110041"/>
                  </a:lnTo>
                  <a:lnTo>
                    <a:pt x="41297" y="68546"/>
                  </a:lnTo>
                  <a:lnTo>
                    <a:pt x="44390" y="57462"/>
                  </a:lnTo>
                  <a:lnTo>
                    <a:pt x="59435" y="38775"/>
                  </a:lnTo>
                  <a:lnTo>
                    <a:pt x="68174" y="30782"/>
                  </a:lnTo>
                  <a:lnTo>
                    <a:pt x="80016" y="24932"/>
                  </a:lnTo>
                  <a:lnTo>
                    <a:pt x="85960" y="21003"/>
                  </a:lnTo>
                  <a:lnTo>
                    <a:pt x="94884" y="17799"/>
                  </a:lnTo>
                  <a:lnTo>
                    <a:pt x="103813" y="11999"/>
                  </a:lnTo>
                  <a:lnTo>
                    <a:pt x="112743" y="8847"/>
                  </a:lnTo>
                  <a:lnTo>
                    <a:pt x="12464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8" name="SMARTInkShape-278"/>
            <p:cNvSpPr/>
            <p:nvPr/>
          </p:nvSpPr>
          <p:spPr>
            <a:xfrm>
              <a:off x="7243920" y="3973320"/>
              <a:ext cx="248400" cy="31140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248764" h="311117">
                  <a:moveTo>
                    <a:pt x="132677" y="26777"/>
                  </a:moveTo>
                  <a:lnTo>
                    <a:pt x="132677" y="26777"/>
                  </a:lnTo>
                  <a:lnTo>
                    <a:pt x="127937" y="26777"/>
                  </a:lnTo>
                  <a:lnTo>
                    <a:pt x="126539" y="25784"/>
                  </a:lnTo>
                  <a:lnTo>
                    <a:pt x="125609" y="24131"/>
                  </a:lnTo>
                  <a:lnTo>
                    <a:pt x="124115" y="19089"/>
                  </a:lnTo>
                  <a:lnTo>
                    <a:pt x="121265" y="18399"/>
                  </a:lnTo>
                  <a:lnTo>
                    <a:pt x="119116" y="18215"/>
                  </a:lnTo>
                  <a:lnTo>
                    <a:pt x="117683" y="17100"/>
                  </a:lnTo>
                  <a:lnTo>
                    <a:pt x="110455" y="5450"/>
                  </a:lnTo>
                  <a:lnTo>
                    <a:pt x="105272" y="2415"/>
                  </a:lnTo>
                  <a:lnTo>
                    <a:pt x="96069" y="307"/>
                  </a:lnTo>
                  <a:lnTo>
                    <a:pt x="67449" y="0"/>
                  </a:lnTo>
                  <a:lnTo>
                    <a:pt x="61353" y="2639"/>
                  </a:lnTo>
                  <a:lnTo>
                    <a:pt x="55337" y="6127"/>
                  </a:lnTo>
                  <a:lnTo>
                    <a:pt x="46372" y="9083"/>
                  </a:lnTo>
                  <a:lnTo>
                    <a:pt x="13615" y="38719"/>
                  </a:lnTo>
                  <a:lnTo>
                    <a:pt x="10308" y="47298"/>
                  </a:lnTo>
                  <a:lnTo>
                    <a:pt x="129" y="91204"/>
                  </a:lnTo>
                  <a:lnTo>
                    <a:pt x="0" y="119246"/>
                  </a:lnTo>
                  <a:lnTo>
                    <a:pt x="6457" y="161140"/>
                  </a:lnTo>
                  <a:lnTo>
                    <a:pt x="14571" y="202780"/>
                  </a:lnTo>
                  <a:lnTo>
                    <a:pt x="20933" y="233412"/>
                  </a:lnTo>
                  <a:lnTo>
                    <a:pt x="45236" y="273419"/>
                  </a:lnTo>
                  <a:lnTo>
                    <a:pt x="71806" y="297085"/>
                  </a:lnTo>
                  <a:lnTo>
                    <a:pt x="81150" y="300703"/>
                  </a:lnTo>
                  <a:lnTo>
                    <a:pt x="90925" y="303303"/>
                  </a:lnTo>
                  <a:lnTo>
                    <a:pt x="105285" y="310411"/>
                  </a:lnTo>
                  <a:lnTo>
                    <a:pt x="108462" y="311116"/>
                  </a:lnTo>
                  <a:lnTo>
                    <a:pt x="117284" y="309254"/>
                  </a:lnTo>
                  <a:lnTo>
                    <a:pt x="133408" y="305274"/>
                  </a:lnTo>
                  <a:lnTo>
                    <a:pt x="143917" y="303350"/>
                  </a:lnTo>
                  <a:lnTo>
                    <a:pt x="175250" y="285549"/>
                  </a:lnTo>
                  <a:lnTo>
                    <a:pt x="198072" y="263701"/>
                  </a:lnTo>
                  <a:lnTo>
                    <a:pt x="228862" y="220514"/>
                  </a:lnTo>
                  <a:lnTo>
                    <a:pt x="248763" y="16965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79" name="SMARTInkShape-279"/>
          <p:cNvSpPr/>
          <p:nvPr/>
        </p:nvSpPr>
        <p:spPr>
          <a:xfrm>
            <a:off x="3875040" y="4933800"/>
            <a:ext cx="1751040" cy="200160"/>
          </a:xfrm>
          <a:custGeom>
            <a:avLst/>
            <a:gdLst>
              <a:gd name="textAreaLeft" fmla="*/ 0 w 1751040"/>
              <a:gd name="textAreaRight" fmla="*/ 1751400 w 17510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50210" h="201227">
                <a:moveTo>
                  <a:pt x="634008" y="58351"/>
                </a:moveTo>
                <a:lnTo>
                  <a:pt x="634008" y="58351"/>
                </a:lnTo>
                <a:lnTo>
                  <a:pt x="673087" y="53611"/>
                </a:lnTo>
                <a:lnTo>
                  <a:pt x="691395" y="53929"/>
                </a:lnTo>
                <a:lnTo>
                  <a:pt x="731743" y="57769"/>
                </a:lnTo>
                <a:lnTo>
                  <a:pt x="775012" y="58328"/>
                </a:lnTo>
                <a:lnTo>
                  <a:pt x="814463" y="58349"/>
                </a:lnTo>
                <a:lnTo>
                  <a:pt x="858655" y="58351"/>
                </a:lnTo>
                <a:lnTo>
                  <a:pt x="903263" y="58351"/>
                </a:lnTo>
                <a:lnTo>
                  <a:pt x="943167" y="58351"/>
                </a:lnTo>
                <a:lnTo>
                  <a:pt x="982997" y="65419"/>
                </a:lnTo>
                <a:lnTo>
                  <a:pt x="1027011" y="68027"/>
                </a:lnTo>
                <a:lnTo>
                  <a:pt x="1071576" y="74937"/>
                </a:lnTo>
                <a:lnTo>
                  <a:pt x="1111791" y="76043"/>
                </a:lnTo>
                <a:lnTo>
                  <a:pt x="1154140" y="77180"/>
                </a:lnTo>
                <a:lnTo>
                  <a:pt x="1196868" y="83895"/>
                </a:lnTo>
                <a:lnTo>
                  <a:pt x="1241265" y="84976"/>
                </a:lnTo>
                <a:lnTo>
                  <a:pt x="1285880" y="85118"/>
                </a:lnTo>
                <a:lnTo>
                  <a:pt x="1330524" y="85137"/>
                </a:lnTo>
                <a:lnTo>
                  <a:pt x="1375172" y="92208"/>
                </a:lnTo>
                <a:lnTo>
                  <a:pt x="1413683" y="93825"/>
                </a:lnTo>
                <a:lnTo>
                  <a:pt x="1447160" y="91376"/>
                </a:lnTo>
                <a:lnTo>
                  <a:pt x="1485193" y="85961"/>
                </a:lnTo>
                <a:lnTo>
                  <a:pt x="1522614" y="85249"/>
                </a:lnTo>
                <a:lnTo>
                  <a:pt x="1560651" y="85155"/>
                </a:lnTo>
                <a:lnTo>
                  <a:pt x="1604104" y="85140"/>
                </a:lnTo>
                <a:lnTo>
                  <a:pt x="1645945" y="85140"/>
                </a:lnTo>
                <a:lnTo>
                  <a:pt x="1663494" y="85140"/>
                </a:lnTo>
                <a:lnTo>
                  <a:pt x="1669672" y="82494"/>
                </a:lnTo>
                <a:lnTo>
                  <a:pt x="1676982" y="77452"/>
                </a:lnTo>
                <a:lnTo>
                  <a:pt x="1687589" y="76220"/>
                </a:lnTo>
                <a:lnTo>
                  <a:pt x="1687708" y="67649"/>
                </a:lnTo>
                <a:lnTo>
                  <a:pt x="1682969" y="67390"/>
                </a:lnTo>
                <a:lnTo>
                  <a:pt x="1681573" y="66361"/>
                </a:lnTo>
                <a:lnTo>
                  <a:pt x="1680022" y="62572"/>
                </a:lnTo>
                <a:lnTo>
                  <a:pt x="1678616" y="61165"/>
                </a:lnTo>
                <a:lnTo>
                  <a:pt x="1674408" y="59602"/>
                </a:lnTo>
                <a:lnTo>
                  <a:pt x="1650134" y="58461"/>
                </a:lnTo>
                <a:lnTo>
                  <a:pt x="1643560" y="61046"/>
                </a:lnTo>
                <a:lnTo>
                  <a:pt x="1640418" y="63124"/>
                </a:lnTo>
                <a:lnTo>
                  <a:pt x="1626514" y="66049"/>
                </a:lnTo>
                <a:lnTo>
                  <a:pt x="1583121" y="67248"/>
                </a:lnTo>
                <a:lnTo>
                  <a:pt x="1540843" y="68271"/>
                </a:lnTo>
                <a:lnTo>
                  <a:pt x="1497044" y="75382"/>
                </a:lnTo>
                <a:lnTo>
                  <a:pt x="1455125" y="76101"/>
                </a:lnTo>
                <a:lnTo>
                  <a:pt x="1410836" y="76196"/>
                </a:lnTo>
                <a:lnTo>
                  <a:pt x="1366235" y="77201"/>
                </a:lnTo>
                <a:lnTo>
                  <a:pt x="1327876" y="83278"/>
                </a:lnTo>
                <a:lnTo>
                  <a:pt x="1287116" y="84773"/>
                </a:lnTo>
                <a:lnTo>
                  <a:pt x="1244264" y="91205"/>
                </a:lnTo>
                <a:lnTo>
                  <a:pt x="1203462" y="93503"/>
                </a:lnTo>
                <a:lnTo>
                  <a:pt x="1169183" y="93902"/>
                </a:lnTo>
                <a:lnTo>
                  <a:pt x="1133890" y="94020"/>
                </a:lnTo>
                <a:lnTo>
                  <a:pt x="1095652" y="94055"/>
                </a:lnTo>
                <a:lnTo>
                  <a:pt x="1055550" y="96711"/>
                </a:lnTo>
                <a:lnTo>
                  <a:pt x="1018532" y="101136"/>
                </a:lnTo>
                <a:lnTo>
                  <a:pt x="982428" y="99801"/>
                </a:lnTo>
                <a:lnTo>
                  <a:pt x="946595" y="95768"/>
                </a:lnTo>
                <a:lnTo>
                  <a:pt x="908197" y="97219"/>
                </a:lnTo>
                <a:lnTo>
                  <a:pt x="868046" y="98641"/>
                </a:lnTo>
                <a:lnTo>
                  <a:pt x="831014" y="95424"/>
                </a:lnTo>
                <a:lnTo>
                  <a:pt x="794906" y="94471"/>
                </a:lnTo>
                <a:lnTo>
                  <a:pt x="756426" y="94189"/>
                </a:lnTo>
                <a:lnTo>
                  <a:pt x="713605" y="94105"/>
                </a:lnTo>
                <a:lnTo>
                  <a:pt x="672144" y="94080"/>
                </a:lnTo>
                <a:lnTo>
                  <a:pt x="634725" y="91427"/>
                </a:lnTo>
                <a:lnTo>
                  <a:pt x="598502" y="87003"/>
                </a:lnTo>
                <a:lnTo>
                  <a:pt x="559988" y="85691"/>
                </a:lnTo>
                <a:lnTo>
                  <a:pt x="522449" y="85304"/>
                </a:lnTo>
                <a:lnTo>
                  <a:pt x="478357" y="80432"/>
                </a:lnTo>
                <a:lnTo>
                  <a:pt x="443250" y="77461"/>
                </a:lnTo>
                <a:lnTo>
                  <a:pt x="402961" y="76458"/>
                </a:lnTo>
                <a:lnTo>
                  <a:pt x="366340" y="76259"/>
                </a:lnTo>
                <a:lnTo>
                  <a:pt x="339394" y="78871"/>
                </a:lnTo>
                <a:lnTo>
                  <a:pt x="295470" y="84590"/>
                </a:lnTo>
                <a:lnTo>
                  <a:pt x="250836" y="85125"/>
                </a:lnTo>
                <a:lnTo>
                  <a:pt x="241116" y="85140"/>
                </a:lnTo>
                <a:lnTo>
                  <a:pt x="253532" y="85140"/>
                </a:lnTo>
                <a:lnTo>
                  <a:pt x="295243" y="93242"/>
                </a:lnTo>
                <a:lnTo>
                  <a:pt x="331845" y="93960"/>
                </a:lnTo>
                <a:lnTo>
                  <a:pt x="372592" y="94055"/>
                </a:lnTo>
                <a:lnTo>
                  <a:pt x="407855" y="94067"/>
                </a:lnTo>
                <a:lnTo>
                  <a:pt x="445910" y="95062"/>
                </a:lnTo>
                <a:lnTo>
                  <a:pt x="484735" y="101137"/>
                </a:lnTo>
                <a:lnTo>
                  <a:pt x="525588" y="102632"/>
                </a:lnTo>
                <a:lnTo>
                  <a:pt x="569450" y="102926"/>
                </a:lnTo>
                <a:lnTo>
                  <a:pt x="604517" y="102978"/>
                </a:lnTo>
                <a:lnTo>
                  <a:pt x="640042" y="102992"/>
                </a:lnTo>
                <a:lnTo>
                  <a:pt x="675704" y="102998"/>
                </a:lnTo>
                <a:lnTo>
                  <a:pt x="711405" y="102006"/>
                </a:lnTo>
                <a:lnTo>
                  <a:pt x="747119" y="96863"/>
                </a:lnTo>
                <a:lnTo>
                  <a:pt x="782836" y="94898"/>
                </a:lnTo>
                <a:lnTo>
                  <a:pt x="818555" y="94315"/>
                </a:lnTo>
                <a:lnTo>
                  <a:pt x="854274" y="94143"/>
                </a:lnTo>
                <a:lnTo>
                  <a:pt x="889993" y="94092"/>
                </a:lnTo>
                <a:lnTo>
                  <a:pt x="925711" y="94076"/>
                </a:lnTo>
                <a:lnTo>
                  <a:pt x="960437" y="94071"/>
                </a:lnTo>
                <a:lnTo>
                  <a:pt x="1004633" y="94070"/>
                </a:lnTo>
                <a:lnTo>
                  <a:pt x="1043463" y="91424"/>
                </a:lnTo>
                <a:lnTo>
                  <a:pt x="1080104" y="87002"/>
                </a:lnTo>
                <a:lnTo>
                  <a:pt x="1116096" y="85691"/>
                </a:lnTo>
                <a:lnTo>
                  <a:pt x="1151896" y="82657"/>
                </a:lnTo>
                <a:lnTo>
                  <a:pt x="1194807" y="77484"/>
                </a:lnTo>
                <a:lnTo>
                  <a:pt x="1238084" y="76462"/>
                </a:lnTo>
                <a:lnTo>
                  <a:pt x="1278970" y="76260"/>
                </a:lnTo>
                <a:lnTo>
                  <a:pt x="1313264" y="76226"/>
                </a:lnTo>
                <a:lnTo>
                  <a:pt x="1355667" y="76213"/>
                </a:lnTo>
                <a:lnTo>
                  <a:pt x="1399835" y="82348"/>
                </a:lnTo>
                <a:lnTo>
                  <a:pt x="1444132" y="87235"/>
                </a:lnTo>
                <a:lnTo>
                  <a:pt x="1481839" y="92720"/>
                </a:lnTo>
                <a:lnTo>
                  <a:pt x="1524267" y="100960"/>
                </a:lnTo>
                <a:lnTo>
                  <a:pt x="1568659" y="108869"/>
                </a:lnTo>
                <a:lnTo>
                  <a:pt x="1609799" y="117797"/>
                </a:lnTo>
                <a:lnTo>
                  <a:pt x="1652131" y="126727"/>
                </a:lnTo>
                <a:lnTo>
                  <a:pt x="1693829" y="136677"/>
                </a:lnTo>
                <a:lnTo>
                  <a:pt x="1707383" y="140759"/>
                </a:lnTo>
                <a:lnTo>
                  <a:pt x="1739402" y="155217"/>
                </a:lnTo>
                <a:lnTo>
                  <a:pt x="1750095" y="165388"/>
                </a:lnTo>
                <a:lnTo>
                  <a:pt x="1750209" y="173185"/>
                </a:lnTo>
                <a:lnTo>
                  <a:pt x="1726885" y="175356"/>
                </a:lnTo>
                <a:lnTo>
                  <a:pt x="1714595" y="181490"/>
                </a:lnTo>
                <a:lnTo>
                  <a:pt x="1671434" y="183334"/>
                </a:lnTo>
                <a:lnTo>
                  <a:pt x="1629298" y="183364"/>
                </a:lnTo>
                <a:lnTo>
                  <a:pt x="1598451" y="182374"/>
                </a:lnTo>
                <a:lnTo>
                  <a:pt x="1561328" y="175679"/>
                </a:lnTo>
                <a:lnTo>
                  <a:pt x="1517866" y="174600"/>
                </a:lnTo>
                <a:lnTo>
                  <a:pt x="1482293" y="174469"/>
                </a:lnTo>
                <a:lnTo>
                  <a:pt x="1439473" y="168307"/>
                </a:lnTo>
                <a:lnTo>
                  <a:pt x="1404586" y="166337"/>
                </a:lnTo>
                <a:lnTo>
                  <a:pt x="1370107" y="165753"/>
                </a:lnTo>
                <a:lnTo>
                  <a:pt x="1325995" y="162909"/>
                </a:lnTo>
                <a:lnTo>
                  <a:pt x="1287180" y="158454"/>
                </a:lnTo>
                <a:lnTo>
                  <a:pt x="1250543" y="157134"/>
                </a:lnTo>
                <a:lnTo>
                  <a:pt x="1211907" y="156742"/>
                </a:lnTo>
                <a:lnTo>
                  <a:pt x="1169039" y="156626"/>
                </a:lnTo>
                <a:lnTo>
                  <a:pt x="1124918" y="156592"/>
                </a:lnTo>
                <a:lnTo>
                  <a:pt x="1080426" y="156582"/>
                </a:lnTo>
                <a:lnTo>
                  <a:pt x="1035824" y="156578"/>
                </a:lnTo>
                <a:lnTo>
                  <a:pt x="991189" y="156578"/>
                </a:lnTo>
                <a:lnTo>
                  <a:pt x="946545" y="156578"/>
                </a:lnTo>
                <a:lnTo>
                  <a:pt x="901898" y="156578"/>
                </a:lnTo>
                <a:lnTo>
                  <a:pt x="857250" y="156578"/>
                </a:lnTo>
                <a:lnTo>
                  <a:pt x="812602" y="156578"/>
                </a:lnTo>
                <a:lnTo>
                  <a:pt x="767953" y="156578"/>
                </a:lnTo>
                <a:lnTo>
                  <a:pt x="723305" y="156578"/>
                </a:lnTo>
                <a:lnTo>
                  <a:pt x="678656" y="156578"/>
                </a:lnTo>
                <a:lnTo>
                  <a:pt x="634008" y="156578"/>
                </a:lnTo>
                <a:lnTo>
                  <a:pt x="589359" y="156578"/>
                </a:lnTo>
                <a:lnTo>
                  <a:pt x="544711" y="159223"/>
                </a:lnTo>
                <a:lnTo>
                  <a:pt x="502708" y="163645"/>
                </a:lnTo>
                <a:lnTo>
                  <a:pt x="462482" y="164956"/>
                </a:lnTo>
                <a:lnTo>
                  <a:pt x="421789" y="167990"/>
                </a:lnTo>
                <a:lnTo>
                  <a:pt x="381951" y="172527"/>
                </a:lnTo>
                <a:lnTo>
                  <a:pt x="344020" y="173870"/>
                </a:lnTo>
                <a:lnTo>
                  <a:pt x="299796" y="179065"/>
                </a:lnTo>
                <a:lnTo>
                  <a:pt x="264666" y="182093"/>
                </a:lnTo>
                <a:lnTo>
                  <a:pt x="225361" y="184108"/>
                </a:lnTo>
                <a:lnTo>
                  <a:pt x="181690" y="191022"/>
                </a:lnTo>
                <a:lnTo>
                  <a:pt x="167403" y="194376"/>
                </a:lnTo>
                <a:lnTo>
                  <a:pt x="155761" y="198182"/>
                </a:lnTo>
                <a:lnTo>
                  <a:pt x="113849" y="200958"/>
                </a:lnTo>
                <a:lnTo>
                  <a:pt x="71683" y="201222"/>
                </a:lnTo>
                <a:lnTo>
                  <a:pt x="62512" y="201226"/>
                </a:lnTo>
                <a:lnTo>
                  <a:pt x="87826" y="200234"/>
                </a:lnTo>
                <a:lnTo>
                  <a:pt x="127471" y="193124"/>
                </a:lnTo>
                <a:lnTo>
                  <a:pt x="170794" y="186232"/>
                </a:lnTo>
                <a:lnTo>
                  <a:pt x="208252" y="183933"/>
                </a:lnTo>
                <a:lnTo>
                  <a:pt x="248834" y="178738"/>
                </a:lnTo>
                <a:lnTo>
                  <a:pt x="292643" y="174294"/>
                </a:lnTo>
                <a:lnTo>
                  <a:pt x="328692" y="167560"/>
                </a:lnTo>
                <a:lnTo>
                  <a:pt x="369360" y="160272"/>
                </a:lnTo>
                <a:lnTo>
                  <a:pt x="406986" y="156680"/>
                </a:lnTo>
                <a:lnTo>
                  <a:pt x="444262" y="149772"/>
                </a:lnTo>
                <a:lnTo>
                  <a:pt x="485293" y="141442"/>
                </a:lnTo>
                <a:lnTo>
                  <a:pt x="523027" y="133682"/>
                </a:lnTo>
                <a:lnTo>
                  <a:pt x="560335" y="129950"/>
                </a:lnTo>
                <a:lnTo>
                  <a:pt x="602367" y="123002"/>
                </a:lnTo>
                <a:lnTo>
                  <a:pt x="646240" y="114659"/>
                </a:lnTo>
                <a:lnTo>
                  <a:pt x="690659" y="106895"/>
                </a:lnTo>
                <a:lnTo>
                  <a:pt x="735239" y="103161"/>
                </a:lnTo>
                <a:lnTo>
                  <a:pt x="779868" y="96213"/>
                </a:lnTo>
                <a:lnTo>
                  <a:pt x="824510" y="88861"/>
                </a:lnTo>
                <a:lnTo>
                  <a:pt x="869157" y="85250"/>
                </a:lnTo>
                <a:lnTo>
                  <a:pt x="913805" y="79330"/>
                </a:lnTo>
                <a:lnTo>
                  <a:pt x="958453" y="77135"/>
                </a:lnTo>
                <a:lnTo>
                  <a:pt x="1003102" y="75493"/>
                </a:lnTo>
                <a:lnTo>
                  <a:pt x="1047750" y="70155"/>
                </a:lnTo>
                <a:lnTo>
                  <a:pt x="1092398" y="67140"/>
                </a:lnTo>
                <a:lnTo>
                  <a:pt x="1136055" y="61396"/>
                </a:lnTo>
                <a:lnTo>
                  <a:pt x="1175558" y="58262"/>
                </a:lnTo>
                <a:lnTo>
                  <a:pt x="1218242" y="52482"/>
                </a:lnTo>
                <a:lnTo>
                  <a:pt x="1261316" y="50329"/>
                </a:lnTo>
                <a:lnTo>
                  <a:pt x="1299654" y="49690"/>
                </a:lnTo>
                <a:lnTo>
                  <a:pt x="1336150" y="50493"/>
                </a:lnTo>
                <a:lnTo>
                  <a:pt x="1372098" y="55581"/>
                </a:lnTo>
                <a:lnTo>
                  <a:pt x="1407886" y="58522"/>
                </a:lnTo>
                <a:lnTo>
                  <a:pt x="1442632" y="65237"/>
                </a:lnTo>
                <a:lnTo>
                  <a:pt x="1481543" y="76395"/>
                </a:lnTo>
                <a:lnTo>
                  <a:pt x="1525881" y="84981"/>
                </a:lnTo>
                <a:lnTo>
                  <a:pt x="1563923" y="97418"/>
                </a:lnTo>
                <a:lnTo>
                  <a:pt x="1595146" y="104910"/>
                </a:lnTo>
                <a:lnTo>
                  <a:pt x="1633496" y="127192"/>
                </a:lnTo>
                <a:lnTo>
                  <a:pt x="1636685" y="128058"/>
                </a:lnTo>
                <a:lnTo>
                  <a:pt x="1638811" y="129626"/>
                </a:lnTo>
                <a:lnTo>
                  <a:pt x="1640229" y="131665"/>
                </a:lnTo>
                <a:lnTo>
                  <a:pt x="1642504" y="137325"/>
                </a:lnTo>
                <a:lnTo>
                  <a:pt x="1647637" y="143046"/>
                </a:lnTo>
                <a:lnTo>
                  <a:pt x="1648097" y="144580"/>
                </a:lnTo>
                <a:lnTo>
                  <a:pt x="1647411" y="145602"/>
                </a:lnTo>
                <a:lnTo>
                  <a:pt x="1645962" y="146284"/>
                </a:lnTo>
                <a:lnTo>
                  <a:pt x="1644996" y="147731"/>
                </a:lnTo>
                <a:lnTo>
                  <a:pt x="1643922" y="151984"/>
                </a:lnTo>
                <a:lnTo>
                  <a:pt x="1642643" y="153516"/>
                </a:lnTo>
                <a:lnTo>
                  <a:pt x="1638577" y="155216"/>
                </a:lnTo>
                <a:lnTo>
                  <a:pt x="1637096" y="156662"/>
                </a:lnTo>
                <a:lnTo>
                  <a:pt x="1635449" y="160914"/>
                </a:lnTo>
                <a:lnTo>
                  <a:pt x="1633026" y="162446"/>
                </a:lnTo>
                <a:lnTo>
                  <a:pt x="1617525" y="167548"/>
                </a:lnTo>
                <a:lnTo>
                  <a:pt x="1614131" y="169844"/>
                </a:lnTo>
                <a:lnTo>
                  <a:pt x="1599874" y="173076"/>
                </a:lnTo>
                <a:lnTo>
                  <a:pt x="1571425" y="176904"/>
                </a:lnTo>
                <a:lnTo>
                  <a:pt x="1558638" y="180494"/>
                </a:lnTo>
                <a:lnTo>
                  <a:pt x="1534704" y="181524"/>
                </a:lnTo>
                <a:lnTo>
                  <a:pt x="1491099" y="175566"/>
                </a:lnTo>
                <a:lnTo>
                  <a:pt x="1453523" y="167531"/>
                </a:lnTo>
                <a:lnTo>
                  <a:pt x="1415476" y="159272"/>
                </a:lnTo>
                <a:lnTo>
                  <a:pt x="1377633" y="150541"/>
                </a:lnTo>
                <a:lnTo>
                  <a:pt x="1336434" y="141670"/>
                </a:lnTo>
                <a:lnTo>
                  <a:pt x="1296666" y="131765"/>
                </a:lnTo>
                <a:lnTo>
                  <a:pt x="1264874" y="122068"/>
                </a:lnTo>
                <a:lnTo>
                  <a:pt x="1233546" y="113789"/>
                </a:lnTo>
                <a:lnTo>
                  <a:pt x="1201103" y="105810"/>
                </a:lnTo>
                <a:lnTo>
                  <a:pt x="1163531" y="95650"/>
                </a:lnTo>
                <a:lnTo>
                  <a:pt x="1123682" y="87165"/>
                </a:lnTo>
                <a:lnTo>
                  <a:pt x="1081829" y="80088"/>
                </a:lnTo>
                <a:lnTo>
                  <a:pt x="1059555" y="76811"/>
                </a:lnTo>
                <a:lnTo>
                  <a:pt x="1036768" y="73634"/>
                </a:lnTo>
                <a:lnTo>
                  <a:pt x="992929" y="64813"/>
                </a:lnTo>
                <a:lnTo>
                  <a:pt x="950295" y="55270"/>
                </a:lnTo>
                <a:lnTo>
                  <a:pt x="908194" y="47721"/>
                </a:lnTo>
                <a:lnTo>
                  <a:pt x="885260" y="43327"/>
                </a:lnTo>
                <a:lnTo>
                  <a:pt x="861040" y="38413"/>
                </a:lnTo>
                <a:lnTo>
                  <a:pt x="835965" y="33153"/>
                </a:lnTo>
                <a:lnTo>
                  <a:pt x="810317" y="28654"/>
                </a:lnTo>
                <a:lnTo>
                  <a:pt x="784289" y="24662"/>
                </a:lnTo>
                <a:lnTo>
                  <a:pt x="758008" y="21009"/>
                </a:lnTo>
                <a:lnTo>
                  <a:pt x="730565" y="17582"/>
                </a:lnTo>
                <a:lnTo>
                  <a:pt x="702348" y="14304"/>
                </a:lnTo>
                <a:lnTo>
                  <a:pt x="673615" y="11127"/>
                </a:lnTo>
                <a:lnTo>
                  <a:pt x="644538" y="9009"/>
                </a:lnTo>
                <a:lnTo>
                  <a:pt x="615231" y="7597"/>
                </a:lnTo>
                <a:lnTo>
                  <a:pt x="585771" y="6656"/>
                </a:lnTo>
                <a:lnTo>
                  <a:pt x="555218" y="5035"/>
                </a:lnTo>
                <a:lnTo>
                  <a:pt x="523933" y="2964"/>
                </a:lnTo>
                <a:lnTo>
                  <a:pt x="492164" y="589"/>
                </a:lnTo>
                <a:lnTo>
                  <a:pt x="460070" y="0"/>
                </a:lnTo>
                <a:lnTo>
                  <a:pt x="427760" y="598"/>
                </a:lnTo>
                <a:lnTo>
                  <a:pt x="395307" y="1990"/>
                </a:lnTo>
                <a:lnTo>
                  <a:pt x="361764" y="3910"/>
                </a:lnTo>
                <a:lnTo>
                  <a:pt x="327497" y="6182"/>
                </a:lnTo>
                <a:lnTo>
                  <a:pt x="292745" y="8689"/>
                </a:lnTo>
                <a:lnTo>
                  <a:pt x="256679" y="11353"/>
                </a:lnTo>
                <a:lnTo>
                  <a:pt x="219736" y="14120"/>
                </a:lnTo>
                <a:lnTo>
                  <a:pt x="182210" y="16957"/>
                </a:lnTo>
                <a:lnTo>
                  <a:pt x="145286" y="20834"/>
                </a:lnTo>
                <a:lnTo>
                  <a:pt x="108763" y="25403"/>
                </a:lnTo>
                <a:lnTo>
                  <a:pt x="72510" y="30432"/>
                </a:lnTo>
                <a:lnTo>
                  <a:pt x="0" y="4049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SMARTInkShape-280"/>
          <p:cNvSpPr/>
          <p:nvPr/>
        </p:nvSpPr>
        <p:spPr>
          <a:xfrm>
            <a:off x="2795760" y="5419800"/>
            <a:ext cx="677520" cy="108000"/>
          </a:xfrm>
          <a:custGeom>
            <a:avLst/>
            <a:gdLst>
              <a:gd name="textAreaLeft" fmla="*/ 0 w 677520"/>
              <a:gd name="textAreaRight" fmla="*/ 677520 w 6775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678657" h="107158">
                <a:moveTo>
                  <a:pt x="0" y="71438"/>
                </a:moveTo>
                <a:lnTo>
                  <a:pt x="0" y="71438"/>
                </a:lnTo>
                <a:lnTo>
                  <a:pt x="34068" y="71438"/>
                </a:lnTo>
                <a:lnTo>
                  <a:pt x="34618" y="72430"/>
                </a:lnTo>
                <a:lnTo>
                  <a:pt x="35230" y="76177"/>
                </a:lnTo>
                <a:lnTo>
                  <a:pt x="36385" y="77574"/>
                </a:lnTo>
                <a:lnTo>
                  <a:pt x="40314" y="79126"/>
                </a:lnTo>
                <a:lnTo>
                  <a:pt x="83018" y="80363"/>
                </a:lnTo>
                <a:lnTo>
                  <a:pt x="93452" y="81358"/>
                </a:lnTo>
                <a:lnTo>
                  <a:pt x="128095" y="88469"/>
                </a:lnTo>
                <a:lnTo>
                  <a:pt x="169670" y="89249"/>
                </a:lnTo>
                <a:lnTo>
                  <a:pt x="199431" y="90283"/>
                </a:lnTo>
                <a:lnTo>
                  <a:pt x="236141" y="97399"/>
                </a:lnTo>
                <a:lnTo>
                  <a:pt x="278969" y="98154"/>
                </a:lnTo>
                <a:lnTo>
                  <a:pt x="321420" y="98222"/>
                </a:lnTo>
                <a:lnTo>
                  <a:pt x="341960" y="95579"/>
                </a:lnTo>
                <a:lnTo>
                  <a:pt x="383424" y="89848"/>
                </a:lnTo>
                <a:lnTo>
                  <a:pt x="420799" y="89370"/>
                </a:lnTo>
                <a:lnTo>
                  <a:pt x="445819" y="88326"/>
                </a:lnTo>
                <a:lnTo>
                  <a:pt x="483487" y="81612"/>
                </a:lnTo>
                <a:lnTo>
                  <a:pt x="523465" y="80476"/>
                </a:lnTo>
                <a:lnTo>
                  <a:pt x="547607" y="79397"/>
                </a:lnTo>
                <a:lnTo>
                  <a:pt x="583399" y="72267"/>
                </a:lnTo>
                <a:lnTo>
                  <a:pt x="626290" y="71470"/>
                </a:lnTo>
                <a:lnTo>
                  <a:pt x="670224" y="71438"/>
                </a:lnTo>
                <a:lnTo>
                  <a:pt x="678656" y="71438"/>
                </a:lnTo>
                <a:lnTo>
                  <a:pt x="673916" y="66697"/>
                </a:lnTo>
                <a:lnTo>
                  <a:pt x="668943" y="64370"/>
                </a:lnTo>
                <a:lnTo>
                  <a:pt x="648845" y="62617"/>
                </a:lnTo>
                <a:lnTo>
                  <a:pt x="630838" y="67674"/>
                </a:lnTo>
                <a:lnTo>
                  <a:pt x="618958" y="65472"/>
                </a:lnTo>
                <a:lnTo>
                  <a:pt x="574354" y="71148"/>
                </a:lnTo>
                <a:lnTo>
                  <a:pt x="532798" y="71420"/>
                </a:lnTo>
                <a:lnTo>
                  <a:pt x="490949" y="71436"/>
                </a:lnTo>
                <a:lnTo>
                  <a:pt x="454018" y="71438"/>
                </a:lnTo>
                <a:lnTo>
                  <a:pt x="410582" y="71438"/>
                </a:lnTo>
                <a:lnTo>
                  <a:pt x="366093" y="71438"/>
                </a:lnTo>
                <a:lnTo>
                  <a:pt x="321466" y="71438"/>
                </a:lnTo>
                <a:lnTo>
                  <a:pt x="276820" y="71438"/>
                </a:lnTo>
                <a:lnTo>
                  <a:pt x="236362" y="71438"/>
                </a:lnTo>
                <a:lnTo>
                  <a:pt x="198273" y="65301"/>
                </a:lnTo>
                <a:lnTo>
                  <a:pt x="159602" y="62876"/>
                </a:lnTo>
                <a:lnTo>
                  <a:pt x="118583" y="62556"/>
                </a:lnTo>
                <a:lnTo>
                  <a:pt x="74560" y="62510"/>
                </a:lnTo>
                <a:lnTo>
                  <a:pt x="65219" y="65155"/>
                </a:lnTo>
                <a:lnTo>
                  <a:pt x="56767" y="68646"/>
                </a:lnTo>
                <a:lnTo>
                  <a:pt x="17860" y="71438"/>
                </a:lnTo>
                <a:lnTo>
                  <a:pt x="22600" y="71438"/>
                </a:lnTo>
                <a:lnTo>
                  <a:pt x="27573" y="68792"/>
                </a:lnTo>
                <a:lnTo>
                  <a:pt x="34110" y="63750"/>
                </a:lnTo>
                <a:lnTo>
                  <a:pt x="39983" y="62876"/>
                </a:lnTo>
                <a:lnTo>
                  <a:pt x="56993" y="61588"/>
                </a:lnTo>
                <a:lnTo>
                  <a:pt x="74080" y="54829"/>
                </a:lnTo>
                <a:lnTo>
                  <a:pt x="98966" y="51097"/>
                </a:lnTo>
                <a:lnTo>
                  <a:pt x="116305" y="46559"/>
                </a:lnTo>
                <a:lnTo>
                  <a:pt x="154470" y="44816"/>
                </a:lnTo>
                <a:lnTo>
                  <a:pt x="198549" y="44664"/>
                </a:lnTo>
                <a:lnTo>
                  <a:pt x="234248" y="43658"/>
                </a:lnTo>
                <a:lnTo>
                  <a:pt x="276925" y="36547"/>
                </a:lnTo>
                <a:lnTo>
                  <a:pt x="321400" y="35792"/>
                </a:lnTo>
                <a:lnTo>
                  <a:pt x="366034" y="34733"/>
                </a:lnTo>
                <a:lnTo>
                  <a:pt x="410587" y="27341"/>
                </a:lnTo>
                <a:lnTo>
                  <a:pt x="439515" y="25870"/>
                </a:lnTo>
                <a:lnTo>
                  <a:pt x="457271" y="19736"/>
                </a:lnTo>
                <a:lnTo>
                  <a:pt x="491296" y="15378"/>
                </a:lnTo>
                <a:lnTo>
                  <a:pt x="510237" y="10203"/>
                </a:lnTo>
                <a:lnTo>
                  <a:pt x="551758" y="8945"/>
                </a:lnTo>
                <a:lnTo>
                  <a:pt x="560435" y="8932"/>
                </a:lnTo>
                <a:lnTo>
                  <a:pt x="571374" y="109"/>
                </a:lnTo>
                <a:lnTo>
                  <a:pt x="580427" y="0"/>
                </a:lnTo>
                <a:lnTo>
                  <a:pt x="572741" y="7688"/>
                </a:lnTo>
                <a:lnTo>
                  <a:pt x="564616" y="9676"/>
                </a:lnTo>
                <a:lnTo>
                  <a:pt x="556341" y="14994"/>
                </a:lnTo>
                <a:lnTo>
                  <a:pt x="544656" y="17293"/>
                </a:lnTo>
                <a:lnTo>
                  <a:pt x="541698" y="17483"/>
                </a:lnTo>
                <a:lnTo>
                  <a:pt x="535765" y="20337"/>
                </a:lnTo>
                <a:lnTo>
                  <a:pt x="529821" y="23921"/>
                </a:lnTo>
                <a:lnTo>
                  <a:pt x="519904" y="25940"/>
                </a:lnTo>
                <a:lnTo>
                  <a:pt x="505831" y="27530"/>
                </a:lnTo>
                <a:lnTo>
                  <a:pt x="488524" y="34445"/>
                </a:lnTo>
                <a:lnTo>
                  <a:pt x="463608" y="38197"/>
                </a:lnTo>
                <a:lnTo>
                  <a:pt x="446266" y="42737"/>
                </a:lnTo>
                <a:lnTo>
                  <a:pt x="410747" y="47127"/>
                </a:lnTo>
                <a:lnTo>
                  <a:pt x="392901" y="51667"/>
                </a:lnTo>
                <a:lnTo>
                  <a:pt x="350119" y="60478"/>
                </a:lnTo>
                <a:lnTo>
                  <a:pt x="330950" y="64551"/>
                </a:lnTo>
                <a:lnTo>
                  <a:pt x="317745" y="68377"/>
                </a:lnTo>
                <a:lnTo>
                  <a:pt x="276330" y="71034"/>
                </a:lnTo>
                <a:lnTo>
                  <a:pt x="239176" y="78452"/>
                </a:lnTo>
                <a:lnTo>
                  <a:pt x="216388" y="82445"/>
                </a:lnTo>
                <a:lnTo>
                  <a:pt x="176130" y="91340"/>
                </a:lnTo>
                <a:lnTo>
                  <a:pt x="140750" y="97320"/>
                </a:lnTo>
                <a:lnTo>
                  <a:pt x="104254" y="99139"/>
                </a:lnTo>
                <a:lnTo>
                  <a:pt x="68987" y="106786"/>
                </a:lnTo>
                <a:lnTo>
                  <a:pt x="35719" y="107157"/>
                </a:lnTo>
                <a:lnTo>
                  <a:pt x="48148" y="107157"/>
                </a:lnTo>
                <a:lnTo>
                  <a:pt x="53810" y="104511"/>
                </a:lnTo>
                <a:lnTo>
                  <a:pt x="56710" y="102416"/>
                </a:lnTo>
                <a:lnTo>
                  <a:pt x="70271" y="99468"/>
                </a:lnTo>
                <a:lnTo>
                  <a:pt x="85502" y="97480"/>
                </a:lnTo>
                <a:lnTo>
                  <a:pt x="96000" y="92162"/>
                </a:lnTo>
                <a:lnTo>
                  <a:pt x="140044" y="84668"/>
                </a:lnTo>
                <a:lnTo>
                  <a:pt x="180370" y="80744"/>
                </a:lnTo>
                <a:lnTo>
                  <a:pt x="224639" y="72711"/>
                </a:lnTo>
                <a:lnTo>
                  <a:pt x="268075" y="71605"/>
                </a:lnTo>
                <a:lnTo>
                  <a:pt x="312563" y="71460"/>
                </a:lnTo>
                <a:lnTo>
                  <a:pt x="348262" y="68796"/>
                </a:lnTo>
                <a:lnTo>
                  <a:pt x="386770" y="63336"/>
                </a:lnTo>
                <a:lnTo>
                  <a:pt x="428993" y="62617"/>
                </a:lnTo>
                <a:lnTo>
                  <a:pt x="470676" y="62522"/>
                </a:lnTo>
                <a:lnTo>
                  <a:pt x="508834" y="62509"/>
                </a:lnTo>
                <a:lnTo>
                  <a:pt x="547413" y="61516"/>
                </a:lnTo>
                <a:lnTo>
                  <a:pt x="590561" y="53946"/>
                </a:lnTo>
                <a:lnTo>
                  <a:pt x="610028" y="52659"/>
                </a:lnTo>
                <a:lnTo>
                  <a:pt x="627641" y="45899"/>
                </a:lnTo>
                <a:lnTo>
                  <a:pt x="651856" y="44649"/>
                </a:lnTo>
                <a:lnTo>
                  <a:pt x="644178" y="44649"/>
                </a:lnTo>
                <a:lnTo>
                  <a:pt x="636053" y="50785"/>
                </a:lnTo>
                <a:lnTo>
                  <a:pt x="625078" y="5357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SMARTInkShape-281"/>
          <p:cNvSpPr/>
          <p:nvPr/>
        </p:nvSpPr>
        <p:spPr>
          <a:xfrm>
            <a:off x="1785960" y="5848200"/>
            <a:ext cx="2527200" cy="6372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527103" h="62509">
                <a:moveTo>
                  <a:pt x="0" y="0"/>
                </a:moveTo>
                <a:lnTo>
                  <a:pt x="0" y="0"/>
                </a:lnTo>
                <a:lnTo>
                  <a:pt x="25438" y="0"/>
                </a:lnTo>
                <a:lnTo>
                  <a:pt x="34359" y="7688"/>
                </a:lnTo>
                <a:lnTo>
                  <a:pt x="40057" y="8561"/>
                </a:lnTo>
                <a:lnTo>
                  <a:pt x="65520" y="8920"/>
                </a:lnTo>
                <a:lnTo>
                  <a:pt x="71454" y="11571"/>
                </a:lnTo>
                <a:lnTo>
                  <a:pt x="77398" y="15065"/>
                </a:lnTo>
                <a:lnTo>
                  <a:pt x="89299" y="17307"/>
                </a:lnTo>
                <a:lnTo>
                  <a:pt x="133394" y="17855"/>
                </a:lnTo>
                <a:lnTo>
                  <a:pt x="145743" y="17859"/>
                </a:lnTo>
                <a:lnTo>
                  <a:pt x="188888" y="26421"/>
                </a:lnTo>
                <a:lnTo>
                  <a:pt x="230550" y="26780"/>
                </a:lnTo>
                <a:lnTo>
                  <a:pt x="275121" y="26789"/>
                </a:lnTo>
                <a:lnTo>
                  <a:pt x="318873" y="26789"/>
                </a:lnTo>
                <a:lnTo>
                  <a:pt x="362270" y="26789"/>
                </a:lnTo>
                <a:lnTo>
                  <a:pt x="404762" y="26789"/>
                </a:lnTo>
                <a:lnTo>
                  <a:pt x="446482" y="26789"/>
                </a:lnTo>
                <a:lnTo>
                  <a:pt x="483379" y="26789"/>
                </a:lnTo>
                <a:lnTo>
                  <a:pt x="522266" y="26789"/>
                </a:lnTo>
                <a:lnTo>
                  <a:pt x="560497" y="26789"/>
                </a:lnTo>
                <a:lnTo>
                  <a:pt x="599192" y="26789"/>
                </a:lnTo>
                <a:lnTo>
                  <a:pt x="638316" y="26789"/>
                </a:lnTo>
                <a:lnTo>
                  <a:pt x="676578" y="26789"/>
                </a:lnTo>
                <a:lnTo>
                  <a:pt x="715278" y="26789"/>
                </a:lnTo>
                <a:lnTo>
                  <a:pt x="759143" y="26789"/>
                </a:lnTo>
                <a:lnTo>
                  <a:pt x="796620" y="26789"/>
                </a:lnTo>
                <a:lnTo>
                  <a:pt x="838646" y="26789"/>
                </a:lnTo>
                <a:lnTo>
                  <a:pt x="876383" y="26789"/>
                </a:lnTo>
                <a:lnTo>
                  <a:pt x="912858" y="26789"/>
                </a:lnTo>
                <a:lnTo>
                  <a:pt x="928598" y="27781"/>
                </a:lnTo>
                <a:lnTo>
                  <a:pt x="965767" y="34477"/>
                </a:lnTo>
                <a:lnTo>
                  <a:pt x="1002166" y="35555"/>
                </a:lnTo>
                <a:lnTo>
                  <a:pt x="1046815" y="35704"/>
                </a:lnTo>
                <a:lnTo>
                  <a:pt x="1088817" y="35718"/>
                </a:lnTo>
                <a:lnTo>
                  <a:pt x="1131059" y="35719"/>
                </a:lnTo>
                <a:lnTo>
                  <a:pt x="1172764" y="35719"/>
                </a:lnTo>
                <a:lnTo>
                  <a:pt x="1217084" y="35719"/>
                </a:lnTo>
                <a:lnTo>
                  <a:pt x="1258535" y="35719"/>
                </a:lnTo>
                <a:lnTo>
                  <a:pt x="1295908" y="35719"/>
                </a:lnTo>
                <a:lnTo>
                  <a:pt x="1339599" y="35719"/>
                </a:lnTo>
                <a:lnTo>
                  <a:pt x="1362927" y="36711"/>
                </a:lnTo>
                <a:lnTo>
                  <a:pt x="1404255" y="43821"/>
                </a:lnTo>
                <a:lnTo>
                  <a:pt x="1446570" y="44600"/>
                </a:lnTo>
                <a:lnTo>
                  <a:pt x="1489393" y="44644"/>
                </a:lnTo>
                <a:lnTo>
                  <a:pt x="1532821" y="44648"/>
                </a:lnTo>
                <a:lnTo>
                  <a:pt x="1574595" y="44648"/>
                </a:lnTo>
                <a:lnTo>
                  <a:pt x="1619085" y="44648"/>
                </a:lnTo>
                <a:lnTo>
                  <a:pt x="1662621" y="44648"/>
                </a:lnTo>
                <a:lnTo>
                  <a:pt x="1705004" y="44648"/>
                </a:lnTo>
                <a:lnTo>
                  <a:pt x="1747241" y="44648"/>
                </a:lnTo>
                <a:lnTo>
                  <a:pt x="1791063" y="44648"/>
                </a:lnTo>
                <a:lnTo>
                  <a:pt x="1832666" y="44648"/>
                </a:lnTo>
                <a:lnTo>
                  <a:pt x="1872589" y="44648"/>
                </a:lnTo>
                <a:lnTo>
                  <a:pt x="1913425" y="44648"/>
                </a:lnTo>
                <a:lnTo>
                  <a:pt x="1956218" y="44648"/>
                </a:lnTo>
                <a:lnTo>
                  <a:pt x="1998894" y="44648"/>
                </a:lnTo>
                <a:lnTo>
                  <a:pt x="2042987" y="44648"/>
                </a:lnTo>
                <a:lnTo>
                  <a:pt x="2083756" y="44648"/>
                </a:lnTo>
                <a:lnTo>
                  <a:pt x="2127842" y="44648"/>
                </a:lnTo>
                <a:lnTo>
                  <a:pt x="2172004" y="44648"/>
                </a:lnTo>
                <a:lnTo>
                  <a:pt x="2189399" y="44648"/>
                </a:lnTo>
                <a:lnTo>
                  <a:pt x="2196103" y="42003"/>
                </a:lnTo>
                <a:lnTo>
                  <a:pt x="2199280" y="39908"/>
                </a:lnTo>
                <a:lnTo>
                  <a:pt x="2213231" y="36960"/>
                </a:lnTo>
                <a:lnTo>
                  <a:pt x="2255332" y="35741"/>
                </a:lnTo>
                <a:lnTo>
                  <a:pt x="2297528" y="35719"/>
                </a:lnTo>
                <a:lnTo>
                  <a:pt x="2315732" y="35719"/>
                </a:lnTo>
                <a:lnTo>
                  <a:pt x="2321704" y="38364"/>
                </a:lnTo>
                <a:lnTo>
                  <a:pt x="2327665" y="41855"/>
                </a:lnTo>
                <a:lnTo>
                  <a:pt x="2339577" y="44097"/>
                </a:lnTo>
                <a:lnTo>
                  <a:pt x="2384064" y="44644"/>
                </a:lnTo>
                <a:lnTo>
                  <a:pt x="2422922" y="44648"/>
                </a:lnTo>
                <a:lnTo>
                  <a:pt x="2428875" y="47294"/>
                </a:lnTo>
                <a:lnTo>
                  <a:pt x="2434829" y="50785"/>
                </a:lnTo>
                <a:lnTo>
                  <a:pt x="2446734" y="53027"/>
                </a:lnTo>
                <a:lnTo>
                  <a:pt x="2467570" y="53546"/>
                </a:lnTo>
                <a:lnTo>
                  <a:pt x="2473524" y="56210"/>
                </a:lnTo>
                <a:lnTo>
                  <a:pt x="2479477" y="59708"/>
                </a:lnTo>
                <a:lnTo>
                  <a:pt x="2491383" y="61955"/>
                </a:lnTo>
                <a:lnTo>
                  <a:pt x="2527102" y="6250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SMARTInkShape-282"/>
          <p:cNvSpPr/>
          <p:nvPr/>
        </p:nvSpPr>
        <p:spPr>
          <a:xfrm>
            <a:off x="4554360" y="5492880"/>
            <a:ext cx="2616480" cy="534960"/>
          </a:xfrm>
          <a:custGeom>
            <a:avLst/>
            <a:gdLst>
              <a:gd name="textAreaLeft" fmla="*/ 0 w 2616480"/>
              <a:gd name="textAreaRight" fmla="*/ 2616840 w 26164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616203" h="535404">
                <a:moveTo>
                  <a:pt x="294530" y="392528"/>
                </a:moveTo>
                <a:lnTo>
                  <a:pt x="294530" y="392528"/>
                </a:lnTo>
                <a:lnTo>
                  <a:pt x="302218" y="400216"/>
                </a:lnTo>
                <a:lnTo>
                  <a:pt x="307832" y="401089"/>
                </a:lnTo>
                <a:lnTo>
                  <a:pt x="349855" y="401455"/>
                </a:lnTo>
                <a:lnTo>
                  <a:pt x="392580" y="410223"/>
                </a:lnTo>
                <a:lnTo>
                  <a:pt x="435335" y="410387"/>
                </a:lnTo>
                <a:lnTo>
                  <a:pt x="476532" y="410387"/>
                </a:lnTo>
                <a:lnTo>
                  <a:pt x="493625" y="410387"/>
                </a:lnTo>
                <a:lnTo>
                  <a:pt x="535851" y="418765"/>
                </a:lnTo>
                <a:lnTo>
                  <a:pt x="577316" y="419285"/>
                </a:lnTo>
                <a:lnTo>
                  <a:pt x="617580" y="419317"/>
                </a:lnTo>
                <a:lnTo>
                  <a:pt x="656428" y="420309"/>
                </a:lnTo>
                <a:lnTo>
                  <a:pt x="684428" y="427419"/>
                </a:lnTo>
                <a:lnTo>
                  <a:pt x="723327" y="428198"/>
                </a:lnTo>
                <a:lnTo>
                  <a:pt x="764838" y="428244"/>
                </a:lnTo>
                <a:lnTo>
                  <a:pt x="797240" y="425601"/>
                </a:lnTo>
                <a:lnTo>
                  <a:pt x="838598" y="420145"/>
                </a:lnTo>
                <a:lnTo>
                  <a:pt x="876247" y="419426"/>
                </a:lnTo>
                <a:lnTo>
                  <a:pt x="919777" y="419331"/>
                </a:lnTo>
                <a:lnTo>
                  <a:pt x="959135" y="419318"/>
                </a:lnTo>
                <a:lnTo>
                  <a:pt x="996024" y="416671"/>
                </a:lnTo>
                <a:lnTo>
                  <a:pt x="1027748" y="411629"/>
                </a:lnTo>
                <a:lnTo>
                  <a:pt x="1064474" y="410551"/>
                </a:lnTo>
                <a:lnTo>
                  <a:pt x="1107393" y="410409"/>
                </a:lnTo>
                <a:lnTo>
                  <a:pt x="1151814" y="410389"/>
                </a:lnTo>
                <a:lnTo>
                  <a:pt x="1193787" y="410387"/>
                </a:lnTo>
                <a:lnTo>
                  <a:pt x="1232975" y="410387"/>
                </a:lnTo>
                <a:lnTo>
                  <a:pt x="1272164" y="410387"/>
                </a:lnTo>
                <a:lnTo>
                  <a:pt x="1313081" y="410387"/>
                </a:lnTo>
                <a:lnTo>
                  <a:pt x="1348345" y="410387"/>
                </a:lnTo>
                <a:lnTo>
                  <a:pt x="1390110" y="410387"/>
                </a:lnTo>
                <a:lnTo>
                  <a:pt x="1428053" y="410387"/>
                </a:lnTo>
                <a:lnTo>
                  <a:pt x="1464211" y="410387"/>
                </a:lnTo>
                <a:lnTo>
                  <a:pt x="1501009" y="410387"/>
                </a:lnTo>
                <a:lnTo>
                  <a:pt x="1542820" y="410387"/>
                </a:lnTo>
                <a:lnTo>
                  <a:pt x="1580037" y="410387"/>
                </a:lnTo>
                <a:lnTo>
                  <a:pt x="1617044" y="410387"/>
                </a:lnTo>
                <a:lnTo>
                  <a:pt x="1658895" y="410387"/>
                </a:lnTo>
                <a:lnTo>
                  <a:pt x="1687005" y="413033"/>
                </a:lnTo>
                <a:lnTo>
                  <a:pt x="1727909" y="418075"/>
                </a:lnTo>
                <a:lnTo>
                  <a:pt x="1767079" y="419072"/>
                </a:lnTo>
                <a:lnTo>
                  <a:pt x="1806125" y="421914"/>
                </a:lnTo>
                <a:lnTo>
                  <a:pt x="1847022" y="426996"/>
                </a:lnTo>
                <a:lnTo>
                  <a:pt x="1883763" y="427999"/>
                </a:lnTo>
                <a:lnTo>
                  <a:pt x="1922330" y="428197"/>
                </a:lnTo>
                <a:lnTo>
                  <a:pt x="1963131" y="428237"/>
                </a:lnTo>
                <a:lnTo>
                  <a:pt x="2000846" y="428245"/>
                </a:lnTo>
                <a:lnTo>
                  <a:pt x="2042838" y="428246"/>
                </a:lnTo>
                <a:lnTo>
                  <a:pt x="2084830" y="428246"/>
                </a:lnTo>
                <a:lnTo>
                  <a:pt x="2119573" y="428246"/>
                </a:lnTo>
                <a:lnTo>
                  <a:pt x="2155003" y="428246"/>
                </a:lnTo>
                <a:lnTo>
                  <a:pt x="2190637" y="423506"/>
                </a:lnTo>
                <a:lnTo>
                  <a:pt x="2226329" y="420559"/>
                </a:lnTo>
                <a:lnTo>
                  <a:pt x="2262040" y="414944"/>
                </a:lnTo>
                <a:lnTo>
                  <a:pt x="2303526" y="405151"/>
                </a:lnTo>
                <a:lnTo>
                  <a:pt x="2346265" y="399541"/>
                </a:lnTo>
                <a:lnTo>
                  <a:pt x="2383663" y="389172"/>
                </a:lnTo>
                <a:lnTo>
                  <a:pt x="2426024" y="381686"/>
                </a:lnTo>
                <a:lnTo>
                  <a:pt x="2464272" y="368463"/>
                </a:lnTo>
                <a:lnTo>
                  <a:pt x="2485338" y="360703"/>
                </a:lnTo>
                <a:lnTo>
                  <a:pt x="2529019" y="350023"/>
                </a:lnTo>
                <a:lnTo>
                  <a:pt x="2571546" y="329971"/>
                </a:lnTo>
                <a:lnTo>
                  <a:pt x="2590661" y="318104"/>
                </a:lnTo>
                <a:lnTo>
                  <a:pt x="2610140" y="300253"/>
                </a:lnTo>
                <a:lnTo>
                  <a:pt x="2613534" y="294301"/>
                </a:lnTo>
                <a:lnTo>
                  <a:pt x="2615713" y="282395"/>
                </a:lnTo>
                <a:lnTo>
                  <a:pt x="2616202" y="264536"/>
                </a:lnTo>
                <a:lnTo>
                  <a:pt x="2613583" y="258582"/>
                </a:lnTo>
                <a:lnTo>
                  <a:pt x="2591340" y="228633"/>
                </a:lnTo>
                <a:lnTo>
                  <a:pt x="2553503" y="205168"/>
                </a:lnTo>
                <a:lnTo>
                  <a:pt x="2535811" y="193477"/>
                </a:lnTo>
                <a:lnTo>
                  <a:pt x="2522952" y="184006"/>
                </a:lnTo>
                <a:lnTo>
                  <a:pt x="2481777" y="166680"/>
                </a:lnTo>
                <a:lnTo>
                  <a:pt x="2440344" y="154476"/>
                </a:lnTo>
                <a:lnTo>
                  <a:pt x="2399821" y="142511"/>
                </a:lnTo>
                <a:lnTo>
                  <a:pt x="2365591" y="133571"/>
                </a:lnTo>
                <a:lnTo>
                  <a:pt x="2327667" y="124638"/>
                </a:lnTo>
                <a:lnTo>
                  <a:pt x="2285011" y="115707"/>
                </a:lnTo>
                <a:lnTo>
                  <a:pt x="2254719" y="109754"/>
                </a:lnTo>
                <a:lnTo>
                  <a:pt x="2221413" y="103802"/>
                </a:lnTo>
                <a:lnTo>
                  <a:pt x="2189412" y="97848"/>
                </a:lnTo>
                <a:lnTo>
                  <a:pt x="2157661" y="91895"/>
                </a:lnTo>
                <a:lnTo>
                  <a:pt x="2123705" y="85942"/>
                </a:lnTo>
                <a:lnTo>
                  <a:pt x="2088770" y="79989"/>
                </a:lnTo>
                <a:lnTo>
                  <a:pt x="2053399" y="74035"/>
                </a:lnTo>
                <a:lnTo>
                  <a:pt x="2017835" y="68083"/>
                </a:lnTo>
                <a:lnTo>
                  <a:pt x="1979540" y="64775"/>
                </a:lnTo>
                <a:lnTo>
                  <a:pt x="1939368" y="62313"/>
                </a:lnTo>
                <a:lnTo>
                  <a:pt x="1898364" y="57911"/>
                </a:lnTo>
                <a:lnTo>
                  <a:pt x="1859634" y="55293"/>
                </a:lnTo>
                <a:lnTo>
                  <a:pt x="1821585" y="53138"/>
                </a:lnTo>
                <a:lnTo>
                  <a:pt x="1781523" y="48873"/>
                </a:lnTo>
                <a:lnTo>
                  <a:pt x="1743213" y="46316"/>
                </a:lnTo>
                <a:lnTo>
                  <a:pt x="1705350" y="44187"/>
                </a:lnTo>
                <a:lnTo>
                  <a:pt x="1665372" y="39934"/>
                </a:lnTo>
                <a:lnTo>
                  <a:pt x="1624451" y="34736"/>
                </a:lnTo>
                <a:lnTo>
                  <a:pt x="1583114" y="30111"/>
                </a:lnTo>
                <a:lnTo>
                  <a:pt x="1541591" y="28055"/>
                </a:lnTo>
                <a:lnTo>
                  <a:pt x="1502630" y="24495"/>
                </a:lnTo>
                <a:lnTo>
                  <a:pt x="1463487" y="20598"/>
                </a:lnTo>
                <a:lnTo>
                  <a:pt x="1419632" y="18867"/>
                </a:lnTo>
                <a:lnTo>
                  <a:pt x="1376328" y="15450"/>
                </a:lnTo>
                <a:lnTo>
                  <a:pt x="1333931" y="11618"/>
                </a:lnTo>
                <a:lnTo>
                  <a:pt x="1291937" y="9914"/>
                </a:lnTo>
                <a:lnTo>
                  <a:pt x="1247476" y="9157"/>
                </a:lnTo>
                <a:lnTo>
                  <a:pt x="1224507" y="8955"/>
                </a:lnTo>
                <a:lnTo>
                  <a:pt x="1180465" y="6085"/>
                </a:lnTo>
                <a:lnTo>
                  <a:pt x="1137740" y="2494"/>
                </a:lnTo>
                <a:lnTo>
                  <a:pt x="1095600" y="898"/>
                </a:lnTo>
                <a:lnTo>
                  <a:pt x="1072655" y="473"/>
                </a:lnTo>
                <a:lnTo>
                  <a:pt x="1048428" y="189"/>
                </a:lnTo>
                <a:lnTo>
                  <a:pt x="1023347" y="0"/>
                </a:lnTo>
                <a:lnTo>
                  <a:pt x="999681" y="866"/>
                </a:lnTo>
                <a:lnTo>
                  <a:pt x="976960" y="2436"/>
                </a:lnTo>
                <a:lnTo>
                  <a:pt x="934184" y="5833"/>
                </a:lnTo>
                <a:lnTo>
                  <a:pt x="895328" y="7343"/>
                </a:lnTo>
                <a:lnTo>
                  <a:pt x="855569" y="8014"/>
                </a:lnTo>
                <a:lnTo>
                  <a:pt x="814748" y="9305"/>
                </a:lnTo>
                <a:lnTo>
                  <a:pt x="773455" y="13185"/>
                </a:lnTo>
                <a:lnTo>
                  <a:pt x="734596" y="15571"/>
                </a:lnTo>
                <a:lnTo>
                  <a:pt x="696490" y="16633"/>
                </a:lnTo>
                <a:lnTo>
                  <a:pt x="656403" y="17104"/>
                </a:lnTo>
                <a:lnTo>
                  <a:pt x="615435" y="19959"/>
                </a:lnTo>
                <a:lnTo>
                  <a:pt x="575068" y="23543"/>
                </a:lnTo>
                <a:lnTo>
                  <a:pt x="537284" y="25137"/>
                </a:lnTo>
                <a:lnTo>
                  <a:pt x="498002" y="25844"/>
                </a:lnTo>
                <a:lnTo>
                  <a:pt x="458384" y="27152"/>
                </a:lnTo>
                <a:lnTo>
                  <a:pt x="420932" y="31040"/>
                </a:lnTo>
                <a:lnTo>
                  <a:pt x="384443" y="36075"/>
                </a:lnTo>
                <a:lnTo>
                  <a:pt x="349374" y="41620"/>
                </a:lnTo>
                <a:lnTo>
                  <a:pt x="317251" y="47391"/>
                </a:lnTo>
                <a:lnTo>
                  <a:pt x="286439" y="53264"/>
                </a:lnTo>
                <a:lnTo>
                  <a:pt x="256207" y="60173"/>
                </a:lnTo>
                <a:lnTo>
                  <a:pt x="212288" y="74228"/>
                </a:lnTo>
                <a:lnTo>
                  <a:pt x="173699" y="86109"/>
                </a:lnTo>
                <a:lnTo>
                  <a:pt x="138123" y="100764"/>
                </a:lnTo>
                <a:lnTo>
                  <a:pt x="98931" y="117754"/>
                </a:lnTo>
                <a:lnTo>
                  <a:pt x="54288" y="148960"/>
                </a:lnTo>
                <a:lnTo>
                  <a:pt x="29785" y="162846"/>
                </a:lnTo>
                <a:lnTo>
                  <a:pt x="25760" y="166976"/>
                </a:lnTo>
                <a:lnTo>
                  <a:pt x="3680" y="208903"/>
                </a:lnTo>
                <a:lnTo>
                  <a:pt x="0" y="252694"/>
                </a:lnTo>
                <a:lnTo>
                  <a:pt x="872" y="278843"/>
                </a:lnTo>
                <a:lnTo>
                  <a:pt x="17944" y="321056"/>
                </a:lnTo>
                <a:lnTo>
                  <a:pt x="29355" y="338939"/>
                </a:lnTo>
                <a:lnTo>
                  <a:pt x="68470" y="380621"/>
                </a:lnTo>
                <a:lnTo>
                  <a:pt x="107812" y="403320"/>
                </a:lnTo>
                <a:lnTo>
                  <a:pt x="136680" y="417223"/>
                </a:lnTo>
                <a:lnTo>
                  <a:pt x="170369" y="430271"/>
                </a:lnTo>
                <a:lnTo>
                  <a:pt x="205487" y="444060"/>
                </a:lnTo>
                <a:lnTo>
                  <a:pt x="241027" y="454429"/>
                </a:lnTo>
                <a:lnTo>
                  <a:pt x="281984" y="466431"/>
                </a:lnTo>
                <a:lnTo>
                  <a:pt x="313759" y="474983"/>
                </a:lnTo>
                <a:lnTo>
                  <a:pt x="344417" y="478783"/>
                </a:lnTo>
                <a:lnTo>
                  <a:pt x="377226" y="485765"/>
                </a:lnTo>
                <a:lnTo>
                  <a:pt x="412643" y="493497"/>
                </a:lnTo>
                <a:lnTo>
                  <a:pt x="451535" y="496935"/>
                </a:lnTo>
                <a:lnTo>
                  <a:pt x="491971" y="501107"/>
                </a:lnTo>
                <a:lnTo>
                  <a:pt x="534087" y="505278"/>
                </a:lnTo>
                <a:lnTo>
                  <a:pt x="556430" y="506390"/>
                </a:lnTo>
                <a:lnTo>
                  <a:pt x="579262" y="507131"/>
                </a:lnTo>
                <a:lnTo>
                  <a:pt x="602422" y="508617"/>
                </a:lnTo>
                <a:lnTo>
                  <a:pt x="625799" y="510600"/>
                </a:lnTo>
                <a:lnTo>
                  <a:pt x="649321" y="512915"/>
                </a:lnTo>
                <a:lnTo>
                  <a:pt x="673932" y="514457"/>
                </a:lnTo>
                <a:lnTo>
                  <a:pt x="699270" y="515486"/>
                </a:lnTo>
                <a:lnTo>
                  <a:pt x="725090" y="516172"/>
                </a:lnTo>
                <a:lnTo>
                  <a:pt x="751234" y="517621"/>
                </a:lnTo>
                <a:lnTo>
                  <a:pt x="777593" y="519580"/>
                </a:lnTo>
                <a:lnTo>
                  <a:pt x="804096" y="521878"/>
                </a:lnTo>
                <a:lnTo>
                  <a:pt x="832678" y="523410"/>
                </a:lnTo>
                <a:lnTo>
                  <a:pt x="862646" y="524430"/>
                </a:lnTo>
                <a:lnTo>
                  <a:pt x="893540" y="525112"/>
                </a:lnTo>
                <a:lnTo>
                  <a:pt x="926042" y="526557"/>
                </a:lnTo>
                <a:lnTo>
                  <a:pt x="959616" y="528514"/>
                </a:lnTo>
                <a:lnTo>
                  <a:pt x="993905" y="530810"/>
                </a:lnTo>
                <a:lnTo>
                  <a:pt x="1062483" y="53540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SMARTInkShape-283"/>
          <p:cNvSpPr/>
          <p:nvPr/>
        </p:nvSpPr>
        <p:spPr>
          <a:xfrm>
            <a:off x="5037120" y="6348240"/>
            <a:ext cx="3330720" cy="54000"/>
          </a:xfrm>
          <a:custGeom>
            <a:avLst/>
            <a:gdLst>
              <a:gd name="textAreaLeft" fmla="*/ 0 w 3330720"/>
              <a:gd name="textAreaRight" fmla="*/ 3331080 w 33307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330773" h="53580">
                <a:moveTo>
                  <a:pt x="0" y="0"/>
                </a:moveTo>
                <a:lnTo>
                  <a:pt x="0" y="0"/>
                </a:lnTo>
                <a:lnTo>
                  <a:pt x="4739" y="0"/>
                </a:lnTo>
                <a:lnTo>
                  <a:pt x="9713" y="2646"/>
                </a:lnTo>
                <a:lnTo>
                  <a:pt x="15231" y="6137"/>
                </a:lnTo>
                <a:lnTo>
                  <a:pt x="23915" y="9095"/>
                </a:lnTo>
                <a:lnTo>
                  <a:pt x="32772" y="14822"/>
                </a:lnTo>
                <a:lnTo>
                  <a:pt x="64244" y="25430"/>
                </a:lnTo>
                <a:lnTo>
                  <a:pt x="108491" y="26754"/>
                </a:lnTo>
                <a:lnTo>
                  <a:pt x="151972" y="26789"/>
                </a:lnTo>
                <a:lnTo>
                  <a:pt x="163785" y="25797"/>
                </a:lnTo>
                <a:lnTo>
                  <a:pt x="199436" y="18688"/>
                </a:lnTo>
                <a:lnTo>
                  <a:pt x="241285" y="17933"/>
                </a:lnTo>
                <a:lnTo>
                  <a:pt x="280544" y="17866"/>
                </a:lnTo>
                <a:lnTo>
                  <a:pt x="321958" y="17860"/>
                </a:lnTo>
                <a:lnTo>
                  <a:pt x="359113" y="17860"/>
                </a:lnTo>
                <a:lnTo>
                  <a:pt x="402088" y="18852"/>
                </a:lnTo>
                <a:lnTo>
                  <a:pt x="446518" y="25548"/>
                </a:lnTo>
                <a:lnTo>
                  <a:pt x="491137" y="26626"/>
                </a:lnTo>
                <a:lnTo>
                  <a:pt x="535781" y="26768"/>
                </a:lnTo>
                <a:lnTo>
                  <a:pt x="574145" y="26785"/>
                </a:lnTo>
                <a:lnTo>
                  <a:pt x="618113" y="26789"/>
                </a:lnTo>
                <a:lnTo>
                  <a:pt x="654901" y="26789"/>
                </a:lnTo>
                <a:lnTo>
                  <a:pt x="695351" y="26789"/>
                </a:lnTo>
                <a:lnTo>
                  <a:pt x="732004" y="26789"/>
                </a:lnTo>
                <a:lnTo>
                  <a:pt x="770553" y="26789"/>
                </a:lnTo>
                <a:lnTo>
                  <a:pt x="811350" y="22049"/>
                </a:lnTo>
                <a:lnTo>
                  <a:pt x="854210" y="18688"/>
                </a:lnTo>
                <a:lnTo>
                  <a:pt x="892367" y="20669"/>
                </a:lnTo>
                <a:lnTo>
                  <a:pt x="933309" y="25580"/>
                </a:lnTo>
                <a:lnTo>
                  <a:pt x="967870" y="26431"/>
                </a:lnTo>
                <a:lnTo>
                  <a:pt x="1008966" y="26719"/>
                </a:lnTo>
                <a:lnTo>
                  <a:pt x="1042652" y="26769"/>
                </a:lnTo>
                <a:lnTo>
                  <a:pt x="1086944" y="26786"/>
                </a:lnTo>
                <a:lnTo>
                  <a:pt x="1124651" y="26789"/>
                </a:lnTo>
                <a:lnTo>
                  <a:pt x="1167891" y="26789"/>
                </a:lnTo>
                <a:lnTo>
                  <a:pt x="1212004" y="29435"/>
                </a:lnTo>
                <a:lnTo>
                  <a:pt x="1254415" y="34478"/>
                </a:lnTo>
                <a:lnTo>
                  <a:pt x="1289231" y="35351"/>
                </a:lnTo>
                <a:lnTo>
                  <a:pt x="1331406" y="29509"/>
                </a:lnTo>
                <a:lnTo>
                  <a:pt x="1368268" y="28588"/>
                </a:lnTo>
                <a:lnTo>
                  <a:pt x="1411352" y="34585"/>
                </a:lnTo>
                <a:lnTo>
                  <a:pt x="1453829" y="35495"/>
                </a:lnTo>
                <a:lnTo>
                  <a:pt x="1488657" y="34661"/>
                </a:lnTo>
                <a:lnTo>
                  <a:pt x="1524111" y="30556"/>
                </a:lnTo>
                <a:lnTo>
                  <a:pt x="1558759" y="33748"/>
                </a:lnTo>
                <a:lnTo>
                  <a:pt x="1600282" y="35329"/>
                </a:lnTo>
                <a:lnTo>
                  <a:pt x="1641666" y="35642"/>
                </a:lnTo>
                <a:lnTo>
                  <a:pt x="1684642" y="35704"/>
                </a:lnTo>
                <a:lnTo>
                  <a:pt x="1725469" y="35716"/>
                </a:lnTo>
                <a:lnTo>
                  <a:pt x="1766716" y="35718"/>
                </a:lnTo>
                <a:lnTo>
                  <a:pt x="1804519" y="35719"/>
                </a:lnTo>
                <a:lnTo>
                  <a:pt x="1846530" y="35719"/>
                </a:lnTo>
                <a:lnTo>
                  <a:pt x="1888526" y="35719"/>
                </a:lnTo>
                <a:lnTo>
                  <a:pt x="1928901" y="35719"/>
                </a:lnTo>
                <a:lnTo>
                  <a:pt x="1971421" y="35719"/>
                </a:lnTo>
                <a:lnTo>
                  <a:pt x="2013517" y="35719"/>
                </a:lnTo>
                <a:lnTo>
                  <a:pt x="2052920" y="35719"/>
                </a:lnTo>
                <a:lnTo>
                  <a:pt x="2092012" y="35719"/>
                </a:lnTo>
                <a:lnTo>
                  <a:pt x="2132918" y="35719"/>
                </a:lnTo>
                <a:lnTo>
                  <a:pt x="2170654" y="35719"/>
                </a:lnTo>
                <a:lnTo>
                  <a:pt x="2212650" y="38365"/>
                </a:lnTo>
                <a:lnTo>
                  <a:pt x="2254644" y="43407"/>
                </a:lnTo>
                <a:lnTo>
                  <a:pt x="2295019" y="44404"/>
                </a:lnTo>
                <a:lnTo>
                  <a:pt x="2334892" y="44601"/>
                </a:lnTo>
                <a:lnTo>
                  <a:pt x="2371945" y="49380"/>
                </a:lnTo>
                <a:lnTo>
                  <a:pt x="2416489" y="52750"/>
                </a:lnTo>
                <a:lnTo>
                  <a:pt x="2454981" y="53415"/>
                </a:lnTo>
                <a:lnTo>
                  <a:pt x="2495988" y="53546"/>
                </a:lnTo>
                <a:lnTo>
                  <a:pt x="2535176" y="53572"/>
                </a:lnTo>
                <a:lnTo>
                  <a:pt x="2574226" y="53578"/>
                </a:lnTo>
                <a:lnTo>
                  <a:pt x="2615123" y="53579"/>
                </a:lnTo>
                <a:lnTo>
                  <a:pt x="2651865" y="52587"/>
                </a:lnTo>
                <a:lnTo>
                  <a:pt x="2687785" y="46511"/>
                </a:lnTo>
                <a:lnTo>
                  <a:pt x="2723544" y="45017"/>
                </a:lnTo>
                <a:lnTo>
                  <a:pt x="2759271" y="44722"/>
                </a:lnTo>
                <a:lnTo>
                  <a:pt x="2797638" y="44664"/>
                </a:lnTo>
                <a:lnTo>
                  <a:pt x="2838399" y="44651"/>
                </a:lnTo>
                <a:lnTo>
                  <a:pt x="2875113" y="44649"/>
                </a:lnTo>
                <a:lnTo>
                  <a:pt x="2908384" y="42003"/>
                </a:lnTo>
                <a:lnTo>
                  <a:pt x="2933431" y="37581"/>
                </a:lnTo>
                <a:lnTo>
                  <a:pt x="2972709" y="36087"/>
                </a:lnTo>
                <a:lnTo>
                  <a:pt x="3009131" y="35792"/>
                </a:lnTo>
                <a:lnTo>
                  <a:pt x="3049190" y="35729"/>
                </a:lnTo>
                <a:lnTo>
                  <a:pt x="3087701" y="36713"/>
                </a:lnTo>
                <a:lnTo>
                  <a:pt x="3115875" y="40864"/>
                </a:lnTo>
                <a:lnTo>
                  <a:pt x="3154710" y="37030"/>
                </a:lnTo>
                <a:lnTo>
                  <a:pt x="3195563" y="35978"/>
                </a:lnTo>
                <a:lnTo>
                  <a:pt x="3238434" y="35770"/>
                </a:lnTo>
                <a:lnTo>
                  <a:pt x="3273948" y="33084"/>
                </a:lnTo>
                <a:lnTo>
                  <a:pt x="3306534" y="27618"/>
                </a:lnTo>
                <a:lnTo>
                  <a:pt x="3330772" y="2678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SMARTInkShape-284"/>
          <p:cNvSpPr/>
          <p:nvPr/>
        </p:nvSpPr>
        <p:spPr>
          <a:xfrm>
            <a:off x="1393920" y="6697800"/>
            <a:ext cx="1436760" cy="4428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437648" h="44649">
                <a:moveTo>
                  <a:pt x="62475" y="8930"/>
                </a:moveTo>
                <a:lnTo>
                  <a:pt x="62475" y="8930"/>
                </a:lnTo>
                <a:lnTo>
                  <a:pt x="54354" y="16059"/>
                </a:lnTo>
                <a:lnTo>
                  <a:pt x="41107" y="23169"/>
                </a:lnTo>
                <a:lnTo>
                  <a:pt x="30457" y="26708"/>
                </a:lnTo>
                <a:lnTo>
                  <a:pt x="21018" y="32608"/>
                </a:lnTo>
                <a:lnTo>
                  <a:pt x="8943" y="35709"/>
                </a:lnTo>
                <a:lnTo>
                  <a:pt x="0" y="35719"/>
                </a:lnTo>
                <a:lnTo>
                  <a:pt x="7659" y="43407"/>
                </a:lnTo>
                <a:lnTo>
                  <a:pt x="13270" y="44281"/>
                </a:lnTo>
                <a:lnTo>
                  <a:pt x="56525" y="44648"/>
                </a:lnTo>
                <a:lnTo>
                  <a:pt x="99929" y="44648"/>
                </a:lnTo>
                <a:lnTo>
                  <a:pt x="141229" y="36088"/>
                </a:lnTo>
                <a:lnTo>
                  <a:pt x="163948" y="34799"/>
                </a:lnTo>
                <a:lnTo>
                  <a:pt x="205558" y="27623"/>
                </a:lnTo>
                <a:lnTo>
                  <a:pt x="244794" y="26863"/>
                </a:lnTo>
                <a:lnTo>
                  <a:pt x="267969" y="25818"/>
                </a:lnTo>
                <a:lnTo>
                  <a:pt x="312439" y="18689"/>
                </a:lnTo>
                <a:lnTo>
                  <a:pt x="357071" y="17933"/>
                </a:lnTo>
                <a:lnTo>
                  <a:pt x="401718" y="17866"/>
                </a:lnTo>
                <a:lnTo>
                  <a:pt x="438883" y="17860"/>
                </a:lnTo>
                <a:lnTo>
                  <a:pt x="472517" y="16868"/>
                </a:lnTo>
                <a:lnTo>
                  <a:pt x="510236" y="10171"/>
                </a:lnTo>
                <a:lnTo>
                  <a:pt x="551130" y="9094"/>
                </a:lnTo>
                <a:lnTo>
                  <a:pt x="590176" y="8952"/>
                </a:lnTo>
                <a:lnTo>
                  <a:pt x="629346" y="8933"/>
                </a:lnTo>
                <a:lnTo>
                  <a:pt x="666758" y="8930"/>
                </a:lnTo>
                <a:lnTo>
                  <a:pt x="706398" y="8930"/>
                </a:lnTo>
                <a:lnTo>
                  <a:pt x="750191" y="8930"/>
                </a:lnTo>
                <a:lnTo>
                  <a:pt x="793734" y="8930"/>
                </a:lnTo>
                <a:lnTo>
                  <a:pt x="831672" y="8930"/>
                </a:lnTo>
                <a:lnTo>
                  <a:pt x="875240" y="8930"/>
                </a:lnTo>
                <a:lnTo>
                  <a:pt x="919747" y="9922"/>
                </a:lnTo>
                <a:lnTo>
                  <a:pt x="959636" y="16618"/>
                </a:lnTo>
                <a:lnTo>
                  <a:pt x="1000644" y="17696"/>
                </a:lnTo>
                <a:lnTo>
                  <a:pt x="1038677" y="17838"/>
                </a:lnTo>
                <a:lnTo>
                  <a:pt x="1076097" y="17857"/>
                </a:lnTo>
                <a:lnTo>
                  <a:pt x="1114134" y="17859"/>
                </a:lnTo>
                <a:lnTo>
                  <a:pt x="1151811" y="17859"/>
                </a:lnTo>
                <a:lnTo>
                  <a:pt x="1196366" y="17859"/>
                </a:lnTo>
                <a:lnTo>
                  <a:pt x="1238207" y="17859"/>
                </a:lnTo>
                <a:lnTo>
                  <a:pt x="1279888" y="17859"/>
                </a:lnTo>
                <a:lnTo>
                  <a:pt x="1324373" y="17859"/>
                </a:lnTo>
                <a:lnTo>
                  <a:pt x="1367908" y="17859"/>
                </a:lnTo>
                <a:lnTo>
                  <a:pt x="1396084" y="16868"/>
                </a:lnTo>
                <a:lnTo>
                  <a:pt x="1412937" y="10792"/>
                </a:lnTo>
                <a:lnTo>
                  <a:pt x="1422696" y="8765"/>
                </a:lnTo>
                <a:lnTo>
                  <a:pt x="143764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Jews Strike Bac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6 CE- Jews rebel against the Roma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0 CE- Romans stormed Jerusalem and destroy their temple, leaving only the Western Wall a.k.a the “wailing wall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3 CE- Jews and Romans fight at the Battle of Masada. Over 500,000 Jews died in this battle, mostly of suic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- The Western Wall is Jerusalem’s holiest shrin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Victory Arch of Emperor Titus over the Jews in Jerusa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9" name="Picture 2" descr="http://www.eyewitnesstohistory.com/images/rometriumph3.jpg"/>
          <p:cNvPicPr/>
          <p:nvPr/>
        </p:nvPicPr>
        <p:blipFill>
          <a:blip r:embed="rId1"/>
          <a:stretch/>
        </p:blipFill>
        <p:spPr>
          <a:xfrm>
            <a:off x="1905120" y="1738440"/>
            <a:ext cx="49528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lltop Fortress at Masa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91" name="Picture 4" descr="masada"/>
          <p:cNvPicPr/>
          <p:nvPr/>
        </p:nvPicPr>
        <p:blipFill>
          <a:blip r:embed="rId1"/>
          <a:stretch/>
        </p:blipFill>
        <p:spPr>
          <a:xfrm>
            <a:off x="24382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erusalem’s Western Wa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4" name="Picture 5" descr="western-wall-walking-cc-gabork-flickr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4419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View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5238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ncient Rome: The Rise of Christianit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Martyrdom of Pe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the Apostle traveled to Rome and was crucified upside down by Ner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lieved to be the first “Bishop” or Pope of the Christian Chur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, all Popes are believed to be descendants of St. Pe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 now call this the 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tholic”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urch which means 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niversal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8" name="Picture 4" descr="C:\Users\glennlauren\AppData\Local\Microsoft\Windows\Temporary Internet Files\Content.IE5\38J14C50\MC900057150[1].wmf"/>
          <p:cNvPicPr/>
          <p:nvPr/>
        </p:nvPicPr>
        <p:blipFill>
          <a:blip r:embed="rId1"/>
          <a:stretch/>
        </p:blipFill>
        <p:spPr>
          <a:xfrm>
            <a:off x="7332840" y="3048120"/>
            <a:ext cx="1714320" cy="3578040"/>
          </a:xfrm>
          <a:prstGeom prst="rect">
            <a:avLst/>
          </a:prstGeom>
          <a:ln w="0">
            <a:noFill/>
          </a:ln>
        </p:spPr>
      </p:pic>
      <p:sp>
        <p:nvSpPr>
          <p:cNvPr id="399" name="SMARTInkShape-285"/>
          <p:cNvSpPr/>
          <p:nvPr/>
        </p:nvSpPr>
        <p:spPr>
          <a:xfrm>
            <a:off x="3002040" y="4375080"/>
            <a:ext cx="2141640" cy="66996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40886" h="669680">
                <a:moveTo>
                  <a:pt x="1400014" y="562523"/>
                </a:moveTo>
                <a:lnTo>
                  <a:pt x="1400014" y="562523"/>
                </a:lnTo>
                <a:lnTo>
                  <a:pt x="1385756" y="563515"/>
                </a:lnTo>
                <a:lnTo>
                  <a:pt x="1343651" y="573546"/>
                </a:lnTo>
                <a:lnTo>
                  <a:pt x="1308550" y="579482"/>
                </a:lnTo>
                <a:lnTo>
                  <a:pt x="1268600" y="580264"/>
                </a:lnTo>
                <a:lnTo>
                  <a:pt x="1235289" y="580347"/>
                </a:lnTo>
                <a:lnTo>
                  <a:pt x="1195543" y="580372"/>
                </a:lnTo>
                <a:lnTo>
                  <a:pt x="1164279" y="580378"/>
                </a:lnTo>
                <a:lnTo>
                  <a:pt x="1130539" y="580381"/>
                </a:lnTo>
                <a:lnTo>
                  <a:pt x="1095700" y="580382"/>
                </a:lnTo>
                <a:lnTo>
                  <a:pt x="1060373" y="580383"/>
                </a:lnTo>
                <a:lnTo>
                  <a:pt x="1024828" y="580383"/>
                </a:lnTo>
                <a:lnTo>
                  <a:pt x="989186" y="580383"/>
                </a:lnTo>
                <a:lnTo>
                  <a:pt x="950856" y="580383"/>
                </a:lnTo>
                <a:lnTo>
                  <a:pt x="910669" y="580383"/>
                </a:lnTo>
                <a:lnTo>
                  <a:pt x="869657" y="580383"/>
                </a:lnTo>
                <a:lnTo>
                  <a:pt x="830925" y="580383"/>
                </a:lnTo>
                <a:lnTo>
                  <a:pt x="792874" y="580383"/>
                </a:lnTo>
                <a:lnTo>
                  <a:pt x="752812" y="580383"/>
                </a:lnTo>
                <a:lnTo>
                  <a:pt x="711855" y="580383"/>
                </a:lnTo>
                <a:lnTo>
                  <a:pt x="670501" y="580383"/>
                </a:lnTo>
                <a:lnTo>
                  <a:pt x="628971" y="580383"/>
                </a:lnTo>
                <a:lnTo>
                  <a:pt x="584716" y="577737"/>
                </a:lnTo>
                <a:lnTo>
                  <a:pt x="561803" y="575642"/>
                </a:lnTo>
                <a:lnTo>
                  <a:pt x="517822" y="573315"/>
                </a:lnTo>
                <a:lnTo>
                  <a:pt x="475123" y="572281"/>
                </a:lnTo>
                <a:lnTo>
                  <a:pt x="432996" y="571820"/>
                </a:lnTo>
                <a:lnTo>
                  <a:pt x="391121" y="571616"/>
                </a:lnTo>
                <a:lnTo>
                  <a:pt x="350351" y="570533"/>
                </a:lnTo>
                <a:lnTo>
                  <a:pt x="312388" y="566744"/>
                </a:lnTo>
                <a:lnTo>
                  <a:pt x="273025" y="564399"/>
                </a:lnTo>
                <a:lnTo>
                  <a:pt x="234364" y="562365"/>
                </a:lnTo>
                <a:lnTo>
                  <a:pt x="200645" y="558153"/>
                </a:lnTo>
                <a:lnTo>
                  <a:pt x="169122" y="555620"/>
                </a:lnTo>
                <a:lnTo>
                  <a:pt x="126131" y="551548"/>
                </a:lnTo>
                <a:lnTo>
                  <a:pt x="88257" y="544057"/>
                </a:lnTo>
                <a:lnTo>
                  <a:pt x="49385" y="532638"/>
                </a:lnTo>
                <a:lnTo>
                  <a:pt x="28916" y="519051"/>
                </a:lnTo>
                <a:lnTo>
                  <a:pt x="11352" y="496683"/>
                </a:lnTo>
                <a:lnTo>
                  <a:pt x="2434" y="479074"/>
                </a:lnTo>
                <a:lnTo>
                  <a:pt x="0" y="467226"/>
                </a:lnTo>
                <a:lnTo>
                  <a:pt x="5566" y="436323"/>
                </a:lnTo>
                <a:lnTo>
                  <a:pt x="18866" y="401554"/>
                </a:lnTo>
                <a:lnTo>
                  <a:pt x="45049" y="366024"/>
                </a:lnTo>
                <a:lnTo>
                  <a:pt x="87659" y="321415"/>
                </a:lnTo>
                <a:lnTo>
                  <a:pt x="127870" y="280961"/>
                </a:lnTo>
                <a:lnTo>
                  <a:pt x="162304" y="251225"/>
                </a:lnTo>
                <a:lnTo>
                  <a:pt x="202383" y="223562"/>
                </a:lnTo>
                <a:lnTo>
                  <a:pt x="245677" y="196515"/>
                </a:lnTo>
                <a:lnTo>
                  <a:pt x="289925" y="169649"/>
                </a:lnTo>
                <a:lnTo>
                  <a:pt x="334455" y="142838"/>
                </a:lnTo>
                <a:lnTo>
                  <a:pt x="379068" y="120782"/>
                </a:lnTo>
                <a:lnTo>
                  <a:pt x="411471" y="105248"/>
                </a:lnTo>
                <a:lnTo>
                  <a:pt x="445716" y="89415"/>
                </a:lnTo>
                <a:lnTo>
                  <a:pt x="480780" y="75763"/>
                </a:lnTo>
                <a:lnTo>
                  <a:pt x="518854" y="63081"/>
                </a:lnTo>
                <a:lnTo>
                  <a:pt x="557934" y="50830"/>
                </a:lnTo>
                <a:lnTo>
                  <a:pt x="595146" y="38770"/>
                </a:lnTo>
                <a:lnTo>
                  <a:pt x="634175" y="29442"/>
                </a:lnTo>
                <a:lnTo>
                  <a:pt x="675664" y="21989"/>
                </a:lnTo>
                <a:lnTo>
                  <a:pt x="697841" y="18613"/>
                </a:lnTo>
                <a:lnTo>
                  <a:pt x="720562" y="15369"/>
                </a:lnTo>
                <a:lnTo>
                  <a:pt x="764329" y="9119"/>
                </a:lnTo>
                <a:lnTo>
                  <a:pt x="807925" y="4027"/>
                </a:lnTo>
                <a:lnTo>
                  <a:pt x="830663" y="2669"/>
                </a:lnTo>
                <a:lnTo>
                  <a:pt x="853759" y="1763"/>
                </a:lnTo>
                <a:lnTo>
                  <a:pt x="897942" y="757"/>
                </a:lnTo>
                <a:lnTo>
                  <a:pt x="941722" y="310"/>
                </a:lnTo>
                <a:lnTo>
                  <a:pt x="964510" y="191"/>
                </a:lnTo>
                <a:lnTo>
                  <a:pt x="987639" y="111"/>
                </a:lnTo>
                <a:lnTo>
                  <a:pt x="1010995" y="59"/>
                </a:lnTo>
                <a:lnTo>
                  <a:pt x="1034504" y="24"/>
                </a:lnTo>
                <a:lnTo>
                  <a:pt x="1058114" y="0"/>
                </a:lnTo>
                <a:lnTo>
                  <a:pt x="1081792" y="976"/>
                </a:lnTo>
                <a:lnTo>
                  <a:pt x="1105514" y="2620"/>
                </a:lnTo>
                <a:lnTo>
                  <a:pt x="1129267" y="4707"/>
                </a:lnTo>
                <a:lnTo>
                  <a:pt x="1153039" y="7091"/>
                </a:lnTo>
                <a:lnTo>
                  <a:pt x="1176825" y="9673"/>
                </a:lnTo>
                <a:lnTo>
                  <a:pt x="1200620" y="12386"/>
                </a:lnTo>
                <a:lnTo>
                  <a:pt x="1223428" y="15187"/>
                </a:lnTo>
                <a:lnTo>
                  <a:pt x="1267292" y="20945"/>
                </a:lnTo>
                <a:lnTo>
                  <a:pt x="1289704" y="24861"/>
                </a:lnTo>
                <a:lnTo>
                  <a:pt x="1312584" y="29457"/>
                </a:lnTo>
                <a:lnTo>
                  <a:pt x="1335773" y="34505"/>
                </a:lnTo>
                <a:lnTo>
                  <a:pt x="1359171" y="39855"/>
                </a:lnTo>
                <a:lnTo>
                  <a:pt x="1382707" y="45406"/>
                </a:lnTo>
                <a:lnTo>
                  <a:pt x="1406335" y="51090"/>
                </a:lnTo>
                <a:lnTo>
                  <a:pt x="1429032" y="56865"/>
                </a:lnTo>
                <a:lnTo>
                  <a:pt x="1472773" y="68572"/>
                </a:lnTo>
                <a:lnTo>
                  <a:pt x="1515365" y="83036"/>
                </a:lnTo>
                <a:lnTo>
                  <a:pt x="1558436" y="99387"/>
                </a:lnTo>
                <a:lnTo>
                  <a:pt x="1581035" y="107914"/>
                </a:lnTo>
                <a:lnTo>
                  <a:pt x="1625327" y="124334"/>
                </a:lnTo>
                <a:lnTo>
                  <a:pt x="1664856" y="138246"/>
                </a:lnTo>
                <a:lnTo>
                  <a:pt x="1704914" y="153690"/>
                </a:lnTo>
                <a:lnTo>
                  <a:pt x="1744877" y="171468"/>
                </a:lnTo>
                <a:lnTo>
                  <a:pt x="1782481" y="192598"/>
                </a:lnTo>
                <a:lnTo>
                  <a:pt x="1819038" y="212573"/>
                </a:lnTo>
                <a:lnTo>
                  <a:pt x="1854138" y="231372"/>
                </a:lnTo>
                <a:lnTo>
                  <a:pt x="1886273" y="249650"/>
                </a:lnTo>
                <a:lnTo>
                  <a:pt x="1917092" y="267694"/>
                </a:lnTo>
                <a:lnTo>
                  <a:pt x="1959688" y="294588"/>
                </a:lnTo>
                <a:lnTo>
                  <a:pt x="1997445" y="324054"/>
                </a:lnTo>
                <a:lnTo>
                  <a:pt x="2041018" y="364826"/>
                </a:lnTo>
                <a:lnTo>
                  <a:pt x="2078288" y="407680"/>
                </a:lnTo>
                <a:lnTo>
                  <a:pt x="2113787" y="450226"/>
                </a:lnTo>
                <a:lnTo>
                  <a:pt x="2133709" y="481912"/>
                </a:lnTo>
                <a:lnTo>
                  <a:pt x="2139702" y="508308"/>
                </a:lnTo>
                <a:lnTo>
                  <a:pt x="2140885" y="532632"/>
                </a:lnTo>
                <a:lnTo>
                  <a:pt x="2138998" y="537635"/>
                </a:lnTo>
                <a:lnTo>
                  <a:pt x="2131610" y="545839"/>
                </a:lnTo>
                <a:lnTo>
                  <a:pt x="2099188" y="565342"/>
                </a:lnTo>
                <a:lnTo>
                  <a:pt x="2067509" y="576382"/>
                </a:lnTo>
                <a:lnTo>
                  <a:pt x="2024063" y="579592"/>
                </a:lnTo>
                <a:lnTo>
                  <a:pt x="1986423" y="580148"/>
                </a:lnTo>
                <a:lnTo>
                  <a:pt x="1943851" y="580313"/>
                </a:lnTo>
                <a:lnTo>
                  <a:pt x="1912586" y="580351"/>
                </a:lnTo>
                <a:lnTo>
                  <a:pt x="1875540" y="580369"/>
                </a:lnTo>
                <a:lnTo>
                  <a:pt x="1835924" y="580375"/>
                </a:lnTo>
                <a:lnTo>
                  <a:pt x="1796158" y="579388"/>
                </a:lnTo>
                <a:lnTo>
                  <a:pt x="1758640" y="575640"/>
                </a:lnTo>
                <a:lnTo>
                  <a:pt x="1719476" y="573314"/>
                </a:lnTo>
                <a:lnTo>
                  <a:pt x="1677927" y="571287"/>
                </a:lnTo>
                <a:lnTo>
                  <a:pt x="1655734" y="569358"/>
                </a:lnTo>
                <a:lnTo>
                  <a:pt x="1633002" y="567079"/>
                </a:lnTo>
                <a:lnTo>
                  <a:pt x="1609909" y="565561"/>
                </a:lnTo>
                <a:lnTo>
                  <a:pt x="1586577" y="564548"/>
                </a:lnTo>
                <a:lnTo>
                  <a:pt x="1563085" y="563873"/>
                </a:lnTo>
                <a:lnTo>
                  <a:pt x="1538493" y="564416"/>
                </a:lnTo>
                <a:lnTo>
                  <a:pt x="1513169" y="565769"/>
                </a:lnTo>
                <a:lnTo>
                  <a:pt x="1487357" y="567664"/>
                </a:lnTo>
                <a:lnTo>
                  <a:pt x="1462211" y="568926"/>
                </a:lnTo>
                <a:lnTo>
                  <a:pt x="1437510" y="569769"/>
                </a:lnTo>
                <a:lnTo>
                  <a:pt x="1413105" y="570329"/>
                </a:lnTo>
                <a:lnTo>
                  <a:pt x="1385920" y="571696"/>
                </a:lnTo>
                <a:lnTo>
                  <a:pt x="1356884" y="573600"/>
                </a:lnTo>
                <a:lnTo>
                  <a:pt x="1326613" y="575860"/>
                </a:lnTo>
                <a:lnTo>
                  <a:pt x="1297502" y="577368"/>
                </a:lnTo>
                <a:lnTo>
                  <a:pt x="1269165" y="578373"/>
                </a:lnTo>
                <a:lnTo>
                  <a:pt x="1241343" y="579043"/>
                </a:lnTo>
                <a:lnTo>
                  <a:pt x="1212875" y="580481"/>
                </a:lnTo>
                <a:lnTo>
                  <a:pt x="1183973" y="582432"/>
                </a:lnTo>
                <a:lnTo>
                  <a:pt x="1154784" y="584725"/>
                </a:lnTo>
                <a:lnTo>
                  <a:pt x="1126394" y="588239"/>
                </a:lnTo>
                <a:lnTo>
                  <a:pt x="1098538" y="592565"/>
                </a:lnTo>
                <a:lnTo>
                  <a:pt x="1071038" y="597434"/>
                </a:lnTo>
                <a:lnTo>
                  <a:pt x="1043775" y="602665"/>
                </a:lnTo>
                <a:lnTo>
                  <a:pt x="1016670" y="608136"/>
                </a:lnTo>
                <a:lnTo>
                  <a:pt x="989670" y="613767"/>
                </a:lnTo>
                <a:lnTo>
                  <a:pt x="963732" y="619506"/>
                </a:lnTo>
                <a:lnTo>
                  <a:pt x="938503" y="625316"/>
                </a:lnTo>
                <a:lnTo>
                  <a:pt x="913746" y="631174"/>
                </a:lnTo>
                <a:lnTo>
                  <a:pt x="889304" y="638057"/>
                </a:lnTo>
                <a:lnTo>
                  <a:pt x="865072" y="645621"/>
                </a:lnTo>
                <a:lnTo>
                  <a:pt x="824918" y="658987"/>
                </a:lnTo>
                <a:lnTo>
                  <a:pt x="792795" y="66967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SMARTInkShape-286"/>
          <p:cNvSpPr/>
          <p:nvPr/>
        </p:nvSpPr>
        <p:spPr>
          <a:xfrm>
            <a:off x="4116240" y="5322960"/>
            <a:ext cx="2822760" cy="2397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21781" h="241102">
                <a:moveTo>
                  <a:pt x="0" y="107156"/>
                </a:moveTo>
                <a:lnTo>
                  <a:pt x="0" y="107156"/>
                </a:lnTo>
                <a:lnTo>
                  <a:pt x="14258" y="101019"/>
                </a:lnTo>
                <a:lnTo>
                  <a:pt x="56427" y="98258"/>
                </a:lnTo>
                <a:lnTo>
                  <a:pt x="65446" y="98236"/>
                </a:lnTo>
                <a:lnTo>
                  <a:pt x="110071" y="88549"/>
                </a:lnTo>
                <a:lnTo>
                  <a:pt x="127062" y="82277"/>
                </a:lnTo>
                <a:lnTo>
                  <a:pt x="160914" y="77888"/>
                </a:lnTo>
                <a:lnTo>
                  <a:pt x="199468" y="67074"/>
                </a:lnTo>
                <a:lnTo>
                  <a:pt x="242608" y="58168"/>
                </a:lnTo>
                <a:lnTo>
                  <a:pt x="285948" y="51537"/>
                </a:lnTo>
                <a:lnTo>
                  <a:pt x="330424" y="44563"/>
                </a:lnTo>
                <a:lnTo>
                  <a:pt x="368768" y="37759"/>
                </a:lnTo>
                <a:lnTo>
                  <a:pt x="402621" y="33677"/>
                </a:lnTo>
                <a:lnTo>
                  <a:pt x="444875" y="28149"/>
                </a:lnTo>
                <a:lnTo>
                  <a:pt x="482277" y="27192"/>
                </a:lnTo>
                <a:lnTo>
                  <a:pt x="520038" y="22167"/>
                </a:lnTo>
                <a:lnTo>
                  <a:pt x="561102" y="19135"/>
                </a:lnTo>
                <a:lnTo>
                  <a:pt x="604689" y="18237"/>
                </a:lnTo>
                <a:lnTo>
                  <a:pt x="644283" y="17971"/>
                </a:lnTo>
                <a:lnTo>
                  <a:pt x="681149" y="17892"/>
                </a:lnTo>
                <a:lnTo>
                  <a:pt x="721948" y="17868"/>
                </a:lnTo>
                <a:lnTo>
                  <a:pt x="765456" y="13121"/>
                </a:lnTo>
                <a:lnTo>
                  <a:pt x="805027" y="10171"/>
                </a:lnTo>
                <a:lnTo>
                  <a:pt x="846627" y="9297"/>
                </a:lnTo>
                <a:lnTo>
                  <a:pt x="885632" y="9038"/>
                </a:lnTo>
                <a:lnTo>
                  <a:pt x="927065" y="8962"/>
                </a:lnTo>
                <a:lnTo>
                  <a:pt x="958723" y="8944"/>
                </a:lnTo>
                <a:lnTo>
                  <a:pt x="991646" y="8936"/>
                </a:lnTo>
                <a:lnTo>
                  <a:pt x="1022815" y="8931"/>
                </a:lnTo>
                <a:lnTo>
                  <a:pt x="1053204" y="8930"/>
                </a:lnTo>
                <a:lnTo>
                  <a:pt x="1083247" y="8929"/>
                </a:lnTo>
                <a:lnTo>
                  <a:pt x="1113135" y="8929"/>
                </a:lnTo>
                <a:lnTo>
                  <a:pt x="1142957" y="8929"/>
                </a:lnTo>
                <a:lnTo>
                  <a:pt x="1172746" y="7937"/>
                </a:lnTo>
                <a:lnTo>
                  <a:pt x="1202522" y="4189"/>
                </a:lnTo>
                <a:lnTo>
                  <a:pt x="1234939" y="1862"/>
                </a:lnTo>
                <a:lnTo>
                  <a:pt x="1268197" y="828"/>
                </a:lnTo>
                <a:lnTo>
                  <a:pt x="1299516" y="367"/>
                </a:lnTo>
                <a:lnTo>
                  <a:pt x="1332617" y="163"/>
                </a:lnTo>
                <a:lnTo>
                  <a:pt x="1367172" y="73"/>
                </a:lnTo>
                <a:lnTo>
                  <a:pt x="1402374" y="32"/>
                </a:lnTo>
                <a:lnTo>
                  <a:pt x="1435218" y="14"/>
                </a:lnTo>
                <a:lnTo>
                  <a:pt x="1467343" y="6"/>
                </a:lnTo>
                <a:lnTo>
                  <a:pt x="1501465" y="2"/>
                </a:lnTo>
                <a:lnTo>
                  <a:pt x="1539120" y="0"/>
                </a:lnTo>
                <a:lnTo>
                  <a:pt x="1578014" y="992"/>
                </a:lnTo>
                <a:lnTo>
                  <a:pt x="1615144" y="4739"/>
                </a:lnTo>
                <a:lnTo>
                  <a:pt x="1654136" y="7067"/>
                </a:lnTo>
                <a:lnTo>
                  <a:pt x="1693624" y="9094"/>
                </a:lnTo>
                <a:lnTo>
                  <a:pt x="1731018" y="13302"/>
                </a:lnTo>
                <a:lnTo>
                  <a:pt x="1770128" y="15833"/>
                </a:lnTo>
                <a:lnTo>
                  <a:pt x="1809668" y="17951"/>
                </a:lnTo>
                <a:lnTo>
                  <a:pt x="1847086" y="22200"/>
                </a:lnTo>
                <a:lnTo>
                  <a:pt x="1883560" y="27395"/>
                </a:lnTo>
                <a:lnTo>
                  <a:pt x="1920606" y="32020"/>
                </a:lnTo>
                <a:lnTo>
                  <a:pt x="1960223" y="34074"/>
                </a:lnTo>
                <a:lnTo>
                  <a:pt x="2000981" y="37634"/>
                </a:lnTo>
                <a:lnTo>
                  <a:pt x="2041254" y="42523"/>
                </a:lnTo>
                <a:lnTo>
                  <a:pt x="2078997" y="48003"/>
                </a:lnTo>
                <a:lnTo>
                  <a:pt x="2115615" y="53745"/>
                </a:lnTo>
                <a:lnTo>
                  <a:pt x="2152726" y="59605"/>
                </a:lnTo>
                <a:lnTo>
                  <a:pt x="2192370" y="65517"/>
                </a:lnTo>
                <a:lnTo>
                  <a:pt x="2230496" y="74098"/>
                </a:lnTo>
                <a:lnTo>
                  <a:pt x="2268277" y="83534"/>
                </a:lnTo>
                <a:lnTo>
                  <a:pt x="2308219" y="91035"/>
                </a:lnTo>
                <a:lnTo>
                  <a:pt x="2346476" y="97676"/>
                </a:lnTo>
                <a:lnTo>
                  <a:pt x="2384315" y="104927"/>
                </a:lnTo>
                <a:lnTo>
                  <a:pt x="2424285" y="114764"/>
                </a:lnTo>
                <a:lnTo>
                  <a:pt x="2462553" y="125750"/>
                </a:lnTo>
                <a:lnTo>
                  <a:pt x="2499405" y="137248"/>
                </a:lnTo>
                <a:lnTo>
                  <a:pt x="2535627" y="148972"/>
                </a:lnTo>
                <a:lnTo>
                  <a:pt x="2571570" y="158152"/>
                </a:lnTo>
                <a:lnTo>
                  <a:pt x="2607389" y="166532"/>
                </a:lnTo>
                <a:lnTo>
                  <a:pt x="2643152" y="176871"/>
                </a:lnTo>
                <a:lnTo>
                  <a:pt x="2687274" y="193848"/>
                </a:lnTo>
                <a:lnTo>
                  <a:pt x="2725482" y="211445"/>
                </a:lnTo>
                <a:lnTo>
                  <a:pt x="2761939" y="224487"/>
                </a:lnTo>
                <a:lnTo>
                  <a:pt x="2805845" y="236790"/>
                </a:lnTo>
                <a:lnTo>
                  <a:pt x="2821780" y="241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SMARTInkShape-287"/>
          <p:cNvSpPr/>
          <p:nvPr/>
        </p:nvSpPr>
        <p:spPr>
          <a:xfrm>
            <a:off x="1741320" y="5769000"/>
            <a:ext cx="3116520" cy="142920"/>
          </a:xfrm>
          <a:custGeom>
            <a:avLst/>
            <a:gdLst>
              <a:gd name="textAreaLeft" fmla="*/ 0 w 3116520"/>
              <a:gd name="textAreaRight" fmla="*/ 3116880 w 3116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3116462" h="142842">
                <a:moveTo>
                  <a:pt x="0" y="142841"/>
                </a:moveTo>
                <a:lnTo>
                  <a:pt x="0" y="142841"/>
                </a:lnTo>
                <a:lnTo>
                  <a:pt x="14258" y="141849"/>
                </a:lnTo>
                <a:lnTo>
                  <a:pt x="51463" y="130412"/>
                </a:lnTo>
                <a:lnTo>
                  <a:pt x="89871" y="125062"/>
                </a:lnTo>
                <a:lnTo>
                  <a:pt x="123091" y="118171"/>
                </a:lnTo>
                <a:lnTo>
                  <a:pt x="158069" y="109844"/>
                </a:lnTo>
                <a:lnTo>
                  <a:pt x="193569" y="101094"/>
                </a:lnTo>
                <a:lnTo>
                  <a:pt x="228231" y="93209"/>
                </a:lnTo>
                <a:lnTo>
                  <a:pt x="269758" y="87396"/>
                </a:lnTo>
                <a:lnTo>
                  <a:pt x="304163" y="82426"/>
                </a:lnTo>
                <a:lnTo>
                  <a:pt x="342138" y="78307"/>
                </a:lnTo>
                <a:lnTo>
                  <a:pt x="384809" y="73450"/>
                </a:lnTo>
                <a:lnTo>
                  <a:pt x="426226" y="72010"/>
                </a:lnTo>
                <a:lnTo>
                  <a:pt x="466279" y="68937"/>
                </a:lnTo>
                <a:lnTo>
                  <a:pt x="509565" y="64390"/>
                </a:lnTo>
                <a:lnTo>
                  <a:pt x="553811" y="63041"/>
                </a:lnTo>
                <a:lnTo>
                  <a:pt x="598340" y="62641"/>
                </a:lnTo>
                <a:lnTo>
                  <a:pt x="642952" y="62524"/>
                </a:lnTo>
                <a:lnTo>
                  <a:pt x="673702" y="61505"/>
                </a:lnTo>
                <a:lnTo>
                  <a:pt x="707212" y="57743"/>
                </a:lnTo>
                <a:lnTo>
                  <a:pt x="739304" y="55410"/>
                </a:lnTo>
                <a:lnTo>
                  <a:pt x="771095" y="54373"/>
                </a:lnTo>
                <a:lnTo>
                  <a:pt x="805068" y="53912"/>
                </a:lnTo>
                <a:lnTo>
                  <a:pt x="840011" y="51061"/>
                </a:lnTo>
                <a:lnTo>
                  <a:pt x="875385" y="47480"/>
                </a:lnTo>
                <a:lnTo>
                  <a:pt x="910951" y="45888"/>
                </a:lnTo>
                <a:lnTo>
                  <a:pt x="949247" y="42534"/>
                </a:lnTo>
                <a:lnTo>
                  <a:pt x="989419" y="38728"/>
                </a:lnTo>
                <a:lnTo>
                  <a:pt x="1030424" y="37038"/>
                </a:lnTo>
                <a:lnTo>
                  <a:pt x="1071800" y="33640"/>
                </a:lnTo>
                <a:lnTo>
                  <a:pt x="1112348" y="29815"/>
                </a:lnTo>
                <a:lnTo>
                  <a:pt x="1150213" y="28115"/>
                </a:lnTo>
                <a:lnTo>
                  <a:pt x="1189531" y="24714"/>
                </a:lnTo>
                <a:lnTo>
                  <a:pt x="1230157" y="20887"/>
                </a:lnTo>
                <a:lnTo>
                  <a:pt x="1271364" y="19185"/>
                </a:lnTo>
                <a:lnTo>
                  <a:pt x="1315475" y="15784"/>
                </a:lnTo>
                <a:lnTo>
                  <a:pt x="1338351" y="13489"/>
                </a:lnTo>
                <a:lnTo>
                  <a:pt x="1361539" y="11957"/>
                </a:lnTo>
                <a:lnTo>
                  <a:pt x="1384935" y="10936"/>
                </a:lnTo>
                <a:lnTo>
                  <a:pt x="1408470" y="10255"/>
                </a:lnTo>
                <a:lnTo>
                  <a:pt x="1431104" y="8811"/>
                </a:lnTo>
                <a:lnTo>
                  <a:pt x="1474776" y="4559"/>
                </a:lnTo>
                <a:lnTo>
                  <a:pt x="1517336" y="2007"/>
                </a:lnTo>
                <a:lnTo>
                  <a:pt x="1560395" y="873"/>
                </a:lnTo>
                <a:lnTo>
                  <a:pt x="1582989" y="570"/>
                </a:lnTo>
                <a:lnTo>
                  <a:pt x="1605990" y="369"/>
                </a:lnTo>
                <a:lnTo>
                  <a:pt x="1650068" y="145"/>
                </a:lnTo>
                <a:lnTo>
                  <a:pt x="1693801" y="45"/>
                </a:lnTo>
                <a:lnTo>
                  <a:pt x="1716575" y="18"/>
                </a:lnTo>
                <a:lnTo>
                  <a:pt x="1739696" y="0"/>
                </a:lnTo>
                <a:lnTo>
                  <a:pt x="1783907" y="2627"/>
                </a:lnTo>
                <a:lnTo>
                  <a:pt x="1826707" y="6110"/>
                </a:lnTo>
                <a:lnTo>
                  <a:pt x="1868880" y="7657"/>
                </a:lnTo>
                <a:lnTo>
                  <a:pt x="1913420" y="8346"/>
                </a:lnTo>
                <a:lnTo>
                  <a:pt x="1936411" y="8529"/>
                </a:lnTo>
                <a:lnTo>
                  <a:pt x="1959674" y="8651"/>
                </a:lnTo>
                <a:lnTo>
                  <a:pt x="1983121" y="8732"/>
                </a:lnTo>
                <a:lnTo>
                  <a:pt x="2006690" y="8787"/>
                </a:lnTo>
                <a:lnTo>
                  <a:pt x="2030340" y="9816"/>
                </a:lnTo>
                <a:lnTo>
                  <a:pt x="2054044" y="11493"/>
                </a:lnTo>
                <a:lnTo>
                  <a:pt x="2077785" y="13604"/>
                </a:lnTo>
                <a:lnTo>
                  <a:pt x="2101549" y="15011"/>
                </a:lnTo>
                <a:lnTo>
                  <a:pt x="2125330" y="15948"/>
                </a:lnTo>
                <a:lnTo>
                  <a:pt x="2149120" y="16574"/>
                </a:lnTo>
                <a:lnTo>
                  <a:pt x="2173911" y="16991"/>
                </a:lnTo>
                <a:lnTo>
                  <a:pt x="2199368" y="17269"/>
                </a:lnTo>
                <a:lnTo>
                  <a:pt x="2225268" y="17455"/>
                </a:lnTo>
                <a:lnTo>
                  <a:pt x="2251465" y="17578"/>
                </a:lnTo>
                <a:lnTo>
                  <a:pt x="2277860" y="17660"/>
                </a:lnTo>
                <a:lnTo>
                  <a:pt x="2304386" y="17715"/>
                </a:lnTo>
                <a:lnTo>
                  <a:pt x="2330999" y="18744"/>
                </a:lnTo>
                <a:lnTo>
                  <a:pt x="2357672" y="20422"/>
                </a:lnTo>
                <a:lnTo>
                  <a:pt x="2384383" y="22533"/>
                </a:lnTo>
                <a:lnTo>
                  <a:pt x="2412112" y="23940"/>
                </a:lnTo>
                <a:lnTo>
                  <a:pt x="2440520" y="24878"/>
                </a:lnTo>
                <a:lnTo>
                  <a:pt x="2469380" y="25504"/>
                </a:lnTo>
                <a:lnTo>
                  <a:pt x="2499535" y="26913"/>
                </a:lnTo>
                <a:lnTo>
                  <a:pt x="2530552" y="28845"/>
                </a:lnTo>
                <a:lnTo>
                  <a:pt x="2562144" y="31125"/>
                </a:lnTo>
                <a:lnTo>
                  <a:pt x="2595111" y="33637"/>
                </a:lnTo>
                <a:lnTo>
                  <a:pt x="2628996" y="36303"/>
                </a:lnTo>
                <a:lnTo>
                  <a:pt x="2663492" y="39074"/>
                </a:lnTo>
                <a:lnTo>
                  <a:pt x="2698395" y="41913"/>
                </a:lnTo>
                <a:lnTo>
                  <a:pt x="2733572" y="44797"/>
                </a:lnTo>
                <a:lnTo>
                  <a:pt x="2768928" y="47714"/>
                </a:lnTo>
                <a:lnTo>
                  <a:pt x="2807382" y="51642"/>
                </a:lnTo>
                <a:lnTo>
                  <a:pt x="2847900" y="56245"/>
                </a:lnTo>
                <a:lnTo>
                  <a:pt x="2889795" y="61297"/>
                </a:lnTo>
                <a:lnTo>
                  <a:pt x="2933600" y="66650"/>
                </a:lnTo>
                <a:lnTo>
                  <a:pt x="2978679" y="72204"/>
                </a:lnTo>
                <a:lnTo>
                  <a:pt x="3024606" y="77890"/>
                </a:lnTo>
                <a:lnTo>
                  <a:pt x="3055224" y="81681"/>
                </a:lnTo>
                <a:lnTo>
                  <a:pt x="3116461" y="8926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2" name="SMARTInkShape-Group241"/>
          <p:cNvGrpSpPr/>
          <p:nvPr/>
        </p:nvGrpSpPr>
        <p:grpSpPr>
          <a:xfrm>
            <a:off x="527040" y="2562120"/>
            <a:ext cx="2027160" cy="733680"/>
            <a:chOff x="527040" y="2562120"/>
            <a:chExt cx="2027160" cy="733680"/>
          </a:xfrm>
        </p:grpSpPr>
        <p:sp>
          <p:nvSpPr>
            <p:cNvPr id="403" name="SMARTInkShape-288"/>
            <p:cNvSpPr/>
            <p:nvPr/>
          </p:nvSpPr>
          <p:spPr>
            <a:xfrm>
              <a:off x="527040" y="2562120"/>
              <a:ext cx="1803240" cy="733680"/>
            </a:xfrm>
            <a:custGeom>
              <a:avLst/>
              <a:gdLst>
                <a:gd name="textAreaLeft" fmla="*/ 0 w 1803240"/>
                <a:gd name="textAreaRight" fmla="*/ 1803600 w 1803240"/>
                <a:gd name="textAreaTop" fmla="*/ 0 h 733680"/>
                <a:gd name="textAreaBottom" fmla="*/ 733680 h 733680"/>
              </a:gdLst>
              <a:ahLst/>
              <a:rect l="textAreaLeft" t="textAreaTop" r="textAreaRight" b="textAreaBottom"/>
              <a:pathLst>
                <a:path w="1802622" h="732112">
                  <a:moveTo>
                    <a:pt x="740638" y="544588"/>
                  </a:moveTo>
                  <a:lnTo>
                    <a:pt x="740638" y="544588"/>
                  </a:lnTo>
                  <a:lnTo>
                    <a:pt x="718277" y="543596"/>
                  </a:lnTo>
                  <a:lnTo>
                    <a:pt x="684941" y="536486"/>
                  </a:lnTo>
                  <a:lnTo>
                    <a:pt x="657248" y="531027"/>
                  </a:lnTo>
                  <a:lnTo>
                    <a:pt x="612817" y="517886"/>
                  </a:lnTo>
                  <a:lnTo>
                    <a:pt x="586221" y="510945"/>
                  </a:lnTo>
                  <a:lnTo>
                    <a:pt x="543840" y="502014"/>
                  </a:lnTo>
                  <a:lnTo>
                    <a:pt x="505752" y="490832"/>
                  </a:lnTo>
                  <a:lnTo>
                    <a:pt x="471943" y="482028"/>
                  </a:lnTo>
                  <a:lnTo>
                    <a:pt x="429704" y="470164"/>
                  </a:lnTo>
                  <a:lnTo>
                    <a:pt x="385568" y="464403"/>
                  </a:lnTo>
                  <a:lnTo>
                    <a:pt x="350453" y="457440"/>
                  </a:lnTo>
                  <a:lnTo>
                    <a:pt x="314914" y="449093"/>
                  </a:lnTo>
                  <a:lnTo>
                    <a:pt x="280240" y="439344"/>
                  </a:lnTo>
                  <a:lnTo>
                    <a:pt x="238709" y="421420"/>
                  </a:lnTo>
                  <a:lnTo>
                    <a:pt x="204303" y="411190"/>
                  </a:lnTo>
                  <a:lnTo>
                    <a:pt x="161862" y="398844"/>
                  </a:lnTo>
                  <a:lnTo>
                    <a:pt x="118423" y="383868"/>
                  </a:lnTo>
                  <a:lnTo>
                    <a:pt x="80034" y="362836"/>
                  </a:lnTo>
                  <a:lnTo>
                    <a:pt x="42416" y="336290"/>
                  </a:lnTo>
                  <a:lnTo>
                    <a:pt x="30497" y="324230"/>
                  </a:lnTo>
                  <a:lnTo>
                    <a:pt x="5476" y="287243"/>
                  </a:lnTo>
                  <a:lnTo>
                    <a:pt x="1252" y="270341"/>
                  </a:lnTo>
                  <a:lnTo>
                    <a:pt x="0" y="252765"/>
                  </a:lnTo>
                  <a:lnTo>
                    <a:pt x="7208" y="217156"/>
                  </a:lnTo>
                  <a:lnTo>
                    <a:pt x="13164" y="205255"/>
                  </a:lnTo>
                  <a:lnTo>
                    <a:pt x="42665" y="163588"/>
                  </a:lnTo>
                  <a:lnTo>
                    <a:pt x="83898" y="130018"/>
                  </a:lnTo>
                  <a:lnTo>
                    <a:pt x="125024" y="100971"/>
                  </a:lnTo>
                  <a:lnTo>
                    <a:pt x="166451" y="83383"/>
                  </a:lnTo>
                  <a:lnTo>
                    <a:pt x="209617" y="64475"/>
                  </a:lnTo>
                  <a:lnTo>
                    <a:pt x="248269" y="54075"/>
                  </a:lnTo>
                  <a:lnTo>
                    <a:pt x="284857" y="44709"/>
                  </a:lnTo>
                  <a:lnTo>
                    <a:pt x="323479" y="35650"/>
                  </a:lnTo>
                  <a:lnTo>
                    <a:pt x="363697" y="26682"/>
                  </a:lnTo>
                  <a:lnTo>
                    <a:pt x="403394" y="17741"/>
                  </a:lnTo>
                  <a:lnTo>
                    <a:pt x="446576" y="11454"/>
                  </a:lnTo>
                  <a:lnTo>
                    <a:pt x="490789" y="6945"/>
                  </a:lnTo>
                  <a:lnTo>
                    <a:pt x="521445" y="3019"/>
                  </a:lnTo>
                  <a:lnTo>
                    <a:pt x="554914" y="1273"/>
                  </a:lnTo>
                  <a:lnTo>
                    <a:pt x="586987" y="498"/>
                  </a:lnTo>
                  <a:lnTo>
                    <a:pt x="618770" y="153"/>
                  </a:lnTo>
                  <a:lnTo>
                    <a:pt x="652740" y="0"/>
                  </a:lnTo>
                  <a:lnTo>
                    <a:pt x="687681" y="2577"/>
                  </a:lnTo>
                  <a:lnTo>
                    <a:pt x="723055" y="6038"/>
                  </a:lnTo>
                  <a:lnTo>
                    <a:pt x="758620" y="7576"/>
                  </a:lnTo>
                  <a:lnTo>
                    <a:pt x="794270" y="10906"/>
                  </a:lnTo>
                  <a:lnTo>
                    <a:pt x="829959" y="15693"/>
                  </a:lnTo>
                  <a:lnTo>
                    <a:pt x="865664" y="21128"/>
                  </a:lnTo>
                  <a:lnTo>
                    <a:pt x="901377" y="26850"/>
                  </a:lnTo>
                  <a:lnTo>
                    <a:pt x="937093" y="32701"/>
                  </a:lnTo>
                  <a:lnTo>
                    <a:pt x="972811" y="38609"/>
                  </a:lnTo>
                  <a:lnTo>
                    <a:pt x="1011175" y="47188"/>
                  </a:lnTo>
                  <a:lnTo>
                    <a:pt x="1050384" y="56623"/>
                  </a:lnTo>
                  <a:lnTo>
                    <a:pt x="1087654" y="64124"/>
                  </a:lnTo>
                  <a:lnTo>
                    <a:pt x="1126708" y="73410"/>
                  </a:lnTo>
                  <a:lnTo>
                    <a:pt x="1166224" y="84152"/>
                  </a:lnTo>
                  <a:lnTo>
                    <a:pt x="1203631" y="95541"/>
                  </a:lnTo>
                  <a:lnTo>
                    <a:pt x="1240100" y="109863"/>
                  </a:lnTo>
                  <a:lnTo>
                    <a:pt x="1277144" y="125158"/>
                  </a:lnTo>
                  <a:lnTo>
                    <a:pt x="1316759" y="138571"/>
                  </a:lnTo>
                  <a:lnTo>
                    <a:pt x="1354871" y="151146"/>
                  </a:lnTo>
                  <a:lnTo>
                    <a:pt x="1390662" y="164342"/>
                  </a:lnTo>
                  <a:lnTo>
                    <a:pt x="1423105" y="180129"/>
                  </a:lnTo>
                  <a:lnTo>
                    <a:pt x="1454061" y="197067"/>
                  </a:lnTo>
                  <a:lnTo>
                    <a:pt x="1485347" y="213525"/>
                  </a:lnTo>
                  <a:lnTo>
                    <a:pt x="1519097" y="227454"/>
                  </a:lnTo>
                  <a:lnTo>
                    <a:pt x="1562085" y="251192"/>
                  </a:lnTo>
                  <a:lnTo>
                    <a:pt x="1604698" y="272337"/>
                  </a:lnTo>
                  <a:lnTo>
                    <a:pt x="1644003" y="295911"/>
                  </a:lnTo>
                  <a:lnTo>
                    <a:pt x="1685710" y="324406"/>
                  </a:lnTo>
                  <a:lnTo>
                    <a:pt x="1722612" y="355023"/>
                  </a:lnTo>
                  <a:lnTo>
                    <a:pt x="1759392" y="386561"/>
                  </a:lnTo>
                  <a:lnTo>
                    <a:pt x="1795873" y="429704"/>
                  </a:lnTo>
                  <a:lnTo>
                    <a:pt x="1799983" y="439289"/>
                  </a:lnTo>
                  <a:lnTo>
                    <a:pt x="1802621" y="456871"/>
                  </a:lnTo>
                  <a:lnTo>
                    <a:pt x="1798338" y="471524"/>
                  </a:lnTo>
                  <a:lnTo>
                    <a:pt x="1788001" y="487124"/>
                  </a:lnTo>
                  <a:lnTo>
                    <a:pt x="1773454" y="502796"/>
                  </a:lnTo>
                  <a:lnTo>
                    <a:pt x="1735523" y="520765"/>
                  </a:lnTo>
                  <a:lnTo>
                    <a:pt x="1697872" y="531687"/>
                  </a:lnTo>
                  <a:lnTo>
                    <a:pt x="1660743" y="537520"/>
                  </a:lnTo>
                  <a:lnTo>
                    <a:pt x="1628417" y="542494"/>
                  </a:lnTo>
                  <a:lnTo>
                    <a:pt x="1590066" y="546613"/>
                  </a:lnTo>
                  <a:lnTo>
                    <a:pt x="1553567" y="551472"/>
                  </a:lnTo>
                  <a:lnTo>
                    <a:pt x="1514972" y="552912"/>
                  </a:lnTo>
                  <a:lnTo>
                    <a:pt x="1472117" y="555984"/>
                  </a:lnTo>
                  <a:lnTo>
                    <a:pt x="1441779" y="559574"/>
                  </a:lnTo>
                  <a:lnTo>
                    <a:pt x="1408451" y="561171"/>
                  </a:lnTo>
                  <a:lnTo>
                    <a:pt x="1373795" y="561880"/>
                  </a:lnTo>
                  <a:lnTo>
                    <a:pt x="1338549" y="562196"/>
                  </a:lnTo>
                  <a:lnTo>
                    <a:pt x="1303040" y="562335"/>
                  </a:lnTo>
                  <a:lnTo>
                    <a:pt x="1264769" y="559752"/>
                  </a:lnTo>
                  <a:lnTo>
                    <a:pt x="1224608" y="557280"/>
                  </a:lnTo>
                  <a:lnTo>
                    <a:pt x="1183608" y="559490"/>
                  </a:lnTo>
                  <a:lnTo>
                    <a:pt x="1142235" y="561133"/>
                  </a:lnTo>
                  <a:lnTo>
                    <a:pt x="1100695" y="561863"/>
                  </a:lnTo>
                  <a:lnTo>
                    <a:pt x="1059082" y="562188"/>
                  </a:lnTo>
                  <a:lnTo>
                    <a:pt x="1014791" y="562332"/>
                  </a:lnTo>
                  <a:lnTo>
                    <a:pt x="991868" y="562371"/>
                  </a:lnTo>
                  <a:lnTo>
                    <a:pt x="947876" y="562413"/>
                  </a:lnTo>
                  <a:lnTo>
                    <a:pt x="904181" y="562433"/>
                  </a:lnTo>
                  <a:lnTo>
                    <a:pt x="881416" y="562438"/>
                  </a:lnTo>
                  <a:lnTo>
                    <a:pt x="858303" y="562441"/>
                  </a:lnTo>
                  <a:lnTo>
                    <a:pt x="834956" y="562443"/>
                  </a:lnTo>
                  <a:lnTo>
                    <a:pt x="811454" y="562445"/>
                  </a:lnTo>
                  <a:lnTo>
                    <a:pt x="787848" y="562445"/>
                  </a:lnTo>
                  <a:lnTo>
                    <a:pt x="764174" y="563438"/>
                  </a:lnTo>
                  <a:lnTo>
                    <a:pt x="740453" y="565092"/>
                  </a:lnTo>
                  <a:lnTo>
                    <a:pt x="716702" y="567187"/>
                  </a:lnTo>
                  <a:lnTo>
                    <a:pt x="692931" y="568584"/>
                  </a:lnTo>
                  <a:lnTo>
                    <a:pt x="669146" y="569515"/>
                  </a:lnTo>
                  <a:lnTo>
                    <a:pt x="645351" y="570136"/>
                  </a:lnTo>
                  <a:lnTo>
                    <a:pt x="621551" y="571542"/>
                  </a:lnTo>
                  <a:lnTo>
                    <a:pt x="597747" y="573471"/>
                  </a:lnTo>
                  <a:lnTo>
                    <a:pt x="573939" y="575750"/>
                  </a:lnTo>
                  <a:lnTo>
                    <a:pt x="551123" y="578261"/>
                  </a:lnTo>
                  <a:lnTo>
                    <a:pt x="507250" y="583697"/>
                  </a:lnTo>
                  <a:lnTo>
                    <a:pt x="464600" y="592066"/>
                  </a:lnTo>
                  <a:lnTo>
                    <a:pt x="422493" y="601408"/>
                  </a:lnTo>
                  <a:lnTo>
                    <a:pt x="380628" y="608867"/>
                  </a:lnTo>
                  <a:lnTo>
                    <a:pt x="344162" y="618136"/>
                  </a:lnTo>
                  <a:lnTo>
                    <a:pt x="310426" y="627878"/>
                  </a:lnTo>
                  <a:lnTo>
                    <a:pt x="275589" y="635515"/>
                  </a:lnTo>
                  <a:lnTo>
                    <a:pt x="231988" y="650133"/>
                  </a:lnTo>
                  <a:lnTo>
                    <a:pt x="193934" y="667031"/>
                  </a:lnTo>
                  <a:lnTo>
                    <a:pt x="152649" y="683391"/>
                  </a:lnTo>
                  <a:lnTo>
                    <a:pt x="111086" y="702250"/>
                  </a:lnTo>
                  <a:lnTo>
                    <a:pt x="96265" y="711247"/>
                  </a:lnTo>
                  <a:lnTo>
                    <a:pt x="92101" y="717216"/>
                  </a:lnTo>
                  <a:lnTo>
                    <a:pt x="89757" y="726154"/>
                  </a:lnTo>
                  <a:lnTo>
                    <a:pt x="90420" y="728140"/>
                  </a:lnTo>
                  <a:lnTo>
                    <a:pt x="91855" y="729464"/>
                  </a:lnTo>
                  <a:lnTo>
                    <a:pt x="96094" y="730935"/>
                  </a:lnTo>
                  <a:lnTo>
                    <a:pt x="106630" y="73211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4" name="SMARTInkShape-289"/>
            <p:cNvSpPr/>
            <p:nvPr/>
          </p:nvSpPr>
          <p:spPr>
            <a:xfrm>
              <a:off x="1946880" y="2624400"/>
              <a:ext cx="89280" cy="3988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398880"/>
                <a:gd name="textAreaBottom" fmla="*/ 399240 h 398880"/>
              </a:gdLst>
              <a:ahLst/>
              <a:rect l="textAreaLeft" t="textAreaTop" r="textAreaRight" b="textAreaBottom"/>
              <a:pathLst>
                <a:path w="89298" h="397946">
                  <a:moveTo>
                    <a:pt x="89297" y="0"/>
                  </a:moveTo>
                  <a:lnTo>
                    <a:pt x="89297" y="0"/>
                  </a:lnTo>
                  <a:lnTo>
                    <a:pt x="89297" y="12429"/>
                  </a:lnTo>
                  <a:lnTo>
                    <a:pt x="80735" y="52011"/>
                  </a:lnTo>
                  <a:lnTo>
                    <a:pt x="79448" y="74692"/>
                  </a:lnTo>
                  <a:lnTo>
                    <a:pt x="72271" y="116294"/>
                  </a:lnTo>
                  <a:lnTo>
                    <a:pt x="66807" y="153204"/>
                  </a:lnTo>
                  <a:lnTo>
                    <a:pt x="55197" y="197818"/>
                  </a:lnTo>
                  <a:lnTo>
                    <a:pt x="46723" y="241281"/>
                  </a:lnTo>
                  <a:lnTo>
                    <a:pt x="42617" y="265298"/>
                  </a:lnTo>
                  <a:lnTo>
                    <a:pt x="37763" y="287628"/>
                  </a:lnTo>
                  <a:lnTo>
                    <a:pt x="33678" y="310449"/>
                  </a:lnTo>
                  <a:lnTo>
                    <a:pt x="22452" y="354089"/>
                  </a:lnTo>
                  <a:lnTo>
                    <a:pt x="17774" y="370870"/>
                  </a:lnTo>
                  <a:lnTo>
                    <a:pt x="10971" y="383739"/>
                  </a:lnTo>
                  <a:lnTo>
                    <a:pt x="9332" y="391096"/>
                  </a:lnTo>
                  <a:lnTo>
                    <a:pt x="8206" y="391699"/>
                  </a:lnTo>
                  <a:lnTo>
                    <a:pt x="4308" y="392370"/>
                  </a:lnTo>
                  <a:lnTo>
                    <a:pt x="2872" y="393541"/>
                  </a:lnTo>
                  <a:lnTo>
                    <a:pt x="1276" y="397488"/>
                  </a:lnTo>
                  <a:lnTo>
                    <a:pt x="851" y="397945"/>
                  </a:lnTo>
                  <a:lnTo>
                    <a:pt x="567" y="397257"/>
                  </a:lnTo>
                  <a:lnTo>
                    <a:pt x="0" y="34825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5" name="SMARTInkShape-290"/>
            <p:cNvSpPr/>
            <p:nvPr/>
          </p:nvSpPr>
          <p:spPr>
            <a:xfrm>
              <a:off x="2045160" y="2624400"/>
              <a:ext cx="88920" cy="285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89047" h="285334">
                  <a:moveTo>
                    <a:pt x="71438" y="0"/>
                  </a:moveTo>
                  <a:lnTo>
                    <a:pt x="71438" y="0"/>
                  </a:lnTo>
                  <a:lnTo>
                    <a:pt x="76179" y="4740"/>
                  </a:lnTo>
                  <a:lnTo>
                    <a:pt x="78506" y="9714"/>
                  </a:lnTo>
                  <a:lnTo>
                    <a:pt x="80000" y="20991"/>
                  </a:lnTo>
                  <a:lnTo>
                    <a:pt x="81114" y="22924"/>
                  </a:lnTo>
                  <a:lnTo>
                    <a:pt x="82850" y="24212"/>
                  </a:lnTo>
                  <a:lnTo>
                    <a:pt x="84999" y="25071"/>
                  </a:lnTo>
                  <a:lnTo>
                    <a:pt x="86432" y="27628"/>
                  </a:lnTo>
                  <a:lnTo>
                    <a:pt x="89046" y="51014"/>
                  </a:lnTo>
                  <a:lnTo>
                    <a:pt x="88231" y="66489"/>
                  </a:lnTo>
                  <a:lnTo>
                    <a:pt x="81188" y="102284"/>
                  </a:lnTo>
                  <a:lnTo>
                    <a:pt x="79448" y="145032"/>
                  </a:lnTo>
                  <a:lnTo>
                    <a:pt x="72271" y="182491"/>
                  </a:lnTo>
                  <a:lnTo>
                    <a:pt x="70519" y="224393"/>
                  </a:lnTo>
                  <a:lnTo>
                    <a:pt x="64384" y="242799"/>
                  </a:lnTo>
                  <a:lnTo>
                    <a:pt x="61763" y="263962"/>
                  </a:lnTo>
                  <a:lnTo>
                    <a:pt x="54852" y="274931"/>
                  </a:lnTo>
                  <a:lnTo>
                    <a:pt x="46002" y="284343"/>
                  </a:lnTo>
                  <a:lnTo>
                    <a:pt x="40309" y="285333"/>
                  </a:lnTo>
                  <a:lnTo>
                    <a:pt x="35113" y="282919"/>
                  </a:lnTo>
                  <a:lnTo>
                    <a:pt x="0" y="2589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6" name="SMARTInkShape-291"/>
            <p:cNvSpPr/>
            <p:nvPr/>
          </p:nvSpPr>
          <p:spPr>
            <a:xfrm>
              <a:off x="1812960" y="2742120"/>
              <a:ext cx="348120" cy="16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48259" h="16622">
                  <a:moveTo>
                    <a:pt x="0" y="16621"/>
                  </a:moveTo>
                  <a:lnTo>
                    <a:pt x="0" y="16621"/>
                  </a:lnTo>
                  <a:lnTo>
                    <a:pt x="0" y="11477"/>
                  </a:lnTo>
                  <a:lnTo>
                    <a:pt x="0" y="13673"/>
                  </a:lnTo>
                  <a:lnTo>
                    <a:pt x="993" y="13664"/>
                  </a:lnTo>
                  <a:lnTo>
                    <a:pt x="7689" y="8674"/>
                  </a:lnTo>
                  <a:lnTo>
                    <a:pt x="31218" y="7749"/>
                  </a:lnTo>
                  <a:lnTo>
                    <a:pt x="72741" y="6705"/>
                  </a:lnTo>
                  <a:lnTo>
                    <a:pt x="116258" y="4"/>
                  </a:lnTo>
                  <a:lnTo>
                    <a:pt x="158968" y="0"/>
                  </a:lnTo>
                  <a:lnTo>
                    <a:pt x="202976" y="5878"/>
                  </a:lnTo>
                  <a:lnTo>
                    <a:pt x="240626" y="7333"/>
                  </a:lnTo>
                  <a:lnTo>
                    <a:pt x="283042" y="7645"/>
                  </a:lnTo>
                  <a:lnTo>
                    <a:pt x="327133" y="8682"/>
                  </a:lnTo>
                  <a:lnTo>
                    <a:pt x="348258" y="166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7" name="SMARTInkShape-292"/>
            <p:cNvSpPr/>
            <p:nvPr/>
          </p:nvSpPr>
          <p:spPr>
            <a:xfrm>
              <a:off x="1848600" y="2776680"/>
              <a:ext cx="285840" cy="536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85751" h="53579">
                  <a:moveTo>
                    <a:pt x="0" y="53578"/>
                  </a:moveTo>
                  <a:lnTo>
                    <a:pt x="0" y="53578"/>
                  </a:lnTo>
                  <a:lnTo>
                    <a:pt x="39147" y="53578"/>
                  </a:lnTo>
                  <a:lnTo>
                    <a:pt x="81583" y="52586"/>
                  </a:lnTo>
                  <a:lnTo>
                    <a:pt x="125176" y="41149"/>
                  </a:lnTo>
                  <a:lnTo>
                    <a:pt x="166903" y="35799"/>
                  </a:lnTo>
                  <a:lnTo>
                    <a:pt x="207484" y="26217"/>
                  </a:lnTo>
                  <a:lnTo>
                    <a:pt x="248683" y="14769"/>
                  </a:lnTo>
                  <a:lnTo>
                    <a:pt x="2857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8" name="SMARTInkShape-293"/>
            <p:cNvSpPr/>
            <p:nvPr/>
          </p:nvSpPr>
          <p:spPr>
            <a:xfrm>
              <a:off x="2214720" y="2615400"/>
              <a:ext cx="169560" cy="277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69655" h="276821">
                  <a:moveTo>
                    <a:pt x="8920" y="35718"/>
                  </a:moveTo>
                  <a:lnTo>
                    <a:pt x="8920" y="35718"/>
                  </a:lnTo>
                  <a:lnTo>
                    <a:pt x="100" y="26898"/>
                  </a:lnTo>
                  <a:lnTo>
                    <a:pt x="0" y="19110"/>
                  </a:lnTo>
                  <a:lnTo>
                    <a:pt x="989" y="18692"/>
                  </a:lnTo>
                  <a:lnTo>
                    <a:pt x="24078" y="16873"/>
                  </a:lnTo>
                  <a:lnTo>
                    <a:pt x="33806" y="11724"/>
                  </a:lnTo>
                  <a:lnTo>
                    <a:pt x="77303" y="9002"/>
                  </a:lnTo>
                  <a:lnTo>
                    <a:pt x="120929" y="8931"/>
                  </a:lnTo>
                  <a:lnTo>
                    <a:pt x="136768" y="8929"/>
                  </a:lnTo>
                  <a:lnTo>
                    <a:pt x="142801" y="6283"/>
                  </a:lnTo>
                  <a:lnTo>
                    <a:pt x="148790" y="2792"/>
                  </a:lnTo>
                  <a:lnTo>
                    <a:pt x="160719" y="551"/>
                  </a:lnTo>
                  <a:lnTo>
                    <a:pt x="169641" y="0"/>
                  </a:lnTo>
                  <a:lnTo>
                    <a:pt x="169654" y="13302"/>
                  </a:lnTo>
                  <a:lnTo>
                    <a:pt x="167009" y="18479"/>
                  </a:lnTo>
                  <a:lnTo>
                    <a:pt x="163518" y="24087"/>
                  </a:lnTo>
                  <a:lnTo>
                    <a:pt x="160560" y="32823"/>
                  </a:lnTo>
                  <a:lnTo>
                    <a:pt x="146558" y="51600"/>
                  </a:lnTo>
                  <a:lnTo>
                    <a:pt x="140949" y="69576"/>
                  </a:lnTo>
                  <a:lnTo>
                    <a:pt x="137053" y="76563"/>
                  </a:lnTo>
                  <a:lnTo>
                    <a:pt x="122966" y="118165"/>
                  </a:lnTo>
                  <a:lnTo>
                    <a:pt x="119138" y="128916"/>
                  </a:lnTo>
                  <a:lnTo>
                    <a:pt x="115992" y="145133"/>
                  </a:lnTo>
                  <a:lnTo>
                    <a:pt x="110209" y="157655"/>
                  </a:lnTo>
                  <a:lnTo>
                    <a:pt x="106423" y="183623"/>
                  </a:lnTo>
                  <a:lnTo>
                    <a:pt x="101089" y="194195"/>
                  </a:lnTo>
                  <a:lnTo>
                    <a:pt x="98239" y="238049"/>
                  </a:lnTo>
                  <a:lnTo>
                    <a:pt x="98217" y="2768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9" name="SMARTInkShape-294"/>
            <p:cNvSpPr/>
            <p:nvPr/>
          </p:nvSpPr>
          <p:spPr>
            <a:xfrm>
              <a:off x="2161440" y="2839320"/>
              <a:ext cx="392760" cy="5364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92908" h="53580">
                  <a:moveTo>
                    <a:pt x="392907" y="17860"/>
                  </a:moveTo>
                  <a:lnTo>
                    <a:pt x="392907" y="17860"/>
                  </a:lnTo>
                  <a:lnTo>
                    <a:pt x="385218" y="10172"/>
                  </a:lnTo>
                  <a:lnTo>
                    <a:pt x="341687" y="566"/>
                  </a:lnTo>
                  <a:lnTo>
                    <a:pt x="299385" y="22"/>
                  </a:lnTo>
                  <a:lnTo>
                    <a:pt x="255797" y="2"/>
                  </a:lnTo>
                  <a:lnTo>
                    <a:pt x="211243" y="0"/>
                  </a:lnTo>
                  <a:lnTo>
                    <a:pt x="166602" y="0"/>
                  </a:lnTo>
                  <a:lnTo>
                    <a:pt x="133340" y="2646"/>
                  </a:lnTo>
                  <a:lnTo>
                    <a:pt x="90028" y="8378"/>
                  </a:lnTo>
                  <a:lnTo>
                    <a:pt x="60620" y="9850"/>
                  </a:lnTo>
                  <a:lnTo>
                    <a:pt x="42806" y="15984"/>
                  </a:lnTo>
                  <a:lnTo>
                    <a:pt x="32916" y="18018"/>
                  </a:lnTo>
                  <a:lnTo>
                    <a:pt x="18482" y="24763"/>
                  </a:lnTo>
                  <a:lnTo>
                    <a:pt x="15298" y="25438"/>
                  </a:lnTo>
                  <a:lnTo>
                    <a:pt x="1800" y="34359"/>
                  </a:lnTo>
                  <a:lnTo>
                    <a:pt x="800" y="37761"/>
                  </a:lnTo>
                  <a:lnTo>
                    <a:pt x="0" y="5357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10" name="SMARTInkShape-295"/>
          <p:cNvSpPr/>
          <p:nvPr/>
        </p:nvSpPr>
        <p:spPr>
          <a:xfrm>
            <a:off x="2276640" y="2490840"/>
            <a:ext cx="3608280" cy="63360"/>
          </a:xfrm>
          <a:custGeom>
            <a:avLst/>
            <a:gdLst>
              <a:gd name="textAreaLeft" fmla="*/ 0 w 3608280"/>
              <a:gd name="textAreaRight" fmla="*/ 3608640 w 36082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607595" h="62509">
                <a:moveTo>
                  <a:pt x="0" y="26789"/>
                </a:moveTo>
                <a:lnTo>
                  <a:pt x="0" y="26789"/>
                </a:lnTo>
                <a:lnTo>
                  <a:pt x="42740" y="26789"/>
                </a:lnTo>
                <a:lnTo>
                  <a:pt x="64254" y="26789"/>
                </a:lnTo>
                <a:lnTo>
                  <a:pt x="70891" y="24143"/>
                </a:lnTo>
                <a:lnTo>
                  <a:pt x="74049" y="22048"/>
                </a:lnTo>
                <a:lnTo>
                  <a:pt x="87976" y="19100"/>
                </a:lnTo>
                <a:lnTo>
                  <a:pt x="99930" y="18227"/>
                </a:lnTo>
                <a:lnTo>
                  <a:pt x="141262" y="26431"/>
                </a:lnTo>
                <a:lnTo>
                  <a:pt x="182642" y="26768"/>
                </a:lnTo>
                <a:lnTo>
                  <a:pt x="225398" y="26787"/>
                </a:lnTo>
                <a:lnTo>
                  <a:pt x="268995" y="26789"/>
                </a:lnTo>
                <a:lnTo>
                  <a:pt x="312684" y="26789"/>
                </a:lnTo>
                <a:lnTo>
                  <a:pt x="350139" y="26789"/>
                </a:lnTo>
                <a:lnTo>
                  <a:pt x="393154" y="26789"/>
                </a:lnTo>
                <a:lnTo>
                  <a:pt x="437587" y="26789"/>
                </a:lnTo>
                <a:lnTo>
                  <a:pt x="482208" y="26789"/>
                </a:lnTo>
                <a:lnTo>
                  <a:pt x="508993" y="29435"/>
                </a:lnTo>
                <a:lnTo>
                  <a:pt x="553641" y="34891"/>
                </a:lnTo>
                <a:lnTo>
                  <a:pt x="598289" y="35609"/>
                </a:lnTo>
                <a:lnTo>
                  <a:pt x="635000" y="35697"/>
                </a:lnTo>
                <a:lnTo>
                  <a:pt x="676794" y="35714"/>
                </a:lnTo>
                <a:lnTo>
                  <a:pt x="718748" y="35718"/>
                </a:lnTo>
                <a:lnTo>
                  <a:pt x="759116" y="35719"/>
                </a:lnTo>
                <a:lnTo>
                  <a:pt x="801633" y="35719"/>
                </a:lnTo>
                <a:lnTo>
                  <a:pt x="843728" y="35719"/>
                </a:lnTo>
                <a:lnTo>
                  <a:pt x="884125" y="34726"/>
                </a:lnTo>
                <a:lnTo>
                  <a:pt x="926647" y="28651"/>
                </a:lnTo>
                <a:lnTo>
                  <a:pt x="964003" y="27156"/>
                </a:lnTo>
                <a:lnTo>
                  <a:pt x="1001038" y="26862"/>
                </a:lnTo>
                <a:lnTo>
                  <a:pt x="1042896" y="26803"/>
                </a:lnTo>
                <a:lnTo>
                  <a:pt x="1084030" y="26791"/>
                </a:lnTo>
                <a:lnTo>
                  <a:pt x="1123782" y="26789"/>
                </a:lnTo>
                <a:lnTo>
                  <a:pt x="1160591" y="26789"/>
                </a:lnTo>
                <a:lnTo>
                  <a:pt x="1202662" y="26789"/>
                </a:lnTo>
                <a:lnTo>
                  <a:pt x="1240665" y="24143"/>
                </a:lnTo>
                <a:lnTo>
                  <a:pt x="1281575" y="19100"/>
                </a:lnTo>
                <a:lnTo>
                  <a:pt x="1321737" y="18104"/>
                </a:lnTo>
                <a:lnTo>
                  <a:pt x="1364213" y="17907"/>
                </a:lnTo>
                <a:lnTo>
                  <a:pt x="1406301" y="17868"/>
                </a:lnTo>
                <a:lnTo>
                  <a:pt x="1445702" y="11724"/>
                </a:lnTo>
                <a:lnTo>
                  <a:pt x="1482149" y="9481"/>
                </a:lnTo>
                <a:lnTo>
                  <a:pt x="1518012" y="9039"/>
                </a:lnTo>
                <a:lnTo>
                  <a:pt x="1553759" y="7958"/>
                </a:lnTo>
                <a:lnTo>
                  <a:pt x="1589484" y="1866"/>
                </a:lnTo>
                <a:lnTo>
                  <a:pt x="1625203" y="368"/>
                </a:lnTo>
                <a:lnTo>
                  <a:pt x="1661914" y="72"/>
                </a:lnTo>
                <a:lnTo>
                  <a:pt x="1703708" y="14"/>
                </a:lnTo>
                <a:lnTo>
                  <a:pt x="1740922" y="3"/>
                </a:lnTo>
                <a:lnTo>
                  <a:pt x="1776935" y="0"/>
                </a:lnTo>
                <a:lnTo>
                  <a:pt x="1815358" y="0"/>
                </a:lnTo>
                <a:lnTo>
                  <a:pt x="1856131" y="0"/>
                </a:lnTo>
                <a:lnTo>
                  <a:pt x="1892849" y="0"/>
                </a:lnTo>
                <a:lnTo>
                  <a:pt x="1928764" y="0"/>
                </a:lnTo>
                <a:lnTo>
                  <a:pt x="1964521" y="0"/>
                </a:lnTo>
                <a:lnTo>
                  <a:pt x="2006385" y="0"/>
                </a:lnTo>
                <a:lnTo>
                  <a:pt x="2044346" y="0"/>
                </a:lnTo>
                <a:lnTo>
                  <a:pt x="2080508" y="0"/>
                </a:lnTo>
                <a:lnTo>
                  <a:pt x="2116314" y="0"/>
                </a:lnTo>
                <a:lnTo>
                  <a:pt x="2152050" y="0"/>
                </a:lnTo>
                <a:lnTo>
                  <a:pt x="2195711" y="0"/>
                </a:lnTo>
                <a:lnTo>
                  <a:pt x="2233664" y="0"/>
                </a:lnTo>
                <a:lnTo>
                  <a:pt x="2277234" y="0"/>
                </a:lnTo>
                <a:lnTo>
                  <a:pt x="2321741" y="0"/>
                </a:lnTo>
                <a:lnTo>
                  <a:pt x="2366370" y="0"/>
                </a:lnTo>
                <a:lnTo>
                  <a:pt x="2403948" y="0"/>
                </a:lnTo>
                <a:lnTo>
                  <a:pt x="2446980" y="0"/>
                </a:lnTo>
                <a:lnTo>
                  <a:pt x="2491415" y="0"/>
                </a:lnTo>
                <a:lnTo>
                  <a:pt x="2528968" y="0"/>
                </a:lnTo>
                <a:lnTo>
                  <a:pt x="2565859" y="0"/>
                </a:lnTo>
                <a:lnTo>
                  <a:pt x="2603128" y="0"/>
                </a:lnTo>
                <a:lnTo>
                  <a:pt x="2643791" y="0"/>
                </a:lnTo>
                <a:lnTo>
                  <a:pt x="2687105" y="0"/>
                </a:lnTo>
                <a:lnTo>
                  <a:pt x="2730559" y="0"/>
                </a:lnTo>
                <a:lnTo>
                  <a:pt x="2775102" y="0"/>
                </a:lnTo>
                <a:lnTo>
                  <a:pt x="2819741" y="0"/>
                </a:lnTo>
                <a:lnTo>
                  <a:pt x="2864389" y="0"/>
                </a:lnTo>
                <a:lnTo>
                  <a:pt x="2904615" y="0"/>
                </a:lnTo>
                <a:lnTo>
                  <a:pt x="2946230" y="0"/>
                </a:lnTo>
                <a:lnTo>
                  <a:pt x="2989534" y="0"/>
                </a:lnTo>
                <a:lnTo>
                  <a:pt x="3034064" y="0"/>
                </a:lnTo>
                <a:lnTo>
                  <a:pt x="3078702" y="0"/>
                </a:lnTo>
                <a:lnTo>
                  <a:pt x="3123350" y="0"/>
                </a:lnTo>
                <a:lnTo>
                  <a:pt x="3163576" y="0"/>
                </a:lnTo>
                <a:lnTo>
                  <a:pt x="3207836" y="0"/>
                </a:lnTo>
                <a:lnTo>
                  <a:pt x="3252450" y="2646"/>
                </a:lnTo>
                <a:lnTo>
                  <a:pt x="3297096" y="8378"/>
                </a:lnTo>
                <a:lnTo>
                  <a:pt x="3341744" y="8881"/>
                </a:lnTo>
                <a:lnTo>
                  <a:pt x="3377491" y="9915"/>
                </a:lnTo>
                <a:lnTo>
                  <a:pt x="3420018" y="19953"/>
                </a:lnTo>
                <a:lnTo>
                  <a:pt x="3437914" y="24763"/>
                </a:lnTo>
                <a:lnTo>
                  <a:pt x="3473648" y="29257"/>
                </a:lnTo>
                <a:lnTo>
                  <a:pt x="3491508" y="33804"/>
                </a:lnTo>
                <a:lnTo>
                  <a:pt x="3509367" y="37797"/>
                </a:lnTo>
                <a:lnTo>
                  <a:pt x="3527226" y="42618"/>
                </a:lnTo>
                <a:lnTo>
                  <a:pt x="3538141" y="44738"/>
                </a:lnTo>
                <a:lnTo>
                  <a:pt x="3550855" y="50518"/>
                </a:lnTo>
                <a:lnTo>
                  <a:pt x="3593462" y="62105"/>
                </a:lnTo>
                <a:lnTo>
                  <a:pt x="3607594" y="6250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. Peter’s Basilica in Vatican 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3" name="Picture 5" descr="St Peters Basilica by thomasy7.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Vatic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6" name="Picture 5" descr="vatican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Tomb of Saint Pe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18" name="Picture 4" descr="Tomb Of St. Peter by jables80."/>
          <p:cNvPicPr/>
          <p:nvPr/>
        </p:nvPicPr>
        <p:blipFill>
          <a:blip r:embed="rId1"/>
          <a:stretch/>
        </p:blipFill>
        <p:spPr>
          <a:xfrm>
            <a:off x="1143000" y="14479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hristianity Under Constan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312 CE, Constantine became Emperor of 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ring Battle, he saw an image of a cross and w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13 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onstantine issue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dict of Mil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aking Christianity a legal religion in 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strengthen the religion he called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uncil of Nicae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establish the core beliefs of Christianity, leading to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icene Cre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1" name="Picture 5" descr="C:\Users\glennlauren\AppData\Local\Microsoft\Windows\Temporary Internet Files\Content.IE5\YHIVRA3D\MC900231057[1].wmf"/>
          <p:cNvPicPr/>
          <p:nvPr/>
        </p:nvPicPr>
        <p:blipFill>
          <a:blip r:embed="rId1"/>
          <a:stretch/>
        </p:blipFill>
        <p:spPr>
          <a:xfrm>
            <a:off x="7007400" y="4595760"/>
            <a:ext cx="2172960" cy="2332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Users\glennlauren\AppData\Local\Microsoft\Windows\Temporary Internet Files\Content.IE5\LGF9FD0S\MP900163706[1].jpg"/>
          <p:cNvPicPr/>
          <p:nvPr/>
        </p:nvPicPr>
        <p:blipFill>
          <a:blip r:embed="rId2"/>
          <a:stretch/>
        </p:blipFill>
        <p:spPr>
          <a:xfrm>
            <a:off x="7007400" y="1143000"/>
            <a:ext cx="2062080" cy="1347840"/>
          </a:xfrm>
          <a:prstGeom prst="rect">
            <a:avLst/>
          </a:prstGeom>
          <a:ln w="0">
            <a:noFill/>
          </a:ln>
        </p:spPr>
      </p:pic>
      <p:sp>
        <p:nvSpPr>
          <p:cNvPr id="423" name="SMARTInkShape-296"/>
          <p:cNvSpPr/>
          <p:nvPr/>
        </p:nvSpPr>
        <p:spPr>
          <a:xfrm>
            <a:off x="4527720" y="2884320"/>
            <a:ext cx="2320920" cy="4464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321720" h="44646">
                <a:moveTo>
                  <a:pt x="0" y="8927"/>
                </a:moveTo>
                <a:lnTo>
                  <a:pt x="0" y="8927"/>
                </a:lnTo>
                <a:lnTo>
                  <a:pt x="4740" y="4186"/>
                </a:lnTo>
                <a:lnTo>
                  <a:pt x="9714" y="1858"/>
                </a:lnTo>
                <a:lnTo>
                  <a:pt x="53581" y="1"/>
                </a:lnTo>
                <a:lnTo>
                  <a:pt x="56556" y="0"/>
                </a:lnTo>
                <a:lnTo>
                  <a:pt x="96647" y="8559"/>
                </a:lnTo>
                <a:lnTo>
                  <a:pt x="141176" y="8917"/>
                </a:lnTo>
                <a:lnTo>
                  <a:pt x="183418" y="8926"/>
                </a:lnTo>
                <a:lnTo>
                  <a:pt x="227145" y="17029"/>
                </a:lnTo>
                <a:lnTo>
                  <a:pt x="271026" y="17784"/>
                </a:lnTo>
                <a:lnTo>
                  <a:pt x="315608" y="17850"/>
                </a:lnTo>
                <a:lnTo>
                  <a:pt x="360250" y="17856"/>
                </a:lnTo>
                <a:lnTo>
                  <a:pt x="383892" y="18849"/>
                </a:lnTo>
                <a:lnTo>
                  <a:pt x="421056" y="25545"/>
                </a:lnTo>
                <a:lnTo>
                  <a:pt x="464523" y="26622"/>
                </a:lnTo>
                <a:lnTo>
                  <a:pt x="502880" y="26764"/>
                </a:lnTo>
                <a:lnTo>
                  <a:pt x="538984" y="26781"/>
                </a:lnTo>
                <a:lnTo>
                  <a:pt x="583461" y="26786"/>
                </a:lnTo>
                <a:lnTo>
                  <a:pt x="620973" y="26786"/>
                </a:lnTo>
                <a:lnTo>
                  <a:pt x="644367" y="29432"/>
                </a:lnTo>
                <a:lnTo>
                  <a:pt x="688767" y="34888"/>
                </a:lnTo>
                <a:lnTo>
                  <a:pt x="730410" y="35552"/>
                </a:lnTo>
                <a:lnTo>
                  <a:pt x="772333" y="35683"/>
                </a:lnTo>
                <a:lnTo>
                  <a:pt x="813864" y="35711"/>
                </a:lnTo>
                <a:lnTo>
                  <a:pt x="853311" y="35715"/>
                </a:lnTo>
                <a:lnTo>
                  <a:pt x="893183" y="29579"/>
                </a:lnTo>
                <a:lnTo>
                  <a:pt x="935602" y="27338"/>
                </a:lnTo>
                <a:lnTo>
                  <a:pt x="977679" y="26895"/>
                </a:lnTo>
                <a:lnTo>
                  <a:pt x="1018071" y="26808"/>
                </a:lnTo>
                <a:lnTo>
                  <a:pt x="1051634" y="26793"/>
                </a:lnTo>
                <a:lnTo>
                  <a:pt x="1086714" y="26788"/>
                </a:lnTo>
                <a:lnTo>
                  <a:pt x="1122244" y="26786"/>
                </a:lnTo>
                <a:lnTo>
                  <a:pt x="1157906" y="25794"/>
                </a:lnTo>
                <a:lnTo>
                  <a:pt x="1193608" y="20649"/>
                </a:lnTo>
                <a:lnTo>
                  <a:pt x="1229322" y="18684"/>
                </a:lnTo>
                <a:lnTo>
                  <a:pt x="1266032" y="18101"/>
                </a:lnTo>
                <a:lnTo>
                  <a:pt x="1306894" y="17929"/>
                </a:lnTo>
                <a:lnTo>
                  <a:pt x="1345571" y="17878"/>
                </a:lnTo>
                <a:lnTo>
                  <a:pt x="1387017" y="17863"/>
                </a:lnTo>
                <a:lnTo>
                  <a:pt x="1425866" y="17858"/>
                </a:lnTo>
                <a:lnTo>
                  <a:pt x="1468356" y="16865"/>
                </a:lnTo>
                <a:lnTo>
                  <a:pt x="1512364" y="11720"/>
                </a:lnTo>
                <a:lnTo>
                  <a:pt x="1556822" y="9754"/>
                </a:lnTo>
                <a:lnTo>
                  <a:pt x="1600423" y="9172"/>
                </a:lnTo>
                <a:lnTo>
                  <a:pt x="1639910" y="8999"/>
                </a:lnTo>
                <a:lnTo>
                  <a:pt x="1682587" y="8948"/>
                </a:lnTo>
                <a:lnTo>
                  <a:pt x="1726652" y="8933"/>
                </a:lnTo>
                <a:lnTo>
                  <a:pt x="1771128" y="8928"/>
                </a:lnTo>
                <a:lnTo>
                  <a:pt x="1814732" y="8927"/>
                </a:lnTo>
                <a:lnTo>
                  <a:pt x="1853229" y="8927"/>
                </a:lnTo>
                <a:lnTo>
                  <a:pt x="1890764" y="8927"/>
                </a:lnTo>
                <a:lnTo>
                  <a:pt x="1931870" y="8927"/>
                </a:lnTo>
                <a:lnTo>
                  <a:pt x="1969627" y="8927"/>
                </a:lnTo>
                <a:lnTo>
                  <a:pt x="2005949" y="9919"/>
                </a:lnTo>
                <a:lnTo>
                  <a:pt x="2042839" y="15064"/>
                </a:lnTo>
                <a:lnTo>
                  <a:pt x="2083756" y="17029"/>
                </a:lnTo>
                <a:lnTo>
                  <a:pt x="2121456" y="18603"/>
                </a:lnTo>
                <a:lnTo>
                  <a:pt x="2157761" y="23921"/>
                </a:lnTo>
                <a:lnTo>
                  <a:pt x="2193653" y="26929"/>
                </a:lnTo>
                <a:lnTo>
                  <a:pt x="2228432" y="32671"/>
                </a:lnTo>
                <a:lnTo>
                  <a:pt x="2267353" y="37760"/>
                </a:lnTo>
                <a:lnTo>
                  <a:pt x="2309710" y="43739"/>
                </a:lnTo>
                <a:lnTo>
                  <a:pt x="2321719" y="4464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SMARTInkShape-297"/>
          <p:cNvSpPr/>
          <p:nvPr/>
        </p:nvSpPr>
        <p:spPr>
          <a:xfrm>
            <a:off x="1231920" y="3224160"/>
            <a:ext cx="1482840" cy="446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482329" h="44042">
                <a:moveTo>
                  <a:pt x="0" y="26184"/>
                </a:moveTo>
                <a:lnTo>
                  <a:pt x="0" y="26184"/>
                </a:lnTo>
                <a:lnTo>
                  <a:pt x="41981" y="26184"/>
                </a:lnTo>
                <a:lnTo>
                  <a:pt x="81955" y="26184"/>
                </a:lnTo>
                <a:lnTo>
                  <a:pt x="121198" y="26184"/>
                </a:lnTo>
                <a:lnTo>
                  <a:pt x="165372" y="26184"/>
                </a:lnTo>
                <a:lnTo>
                  <a:pt x="205994" y="26184"/>
                </a:lnTo>
                <a:lnTo>
                  <a:pt x="232353" y="28830"/>
                </a:lnTo>
                <a:lnTo>
                  <a:pt x="276844" y="34286"/>
                </a:lnTo>
                <a:lnTo>
                  <a:pt x="321471" y="35004"/>
                </a:lnTo>
                <a:lnTo>
                  <a:pt x="358180" y="41229"/>
                </a:lnTo>
                <a:lnTo>
                  <a:pt x="399974" y="43487"/>
                </a:lnTo>
                <a:lnTo>
                  <a:pt x="441927" y="43934"/>
                </a:lnTo>
                <a:lnTo>
                  <a:pt x="476663" y="44011"/>
                </a:lnTo>
                <a:lnTo>
                  <a:pt x="512091" y="44034"/>
                </a:lnTo>
                <a:lnTo>
                  <a:pt x="547723" y="44041"/>
                </a:lnTo>
                <a:lnTo>
                  <a:pt x="583417" y="39302"/>
                </a:lnTo>
                <a:lnTo>
                  <a:pt x="623868" y="36355"/>
                </a:lnTo>
                <a:lnTo>
                  <a:pt x="662533" y="35481"/>
                </a:lnTo>
                <a:lnTo>
                  <a:pt x="703865" y="35222"/>
                </a:lnTo>
                <a:lnTo>
                  <a:pt x="742790" y="35146"/>
                </a:lnTo>
                <a:lnTo>
                  <a:pt x="784199" y="35124"/>
                </a:lnTo>
                <a:lnTo>
                  <a:pt x="827888" y="30377"/>
                </a:lnTo>
                <a:lnTo>
                  <a:pt x="860075" y="28047"/>
                </a:lnTo>
                <a:lnTo>
                  <a:pt x="893232" y="27012"/>
                </a:lnTo>
                <a:lnTo>
                  <a:pt x="924505" y="26552"/>
                </a:lnTo>
                <a:lnTo>
                  <a:pt x="957586" y="23702"/>
                </a:lnTo>
                <a:lnTo>
                  <a:pt x="992133" y="20120"/>
                </a:lnTo>
                <a:lnTo>
                  <a:pt x="1027330" y="18528"/>
                </a:lnTo>
                <a:lnTo>
                  <a:pt x="1065464" y="15175"/>
                </a:lnTo>
                <a:lnTo>
                  <a:pt x="1105563" y="11369"/>
                </a:lnTo>
                <a:lnTo>
                  <a:pt x="1146536" y="9678"/>
                </a:lnTo>
                <a:lnTo>
                  <a:pt x="1185251" y="6280"/>
                </a:lnTo>
                <a:lnTo>
                  <a:pt x="1223293" y="2455"/>
                </a:lnTo>
                <a:lnTo>
                  <a:pt x="1263353" y="755"/>
                </a:lnTo>
                <a:lnTo>
                  <a:pt x="1304308" y="0"/>
                </a:lnTo>
                <a:lnTo>
                  <a:pt x="1344669" y="656"/>
                </a:lnTo>
                <a:lnTo>
                  <a:pt x="1382451" y="4255"/>
                </a:lnTo>
                <a:lnTo>
                  <a:pt x="1421732" y="9162"/>
                </a:lnTo>
                <a:lnTo>
                  <a:pt x="1482328" y="1725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SMARTInkShape-298"/>
          <p:cNvSpPr/>
          <p:nvPr/>
        </p:nvSpPr>
        <p:spPr>
          <a:xfrm>
            <a:off x="5089680" y="3700440"/>
            <a:ext cx="2455560" cy="68400"/>
          </a:xfrm>
          <a:custGeom>
            <a:avLst/>
            <a:gdLst>
              <a:gd name="textAreaLeft" fmla="*/ 0 w 2455560"/>
              <a:gd name="textAreaRight" fmla="*/ 2455920 w 24555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455553" h="67652">
                <a:moveTo>
                  <a:pt x="0" y="5145"/>
                </a:moveTo>
                <a:lnTo>
                  <a:pt x="0" y="5145"/>
                </a:lnTo>
                <a:lnTo>
                  <a:pt x="4740" y="9886"/>
                </a:lnTo>
                <a:lnTo>
                  <a:pt x="9713" y="12213"/>
                </a:lnTo>
                <a:lnTo>
                  <a:pt x="36320" y="14070"/>
                </a:lnTo>
                <a:lnTo>
                  <a:pt x="75596" y="14075"/>
                </a:lnTo>
                <a:lnTo>
                  <a:pt x="92623" y="15067"/>
                </a:lnTo>
                <a:lnTo>
                  <a:pt x="128022" y="22177"/>
                </a:lnTo>
                <a:lnTo>
                  <a:pt x="146853" y="21767"/>
                </a:lnTo>
                <a:lnTo>
                  <a:pt x="188046" y="15284"/>
                </a:lnTo>
                <a:lnTo>
                  <a:pt x="225173" y="14234"/>
                </a:lnTo>
                <a:lnTo>
                  <a:pt x="268144" y="14096"/>
                </a:lnTo>
                <a:lnTo>
                  <a:pt x="312573" y="14077"/>
                </a:lnTo>
                <a:lnTo>
                  <a:pt x="354401" y="14075"/>
                </a:lnTo>
                <a:lnTo>
                  <a:pt x="392356" y="11429"/>
                </a:lnTo>
                <a:lnTo>
                  <a:pt x="428516" y="6387"/>
                </a:lnTo>
                <a:lnTo>
                  <a:pt x="471451" y="5391"/>
                </a:lnTo>
                <a:lnTo>
                  <a:pt x="506358" y="5218"/>
                </a:lnTo>
                <a:lnTo>
                  <a:pt x="541835" y="5167"/>
                </a:lnTo>
                <a:lnTo>
                  <a:pt x="577482" y="5152"/>
                </a:lnTo>
                <a:lnTo>
                  <a:pt x="613180" y="5147"/>
                </a:lnTo>
                <a:lnTo>
                  <a:pt x="648892" y="5146"/>
                </a:lnTo>
                <a:lnTo>
                  <a:pt x="684610" y="5145"/>
                </a:lnTo>
                <a:lnTo>
                  <a:pt x="721320" y="5145"/>
                </a:lnTo>
                <a:lnTo>
                  <a:pt x="762183" y="5145"/>
                </a:lnTo>
                <a:lnTo>
                  <a:pt x="799867" y="5145"/>
                </a:lnTo>
                <a:lnTo>
                  <a:pt x="836168" y="5145"/>
                </a:lnTo>
                <a:lnTo>
                  <a:pt x="873052" y="5145"/>
                </a:lnTo>
                <a:lnTo>
                  <a:pt x="914959" y="5145"/>
                </a:lnTo>
                <a:lnTo>
                  <a:pt x="957802" y="5145"/>
                </a:lnTo>
                <a:lnTo>
                  <a:pt x="997065" y="5145"/>
                </a:lnTo>
                <a:lnTo>
                  <a:pt x="1039677" y="5145"/>
                </a:lnTo>
                <a:lnTo>
                  <a:pt x="1083723" y="5145"/>
                </a:lnTo>
                <a:lnTo>
                  <a:pt x="1128192" y="5145"/>
                </a:lnTo>
                <a:lnTo>
                  <a:pt x="1171795" y="4153"/>
                </a:lnTo>
                <a:lnTo>
                  <a:pt x="1211283" y="0"/>
                </a:lnTo>
                <a:lnTo>
                  <a:pt x="1253962" y="3180"/>
                </a:lnTo>
                <a:lnTo>
                  <a:pt x="1298026" y="4563"/>
                </a:lnTo>
                <a:lnTo>
                  <a:pt x="1342502" y="4973"/>
                </a:lnTo>
                <a:lnTo>
                  <a:pt x="1387100" y="5095"/>
                </a:lnTo>
                <a:lnTo>
                  <a:pt x="1430741" y="6122"/>
                </a:lnTo>
                <a:lnTo>
                  <a:pt x="1470240" y="11277"/>
                </a:lnTo>
                <a:lnTo>
                  <a:pt x="1512922" y="13246"/>
                </a:lnTo>
                <a:lnTo>
                  <a:pt x="1556988" y="13829"/>
                </a:lnTo>
                <a:lnTo>
                  <a:pt x="1601463" y="14002"/>
                </a:lnTo>
                <a:lnTo>
                  <a:pt x="1646061" y="14053"/>
                </a:lnTo>
                <a:lnTo>
                  <a:pt x="1690694" y="15061"/>
                </a:lnTo>
                <a:lnTo>
                  <a:pt x="1720455" y="18812"/>
                </a:lnTo>
                <a:lnTo>
                  <a:pt x="1752866" y="21142"/>
                </a:lnTo>
                <a:lnTo>
                  <a:pt x="1786121" y="22176"/>
                </a:lnTo>
                <a:lnTo>
                  <a:pt x="1817439" y="22636"/>
                </a:lnTo>
                <a:lnTo>
                  <a:pt x="1858220" y="22895"/>
                </a:lnTo>
                <a:lnTo>
                  <a:pt x="1900178" y="22972"/>
                </a:lnTo>
                <a:lnTo>
                  <a:pt x="1944030" y="22995"/>
                </a:lnTo>
                <a:lnTo>
                  <a:pt x="1988442" y="23002"/>
                </a:lnTo>
                <a:lnTo>
                  <a:pt x="2028281" y="23004"/>
                </a:lnTo>
                <a:lnTo>
                  <a:pt x="2065220" y="23004"/>
                </a:lnTo>
                <a:lnTo>
                  <a:pt x="2106041" y="27745"/>
                </a:lnTo>
                <a:lnTo>
                  <a:pt x="2144815" y="30693"/>
                </a:lnTo>
                <a:lnTo>
                  <a:pt x="2187335" y="31689"/>
                </a:lnTo>
                <a:lnTo>
                  <a:pt x="2230277" y="34532"/>
                </a:lnTo>
                <a:lnTo>
                  <a:pt x="2267717" y="39613"/>
                </a:lnTo>
                <a:lnTo>
                  <a:pt x="2305665" y="43345"/>
                </a:lnTo>
                <a:lnTo>
                  <a:pt x="2347882" y="49228"/>
                </a:lnTo>
                <a:lnTo>
                  <a:pt x="2372054" y="50712"/>
                </a:lnTo>
                <a:lnTo>
                  <a:pt x="2394725" y="57472"/>
                </a:lnTo>
                <a:lnTo>
                  <a:pt x="2424988" y="59642"/>
                </a:lnTo>
                <a:lnTo>
                  <a:pt x="2431446" y="63431"/>
                </a:lnTo>
                <a:lnTo>
                  <a:pt x="2433566" y="63846"/>
                </a:lnTo>
                <a:lnTo>
                  <a:pt x="2434978" y="63131"/>
                </a:lnTo>
                <a:lnTo>
                  <a:pt x="2435920" y="61662"/>
                </a:lnTo>
                <a:lnTo>
                  <a:pt x="2437540" y="61674"/>
                </a:lnTo>
                <a:lnTo>
                  <a:pt x="2446317" y="67362"/>
                </a:lnTo>
                <a:lnTo>
                  <a:pt x="2455552" y="67651"/>
                </a:lnTo>
                <a:lnTo>
                  <a:pt x="2450890" y="62912"/>
                </a:lnTo>
                <a:lnTo>
                  <a:pt x="2445935" y="60585"/>
                </a:lnTo>
                <a:lnTo>
                  <a:pt x="2437804" y="5872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SMARTInkShape-299"/>
          <p:cNvSpPr/>
          <p:nvPr/>
        </p:nvSpPr>
        <p:spPr>
          <a:xfrm>
            <a:off x="652320" y="4232160"/>
            <a:ext cx="6705720" cy="14292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706196" h="142876">
                <a:moveTo>
                  <a:pt x="0" y="8930"/>
                </a:moveTo>
                <a:lnTo>
                  <a:pt x="0" y="8930"/>
                </a:lnTo>
                <a:lnTo>
                  <a:pt x="43286" y="8930"/>
                </a:lnTo>
                <a:lnTo>
                  <a:pt x="87221" y="8930"/>
                </a:lnTo>
                <a:lnTo>
                  <a:pt x="105771" y="8930"/>
                </a:lnTo>
                <a:lnTo>
                  <a:pt x="114012" y="15067"/>
                </a:lnTo>
                <a:lnTo>
                  <a:pt x="123371" y="17492"/>
                </a:lnTo>
                <a:lnTo>
                  <a:pt x="134513" y="10744"/>
                </a:lnTo>
                <a:lnTo>
                  <a:pt x="178595" y="8934"/>
                </a:lnTo>
                <a:lnTo>
                  <a:pt x="221093" y="8930"/>
                </a:lnTo>
                <a:lnTo>
                  <a:pt x="261941" y="8930"/>
                </a:lnTo>
                <a:lnTo>
                  <a:pt x="306477" y="8930"/>
                </a:lnTo>
                <a:lnTo>
                  <a:pt x="348258" y="8930"/>
                </a:lnTo>
                <a:lnTo>
                  <a:pt x="360164" y="8930"/>
                </a:lnTo>
                <a:lnTo>
                  <a:pt x="366117" y="6285"/>
                </a:lnTo>
                <a:lnTo>
                  <a:pt x="372071" y="2794"/>
                </a:lnTo>
                <a:lnTo>
                  <a:pt x="383977" y="552"/>
                </a:lnTo>
                <a:lnTo>
                  <a:pt x="428625" y="2"/>
                </a:lnTo>
                <a:lnTo>
                  <a:pt x="473274" y="0"/>
                </a:lnTo>
                <a:lnTo>
                  <a:pt x="517738" y="0"/>
                </a:lnTo>
                <a:lnTo>
                  <a:pt x="560840" y="0"/>
                </a:lnTo>
                <a:lnTo>
                  <a:pt x="605072" y="0"/>
                </a:lnTo>
                <a:lnTo>
                  <a:pt x="649236" y="0"/>
                </a:lnTo>
                <a:lnTo>
                  <a:pt x="674063" y="0"/>
                </a:lnTo>
                <a:lnTo>
                  <a:pt x="679261" y="2646"/>
                </a:lnTo>
                <a:lnTo>
                  <a:pt x="684878" y="6137"/>
                </a:lnTo>
                <a:lnTo>
                  <a:pt x="694787" y="8563"/>
                </a:lnTo>
                <a:lnTo>
                  <a:pt x="738686" y="8930"/>
                </a:lnTo>
                <a:lnTo>
                  <a:pt x="762401" y="8930"/>
                </a:lnTo>
                <a:lnTo>
                  <a:pt x="764252" y="9923"/>
                </a:lnTo>
                <a:lnTo>
                  <a:pt x="765486" y="11576"/>
                </a:lnTo>
                <a:lnTo>
                  <a:pt x="766308" y="13671"/>
                </a:lnTo>
                <a:lnTo>
                  <a:pt x="767849" y="15067"/>
                </a:lnTo>
                <a:lnTo>
                  <a:pt x="772206" y="16618"/>
                </a:lnTo>
                <a:lnTo>
                  <a:pt x="815979" y="17860"/>
                </a:lnTo>
                <a:lnTo>
                  <a:pt x="859329" y="17860"/>
                </a:lnTo>
                <a:lnTo>
                  <a:pt x="883668" y="17860"/>
                </a:lnTo>
                <a:lnTo>
                  <a:pt x="884039" y="26790"/>
                </a:lnTo>
                <a:lnTo>
                  <a:pt x="897709" y="26790"/>
                </a:lnTo>
                <a:lnTo>
                  <a:pt x="899106" y="25797"/>
                </a:lnTo>
                <a:lnTo>
                  <a:pt x="900037" y="24144"/>
                </a:lnTo>
                <a:lnTo>
                  <a:pt x="901531" y="19102"/>
                </a:lnTo>
                <a:lnTo>
                  <a:pt x="904381" y="18412"/>
                </a:lnTo>
                <a:lnTo>
                  <a:pt x="915457" y="17870"/>
                </a:lnTo>
                <a:lnTo>
                  <a:pt x="916891" y="16874"/>
                </a:lnTo>
                <a:lnTo>
                  <a:pt x="917846" y="15219"/>
                </a:lnTo>
                <a:lnTo>
                  <a:pt x="918483" y="13123"/>
                </a:lnTo>
                <a:lnTo>
                  <a:pt x="919900" y="11725"/>
                </a:lnTo>
                <a:lnTo>
                  <a:pt x="927334" y="9298"/>
                </a:lnTo>
                <a:lnTo>
                  <a:pt x="971684" y="8930"/>
                </a:lnTo>
                <a:lnTo>
                  <a:pt x="1004353" y="8930"/>
                </a:lnTo>
                <a:lnTo>
                  <a:pt x="1009611" y="11576"/>
                </a:lnTo>
                <a:lnTo>
                  <a:pt x="1015255" y="15067"/>
                </a:lnTo>
                <a:lnTo>
                  <a:pt x="1026963" y="17308"/>
                </a:lnTo>
                <a:lnTo>
                  <a:pt x="1071562" y="17859"/>
                </a:lnTo>
                <a:lnTo>
                  <a:pt x="1115659" y="17860"/>
                </a:lnTo>
                <a:lnTo>
                  <a:pt x="1159644" y="17860"/>
                </a:lnTo>
                <a:lnTo>
                  <a:pt x="1167926" y="20505"/>
                </a:lnTo>
                <a:lnTo>
                  <a:pt x="1175906" y="23997"/>
                </a:lnTo>
                <a:lnTo>
                  <a:pt x="1198205" y="26422"/>
                </a:lnTo>
                <a:lnTo>
                  <a:pt x="1204908" y="23980"/>
                </a:lnTo>
                <a:lnTo>
                  <a:pt x="1208084" y="21940"/>
                </a:lnTo>
                <a:lnTo>
                  <a:pt x="1222036" y="19069"/>
                </a:lnTo>
                <a:lnTo>
                  <a:pt x="1265450" y="17891"/>
                </a:lnTo>
                <a:lnTo>
                  <a:pt x="1310066" y="17861"/>
                </a:lnTo>
                <a:lnTo>
                  <a:pt x="1352906" y="17860"/>
                </a:lnTo>
                <a:lnTo>
                  <a:pt x="1396663" y="17860"/>
                </a:lnTo>
                <a:lnTo>
                  <a:pt x="1437718" y="17860"/>
                </a:lnTo>
                <a:lnTo>
                  <a:pt x="1479354" y="17860"/>
                </a:lnTo>
                <a:lnTo>
                  <a:pt x="1519909" y="17860"/>
                </a:lnTo>
                <a:lnTo>
                  <a:pt x="1556575" y="17860"/>
                </a:lnTo>
                <a:lnTo>
                  <a:pt x="1597877" y="17860"/>
                </a:lnTo>
                <a:lnTo>
                  <a:pt x="1627117" y="16868"/>
                </a:lnTo>
                <a:lnTo>
                  <a:pt x="1640874" y="11723"/>
                </a:lnTo>
                <a:lnTo>
                  <a:pt x="1681174" y="9176"/>
                </a:lnTo>
                <a:lnTo>
                  <a:pt x="1723396" y="8945"/>
                </a:lnTo>
                <a:lnTo>
                  <a:pt x="1763567" y="8931"/>
                </a:lnTo>
                <a:lnTo>
                  <a:pt x="1802323" y="8930"/>
                </a:lnTo>
                <a:lnTo>
                  <a:pt x="1842032" y="8930"/>
                </a:lnTo>
                <a:lnTo>
                  <a:pt x="1857501" y="9923"/>
                </a:lnTo>
                <a:lnTo>
                  <a:pt x="1901857" y="17308"/>
                </a:lnTo>
                <a:lnTo>
                  <a:pt x="1944796" y="17811"/>
                </a:lnTo>
                <a:lnTo>
                  <a:pt x="1988234" y="17857"/>
                </a:lnTo>
                <a:lnTo>
                  <a:pt x="2031741" y="17860"/>
                </a:lnTo>
                <a:lnTo>
                  <a:pt x="2065239" y="20505"/>
                </a:lnTo>
                <a:lnTo>
                  <a:pt x="2106840" y="26238"/>
                </a:lnTo>
                <a:lnTo>
                  <a:pt x="2145721" y="26741"/>
                </a:lnTo>
                <a:lnTo>
                  <a:pt x="2187218" y="26785"/>
                </a:lnTo>
                <a:lnTo>
                  <a:pt x="2230511" y="26789"/>
                </a:lnTo>
                <a:lnTo>
                  <a:pt x="2270619" y="26790"/>
                </a:lnTo>
                <a:lnTo>
                  <a:pt x="2314869" y="26790"/>
                </a:lnTo>
                <a:lnTo>
                  <a:pt x="2330580" y="27782"/>
                </a:lnTo>
                <a:lnTo>
                  <a:pt x="2370069" y="34892"/>
                </a:lnTo>
                <a:lnTo>
                  <a:pt x="2414133" y="35647"/>
                </a:lnTo>
                <a:lnTo>
                  <a:pt x="2458731" y="35713"/>
                </a:lnTo>
                <a:lnTo>
                  <a:pt x="2503375" y="35719"/>
                </a:lnTo>
                <a:lnTo>
                  <a:pt x="2527016" y="36712"/>
                </a:lnTo>
                <a:lnTo>
                  <a:pt x="2571665" y="43821"/>
                </a:lnTo>
                <a:lnTo>
                  <a:pt x="2616219" y="44600"/>
                </a:lnTo>
                <a:lnTo>
                  <a:pt x="2659169" y="44645"/>
                </a:lnTo>
                <a:lnTo>
                  <a:pt x="2703668" y="44649"/>
                </a:lnTo>
                <a:lnTo>
                  <a:pt x="2748304" y="44649"/>
                </a:lnTo>
                <a:lnTo>
                  <a:pt x="2788530" y="44649"/>
                </a:lnTo>
                <a:lnTo>
                  <a:pt x="2804026" y="45642"/>
                </a:lnTo>
                <a:lnTo>
                  <a:pt x="2843357" y="52751"/>
                </a:lnTo>
                <a:lnTo>
                  <a:pt x="2884778" y="53469"/>
                </a:lnTo>
                <a:lnTo>
                  <a:pt x="2925482" y="53569"/>
                </a:lnTo>
                <a:lnTo>
                  <a:pt x="2969326" y="53578"/>
                </a:lnTo>
                <a:lnTo>
                  <a:pt x="3010956" y="61267"/>
                </a:lnTo>
                <a:lnTo>
                  <a:pt x="3055339" y="62399"/>
                </a:lnTo>
                <a:lnTo>
                  <a:pt x="3095224" y="70187"/>
                </a:lnTo>
                <a:lnTo>
                  <a:pt x="3138997" y="71328"/>
                </a:lnTo>
                <a:lnTo>
                  <a:pt x="3172517" y="74070"/>
                </a:lnTo>
                <a:lnTo>
                  <a:pt x="3216767" y="79815"/>
                </a:lnTo>
                <a:lnTo>
                  <a:pt x="3258734" y="80319"/>
                </a:lnTo>
                <a:lnTo>
                  <a:pt x="3270975" y="81339"/>
                </a:lnTo>
                <a:lnTo>
                  <a:pt x="3313074" y="88468"/>
                </a:lnTo>
                <a:lnTo>
                  <a:pt x="3357499" y="89225"/>
                </a:lnTo>
                <a:lnTo>
                  <a:pt x="3386397" y="91929"/>
                </a:lnTo>
                <a:lnTo>
                  <a:pt x="3431042" y="97674"/>
                </a:lnTo>
                <a:lnTo>
                  <a:pt x="3475690" y="98179"/>
                </a:lnTo>
                <a:lnTo>
                  <a:pt x="3491423" y="99198"/>
                </a:lnTo>
                <a:lnTo>
                  <a:pt x="3536071" y="106327"/>
                </a:lnTo>
                <a:lnTo>
                  <a:pt x="3580720" y="107084"/>
                </a:lnTo>
                <a:lnTo>
                  <a:pt x="3620224" y="108143"/>
                </a:lnTo>
                <a:lnTo>
                  <a:pt x="3664289" y="115259"/>
                </a:lnTo>
                <a:lnTo>
                  <a:pt x="3706231" y="115977"/>
                </a:lnTo>
                <a:lnTo>
                  <a:pt x="3747006" y="123765"/>
                </a:lnTo>
                <a:lnTo>
                  <a:pt x="3790857" y="124906"/>
                </a:lnTo>
                <a:lnTo>
                  <a:pt x="3835435" y="125006"/>
                </a:lnTo>
                <a:lnTo>
                  <a:pt x="3866471" y="126007"/>
                </a:lnTo>
                <a:lnTo>
                  <a:pt x="3911118" y="133118"/>
                </a:lnTo>
                <a:lnTo>
                  <a:pt x="3950622" y="133873"/>
                </a:lnTo>
                <a:lnTo>
                  <a:pt x="3993696" y="133940"/>
                </a:lnTo>
                <a:lnTo>
                  <a:pt x="4036327" y="133945"/>
                </a:lnTo>
                <a:lnTo>
                  <a:pt x="4065087" y="131300"/>
                </a:lnTo>
                <a:lnTo>
                  <a:pt x="4107055" y="125568"/>
                </a:lnTo>
                <a:lnTo>
                  <a:pt x="4145968" y="125065"/>
                </a:lnTo>
                <a:lnTo>
                  <a:pt x="4190113" y="125021"/>
                </a:lnTo>
                <a:lnTo>
                  <a:pt x="4232071" y="125017"/>
                </a:lnTo>
                <a:lnTo>
                  <a:pt x="4274309" y="125016"/>
                </a:lnTo>
                <a:lnTo>
                  <a:pt x="4313007" y="125016"/>
                </a:lnTo>
                <a:lnTo>
                  <a:pt x="4353729" y="117328"/>
                </a:lnTo>
                <a:lnTo>
                  <a:pt x="4395084" y="116196"/>
                </a:lnTo>
                <a:lnTo>
                  <a:pt x="4434703" y="116097"/>
                </a:lnTo>
                <a:lnTo>
                  <a:pt x="4476728" y="107985"/>
                </a:lnTo>
                <a:lnTo>
                  <a:pt x="4518603" y="107230"/>
                </a:lnTo>
                <a:lnTo>
                  <a:pt x="4562907" y="107161"/>
                </a:lnTo>
                <a:lnTo>
                  <a:pt x="4592814" y="106165"/>
                </a:lnTo>
                <a:lnTo>
                  <a:pt x="4628553" y="99055"/>
                </a:lnTo>
                <a:lnTo>
                  <a:pt x="4670410" y="98300"/>
                </a:lnTo>
                <a:lnTo>
                  <a:pt x="4690235" y="97257"/>
                </a:lnTo>
                <a:lnTo>
                  <a:pt x="4732686" y="89850"/>
                </a:lnTo>
                <a:lnTo>
                  <a:pt x="4774403" y="89330"/>
                </a:lnTo>
                <a:lnTo>
                  <a:pt x="4817070" y="89299"/>
                </a:lnTo>
                <a:lnTo>
                  <a:pt x="4861707" y="89297"/>
                </a:lnTo>
                <a:lnTo>
                  <a:pt x="4901962" y="89297"/>
                </a:lnTo>
                <a:lnTo>
                  <a:pt x="4944044" y="89297"/>
                </a:lnTo>
                <a:lnTo>
                  <a:pt x="4985740" y="89297"/>
                </a:lnTo>
                <a:lnTo>
                  <a:pt x="5027414" y="89297"/>
                </a:lnTo>
                <a:lnTo>
                  <a:pt x="5069086" y="89297"/>
                </a:lnTo>
                <a:lnTo>
                  <a:pt x="5112754" y="89297"/>
                </a:lnTo>
                <a:lnTo>
                  <a:pt x="5155600" y="89297"/>
                </a:lnTo>
                <a:lnTo>
                  <a:pt x="5197089" y="89297"/>
                </a:lnTo>
                <a:lnTo>
                  <a:pt x="5238751" y="89297"/>
                </a:lnTo>
                <a:lnTo>
                  <a:pt x="5280422" y="89297"/>
                </a:lnTo>
                <a:lnTo>
                  <a:pt x="5324739" y="89297"/>
                </a:lnTo>
                <a:lnTo>
                  <a:pt x="5369379" y="89297"/>
                </a:lnTo>
                <a:lnTo>
                  <a:pt x="5408123" y="89297"/>
                </a:lnTo>
                <a:lnTo>
                  <a:pt x="5450069" y="89297"/>
                </a:lnTo>
                <a:lnTo>
                  <a:pt x="5494402" y="91943"/>
                </a:lnTo>
                <a:lnTo>
                  <a:pt x="5535855" y="97676"/>
                </a:lnTo>
                <a:lnTo>
                  <a:pt x="5574722" y="98179"/>
                </a:lnTo>
                <a:lnTo>
                  <a:pt x="5616217" y="98223"/>
                </a:lnTo>
                <a:lnTo>
                  <a:pt x="5646465" y="99219"/>
                </a:lnTo>
                <a:lnTo>
                  <a:pt x="5688206" y="106605"/>
                </a:lnTo>
                <a:lnTo>
                  <a:pt x="5729883" y="107125"/>
                </a:lnTo>
                <a:lnTo>
                  <a:pt x="5772547" y="108147"/>
                </a:lnTo>
                <a:lnTo>
                  <a:pt x="5815375" y="115259"/>
                </a:lnTo>
                <a:lnTo>
                  <a:pt x="5857826" y="116038"/>
                </a:lnTo>
                <a:lnTo>
                  <a:pt x="5896235" y="116082"/>
                </a:lnTo>
                <a:lnTo>
                  <a:pt x="5940879" y="116086"/>
                </a:lnTo>
                <a:lnTo>
                  <a:pt x="5967353" y="117079"/>
                </a:lnTo>
                <a:lnTo>
                  <a:pt x="6004661" y="124189"/>
                </a:lnTo>
                <a:lnTo>
                  <a:pt x="6047543" y="124944"/>
                </a:lnTo>
                <a:lnTo>
                  <a:pt x="6090157" y="125010"/>
                </a:lnTo>
                <a:lnTo>
                  <a:pt x="6134527" y="125015"/>
                </a:lnTo>
                <a:lnTo>
                  <a:pt x="6173046" y="125016"/>
                </a:lnTo>
                <a:lnTo>
                  <a:pt x="6214510" y="125016"/>
                </a:lnTo>
                <a:lnTo>
                  <a:pt x="6253379" y="125016"/>
                </a:lnTo>
                <a:lnTo>
                  <a:pt x="6288643" y="126009"/>
                </a:lnTo>
                <a:lnTo>
                  <a:pt x="6331259" y="133118"/>
                </a:lnTo>
                <a:lnTo>
                  <a:pt x="6375629" y="133898"/>
                </a:lnTo>
                <a:lnTo>
                  <a:pt x="6417459" y="133943"/>
                </a:lnTo>
                <a:lnTo>
                  <a:pt x="6460132" y="133946"/>
                </a:lnTo>
                <a:lnTo>
                  <a:pt x="6501970" y="133946"/>
                </a:lnTo>
                <a:lnTo>
                  <a:pt x="6542819" y="133946"/>
                </a:lnTo>
                <a:lnTo>
                  <a:pt x="6581744" y="133946"/>
                </a:lnTo>
                <a:lnTo>
                  <a:pt x="6623749" y="133946"/>
                </a:lnTo>
                <a:lnTo>
                  <a:pt x="6637324" y="133946"/>
                </a:lnTo>
                <a:lnTo>
                  <a:pt x="6643506" y="136591"/>
                </a:lnTo>
                <a:lnTo>
                  <a:pt x="6649559" y="140083"/>
                </a:lnTo>
                <a:lnTo>
                  <a:pt x="6661530" y="142324"/>
                </a:lnTo>
                <a:lnTo>
                  <a:pt x="6673449" y="142766"/>
                </a:lnTo>
                <a:lnTo>
                  <a:pt x="6679405" y="140181"/>
                </a:lnTo>
                <a:lnTo>
                  <a:pt x="6686572" y="135178"/>
                </a:lnTo>
                <a:lnTo>
                  <a:pt x="6697255" y="133947"/>
                </a:lnTo>
                <a:lnTo>
                  <a:pt x="6706163" y="133946"/>
                </a:lnTo>
                <a:lnTo>
                  <a:pt x="6706195" y="142875"/>
                </a:lnTo>
                <a:lnTo>
                  <a:pt x="6701455" y="142875"/>
                </a:lnTo>
                <a:lnTo>
                  <a:pt x="6700057" y="141884"/>
                </a:lnTo>
                <a:lnTo>
                  <a:pt x="6699127" y="140230"/>
                </a:lnTo>
                <a:lnTo>
                  <a:pt x="6697265" y="133947"/>
                </a:lnTo>
                <a:lnTo>
                  <a:pt x="6688335" y="13394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SMARTInkShape-300"/>
          <p:cNvSpPr/>
          <p:nvPr/>
        </p:nvSpPr>
        <p:spPr>
          <a:xfrm>
            <a:off x="517680" y="4660920"/>
            <a:ext cx="1893600" cy="108000"/>
          </a:xfrm>
          <a:custGeom>
            <a:avLst/>
            <a:gdLst>
              <a:gd name="textAreaLeft" fmla="*/ 0 w 1893600"/>
              <a:gd name="textAreaRight" fmla="*/ 1893960 w 18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893093" h="107158">
                <a:moveTo>
                  <a:pt x="62507" y="0"/>
                </a:moveTo>
                <a:lnTo>
                  <a:pt x="62507" y="0"/>
                </a:lnTo>
                <a:lnTo>
                  <a:pt x="23874" y="0"/>
                </a:lnTo>
                <a:lnTo>
                  <a:pt x="17886" y="2646"/>
                </a:lnTo>
                <a:lnTo>
                  <a:pt x="9453" y="8563"/>
                </a:lnTo>
                <a:lnTo>
                  <a:pt x="0" y="8930"/>
                </a:lnTo>
                <a:lnTo>
                  <a:pt x="7687" y="8930"/>
                </a:lnTo>
                <a:lnTo>
                  <a:pt x="15812" y="15067"/>
                </a:lnTo>
                <a:lnTo>
                  <a:pt x="24087" y="17032"/>
                </a:lnTo>
                <a:lnTo>
                  <a:pt x="65740" y="17859"/>
                </a:lnTo>
                <a:lnTo>
                  <a:pt x="109399" y="17860"/>
                </a:lnTo>
                <a:lnTo>
                  <a:pt x="126670" y="17860"/>
                </a:lnTo>
                <a:lnTo>
                  <a:pt x="133357" y="20505"/>
                </a:lnTo>
                <a:lnTo>
                  <a:pt x="136529" y="22600"/>
                </a:lnTo>
                <a:lnTo>
                  <a:pt x="150475" y="25548"/>
                </a:lnTo>
                <a:lnTo>
                  <a:pt x="184459" y="27709"/>
                </a:lnTo>
                <a:lnTo>
                  <a:pt x="211715" y="34469"/>
                </a:lnTo>
                <a:lnTo>
                  <a:pt x="256329" y="35670"/>
                </a:lnTo>
                <a:lnTo>
                  <a:pt x="265728" y="36690"/>
                </a:lnTo>
                <a:lnTo>
                  <a:pt x="306003" y="43820"/>
                </a:lnTo>
                <a:lnTo>
                  <a:pt x="343245" y="44576"/>
                </a:lnTo>
                <a:lnTo>
                  <a:pt x="387112" y="44643"/>
                </a:lnTo>
                <a:lnTo>
                  <a:pt x="429037" y="44648"/>
                </a:lnTo>
                <a:lnTo>
                  <a:pt x="473327" y="51717"/>
                </a:lnTo>
                <a:lnTo>
                  <a:pt x="500077" y="50381"/>
                </a:lnTo>
                <a:lnTo>
                  <a:pt x="544712" y="45404"/>
                </a:lnTo>
                <a:lnTo>
                  <a:pt x="583075" y="44799"/>
                </a:lnTo>
                <a:lnTo>
                  <a:pt x="623836" y="44678"/>
                </a:lnTo>
                <a:lnTo>
                  <a:pt x="666687" y="38518"/>
                </a:lnTo>
                <a:lnTo>
                  <a:pt x="707490" y="36272"/>
                </a:lnTo>
                <a:lnTo>
                  <a:pt x="741769" y="35883"/>
                </a:lnTo>
                <a:lnTo>
                  <a:pt x="777062" y="35768"/>
                </a:lnTo>
                <a:lnTo>
                  <a:pt x="812654" y="38380"/>
                </a:lnTo>
                <a:lnTo>
                  <a:pt x="848335" y="45437"/>
                </a:lnTo>
                <a:lnTo>
                  <a:pt x="886688" y="51166"/>
                </a:lnTo>
                <a:lnTo>
                  <a:pt x="929472" y="55510"/>
                </a:lnTo>
                <a:lnTo>
                  <a:pt x="970922" y="63081"/>
                </a:lnTo>
                <a:lnTo>
                  <a:pt x="1010985" y="68961"/>
                </a:lnTo>
                <a:lnTo>
                  <a:pt x="1054274" y="73350"/>
                </a:lnTo>
                <a:lnTo>
                  <a:pt x="1095874" y="78289"/>
                </a:lnTo>
                <a:lnTo>
                  <a:pt x="1135981" y="82397"/>
                </a:lnTo>
                <a:lnTo>
                  <a:pt x="1179284" y="89899"/>
                </a:lnTo>
                <a:lnTo>
                  <a:pt x="1220888" y="95759"/>
                </a:lnTo>
                <a:lnTo>
                  <a:pt x="1260996" y="97496"/>
                </a:lnTo>
                <a:lnTo>
                  <a:pt x="1301654" y="100657"/>
                </a:lnTo>
                <a:lnTo>
                  <a:pt x="1341482" y="105231"/>
                </a:lnTo>
                <a:lnTo>
                  <a:pt x="1382056" y="106586"/>
                </a:lnTo>
                <a:lnTo>
                  <a:pt x="1419213" y="106988"/>
                </a:lnTo>
                <a:lnTo>
                  <a:pt x="1455358" y="107107"/>
                </a:lnTo>
                <a:lnTo>
                  <a:pt x="1498387" y="107147"/>
                </a:lnTo>
                <a:lnTo>
                  <a:pt x="1542679" y="107156"/>
                </a:lnTo>
                <a:lnTo>
                  <a:pt x="1586999" y="107156"/>
                </a:lnTo>
                <a:lnTo>
                  <a:pt x="1629452" y="107157"/>
                </a:lnTo>
                <a:lnTo>
                  <a:pt x="1668926" y="107157"/>
                </a:lnTo>
                <a:lnTo>
                  <a:pt x="1705386" y="107157"/>
                </a:lnTo>
                <a:lnTo>
                  <a:pt x="1745992" y="102417"/>
                </a:lnTo>
                <a:lnTo>
                  <a:pt x="1785102" y="99055"/>
                </a:lnTo>
                <a:lnTo>
                  <a:pt x="1821491" y="95745"/>
                </a:lnTo>
                <a:lnTo>
                  <a:pt x="1865290" y="90146"/>
                </a:lnTo>
                <a:lnTo>
                  <a:pt x="1893092" y="8929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28" name="SMARTInkShape-Group248"/>
          <p:cNvGrpSpPr/>
          <p:nvPr/>
        </p:nvGrpSpPr>
        <p:grpSpPr>
          <a:xfrm>
            <a:off x="7286760" y="2840040"/>
            <a:ext cx="2081160" cy="1800360"/>
            <a:chOff x="7286760" y="2840040"/>
            <a:chExt cx="2081160" cy="1800360"/>
          </a:xfrm>
        </p:grpSpPr>
        <p:sp>
          <p:nvSpPr>
            <p:cNvPr id="429" name="SMARTInkShape-301"/>
            <p:cNvSpPr/>
            <p:nvPr/>
          </p:nvSpPr>
          <p:spPr>
            <a:xfrm>
              <a:off x="8019360" y="3591000"/>
              <a:ext cx="285480" cy="356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85373" h="356566">
                  <a:moveTo>
                    <a:pt x="26689" y="177972"/>
                  </a:moveTo>
                  <a:lnTo>
                    <a:pt x="26689" y="177972"/>
                  </a:lnTo>
                  <a:lnTo>
                    <a:pt x="3765" y="138242"/>
                  </a:lnTo>
                  <a:lnTo>
                    <a:pt x="0" y="93774"/>
                  </a:lnTo>
                  <a:lnTo>
                    <a:pt x="921" y="77508"/>
                  </a:lnTo>
                  <a:lnTo>
                    <a:pt x="4654" y="69490"/>
                  </a:lnTo>
                  <a:lnTo>
                    <a:pt x="33903" y="40963"/>
                  </a:lnTo>
                  <a:lnTo>
                    <a:pt x="73771" y="20468"/>
                  </a:lnTo>
                  <a:lnTo>
                    <a:pt x="93006" y="12352"/>
                  </a:lnTo>
                  <a:lnTo>
                    <a:pt x="134347" y="4100"/>
                  </a:lnTo>
                  <a:lnTo>
                    <a:pt x="171492" y="0"/>
                  </a:lnTo>
                  <a:lnTo>
                    <a:pt x="213474" y="452"/>
                  </a:lnTo>
                  <a:lnTo>
                    <a:pt x="246466" y="11818"/>
                  </a:lnTo>
                  <a:lnTo>
                    <a:pt x="264534" y="24288"/>
                  </a:lnTo>
                  <a:lnTo>
                    <a:pt x="274943" y="33931"/>
                  </a:lnTo>
                  <a:lnTo>
                    <a:pt x="280892" y="44831"/>
                  </a:lnTo>
                  <a:lnTo>
                    <a:pt x="284710" y="67998"/>
                  </a:lnTo>
                  <a:lnTo>
                    <a:pt x="285372" y="90486"/>
                  </a:lnTo>
                  <a:lnTo>
                    <a:pt x="268833" y="133562"/>
                  </a:lnTo>
                  <a:lnTo>
                    <a:pt x="260316" y="151289"/>
                  </a:lnTo>
                  <a:lnTo>
                    <a:pt x="226899" y="195845"/>
                  </a:lnTo>
                  <a:lnTo>
                    <a:pt x="196324" y="237690"/>
                  </a:lnTo>
                  <a:lnTo>
                    <a:pt x="167500" y="278293"/>
                  </a:lnTo>
                  <a:lnTo>
                    <a:pt x="138178" y="319497"/>
                  </a:lnTo>
                  <a:lnTo>
                    <a:pt x="107056" y="35656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0" name="SMARTInkShape-302"/>
            <p:cNvSpPr/>
            <p:nvPr/>
          </p:nvSpPr>
          <p:spPr>
            <a:xfrm>
              <a:off x="7840440" y="4385520"/>
              <a:ext cx="231480" cy="2548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231637" h="255071">
                  <a:moveTo>
                    <a:pt x="0" y="0"/>
                  </a:moveTo>
                  <a:lnTo>
                    <a:pt x="0" y="0"/>
                  </a:lnTo>
                  <a:lnTo>
                    <a:pt x="0" y="4741"/>
                  </a:lnTo>
                  <a:lnTo>
                    <a:pt x="2646" y="9714"/>
                  </a:lnTo>
                  <a:lnTo>
                    <a:pt x="37881" y="49409"/>
                  </a:lnTo>
                  <a:lnTo>
                    <a:pt x="56865" y="70202"/>
                  </a:lnTo>
                  <a:lnTo>
                    <a:pt x="95086" y="111470"/>
                  </a:lnTo>
                  <a:lnTo>
                    <a:pt x="136048" y="153822"/>
                  </a:lnTo>
                  <a:lnTo>
                    <a:pt x="175279" y="193131"/>
                  </a:lnTo>
                  <a:lnTo>
                    <a:pt x="219911" y="237771"/>
                  </a:lnTo>
                  <a:lnTo>
                    <a:pt x="231636" y="249495"/>
                  </a:lnTo>
                  <a:lnTo>
                    <a:pt x="227272" y="254613"/>
                  </a:lnTo>
                  <a:lnTo>
                    <a:pt x="224937" y="255070"/>
                  </a:lnTo>
                  <a:lnTo>
                    <a:pt x="222388" y="254382"/>
                  </a:lnTo>
                  <a:lnTo>
                    <a:pt x="219697" y="252932"/>
                  </a:lnTo>
                  <a:lnTo>
                    <a:pt x="178594" y="2411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1" name="SMARTInkShape-303"/>
            <p:cNvSpPr/>
            <p:nvPr/>
          </p:nvSpPr>
          <p:spPr>
            <a:xfrm>
              <a:off x="8046000" y="3831480"/>
              <a:ext cx="231840" cy="2678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32017" h="267765">
                  <a:moveTo>
                    <a:pt x="0" y="0"/>
                  </a:moveTo>
                  <a:lnTo>
                    <a:pt x="0" y="0"/>
                  </a:lnTo>
                  <a:lnTo>
                    <a:pt x="20737" y="18091"/>
                  </a:lnTo>
                  <a:lnTo>
                    <a:pt x="30053" y="24908"/>
                  </a:lnTo>
                  <a:lnTo>
                    <a:pt x="46763" y="42807"/>
                  </a:lnTo>
                  <a:lnTo>
                    <a:pt x="57495" y="51767"/>
                  </a:lnTo>
                  <a:lnTo>
                    <a:pt x="91363" y="91722"/>
                  </a:lnTo>
                  <a:lnTo>
                    <a:pt x="123651" y="132188"/>
                  </a:lnTo>
                  <a:lnTo>
                    <a:pt x="157899" y="171535"/>
                  </a:lnTo>
                  <a:lnTo>
                    <a:pt x="175462" y="197631"/>
                  </a:lnTo>
                  <a:lnTo>
                    <a:pt x="194365" y="216015"/>
                  </a:lnTo>
                  <a:lnTo>
                    <a:pt x="217166" y="251343"/>
                  </a:lnTo>
                  <a:lnTo>
                    <a:pt x="223188" y="255575"/>
                  </a:lnTo>
                  <a:lnTo>
                    <a:pt x="226182" y="256704"/>
                  </a:lnTo>
                  <a:lnTo>
                    <a:pt x="228179" y="258449"/>
                  </a:lnTo>
                  <a:lnTo>
                    <a:pt x="232016" y="267464"/>
                  </a:lnTo>
                  <a:lnTo>
                    <a:pt x="227386" y="267764"/>
                  </a:lnTo>
                  <a:lnTo>
                    <a:pt x="222438" y="265188"/>
                  </a:lnTo>
                  <a:lnTo>
                    <a:pt x="211177" y="255450"/>
                  </a:lnTo>
                  <a:lnTo>
                    <a:pt x="183362" y="212757"/>
                  </a:lnTo>
                  <a:lnTo>
                    <a:pt x="157855" y="175641"/>
                  </a:lnTo>
                  <a:lnTo>
                    <a:pt x="133945" y="1428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2" name="SMARTInkShape-304"/>
            <p:cNvSpPr/>
            <p:nvPr/>
          </p:nvSpPr>
          <p:spPr>
            <a:xfrm>
              <a:off x="7545600" y="3769200"/>
              <a:ext cx="428400" cy="2674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428428" h="267642">
                  <a:moveTo>
                    <a:pt x="0" y="249908"/>
                  </a:moveTo>
                  <a:lnTo>
                    <a:pt x="0" y="249908"/>
                  </a:lnTo>
                  <a:lnTo>
                    <a:pt x="4741" y="245168"/>
                  </a:lnTo>
                  <a:lnTo>
                    <a:pt x="9714" y="242840"/>
                  </a:lnTo>
                  <a:lnTo>
                    <a:pt x="12429" y="242220"/>
                  </a:lnTo>
                  <a:lnTo>
                    <a:pt x="20991" y="236606"/>
                  </a:lnTo>
                  <a:lnTo>
                    <a:pt x="61084" y="204811"/>
                  </a:lnTo>
                  <a:lnTo>
                    <a:pt x="100817" y="180938"/>
                  </a:lnTo>
                  <a:lnTo>
                    <a:pt x="144017" y="149392"/>
                  </a:lnTo>
                  <a:lnTo>
                    <a:pt x="187674" y="126588"/>
                  </a:lnTo>
                  <a:lnTo>
                    <a:pt x="225124" y="100581"/>
                  </a:lnTo>
                  <a:lnTo>
                    <a:pt x="267272" y="80461"/>
                  </a:lnTo>
                  <a:lnTo>
                    <a:pt x="277537" y="74387"/>
                  </a:lnTo>
                  <a:lnTo>
                    <a:pt x="284309" y="66382"/>
                  </a:lnTo>
                  <a:lnTo>
                    <a:pt x="289410" y="64161"/>
                  </a:lnTo>
                  <a:lnTo>
                    <a:pt x="292158" y="64561"/>
                  </a:lnTo>
                  <a:lnTo>
                    <a:pt x="301906" y="70229"/>
                  </a:lnTo>
                  <a:lnTo>
                    <a:pt x="302852" y="73478"/>
                  </a:lnTo>
                  <a:lnTo>
                    <a:pt x="303460" y="83648"/>
                  </a:lnTo>
                  <a:lnTo>
                    <a:pt x="292579" y="125142"/>
                  </a:lnTo>
                  <a:lnTo>
                    <a:pt x="287773" y="142826"/>
                  </a:lnTo>
                  <a:lnTo>
                    <a:pt x="285870" y="184428"/>
                  </a:lnTo>
                  <a:lnTo>
                    <a:pt x="286767" y="208237"/>
                  </a:lnTo>
                  <a:lnTo>
                    <a:pt x="296776" y="247262"/>
                  </a:lnTo>
                  <a:lnTo>
                    <a:pt x="307950" y="262901"/>
                  </a:lnTo>
                  <a:lnTo>
                    <a:pt x="313146" y="265605"/>
                  </a:lnTo>
                  <a:lnTo>
                    <a:pt x="330452" y="267578"/>
                  </a:lnTo>
                  <a:lnTo>
                    <a:pt x="333412" y="267641"/>
                  </a:lnTo>
                  <a:lnTo>
                    <a:pt x="339345" y="265065"/>
                  </a:lnTo>
                  <a:lnTo>
                    <a:pt x="373835" y="233215"/>
                  </a:lnTo>
                  <a:lnTo>
                    <a:pt x="399608" y="193247"/>
                  </a:lnTo>
                  <a:lnTo>
                    <a:pt x="412862" y="174471"/>
                  </a:lnTo>
                  <a:lnTo>
                    <a:pt x="425232" y="131671"/>
                  </a:lnTo>
                  <a:lnTo>
                    <a:pt x="428427" y="89222"/>
                  </a:lnTo>
                  <a:lnTo>
                    <a:pt x="427545" y="77289"/>
                  </a:lnTo>
                  <a:lnTo>
                    <a:pt x="416186" y="47505"/>
                  </a:lnTo>
                  <a:lnTo>
                    <a:pt x="407882" y="38243"/>
                  </a:lnTo>
                  <a:lnTo>
                    <a:pt x="368926" y="14915"/>
                  </a:lnTo>
                  <a:lnTo>
                    <a:pt x="328530" y="1977"/>
                  </a:lnTo>
                  <a:lnTo>
                    <a:pt x="293358" y="0"/>
                  </a:lnTo>
                  <a:lnTo>
                    <a:pt x="286486" y="2577"/>
                  </a:lnTo>
                  <a:lnTo>
                    <a:pt x="276820" y="88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3" name="SMARTInkShape-305"/>
            <p:cNvSpPr/>
            <p:nvPr/>
          </p:nvSpPr>
          <p:spPr>
            <a:xfrm>
              <a:off x="7509960" y="3777840"/>
              <a:ext cx="241200" cy="3034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241103" h="303611">
                  <a:moveTo>
                    <a:pt x="0" y="0"/>
                  </a:moveTo>
                  <a:lnTo>
                    <a:pt x="0" y="0"/>
                  </a:lnTo>
                  <a:lnTo>
                    <a:pt x="35626" y="38271"/>
                  </a:lnTo>
                  <a:lnTo>
                    <a:pt x="56550" y="65112"/>
                  </a:lnTo>
                  <a:lnTo>
                    <a:pt x="95814" y="107374"/>
                  </a:lnTo>
                  <a:lnTo>
                    <a:pt x="125588" y="145540"/>
                  </a:lnTo>
                  <a:lnTo>
                    <a:pt x="153717" y="186974"/>
                  </a:lnTo>
                  <a:lnTo>
                    <a:pt x="185901" y="229164"/>
                  </a:lnTo>
                  <a:lnTo>
                    <a:pt x="221201" y="268442"/>
                  </a:lnTo>
                  <a:lnTo>
                    <a:pt x="238277" y="293945"/>
                  </a:lnTo>
                  <a:lnTo>
                    <a:pt x="241102" y="3036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4" name="SMARTInkShape-306"/>
            <p:cNvSpPr/>
            <p:nvPr/>
          </p:nvSpPr>
          <p:spPr>
            <a:xfrm>
              <a:off x="7286760" y="3894120"/>
              <a:ext cx="265680" cy="3823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65852" h="382164">
                  <a:moveTo>
                    <a:pt x="71424" y="0"/>
                  </a:moveTo>
                  <a:lnTo>
                    <a:pt x="71424" y="0"/>
                  </a:lnTo>
                  <a:lnTo>
                    <a:pt x="57166" y="6138"/>
                  </a:lnTo>
                  <a:lnTo>
                    <a:pt x="41954" y="9095"/>
                  </a:lnTo>
                  <a:lnTo>
                    <a:pt x="30722" y="15814"/>
                  </a:lnTo>
                  <a:lnTo>
                    <a:pt x="21111" y="23097"/>
                  </a:lnTo>
                  <a:lnTo>
                    <a:pt x="8973" y="28706"/>
                  </a:lnTo>
                  <a:lnTo>
                    <a:pt x="1762" y="34334"/>
                  </a:lnTo>
                  <a:lnTo>
                    <a:pt x="775" y="37750"/>
                  </a:lnTo>
                  <a:lnTo>
                    <a:pt x="0" y="49270"/>
                  </a:lnTo>
                  <a:lnTo>
                    <a:pt x="988" y="50707"/>
                  </a:lnTo>
                  <a:lnTo>
                    <a:pt x="2639" y="51663"/>
                  </a:lnTo>
                  <a:lnTo>
                    <a:pt x="4731" y="52302"/>
                  </a:lnTo>
                  <a:lnTo>
                    <a:pt x="18080" y="60478"/>
                  </a:lnTo>
                  <a:lnTo>
                    <a:pt x="48797" y="62429"/>
                  </a:lnTo>
                  <a:lnTo>
                    <a:pt x="89571" y="62502"/>
                  </a:lnTo>
                  <a:lnTo>
                    <a:pt x="118188" y="65153"/>
                  </a:lnTo>
                  <a:lnTo>
                    <a:pt x="162769" y="73532"/>
                  </a:lnTo>
                  <a:lnTo>
                    <a:pt x="204766" y="89481"/>
                  </a:lnTo>
                  <a:lnTo>
                    <a:pt x="223049" y="100928"/>
                  </a:lnTo>
                  <a:lnTo>
                    <a:pt x="247005" y="122573"/>
                  </a:lnTo>
                  <a:lnTo>
                    <a:pt x="253640" y="134183"/>
                  </a:lnTo>
                  <a:lnTo>
                    <a:pt x="264386" y="170871"/>
                  </a:lnTo>
                  <a:lnTo>
                    <a:pt x="265851" y="196811"/>
                  </a:lnTo>
                  <a:lnTo>
                    <a:pt x="257960" y="234889"/>
                  </a:lnTo>
                  <a:lnTo>
                    <a:pt x="247079" y="266050"/>
                  </a:lnTo>
                  <a:lnTo>
                    <a:pt x="230365" y="303246"/>
                  </a:lnTo>
                  <a:lnTo>
                    <a:pt x="218463" y="318662"/>
                  </a:lnTo>
                  <a:lnTo>
                    <a:pt x="178945" y="354296"/>
                  </a:lnTo>
                  <a:lnTo>
                    <a:pt x="136930" y="377855"/>
                  </a:lnTo>
                  <a:lnTo>
                    <a:pt x="119055" y="382163"/>
                  </a:lnTo>
                  <a:lnTo>
                    <a:pt x="109791" y="380525"/>
                  </a:lnTo>
                  <a:lnTo>
                    <a:pt x="91019" y="371389"/>
                  </a:lnTo>
                  <a:lnTo>
                    <a:pt x="82449" y="363169"/>
                  </a:lnTo>
                  <a:lnTo>
                    <a:pt x="71424" y="34825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5" name="SMARTInkShape-307"/>
            <p:cNvSpPr/>
            <p:nvPr/>
          </p:nvSpPr>
          <p:spPr>
            <a:xfrm>
              <a:off x="7638840" y="4171320"/>
              <a:ext cx="342720" cy="3301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42879" h="330161">
                  <a:moveTo>
                    <a:pt x="13829" y="249793"/>
                  </a:moveTo>
                  <a:lnTo>
                    <a:pt x="13829" y="249793"/>
                  </a:lnTo>
                  <a:lnTo>
                    <a:pt x="6142" y="242105"/>
                  </a:lnTo>
                  <a:lnTo>
                    <a:pt x="527" y="231750"/>
                  </a:lnTo>
                  <a:lnTo>
                    <a:pt x="0" y="227843"/>
                  </a:lnTo>
                  <a:lnTo>
                    <a:pt x="9390" y="189812"/>
                  </a:lnTo>
                  <a:lnTo>
                    <a:pt x="21075" y="166361"/>
                  </a:lnTo>
                  <a:lnTo>
                    <a:pt x="58729" y="124772"/>
                  </a:lnTo>
                  <a:lnTo>
                    <a:pt x="101286" y="81990"/>
                  </a:lnTo>
                  <a:lnTo>
                    <a:pt x="140771" y="50608"/>
                  </a:lnTo>
                  <a:lnTo>
                    <a:pt x="179170" y="29245"/>
                  </a:lnTo>
                  <a:lnTo>
                    <a:pt x="215933" y="15177"/>
                  </a:lnTo>
                  <a:lnTo>
                    <a:pt x="256361" y="2478"/>
                  </a:lnTo>
                  <a:lnTo>
                    <a:pt x="298922" y="0"/>
                  </a:lnTo>
                  <a:lnTo>
                    <a:pt x="310201" y="860"/>
                  </a:lnTo>
                  <a:lnTo>
                    <a:pt x="318522" y="4549"/>
                  </a:lnTo>
                  <a:lnTo>
                    <a:pt x="328784" y="12205"/>
                  </a:lnTo>
                  <a:lnTo>
                    <a:pt x="338109" y="25497"/>
                  </a:lnTo>
                  <a:lnTo>
                    <a:pt x="342415" y="42003"/>
                  </a:lnTo>
                  <a:lnTo>
                    <a:pt x="342878" y="66351"/>
                  </a:lnTo>
                  <a:lnTo>
                    <a:pt x="334444" y="101440"/>
                  </a:lnTo>
                  <a:lnTo>
                    <a:pt x="323224" y="141554"/>
                  </a:lnTo>
                  <a:lnTo>
                    <a:pt x="311453" y="184279"/>
                  </a:lnTo>
                  <a:lnTo>
                    <a:pt x="299573" y="222410"/>
                  </a:lnTo>
                  <a:lnTo>
                    <a:pt x="287672" y="258606"/>
                  </a:lnTo>
                  <a:lnTo>
                    <a:pt x="282504" y="300710"/>
                  </a:lnTo>
                  <a:lnTo>
                    <a:pt x="281076" y="313103"/>
                  </a:lnTo>
                  <a:lnTo>
                    <a:pt x="272790" y="33016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6" name="SMARTInkShape-308"/>
            <p:cNvSpPr/>
            <p:nvPr/>
          </p:nvSpPr>
          <p:spPr>
            <a:xfrm>
              <a:off x="8072640" y="4278600"/>
              <a:ext cx="241200" cy="169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41102" h="169215">
                  <a:moveTo>
                    <a:pt x="0" y="169214"/>
                  </a:moveTo>
                  <a:lnTo>
                    <a:pt x="0" y="169214"/>
                  </a:lnTo>
                  <a:lnTo>
                    <a:pt x="29553" y="169214"/>
                  </a:lnTo>
                  <a:lnTo>
                    <a:pt x="35625" y="166568"/>
                  </a:lnTo>
                  <a:lnTo>
                    <a:pt x="41630" y="163077"/>
                  </a:lnTo>
                  <a:lnTo>
                    <a:pt x="50589" y="160120"/>
                  </a:lnTo>
                  <a:lnTo>
                    <a:pt x="60742" y="152705"/>
                  </a:lnTo>
                  <a:lnTo>
                    <a:pt x="61724" y="149309"/>
                  </a:lnTo>
                  <a:lnTo>
                    <a:pt x="61986" y="147014"/>
                  </a:lnTo>
                  <a:lnTo>
                    <a:pt x="63152" y="145484"/>
                  </a:lnTo>
                  <a:lnTo>
                    <a:pt x="67093" y="143785"/>
                  </a:lnTo>
                  <a:lnTo>
                    <a:pt x="68542" y="142340"/>
                  </a:lnTo>
                  <a:lnTo>
                    <a:pt x="78335" y="117318"/>
                  </a:lnTo>
                  <a:lnTo>
                    <a:pt x="88391" y="76658"/>
                  </a:lnTo>
                  <a:lnTo>
                    <a:pt x="88036" y="58998"/>
                  </a:lnTo>
                  <a:lnTo>
                    <a:pt x="82089" y="42189"/>
                  </a:lnTo>
                  <a:lnTo>
                    <a:pt x="65375" y="15588"/>
                  </a:lnTo>
                  <a:lnTo>
                    <a:pt x="47615" y="2967"/>
                  </a:lnTo>
                  <a:lnTo>
                    <a:pt x="38692" y="562"/>
                  </a:lnTo>
                  <a:lnTo>
                    <a:pt x="32741" y="0"/>
                  </a:lnTo>
                  <a:lnTo>
                    <a:pt x="26788" y="2396"/>
                  </a:lnTo>
                  <a:lnTo>
                    <a:pt x="20836" y="5776"/>
                  </a:lnTo>
                  <a:lnTo>
                    <a:pt x="14883" y="7278"/>
                  </a:lnTo>
                  <a:lnTo>
                    <a:pt x="12898" y="8671"/>
                  </a:lnTo>
                  <a:lnTo>
                    <a:pt x="11577" y="10591"/>
                  </a:lnTo>
                  <a:lnTo>
                    <a:pt x="10106" y="15372"/>
                  </a:lnTo>
                  <a:lnTo>
                    <a:pt x="8943" y="51927"/>
                  </a:lnTo>
                  <a:lnTo>
                    <a:pt x="11582" y="60201"/>
                  </a:lnTo>
                  <a:lnTo>
                    <a:pt x="33837" y="100037"/>
                  </a:lnTo>
                  <a:lnTo>
                    <a:pt x="77313" y="138525"/>
                  </a:lnTo>
                  <a:lnTo>
                    <a:pt x="116256" y="160231"/>
                  </a:lnTo>
                  <a:lnTo>
                    <a:pt x="128068" y="165221"/>
                  </a:lnTo>
                  <a:lnTo>
                    <a:pt x="153028" y="168688"/>
                  </a:lnTo>
                  <a:lnTo>
                    <a:pt x="173471" y="161981"/>
                  </a:lnTo>
                  <a:lnTo>
                    <a:pt x="211715" y="142351"/>
                  </a:lnTo>
                  <a:lnTo>
                    <a:pt x="219112" y="135447"/>
                  </a:lnTo>
                  <a:lnTo>
                    <a:pt x="241101" y="1067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7" name="SMARTInkShape-309"/>
            <p:cNvSpPr/>
            <p:nvPr/>
          </p:nvSpPr>
          <p:spPr>
            <a:xfrm>
              <a:off x="8260560" y="4108320"/>
              <a:ext cx="97920" cy="1962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98071" h="196450">
                  <a:moveTo>
                    <a:pt x="26633" y="169664"/>
                  </a:moveTo>
                  <a:lnTo>
                    <a:pt x="26633" y="169664"/>
                  </a:lnTo>
                  <a:lnTo>
                    <a:pt x="40891" y="163527"/>
                  </a:lnTo>
                  <a:lnTo>
                    <a:pt x="59134" y="161102"/>
                  </a:lnTo>
                  <a:lnTo>
                    <a:pt x="60207" y="161972"/>
                  </a:lnTo>
                  <a:lnTo>
                    <a:pt x="61399" y="165584"/>
                  </a:lnTo>
                  <a:lnTo>
                    <a:pt x="61716" y="165952"/>
                  </a:lnTo>
                  <a:lnTo>
                    <a:pt x="62070" y="163715"/>
                  </a:lnTo>
                  <a:lnTo>
                    <a:pt x="63157" y="162721"/>
                  </a:lnTo>
                  <a:lnTo>
                    <a:pt x="67009" y="161618"/>
                  </a:lnTo>
                  <a:lnTo>
                    <a:pt x="68432" y="162316"/>
                  </a:lnTo>
                  <a:lnTo>
                    <a:pt x="69383" y="163772"/>
                  </a:lnTo>
                  <a:lnTo>
                    <a:pt x="70017" y="165736"/>
                  </a:lnTo>
                  <a:lnTo>
                    <a:pt x="71430" y="167046"/>
                  </a:lnTo>
                  <a:lnTo>
                    <a:pt x="78859" y="169319"/>
                  </a:lnTo>
                  <a:lnTo>
                    <a:pt x="79611" y="172157"/>
                  </a:lnTo>
                  <a:lnTo>
                    <a:pt x="79811" y="174302"/>
                  </a:lnTo>
                  <a:lnTo>
                    <a:pt x="80937" y="175733"/>
                  </a:lnTo>
                  <a:lnTo>
                    <a:pt x="89283" y="179335"/>
                  </a:lnTo>
                  <a:lnTo>
                    <a:pt x="93504" y="183223"/>
                  </a:lnTo>
                  <a:lnTo>
                    <a:pt x="96041" y="188258"/>
                  </a:lnTo>
                  <a:lnTo>
                    <a:pt x="98070" y="196448"/>
                  </a:lnTo>
                  <a:lnTo>
                    <a:pt x="98070" y="196449"/>
                  </a:lnTo>
                  <a:lnTo>
                    <a:pt x="93331" y="191711"/>
                  </a:lnTo>
                  <a:lnTo>
                    <a:pt x="88357" y="189384"/>
                  </a:lnTo>
                  <a:lnTo>
                    <a:pt x="85643" y="188764"/>
                  </a:lnTo>
                  <a:lnTo>
                    <a:pt x="77081" y="183151"/>
                  </a:lnTo>
                  <a:lnTo>
                    <a:pt x="37971" y="142588"/>
                  </a:lnTo>
                  <a:lnTo>
                    <a:pt x="8837" y="100313"/>
                  </a:lnTo>
                  <a:lnTo>
                    <a:pt x="5840" y="96641"/>
                  </a:lnTo>
                  <a:lnTo>
                    <a:pt x="2509" y="87269"/>
                  </a:lnTo>
                  <a:lnTo>
                    <a:pt x="0" y="55195"/>
                  </a:lnTo>
                  <a:lnTo>
                    <a:pt x="4631" y="38293"/>
                  </a:lnTo>
                  <a:lnTo>
                    <a:pt x="15296" y="15944"/>
                  </a:lnTo>
                  <a:lnTo>
                    <a:pt x="1770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8" name="SMARTInkShape-310"/>
            <p:cNvSpPr/>
            <p:nvPr/>
          </p:nvSpPr>
          <p:spPr>
            <a:xfrm>
              <a:off x="8341920" y="4019040"/>
              <a:ext cx="166680" cy="2322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166658" h="232173">
                  <a:moveTo>
                    <a:pt x="7689" y="0"/>
                  </a:moveTo>
                  <a:lnTo>
                    <a:pt x="7689" y="0"/>
                  </a:lnTo>
                  <a:lnTo>
                    <a:pt x="6698" y="41867"/>
                  </a:lnTo>
                  <a:lnTo>
                    <a:pt x="0" y="64138"/>
                  </a:lnTo>
                  <a:lnTo>
                    <a:pt x="579" y="67564"/>
                  </a:lnTo>
                  <a:lnTo>
                    <a:pt x="5991" y="82836"/>
                  </a:lnTo>
                  <a:lnTo>
                    <a:pt x="7591" y="105015"/>
                  </a:lnTo>
                  <a:lnTo>
                    <a:pt x="12400" y="111262"/>
                  </a:lnTo>
                  <a:lnTo>
                    <a:pt x="17390" y="113942"/>
                  </a:lnTo>
                  <a:lnTo>
                    <a:pt x="27479" y="115898"/>
                  </a:lnTo>
                  <a:lnTo>
                    <a:pt x="29812" y="115960"/>
                  </a:lnTo>
                  <a:lnTo>
                    <a:pt x="35050" y="113385"/>
                  </a:lnTo>
                  <a:lnTo>
                    <a:pt x="40685" y="109924"/>
                  </a:lnTo>
                  <a:lnTo>
                    <a:pt x="49437" y="106984"/>
                  </a:lnTo>
                  <a:lnTo>
                    <a:pt x="68220" y="92989"/>
                  </a:lnTo>
                  <a:lnTo>
                    <a:pt x="86196" y="87381"/>
                  </a:lnTo>
                  <a:lnTo>
                    <a:pt x="93183" y="83484"/>
                  </a:lnTo>
                  <a:lnTo>
                    <a:pt x="103687" y="81291"/>
                  </a:lnTo>
                  <a:lnTo>
                    <a:pt x="144499" y="80378"/>
                  </a:lnTo>
                  <a:lnTo>
                    <a:pt x="147513" y="82359"/>
                  </a:lnTo>
                  <a:lnTo>
                    <a:pt x="164448" y="103701"/>
                  </a:lnTo>
                  <a:lnTo>
                    <a:pt x="166657" y="109920"/>
                  </a:lnTo>
                  <a:lnTo>
                    <a:pt x="164993" y="118637"/>
                  </a:lnTo>
                  <a:lnTo>
                    <a:pt x="161123" y="134701"/>
                  </a:lnTo>
                  <a:lnTo>
                    <a:pt x="157330" y="152029"/>
                  </a:lnTo>
                  <a:lnTo>
                    <a:pt x="138531" y="196438"/>
                  </a:lnTo>
                  <a:lnTo>
                    <a:pt x="126404" y="220986"/>
                  </a:lnTo>
                  <a:lnTo>
                    <a:pt x="123775" y="23217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9" name="SMARTInkShape-311"/>
            <p:cNvSpPr/>
            <p:nvPr/>
          </p:nvSpPr>
          <p:spPr>
            <a:xfrm>
              <a:off x="8653320" y="3492000"/>
              <a:ext cx="303480" cy="20376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303611" h="203981">
                  <a:moveTo>
                    <a:pt x="0" y="71434"/>
                  </a:moveTo>
                  <a:lnTo>
                    <a:pt x="0" y="71434"/>
                  </a:lnTo>
                  <a:lnTo>
                    <a:pt x="4741" y="76175"/>
                  </a:lnTo>
                  <a:lnTo>
                    <a:pt x="7069" y="81148"/>
                  </a:lnTo>
                  <a:lnTo>
                    <a:pt x="7690" y="83863"/>
                  </a:lnTo>
                  <a:lnTo>
                    <a:pt x="9096" y="85673"/>
                  </a:lnTo>
                  <a:lnTo>
                    <a:pt x="26974" y="96149"/>
                  </a:lnTo>
                  <a:lnTo>
                    <a:pt x="29889" y="96840"/>
                  </a:lnTo>
                  <a:lnTo>
                    <a:pt x="38733" y="102554"/>
                  </a:lnTo>
                  <a:lnTo>
                    <a:pt x="69454" y="139674"/>
                  </a:lnTo>
                  <a:lnTo>
                    <a:pt x="83529" y="149751"/>
                  </a:lnTo>
                  <a:lnTo>
                    <a:pt x="100323" y="167786"/>
                  </a:lnTo>
                  <a:lnTo>
                    <a:pt x="133767" y="193755"/>
                  </a:lnTo>
                  <a:lnTo>
                    <a:pt x="157719" y="203980"/>
                  </a:lnTo>
                  <a:lnTo>
                    <a:pt x="159716" y="203455"/>
                  </a:lnTo>
                  <a:lnTo>
                    <a:pt x="167268" y="198966"/>
                  </a:lnTo>
                  <a:lnTo>
                    <a:pt x="178710" y="196947"/>
                  </a:lnTo>
                  <a:lnTo>
                    <a:pt x="190524" y="196548"/>
                  </a:lnTo>
                  <a:lnTo>
                    <a:pt x="192500" y="195523"/>
                  </a:lnTo>
                  <a:lnTo>
                    <a:pt x="193818" y="193847"/>
                  </a:lnTo>
                  <a:lnTo>
                    <a:pt x="196275" y="189340"/>
                  </a:lnTo>
                  <a:lnTo>
                    <a:pt x="203986" y="180202"/>
                  </a:lnTo>
                  <a:lnTo>
                    <a:pt x="204971" y="174328"/>
                  </a:lnTo>
                  <a:lnTo>
                    <a:pt x="205260" y="161563"/>
                  </a:lnTo>
                  <a:lnTo>
                    <a:pt x="202683" y="153494"/>
                  </a:lnTo>
                  <a:lnTo>
                    <a:pt x="181466" y="112824"/>
                  </a:lnTo>
                  <a:lnTo>
                    <a:pt x="166999" y="89238"/>
                  </a:lnTo>
                  <a:lnTo>
                    <a:pt x="140780" y="56216"/>
                  </a:lnTo>
                  <a:lnTo>
                    <a:pt x="131030" y="47804"/>
                  </a:lnTo>
                  <a:lnTo>
                    <a:pt x="114041" y="28880"/>
                  </a:lnTo>
                  <a:lnTo>
                    <a:pt x="89902" y="11756"/>
                  </a:lnTo>
                  <a:lnTo>
                    <a:pt x="83612" y="9192"/>
                  </a:lnTo>
                  <a:lnTo>
                    <a:pt x="74494" y="3162"/>
                  </a:lnTo>
                  <a:lnTo>
                    <a:pt x="62555" y="7"/>
                  </a:lnTo>
                  <a:lnTo>
                    <a:pt x="67262" y="0"/>
                  </a:lnTo>
                  <a:lnTo>
                    <a:pt x="68654" y="991"/>
                  </a:lnTo>
                  <a:lnTo>
                    <a:pt x="69582" y="2644"/>
                  </a:lnTo>
                  <a:lnTo>
                    <a:pt x="70201" y="4738"/>
                  </a:lnTo>
                  <a:lnTo>
                    <a:pt x="75811" y="12426"/>
                  </a:lnTo>
                  <a:lnTo>
                    <a:pt x="80989" y="15443"/>
                  </a:lnTo>
                  <a:lnTo>
                    <a:pt x="86597" y="17775"/>
                  </a:lnTo>
                  <a:lnTo>
                    <a:pt x="127116" y="53073"/>
                  </a:lnTo>
                  <a:lnTo>
                    <a:pt x="171581" y="80350"/>
                  </a:lnTo>
                  <a:lnTo>
                    <a:pt x="211228" y="103184"/>
                  </a:lnTo>
                  <a:lnTo>
                    <a:pt x="243338" y="106805"/>
                  </a:lnTo>
                  <a:lnTo>
                    <a:pt x="278411" y="107139"/>
                  </a:lnTo>
                  <a:lnTo>
                    <a:pt x="285136" y="104501"/>
                  </a:lnTo>
                  <a:lnTo>
                    <a:pt x="303610" y="892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0" name="SMARTInkShape-312"/>
            <p:cNvSpPr/>
            <p:nvPr/>
          </p:nvSpPr>
          <p:spPr>
            <a:xfrm>
              <a:off x="8442720" y="3876480"/>
              <a:ext cx="210240" cy="204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0506" h="204969">
                  <a:moveTo>
                    <a:pt x="31912" y="204968"/>
                  </a:moveTo>
                  <a:lnTo>
                    <a:pt x="31912" y="204968"/>
                  </a:lnTo>
                  <a:lnTo>
                    <a:pt x="47143" y="190729"/>
                  </a:lnTo>
                  <a:lnTo>
                    <a:pt x="52902" y="188718"/>
                  </a:lnTo>
                  <a:lnTo>
                    <a:pt x="54836" y="187189"/>
                  </a:lnTo>
                  <a:lnTo>
                    <a:pt x="56983" y="182845"/>
                  </a:lnTo>
                  <a:lnTo>
                    <a:pt x="67249" y="139842"/>
                  </a:lnTo>
                  <a:lnTo>
                    <a:pt x="66562" y="120519"/>
                  </a:lnTo>
                  <a:lnTo>
                    <a:pt x="59522" y="91946"/>
                  </a:lnTo>
                  <a:lnTo>
                    <a:pt x="57952" y="76120"/>
                  </a:lnTo>
                  <a:lnTo>
                    <a:pt x="43490" y="42174"/>
                  </a:lnTo>
                  <a:lnTo>
                    <a:pt x="15813" y="10323"/>
                  </a:lnTo>
                  <a:lnTo>
                    <a:pt x="14834" y="6673"/>
                  </a:lnTo>
                  <a:lnTo>
                    <a:pt x="14573" y="4310"/>
                  </a:lnTo>
                  <a:lnTo>
                    <a:pt x="13408" y="2736"/>
                  </a:lnTo>
                  <a:lnTo>
                    <a:pt x="6409" y="0"/>
                  </a:lnTo>
                  <a:lnTo>
                    <a:pt x="5981" y="854"/>
                  </a:lnTo>
                  <a:lnTo>
                    <a:pt x="5236" y="7310"/>
                  </a:lnTo>
                  <a:lnTo>
                    <a:pt x="416" y="12898"/>
                  </a:lnTo>
                  <a:lnTo>
                    <a:pt x="0" y="16398"/>
                  </a:lnTo>
                  <a:lnTo>
                    <a:pt x="7381" y="46383"/>
                  </a:lnTo>
                  <a:lnTo>
                    <a:pt x="23593" y="89490"/>
                  </a:lnTo>
                  <a:lnTo>
                    <a:pt x="49787" y="131452"/>
                  </a:lnTo>
                  <a:lnTo>
                    <a:pt x="52759" y="135121"/>
                  </a:lnTo>
                  <a:lnTo>
                    <a:pt x="61351" y="139198"/>
                  </a:lnTo>
                  <a:lnTo>
                    <a:pt x="70793" y="142003"/>
                  </a:lnTo>
                  <a:lnTo>
                    <a:pt x="84938" y="149241"/>
                  </a:lnTo>
                  <a:lnTo>
                    <a:pt x="122934" y="151352"/>
                  </a:lnTo>
                  <a:lnTo>
                    <a:pt x="137486" y="146638"/>
                  </a:lnTo>
                  <a:lnTo>
                    <a:pt x="154042" y="137149"/>
                  </a:lnTo>
                  <a:lnTo>
                    <a:pt x="164244" y="135138"/>
                  </a:lnTo>
                  <a:lnTo>
                    <a:pt x="168751" y="132618"/>
                  </a:lnTo>
                  <a:lnTo>
                    <a:pt x="198521" y="99966"/>
                  </a:lnTo>
                  <a:lnTo>
                    <a:pt x="210505" y="7995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1" name="SMARTInkShape-313"/>
            <p:cNvSpPr/>
            <p:nvPr/>
          </p:nvSpPr>
          <p:spPr>
            <a:xfrm>
              <a:off x="8555040" y="3715200"/>
              <a:ext cx="214200" cy="186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14281" h="186095">
                  <a:moveTo>
                    <a:pt x="35687" y="8897"/>
                  </a:moveTo>
                  <a:lnTo>
                    <a:pt x="35687" y="8897"/>
                  </a:lnTo>
                  <a:lnTo>
                    <a:pt x="30947" y="4157"/>
                  </a:lnTo>
                  <a:lnTo>
                    <a:pt x="25973" y="1830"/>
                  </a:lnTo>
                  <a:lnTo>
                    <a:pt x="13228" y="0"/>
                  </a:lnTo>
                  <a:lnTo>
                    <a:pt x="11784" y="982"/>
                  </a:lnTo>
                  <a:lnTo>
                    <a:pt x="10822" y="2628"/>
                  </a:lnTo>
                  <a:lnTo>
                    <a:pt x="9468" y="9686"/>
                  </a:lnTo>
                  <a:lnTo>
                    <a:pt x="9277" y="12400"/>
                  </a:lnTo>
                  <a:lnTo>
                    <a:pt x="6421" y="18061"/>
                  </a:lnTo>
                  <a:lnTo>
                    <a:pt x="4271" y="20959"/>
                  </a:lnTo>
                  <a:lnTo>
                    <a:pt x="1880" y="29472"/>
                  </a:lnTo>
                  <a:lnTo>
                    <a:pt x="0" y="73033"/>
                  </a:lnTo>
                  <a:lnTo>
                    <a:pt x="968" y="93151"/>
                  </a:lnTo>
                  <a:lnTo>
                    <a:pt x="7099" y="109378"/>
                  </a:lnTo>
                  <a:lnTo>
                    <a:pt x="35708" y="151157"/>
                  </a:lnTo>
                  <a:lnTo>
                    <a:pt x="42640" y="157452"/>
                  </a:lnTo>
                  <a:lnTo>
                    <a:pt x="70853" y="175900"/>
                  </a:lnTo>
                  <a:lnTo>
                    <a:pt x="104637" y="186094"/>
                  </a:lnTo>
                  <a:lnTo>
                    <a:pt x="113627" y="184225"/>
                  </a:lnTo>
                  <a:lnTo>
                    <a:pt x="121921" y="181078"/>
                  </a:lnTo>
                  <a:lnTo>
                    <a:pt x="136754" y="178315"/>
                  </a:lnTo>
                  <a:lnTo>
                    <a:pt x="167587" y="160514"/>
                  </a:lnTo>
                  <a:lnTo>
                    <a:pt x="203436" y="131262"/>
                  </a:lnTo>
                  <a:lnTo>
                    <a:pt x="209460" y="120828"/>
                  </a:lnTo>
                  <a:lnTo>
                    <a:pt x="214280" y="981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2" name="SMARTInkShape-314"/>
            <p:cNvSpPr/>
            <p:nvPr/>
          </p:nvSpPr>
          <p:spPr>
            <a:xfrm>
              <a:off x="8966160" y="2840040"/>
              <a:ext cx="401760" cy="35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401832" h="357019">
                  <a:moveTo>
                    <a:pt x="35714" y="267767"/>
                  </a:moveTo>
                  <a:lnTo>
                    <a:pt x="35714" y="267767"/>
                  </a:lnTo>
                  <a:lnTo>
                    <a:pt x="28026" y="275455"/>
                  </a:lnTo>
                  <a:lnTo>
                    <a:pt x="27152" y="281069"/>
                  </a:lnTo>
                  <a:lnTo>
                    <a:pt x="35901" y="308693"/>
                  </a:lnTo>
                  <a:lnTo>
                    <a:pt x="50875" y="327233"/>
                  </a:lnTo>
                  <a:lnTo>
                    <a:pt x="77394" y="353093"/>
                  </a:lnTo>
                  <a:lnTo>
                    <a:pt x="83343" y="355299"/>
                  </a:lnTo>
                  <a:lnTo>
                    <a:pt x="118690" y="357018"/>
                  </a:lnTo>
                  <a:lnTo>
                    <a:pt x="149314" y="344631"/>
                  </a:lnTo>
                  <a:lnTo>
                    <a:pt x="172157" y="327252"/>
                  </a:lnTo>
                  <a:lnTo>
                    <a:pt x="192453" y="306460"/>
                  </a:lnTo>
                  <a:lnTo>
                    <a:pt x="194672" y="300508"/>
                  </a:lnTo>
                  <a:lnTo>
                    <a:pt x="196294" y="274961"/>
                  </a:lnTo>
                  <a:lnTo>
                    <a:pt x="193734" y="268319"/>
                  </a:lnTo>
                  <a:lnTo>
                    <a:pt x="161896" y="224709"/>
                  </a:lnTo>
                  <a:lnTo>
                    <a:pt x="140770" y="205861"/>
                  </a:lnTo>
                  <a:lnTo>
                    <a:pt x="130032" y="200566"/>
                  </a:lnTo>
                  <a:lnTo>
                    <a:pt x="89237" y="189510"/>
                  </a:lnTo>
                  <a:lnTo>
                    <a:pt x="71417" y="185379"/>
                  </a:lnTo>
                  <a:lnTo>
                    <a:pt x="53570" y="180518"/>
                  </a:lnTo>
                  <a:lnTo>
                    <a:pt x="9710" y="178524"/>
                  </a:lnTo>
                  <a:lnTo>
                    <a:pt x="11" y="178470"/>
                  </a:lnTo>
                  <a:lnTo>
                    <a:pt x="0" y="173730"/>
                  </a:lnTo>
                  <a:lnTo>
                    <a:pt x="991" y="172333"/>
                  </a:lnTo>
                  <a:lnTo>
                    <a:pt x="2644" y="171402"/>
                  </a:lnTo>
                  <a:lnTo>
                    <a:pt x="4737" y="170782"/>
                  </a:lnTo>
                  <a:lnTo>
                    <a:pt x="18086" y="162636"/>
                  </a:lnTo>
                  <a:lnTo>
                    <a:pt x="32769" y="159885"/>
                  </a:lnTo>
                  <a:lnTo>
                    <a:pt x="42669" y="154553"/>
                  </a:lnTo>
                  <a:lnTo>
                    <a:pt x="87266" y="151731"/>
                  </a:lnTo>
                  <a:lnTo>
                    <a:pt x="110046" y="152680"/>
                  </a:lnTo>
                  <a:lnTo>
                    <a:pt x="143477" y="167128"/>
                  </a:lnTo>
                  <a:lnTo>
                    <a:pt x="154054" y="169461"/>
                  </a:lnTo>
                  <a:lnTo>
                    <a:pt x="165587" y="176352"/>
                  </a:lnTo>
                  <a:lnTo>
                    <a:pt x="189592" y="193428"/>
                  </a:lnTo>
                  <a:lnTo>
                    <a:pt x="201983" y="211219"/>
                  </a:lnTo>
                  <a:lnTo>
                    <a:pt x="205376" y="223105"/>
                  </a:lnTo>
                  <a:lnTo>
                    <a:pt x="205377" y="218374"/>
                  </a:lnTo>
                  <a:lnTo>
                    <a:pt x="204387" y="216979"/>
                  </a:lnTo>
                  <a:lnTo>
                    <a:pt x="202732" y="216049"/>
                  </a:lnTo>
                  <a:lnTo>
                    <a:pt x="200638" y="215429"/>
                  </a:lnTo>
                  <a:lnTo>
                    <a:pt x="195665" y="209448"/>
                  </a:lnTo>
                  <a:lnTo>
                    <a:pt x="172605" y="168344"/>
                  </a:lnTo>
                  <a:lnTo>
                    <a:pt x="154774" y="124865"/>
                  </a:lnTo>
                  <a:lnTo>
                    <a:pt x="146838" y="103938"/>
                  </a:lnTo>
                  <a:lnTo>
                    <a:pt x="143393" y="66717"/>
                  </a:lnTo>
                  <a:lnTo>
                    <a:pt x="145749" y="56703"/>
                  </a:lnTo>
                  <a:lnTo>
                    <a:pt x="149110" y="47953"/>
                  </a:lnTo>
                  <a:lnTo>
                    <a:pt x="151995" y="32863"/>
                  </a:lnTo>
                  <a:lnTo>
                    <a:pt x="158711" y="18372"/>
                  </a:lnTo>
                  <a:lnTo>
                    <a:pt x="159384" y="15183"/>
                  </a:lnTo>
                  <a:lnTo>
                    <a:pt x="160824" y="13057"/>
                  </a:lnTo>
                  <a:lnTo>
                    <a:pt x="162777" y="11640"/>
                  </a:lnTo>
                  <a:lnTo>
                    <a:pt x="188483" y="1987"/>
                  </a:lnTo>
                  <a:lnTo>
                    <a:pt x="221560" y="0"/>
                  </a:lnTo>
                  <a:lnTo>
                    <a:pt x="257267" y="9606"/>
                  </a:lnTo>
                  <a:lnTo>
                    <a:pt x="300530" y="29689"/>
                  </a:lnTo>
                  <a:lnTo>
                    <a:pt x="329567" y="48687"/>
                  </a:lnTo>
                  <a:lnTo>
                    <a:pt x="366500" y="89243"/>
                  </a:lnTo>
                  <a:lnTo>
                    <a:pt x="377199" y="102103"/>
                  </a:lnTo>
                  <a:lnTo>
                    <a:pt x="395379" y="143278"/>
                  </a:lnTo>
                  <a:lnTo>
                    <a:pt x="401831" y="16061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3" name="SMARTInkShape-315"/>
            <p:cNvSpPr/>
            <p:nvPr/>
          </p:nvSpPr>
          <p:spPr>
            <a:xfrm>
              <a:off x="8787240" y="3241800"/>
              <a:ext cx="276840" cy="15156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76821" h="151805">
                  <a:moveTo>
                    <a:pt x="0" y="151804"/>
                  </a:moveTo>
                  <a:lnTo>
                    <a:pt x="0" y="151804"/>
                  </a:lnTo>
                  <a:lnTo>
                    <a:pt x="20117" y="139375"/>
                  </a:lnTo>
                  <a:lnTo>
                    <a:pt x="60036" y="105407"/>
                  </a:lnTo>
                  <a:lnTo>
                    <a:pt x="96872" y="72682"/>
                  </a:lnTo>
                  <a:lnTo>
                    <a:pt x="118163" y="47066"/>
                  </a:lnTo>
                  <a:lnTo>
                    <a:pt x="127922" y="38777"/>
                  </a:lnTo>
                  <a:lnTo>
                    <a:pt x="144920" y="19933"/>
                  </a:lnTo>
                  <a:lnTo>
                    <a:pt x="153706" y="12827"/>
                  </a:lnTo>
                  <a:lnTo>
                    <a:pt x="159644" y="4241"/>
                  </a:lnTo>
                  <a:lnTo>
                    <a:pt x="169624" y="14"/>
                  </a:lnTo>
                  <a:lnTo>
                    <a:pt x="169652" y="3"/>
                  </a:lnTo>
                  <a:lnTo>
                    <a:pt x="177351" y="0"/>
                  </a:lnTo>
                  <a:lnTo>
                    <a:pt x="220273" y="41680"/>
                  </a:lnTo>
                  <a:lnTo>
                    <a:pt x="247054" y="67468"/>
                  </a:lnTo>
                  <a:lnTo>
                    <a:pt x="258961" y="73299"/>
                  </a:lnTo>
                  <a:lnTo>
                    <a:pt x="266127" y="78971"/>
                  </a:lnTo>
                  <a:lnTo>
                    <a:pt x="275423" y="80244"/>
                  </a:lnTo>
                  <a:lnTo>
                    <a:pt x="275890" y="79293"/>
                  </a:lnTo>
                  <a:lnTo>
                    <a:pt x="276820" y="714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4" name="SMARTInkShape-316"/>
            <p:cNvSpPr/>
            <p:nvPr/>
          </p:nvSpPr>
          <p:spPr>
            <a:xfrm>
              <a:off x="8823600" y="3116880"/>
              <a:ext cx="52920" cy="17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212" h="17860">
                  <a:moveTo>
                    <a:pt x="8562" y="17859"/>
                  </a:moveTo>
                  <a:lnTo>
                    <a:pt x="8562" y="17859"/>
                  </a:lnTo>
                  <a:lnTo>
                    <a:pt x="873" y="10171"/>
                  </a:lnTo>
                  <a:lnTo>
                    <a:pt x="460" y="10749"/>
                  </a:lnTo>
                  <a:lnTo>
                    <a:pt x="0" y="14038"/>
                  </a:lnTo>
                  <a:lnTo>
                    <a:pt x="870" y="14319"/>
                  </a:lnTo>
                  <a:lnTo>
                    <a:pt x="9396" y="10288"/>
                  </a:lnTo>
                  <a:lnTo>
                    <a:pt x="-25028" y="7990"/>
                  </a:lnTo>
                  <a:lnTo>
                    <a:pt x="-1232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5" name="SMARTInkShape-317"/>
            <p:cNvSpPr/>
            <p:nvPr/>
          </p:nvSpPr>
          <p:spPr>
            <a:xfrm>
              <a:off x="8671320" y="3241800"/>
              <a:ext cx="294480" cy="205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94680" h="205384">
                  <a:moveTo>
                    <a:pt x="0" y="0"/>
                  </a:moveTo>
                  <a:lnTo>
                    <a:pt x="0" y="0"/>
                  </a:lnTo>
                  <a:lnTo>
                    <a:pt x="9480" y="4741"/>
                  </a:lnTo>
                  <a:lnTo>
                    <a:pt x="16782" y="12360"/>
                  </a:lnTo>
                  <a:lnTo>
                    <a:pt x="29553" y="28680"/>
                  </a:lnTo>
                  <a:lnTo>
                    <a:pt x="72799" y="64216"/>
                  </a:lnTo>
                  <a:lnTo>
                    <a:pt x="111379" y="93375"/>
                  </a:lnTo>
                  <a:lnTo>
                    <a:pt x="154968" y="128089"/>
                  </a:lnTo>
                  <a:lnTo>
                    <a:pt x="198532" y="156591"/>
                  </a:lnTo>
                  <a:lnTo>
                    <a:pt x="236628" y="178526"/>
                  </a:lnTo>
                  <a:lnTo>
                    <a:pt x="279457" y="201412"/>
                  </a:lnTo>
                  <a:lnTo>
                    <a:pt x="294679" y="2053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46" name="SMARTInkShape-318"/>
          <p:cNvSpPr/>
          <p:nvPr/>
        </p:nvSpPr>
        <p:spPr>
          <a:xfrm>
            <a:off x="642960" y="5116680"/>
            <a:ext cx="3840120" cy="866520"/>
          </a:xfrm>
          <a:custGeom>
            <a:avLst/>
            <a:gdLst>
              <a:gd name="textAreaLeft" fmla="*/ 0 w 3840120"/>
              <a:gd name="textAreaRight" fmla="*/ 3840480 w 384012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3839523" h="865928">
                <a:moveTo>
                  <a:pt x="3259325" y="142875"/>
                </a:moveTo>
                <a:lnTo>
                  <a:pt x="3259325" y="142875"/>
                </a:lnTo>
                <a:lnTo>
                  <a:pt x="3216551" y="142875"/>
                </a:lnTo>
                <a:lnTo>
                  <a:pt x="3184752" y="142875"/>
                </a:lnTo>
                <a:lnTo>
                  <a:pt x="3153421" y="140229"/>
                </a:lnTo>
                <a:lnTo>
                  <a:pt x="3122960" y="136738"/>
                </a:lnTo>
                <a:lnTo>
                  <a:pt x="3092885" y="135187"/>
                </a:lnTo>
                <a:lnTo>
                  <a:pt x="3062983" y="134496"/>
                </a:lnTo>
                <a:lnTo>
                  <a:pt x="3020902" y="131462"/>
                </a:lnTo>
                <a:lnTo>
                  <a:pt x="2980653" y="124280"/>
                </a:lnTo>
                <a:lnTo>
                  <a:pt x="2939953" y="118513"/>
                </a:lnTo>
                <a:lnTo>
                  <a:pt x="2895386" y="116565"/>
                </a:lnTo>
                <a:lnTo>
                  <a:pt x="2862324" y="111487"/>
                </a:lnTo>
                <a:lnTo>
                  <a:pt x="2822652" y="108439"/>
                </a:lnTo>
                <a:lnTo>
                  <a:pt x="2779478" y="102796"/>
                </a:lnTo>
                <a:lnTo>
                  <a:pt x="2735266" y="99580"/>
                </a:lnTo>
                <a:lnTo>
                  <a:pt x="2695488" y="93887"/>
                </a:lnTo>
                <a:lnTo>
                  <a:pt x="2653826" y="90656"/>
                </a:lnTo>
                <a:lnTo>
                  <a:pt x="2610062" y="84959"/>
                </a:lnTo>
                <a:lnTo>
                  <a:pt x="2565676" y="81727"/>
                </a:lnTo>
                <a:lnTo>
                  <a:pt x="2521105" y="76029"/>
                </a:lnTo>
                <a:lnTo>
                  <a:pt x="2476480" y="72797"/>
                </a:lnTo>
                <a:lnTo>
                  <a:pt x="2431838" y="67100"/>
                </a:lnTo>
                <a:lnTo>
                  <a:pt x="2387192" y="63868"/>
                </a:lnTo>
                <a:lnTo>
                  <a:pt x="2342544" y="62911"/>
                </a:lnTo>
                <a:lnTo>
                  <a:pt x="2297896" y="62627"/>
                </a:lnTo>
                <a:lnTo>
                  <a:pt x="2265484" y="62560"/>
                </a:lnTo>
                <a:lnTo>
                  <a:pt x="2232227" y="62531"/>
                </a:lnTo>
                <a:lnTo>
                  <a:pt x="2200910" y="62517"/>
                </a:lnTo>
                <a:lnTo>
                  <a:pt x="2167810" y="62512"/>
                </a:lnTo>
                <a:lnTo>
                  <a:pt x="2134246" y="62509"/>
                </a:lnTo>
                <a:lnTo>
                  <a:pt x="2102792" y="62508"/>
                </a:lnTo>
                <a:lnTo>
                  <a:pt x="2072277" y="65153"/>
                </a:lnTo>
                <a:lnTo>
                  <a:pt x="2042178" y="68644"/>
                </a:lnTo>
                <a:lnTo>
                  <a:pt x="2012264" y="70196"/>
                </a:lnTo>
                <a:lnTo>
                  <a:pt x="1979787" y="70886"/>
                </a:lnTo>
                <a:lnTo>
                  <a:pt x="1946501" y="71192"/>
                </a:lnTo>
                <a:lnTo>
                  <a:pt x="1915171" y="71328"/>
                </a:lnTo>
                <a:lnTo>
                  <a:pt x="1882064" y="71389"/>
                </a:lnTo>
                <a:lnTo>
                  <a:pt x="1848498" y="71415"/>
                </a:lnTo>
                <a:lnTo>
                  <a:pt x="1817044" y="71428"/>
                </a:lnTo>
                <a:lnTo>
                  <a:pt x="1786528" y="71433"/>
                </a:lnTo>
                <a:lnTo>
                  <a:pt x="1756428" y="71436"/>
                </a:lnTo>
                <a:lnTo>
                  <a:pt x="1726515" y="71437"/>
                </a:lnTo>
                <a:lnTo>
                  <a:pt x="1694037" y="71437"/>
                </a:lnTo>
                <a:lnTo>
                  <a:pt x="1660751" y="72429"/>
                </a:lnTo>
                <a:lnTo>
                  <a:pt x="1629421" y="76177"/>
                </a:lnTo>
                <a:lnTo>
                  <a:pt x="1598960" y="78505"/>
                </a:lnTo>
                <a:lnTo>
                  <a:pt x="1568885" y="79539"/>
                </a:lnTo>
                <a:lnTo>
                  <a:pt x="1538982" y="79999"/>
                </a:lnTo>
                <a:lnTo>
                  <a:pt x="1506509" y="80203"/>
                </a:lnTo>
                <a:lnTo>
                  <a:pt x="1473226" y="80294"/>
                </a:lnTo>
                <a:lnTo>
                  <a:pt x="1441897" y="80335"/>
                </a:lnTo>
                <a:lnTo>
                  <a:pt x="1411436" y="82998"/>
                </a:lnTo>
                <a:lnTo>
                  <a:pt x="1369042" y="87431"/>
                </a:lnTo>
                <a:lnTo>
                  <a:pt x="1328700" y="88744"/>
                </a:lnTo>
                <a:lnTo>
                  <a:pt x="1285327" y="89133"/>
                </a:lnTo>
                <a:lnTo>
                  <a:pt x="1241057" y="91894"/>
                </a:lnTo>
                <a:lnTo>
                  <a:pt x="1196521" y="96349"/>
                </a:lnTo>
                <a:lnTo>
                  <a:pt x="1154551" y="100316"/>
                </a:lnTo>
                <a:lnTo>
                  <a:pt x="1114334" y="105129"/>
                </a:lnTo>
                <a:lnTo>
                  <a:pt x="1073645" y="106555"/>
                </a:lnTo>
                <a:lnTo>
                  <a:pt x="1033807" y="109624"/>
                </a:lnTo>
                <a:lnTo>
                  <a:pt x="993230" y="114171"/>
                </a:lnTo>
                <a:lnTo>
                  <a:pt x="956072" y="118164"/>
                </a:lnTo>
                <a:lnTo>
                  <a:pt x="917281" y="122985"/>
                </a:lnTo>
                <a:lnTo>
                  <a:pt x="877014" y="127059"/>
                </a:lnTo>
                <a:lnTo>
                  <a:pt x="839947" y="131905"/>
                </a:lnTo>
                <a:lnTo>
                  <a:pt x="803830" y="133341"/>
                </a:lnTo>
                <a:lnTo>
                  <a:pt x="767993" y="136412"/>
                </a:lnTo>
                <a:lnTo>
                  <a:pt x="725068" y="141597"/>
                </a:lnTo>
                <a:lnTo>
                  <a:pt x="687550" y="142497"/>
                </a:lnTo>
                <a:lnTo>
                  <a:pt x="643694" y="148937"/>
                </a:lnTo>
                <a:lnTo>
                  <a:pt x="600488" y="151238"/>
                </a:lnTo>
                <a:lnTo>
                  <a:pt x="558256" y="151693"/>
                </a:lnTo>
                <a:lnTo>
                  <a:pt x="518825" y="152774"/>
                </a:lnTo>
                <a:lnTo>
                  <a:pt x="482373" y="158868"/>
                </a:lnTo>
                <a:lnTo>
                  <a:pt x="446509" y="160366"/>
                </a:lnTo>
                <a:lnTo>
                  <a:pt x="410762" y="161654"/>
                </a:lnTo>
                <a:lnTo>
                  <a:pt x="375038" y="167787"/>
                </a:lnTo>
                <a:lnTo>
                  <a:pt x="331380" y="170409"/>
                </a:lnTo>
                <a:lnTo>
                  <a:pt x="293428" y="182060"/>
                </a:lnTo>
                <a:lnTo>
                  <a:pt x="253411" y="191784"/>
                </a:lnTo>
                <a:lnTo>
                  <a:pt x="212574" y="200783"/>
                </a:lnTo>
                <a:lnTo>
                  <a:pt x="167957" y="216227"/>
                </a:lnTo>
                <a:lnTo>
                  <a:pt x="136432" y="232339"/>
                </a:lnTo>
                <a:lnTo>
                  <a:pt x="95981" y="256983"/>
                </a:lnTo>
                <a:lnTo>
                  <a:pt x="62562" y="301583"/>
                </a:lnTo>
                <a:lnTo>
                  <a:pt x="29756" y="345422"/>
                </a:lnTo>
                <a:lnTo>
                  <a:pt x="21818" y="360095"/>
                </a:lnTo>
                <a:lnTo>
                  <a:pt x="8858" y="404089"/>
                </a:lnTo>
                <a:lnTo>
                  <a:pt x="3058" y="416614"/>
                </a:lnTo>
                <a:lnTo>
                  <a:pt x="169" y="455581"/>
                </a:lnTo>
                <a:lnTo>
                  <a:pt x="0" y="497096"/>
                </a:lnTo>
                <a:lnTo>
                  <a:pt x="7679" y="540494"/>
                </a:lnTo>
                <a:lnTo>
                  <a:pt x="21239" y="577345"/>
                </a:lnTo>
                <a:lnTo>
                  <a:pt x="40693" y="618126"/>
                </a:lnTo>
                <a:lnTo>
                  <a:pt x="42885" y="626287"/>
                </a:lnTo>
                <a:lnTo>
                  <a:pt x="49150" y="633222"/>
                </a:lnTo>
                <a:lnTo>
                  <a:pt x="57557" y="640604"/>
                </a:lnTo>
                <a:lnTo>
                  <a:pt x="78200" y="665891"/>
                </a:lnTo>
                <a:lnTo>
                  <a:pt x="119978" y="693516"/>
                </a:lnTo>
                <a:lnTo>
                  <a:pt x="160778" y="714374"/>
                </a:lnTo>
                <a:lnTo>
                  <a:pt x="202399" y="735210"/>
                </a:lnTo>
                <a:lnTo>
                  <a:pt x="241875" y="750093"/>
                </a:lnTo>
                <a:lnTo>
                  <a:pt x="279706" y="758839"/>
                </a:lnTo>
                <a:lnTo>
                  <a:pt x="321840" y="766557"/>
                </a:lnTo>
                <a:lnTo>
                  <a:pt x="366157" y="774836"/>
                </a:lnTo>
                <a:lnTo>
                  <a:pt x="401835" y="781219"/>
                </a:lnTo>
                <a:lnTo>
                  <a:pt x="443683" y="784904"/>
                </a:lnTo>
                <a:lnTo>
                  <a:pt x="484287" y="785633"/>
                </a:lnTo>
                <a:lnTo>
                  <a:pt x="525491" y="785777"/>
                </a:lnTo>
                <a:lnTo>
                  <a:pt x="568430" y="785805"/>
                </a:lnTo>
                <a:lnTo>
                  <a:pt x="609250" y="785811"/>
                </a:lnTo>
                <a:lnTo>
                  <a:pt x="643532" y="785812"/>
                </a:lnTo>
                <a:lnTo>
                  <a:pt x="678825" y="783166"/>
                </a:lnTo>
                <a:lnTo>
                  <a:pt x="714418" y="778745"/>
                </a:lnTo>
                <a:lnTo>
                  <a:pt x="750099" y="777433"/>
                </a:lnTo>
                <a:lnTo>
                  <a:pt x="785807" y="774400"/>
                </a:lnTo>
                <a:lnTo>
                  <a:pt x="821522" y="769863"/>
                </a:lnTo>
                <a:lnTo>
                  <a:pt x="857240" y="768519"/>
                </a:lnTo>
                <a:lnTo>
                  <a:pt x="892958" y="765475"/>
                </a:lnTo>
                <a:lnTo>
                  <a:pt x="928677" y="760934"/>
                </a:lnTo>
                <a:lnTo>
                  <a:pt x="967042" y="759590"/>
                </a:lnTo>
                <a:lnTo>
                  <a:pt x="1007182" y="756545"/>
                </a:lnTo>
                <a:lnTo>
                  <a:pt x="1046857" y="752005"/>
                </a:lnTo>
                <a:lnTo>
                  <a:pt x="1087386" y="750660"/>
                </a:lnTo>
                <a:lnTo>
                  <a:pt x="1127176" y="750261"/>
                </a:lnTo>
                <a:lnTo>
                  <a:pt x="1167739" y="747497"/>
                </a:lnTo>
                <a:lnTo>
                  <a:pt x="1207539" y="743040"/>
                </a:lnTo>
                <a:lnTo>
                  <a:pt x="1250751" y="741720"/>
                </a:lnTo>
                <a:lnTo>
                  <a:pt x="1294973" y="741328"/>
                </a:lnTo>
                <a:lnTo>
                  <a:pt x="1339496" y="741212"/>
                </a:lnTo>
                <a:lnTo>
                  <a:pt x="1381461" y="741178"/>
                </a:lnTo>
                <a:lnTo>
                  <a:pt x="1421676" y="741168"/>
                </a:lnTo>
                <a:lnTo>
                  <a:pt x="1465011" y="743811"/>
                </a:lnTo>
                <a:lnTo>
                  <a:pt x="1509271" y="745586"/>
                </a:lnTo>
                <a:lnTo>
                  <a:pt x="1553803" y="742474"/>
                </a:lnTo>
                <a:lnTo>
                  <a:pt x="1598418" y="744198"/>
                </a:lnTo>
                <a:lnTo>
                  <a:pt x="1643056" y="748347"/>
                </a:lnTo>
                <a:lnTo>
                  <a:pt x="1687701" y="746930"/>
                </a:lnTo>
                <a:lnTo>
                  <a:pt x="1732349" y="742872"/>
                </a:lnTo>
                <a:lnTo>
                  <a:pt x="1776997" y="741670"/>
                </a:lnTo>
                <a:lnTo>
                  <a:pt x="1821646" y="741313"/>
                </a:lnTo>
                <a:lnTo>
                  <a:pt x="1866294" y="743854"/>
                </a:lnTo>
                <a:lnTo>
                  <a:pt x="1910943" y="748244"/>
                </a:lnTo>
                <a:lnTo>
                  <a:pt x="1955591" y="749545"/>
                </a:lnTo>
                <a:lnTo>
                  <a:pt x="2000240" y="749931"/>
                </a:lnTo>
                <a:lnTo>
                  <a:pt x="2044888" y="750045"/>
                </a:lnTo>
                <a:lnTo>
                  <a:pt x="2089536" y="752725"/>
                </a:lnTo>
                <a:lnTo>
                  <a:pt x="2134185" y="757157"/>
                </a:lnTo>
                <a:lnTo>
                  <a:pt x="2178833" y="758470"/>
                </a:lnTo>
                <a:lnTo>
                  <a:pt x="2223481" y="758859"/>
                </a:lnTo>
                <a:lnTo>
                  <a:pt x="2268130" y="761621"/>
                </a:lnTo>
                <a:lnTo>
                  <a:pt x="2298888" y="765139"/>
                </a:lnTo>
                <a:lnTo>
                  <a:pt x="2332401" y="766702"/>
                </a:lnTo>
                <a:lnTo>
                  <a:pt x="2364494" y="767397"/>
                </a:lnTo>
                <a:lnTo>
                  <a:pt x="2396287" y="768698"/>
                </a:lnTo>
                <a:lnTo>
                  <a:pt x="2430260" y="772583"/>
                </a:lnTo>
                <a:lnTo>
                  <a:pt x="2462558" y="777617"/>
                </a:lnTo>
                <a:lnTo>
                  <a:pt x="2493449" y="782170"/>
                </a:lnTo>
                <a:lnTo>
                  <a:pt x="2523714" y="784194"/>
                </a:lnTo>
                <a:lnTo>
                  <a:pt x="2553702" y="787738"/>
                </a:lnTo>
                <a:lnTo>
                  <a:pt x="2583566" y="792621"/>
                </a:lnTo>
                <a:lnTo>
                  <a:pt x="2613376" y="798099"/>
                </a:lnTo>
                <a:lnTo>
                  <a:pt x="2645807" y="801194"/>
                </a:lnTo>
                <a:lnTo>
                  <a:pt x="2679072" y="803563"/>
                </a:lnTo>
                <a:lnTo>
                  <a:pt x="2710393" y="807923"/>
                </a:lnTo>
                <a:lnTo>
                  <a:pt x="2740850" y="810522"/>
                </a:lnTo>
                <a:lnTo>
                  <a:pt x="2770923" y="812670"/>
                </a:lnTo>
                <a:lnTo>
                  <a:pt x="2800825" y="816931"/>
                </a:lnTo>
                <a:lnTo>
                  <a:pt x="2830652" y="822132"/>
                </a:lnTo>
                <a:lnTo>
                  <a:pt x="2860445" y="826759"/>
                </a:lnTo>
                <a:lnTo>
                  <a:pt x="2904116" y="830355"/>
                </a:lnTo>
                <a:lnTo>
                  <a:pt x="2943624" y="837265"/>
                </a:lnTo>
                <a:lnTo>
                  <a:pt x="2986308" y="844604"/>
                </a:lnTo>
                <a:lnTo>
                  <a:pt x="3030375" y="848211"/>
                </a:lnTo>
                <a:lnTo>
                  <a:pt x="3073859" y="854131"/>
                </a:lnTo>
                <a:lnTo>
                  <a:pt x="3113311" y="856325"/>
                </a:lnTo>
                <a:lnTo>
                  <a:pt x="3155979" y="857968"/>
                </a:lnTo>
                <a:lnTo>
                  <a:pt x="3199049" y="863305"/>
                </a:lnTo>
                <a:lnTo>
                  <a:pt x="3237387" y="865327"/>
                </a:lnTo>
                <a:lnTo>
                  <a:pt x="3273882" y="865927"/>
                </a:lnTo>
                <a:lnTo>
                  <a:pt x="3309830" y="865112"/>
                </a:lnTo>
                <a:lnTo>
                  <a:pt x="3345617" y="860021"/>
                </a:lnTo>
                <a:lnTo>
                  <a:pt x="3381356" y="858070"/>
                </a:lnTo>
                <a:lnTo>
                  <a:pt x="3416088" y="856500"/>
                </a:lnTo>
                <a:lnTo>
                  <a:pt x="3454994" y="850229"/>
                </a:lnTo>
                <a:lnTo>
                  <a:pt x="3496083" y="843957"/>
                </a:lnTo>
                <a:lnTo>
                  <a:pt x="3535287" y="833163"/>
                </a:lnTo>
                <a:lnTo>
                  <a:pt x="3575941" y="818518"/>
                </a:lnTo>
                <a:lnTo>
                  <a:pt x="3614404" y="801021"/>
                </a:lnTo>
                <a:lnTo>
                  <a:pt x="3636393" y="787672"/>
                </a:lnTo>
                <a:lnTo>
                  <a:pt x="3659114" y="774788"/>
                </a:lnTo>
                <a:lnTo>
                  <a:pt x="3702713" y="735088"/>
                </a:lnTo>
                <a:lnTo>
                  <a:pt x="3744498" y="693532"/>
                </a:lnTo>
                <a:lnTo>
                  <a:pt x="3761370" y="674685"/>
                </a:lnTo>
                <a:lnTo>
                  <a:pt x="3788988" y="630866"/>
                </a:lnTo>
                <a:lnTo>
                  <a:pt x="3809714" y="586290"/>
                </a:lnTo>
                <a:lnTo>
                  <a:pt x="3824836" y="544306"/>
                </a:lnTo>
                <a:lnTo>
                  <a:pt x="3837105" y="507076"/>
                </a:lnTo>
                <a:lnTo>
                  <a:pt x="3839522" y="464959"/>
                </a:lnTo>
                <a:lnTo>
                  <a:pt x="3838732" y="428522"/>
                </a:lnTo>
                <a:lnTo>
                  <a:pt x="3828729" y="384144"/>
                </a:lnTo>
                <a:lnTo>
                  <a:pt x="3809867" y="342314"/>
                </a:lnTo>
                <a:lnTo>
                  <a:pt x="3792445" y="319608"/>
                </a:lnTo>
                <a:lnTo>
                  <a:pt x="3758019" y="279688"/>
                </a:lnTo>
                <a:lnTo>
                  <a:pt x="3731557" y="256955"/>
                </a:lnTo>
                <a:lnTo>
                  <a:pt x="3688063" y="222689"/>
                </a:lnTo>
                <a:lnTo>
                  <a:pt x="3675102" y="212082"/>
                </a:lnTo>
                <a:lnTo>
                  <a:pt x="3631236" y="184689"/>
                </a:lnTo>
                <a:lnTo>
                  <a:pt x="3589310" y="167098"/>
                </a:lnTo>
                <a:lnTo>
                  <a:pt x="3547667" y="144791"/>
                </a:lnTo>
                <a:lnTo>
                  <a:pt x="3512294" y="131347"/>
                </a:lnTo>
                <a:lnTo>
                  <a:pt x="3474218" y="119137"/>
                </a:lnTo>
                <a:lnTo>
                  <a:pt x="3435388" y="107171"/>
                </a:lnTo>
                <a:lnTo>
                  <a:pt x="3401450" y="98231"/>
                </a:lnTo>
                <a:lnTo>
                  <a:pt x="3366259" y="89297"/>
                </a:lnTo>
                <a:lnTo>
                  <a:pt x="3330697" y="80367"/>
                </a:lnTo>
                <a:lnTo>
                  <a:pt x="3295024" y="71437"/>
                </a:lnTo>
                <a:lnTo>
                  <a:pt x="3259319" y="62508"/>
                </a:lnTo>
                <a:lnTo>
                  <a:pt x="3223604" y="53578"/>
                </a:lnTo>
                <a:lnTo>
                  <a:pt x="3185241" y="47294"/>
                </a:lnTo>
                <a:lnTo>
                  <a:pt x="3145100" y="45432"/>
                </a:lnTo>
                <a:lnTo>
                  <a:pt x="3108072" y="42234"/>
                </a:lnTo>
                <a:lnTo>
                  <a:pt x="3069319" y="37649"/>
                </a:lnTo>
                <a:lnTo>
                  <a:pt x="3026418" y="36290"/>
                </a:lnTo>
                <a:lnTo>
                  <a:pt x="2984933" y="35888"/>
                </a:lnTo>
                <a:lnTo>
                  <a:pt x="2944860" y="33123"/>
                </a:lnTo>
                <a:lnTo>
                  <a:pt x="2901567" y="28666"/>
                </a:lnTo>
                <a:lnTo>
                  <a:pt x="2857320" y="27345"/>
                </a:lnTo>
                <a:lnTo>
                  <a:pt x="2812791" y="26953"/>
                </a:lnTo>
                <a:lnTo>
                  <a:pt x="2782061" y="25870"/>
                </a:lnTo>
                <a:lnTo>
                  <a:pt x="2748559" y="22081"/>
                </a:lnTo>
                <a:lnTo>
                  <a:pt x="2716472" y="19735"/>
                </a:lnTo>
                <a:lnTo>
                  <a:pt x="2685674" y="17701"/>
                </a:lnTo>
                <a:lnTo>
                  <a:pt x="2655450" y="13489"/>
                </a:lnTo>
                <a:lnTo>
                  <a:pt x="2622834" y="10956"/>
                </a:lnTo>
                <a:lnTo>
                  <a:pt x="2589487" y="9830"/>
                </a:lnTo>
                <a:lnTo>
                  <a:pt x="2558130" y="9330"/>
                </a:lnTo>
                <a:lnTo>
                  <a:pt x="2527658" y="9107"/>
                </a:lnTo>
                <a:lnTo>
                  <a:pt x="2496584" y="8017"/>
                </a:lnTo>
                <a:lnTo>
                  <a:pt x="2462931" y="4224"/>
                </a:lnTo>
                <a:lnTo>
                  <a:pt x="2430775" y="1877"/>
                </a:lnTo>
                <a:lnTo>
                  <a:pt x="2398956" y="834"/>
                </a:lnTo>
                <a:lnTo>
                  <a:pt x="2364970" y="370"/>
                </a:lnTo>
                <a:lnTo>
                  <a:pt x="2332668" y="164"/>
                </a:lnTo>
                <a:lnTo>
                  <a:pt x="2300782" y="73"/>
                </a:lnTo>
                <a:lnTo>
                  <a:pt x="2266767" y="32"/>
                </a:lnTo>
                <a:lnTo>
                  <a:pt x="2234451" y="14"/>
                </a:lnTo>
                <a:lnTo>
                  <a:pt x="2202560" y="6"/>
                </a:lnTo>
                <a:lnTo>
                  <a:pt x="2168543" y="2"/>
                </a:lnTo>
                <a:lnTo>
                  <a:pt x="2136226" y="0"/>
                </a:lnTo>
                <a:lnTo>
                  <a:pt x="2104334" y="0"/>
                </a:lnTo>
                <a:lnTo>
                  <a:pt x="2070316" y="0"/>
                </a:lnTo>
                <a:lnTo>
                  <a:pt x="2035353" y="0"/>
                </a:lnTo>
                <a:lnTo>
                  <a:pt x="2000963" y="0"/>
                </a:lnTo>
                <a:lnTo>
                  <a:pt x="1969142" y="0"/>
                </a:lnTo>
                <a:lnTo>
                  <a:pt x="1935816" y="0"/>
                </a:lnTo>
                <a:lnTo>
                  <a:pt x="1902154" y="0"/>
                </a:lnTo>
                <a:lnTo>
                  <a:pt x="1870656" y="0"/>
                </a:lnTo>
                <a:lnTo>
                  <a:pt x="1837475" y="0"/>
                </a:lnTo>
                <a:lnTo>
                  <a:pt x="1803876" y="0"/>
                </a:lnTo>
                <a:lnTo>
                  <a:pt x="1772407" y="0"/>
                </a:lnTo>
                <a:lnTo>
                  <a:pt x="1741884" y="2645"/>
                </a:lnTo>
                <a:lnTo>
                  <a:pt x="1710790" y="5144"/>
                </a:lnTo>
                <a:lnTo>
                  <a:pt x="1677126" y="2947"/>
                </a:lnTo>
                <a:lnTo>
                  <a:pt x="1644967" y="1310"/>
                </a:lnTo>
                <a:lnTo>
                  <a:pt x="1613145" y="582"/>
                </a:lnTo>
                <a:lnTo>
                  <a:pt x="1579159" y="259"/>
                </a:lnTo>
                <a:lnTo>
                  <a:pt x="1546855" y="2761"/>
                </a:lnTo>
                <a:lnTo>
                  <a:pt x="1515962" y="6187"/>
                </a:lnTo>
                <a:lnTo>
                  <a:pt x="1485695" y="7711"/>
                </a:lnTo>
                <a:lnTo>
                  <a:pt x="1453061" y="8387"/>
                </a:lnTo>
                <a:lnTo>
                  <a:pt x="1418713" y="8688"/>
                </a:lnTo>
                <a:lnTo>
                  <a:pt x="1383603" y="8822"/>
                </a:lnTo>
                <a:lnTo>
                  <a:pt x="1350801" y="8882"/>
                </a:lnTo>
                <a:lnTo>
                  <a:pt x="1318694" y="8908"/>
                </a:lnTo>
                <a:lnTo>
                  <a:pt x="1284580" y="8920"/>
                </a:lnTo>
                <a:lnTo>
                  <a:pt x="1249575" y="8925"/>
                </a:lnTo>
                <a:lnTo>
                  <a:pt x="1214173" y="7935"/>
                </a:lnTo>
                <a:lnTo>
                  <a:pt x="1178595" y="4188"/>
                </a:lnTo>
                <a:lnTo>
                  <a:pt x="1140294" y="1861"/>
                </a:lnTo>
                <a:lnTo>
                  <a:pt x="1101112" y="827"/>
                </a:lnTo>
                <a:lnTo>
                  <a:pt x="1063853" y="367"/>
                </a:lnTo>
                <a:lnTo>
                  <a:pt x="1024805" y="163"/>
                </a:lnTo>
                <a:lnTo>
                  <a:pt x="984299" y="72"/>
                </a:lnTo>
                <a:lnTo>
                  <a:pt x="943145" y="32"/>
                </a:lnTo>
                <a:lnTo>
                  <a:pt x="906995" y="14"/>
                </a:lnTo>
                <a:lnTo>
                  <a:pt x="873400" y="6"/>
                </a:lnTo>
                <a:lnTo>
                  <a:pt x="838625" y="2"/>
                </a:lnTo>
                <a:lnTo>
                  <a:pt x="805971" y="2647"/>
                </a:lnTo>
                <a:lnTo>
                  <a:pt x="774922" y="6138"/>
                </a:lnTo>
                <a:lnTo>
                  <a:pt x="730543" y="9095"/>
                </a:lnTo>
                <a:lnTo>
                  <a:pt x="691818" y="16805"/>
                </a:lnTo>
                <a:lnTo>
                  <a:pt x="655208" y="31218"/>
                </a:lnTo>
                <a:lnTo>
                  <a:pt x="619225" y="49047"/>
                </a:lnTo>
                <a:lnTo>
                  <a:pt x="571489" y="8036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SMARTInkShape-319"/>
          <p:cNvSpPr/>
          <p:nvPr/>
        </p:nvSpPr>
        <p:spPr>
          <a:xfrm>
            <a:off x="4205160" y="6188040"/>
            <a:ext cx="2293920" cy="241200"/>
          </a:xfrm>
          <a:custGeom>
            <a:avLst/>
            <a:gdLst>
              <a:gd name="textAreaLeft" fmla="*/ 0 w 2293920"/>
              <a:gd name="textAreaRight" fmla="*/ 2294280 w 22939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293525" h="241103">
                <a:moveTo>
                  <a:pt x="0" y="0"/>
                </a:moveTo>
                <a:lnTo>
                  <a:pt x="0" y="0"/>
                </a:lnTo>
                <a:lnTo>
                  <a:pt x="39903" y="0"/>
                </a:lnTo>
                <a:lnTo>
                  <a:pt x="83084" y="0"/>
                </a:lnTo>
                <a:lnTo>
                  <a:pt x="125374" y="0"/>
                </a:lnTo>
                <a:lnTo>
                  <a:pt x="163451" y="2646"/>
                </a:lnTo>
                <a:lnTo>
                  <a:pt x="204156" y="7688"/>
                </a:lnTo>
                <a:lnTo>
                  <a:pt x="236550" y="8562"/>
                </a:lnTo>
                <a:lnTo>
                  <a:pt x="276023" y="13561"/>
                </a:lnTo>
                <a:lnTo>
                  <a:pt x="309657" y="21326"/>
                </a:lnTo>
                <a:lnTo>
                  <a:pt x="347956" y="25171"/>
                </a:lnTo>
                <a:lnTo>
                  <a:pt x="385982" y="31050"/>
                </a:lnTo>
                <a:lnTo>
                  <a:pt x="427125" y="34335"/>
                </a:lnTo>
                <a:lnTo>
                  <a:pt x="470734" y="40049"/>
                </a:lnTo>
                <a:lnTo>
                  <a:pt x="515075" y="48026"/>
                </a:lnTo>
                <a:lnTo>
                  <a:pt x="554892" y="51933"/>
                </a:lnTo>
                <a:lnTo>
                  <a:pt x="596566" y="53090"/>
                </a:lnTo>
                <a:lnTo>
                  <a:pt x="640333" y="58174"/>
                </a:lnTo>
                <a:lnTo>
                  <a:pt x="684720" y="61224"/>
                </a:lnTo>
                <a:lnTo>
                  <a:pt x="717070" y="64583"/>
                </a:lnTo>
                <a:lnTo>
                  <a:pt x="750300" y="69383"/>
                </a:lnTo>
                <a:lnTo>
                  <a:pt x="781605" y="74824"/>
                </a:lnTo>
                <a:lnTo>
                  <a:pt x="812054" y="80549"/>
                </a:lnTo>
                <a:lnTo>
                  <a:pt x="843116" y="86401"/>
                </a:lnTo>
                <a:lnTo>
                  <a:pt x="876766" y="92310"/>
                </a:lnTo>
                <a:lnTo>
                  <a:pt x="908919" y="95597"/>
                </a:lnTo>
                <a:lnTo>
                  <a:pt x="939746" y="98050"/>
                </a:lnTo>
                <a:lnTo>
                  <a:pt x="969983" y="102447"/>
                </a:lnTo>
                <a:lnTo>
                  <a:pt x="999958" y="107709"/>
                </a:lnTo>
                <a:lnTo>
                  <a:pt x="1029817" y="113355"/>
                </a:lnTo>
                <a:lnTo>
                  <a:pt x="1059624" y="119173"/>
                </a:lnTo>
                <a:lnTo>
                  <a:pt x="1089407" y="125064"/>
                </a:lnTo>
                <a:lnTo>
                  <a:pt x="1119181" y="130990"/>
                </a:lnTo>
                <a:lnTo>
                  <a:pt x="1148951" y="136932"/>
                </a:lnTo>
                <a:lnTo>
                  <a:pt x="1178718" y="140234"/>
                </a:lnTo>
                <a:lnTo>
                  <a:pt x="1208485" y="142694"/>
                </a:lnTo>
                <a:lnTo>
                  <a:pt x="1253133" y="149656"/>
                </a:lnTo>
                <a:lnTo>
                  <a:pt x="1297782" y="157011"/>
                </a:lnTo>
                <a:lnTo>
                  <a:pt x="1327548" y="159079"/>
                </a:lnTo>
                <a:lnTo>
                  <a:pt x="1359958" y="162645"/>
                </a:lnTo>
                <a:lnTo>
                  <a:pt x="1392223" y="167536"/>
                </a:lnTo>
                <a:lnTo>
                  <a:pt x="1433692" y="174877"/>
                </a:lnTo>
                <a:lnTo>
                  <a:pt x="1475965" y="177492"/>
                </a:lnTo>
                <a:lnTo>
                  <a:pt x="1515060" y="179260"/>
                </a:lnTo>
                <a:lnTo>
                  <a:pt x="1557621" y="184634"/>
                </a:lnTo>
                <a:lnTo>
                  <a:pt x="1601651" y="187660"/>
                </a:lnTo>
                <a:lnTo>
                  <a:pt x="1645124" y="193407"/>
                </a:lnTo>
                <a:lnTo>
                  <a:pt x="1683582" y="195551"/>
                </a:lnTo>
                <a:lnTo>
                  <a:pt x="1720111" y="196185"/>
                </a:lnTo>
                <a:lnTo>
                  <a:pt x="1756070" y="197366"/>
                </a:lnTo>
                <a:lnTo>
                  <a:pt x="1791860" y="202566"/>
                </a:lnTo>
                <a:lnTo>
                  <a:pt x="1827601" y="204548"/>
                </a:lnTo>
                <a:lnTo>
                  <a:pt x="1863326" y="205136"/>
                </a:lnTo>
                <a:lnTo>
                  <a:pt x="1899047" y="206302"/>
                </a:lnTo>
                <a:lnTo>
                  <a:pt x="1933774" y="211498"/>
                </a:lnTo>
                <a:lnTo>
                  <a:pt x="1972677" y="213756"/>
                </a:lnTo>
                <a:lnTo>
                  <a:pt x="2013767" y="214203"/>
                </a:lnTo>
                <a:lnTo>
                  <a:pt x="2052971" y="214291"/>
                </a:lnTo>
                <a:lnTo>
                  <a:pt x="2089378" y="216954"/>
                </a:lnTo>
                <a:lnTo>
                  <a:pt x="2125232" y="222000"/>
                </a:lnTo>
                <a:lnTo>
                  <a:pt x="2160977" y="222997"/>
                </a:lnTo>
                <a:lnTo>
                  <a:pt x="2196703" y="223194"/>
                </a:lnTo>
                <a:lnTo>
                  <a:pt x="2233232" y="224228"/>
                </a:lnTo>
                <a:lnTo>
                  <a:pt x="2251911" y="230308"/>
                </a:lnTo>
                <a:lnTo>
                  <a:pt x="2293524" y="232169"/>
                </a:lnTo>
                <a:lnTo>
                  <a:pt x="2291659" y="234816"/>
                </a:lnTo>
                <a:lnTo>
                  <a:pt x="2289773" y="236912"/>
                </a:lnTo>
                <a:lnTo>
                  <a:pt x="2282386" y="239240"/>
                </a:lnTo>
                <a:lnTo>
                  <a:pt x="2268141" y="24110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SMARTInkShape-320"/>
          <p:cNvSpPr/>
          <p:nvPr/>
        </p:nvSpPr>
        <p:spPr>
          <a:xfrm>
            <a:off x="561960" y="6205680"/>
            <a:ext cx="2633760" cy="598320"/>
          </a:xfrm>
          <a:custGeom>
            <a:avLst/>
            <a:gdLst>
              <a:gd name="textAreaLeft" fmla="*/ 0 w 2633760"/>
              <a:gd name="textAreaRight" fmla="*/ 2634120 w 2633760"/>
              <a:gd name="textAreaTop" fmla="*/ 0 h 598320"/>
              <a:gd name="textAreaBottom" fmla="*/ 598320 h 598320"/>
            </a:gdLst>
            <a:ahLst/>
            <a:rect l="textAreaLeft" t="textAreaTop" r="textAreaRight" b="textAreaBottom"/>
            <a:pathLst>
              <a:path w="2632817" h="598290">
                <a:moveTo>
                  <a:pt x="98072" y="437555"/>
                </a:moveTo>
                <a:lnTo>
                  <a:pt x="98072" y="437555"/>
                </a:lnTo>
                <a:lnTo>
                  <a:pt x="89510" y="446117"/>
                </a:lnTo>
                <a:lnTo>
                  <a:pt x="102706" y="446482"/>
                </a:lnTo>
                <a:lnTo>
                  <a:pt x="107738" y="449129"/>
                </a:lnTo>
                <a:lnTo>
                  <a:pt x="113282" y="452621"/>
                </a:lnTo>
                <a:lnTo>
                  <a:pt x="124926" y="454863"/>
                </a:lnTo>
                <a:lnTo>
                  <a:pt x="146881" y="456334"/>
                </a:lnTo>
                <a:lnTo>
                  <a:pt x="176375" y="463511"/>
                </a:lnTo>
                <a:lnTo>
                  <a:pt x="217553" y="464271"/>
                </a:lnTo>
                <a:lnTo>
                  <a:pt x="240961" y="465315"/>
                </a:lnTo>
                <a:lnTo>
                  <a:pt x="282780" y="472029"/>
                </a:lnTo>
                <a:lnTo>
                  <a:pt x="320758" y="473029"/>
                </a:lnTo>
                <a:lnTo>
                  <a:pt x="359569" y="475872"/>
                </a:lnTo>
                <a:lnTo>
                  <a:pt x="393503" y="480327"/>
                </a:lnTo>
                <a:lnTo>
                  <a:pt x="428693" y="481647"/>
                </a:lnTo>
                <a:lnTo>
                  <a:pt x="464255" y="482039"/>
                </a:lnTo>
                <a:lnTo>
                  <a:pt x="507087" y="482171"/>
                </a:lnTo>
                <a:lnTo>
                  <a:pt x="544589" y="482194"/>
                </a:lnTo>
                <a:lnTo>
                  <a:pt x="582379" y="482201"/>
                </a:lnTo>
                <a:lnTo>
                  <a:pt x="618712" y="477462"/>
                </a:lnTo>
                <a:lnTo>
                  <a:pt x="659353" y="474515"/>
                </a:lnTo>
                <a:lnTo>
                  <a:pt x="698073" y="473641"/>
                </a:lnTo>
                <a:lnTo>
                  <a:pt x="734682" y="473382"/>
                </a:lnTo>
                <a:lnTo>
                  <a:pt x="775405" y="473306"/>
                </a:lnTo>
                <a:lnTo>
                  <a:pt x="818890" y="473284"/>
                </a:lnTo>
                <a:lnTo>
                  <a:pt x="863193" y="473277"/>
                </a:lnTo>
                <a:lnTo>
                  <a:pt x="907740" y="478015"/>
                </a:lnTo>
                <a:lnTo>
                  <a:pt x="952358" y="480963"/>
                </a:lnTo>
                <a:lnTo>
                  <a:pt x="996998" y="486577"/>
                </a:lnTo>
                <a:lnTo>
                  <a:pt x="1041643" y="489783"/>
                </a:lnTo>
                <a:lnTo>
                  <a:pt x="1086291" y="490733"/>
                </a:lnTo>
                <a:lnTo>
                  <a:pt x="1130939" y="495755"/>
                </a:lnTo>
                <a:lnTo>
                  <a:pt x="1175587" y="498787"/>
                </a:lnTo>
                <a:lnTo>
                  <a:pt x="1220236" y="499684"/>
                </a:lnTo>
                <a:lnTo>
                  <a:pt x="1260144" y="499951"/>
                </a:lnTo>
                <a:lnTo>
                  <a:pt x="1301844" y="500029"/>
                </a:lnTo>
                <a:lnTo>
                  <a:pt x="1345619" y="500053"/>
                </a:lnTo>
                <a:lnTo>
                  <a:pt x="1390009" y="500060"/>
                </a:lnTo>
                <a:lnTo>
                  <a:pt x="1434581" y="500063"/>
                </a:lnTo>
                <a:lnTo>
                  <a:pt x="1466974" y="502709"/>
                </a:lnTo>
                <a:lnTo>
                  <a:pt x="1500223" y="506199"/>
                </a:lnTo>
                <a:lnTo>
                  <a:pt x="1531537" y="507751"/>
                </a:lnTo>
                <a:lnTo>
                  <a:pt x="1572316" y="508625"/>
                </a:lnTo>
                <a:lnTo>
                  <a:pt x="1614274" y="508884"/>
                </a:lnTo>
                <a:lnTo>
                  <a:pt x="1658126" y="508960"/>
                </a:lnTo>
                <a:lnTo>
                  <a:pt x="1702538" y="508983"/>
                </a:lnTo>
                <a:lnTo>
                  <a:pt x="1747117" y="508990"/>
                </a:lnTo>
                <a:lnTo>
                  <a:pt x="1791745" y="513733"/>
                </a:lnTo>
                <a:lnTo>
                  <a:pt x="1831647" y="516681"/>
                </a:lnTo>
                <a:lnTo>
                  <a:pt x="1873345" y="517554"/>
                </a:lnTo>
                <a:lnTo>
                  <a:pt x="1912379" y="517813"/>
                </a:lnTo>
                <a:lnTo>
                  <a:pt x="1949080" y="522630"/>
                </a:lnTo>
                <a:lnTo>
                  <a:pt x="1985089" y="525601"/>
                </a:lnTo>
                <a:lnTo>
                  <a:pt x="2020895" y="531222"/>
                </a:lnTo>
                <a:lnTo>
                  <a:pt x="2056639" y="534430"/>
                </a:lnTo>
                <a:lnTo>
                  <a:pt x="2098136" y="541651"/>
                </a:lnTo>
                <a:lnTo>
                  <a:pt x="2140876" y="546753"/>
                </a:lnTo>
                <a:lnTo>
                  <a:pt x="2183015" y="557021"/>
                </a:lnTo>
                <a:lnTo>
                  <a:pt x="2222428" y="562466"/>
                </a:lnTo>
                <a:lnTo>
                  <a:pt x="2263126" y="574856"/>
                </a:lnTo>
                <a:lnTo>
                  <a:pt x="2301595" y="582342"/>
                </a:lnTo>
                <a:lnTo>
                  <a:pt x="2320939" y="587280"/>
                </a:lnTo>
                <a:lnTo>
                  <a:pt x="2339238" y="591390"/>
                </a:lnTo>
                <a:lnTo>
                  <a:pt x="2358459" y="596926"/>
                </a:lnTo>
                <a:lnTo>
                  <a:pt x="2401921" y="598289"/>
                </a:lnTo>
                <a:lnTo>
                  <a:pt x="2401931" y="585861"/>
                </a:lnTo>
                <a:lnTo>
                  <a:pt x="2404577" y="580198"/>
                </a:lnTo>
                <a:lnTo>
                  <a:pt x="2408068" y="574374"/>
                </a:lnTo>
                <a:lnTo>
                  <a:pt x="2410309" y="562550"/>
                </a:lnTo>
                <a:lnTo>
                  <a:pt x="2410493" y="559580"/>
                </a:lnTo>
                <a:lnTo>
                  <a:pt x="2413343" y="553634"/>
                </a:lnTo>
                <a:lnTo>
                  <a:pt x="2433778" y="520734"/>
                </a:lnTo>
                <a:lnTo>
                  <a:pt x="2449928" y="476128"/>
                </a:lnTo>
                <a:lnTo>
                  <a:pt x="2467133" y="446469"/>
                </a:lnTo>
                <a:lnTo>
                  <a:pt x="2484043" y="422670"/>
                </a:lnTo>
                <a:lnTo>
                  <a:pt x="2503027" y="379265"/>
                </a:lnTo>
                <a:lnTo>
                  <a:pt x="2511685" y="369315"/>
                </a:lnTo>
                <a:lnTo>
                  <a:pt x="2516772" y="365272"/>
                </a:lnTo>
                <a:lnTo>
                  <a:pt x="2537966" y="334403"/>
                </a:lnTo>
                <a:lnTo>
                  <a:pt x="2547719" y="325233"/>
                </a:lnTo>
                <a:lnTo>
                  <a:pt x="2582142" y="284452"/>
                </a:lnTo>
                <a:lnTo>
                  <a:pt x="2610255" y="242726"/>
                </a:lnTo>
                <a:lnTo>
                  <a:pt x="2622523" y="223848"/>
                </a:lnTo>
                <a:lnTo>
                  <a:pt x="2625817" y="208440"/>
                </a:lnTo>
                <a:lnTo>
                  <a:pt x="2632816" y="198227"/>
                </a:lnTo>
                <a:lnTo>
                  <a:pt x="2632253" y="197636"/>
                </a:lnTo>
                <a:lnTo>
                  <a:pt x="2626301" y="196610"/>
                </a:lnTo>
                <a:lnTo>
                  <a:pt x="2625675" y="193877"/>
                </a:lnTo>
                <a:lnTo>
                  <a:pt x="2625508" y="191758"/>
                </a:lnTo>
                <a:lnTo>
                  <a:pt x="2624404" y="190347"/>
                </a:lnTo>
                <a:lnTo>
                  <a:pt x="2607095" y="180621"/>
                </a:lnTo>
                <a:lnTo>
                  <a:pt x="2568261" y="169579"/>
                </a:lnTo>
                <a:lnTo>
                  <a:pt x="2538806" y="162095"/>
                </a:lnTo>
                <a:lnTo>
                  <a:pt x="2499367" y="158268"/>
                </a:lnTo>
                <a:lnTo>
                  <a:pt x="2459542" y="153081"/>
                </a:lnTo>
                <a:lnTo>
                  <a:pt x="2425175" y="147443"/>
                </a:lnTo>
                <a:lnTo>
                  <a:pt x="2384143" y="143778"/>
                </a:lnTo>
                <a:lnTo>
                  <a:pt x="2349477" y="142151"/>
                </a:lnTo>
                <a:lnTo>
                  <a:pt x="2309219" y="136817"/>
                </a:lnTo>
                <a:lnTo>
                  <a:pt x="2270722" y="133805"/>
                </a:lnTo>
                <a:lnTo>
                  <a:pt x="2228337" y="128061"/>
                </a:lnTo>
                <a:lnTo>
                  <a:pt x="2185352" y="124927"/>
                </a:lnTo>
                <a:lnTo>
                  <a:pt x="2146047" y="119147"/>
                </a:lnTo>
                <a:lnTo>
                  <a:pt x="2103423" y="116001"/>
                </a:lnTo>
                <a:lnTo>
                  <a:pt x="2074131" y="111750"/>
                </a:lnTo>
                <a:lnTo>
                  <a:pt x="2039284" y="106552"/>
                </a:lnTo>
                <a:lnTo>
                  <a:pt x="2001637" y="100935"/>
                </a:lnTo>
                <a:lnTo>
                  <a:pt x="1965062" y="95130"/>
                </a:lnTo>
                <a:lnTo>
                  <a:pt x="1928962" y="91890"/>
                </a:lnTo>
                <a:lnTo>
                  <a:pt x="1894066" y="89457"/>
                </a:lnTo>
                <a:lnTo>
                  <a:pt x="1862021" y="85069"/>
                </a:lnTo>
                <a:lnTo>
                  <a:pt x="1828596" y="82457"/>
                </a:lnTo>
                <a:lnTo>
                  <a:pt x="1794889" y="81297"/>
                </a:lnTo>
                <a:lnTo>
                  <a:pt x="1763372" y="80780"/>
                </a:lnTo>
                <a:lnTo>
                  <a:pt x="1730182" y="77906"/>
                </a:lnTo>
                <a:lnTo>
                  <a:pt x="1695587" y="74313"/>
                </a:lnTo>
                <a:lnTo>
                  <a:pt x="1660367" y="72716"/>
                </a:lnTo>
                <a:lnTo>
                  <a:pt x="1624871" y="72006"/>
                </a:lnTo>
                <a:lnTo>
                  <a:pt x="1589250" y="71690"/>
                </a:lnTo>
                <a:lnTo>
                  <a:pt x="1553576" y="71550"/>
                </a:lnTo>
                <a:lnTo>
                  <a:pt x="1517876" y="71488"/>
                </a:lnTo>
                <a:lnTo>
                  <a:pt x="1482166" y="70469"/>
                </a:lnTo>
                <a:lnTo>
                  <a:pt x="1446451" y="66707"/>
                </a:lnTo>
                <a:lnTo>
                  <a:pt x="1410735" y="64374"/>
                </a:lnTo>
                <a:lnTo>
                  <a:pt x="1375017" y="63338"/>
                </a:lnTo>
                <a:lnTo>
                  <a:pt x="1339298" y="62876"/>
                </a:lnTo>
                <a:lnTo>
                  <a:pt x="1303579" y="60025"/>
                </a:lnTo>
                <a:lnTo>
                  <a:pt x="1267861" y="56444"/>
                </a:lnTo>
                <a:lnTo>
                  <a:pt x="1232142" y="54852"/>
                </a:lnTo>
                <a:lnTo>
                  <a:pt x="1196423" y="54145"/>
                </a:lnTo>
                <a:lnTo>
                  <a:pt x="1160704" y="52838"/>
                </a:lnTo>
                <a:lnTo>
                  <a:pt x="1124986" y="48950"/>
                </a:lnTo>
                <a:lnTo>
                  <a:pt x="1089267" y="46560"/>
                </a:lnTo>
                <a:lnTo>
                  <a:pt x="1054541" y="45498"/>
                </a:lnTo>
                <a:lnTo>
                  <a:pt x="1022570" y="45026"/>
                </a:lnTo>
                <a:lnTo>
                  <a:pt x="989179" y="44817"/>
                </a:lnTo>
                <a:lnTo>
                  <a:pt x="954494" y="44724"/>
                </a:lnTo>
                <a:lnTo>
                  <a:pt x="919235" y="44682"/>
                </a:lnTo>
                <a:lnTo>
                  <a:pt x="883721" y="44664"/>
                </a:lnTo>
                <a:lnTo>
                  <a:pt x="849085" y="44657"/>
                </a:lnTo>
                <a:lnTo>
                  <a:pt x="817155" y="44651"/>
                </a:lnTo>
                <a:lnTo>
                  <a:pt x="786427" y="42004"/>
                </a:lnTo>
                <a:lnTo>
                  <a:pt x="755242" y="38512"/>
                </a:lnTo>
                <a:lnTo>
                  <a:pt x="721538" y="36961"/>
                </a:lnTo>
                <a:lnTo>
                  <a:pt x="689361" y="36270"/>
                </a:lnTo>
                <a:lnTo>
                  <a:pt x="646000" y="33236"/>
                </a:lnTo>
                <a:lnTo>
                  <a:pt x="605371" y="26055"/>
                </a:lnTo>
                <a:lnTo>
                  <a:pt x="564560" y="20288"/>
                </a:lnTo>
                <a:lnTo>
                  <a:pt x="524686" y="15934"/>
                </a:lnTo>
                <a:lnTo>
                  <a:pt x="484098" y="11005"/>
                </a:lnTo>
                <a:lnTo>
                  <a:pt x="446937" y="9545"/>
                </a:lnTo>
                <a:lnTo>
                  <a:pt x="410791" y="6466"/>
                </a:lnTo>
                <a:lnTo>
                  <a:pt x="374945" y="1917"/>
                </a:lnTo>
                <a:lnTo>
                  <a:pt x="339189" y="568"/>
                </a:lnTo>
                <a:lnTo>
                  <a:pt x="296292" y="113"/>
                </a:lnTo>
                <a:lnTo>
                  <a:pt x="259155" y="23"/>
                </a:lnTo>
                <a:lnTo>
                  <a:pt x="223156" y="5"/>
                </a:lnTo>
                <a:lnTo>
                  <a:pt x="179229" y="0"/>
                </a:lnTo>
                <a:lnTo>
                  <a:pt x="148777" y="993"/>
                </a:lnTo>
                <a:lnTo>
                  <a:pt x="107008" y="8379"/>
                </a:lnTo>
                <a:lnTo>
                  <a:pt x="96090" y="9677"/>
                </a:lnTo>
                <a:lnTo>
                  <a:pt x="84366" y="15986"/>
                </a:lnTo>
                <a:lnTo>
                  <a:pt x="68461" y="29911"/>
                </a:lnTo>
                <a:lnTo>
                  <a:pt x="50798" y="51736"/>
                </a:lnTo>
                <a:lnTo>
                  <a:pt x="45720" y="55327"/>
                </a:lnTo>
                <a:lnTo>
                  <a:pt x="42335" y="60697"/>
                </a:lnTo>
                <a:lnTo>
                  <a:pt x="29029" y="100652"/>
                </a:lnTo>
                <a:lnTo>
                  <a:pt x="14652" y="140377"/>
                </a:lnTo>
                <a:lnTo>
                  <a:pt x="5776" y="173665"/>
                </a:lnTo>
                <a:lnTo>
                  <a:pt x="1602" y="208663"/>
                </a:lnTo>
                <a:lnTo>
                  <a:pt x="366" y="244169"/>
                </a:lnTo>
                <a:lnTo>
                  <a:pt x="0" y="279824"/>
                </a:lnTo>
                <a:lnTo>
                  <a:pt x="868" y="321291"/>
                </a:lnTo>
                <a:lnTo>
                  <a:pt x="7976" y="355040"/>
                </a:lnTo>
                <a:lnTo>
                  <a:pt x="22208" y="390176"/>
                </a:lnTo>
                <a:lnTo>
                  <a:pt x="39985" y="425721"/>
                </a:lnTo>
                <a:lnTo>
                  <a:pt x="63663" y="462381"/>
                </a:lnTo>
                <a:lnTo>
                  <a:pt x="98072" y="51792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Finally Offic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380 AD, Emperor Theodosius declared Christianity the Offical Religion of the Roman Empir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51" name="Picture 5" descr="The Vatican Obelisk by organic.matter."/>
          <p:cNvPicPr/>
          <p:nvPr/>
        </p:nvPicPr>
        <p:blipFill>
          <a:blip r:embed="rId1"/>
          <a:stretch/>
        </p:blipFill>
        <p:spPr>
          <a:xfrm>
            <a:off x="2666880" y="3286080"/>
            <a:ext cx="4762800" cy="3571920"/>
          </a:xfrm>
          <a:prstGeom prst="rect">
            <a:avLst/>
          </a:prstGeom>
          <a:ln w="0">
            <a:noFill/>
          </a:ln>
        </p:spPr>
      </p:pic>
      <p:grpSp>
        <p:nvGrpSpPr>
          <p:cNvPr id="452" name="SMARTInkShape-Group252"/>
          <p:cNvGrpSpPr/>
          <p:nvPr/>
        </p:nvGrpSpPr>
        <p:grpSpPr>
          <a:xfrm>
            <a:off x="7375680" y="2803680"/>
            <a:ext cx="107640" cy="27000"/>
            <a:chOff x="7375680" y="2803680"/>
            <a:chExt cx="107640" cy="27000"/>
          </a:xfrm>
        </p:grpSpPr>
        <p:sp>
          <p:nvSpPr>
            <p:cNvPr id="453" name="SMARTInkShape-321"/>
            <p:cNvSpPr/>
            <p:nvPr/>
          </p:nvSpPr>
          <p:spPr>
            <a:xfrm>
              <a:off x="7447320" y="2812680"/>
              <a:ext cx="36000" cy="18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719" h="17751">
                  <a:moveTo>
                    <a:pt x="-29818" y="8820"/>
                  </a:moveTo>
                  <a:lnTo>
                    <a:pt x="-29818" y="8820"/>
                  </a:lnTo>
                  <a:lnTo>
                    <a:pt x="30978" y="4079"/>
                  </a:lnTo>
                  <a:lnTo>
                    <a:pt x="26005" y="1752"/>
                  </a:lnTo>
                  <a:lnTo>
                    <a:pt x="18336" y="0"/>
                  </a:lnTo>
                  <a:lnTo>
                    <a:pt x="0" y="17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4" name="SMARTInkShape-322"/>
            <p:cNvSpPr/>
            <p:nvPr/>
          </p:nvSpPr>
          <p:spPr>
            <a:xfrm>
              <a:off x="7375680" y="2803680"/>
              <a:ext cx="18000" cy="3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860" h="1">
                  <a:moveTo>
                    <a:pt x="0" y="0"/>
                  </a:moveTo>
                  <a:lnTo>
                    <a:pt x="0" y="0"/>
                  </a:lnTo>
                  <a:lnTo>
                    <a:pt x="1785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55" name="SMARTInkShape-323"/>
          <p:cNvSpPr/>
          <p:nvPr/>
        </p:nvSpPr>
        <p:spPr>
          <a:xfrm>
            <a:off x="795240" y="3106800"/>
            <a:ext cx="1928880" cy="6336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928814" h="62486">
                <a:moveTo>
                  <a:pt x="0" y="26789"/>
                </a:moveTo>
                <a:lnTo>
                  <a:pt x="0" y="26789"/>
                </a:lnTo>
                <a:lnTo>
                  <a:pt x="39902" y="26789"/>
                </a:lnTo>
                <a:lnTo>
                  <a:pt x="55920" y="27782"/>
                </a:lnTo>
                <a:lnTo>
                  <a:pt x="73939" y="34477"/>
                </a:lnTo>
                <a:lnTo>
                  <a:pt x="116300" y="38316"/>
                </a:lnTo>
                <a:lnTo>
                  <a:pt x="134009" y="42772"/>
                </a:lnTo>
                <a:lnTo>
                  <a:pt x="172315" y="47129"/>
                </a:lnTo>
                <a:lnTo>
                  <a:pt x="216407" y="55658"/>
                </a:lnTo>
                <a:lnTo>
                  <a:pt x="253100" y="61606"/>
                </a:lnTo>
                <a:lnTo>
                  <a:pt x="295084" y="62389"/>
                </a:lnTo>
                <a:lnTo>
                  <a:pt x="331471" y="62485"/>
                </a:lnTo>
                <a:lnTo>
                  <a:pt x="373201" y="59857"/>
                </a:lnTo>
                <a:lnTo>
                  <a:pt x="410401" y="54818"/>
                </a:lnTo>
                <a:lnTo>
                  <a:pt x="452549" y="53823"/>
                </a:lnTo>
                <a:lnTo>
                  <a:pt x="493213" y="50981"/>
                </a:lnTo>
                <a:lnTo>
                  <a:pt x="527468" y="46525"/>
                </a:lnTo>
                <a:lnTo>
                  <a:pt x="562753" y="45204"/>
                </a:lnTo>
                <a:lnTo>
                  <a:pt x="598343" y="42167"/>
                </a:lnTo>
                <a:lnTo>
                  <a:pt x="634024" y="37630"/>
                </a:lnTo>
                <a:lnTo>
                  <a:pt x="669731" y="36285"/>
                </a:lnTo>
                <a:lnTo>
                  <a:pt x="705447" y="35886"/>
                </a:lnTo>
                <a:lnTo>
                  <a:pt x="743811" y="33123"/>
                </a:lnTo>
                <a:lnTo>
                  <a:pt x="783951" y="28665"/>
                </a:lnTo>
                <a:lnTo>
                  <a:pt x="820980" y="27345"/>
                </a:lnTo>
                <a:lnTo>
                  <a:pt x="859732" y="26954"/>
                </a:lnTo>
                <a:lnTo>
                  <a:pt x="899988" y="26838"/>
                </a:lnTo>
                <a:lnTo>
                  <a:pt x="939697" y="24158"/>
                </a:lnTo>
                <a:lnTo>
                  <a:pt x="980236" y="19725"/>
                </a:lnTo>
                <a:lnTo>
                  <a:pt x="1020029" y="18412"/>
                </a:lnTo>
                <a:lnTo>
                  <a:pt x="1063239" y="18023"/>
                </a:lnTo>
                <a:lnTo>
                  <a:pt x="1104815" y="15262"/>
                </a:lnTo>
                <a:lnTo>
                  <a:pt x="1144915" y="10806"/>
                </a:lnTo>
                <a:lnTo>
                  <a:pt x="1188216" y="9486"/>
                </a:lnTo>
                <a:lnTo>
                  <a:pt x="1229819" y="9094"/>
                </a:lnTo>
                <a:lnTo>
                  <a:pt x="1269927" y="8979"/>
                </a:lnTo>
                <a:lnTo>
                  <a:pt x="1313230" y="6298"/>
                </a:lnTo>
                <a:lnTo>
                  <a:pt x="1354834" y="1866"/>
                </a:lnTo>
                <a:lnTo>
                  <a:pt x="1394943" y="553"/>
                </a:lnTo>
                <a:lnTo>
                  <a:pt x="1435600" y="164"/>
                </a:lnTo>
                <a:lnTo>
                  <a:pt x="1472783" y="49"/>
                </a:lnTo>
                <a:lnTo>
                  <a:pt x="1508935" y="14"/>
                </a:lnTo>
                <a:lnTo>
                  <a:pt x="1547428" y="4"/>
                </a:lnTo>
                <a:lnTo>
                  <a:pt x="1587607" y="1"/>
                </a:lnTo>
                <a:lnTo>
                  <a:pt x="1624647" y="0"/>
                </a:lnTo>
                <a:lnTo>
                  <a:pt x="1667978" y="0"/>
                </a:lnTo>
                <a:lnTo>
                  <a:pt x="1712329" y="0"/>
                </a:lnTo>
                <a:lnTo>
                  <a:pt x="1747481" y="0"/>
                </a:lnTo>
                <a:lnTo>
                  <a:pt x="1782040" y="0"/>
                </a:lnTo>
                <a:lnTo>
                  <a:pt x="1823532" y="0"/>
                </a:lnTo>
                <a:lnTo>
                  <a:pt x="1868168" y="992"/>
                </a:lnTo>
                <a:lnTo>
                  <a:pt x="1911199" y="7688"/>
                </a:lnTo>
                <a:lnTo>
                  <a:pt x="1928813" y="893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SMARTInkShape-324"/>
          <p:cNvSpPr/>
          <p:nvPr/>
        </p:nvSpPr>
        <p:spPr>
          <a:xfrm>
            <a:off x="866880" y="2554200"/>
            <a:ext cx="7678800" cy="196920"/>
          </a:xfrm>
          <a:custGeom>
            <a:avLst/>
            <a:gdLst>
              <a:gd name="textAreaLeft" fmla="*/ 0 w 7678800"/>
              <a:gd name="textAreaRight" fmla="*/ 7679160 w 76788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7679531" h="196454">
                <a:moveTo>
                  <a:pt x="0" y="0"/>
                </a:moveTo>
                <a:lnTo>
                  <a:pt x="0" y="0"/>
                </a:lnTo>
                <a:lnTo>
                  <a:pt x="12428" y="0"/>
                </a:lnTo>
                <a:lnTo>
                  <a:pt x="18091" y="2645"/>
                </a:lnTo>
                <a:lnTo>
                  <a:pt x="23915" y="6136"/>
                </a:lnTo>
                <a:lnTo>
                  <a:pt x="35739" y="8377"/>
                </a:lnTo>
                <a:lnTo>
                  <a:pt x="74763" y="8908"/>
                </a:lnTo>
                <a:lnTo>
                  <a:pt x="116106" y="8928"/>
                </a:lnTo>
                <a:lnTo>
                  <a:pt x="154452" y="8929"/>
                </a:lnTo>
                <a:lnTo>
                  <a:pt x="198547" y="8929"/>
                </a:lnTo>
                <a:lnTo>
                  <a:pt x="214251" y="7937"/>
                </a:lnTo>
                <a:lnTo>
                  <a:pt x="251395" y="1241"/>
                </a:lnTo>
                <a:lnTo>
                  <a:pt x="296040" y="7797"/>
                </a:lnTo>
                <a:lnTo>
                  <a:pt x="339507" y="8780"/>
                </a:lnTo>
                <a:lnTo>
                  <a:pt x="384000" y="8909"/>
                </a:lnTo>
                <a:lnTo>
                  <a:pt x="419700" y="11571"/>
                </a:lnTo>
                <a:lnTo>
                  <a:pt x="460155" y="16617"/>
                </a:lnTo>
                <a:lnTo>
                  <a:pt x="494632" y="17491"/>
                </a:lnTo>
                <a:lnTo>
                  <a:pt x="535700" y="17786"/>
                </a:lnTo>
                <a:lnTo>
                  <a:pt x="569381" y="18829"/>
                </a:lnTo>
                <a:lnTo>
                  <a:pt x="613672" y="24923"/>
                </a:lnTo>
                <a:lnTo>
                  <a:pt x="656118" y="26420"/>
                </a:lnTo>
                <a:lnTo>
                  <a:pt x="690940" y="26679"/>
                </a:lnTo>
                <a:lnTo>
                  <a:pt x="731133" y="26756"/>
                </a:lnTo>
                <a:lnTo>
                  <a:pt x="769721" y="26779"/>
                </a:lnTo>
                <a:lnTo>
                  <a:pt x="811030" y="26786"/>
                </a:lnTo>
                <a:lnTo>
                  <a:pt x="849949" y="26788"/>
                </a:lnTo>
                <a:lnTo>
                  <a:pt x="886616" y="26788"/>
                </a:lnTo>
                <a:lnTo>
                  <a:pt x="927356" y="26789"/>
                </a:lnTo>
                <a:lnTo>
                  <a:pt x="970847" y="26789"/>
                </a:lnTo>
                <a:lnTo>
                  <a:pt x="1010411" y="26789"/>
                </a:lnTo>
                <a:lnTo>
                  <a:pt x="1052010" y="26789"/>
                </a:lnTo>
                <a:lnTo>
                  <a:pt x="1095755" y="26789"/>
                </a:lnTo>
                <a:lnTo>
                  <a:pt x="1140136" y="26789"/>
                </a:lnTo>
                <a:lnTo>
                  <a:pt x="1184705" y="31529"/>
                </a:lnTo>
                <a:lnTo>
                  <a:pt x="1217098" y="33856"/>
                </a:lnTo>
                <a:lnTo>
                  <a:pt x="1250346" y="34891"/>
                </a:lnTo>
                <a:lnTo>
                  <a:pt x="1281660" y="35350"/>
                </a:lnTo>
                <a:lnTo>
                  <a:pt x="1312113" y="35555"/>
                </a:lnTo>
                <a:lnTo>
                  <a:pt x="1342185" y="35646"/>
                </a:lnTo>
                <a:lnTo>
                  <a:pt x="1372086" y="35686"/>
                </a:lnTo>
                <a:lnTo>
                  <a:pt x="1404558" y="35704"/>
                </a:lnTo>
                <a:lnTo>
                  <a:pt x="1437842" y="35712"/>
                </a:lnTo>
                <a:lnTo>
                  <a:pt x="1469171" y="35715"/>
                </a:lnTo>
                <a:lnTo>
                  <a:pt x="1502277" y="35717"/>
                </a:lnTo>
                <a:lnTo>
                  <a:pt x="1536835" y="35718"/>
                </a:lnTo>
                <a:lnTo>
                  <a:pt x="1572038" y="35718"/>
                </a:lnTo>
                <a:lnTo>
                  <a:pt x="1604881" y="35718"/>
                </a:lnTo>
                <a:lnTo>
                  <a:pt x="1637007" y="35718"/>
                </a:lnTo>
                <a:lnTo>
                  <a:pt x="1671129" y="35718"/>
                </a:lnTo>
                <a:lnTo>
                  <a:pt x="1706138" y="35718"/>
                </a:lnTo>
                <a:lnTo>
                  <a:pt x="1741541" y="35718"/>
                </a:lnTo>
                <a:lnTo>
                  <a:pt x="1777120" y="35718"/>
                </a:lnTo>
                <a:lnTo>
                  <a:pt x="1812776" y="35718"/>
                </a:lnTo>
                <a:lnTo>
                  <a:pt x="1848467" y="35718"/>
                </a:lnTo>
                <a:lnTo>
                  <a:pt x="1884174" y="35718"/>
                </a:lnTo>
                <a:lnTo>
                  <a:pt x="1919887" y="35718"/>
                </a:lnTo>
                <a:lnTo>
                  <a:pt x="1955603" y="35718"/>
                </a:lnTo>
                <a:lnTo>
                  <a:pt x="1991321" y="35718"/>
                </a:lnTo>
                <a:lnTo>
                  <a:pt x="2027039" y="35718"/>
                </a:lnTo>
                <a:lnTo>
                  <a:pt x="2063750" y="35718"/>
                </a:lnTo>
                <a:lnTo>
                  <a:pt x="2103216" y="35718"/>
                </a:lnTo>
                <a:lnTo>
                  <a:pt x="2141262" y="35718"/>
                </a:lnTo>
                <a:lnTo>
                  <a:pt x="2178016" y="35718"/>
                </a:lnTo>
                <a:lnTo>
                  <a:pt x="2214194" y="35718"/>
                </a:lnTo>
                <a:lnTo>
                  <a:pt x="2250117" y="35718"/>
                </a:lnTo>
                <a:lnTo>
                  <a:pt x="2286919" y="35718"/>
                </a:lnTo>
                <a:lnTo>
                  <a:pt x="2326426" y="35718"/>
                </a:lnTo>
                <a:lnTo>
                  <a:pt x="2364490" y="35718"/>
                </a:lnTo>
                <a:lnTo>
                  <a:pt x="2402244" y="35718"/>
                </a:lnTo>
                <a:lnTo>
                  <a:pt x="2442174" y="35718"/>
                </a:lnTo>
                <a:lnTo>
                  <a:pt x="2483072" y="35718"/>
                </a:lnTo>
                <a:lnTo>
                  <a:pt x="2523408" y="35718"/>
                </a:lnTo>
                <a:lnTo>
                  <a:pt x="2561178" y="35718"/>
                </a:lnTo>
                <a:lnTo>
                  <a:pt x="2600455" y="35718"/>
                </a:lnTo>
                <a:lnTo>
                  <a:pt x="2641063" y="35718"/>
                </a:lnTo>
                <a:lnTo>
                  <a:pt x="2682261" y="35718"/>
                </a:lnTo>
                <a:lnTo>
                  <a:pt x="2723722" y="35718"/>
                </a:lnTo>
                <a:lnTo>
                  <a:pt x="2764309" y="35718"/>
                </a:lnTo>
                <a:lnTo>
                  <a:pt x="2802191" y="35718"/>
                </a:lnTo>
                <a:lnTo>
                  <a:pt x="2841517" y="35718"/>
                </a:lnTo>
                <a:lnTo>
                  <a:pt x="2882145" y="35718"/>
                </a:lnTo>
                <a:lnTo>
                  <a:pt x="2923354" y="35718"/>
                </a:lnTo>
                <a:lnTo>
                  <a:pt x="2964821" y="35718"/>
                </a:lnTo>
                <a:lnTo>
                  <a:pt x="3005409" y="35718"/>
                </a:lnTo>
                <a:lnTo>
                  <a:pt x="3043291" y="35718"/>
                </a:lnTo>
                <a:lnTo>
                  <a:pt x="3082618" y="35718"/>
                </a:lnTo>
                <a:lnTo>
                  <a:pt x="3123247" y="36711"/>
                </a:lnTo>
                <a:lnTo>
                  <a:pt x="3164456" y="40459"/>
                </a:lnTo>
                <a:lnTo>
                  <a:pt x="3203276" y="40140"/>
                </a:lnTo>
                <a:lnTo>
                  <a:pt x="3242358" y="37684"/>
                </a:lnTo>
                <a:lnTo>
                  <a:pt x="3286186" y="36592"/>
                </a:lnTo>
                <a:lnTo>
                  <a:pt x="3329477" y="38752"/>
                </a:lnTo>
                <a:lnTo>
                  <a:pt x="3370877" y="42027"/>
                </a:lnTo>
                <a:lnTo>
                  <a:pt x="3409121" y="43483"/>
                </a:lnTo>
                <a:lnTo>
                  <a:pt x="3451253" y="44130"/>
                </a:lnTo>
                <a:lnTo>
                  <a:pt x="3494453" y="44418"/>
                </a:lnTo>
                <a:lnTo>
                  <a:pt x="3533494" y="44546"/>
                </a:lnTo>
                <a:lnTo>
                  <a:pt x="3575984" y="41957"/>
                </a:lnTo>
                <a:lnTo>
                  <a:pt x="3620334" y="39483"/>
                </a:lnTo>
                <a:lnTo>
                  <a:pt x="3663196" y="41691"/>
                </a:lnTo>
                <a:lnTo>
                  <a:pt x="3705397" y="40688"/>
                </a:lnTo>
                <a:lnTo>
                  <a:pt x="3747304" y="38919"/>
                </a:lnTo>
                <a:lnTo>
                  <a:pt x="3789080" y="41440"/>
                </a:lnTo>
                <a:lnTo>
                  <a:pt x="3830798" y="43222"/>
                </a:lnTo>
                <a:lnTo>
                  <a:pt x="3872491" y="44015"/>
                </a:lnTo>
                <a:lnTo>
                  <a:pt x="3914171" y="44366"/>
                </a:lnTo>
                <a:lnTo>
                  <a:pt x="3958493" y="44522"/>
                </a:lnTo>
                <a:lnTo>
                  <a:pt x="4002666" y="44592"/>
                </a:lnTo>
                <a:lnTo>
                  <a:pt x="4042142" y="44623"/>
                </a:lnTo>
                <a:lnTo>
                  <a:pt x="4082177" y="44637"/>
                </a:lnTo>
                <a:lnTo>
                  <a:pt x="4123120" y="44643"/>
                </a:lnTo>
                <a:lnTo>
                  <a:pt x="4164469" y="44646"/>
                </a:lnTo>
                <a:lnTo>
                  <a:pt x="4205996" y="44647"/>
                </a:lnTo>
                <a:lnTo>
                  <a:pt x="4247605" y="44647"/>
                </a:lnTo>
                <a:lnTo>
                  <a:pt x="4289249" y="44648"/>
                </a:lnTo>
                <a:lnTo>
                  <a:pt x="4330908" y="44648"/>
                </a:lnTo>
                <a:lnTo>
                  <a:pt x="4372574" y="44648"/>
                </a:lnTo>
                <a:lnTo>
                  <a:pt x="4414243" y="44648"/>
                </a:lnTo>
                <a:lnTo>
                  <a:pt x="4458560" y="44648"/>
                </a:lnTo>
                <a:lnTo>
                  <a:pt x="4481490" y="44648"/>
                </a:lnTo>
                <a:lnTo>
                  <a:pt x="4525490" y="44648"/>
                </a:lnTo>
                <a:lnTo>
                  <a:pt x="4568196" y="45640"/>
                </a:lnTo>
                <a:lnTo>
                  <a:pt x="4610327" y="49388"/>
                </a:lnTo>
                <a:lnTo>
                  <a:pt x="4654850" y="51716"/>
                </a:lnTo>
                <a:lnTo>
                  <a:pt x="4677834" y="52336"/>
                </a:lnTo>
                <a:lnTo>
                  <a:pt x="4721894" y="53026"/>
                </a:lnTo>
                <a:lnTo>
                  <a:pt x="4764628" y="53332"/>
                </a:lnTo>
                <a:lnTo>
                  <a:pt x="4806770" y="53468"/>
                </a:lnTo>
                <a:lnTo>
                  <a:pt x="4851299" y="53529"/>
                </a:lnTo>
                <a:lnTo>
                  <a:pt x="4874284" y="53545"/>
                </a:lnTo>
                <a:lnTo>
                  <a:pt x="4897546" y="53556"/>
                </a:lnTo>
                <a:lnTo>
                  <a:pt x="4920992" y="53564"/>
                </a:lnTo>
                <a:lnTo>
                  <a:pt x="4944560" y="53568"/>
                </a:lnTo>
                <a:lnTo>
                  <a:pt x="4967216" y="53571"/>
                </a:lnTo>
                <a:lnTo>
                  <a:pt x="5010912" y="53575"/>
                </a:lnTo>
                <a:lnTo>
                  <a:pt x="5053483" y="53577"/>
                </a:lnTo>
                <a:lnTo>
                  <a:pt x="5095554" y="53577"/>
                </a:lnTo>
                <a:lnTo>
                  <a:pt x="5137404" y="53578"/>
                </a:lnTo>
                <a:lnTo>
                  <a:pt x="5181801" y="53578"/>
                </a:lnTo>
                <a:lnTo>
                  <a:pt x="5204752" y="53578"/>
                </a:lnTo>
                <a:lnTo>
                  <a:pt x="5248775" y="53578"/>
                </a:lnTo>
                <a:lnTo>
                  <a:pt x="5291492" y="53578"/>
                </a:lnTo>
                <a:lnTo>
                  <a:pt x="5333628" y="53578"/>
                </a:lnTo>
                <a:lnTo>
                  <a:pt x="5378152" y="53578"/>
                </a:lnTo>
                <a:lnTo>
                  <a:pt x="5401138" y="53578"/>
                </a:lnTo>
                <a:lnTo>
                  <a:pt x="5445198" y="56224"/>
                </a:lnTo>
                <a:lnTo>
                  <a:pt x="5487931" y="59715"/>
                </a:lnTo>
                <a:lnTo>
                  <a:pt x="5530075" y="61266"/>
                </a:lnTo>
                <a:lnTo>
                  <a:pt x="5574602" y="61956"/>
                </a:lnTo>
                <a:lnTo>
                  <a:pt x="5597589" y="62139"/>
                </a:lnTo>
                <a:lnTo>
                  <a:pt x="5641651" y="62344"/>
                </a:lnTo>
                <a:lnTo>
                  <a:pt x="5684385" y="62435"/>
                </a:lnTo>
                <a:lnTo>
                  <a:pt x="5726528" y="62475"/>
                </a:lnTo>
                <a:lnTo>
                  <a:pt x="5771056" y="65139"/>
                </a:lnTo>
                <a:lnTo>
                  <a:pt x="5794042" y="67238"/>
                </a:lnTo>
                <a:lnTo>
                  <a:pt x="5838104" y="69571"/>
                </a:lnTo>
                <a:lnTo>
                  <a:pt x="5881830" y="70608"/>
                </a:lnTo>
                <a:lnTo>
                  <a:pt x="5904603" y="70884"/>
                </a:lnTo>
                <a:lnTo>
                  <a:pt x="5927722" y="71068"/>
                </a:lnTo>
                <a:lnTo>
                  <a:pt x="5971931" y="71273"/>
                </a:lnTo>
                <a:lnTo>
                  <a:pt x="6014729" y="71364"/>
                </a:lnTo>
                <a:lnTo>
                  <a:pt x="6056903" y="71405"/>
                </a:lnTo>
                <a:lnTo>
                  <a:pt x="6098799" y="74069"/>
                </a:lnTo>
                <a:lnTo>
                  <a:pt x="6140568" y="77568"/>
                </a:lnTo>
                <a:lnTo>
                  <a:pt x="6182284" y="79123"/>
                </a:lnTo>
                <a:lnTo>
                  <a:pt x="6223975" y="79814"/>
                </a:lnTo>
                <a:lnTo>
                  <a:pt x="6265656" y="81113"/>
                </a:lnTo>
                <a:lnTo>
                  <a:pt x="6307332" y="84998"/>
                </a:lnTo>
                <a:lnTo>
                  <a:pt x="6349006" y="87386"/>
                </a:lnTo>
                <a:lnTo>
                  <a:pt x="6390679" y="89440"/>
                </a:lnTo>
                <a:lnTo>
                  <a:pt x="6432350" y="93659"/>
                </a:lnTo>
                <a:lnTo>
                  <a:pt x="6471377" y="96196"/>
                </a:lnTo>
                <a:lnTo>
                  <a:pt x="6509557" y="97324"/>
                </a:lnTo>
                <a:lnTo>
                  <a:pt x="6549678" y="97825"/>
                </a:lnTo>
                <a:lnTo>
                  <a:pt x="6590660" y="98048"/>
                </a:lnTo>
                <a:lnTo>
                  <a:pt x="6631033" y="99139"/>
                </a:lnTo>
                <a:lnTo>
                  <a:pt x="6668821" y="102931"/>
                </a:lnTo>
                <a:lnTo>
                  <a:pt x="6708106" y="105278"/>
                </a:lnTo>
                <a:lnTo>
                  <a:pt x="6747723" y="107313"/>
                </a:lnTo>
                <a:lnTo>
                  <a:pt x="6785175" y="111525"/>
                </a:lnTo>
                <a:lnTo>
                  <a:pt x="6824310" y="114059"/>
                </a:lnTo>
                <a:lnTo>
                  <a:pt x="6863863" y="116177"/>
                </a:lnTo>
                <a:lnTo>
                  <a:pt x="6901285" y="120425"/>
                </a:lnTo>
                <a:lnTo>
                  <a:pt x="6937761" y="122975"/>
                </a:lnTo>
                <a:lnTo>
                  <a:pt x="6973817" y="125101"/>
                </a:lnTo>
                <a:lnTo>
                  <a:pt x="7009684" y="129353"/>
                </a:lnTo>
                <a:lnTo>
                  <a:pt x="7045469" y="131904"/>
                </a:lnTo>
                <a:lnTo>
                  <a:pt x="7080225" y="133038"/>
                </a:lnTo>
                <a:lnTo>
                  <a:pt x="7112209" y="133542"/>
                </a:lnTo>
                <a:lnTo>
                  <a:pt x="7145605" y="136412"/>
                </a:lnTo>
                <a:lnTo>
                  <a:pt x="7179301" y="140002"/>
                </a:lnTo>
                <a:lnTo>
                  <a:pt x="7210814" y="141598"/>
                </a:lnTo>
                <a:lnTo>
                  <a:pt x="7241355" y="144953"/>
                </a:lnTo>
                <a:lnTo>
                  <a:pt x="7271467" y="148759"/>
                </a:lnTo>
                <a:lnTo>
                  <a:pt x="7315315" y="150902"/>
                </a:lnTo>
                <a:lnTo>
                  <a:pt x="7353885" y="152529"/>
                </a:lnTo>
                <a:lnTo>
                  <a:pt x="7390448" y="157862"/>
                </a:lnTo>
                <a:lnTo>
                  <a:pt x="7426418" y="160875"/>
                </a:lnTo>
                <a:lnTo>
                  <a:pt x="7461219" y="166618"/>
                </a:lnTo>
                <a:lnTo>
                  <a:pt x="7502792" y="169062"/>
                </a:lnTo>
                <a:lnTo>
                  <a:pt x="7531914" y="172131"/>
                </a:lnTo>
                <a:lnTo>
                  <a:pt x="7571933" y="177742"/>
                </a:lnTo>
                <a:lnTo>
                  <a:pt x="7615914" y="179510"/>
                </a:lnTo>
                <a:lnTo>
                  <a:pt x="7650467" y="189612"/>
                </a:lnTo>
                <a:lnTo>
                  <a:pt x="7657683" y="193413"/>
                </a:lnTo>
                <a:lnTo>
                  <a:pt x="7670401" y="195852"/>
                </a:lnTo>
                <a:lnTo>
                  <a:pt x="7679530" y="19645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SMARTInkShape-325"/>
          <p:cNvSpPr/>
          <p:nvPr/>
        </p:nvSpPr>
        <p:spPr>
          <a:xfrm>
            <a:off x="2714760" y="2062080"/>
            <a:ext cx="5661000" cy="142920"/>
          </a:xfrm>
          <a:custGeom>
            <a:avLst/>
            <a:gdLst>
              <a:gd name="textAreaLeft" fmla="*/ 0 w 5661000"/>
              <a:gd name="textAreaRight" fmla="*/ 5661360 w 5661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61422" h="142862">
                <a:moveTo>
                  <a:pt x="0" y="17845"/>
                </a:moveTo>
                <a:lnTo>
                  <a:pt x="0" y="17845"/>
                </a:lnTo>
                <a:lnTo>
                  <a:pt x="23371" y="23982"/>
                </a:lnTo>
                <a:lnTo>
                  <a:pt x="65764" y="26223"/>
                </a:lnTo>
                <a:lnTo>
                  <a:pt x="108351" y="26666"/>
                </a:lnTo>
                <a:lnTo>
                  <a:pt x="145323" y="26743"/>
                </a:lnTo>
                <a:lnTo>
                  <a:pt x="186154" y="31506"/>
                </a:lnTo>
                <a:lnTo>
                  <a:pt x="224931" y="34460"/>
                </a:lnTo>
                <a:lnTo>
                  <a:pt x="265468" y="35458"/>
                </a:lnTo>
                <a:lnTo>
                  <a:pt x="304662" y="35672"/>
                </a:lnTo>
                <a:lnTo>
                  <a:pt x="348396" y="35700"/>
                </a:lnTo>
                <a:lnTo>
                  <a:pt x="392924" y="35704"/>
                </a:lnTo>
                <a:lnTo>
                  <a:pt x="431274" y="35704"/>
                </a:lnTo>
                <a:lnTo>
                  <a:pt x="472033" y="35704"/>
                </a:lnTo>
                <a:lnTo>
                  <a:pt x="509739" y="35704"/>
                </a:lnTo>
                <a:lnTo>
                  <a:pt x="551730" y="35704"/>
                </a:lnTo>
                <a:lnTo>
                  <a:pt x="588982" y="35704"/>
                </a:lnTo>
                <a:lnTo>
                  <a:pt x="632133" y="35704"/>
                </a:lnTo>
                <a:lnTo>
                  <a:pt x="676228" y="35704"/>
                </a:lnTo>
                <a:lnTo>
                  <a:pt x="718635" y="35704"/>
                </a:lnTo>
                <a:lnTo>
                  <a:pt x="753451" y="35704"/>
                </a:lnTo>
                <a:lnTo>
                  <a:pt x="788901" y="30964"/>
                </a:lnTo>
                <a:lnTo>
                  <a:pt x="824541" y="28016"/>
                </a:lnTo>
                <a:lnTo>
                  <a:pt x="860236" y="27142"/>
                </a:lnTo>
                <a:lnTo>
                  <a:pt x="895948" y="26884"/>
                </a:lnTo>
                <a:lnTo>
                  <a:pt x="936405" y="26807"/>
                </a:lnTo>
                <a:lnTo>
                  <a:pt x="975071" y="26784"/>
                </a:lnTo>
                <a:lnTo>
                  <a:pt x="1011663" y="26778"/>
                </a:lnTo>
                <a:lnTo>
                  <a:pt x="1047641" y="22035"/>
                </a:lnTo>
                <a:lnTo>
                  <a:pt x="1088177" y="19087"/>
                </a:lnTo>
                <a:lnTo>
                  <a:pt x="1131607" y="18213"/>
                </a:lnTo>
                <a:lnTo>
                  <a:pt x="1171154" y="17954"/>
                </a:lnTo>
                <a:lnTo>
                  <a:pt x="1212747" y="17877"/>
                </a:lnTo>
                <a:lnTo>
                  <a:pt x="1256490" y="17855"/>
                </a:lnTo>
                <a:lnTo>
                  <a:pt x="1300871" y="17848"/>
                </a:lnTo>
                <a:lnTo>
                  <a:pt x="1345439" y="17846"/>
                </a:lnTo>
                <a:lnTo>
                  <a:pt x="1390064" y="17845"/>
                </a:lnTo>
                <a:lnTo>
                  <a:pt x="1434706" y="17845"/>
                </a:lnTo>
                <a:lnTo>
                  <a:pt x="1479352" y="17845"/>
                </a:lnTo>
                <a:lnTo>
                  <a:pt x="1511762" y="15199"/>
                </a:lnTo>
                <a:lnTo>
                  <a:pt x="1545019" y="11708"/>
                </a:lnTo>
                <a:lnTo>
                  <a:pt x="1576337" y="10157"/>
                </a:lnTo>
                <a:lnTo>
                  <a:pt x="1617118" y="9283"/>
                </a:lnTo>
                <a:lnTo>
                  <a:pt x="1647407" y="9078"/>
                </a:lnTo>
                <a:lnTo>
                  <a:pt x="1680712" y="8988"/>
                </a:lnTo>
                <a:lnTo>
                  <a:pt x="1715357" y="8948"/>
                </a:lnTo>
                <a:lnTo>
                  <a:pt x="1747954" y="8930"/>
                </a:lnTo>
                <a:lnTo>
                  <a:pt x="1778978" y="8922"/>
                </a:lnTo>
                <a:lnTo>
                  <a:pt x="1809303" y="8918"/>
                </a:lnTo>
                <a:lnTo>
                  <a:pt x="1839317" y="8917"/>
                </a:lnTo>
                <a:lnTo>
                  <a:pt x="1869192" y="8916"/>
                </a:lnTo>
                <a:lnTo>
                  <a:pt x="1899008" y="8916"/>
                </a:lnTo>
                <a:lnTo>
                  <a:pt x="1931441" y="8915"/>
                </a:lnTo>
                <a:lnTo>
                  <a:pt x="1965700" y="8915"/>
                </a:lnTo>
                <a:lnTo>
                  <a:pt x="2000769" y="8915"/>
                </a:lnTo>
                <a:lnTo>
                  <a:pt x="2033553" y="8915"/>
                </a:lnTo>
                <a:lnTo>
                  <a:pt x="2065653" y="8915"/>
                </a:lnTo>
                <a:lnTo>
                  <a:pt x="2099763" y="8915"/>
                </a:lnTo>
                <a:lnTo>
                  <a:pt x="2132121" y="8915"/>
                </a:lnTo>
                <a:lnTo>
                  <a:pt x="2164031" y="8915"/>
                </a:lnTo>
                <a:lnTo>
                  <a:pt x="2198057" y="8915"/>
                </a:lnTo>
                <a:lnTo>
                  <a:pt x="2233023" y="8915"/>
                </a:lnTo>
                <a:lnTo>
                  <a:pt x="2267415" y="8915"/>
                </a:lnTo>
                <a:lnTo>
                  <a:pt x="2299238" y="8915"/>
                </a:lnTo>
                <a:lnTo>
                  <a:pt x="2332563" y="8915"/>
                </a:lnTo>
                <a:lnTo>
                  <a:pt x="2367218" y="8915"/>
                </a:lnTo>
                <a:lnTo>
                  <a:pt x="2402464" y="8915"/>
                </a:lnTo>
                <a:lnTo>
                  <a:pt x="2437972" y="8915"/>
                </a:lnTo>
                <a:lnTo>
                  <a:pt x="2473598" y="8915"/>
                </a:lnTo>
                <a:lnTo>
                  <a:pt x="2509276" y="8915"/>
                </a:lnTo>
                <a:lnTo>
                  <a:pt x="2544976" y="8915"/>
                </a:lnTo>
                <a:lnTo>
                  <a:pt x="2579694" y="8915"/>
                </a:lnTo>
                <a:lnTo>
                  <a:pt x="2611662" y="8915"/>
                </a:lnTo>
                <a:lnTo>
                  <a:pt x="2645051" y="8915"/>
                </a:lnTo>
                <a:lnTo>
                  <a:pt x="2679734" y="8915"/>
                </a:lnTo>
                <a:lnTo>
                  <a:pt x="2714993" y="8915"/>
                </a:lnTo>
                <a:lnTo>
                  <a:pt x="2750507" y="6269"/>
                </a:lnTo>
                <a:lnTo>
                  <a:pt x="2785143" y="2778"/>
                </a:lnTo>
                <a:lnTo>
                  <a:pt x="2817073" y="1227"/>
                </a:lnTo>
                <a:lnTo>
                  <a:pt x="2850446" y="537"/>
                </a:lnTo>
                <a:lnTo>
                  <a:pt x="2885123" y="231"/>
                </a:lnTo>
                <a:lnTo>
                  <a:pt x="2920378" y="95"/>
                </a:lnTo>
                <a:lnTo>
                  <a:pt x="2955891" y="34"/>
                </a:lnTo>
                <a:lnTo>
                  <a:pt x="2991518" y="1000"/>
                </a:lnTo>
                <a:lnTo>
                  <a:pt x="3027196" y="4736"/>
                </a:lnTo>
                <a:lnTo>
                  <a:pt x="3060252" y="7058"/>
                </a:lnTo>
                <a:lnTo>
                  <a:pt x="3092471" y="8090"/>
                </a:lnTo>
                <a:lnTo>
                  <a:pt x="3126635" y="8548"/>
                </a:lnTo>
                <a:lnTo>
                  <a:pt x="3161662" y="8753"/>
                </a:lnTo>
                <a:lnTo>
                  <a:pt x="3198066" y="8843"/>
                </a:lnTo>
                <a:lnTo>
                  <a:pt x="3237396" y="8883"/>
                </a:lnTo>
                <a:lnTo>
                  <a:pt x="3275381" y="8901"/>
                </a:lnTo>
                <a:lnTo>
                  <a:pt x="3312108" y="8909"/>
                </a:lnTo>
                <a:lnTo>
                  <a:pt x="3348275" y="8913"/>
                </a:lnTo>
                <a:lnTo>
                  <a:pt x="3384192" y="8914"/>
                </a:lnTo>
                <a:lnTo>
                  <a:pt x="3420992" y="8915"/>
                </a:lnTo>
                <a:lnTo>
                  <a:pt x="3460497" y="8915"/>
                </a:lnTo>
                <a:lnTo>
                  <a:pt x="3498562" y="8915"/>
                </a:lnTo>
                <a:lnTo>
                  <a:pt x="3535322" y="7923"/>
                </a:lnTo>
                <a:lnTo>
                  <a:pt x="3571504" y="4175"/>
                </a:lnTo>
                <a:lnTo>
                  <a:pt x="3610074" y="1848"/>
                </a:lnTo>
                <a:lnTo>
                  <a:pt x="3649376" y="813"/>
                </a:lnTo>
                <a:lnTo>
                  <a:pt x="3686687" y="353"/>
                </a:lnTo>
                <a:lnTo>
                  <a:pt x="3723113" y="149"/>
                </a:lnTo>
                <a:lnTo>
                  <a:pt x="3760138" y="58"/>
                </a:lnTo>
                <a:lnTo>
                  <a:pt x="3799746" y="18"/>
                </a:lnTo>
                <a:lnTo>
                  <a:pt x="3837854" y="0"/>
                </a:lnTo>
                <a:lnTo>
                  <a:pt x="3875627" y="984"/>
                </a:lnTo>
                <a:lnTo>
                  <a:pt x="3915566" y="4729"/>
                </a:lnTo>
                <a:lnTo>
                  <a:pt x="3953821" y="4409"/>
                </a:lnTo>
                <a:lnTo>
                  <a:pt x="3990667" y="1952"/>
                </a:lnTo>
                <a:lnTo>
                  <a:pt x="4026888" y="859"/>
                </a:lnTo>
                <a:lnTo>
                  <a:pt x="4065475" y="3020"/>
                </a:lnTo>
                <a:lnTo>
                  <a:pt x="4105777" y="6295"/>
                </a:lnTo>
                <a:lnTo>
                  <a:pt x="4146839" y="7751"/>
                </a:lnTo>
                <a:lnTo>
                  <a:pt x="4188240" y="8398"/>
                </a:lnTo>
                <a:lnTo>
                  <a:pt x="4229792" y="8685"/>
                </a:lnTo>
                <a:lnTo>
                  <a:pt x="4271410" y="8813"/>
                </a:lnTo>
                <a:lnTo>
                  <a:pt x="4310412" y="8870"/>
                </a:lnTo>
                <a:lnTo>
                  <a:pt x="4348582" y="9887"/>
                </a:lnTo>
                <a:lnTo>
                  <a:pt x="4388697" y="13647"/>
                </a:lnTo>
                <a:lnTo>
                  <a:pt x="4429678" y="15979"/>
                </a:lnTo>
                <a:lnTo>
                  <a:pt x="4470050" y="17016"/>
                </a:lnTo>
                <a:lnTo>
                  <a:pt x="4507837" y="17476"/>
                </a:lnTo>
                <a:lnTo>
                  <a:pt x="4544475" y="17681"/>
                </a:lnTo>
                <a:lnTo>
                  <a:pt x="4581594" y="18765"/>
                </a:lnTo>
                <a:lnTo>
                  <a:pt x="4621243" y="22553"/>
                </a:lnTo>
                <a:lnTo>
                  <a:pt x="4659369" y="24898"/>
                </a:lnTo>
                <a:lnTo>
                  <a:pt x="4696159" y="26933"/>
                </a:lnTo>
                <a:lnTo>
                  <a:pt x="4732354" y="31145"/>
                </a:lnTo>
                <a:lnTo>
                  <a:pt x="4768285" y="33678"/>
                </a:lnTo>
                <a:lnTo>
                  <a:pt x="4804097" y="35796"/>
                </a:lnTo>
                <a:lnTo>
                  <a:pt x="4839857" y="40045"/>
                </a:lnTo>
                <a:lnTo>
                  <a:pt x="4875595" y="42594"/>
                </a:lnTo>
                <a:lnTo>
                  <a:pt x="4911320" y="44720"/>
                </a:lnTo>
                <a:lnTo>
                  <a:pt x="4947043" y="48972"/>
                </a:lnTo>
                <a:lnTo>
                  <a:pt x="4982764" y="51523"/>
                </a:lnTo>
                <a:lnTo>
                  <a:pt x="5018484" y="53649"/>
                </a:lnTo>
                <a:lnTo>
                  <a:pt x="5054202" y="57901"/>
                </a:lnTo>
                <a:lnTo>
                  <a:pt x="5089921" y="60453"/>
                </a:lnTo>
                <a:lnTo>
                  <a:pt x="5124648" y="62579"/>
                </a:lnTo>
                <a:lnTo>
                  <a:pt x="5156619" y="66831"/>
                </a:lnTo>
                <a:lnTo>
                  <a:pt x="5187364" y="69382"/>
                </a:lnTo>
                <a:lnTo>
                  <a:pt x="5217566" y="71508"/>
                </a:lnTo>
                <a:lnTo>
                  <a:pt x="5247525" y="75761"/>
                </a:lnTo>
                <a:lnTo>
                  <a:pt x="5277376" y="78312"/>
                </a:lnTo>
                <a:lnTo>
                  <a:pt x="5319427" y="82394"/>
                </a:lnTo>
                <a:lnTo>
                  <a:pt x="5359667" y="87242"/>
                </a:lnTo>
                <a:lnTo>
                  <a:pt x="5400364" y="91324"/>
                </a:lnTo>
                <a:lnTo>
                  <a:pt x="5437558" y="98817"/>
                </a:lnTo>
                <a:lnTo>
                  <a:pt x="5473713" y="104675"/>
                </a:lnTo>
                <a:lnTo>
                  <a:pt x="5509562" y="109057"/>
                </a:lnTo>
                <a:lnTo>
                  <a:pt x="5552491" y="114686"/>
                </a:lnTo>
                <a:lnTo>
                  <a:pt x="5589633" y="122927"/>
                </a:lnTo>
                <a:lnTo>
                  <a:pt x="5629846" y="132286"/>
                </a:lnTo>
                <a:lnTo>
                  <a:pt x="5640112" y="135846"/>
                </a:lnTo>
                <a:lnTo>
                  <a:pt x="5647982" y="139743"/>
                </a:lnTo>
                <a:lnTo>
                  <a:pt x="5661421" y="14286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Garamond"/>
              </a:rPr>
              <a:t>Class Discussion 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What was Religion Like in Rom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OlymNav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Garamond"/>
              </a:rPr>
              <a:t>Learning Targets </a:t>
            </a:r>
            <a:endParaRPr b="1" lang="en-US" sz="6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90440" y="19051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.  Identify and describe the tenets of Christianity as practiced in the Roman Empi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.  Explain Christianity's rise throughout the Roman Emp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3.  Explain why the principles of Christianity were sometimes mistaken by the leaders of Rome and why membership in the sect could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angerou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ntering a Time of Pe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 Julius Caesar, Rome became an emp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tavian Augustus was the first emperor of 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me became too powerful to be challenged and entered a time of peace in the empire, known as 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ax Romana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“Roman Peac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ed ideas to spread across the wor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MCj04124080000[1]"/>
          <p:cNvPicPr/>
          <p:nvPr/>
        </p:nvPicPr>
        <p:blipFill>
          <a:blip r:embed="rId1"/>
          <a:stretch/>
        </p:blipFill>
        <p:spPr>
          <a:xfrm>
            <a:off x="6523200" y="5257800"/>
            <a:ext cx="262080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SMARTInkShape-32"/>
          <p:cNvSpPr/>
          <p:nvPr/>
        </p:nvSpPr>
        <p:spPr>
          <a:xfrm>
            <a:off x="1062000" y="2216160"/>
            <a:ext cx="2921040" cy="569880"/>
          </a:xfrm>
          <a:custGeom>
            <a:avLst/>
            <a:gdLst>
              <a:gd name="textAreaLeft" fmla="*/ 0 w 2921040"/>
              <a:gd name="textAreaRight" fmla="*/ 2921400 w 29210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2920008" h="569651">
                <a:moveTo>
                  <a:pt x="0" y="471423"/>
                </a:moveTo>
                <a:lnTo>
                  <a:pt x="0" y="471423"/>
                </a:lnTo>
                <a:lnTo>
                  <a:pt x="9481" y="466682"/>
                </a:lnTo>
                <a:lnTo>
                  <a:pt x="44720" y="463321"/>
                </a:lnTo>
                <a:lnTo>
                  <a:pt x="78294" y="462738"/>
                </a:lnTo>
                <a:lnTo>
                  <a:pt x="122548" y="465188"/>
                </a:lnTo>
                <a:lnTo>
                  <a:pt x="162210" y="471593"/>
                </a:lnTo>
                <a:lnTo>
                  <a:pt x="205295" y="482398"/>
                </a:lnTo>
                <a:lnTo>
                  <a:pt x="223216" y="487243"/>
                </a:lnTo>
                <a:lnTo>
                  <a:pt x="241094" y="491324"/>
                </a:lnTo>
                <a:lnTo>
                  <a:pt x="258959" y="496171"/>
                </a:lnTo>
                <a:lnTo>
                  <a:pt x="276820" y="500253"/>
                </a:lnTo>
                <a:lnTo>
                  <a:pt x="294680" y="505101"/>
                </a:lnTo>
                <a:lnTo>
                  <a:pt x="337466" y="514030"/>
                </a:lnTo>
                <a:lnTo>
                  <a:pt x="356635" y="518113"/>
                </a:lnTo>
                <a:lnTo>
                  <a:pt x="398827" y="532286"/>
                </a:lnTo>
                <a:lnTo>
                  <a:pt x="442263" y="541475"/>
                </a:lnTo>
                <a:lnTo>
                  <a:pt x="483857" y="550427"/>
                </a:lnTo>
                <a:lnTo>
                  <a:pt x="528238" y="559359"/>
                </a:lnTo>
                <a:lnTo>
                  <a:pt x="563532" y="565057"/>
                </a:lnTo>
                <a:lnTo>
                  <a:pt x="608031" y="569044"/>
                </a:lnTo>
                <a:lnTo>
                  <a:pt x="651974" y="569570"/>
                </a:lnTo>
                <a:lnTo>
                  <a:pt x="691789" y="569639"/>
                </a:lnTo>
                <a:lnTo>
                  <a:pt x="732787" y="569648"/>
                </a:lnTo>
                <a:lnTo>
                  <a:pt x="776955" y="569649"/>
                </a:lnTo>
                <a:lnTo>
                  <a:pt x="821541" y="569650"/>
                </a:lnTo>
                <a:lnTo>
                  <a:pt x="866180" y="569650"/>
                </a:lnTo>
                <a:lnTo>
                  <a:pt x="910828" y="569650"/>
                </a:lnTo>
                <a:lnTo>
                  <a:pt x="955476" y="569650"/>
                </a:lnTo>
                <a:lnTo>
                  <a:pt x="997479" y="569650"/>
                </a:lnTo>
                <a:lnTo>
                  <a:pt x="1036671" y="569650"/>
                </a:lnTo>
                <a:lnTo>
                  <a:pt x="1080601" y="569650"/>
                </a:lnTo>
                <a:lnTo>
                  <a:pt x="1125155" y="569650"/>
                </a:lnTo>
                <a:lnTo>
                  <a:pt x="1169791" y="569650"/>
                </a:lnTo>
                <a:lnTo>
                  <a:pt x="1214437" y="569650"/>
                </a:lnTo>
                <a:lnTo>
                  <a:pt x="1259086" y="569650"/>
                </a:lnTo>
                <a:lnTo>
                  <a:pt x="1303734" y="568657"/>
                </a:lnTo>
                <a:lnTo>
                  <a:pt x="1348382" y="561961"/>
                </a:lnTo>
                <a:lnTo>
                  <a:pt x="1393031" y="560883"/>
                </a:lnTo>
                <a:lnTo>
                  <a:pt x="1437680" y="560741"/>
                </a:lnTo>
                <a:lnTo>
                  <a:pt x="1482328" y="560723"/>
                </a:lnTo>
                <a:lnTo>
                  <a:pt x="1526976" y="560720"/>
                </a:lnTo>
                <a:lnTo>
                  <a:pt x="1567435" y="560720"/>
                </a:lnTo>
                <a:lnTo>
                  <a:pt x="1606516" y="560720"/>
                </a:lnTo>
                <a:lnTo>
                  <a:pt x="1642899" y="558074"/>
                </a:lnTo>
                <a:lnTo>
                  <a:pt x="1678749" y="553031"/>
                </a:lnTo>
                <a:lnTo>
                  <a:pt x="1720630" y="552035"/>
                </a:lnTo>
                <a:lnTo>
                  <a:pt x="1758595" y="551838"/>
                </a:lnTo>
                <a:lnTo>
                  <a:pt x="1799498" y="551800"/>
                </a:lnTo>
                <a:lnTo>
                  <a:pt x="1834052" y="551793"/>
                </a:lnTo>
                <a:lnTo>
                  <a:pt x="1875147" y="551790"/>
                </a:lnTo>
                <a:lnTo>
                  <a:pt x="1908832" y="550798"/>
                </a:lnTo>
                <a:lnTo>
                  <a:pt x="1943949" y="545653"/>
                </a:lnTo>
                <a:lnTo>
                  <a:pt x="1980481" y="543688"/>
                </a:lnTo>
                <a:lnTo>
                  <a:pt x="2021291" y="543105"/>
                </a:lnTo>
                <a:lnTo>
                  <a:pt x="2059952" y="541941"/>
                </a:lnTo>
                <a:lnTo>
                  <a:pt x="2101393" y="536745"/>
                </a:lnTo>
                <a:lnTo>
                  <a:pt x="2140241" y="533772"/>
                </a:lnTo>
                <a:lnTo>
                  <a:pt x="2181737" y="528041"/>
                </a:lnTo>
                <a:lnTo>
                  <a:pt x="2220601" y="524910"/>
                </a:lnTo>
                <a:lnTo>
                  <a:pt x="2262102" y="518139"/>
                </a:lnTo>
                <a:lnTo>
                  <a:pt x="2300968" y="510841"/>
                </a:lnTo>
                <a:lnTo>
                  <a:pt x="2342469" y="507246"/>
                </a:lnTo>
                <a:lnTo>
                  <a:pt x="2381335" y="500337"/>
                </a:lnTo>
                <a:lnTo>
                  <a:pt x="2422836" y="492999"/>
                </a:lnTo>
                <a:lnTo>
                  <a:pt x="2460710" y="489391"/>
                </a:lnTo>
                <a:lnTo>
                  <a:pt x="2497067" y="482480"/>
                </a:lnTo>
                <a:lnTo>
                  <a:pt x="2532974" y="474148"/>
                </a:lnTo>
                <a:lnTo>
                  <a:pt x="2568749" y="466387"/>
                </a:lnTo>
                <a:lnTo>
                  <a:pt x="2603493" y="462654"/>
                </a:lnTo>
                <a:lnTo>
                  <a:pt x="2642402" y="453008"/>
                </a:lnTo>
                <a:lnTo>
                  <a:pt x="2678751" y="441547"/>
                </a:lnTo>
                <a:lnTo>
                  <a:pt x="2714594" y="435866"/>
                </a:lnTo>
                <a:lnTo>
                  <a:pt x="2740412" y="427925"/>
                </a:lnTo>
                <a:lnTo>
                  <a:pt x="2784905" y="403716"/>
                </a:lnTo>
                <a:lnTo>
                  <a:pt x="2815387" y="384177"/>
                </a:lnTo>
                <a:lnTo>
                  <a:pt x="2842484" y="347990"/>
                </a:lnTo>
                <a:lnTo>
                  <a:pt x="2846767" y="335852"/>
                </a:lnTo>
                <a:lnTo>
                  <a:pt x="2848499" y="292649"/>
                </a:lnTo>
                <a:lnTo>
                  <a:pt x="2847568" y="263040"/>
                </a:lnTo>
                <a:lnTo>
                  <a:pt x="2840446" y="244205"/>
                </a:lnTo>
                <a:lnTo>
                  <a:pt x="2815149" y="207749"/>
                </a:lnTo>
                <a:lnTo>
                  <a:pt x="2775309" y="170899"/>
                </a:lnTo>
                <a:lnTo>
                  <a:pt x="2736666" y="141039"/>
                </a:lnTo>
                <a:lnTo>
                  <a:pt x="2697591" y="117215"/>
                </a:lnTo>
                <a:lnTo>
                  <a:pt x="2654080" y="93400"/>
                </a:lnTo>
                <a:lnTo>
                  <a:pt x="2619074" y="76532"/>
                </a:lnTo>
                <a:lnTo>
                  <a:pt x="2582575" y="64810"/>
                </a:lnTo>
                <a:lnTo>
                  <a:pt x="2540782" y="54060"/>
                </a:lnTo>
                <a:lnTo>
                  <a:pt x="2496979" y="40733"/>
                </a:lnTo>
                <a:lnTo>
                  <a:pt x="2467411" y="36919"/>
                </a:lnTo>
                <a:lnTo>
                  <a:pt x="2435088" y="32578"/>
                </a:lnTo>
                <a:lnTo>
                  <a:pt x="2400878" y="27342"/>
                </a:lnTo>
                <a:lnTo>
                  <a:pt x="2365830" y="21707"/>
                </a:lnTo>
                <a:lnTo>
                  <a:pt x="2333055" y="15896"/>
                </a:lnTo>
                <a:lnTo>
                  <a:pt x="2300960" y="10997"/>
                </a:lnTo>
                <a:lnTo>
                  <a:pt x="2266852" y="8820"/>
                </a:lnTo>
                <a:lnTo>
                  <a:pt x="2231849" y="7853"/>
                </a:lnTo>
                <a:lnTo>
                  <a:pt x="2195456" y="6431"/>
                </a:lnTo>
                <a:lnTo>
                  <a:pt x="2156130" y="2492"/>
                </a:lnTo>
                <a:lnTo>
                  <a:pt x="2118147" y="79"/>
                </a:lnTo>
                <a:lnTo>
                  <a:pt x="2081422" y="0"/>
                </a:lnTo>
                <a:lnTo>
                  <a:pt x="2045256" y="3271"/>
                </a:lnTo>
                <a:lnTo>
                  <a:pt x="2009338" y="5387"/>
                </a:lnTo>
                <a:lnTo>
                  <a:pt x="1973531" y="6327"/>
                </a:lnTo>
                <a:lnTo>
                  <a:pt x="1937773" y="6745"/>
                </a:lnTo>
                <a:lnTo>
                  <a:pt x="1904683" y="6930"/>
                </a:lnTo>
                <a:lnTo>
                  <a:pt x="1873440" y="7013"/>
                </a:lnTo>
                <a:lnTo>
                  <a:pt x="1843017" y="7050"/>
                </a:lnTo>
                <a:lnTo>
                  <a:pt x="1810314" y="9712"/>
                </a:lnTo>
                <a:lnTo>
                  <a:pt x="1776928" y="14202"/>
                </a:lnTo>
                <a:lnTo>
                  <a:pt x="1745553" y="19505"/>
                </a:lnTo>
                <a:lnTo>
                  <a:pt x="1715072" y="22524"/>
                </a:lnTo>
                <a:lnTo>
                  <a:pt x="1684988" y="24857"/>
                </a:lnTo>
                <a:lnTo>
                  <a:pt x="1655081" y="29202"/>
                </a:lnTo>
                <a:lnTo>
                  <a:pt x="1625253" y="34440"/>
                </a:lnTo>
                <a:lnTo>
                  <a:pt x="1583215" y="42967"/>
                </a:lnTo>
                <a:lnTo>
                  <a:pt x="1542978" y="51778"/>
                </a:lnTo>
                <a:lnTo>
                  <a:pt x="1499637" y="63318"/>
                </a:lnTo>
                <a:lnTo>
                  <a:pt x="1458021" y="76659"/>
                </a:lnTo>
                <a:lnTo>
                  <a:pt x="1420556" y="89542"/>
                </a:lnTo>
                <a:lnTo>
                  <a:pt x="1384319" y="105927"/>
                </a:lnTo>
                <a:lnTo>
                  <a:pt x="1341260" y="129241"/>
                </a:lnTo>
                <a:lnTo>
                  <a:pt x="1297688" y="156254"/>
                </a:lnTo>
                <a:lnTo>
                  <a:pt x="1253301" y="187254"/>
                </a:lnTo>
                <a:lnTo>
                  <a:pt x="1229857" y="214075"/>
                </a:lnTo>
                <a:lnTo>
                  <a:pt x="1226252" y="223431"/>
                </a:lnTo>
                <a:lnTo>
                  <a:pt x="1223657" y="233212"/>
                </a:lnTo>
                <a:lnTo>
                  <a:pt x="1216552" y="247576"/>
                </a:lnTo>
                <a:lnTo>
                  <a:pt x="1214561" y="276670"/>
                </a:lnTo>
                <a:lnTo>
                  <a:pt x="1225466" y="319801"/>
                </a:lnTo>
                <a:lnTo>
                  <a:pt x="1241411" y="352707"/>
                </a:lnTo>
                <a:lnTo>
                  <a:pt x="1272175" y="394278"/>
                </a:lnTo>
                <a:lnTo>
                  <a:pt x="1290194" y="410972"/>
                </a:lnTo>
                <a:lnTo>
                  <a:pt x="1333695" y="438522"/>
                </a:lnTo>
                <a:lnTo>
                  <a:pt x="1375589" y="460868"/>
                </a:lnTo>
                <a:lnTo>
                  <a:pt x="1411965" y="476467"/>
                </a:lnTo>
                <a:lnTo>
                  <a:pt x="1456339" y="489102"/>
                </a:lnTo>
                <a:lnTo>
                  <a:pt x="1491495" y="498159"/>
                </a:lnTo>
                <a:lnTo>
                  <a:pt x="1529692" y="507126"/>
                </a:lnTo>
                <a:lnTo>
                  <a:pt x="1569784" y="516067"/>
                </a:lnTo>
                <a:lnTo>
                  <a:pt x="1609444" y="525000"/>
                </a:lnTo>
                <a:lnTo>
                  <a:pt x="1639035" y="529961"/>
                </a:lnTo>
                <a:lnTo>
                  <a:pt x="1672030" y="532167"/>
                </a:lnTo>
                <a:lnTo>
                  <a:pt x="1703892" y="533146"/>
                </a:lnTo>
                <a:lnTo>
                  <a:pt x="1735582" y="534574"/>
                </a:lnTo>
                <a:lnTo>
                  <a:pt x="1769510" y="538516"/>
                </a:lnTo>
                <a:lnTo>
                  <a:pt x="1801788" y="540930"/>
                </a:lnTo>
                <a:lnTo>
                  <a:pt x="1833661" y="542002"/>
                </a:lnTo>
                <a:lnTo>
                  <a:pt x="1867671" y="542479"/>
                </a:lnTo>
                <a:lnTo>
                  <a:pt x="1905276" y="542691"/>
                </a:lnTo>
                <a:lnTo>
                  <a:pt x="1945141" y="541793"/>
                </a:lnTo>
                <a:lnTo>
                  <a:pt x="1986009" y="538086"/>
                </a:lnTo>
                <a:lnTo>
                  <a:pt x="2024679" y="535778"/>
                </a:lnTo>
                <a:lnTo>
                  <a:pt x="2062701" y="534751"/>
                </a:lnTo>
                <a:lnTo>
                  <a:pt x="2102751" y="534296"/>
                </a:lnTo>
                <a:lnTo>
                  <a:pt x="2143702" y="531447"/>
                </a:lnTo>
                <a:lnTo>
                  <a:pt x="2185053" y="526874"/>
                </a:lnTo>
                <a:lnTo>
                  <a:pt x="2226583" y="521534"/>
                </a:lnTo>
                <a:lnTo>
                  <a:pt x="2268191" y="518499"/>
                </a:lnTo>
                <a:lnTo>
                  <a:pt x="2309835" y="516158"/>
                </a:lnTo>
                <a:lnTo>
                  <a:pt x="2351494" y="511811"/>
                </a:lnTo>
                <a:lnTo>
                  <a:pt x="2395807" y="506571"/>
                </a:lnTo>
                <a:lnTo>
                  <a:pt x="2439975" y="501927"/>
                </a:lnTo>
                <a:lnTo>
                  <a:pt x="2479448" y="499863"/>
                </a:lnTo>
                <a:lnTo>
                  <a:pt x="2519482" y="496300"/>
                </a:lnTo>
                <a:lnTo>
                  <a:pt x="2559434" y="492401"/>
                </a:lnTo>
                <a:lnTo>
                  <a:pt x="2597034" y="490668"/>
                </a:lnTo>
                <a:lnTo>
                  <a:pt x="2633588" y="487252"/>
                </a:lnTo>
                <a:lnTo>
                  <a:pt x="2669679" y="483419"/>
                </a:lnTo>
                <a:lnTo>
                  <a:pt x="2705563" y="481715"/>
                </a:lnTo>
                <a:lnTo>
                  <a:pt x="2741355" y="480958"/>
                </a:lnTo>
                <a:lnTo>
                  <a:pt x="2776114" y="480622"/>
                </a:lnTo>
                <a:lnTo>
                  <a:pt x="2808099" y="480472"/>
                </a:lnTo>
                <a:lnTo>
                  <a:pt x="2838852" y="480406"/>
                </a:lnTo>
                <a:lnTo>
                  <a:pt x="2881409" y="480368"/>
                </a:lnTo>
                <a:lnTo>
                  <a:pt x="2920007" y="48035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3" name="SMARTInkShape-Group155"/>
          <p:cNvGrpSpPr/>
          <p:nvPr/>
        </p:nvGrpSpPr>
        <p:grpSpPr>
          <a:xfrm>
            <a:off x="1687680" y="2108160"/>
            <a:ext cx="1204920" cy="266760"/>
            <a:chOff x="1687680" y="2108160"/>
            <a:chExt cx="1204920" cy="266760"/>
          </a:xfrm>
        </p:grpSpPr>
        <p:sp>
          <p:nvSpPr>
            <p:cNvPr id="114" name="SMARTInkShape-33"/>
            <p:cNvSpPr/>
            <p:nvPr/>
          </p:nvSpPr>
          <p:spPr>
            <a:xfrm>
              <a:off x="1687680" y="2108160"/>
              <a:ext cx="1142640" cy="24912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143001" h="250030">
                  <a:moveTo>
                    <a:pt x="0" y="250029"/>
                  </a:moveTo>
                  <a:lnTo>
                    <a:pt x="0" y="250029"/>
                  </a:lnTo>
                  <a:lnTo>
                    <a:pt x="0" y="237600"/>
                  </a:lnTo>
                  <a:lnTo>
                    <a:pt x="992" y="235790"/>
                  </a:lnTo>
                  <a:lnTo>
                    <a:pt x="2646" y="234584"/>
                  </a:lnTo>
                  <a:lnTo>
                    <a:pt x="4741" y="233779"/>
                  </a:lnTo>
                  <a:lnTo>
                    <a:pt x="6137" y="232251"/>
                  </a:lnTo>
                  <a:lnTo>
                    <a:pt x="8820" y="223650"/>
                  </a:lnTo>
                  <a:lnTo>
                    <a:pt x="13637" y="223362"/>
                  </a:lnTo>
                  <a:lnTo>
                    <a:pt x="15045" y="222329"/>
                  </a:lnTo>
                  <a:lnTo>
                    <a:pt x="24763" y="205153"/>
                  </a:lnTo>
                  <a:lnTo>
                    <a:pt x="25438" y="202253"/>
                  </a:lnTo>
                  <a:lnTo>
                    <a:pt x="26880" y="200319"/>
                  </a:lnTo>
                  <a:lnTo>
                    <a:pt x="28834" y="199030"/>
                  </a:lnTo>
                  <a:lnTo>
                    <a:pt x="33651" y="196605"/>
                  </a:lnTo>
                  <a:lnTo>
                    <a:pt x="59555" y="173557"/>
                  </a:lnTo>
                  <a:lnTo>
                    <a:pt x="71442" y="167786"/>
                  </a:lnTo>
                  <a:lnTo>
                    <a:pt x="104179" y="137891"/>
                  </a:lnTo>
                  <a:lnTo>
                    <a:pt x="132083" y="124461"/>
                  </a:lnTo>
                  <a:lnTo>
                    <a:pt x="159412" y="104146"/>
                  </a:lnTo>
                  <a:lnTo>
                    <a:pt x="202817" y="85950"/>
                  </a:lnTo>
                  <a:lnTo>
                    <a:pt x="229580" y="74033"/>
                  </a:lnTo>
                  <a:lnTo>
                    <a:pt x="270025" y="59159"/>
                  </a:lnTo>
                  <a:lnTo>
                    <a:pt x="309227" y="41637"/>
                  </a:lnTo>
                  <a:lnTo>
                    <a:pt x="348997" y="33851"/>
                  </a:lnTo>
                  <a:lnTo>
                    <a:pt x="393003" y="26725"/>
                  </a:lnTo>
                  <a:lnTo>
                    <a:pt x="437567" y="14481"/>
                  </a:lnTo>
                  <a:lnTo>
                    <a:pt x="474268" y="10025"/>
                  </a:lnTo>
                  <a:lnTo>
                    <a:pt x="516060" y="6499"/>
                  </a:lnTo>
                  <a:lnTo>
                    <a:pt x="553273" y="1282"/>
                  </a:lnTo>
                  <a:lnTo>
                    <a:pt x="595423" y="252"/>
                  </a:lnTo>
                  <a:lnTo>
                    <a:pt x="636087" y="48"/>
                  </a:lnTo>
                  <a:lnTo>
                    <a:pt x="677303" y="8"/>
                  </a:lnTo>
                  <a:lnTo>
                    <a:pt x="720245" y="0"/>
                  </a:lnTo>
                  <a:lnTo>
                    <a:pt x="758419" y="2644"/>
                  </a:lnTo>
                  <a:lnTo>
                    <a:pt x="802600" y="9093"/>
                  </a:lnTo>
                  <a:lnTo>
                    <a:pt x="840621" y="16508"/>
                  </a:lnTo>
                  <a:lnTo>
                    <a:pt x="884201" y="27393"/>
                  </a:lnTo>
                  <a:lnTo>
                    <a:pt x="922572" y="41750"/>
                  </a:lnTo>
                  <a:lnTo>
                    <a:pt x="956032" y="50946"/>
                  </a:lnTo>
                  <a:lnTo>
                    <a:pt x="979785" y="55443"/>
                  </a:lnTo>
                  <a:lnTo>
                    <a:pt x="1017841" y="68705"/>
                  </a:lnTo>
                  <a:lnTo>
                    <a:pt x="1041511" y="80414"/>
                  </a:lnTo>
                  <a:lnTo>
                    <a:pt x="1058028" y="89309"/>
                  </a:lnTo>
                  <a:lnTo>
                    <a:pt x="1076482" y="98229"/>
                  </a:lnTo>
                  <a:lnTo>
                    <a:pt x="1110285" y="121045"/>
                  </a:lnTo>
                  <a:lnTo>
                    <a:pt x="1121290" y="124830"/>
                  </a:lnTo>
                  <a:lnTo>
                    <a:pt x="1127729" y="129232"/>
                  </a:lnTo>
                  <a:lnTo>
                    <a:pt x="1131252" y="134495"/>
                  </a:lnTo>
                  <a:lnTo>
                    <a:pt x="1133810" y="140142"/>
                  </a:lnTo>
                  <a:lnTo>
                    <a:pt x="1143000" y="15180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SMARTInkShape-34"/>
            <p:cNvSpPr/>
            <p:nvPr/>
          </p:nvSpPr>
          <p:spPr>
            <a:xfrm>
              <a:off x="2616120" y="2134800"/>
              <a:ext cx="276480" cy="240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276789" h="241102">
                  <a:moveTo>
                    <a:pt x="0" y="169664"/>
                  </a:moveTo>
                  <a:lnTo>
                    <a:pt x="0" y="169664"/>
                  </a:lnTo>
                  <a:lnTo>
                    <a:pt x="42622" y="193343"/>
                  </a:lnTo>
                  <a:lnTo>
                    <a:pt x="80102" y="205467"/>
                  </a:lnTo>
                  <a:lnTo>
                    <a:pt x="113773" y="220776"/>
                  </a:lnTo>
                  <a:lnTo>
                    <a:pt x="153839" y="231556"/>
                  </a:lnTo>
                  <a:lnTo>
                    <a:pt x="164615" y="232891"/>
                  </a:lnTo>
                  <a:lnTo>
                    <a:pt x="193373" y="240250"/>
                  </a:lnTo>
                  <a:lnTo>
                    <a:pt x="235027" y="241092"/>
                  </a:lnTo>
                  <a:lnTo>
                    <a:pt x="257194" y="241101"/>
                  </a:lnTo>
                  <a:lnTo>
                    <a:pt x="263178" y="236361"/>
                  </a:lnTo>
                  <a:lnTo>
                    <a:pt x="265796" y="231388"/>
                  </a:lnTo>
                  <a:lnTo>
                    <a:pt x="267707" y="221312"/>
                  </a:lnTo>
                  <a:lnTo>
                    <a:pt x="267768" y="218979"/>
                  </a:lnTo>
                  <a:lnTo>
                    <a:pt x="270482" y="213741"/>
                  </a:lnTo>
                  <a:lnTo>
                    <a:pt x="272595" y="210955"/>
                  </a:lnTo>
                  <a:lnTo>
                    <a:pt x="274942" y="202568"/>
                  </a:lnTo>
                  <a:lnTo>
                    <a:pt x="276788" y="159105"/>
                  </a:lnTo>
                  <a:lnTo>
                    <a:pt x="275822" y="139981"/>
                  </a:lnTo>
                  <a:lnTo>
                    <a:pt x="269752" y="122974"/>
                  </a:lnTo>
                  <a:lnTo>
                    <a:pt x="267725" y="113194"/>
                  </a:lnTo>
                  <a:lnTo>
                    <a:pt x="261999" y="101118"/>
                  </a:lnTo>
                  <a:lnTo>
                    <a:pt x="258869" y="86405"/>
                  </a:lnTo>
                  <a:lnTo>
                    <a:pt x="253091" y="74329"/>
                  </a:lnTo>
                  <a:lnTo>
                    <a:pt x="249946" y="59616"/>
                  </a:lnTo>
                  <a:lnTo>
                    <a:pt x="243143" y="45253"/>
                  </a:lnTo>
                  <a:lnTo>
                    <a:pt x="242462" y="42075"/>
                  </a:lnTo>
                  <a:lnTo>
                    <a:pt x="232575" y="19634"/>
                  </a:lnTo>
                  <a:lnTo>
                    <a:pt x="232207" y="10327"/>
                  </a:lnTo>
                  <a:lnTo>
                    <a:pt x="22324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6" name="SMARTInkShape-35"/>
          <p:cNvSpPr/>
          <p:nvPr/>
        </p:nvSpPr>
        <p:spPr>
          <a:xfrm>
            <a:off x="5089680" y="2147760"/>
            <a:ext cx="900000" cy="623880"/>
          </a:xfrm>
          <a:custGeom>
            <a:avLst/>
            <a:gdLst>
              <a:gd name="textAreaLeft" fmla="*/ 0 w 900000"/>
              <a:gd name="textAreaRight" fmla="*/ 900360 w 9000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899727" h="624484">
                <a:moveTo>
                  <a:pt x="580429" y="57699"/>
                </a:moveTo>
                <a:lnTo>
                  <a:pt x="580429" y="57699"/>
                </a:lnTo>
                <a:lnTo>
                  <a:pt x="580429" y="48218"/>
                </a:lnTo>
                <a:lnTo>
                  <a:pt x="581421" y="45425"/>
                </a:lnTo>
                <a:lnTo>
                  <a:pt x="583075" y="43563"/>
                </a:lnTo>
                <a:lnTo>
                  <a:pt x="585169" y="42322"/>
                </a:lnTo>
                <a:lnTo>
                  <a:pt x="585574" y="41494"/>
                </a:lnTo>
                <a:lnTo>
                  <a:pt x="584851" y="40943"/>
                </a:lnTo>
                <a:lnTo>
                  <a:pt x="583377" y="40575"/>
                </a:lnTo>
                <a:lnTo>
                  <a:pt x="582394" y="39338"/>
                </a:lnTo>
                <a:lnTo>
                  <a:pt x="580688" y="32216"/>
                </a:lnTo>
                <a:lnTo>
                  <a:pt x="577898" y="31490"/>
                </a:lnTo>
                <a:lnTo>
                  <a:pt x="538113" y="30913"/>
                </a:lnTo>
                <a:lnTo>
                  <a:pt x="496055" y="40004"/>
                </a:lnTo>
                <a:lnTo>
                  <a:pt x="454887" y="52159"/>
                </a:lnTo>
                <a:lnTo>
                  <a:pt x="410696" y="66683"/>
                </a:lnTo>
                <a:lnTo>
                  <a:pt x="375032" y="78545"/>
                </a:lnTo>
                <a:lnTo>
                  <a:pt x="333188" y="90443"/>
                </a:lnTo>
                <a:lnTo>
                  <a:pt x="295230" y="102348"/>
                </a:lnTo>
                <a:lnTo>
                  <a:pt x="259069" y="114254"/>
                </a:lnTo>
                <a:lnTo>
                  <a:pt x="216972" y="129136"/>
                </a:lnTo>
                <a:lnTo>
                  <a:pt x="172796" y="149972"/>
                </a:lnTo>
                <a:lnTo>
                  <a:pt x="141675" y="167832"/>
                </a:lnTo>
                <a:lnTo>
                  <a:pt x="122206" y="186867"/>
                </a:lnTo>
                <a:lnTo>
                  <a:pt x="96334" y="221513"/>
                </a:lnTo>
                <a:lnTo>
                  <a:pt x="79995" y="263087"/>
                </a:lnTo>
                <a:lnTo>
                  <a:pt x="75240" y="274990"/>
                </a:lnTo>
                <a:lnTo>
                  <a:pt x="71938" y="304754"/>
                </a:lnTo>
                <a:lnTo>
                  <a:pt x="80561" y="346425"/>
                </a:lnTo>
                <a:lnTo>
                  <a:pt x="95528" y="388281"/>
                </a:lnTo>
                <a:lnTo>
                  <a:pt x="113134" y="427540"/>
                </a:lnTo>
                <a:lnTo>
                  <a:pt x="132736" y="468955"/>
                </a:lnTo>
                <a:lnTo>
                  <a:pt x="156545" y="506109"/>
                </a:lnTo>
                <a:lnTo>
                  <a:pt x="196085" y="548217"/>
                </a:lnTo>
                <a:lnTo>
                  <a:pt x="209187" y="559472"/>
                </a:lnTo>
                <a:lnTo>
                  <a:pt x="250532" y="578038"/>
                </a:lnTo>
                <a:lnTo>
                  <a:pt x="294745" y="593406"/>
                </a:lnTo>
                <a:lnTo>
                  <a:pt x="335152" y="605372"/>
                </a:lnTo>
                <a:lnTo>
                  <a:pt x="375214" y="611153"/>
                </a:lnTo>
                <a:lnTo>
                  <a:pt x="408720" y="618119"/>
                </a:lnTo>
                <a:lnTo>
                  <a:pt x="443783" y="624483"/>
                </a:lnTo>
                <a:lnTo>
                  <a:pt x="479308" y="621958"/>
                </a:lnTo>
                <a:lnTo>
                  <a:pt x="514969" y="620769"/>
                </a:lnTo>
                <a:lnTo>
                  <a:pt x="550670" y="619425"/>
                </a:lnTo>
                <a:lnTo>
                  <a:pt x="586384" y="614176"/>
                </a:lnTo>
                <a:lnTo>
                  <a:pt x="622101" y="611188"/>
                </a:lnTo>
                <a:lnTo>
                  <a:pt x="657820" y="604459"/>
                </a:lnTo>
                <a:lnTo>
                  <a:pt x="693539" y="595189"/>
                </a:lnTo>
                <a:lnTo>
                  <a:pt x="728266" y="581309"/>
                </a:lnTo>
                <a:lnTo>
                  <a:pt x="764524" y="564580"/>
                </a:lnTo>
                <a:lnTo>
                  <a:pt x="787442" y="550852"/>
                </a:lnTo>
                <a:lnTo>
                  <a:pt x="829683" y="527086"/>
                </a:lnTo>
                <a:lnTo>
                  <a:pt x="849191" y="509867"/>
                </a:lnTo>
                <a:lnTo>
                  <a:pt x="868486" y="480335"/>
                </a:lnTo>
                <a:lnTo>
                  <a:pt x="886955" y="436960"/>
                </a:lnTo>
                <a:lnTo>
                  <a:pt x="899244" y="399052"/>
                </a:lnTo>
                <a:lnTo>
                  <a:pt x="899726" y="385028"/>
                </a:lnTo>
                <a:lnTo>
                  <a:pt x="891951" y="349126"/>
                </a:lnTo>
                <a:lnTo>
                  <a:pt x="880861" y="308852"/>
                </a:lnTo>
                <a:lnTo>
                  <a:pt x="861986" y="271240"/>
                </a:lnTo>
                <a:lnTo>
                  <a:pt x="839150" y="229268"/>
                </a:lnTo>
                <a:lnTo>
                  <a:pt x="815530" y="187280"/>
                </a:lnTo>
                <a:lnTo>
                  <a:pt x="785619" y="147897"/>
                </a:lnTo>
                <a:lnTo>
                  <a:pt x="756927" y="111455"/>
                </a:lnTo>
                <a:lnTo>
                  <a:pt x="714099" y="73781"/>
                </a:lnTo>
                <a:lnTo>
                  <a:pt x="675955" y="49006"/>
                </a:lnTo>
                <a:lnTo>
                  <a:pt x="642137" y="30980"/>
                </a:lnTo>
                <a:lnTo>
                  <a:pt x="606981" y="15717"/>
                </a:lnTo>
                <a:lnTo>
                  <a:pt x="568784" y="7556"/>
                </a:lnTo>
                <a:lnTo>
                  <a:pt x="526046" y="2493"/>
                </a:lnTo>
                <a:lnTo>
                  <a:pt x="481964" y="0"/>
                </a:lnTo>
                <a:lnTo>
                  <a:pt x="437484" y="2900"/>
                </a:lnTo>
                <a:lnTo>
                  <a:pt x="392886" y="6405"/>
                </a:lnTo>
                <a:lnTo>
                  <a:pt x="362139" y="12081"/>
                </a:lnTo>
                <a:lnTo>
                  <a:pt x="328630" y="21218"/>
                </a:lnTo>
                <a:lnTo>
                  <a:pt x="296540" y="34540"/>
                </a:lnTo>
                <a:lnTo>
                  <a:pt x="265741" y="50382"/>
                </a:lnTo>
                <a:lnTo>
                  <a:pt x="235516" y="67346"/>
                </a:lnTo>
                <a:lnTo>
                  <a:pt x="205546" y="90098"/>
                </a:lnTo>
                <a:lnTo>
                  <a:pt x="175690" y="116747"/>
                </a:lnTo>
                <a:lnTo>
                  <a:pt x="145884" y="145127"/>
                </a:lnTo>
                <a:lnTo>
                  <a:pt x="116100" y="179569"/>
                </a:lnTo>
                <a:lnTo>
                  <a:pt x="88311" y="219019"/>
                </a:lnTo>
                <a:lnTo>
                  <a:pt x="66038" y="263011"/>
                </a:lnTo>
                <a:lnTo>
                  <a:pt x="55932" y="287840"/>
                </a:lnTo>
                <a:lnTo>
                  <a:pt x="46217" y="314314"/>
                </a:lnTo>
                <a:lnTo>
                  <a:pt x="36765" y="341885"/>
                </a:lnTo>
                <a:lnTo>
                  <a:pt x="28478" y="369195"/>
                </a:lnTo>
                <a:lnTo>
                  <a:pt x="20970" y="396332"/>
                </a:lnTo>
                <a:lnTo>
                  <a:pt x="13979" y="423353"/>
                </a:lnTo>
                <a:lnTo>
                  <a:pt x="0" y="4773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SMARTInkShape-Group157"/>
          <p:cNvGrpSpPr/>
          <p:nvPr/>
        </p:nvGrpSpPr>
        <p:grpSpPr>
          <a:xfrm>
            <a:off x="3071880" y="4127400"/>
            <a:ext cx="2508120" cy="569880"/>
            <a:chOff x="3071880" y="4127400"/>
            <a:chExt cx="2508120" cy="569880"/>
          </a:xfrm>
        </p:grpSpPr>
        <p:sp>
          <p:nvSpPr>
            <p:cNvPr id="118" name="SMARTInkShape-36"/>
            <p:cNvSpPr/>
            <p:nvPr/>
          </p:nvSpPr>
          <p:spPr>
            <a:xfrm>
              <a:off x="3071880" y="4647600"/>
              <a:ext cx="2152080" cy="49680"/>
            </a:xfrm>
            <a:custGeom>
              <a:avLst/>
              <a:gdLst>
                <a:gd name="textAreaLeft" fmla="*/ 0 w 2152080"/>
                <a:gd name="textAreaRight" fmla="*/ 2152440 w 2152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152056" h="49685">
                  <a:moveTo>
                    <a:pt x="0" y="5145"/>
                  </a:moveTo>
                  <a:lnTo>
                    <a:pt x="0" y="5145"/>
                  </a:lnTo>
                  <a:lnTo>
                    <a:pt x="41924" y="5145"/>
                  </a:lnTo>
                  <a:lnTo>
                    <a:pt x="56588" y="5145"/>
                  </a:lnTo>
                  <a:lnTo>
                    <a:pt x="58562" y="4153"/>
                  </a:lnTo>
                  <a:lnTo>
                    <a:pt x="59877" y="2499"/>
                  </a:lnTo>
                  <a:lnTo>
                    <a:pt x="60754" y="405"/>
                  </a:lnTo>
                  <a:lnTo>
                    <a:pt x="62331" y="0"/>
                  </a:lnTo>
                  <a:lnTo>
                    <a:pt x="74783" y="4271"/>
                  </a:lnTo>
                  <a:lnTo>
                    <a:pt x="116651" y="5141"/>
                  </a:lnTo>
                  <a:lnTo>
                    <a:pt x="158754" y="5145"/>
                  </a:lnTo>
                  <a:lnTo>
                    <a:pt x="199591" y="5145"/>
                  </a:lnTo>
                  <a:lnTo>
                    <a:pt x="211494" y="6137"/>
                  </a:lnTo>
                  <a:lnTo>
                    <a:pt x="237224" y="13247"/>
                  </a:lnTo>
                  <a:lnTo>
                    <a:pt x="278899" y="14060"/>
                  </a:lnTo>
                  <a:lnTo>
                    <a:pt x="320138" y="14074"/>
                  </a:lnTo>
                  <a:lnTo>
                    <a:pt x="363231" y="14074"/>
                  </a:lnTo>
                  <a:lnTo>
                    <a:pt x="402015" y="14074"/>
                  </a:lnTo>
                  <a:lnTo>
                    <a:pt x="441366" y="14074"/>
                  </a:lnTo>
                  <a:lnTo>
                    <a:pt x="482252" y="14074"/>
                  </a:lnTo>
                  <a:lnTo>
                    <a:pt x="523878" y="14074"/>
                  </a:lnTo>
                  <a:lnTo>
                    <a:pt x="565547" y="22176"/>
                  </a:lnTo>
                  <a:lnTo>
                    <a:pt x="607219" y="22956"/>
                  </a:lnTo>
                  <a:lnTo>
                    <a:pt x="648891" y="23001"/>
                  </a:lnTo>
                  <a:lnTo>
                    <a:pt x="690563" y="23004"/>
                  </a:lnTo>
                  <a:lnTo>
                    <a:pt x="732234" y="23004"/>
                  </a:lnTo>
                  <a:lnTo>
                    <a:pt x="775021" y="23004"/>
                  </a:lnTo>
                  <a:lnTo>
                    <a:pt x="815084" y="23004"/>
                  </a:lnTo>
                  <a:lnTo>
                    <a:pt x="856684" y="23004"/>
                  </a:lnTo>
                  <a:lnTo>
                    <a:pt x="893079" y="23996"/>
                  </a:lnTo>
                  <a:lnTo>
                    <a:pt x="932405" y="31106"/>
                  </a:lnTo>
                  <a:lnTo>
                    <a:pt x="975463" y="31861"/>
                  </a:lnTo>
                  <a:lnTo>
                    <a:pt x="1017935" y="31930"/>
                  </a:lnTo>
                  <a:lnTo>
                    <a:pt x="1056345" y="31933"/>
                  </a:lnTo>
                  <a:lnTo>
                    <a:pt x="1091571" y="30942"/>
                  </a:lnTo>
                  <a:lnTo>
                    <a:pt x="1134022" y="23556"/>
                  </a:lnTo>
                  <a:lnTo>
                    <a:pt x="1176853" y="23053"/>
                  </a:lnTo>
                  <a:lnTo>
                    <a:pt x="1220281" y="23007"/>
                  </a:lnTo>
                  <a:lnTo>
                    <a:pt x="1263789" y="23005"/>
                  </a:lnTo>
                  <a:lnTo>
                    <a:pt x="1308336" y="23004"/>
                  </a:lnTo>
                  <a:lnTo>
                    <a:pt x="1350029" y="23004"/>
                  </a:lnTo>
                  <a:lnTo>
                    <a:pt x="1389677" y="23004"/>
                  </a:lnTo>
                  <a:lnTo>
                    <a:pt x="1433428" y="23004"/>
                  </a:lnTo>
                  <a:lnTo>
                    <a:pt x="1476301" y="23004"/>
                  </a:lnTo>
                  <a:lnTo>
                    <a:pt x="1518043" y="23004"/>
                  </a:lnTo>
                  <a:lnTo>
                    <a:pt x="1559719" y="23004"/>
                  </a:lnTo>
                  <a:lnTo>
                    <a:pt x="1601391" y="23004"/>
                  </a:lnTo>
                  <a:lnTo>
                    <a:pt x="1643063" y="23004"/>
                  </a:lnTo>
                  <a:lnTo>
                    <a:pt x="1684551" y="23004"/>
                  </a:lnTo>
                  <a:lnTo>
                    <a:pt x="1723593" y="23004"/>
                  </a:lnTo>
                  <a:lnTo>
                    <a:pt x="1765988" y="23004"/>
                  </a:lnTo>
                  <a:lnTo>
                    <a:pt x="1810259" y="23004"/>
                  </a:lnTo>
                  <a:lnTo>
                    <a:pt x="1851012" y="23004"/>
                  </a:lnTo>
                  <a:lnTo>
                    <a:pt x="1891502" y="14443"/>
                  </a:lnTo>
                  <a:lnTo>
                    <a:pt x="1935828" y="14079"/>
                  </a:lnTo>
                  <a:lnTo>
                    <a:pt x="1967617" y="15067"/>
                  </a:lnTo>
                  <a:lnTo>
                    <a:pt x="1984470" y="21142"/>
                  </a:lnTo>
                  <a:lnTo>
                    <a:pt x="2026987" y="22989"/>
                  </a:lnTo>
                  <a:lnTo>
                    <a:pt x="2029980" y="22994"/>
                  </a:lnTo>
                  <a:lnTo>
                    <a:pt x="2035954" y="25645"/>
                  </a:lnTo>
                  <a:lnTo>
                    <a:pt x="2041915" y="29139"/>
                  </a:lnTo>
                  <a:lnTo>
                    <a:pt x="2053827" y="31382"/>
                  </a:lnTo>
                  <a:lnTo>
                    <a:pt x="2056804" y="31566"/>
                  </a:lnTo>
                  <a:lnTo>
                    <a:pt x="2062758" y="34417"/>
                  </a:lnTo>
                  <a:lnTo>
                    <a:pt x="2068711" y="37999"/>
                  </a:lnTo>
                  <a:lnTo>
                    <a:pt x="2078854" y="40486"/>
                  </a:lnTo>
                  <a:lnTo>
                    <a:pt x="2084836" y="40752"/>
                  </a:lnTo>
                  <a:lnTo>
                    <a:pt x="2090098" y="43460"/>
                  </a:lnTo>
                  <a:lnTo>
                    <a:pt x="2095746" y="46979"/>
                  </a:lnTo>
                  <a:lnTo>
                    <a:pt x="2105495" y="48960"/>
                  </a:lnTo>
                  <a:lnTo>
                    <a:pt x="2127010" y="49684"/>
                  </a:lnTo>
                  <a:lnTo>
                    <a:pt x="2152055" y="408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SMARTInkShape-37"/>
            <p:cNvSpPr/>
            <p:nvPr/>
          </p:nvSpPr>
          <p:spPr>
            <a:xfrm>
              <a:off x="4634640" y="4127400"/>
              <a:ext cx="945360" cy="311040"/>
            </a:xfrm>
            <a:custGeom>
              <a:avLst/>
              <a:gdLst>
                <a:gd name="textAreaLeft" fmla="*/ 0 w 945360"/>
                <a:gd name="textAreaRight" fmla="*/ 945720 w 94536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945541" h="310677">
                  <a:moveTo>
                    <a:pt x="0" y="310676"/>
                  </a:moveTo>
                  <a:lnTo>
                    <a:pt x="0" y="310676"/>
                  </a:lnTo>
                  <a:lnTo>
                    <a:pt x="16251" y="285864"/>
                  </a:lnTo>
                  <a:lnTo>
                    <a:pt x="22123" y="279733"/>
                  </a:lnTo>
                  <a:lnTo>
                    <a:pt x="27362" y="277080"/>
                  </a:lnTo>
                  <a:lnTo>
                    <a:pt x="43550" y="270636"/>
                  </a:lnTo>
                  <a:lnTo>
                    <a:pt x="86737" y="245157"/>
                  </a:lnTo>
                  <a:lnTo>
                    <a:pt x="126894" y="221378"/>
                  </a:lnTo>
                  <a:lnTo>
                    <a:pt x="166798" y="200543"/>
                  </a:lnTo>
                  <a:lnTo>
                    <a:pt x="208366" y="171606"/>
                  </a:lnTo>
                  <a:lnTo>
                    <a:pt x="252677" y="149991"/>
                  </a:lnTo>
                  <a:lnTo>
                    <a:pt x="296774" y="132087"/>
                  </a:lnTo>
                  <a:lnTo>
                    <a:pt x="341375" y="114224"/>
                  </a:lnTo>
                  <a:lnTo>
                    <a:pt x="383373" y="103431"/>
                  </a:lnTo>
                  <a:lnTo>
                    <a:pt x="426710" y="82849"/>
                  </a:lnTo>
                  <a:lnTo>
                    <a:pt x="465269" y="71947"/>
                  </a:lnTo>
                  <a:lnTo>
                    <a:pt x="509114" y="62329"/>
                  </a:lnTo>
                  <a:lnTo>
                    <a:pt x="553657" y="53799"/>
                  </a:lnTo>
                  <a:lnTo>
                    <a:pt x="598291" y="45853"/>
                  </a:lnTo>
                  <a:lnTo>
                    <a:pt x="642938" y="38450"/>
                  </a:lnTo>
                  <a:lnTo>
                    <a:pt x="684793" y="33771"/>
                  </a:lnTo>
                  <a:lnTo>
                    <a:pt x="722754" y="26968"/>
                  </a:lnTo>
                  <a:lnTo>
                    <a:pt x="758915" y="25329"/>
                  </a:lnTo>
                  <a:lnTo>
                    <a:pt x="800859" y="18869"/>
                  </a:lnTo>
                  <a:lnTo>
                    <a:pt x="841481" y="13918"/>
                  </a:lnTo>
                  <a:lnTo>
                    <a:pt x="882688" y="8420"/>
                  </a:lnTo>
                  <a:lnTo>
                    <a:pt x="925628" y="1198"/>
                  </a:lnTo>
                  <a:lnTo>
                    <a:pt x="94554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0" name="SMARTInkShape-Group158"/>
          <p:cNvGrpSpPr/>
          <p:nvPr/>
        </p:nvGrpSpPr>
        <p:grpSpPr>
          <a:xfrm>
            <a:off x="5402160" y="4116240"/>
            <a:ext cx="1197000" cy="339840"/>
            <a:chOff x="5402160" y="4116240"/>
            <a:chExt cx="1197000" cy="339840"/>
          </a:xfrm>
        </p:grpSpPr>
        <p:sp>
          <p:nvSpPr>
            <p:cNvPr id="121" name="SMARTInkShape-38"/>
            <p:cNvSpPr/>
            <p:nvPr/>
          </p:nvSpPr>
          <p:spPr>
            <a:xfrm>
              <a:off x="5402160" y="4116240"/>
              <a:ext cx="1098720" cy="339840"/>
            </a:xfrm>
            <a:custGeom>
              <a:avLst/>
              <a:gdLst>
                <a:gd name="textAreaLeft" fmla="*/ 0 w 1098720"/>
                <a:gd name="textAreaRight" fmla="*/ 1099080 w 109872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98351" h="339329">
                  <a:moveTo>
                    <a:pt x="0" y="0"/>
                  </a:moveTo>
                  <a:lnTo>
                    <a:pt x="0" y="0"/>
                  </a:lnTo>
                  <a:lnTo>
                    <a:pt x="41108" y="0"/>
                  </a:lnTo>
                  <a:lnTo>
                    <a:pt x="83751" y="0"/>
                  </a:lnTo>
                  <a:lnTo>
                    <a:pt x="126891" y="0"/>
                  </a:lnTo>
                  <a:lnTo>
                    <a:pt x="171540" y="0"/>
                  </a:lnTo>
                  <a:lnTo>
                    <a:pt x="181941" y="0"/>
                  </a:lnTo>
                  <a:lnTo>
                    <a:pt x="187688" y="2646"/>
                  </a:lnTo>
                  <a:lnTo>
                    <a:pt x="193549" y="6136"/>
                  </a:lnTo>
                  <a:lnTo>
                    <a:pt x="205397" y="8378"/>
                  </a:lnTo>
                  <a:lnTo>
                    <a:pt x="248046" y="8928"/>
                  </a:lnTo>
                  <a:lnTo>
                    <a:pt x="291630" y="8929"/>
                  </a:lnTo>
                  <a:lnTo>
                    <a:pt x="336105" y="8929"/>
                  </a:lnTo>
                  <a:lnTo>
                    <a:pt x="342195" y="8929"/>
                  </a:lnTo>
                  <a:lnTo>
                    <a:pt x="348209" y="11575"/>
                  </a:lnTo>
                  <a:lnTo>
                    <a:pt x="351202" y="13670"/>
                  </a:lnTo>
                  <a:lnTo>
                    <a:pt x="364895" y="16618"/>
                  </a:lnTo>
                  <a:lnTo>
                    <a:pt x="380171" y="18606"/>
                  </a:lnTo>
                  <a:lnTo>
                    <a:pt x="390676" y="23923"/>
                  </a:lnTo>
                  <a:lnTo>
                    <a:pt x="415869" y="27529"/>
                  </a:lnTo>
                  <a:lnTo>
                    <a:pt x="426389" y="32851"/>
                  </a:lnTo>
                  <a:lnTo>
                    <a:pt x="451588" y="36459"/>
                  </a:lnTo>
                  <a:lnTo>
                    <a:pt x="462108" y="41781"/>
                  </a:lnTo>
                  <a:lnTo>
                    <a:pt x="502970" y="50711"/>
                  </a:lnTo>
                  <a:lnTo>
                    <a:pt x="546964" y="61605"/>
                  </a:lnTo>
                  <a:lnTo>
                    <a:pt x="559489" y="63233"/>
                  </a:lnTo>
                  <a:lnTo>
                    <a:pt x="580997" y="69522"/>
                  </a:lnTo>
                  <a:lnTo>
                    <a:pt x="591596" y="71579"/>
                  </a:lnTo>
                  <a:lnTo>
                    <a:pt x="604132" y="77322"/>
                  </a:lnTo>
                  <a:lnTo>
                    <a:pt x="618982" y="80457"/>
                  </a:lnTo>
                  <a:lnTo>
                    <a:pt x="631099" y="86237"/>
                  </a:lnTo>
                  <a:lnTo>
                    <a:pt x="658221" y="93634"/>
                  </a:lnTo>
                  <a:lnTo>
                    <a:pt x="675575" y="103456"/>
                  </a:lnTo>
                  <a:lnTo>
                    <a:pt x="714542" y="114007"/>
                  </a:lnTo>
                  <a:lnTo>
                    <a:pt x="725363" y="116154"/>
                  </a:lnTo>
                  <a:lnTo>
                    <a:pt x="738025" y="121949"/>
                  </a:lnTo>
                  <a:lnTo>
                    <a:pt x="778205" y="132584"/>
                  </a:lnTo>
                  <a:lnTo>
                    <a:pt x="814837" y="149096"/>
                  </a:lnTo>
                  <a:lnTo>
                    <a:pt x="827374" y="156845"/>
                  </a:lnTo>
                  <a:lnTo>
                    <a:pt x="854650" y="164962"/>
                  </a:lnTo>
                  <a:lnTo>
                    <a:pt x="897997" y="192506"/>
                  </a:lnTo>
                  <a:lnTo>
                    <a:pt x="926771" y="205935"/>
                  </a:lnTo>
                  <a:lnTo>
                    <a:pt x="944955" y="217398"/>
                  </a:lnTo>
                  <a:lnTo>
                    <a:pt x="963804" y="225118"/>
                  </a:lnTo>
                  <a:lnTo>
                    <a:pt x="1007187" y="258975"/>
                  </a:lnTo>
                  <a:lnTo>
                    <a:pt x="1014178" y="263928"/>
                  </a:lnTo>
                  <a:lnTo>
                    <a:pt x="1026750" y="269754"/>
                  </a:lnTo>
                  <a:lnTo>
                    <a:pt x="1050719" y="290784"/>
                  </a:lnTo>
                  <a:lnTo>
                    <a:pt x="1056677" y="292948"/>
                  </a:lnTo>
                  <a:lnTo>
                    <a:pt x="1058662" y="294517"/>
                  </a:lnTo>
                  <a:lnTo>
                    <a:pt x="1066850" y="306956"/>
                  </a:lnTo>
                  <a:lnTo>
                    <a:pt x="1072113" y="310057"/>
                  </a:lnTo>
                  <a:lnTo>
                    <a:pt x="1077759" y="312429"/>
                  </a:lnTo>
                  <a:lnTo>
                    <a:pt x="1087690" y="320082"/>
                  </a:lnTo>
                  <a:lnTo>
                    <a:pt x="1088652" y="323498"/>
                  </a:lnTo>
                  <a:lnTo>
                    <a:pt x="1088909" y="325798"/>
                  </a:lnTo>
                  <a:lnTo>
                    <a:pt x="1090072" y="327332"/>
                  </a:lnTo>
                  <a:lnTo>
                    <a:pt x="1097970" y="330279"/>
                  </a:lnTo>
                  <a:lnTo>
                    <a:pt x="1098350" y="339295"/>
                  </a:lnTo>
                  <a:lnTo>
                    <a:pt x="1084790" y="339328"/>
                  </a:lnTo>
                  <a:lnTo>
                    <a:pt x="1079757" y="336682"/>
                  </a:lnTo>
                  <a:lnTo>
                    <a:pt x="1074212" y="333191"/>
                  </a:lnTo>
                  <a:lnTo>
                    <a:pt x="1064353" y="330766"/>
                  </a:lnTo>
                  <a:lnTo>
                    <a:pt x="1055843" y="324334"/>
                  </a:lnTo>
                  <a:lnTo>
                    <a:pt x="1047502" y="321326"/>
                  </a:lnTo>
                  <a:lnTo>
                    <a:pt x="1026914" y="30360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SMARTInkShape-39"/>
            <p:cNvSpPr/>
            <p:nvPr/>
          </p:nvSpPr>
          <p:spPr>
            <a:xfrm>
              <a:off x="6206040" y="4250520"/>
              <a:ext cx="393120" cy="1879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92907" h="187524">
                  <a:moveTo>
                    <a:pt x="0" y="107156"/>
                  </a:moveTo>
                  <a:lnTo>
                    <a:pt x="0" y="107156"/>
                  </a:lnTo>
                  <a:lnTo>
                    <a:pt x="16251" y="107156"/>
                  </a:lnTo>
                  <a:lnTo>
                    <a:pt x="24671" y="113293"/>
                  </a:lnTo>
                  <a:lnTo>
                    <a:pt x="32997" y="115258"/>
                  </a:lnTo>
                  <a:lnTo>
                    <a:pt x="38809" y="115718"/>
                  </a:lnTo>
                  <a:lnTo>
                    <a:pt x="44699" y="118568"/>
                  </a:lnTo>
                  <a:lnTo>
                    <a:pt x="50624" y="122150"/>
                  </a:lnTo>
                  <a:lnTo>
                    <a:pt x="60747" y="124638"/>
                  </a:lnTo>
                  <a:lnTo>
                    <a:pt x="69290" y="131079"/>
                  </a:lnTo>
                  <a:lnTo>
                    <a:pt x="74783" y="132671"/>
                  </a:lnTo>
                  <a:lnTo>
                    <a:pt x="92530" y="134686"/>
                  </a:lnTo>
                  <a:lnTo>
                    <a:pt x="109776" y="141601"/>
                  </a:lnTo>
                  <a:lnTo>
                    <a:pt x="137085" y="143793"/>
                  </a:lnTo>
                  <a:lnTo>
                    <a:pt x="153895" y="149929"/>
                  </a:lnTo>
                  <a:lnTo>
                    <a:pt x="163647" y="151963"/>
                  </a:lnTo>
                  <a:lnTo>
                    <a:pt x="175709" y="157695"/>
                  </a:lnTo>
                  <a:lnTo>
                    <a:pt x="217205" y="166792"/>
                  </a:lnTo>
                  <a:lnTo>
                    <a:pt x="261214" y="175726"/>
                  </a:lnTo>
                  <a:lnTo>
                    <a:pt x="272747" y="178737"/>
                  </a:lnTo>
                  <a:lnTo>
                    <a:pt x="283441" y="184479"/>
                  </a:lnTo>
                  <a:lnTo>
                    <a:pt x="324376" y="187444"/>
                  </a:lnTo>
                  <a:lnTo>
                    <a:pt x="360263" y="187523"/>
                  </a:lnTo>
                  <a:lnTo>
                    <a:pt x="366161" y="184878"/>
                  </a:lnTo>
                  <a:lnTo>
                    <a:pt x="383563" y="170064"/>
                  </a:lnTo>
                  <a:lnTo>
                    <a:pt x="383854" y="165043"/>
                  </a:lnTo>
                  <a:lnTo>
                    <a:pt x="386569" y="160003"/>
                  </a:lnTo>
                  <a:lnTo>
                    <a:pt x="390089" y="154456"/>
                  </a:lnTo>
                  <a:lnTo>
                    <a:pt x="392536" y="144596"/>
                  </a:lnTo>
                  <a:lnTo>
                    <a:pt x="392906" y="101254"/>
                  </a:lnTo>
                  <a:lnTo>
                    <a:pt x="392906" y="56800"/>
                  </a:lnTo>
                  <a:lnTo>
                    <a:pt x="392906" y="13642"/>
                  </a:lnTo>
                  <a:lnTo>
                    <a:pt x="391915" y="12071"/>
                  </a:lnTo>
                  <a:lnTo>
                    <a:pt x="390261" y="11024"/>
                  </a:lnTo>
                  <a:lnTo>
                    <a:pt x="388167" y="10326"/>
                  </a:lnTo>
                  <a:lnTo>
                    <a:pt x="386770" y="8869"/>
                  </a:lnTo>
                  <a:lnTo>
                    <a:pt x="384086" y="404"/>
                  </a:lnTo>
                  <a:lnTo>
                    <a:pt x="37504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3" name="SMARTInkShape-Group159"/>
          <p:cNvGrpSpPr/>
          <p:nvPr/>
        </p:nvGrpSpPr>
        <p:grpSpPr>
          <a:xfrm>
            <a:off x="3367080" y="4152960"/>
            <a:ext cx="5213520" cy="874800"/>
            <a:chOff x="3367080" y="4152960"/>
            <a:chExt cx="5213520" cy="874800"/>
          </a:xfrm>
        </p:grpSpPr>
        <p:sp>
          <p:nvSpPr>
            <p:cNvPr id="124" name="SMARTInkShape-40"/>
            <p:cNvSpPr/>
            <p:nvPr/>
          </p:nvSpPr>
          <p:spPr>
            <a:xfrm>
              <a:off x="3367080" y="4536720"/>
              <a:ext cx="4392720" cy="491040"/>
            </a:xfrm>
            <a:custGeom>
              <a:avLst/>
              <a:gdLst>
                <a:gd name="textAreaLeft" fmla="*/ 0 w 4392720"/>
                <a:gd name="textAreaRight" fmla="*/ 4393080 w 439272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4393397" h="491134">
                  <a:moveTo>
                    <a:pt x="8919" y="0"/>
                  </a:moveTo>
                  <a:lnTo>
                    <a:pt x="8919" y="0"/>
                  </a:lnTo>
                  <a:lnTo>
                    <a:pt x="358" y="0"/>
                  </a:lnTo>
                  <a:lnTo>
                    <a:pt x="0" y="8562"/>
                  </a:lnTo>
                  <a:lnTo>
                    <a:pt x="6129" y="15986"/>
                  </a:lnTo>
                  <a:lnTo>
                    <a:pt x="8093" y="24139"/>
                  </a:lnTo>
                  <a:lnTo>
                    <a:pt x="8552" y="29911"/>
                  </a:lnTo>
                  <a:lnTo>
                    <a:pt x="11402" y="35783"/>
                  </a:lnTo>
                  <a:lnTo>
                    <a:pt x="14984" y="41700"/>
                  </a:lnTo>
                  <a:lnTo>
                    <a:pt x="17993" y="50610"/>
                  </a:lnTo>
                  <a:lnTo>
                    <a:pt x="23735" y="59533"/>
                  </a:lnTo>
                  <a:lnTo>
                    <a:pt x="26869" y="68462"/>
                  </a:lnTo>
                  <a:lnTo>
                    <a:pt x="42172" y="89297"/>
                  </a:lnTo>
                  <a:lnTo>
                    <a:pt x="42994" y="92273"/>
                  </a:lnTo>
                  <a:lnTo>
                    <a:pt x="44534" y="94258"/>
                  </a:lnTo>
                  <a:lnTo>
                    <a:pt x="83344" y="128025"/>
                  </a:lnTo>
                  <a:lnTo>
                    <a:pt x="86646" y="133960"/>
                  </a:lnTo>
                  <a:lnTo>
                    <a:pt x="89105" y="139905"/>
                  </a:lnTo>
                  <a:lnTo>
                    <a:pt x="110232" y="163711"/>
                  </a:lnTo>
                  <a:lnTo>
                    <a:pt x="127195" y="175617"/>
                  </a:lnTo>
                  <a:lnTo>
                    <a:pt x="133922" y="184547"/>
                  </a:lnTo>
                  <a:lnTo>
                    <a:pt x="176593" y="216958"/>
                  </a:lnTo>
                  <a:lnTo>
                    <a:pt x="183652" y="225410"/>
                  </a:lnTo>
                  <a:lnTo>
                    <a:pt x="225311" y="250146"/>
                  </a:lnTo>
                  <a:lnTo>
                    <a:pt x="247135" y="263937"/>
                  </a:lnTo>
                  <a:lnTo>
                    <a:pt x="274237" y="272110"/>
                  </a:lnTo>
                  <a:lnTo>
                    <a:pt x="318861" y="297689"/>
                  </a:lnTo>
                  <a:lnTo>
                    <a:pt x="359054" y="313092"/>
                  </a:lnTo>
                  <a:lnTo>
                    <a:pt x="387190" y="326503"/>
                  </a:lnTo>
                  <a:lnTo>
                    <a:pt x="428630" y="339885"/>
                  </a:lnTo>
                  <a:lnTo>
                    <a:pt x="464335" y="354591"/>
                  </a:lnTo>
                  <a:lnTo>
                    <a:pt x="482193" y="359064"/>
                  </a:lnTo>
                  <a:lnTo>
                    <a:pt x="520558" y="372565"/>
                  </a:lnTo>
                  <a:lnTo>
                    <a:pt x="542838" y="376957"/>
                  </a:lnTo>
                  <a:lnTo>
                    <a:pt x="586263" y="391254"/>
                  </a:lnTo>
                  <a:lnTo>
                    <a:pt x="629771" y="400450"/>
                  </a:lnTo>
                  <a:lnTo>
                    <a:pt x="672620" y="410849"/>
                  </a:lnTo>
                  <a:lnTo>
                    <a:pt x="699137" y="417654"/>
                  </a:lnTo>
                  <a:lnTo>
                    <a:pt x="721428" y="421736"/>
                  </a:lnTo>
                  <a:lnTo>
                    <a:pt x="740601" y="426584"/>
                  </a:lnTo>
                  <a:lnTo>
                    <a:pt x="783892" y="435514"/>
                  </a:lnTo>
                  <a:lnTo>
                    <a:pt x="827590" y="444415"/>
                  </a:lnTo>
                  <a:lnTo>
                    <a:pt x="867165" y="458510"/>
                  </a:lnTo>
                  <a:lnTo>
                    <a:pt x="907407" y="463831"/>
                  </a:lnTo>
                  <a:lnTo>
                    <a:pt x="947263" y="466923"/>
                  </a:lnTo>
                  <a:lnTo>
                    <a:pt x="985144" y="473430"/>
                  </a:lnTo>
                  <a:lnTo>
                    <a:pt x="1022544" y="480852"/>
                  </a:lnTo>
                  <a:lnTo>
                    <a:pt x="1060579" y="482025"/>
                  </a:lnTo>
                  <a:lnTo>
                    <a:pt x="1082522" y="484795"/>
                  </a:lnTo>
                  <a:lnTo>
                    <a:pt x="1124407" y="490298"/>
                  </a:lnTo>
                  <a:lnTo>
                    <a:pt x="1162125" y="491023"/>
                  </a:lnTo>
                  <a:lnTo>
                    <a:pt x="1203020" y="491118"/>
                  </a:lnTo>
                  <a:lnTo>
                    <a:pt x="1238302" y="491130"/>
                  </a:lnTo>
                  <a:lnTo>
                    <a:pt x="1276360" y="491133"/>
                  </a:lnTo>
                  <a:lnTo>
                    <a:pt x="1312540" y="491133"/>
                  </a:lnTo>
                  <a:lnTo>
                    <a:pt x="1356295" y="491133"/>
                  </a:lnTo>
                  <a:lnTo>
                    <a:pt x="1399001" y="486393"/>
                  </a:lnTo>
                  <a:lnTo>
                    <a:pt x="1437087" y="483031"/>
                  </a:lnTo>
                  <a:lnTo>
                    <a:pt x="1475920" y="482367"/>
                  </a:lnTo>
                  <a:lnTo>
                    <a:pt x="1504565" y="479605"/>
                  </a:lnTo>
                  <a:lnTo>
                    <a:pt x="1541503" y="474524"/>
                  </a:lnTo>
                  <a:lnTo>
                    <a:pt x="1579889" y="473521"/>
                  </a:lnTo>
                  <a:lnTo>
                    <a:pt x="1618779" y="470677"/>
                  </a:lnTo>
                  <a:lnTo>
                    <a:pt x="1659645" y="465595"/>
                  </a:lnTo>
                  <a:lnTo>
                    <a:pt x="1697372" y="464591"/>
                  </a:lnTo>
                  <a:lnTo>
                    <a:pt x="1739368" y="464392"/>
                  </a:lnTo>
                  <a:lnTo>
                    <a:pt x="1781361" y="459613"/>
                  </a:lnTo>
                  <a:lnTo>
                    <a:pt x="1820744" y="456243"/>
                  </a:lnTo>
                  <a:lnTo>
                    <a:pt x="1859833" y="452931"/>
                  </a:lnTo>
                  <a:lnTo>
                    <a:pt x="1900737" y="447758"/>
                  </a:lnTo>
                  <a:lnTo>
                    <a:pt x="1938472" y="446736"/>
                  </a:lnTo>
                  <a:lnTo>
                    <a:pt x="1980469" y="443888"/>
                  </a:lnTo>
                  <a:lnTo>
                    <a:pt x="2017722" y="438806"/>
                  </a:lnTo>
                  <a:lnTo>
                    <a:pt x="2054736" y="431665"/>
                  </a:lnTo>
                  <a:lnTo>
                    <a:pt x="2099236" y="429226"/>
                  </a:lnTo>
                  <a:lnTo>
                    <a:pt x="2134413" y="428802"/>
                  </a:lnTo>
                  <a:lnTo>
                    <a:pt x="2177115" y="428661"/>
                  </a:lnTo>
                  <a:lnTo>
                    <a:pt x="2220350" y="428633"/>
                  </a:lnTo>
                  <a:lnTo>
                    <a:pt x="2261228" y="428626"/>
                  </a:lnTo>
                  <a:lnTo>
                    <a:pt x="2302486" y="423885"/>
                  </a:lnTo>
                  <a:lnTo>
                    <a:pt x="2345436" y="420523"/>
                  </a:lnTo>
                  <a:lnTo>
                    <a:pt x="2386257" y="419859"/>
                  </a:lnTo>
                  <a:lnTo>
                    <a:pt x="2427504" y="419728"/>
                  </a:lnTo>
                  <a:lnTo>
                    <a:pt x="2470452" y="413565"/>
                  </a:lnTo>
                  <a:lnTo>
                    <a:pt x="2511273" y="411318"/>
                  </a:lnTo>
                  <a:lnTo>
                    <a:pt x="2552520" y="406134"/>
                  </a:lnTo>
                  <a:lnTo>
                    <a:pt x="2595467" y="402685"/>
                  </a:lnTo>
                  <a:lnTo>
                    <a:pt x="2636289" y="399358"/>
                  </a:lnTo>
                  <a:lnTo>
                    <a:pt x="2670571" y="394818"/>
                  </a:lnTo>
                  <a:lnTo>
                    <a:pt x="2712970" y="393284"/>
                  </a:lnTo>
                  <a:lnTo>
                    <a:pt x="2756146" y="391989"/>
                  </a:lnTo>
                  <a:lnTo>
                    <a:pt x="2797012" y="385853"/>
                  </a:lnTo>
                  <a:lnTo>
                    <a:pt x="2831302" y="384533"/>
                  </a:lnTo>
                  <a:lnTo>
                    <a:pt x="2866597" y="381495"/>
                  </a:lnTo>
                  <a:lnTo>
                    <a:pt x="2909339" y="376320"/>
                  </a:lnTo>
                  <a:lnTo>
                    <a:pt x="2952582" y="369161"/>
                  </a:lnTo>
                  <a:lnTo>
                    <a:pt x="2993462" y="366719"/>
                  </a:lnTo>
                  <a:lnTo>
                    <a:pt x="3027755" y="363649"/>
                  </a:lnTo>
                  <a:lnTo>
                    <a:pt x="3070157" y="358463"/>
                  </a:lnTo>
                  <a:lnTo>
                    <a:pt x="3114325" y="356448"/>
                  </a:lnTo>
                  <a:lnTo>
                    <a:pt x="3149445" y="351125"/>
                  </a:lnTo>
                  <a:lnTo>
                    <a:pt x="3183995" y="348115"/>
                  </a:lnTo>
                  <a:lnTo>
                    <a:pt x="3225483" y="338712"/>
                  </a:lnTo>
                  <a:lnTo>
                    <a:pt x="3259882" y="332862"/>
                  </a:lnTo>
                  <a:lnTo>
                    <a:pt x="3295209" y="331128"/>
                  </a:lnTo>
                  <a:lnTo>
                    <a:pt x="3337962" y="325802"/>
                  </a:lnTo>
                  <a:lnTo>
                    <a:pt x="3382198" y="316188"/>
                  </a:lnTo>
                  <a:lnTo>
                    <a:pt x="3426509" y="310614"/>
                  </a:lnTo>
                  <a:lnTo>
                    <a:pt x="3468959" y="304992"/>
                  </a:lnTo>
                  <a:lnTo>
                    <a:pt x="3503781" y="299279"/>
                  </a:lnTo>
                  <a:lnTo>
                    <a:pt x="3544966" y="289451"/>
                  </a:lnTo>
                  <a:lnTo>
                    <a:pt x="3587645" y="283836"/>
                  </a:lnTo>
                  <a:lnTo>
                    <a:pt x="3629773" y="278205"/>
                  </a:lnTo>
                  <a:lnTo>
                    <a:pt x="3664539" y="272491"/>
                  </a:lnTo>
                  <a:lnTo>
                    <a:pt x="3705704" y="267807"/>
                  </a:lnTo>
                  <a:lnTo>
                    <a:pt x="3739403" y="261030"/>
                  </a:lnTo>
                  <a:lnTo>
                    <a:pt x="3783699" y="252498"/>
                  </a:lnTo>
                  <a:lnTo>
                    <a:pt x="3821407" y="245778"/>
                  </a:lnTo>
                  <a:lnTo>
                    <a:pt x="3863655" y="241033"/>
                  </a:lnTo>
                  <a:lnTo>
                    <a:pt x="3904339" y="231571"/>
                  </a:lnTo>
                  <a:lnTo>
                    <a:pt x="3945558" y="224888"/>
                  </a:lnTo>
                  <a:lnTo>
                    <a:pt x="3982363" y="216438"/>
                  </a:lnTo>
                  <a:lnTo>
                    <a:pt x="4020942" y="207860"/>
                  </a:lnTo>
                  <a:lnTo>
                    <a:pt x="4061746" y="201132"/>
                  </a:lnTo>
                  <a:lnTo>
                    <a:pt x="4104836" y="190001"/>
                  </a:lnTo>
                  <a:lnTo>
                    <a:pt x="4144171" y="180721"/>
                  </a:lnTo>
                  <a:lnTo>
                    <a:pt x="4183379" y="171316"/>
                  </a:lnTo>
                  <a:lnTo>
                    <a:pt x="4221652" y="162814"/>
                  </a:lnTo>
                  <a:lnTo>
                    <a:pt x="4240975" y="158705"/>
                  </a:lnTo>
                  <a:lnTo>
                    <a:pt x="4281678" y="145343"/>
                  </a:lnTo>
                  <a:lnTo>
                    <a:pt x="4324113" y="134869"/>
                  </a:lnTo>
                  <a:lnTo>
                    <a:pt x="4332177" y="134356"/>
                  </a:lnTo>
                  <a:lnTo>
                    <a:pt x="4339068" y="131482"/>
                  </a:lnTo>
                  <a:lnTo>
                    <a:pt x="4345437" y="127890"/>
                  </a:lnTo>
                  <a:lnTo>
                    <a:pt x="4357612" y="125584"/>
                  </a:lnTo>
                  <a:lnTo>
                    <a:pt x="4393396" y="125015"/>
                  </a:lnTo>
                  <a:lnTo>
                    <a:pt x="4388656" y="125015"/>
                  </a:lnTo>
                  <a:lnTo>
                    <a:pt x="4387258" y="124024"/>
                  </a:lnTo>
                  <a:lnTo>
                    <a:pt x="4386328" y="122370"/>
                  </a:lnTo>
                  <a:lnTo>
                    <a:pt x="4384574" y="116454"/>
                  </a:lnTo>
                  <a:lnTo>
                    <a:pt x="4366974" y="116086"/>
                  </a:lnTo>
                  <a:lnTo>
                    <a:pt x="4366607" y="1071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SMARTInkShape-41"/>
            <p:cNvSpPr/>
            <p:nvPr/>
          </p:nvSpPr>
          <p:spPr>
            <a:xfrm>
              <a:off x="7563600" y="4599360"/>
              <a:ext cx="267840" cy="1605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67888" h="160735">
                  <a:moveTo>
                    <a:pt x="0" y="53578"/>
                  </a:moveTo>
                  <a:lnTo>
                    <a:pt x="0" y="53578"/>
                  </a:lnTo>
                  <a:lnTo>
                    <a:pt x="12428" y="41149"/>
                  </a:lnTo>
                  <a:lnTo>
                    <a:pt x="20737" y="38132"/>
                  </a:lnTo>
                  <a:lnTo>
                    <a:pt x="30053" y="35799"/>
                  </a:lnTo>
                  <a:lnTo>
                    <a:pt x="44116" y="28863"/>
                  </a:lnTo>
                  <a:lnTo>
                    <a:pt x="50365" y="26718"/>
                  </a:lnTo>
                  <a:lnTo>
                    <a:pt x="59462" y="20926"/>
                  </a:lnTo>
                  <a:lnTo>
                    <a:pt x="69433" y="18768"/>
                  </a:lnTo>
                  <a:lnTo>
                    <a:pt x="83522" y="17136"/>
                  </a:lnTo>
                  <a:lnTo>
                    <a:pt x="95412" y="11802"/>
                  </a:lnTo>
                  <a:lnTo>
                    <a:pt x="136413" y="6333"/>
                  </a:lnTo>
                  <a:lnTo>
                    <a:pt x="153504" y="1251"/>
                  </a:lnTo>
                  <a:lnTo>
                    <a:pt x="194839" y="33"/>
                  </a:lnTo>
                  <a:lnTo>
                    <a:pt x="238101" y="0"/>
                  </a:lnTo>
                  <a:lnTo>
                    <a:pt x="266494" y="0"/>
                  </a:lnTo>
                  <a:lnTo>
                    <a:pt x="266960" y="992"/>
                  </a:lnTo>
                  <a:lnTo>
                    <a:pt x="267887" y="22200"/>
                  </a:lnTo>
                  <a:lnTo>
                    <a:pt x="265244" y="27395"/>
                  </a:lnTo>
                  <a:lnTo>
                    <a:pt x="227187" y="69475"/>
                  </a:lnTo>
                  <a:lnTo>
                    <a:pt x="221374" y="87439"/>
                  </a:lnTo>
                  <a:lnTo>
                    <a:pt x="190155" y="125001"/>
                  </a:lnTo>
                  <a:lnTo>
                    <a:pt x="188044" y="136919"/>
                  </a:lnTo>
                  <a:lnTo>
                    <a:pt x="187523" y="16073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SMARTInkShape-42"/>
            <p:cNvSpPr/>
            <p:nvPr/>
          </p:nvSpPr>
          <p:spPr>
            <a:xfrm>
              <a:off x="7162920" y="4152960"/>
              <a:ext cx="1417680" cy="69624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696240"/>
                <a:gd name="textAreaBottom" fmla="*/ 696600 h 696240"/>
              </a:gdLst>
              <a:ahLst/>
              <a:rect l="textAreaLeft" t="textAreaTop" r="textAreaRight" b="textAreaBottom"/>
              <a:pathLst>
                <a:path w="1417889" h="696403">
                  <a:moveTo>
                    <a:pt x="784416" y="580317"/>
                  </a:moveTo>
                  <a:lnTo>
                    <a:pt x="784416" y="580317"/>
                  </a:lnTo>
                  <a:lnTo>
                    <a:pt x="754528" y="580317"/>
                  </a:lnTo>
                  <a:lnTo>
                    <a:pt x="715206" y="589002"/>
                  </a:lnTo>
                  <a:lnTo>
                    <a:pt x="671163" y="589237"/>
                  </a:lnTo>
                  <a:lnTo>
                    <a:pt x="629627" y="589246"/>
                  </a:lnTo>
                  <a:lnTo>
                    <a:pt x="587778" y="589247"/>
                  </a:lnTo>
                  <a:lnTo>
                    <a:pt x="548520" y="588255"/>
                  </a:lnTo>
                  <a:lnTo>
                    <a:pt x="507106" y="581559"/>
                  </a:lnTo>
                  <a:lnTo>
                    <a:pt x="469950" y="577835"/>
                  </a:lnTo>
                  <a:lnTo>
                    <a:pt x="427968" y="571245"/>
                  </a:lnTo>
                  <a:lnTo>
                    <a:pt x="390236" y="563811"/>
                  </a:lnTo>
                  <a:lnTo>
                    <a:pt x="346694" y="555568"/>
                  </a:lnTo>
                  <a:lnTo>
                    <a:pt x="302191" y="546668"/>
                  </a:lnTo>
                  <a:lnTo>
                    <a:pt x="262302" y="537313"/>
                  </a:lnTo>
                  <a:lnTo>
                    <a:pt x="223940" y="526171"/>
                  </a:lnTo>
                  <a:lnTo>
                    <a:pt x="186219" y="510789"/>
                  </a:lnTo>
                  <a:lnTo>
                    <a:pt x="141658" y="482638"/>
                  </a:lnTo>
                  <a:lnTo>
                    <a:pt x="99818" y="456547"/>
                  </a:lnTo>
                  <a:lnTo>
                    <a:pt x="59127" y="425599"/>
                  </a:lnTo>
                  <a:lnTo>
                    <a:pt x="44036" y="408607"/>
                  </a:lnTo>
                  <a:lnTo>
                    <a:pt x="16483" y="365400"/>
                  </a:lnTo>
                  <a:lnTo>
                    <a:pt x="10186" y="350612"/>
                  </a:lnTo>
                  <a:lnTo>
                    <a:pt x="0" y="315025"/>
                  </a:lnTo>
                  <a:lnTo>
                    <a:pt x="1870" y="305974"/>
                  </a:lnTo>
                  <a:lnTo>
                    <a:pt x="19631" y="262689"/>
                  </a:lnTo>
                  <a:lnTo>
                    <a:pt x="36994" y="232173"/>
                  </a:lnTo>
                  <a:lnTo>
                    <a:pt x="68462" y="190394"/>
                  </a:lnTo>
                  <a:lnTo>
                    <a:pt x="110594" y="154669"/>
                  </a:lnTo>
                  <a:lnTo>
                    <a:pt x="151045" y="129326"/>
                  </a:lnTo>
                  <a:lnTo>
                    <a:pt x="177386" y="111000"/>
                  </a:lnTo>
                  <a:lnTo>
                    <a:pt x="221871" y="86545"/>
                  </a:lnTo>
                  <a:lnTo>
                    <a:pt x="260215" y="71979"/>
                  </a:lnTo>
                  <a:lnTo>
                    <a:pt x="294069" y="62590"/>
                  </a:lnTo>
                  <a:lnTo>
                    <a:pt x="326590" y="50877"/>
                  </a:lnTo>
                  <a:lnTo>
                    <a:pt x="368985" y="33882"/>
                  </a:lnTo>
                  <a:lnTo>
                    <a:pt x="403797" y="28812"/>
                  </a:lnTo>
                  <a:lnTo>
                    <a:pt x="439248" y="22568"/>
                  </a:lnTo>
                  <a:lnTo>
                    <a:pt x="474888" y="14435"/>
                  </a:lnTo>
                  <a:lnTo>
                    <a:pt x="515322" y="10482"/>
                  </a:lnTo>
                  <a:lnTo>
                    <a:pt x="553983" y="9310"/>
                  </a:lnTo>
                  <a:lnTo>
                    <a:pt x="590573" y="4223"/>
                  </a:lnTo>
                  <a:lnTo>
                    <a:pt x="631291" y="1172"/>
                  </a:lnTo>
                  <a:lnTo>
                    <a:pt x="670033" y="268"/>
                  </a:lnTo>
                  <a:lnTo>
                    <a:pt x="706649" y="0"/>
                  </a:lnTo>
                  <a:lnTo>
                    <a:pt x="747373" y="4661"/>
                  </a:lnTo>
                  <a:lnTo>
                    <a:pt x="786118" y="7586"/>
                  </a:lnTo>
                  <a:lnTo>
                    <a:pt x="822735" y="8453"/>
                  </a:lnTo>
                  <a:lnTo>
                    <a:pt x="863459" y="13450"/>
                  </a:lnTo>
                  <a:lnTo>
                    <a:pt x="902204" y="16473"/>
                  </a:lnTo>
                  <a:lnTo>
                    <a:pt x="943561" y="22110"/>
                  </a:lnTo>
                  <a:lnTo>
                    <a:pt x="982492" y="30064"/>
                  </a:lnTo>
                  <a:lnTo>
                    <a:pt x="1019165" y="38704"/>
                  </a:lnTo>
                  <a:lnTo>
                    <a:pt x="1055165" y="47548"/>
                  </a:lnTo>
                  <a:lnTo>
                    <a:pt x="1090966" y="56453"/>
                  </a:lnTo>
                  <a:lnTo>
                    <a:pt x="1132483" y="74487"/>
                  </a:lnTo>
                  <a:lnTo>
                    <a:pt x="1175226" y="91279"/>
                  </a:lnTo>
                  <a:lnTo>
                    <a:pt x="1217368" y="108670"/>
                  </a:lnTo>
                  <a:lnTo>
                    <a:pt x="1256780" y="128789"/>
                  </a:lnTo>
                  <a:lnTo>
                    <a:pt x="1293230" y="151872"/>
                  </a:lnTo>
                  <a:lnTo>
                    <a:pt x="1337258" y="187427"/>
                  </a:lnTo>
                  <a:lnTo>
                    <a:pt x="1379683" y="229083"/>
                  </a:lnTo>
                  <a:lnTo>
                    <a:pt x="1396403" y="253888"/>
                  </a:lnTo>
                  <a:lnTo>
                    <a:pt x="1414351" y="297708"/>
                  </a:lnTo>
                  <a:lnTo>
                    <a:pt x="1417888" y="339629"/>
                  </a:lnTo>
                  <a:lnTo>
                    <a:pt x="1408640" y="383919"/>
                  </a:lnTo>
                  <a:lnTo>
                    <a:pt x="1394500" y="427527"/>
                  </a:lnTo>
                  <a:lnTo>
                    <a:pt x="1374974" y="465473"/>
                  </a:lnTo>
                  <a:lnTo>
                    <a:pt x="1346752" y="501975"/>
                  </a:lnTo>
                  <a:lnTo>
                    <a:pt x="1311248" y="543992"/>
                  </a:lnTo>
                  <a:lnTo>
                    <a:pt x="1274371" y="574284"/>
                  </a:lnTo>
                  <a:lnTo>
                    <a:pt x="1235485" y="604119"/>
                  </a:lnTo>
                  <a:lnTo>
                    <a:pt x="1211754" y="617245"/>
                  </a:lnTo>
                  <a:lnTo>
                    <a:pt x="1170932" y="631562"/>
                  </a:lnTo>
                  <a:lnTo>
                    <a:pt x="1133176" y="649824"/>
                  </a:lnTo>
                  <a:lnTo>
                    <a:pt x="1097054" y="663279"/>
                  </a:lnTo>
                  <a:lnTo>
                    <a:pt x="1060264" y="669355"/>
                  </a:lnTo>
                  <a:lnTo>
                    <a:pt x="1018453" y="679080"/>
                  </a:lnTo>
                  <a:lnTo>
                    <a:pt x="981238" y="685815"/>
                  </a:lnTo>
                  <a:lnTo>
                    <a:pt x="939087" y="688138"/>
                  </a:lnTo>
                  <a:lnTo>
                    <a:pt x="901068" y="694477"/>
                  </a:lnTo>
                  <a:lnTo>
                    <a:pt x="860154" y="696022"/>
                  </a:lnTo>
                  <a:lnTo>
                    <a:pt x="820984" y="696329"/>
                  </a:lnTo>
                  <a:lnTo>
                    <a:pt x="784584" y="696388"/>
                  </a:lnTo>
                  <a:lnTo>
                    <a:pt x="740783" y="696402"/>
                  </a:lnTo>
                  <a:lnTo>
                    <a:pt x="711121" y="693757"/>
                  </a:lnTo>
                  <a:lnTo>
                    <a:pt x="674224" y="688301"/>
                  </a:lnTo>
                  <a:lnTo>
                    <a:pt x="632211" y="682842"/>
                  </a:lnTo>
                  <a:lnTo>
                    <a:pt x="591428" y="678922"/>
                  </a:lnTo>
                  <a:lnTo>
                    <a:pt x="561174" y="66961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SMARTInkShape-43"/>
            <p:cNvSpPr/>
            <p:nvPr/>
          </p:nvSpPr>
          <p:spPr>
            <a:xfrm>
              <a:off x="5956200" y="4170600"/>
              <a:ext cx="1169280" cy="544320"/>
            </a:xfrm>
            <a:custGeom>
              <a:avLst/>
              <a:gdLst>
                <a:gd name="textAreaLeft" fmla="*/ 0 w 1169280"/>
                <a:gd name="textAreaRight" fmla="*/ 1169640 w 116928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169718" h="544507">
                  <a:moveTo>
                    <a:pt x="901843" y="53496"/>
                  </a:moveTo>
                  <a:lnTo>
                    <a:pt x="901843" y="53496"/>
                  </a:lnTo>
                  <a:lnTo>
                    <a:pt x="888577" y="41222"/>
                  </a:lnTo>
                  <a:lnTo>
                    <a:pt x="872292" y="31632"/>
                  </a:lnTo>
                  <a:lnTo>
                    <a:pt x="860214" y="21543"/>
                  </a:lnTo>
                  <a:lnTo>
                    <a:pt x="828672" y="10236"/>
                  </a:lnTo>
                  <a:lnTo>
                    <a:pt x="789996" y="8901"/>
                  </a:lnTo>
                  <a:lnTo>
                    <a:pt x="747765" y="8852"/>
                  </a:lnTo>
                  <a:lnTo>
                    <a:pt x="703330" y="8848"/>
                  </a:lnTo>
                  <a:lnTo>
                    <a:pt x="669264" y="8847"/>
                  </a:lnTo>
                  <a:lnTo>
                    <a:pt x="633281" y="13588"/>
                  </a:lnTo>
                  <a:lnTo>
                    <a:pt x="590936" y="16950"/>
                  </a:lnTo>
                  <a:lnTo>
                    <a:pt x="553908" y="17613"/>
                  </a:lnTo>
                  <a:lnTo>
                    <a:pt x="517931" y="17745"/>
                  </a:lnTo>
                  <a:lnTo>
                    <a:pt x="482160" y="23908"/>
                  </a:lnTo>
                  <a:lnTo>
                    <a:pt x="443786" y="28800"/>
                  </a:lnTo>
                  <a:lnTo>
                    <a:pt x="403023" y="34286"/>
                  </a:lnTo>
                  <a:lnTo>
                    <a:pt x="366308" y="41507"/>
                  </a:lnTo>
                  <a:lnTo>
                    <a:pt x="326186" y="48904"/>
                  </a:lnTo>
                  <a:lnTo>
                    <a:pt x="285147" y="62605"/>
                  </a:lnTo>
                  <a:lnTo>
                    <a:pt x="258744" y="68762"/>
                  </a:lnTo>
                  <a:lnTo>
                    <a:pt x="234715" y="73233"/>
                  </a:lnTo>
                  <a:lnTo>
                    <a:pt x="196557" y="86485"/>
                  </a:lnTo>
                  <a:lnTo>
                    <a:pt x="176491" y="96234"/>
                  </a:lnTo>
                  <a:lnTo>
                    <a:pt x="138933" y="121136"/>
                  </a:lnTo>
                  <a:lnTo>
                    <a:pt x="102400" y="136732"/>
                  </a:lnTo>
                  <a:lnTo>
                    <a:pt x="92444" y="145390"/>
                  </a:lnTo>
                  <a:lnTo>
                    <a:pt x="83720" y="154861"/>
                  </a:lnTo>
                  <a:lnTo>
                    <a:pt x="43281" y="189067"/>
                  </a:lnTo>
                  <a:lnTo>
                    <a:pt x="17870" y="232270"/>
                  </a:lnTo>
                  <a:lnTo>
                    <a:pt x="11541" y="247357"/>
                  </a:lnTo>
                  <a:lnTo>
                    <a:pt x="877" y="288892"/>
                  </a:lnTo>
                  <a:lnTo>
                    <a:pt x="0" y="330331"/>
                  </a:lnTo>
                  <a:lnTo>
                    <a:pt x="961" y="341237"/>
                  </a:lnTo>
                  <a:lnTo>
                    <a:pt x="20937" y="381286"/>
                  </a:lnTo>
                  <a:lnTo>
                    <a:pt x="44600" y="420179"/>
                  </a:lnTo>
                  <a:lnTo>
                    <a:pt x="56501" y="438797"/>
                  </a:lnTo>
                  <a:lnTo>
                    <a:pt x="96592" y="480498"/>
                  </a:lnTo>
                  <a:lnTo>
                    <a:pt x="136949" y="505664"/>
                  </a:lnTo>
                  <a:lnTo>
                    <a:pt x="181190" y="526754"/>
                  </a:lnTo>
                  <a:lnTo>
                    <a:pt x="225282" y="537559"/>
                  </a:lnTo>
                  <a:lnTo>
                    <a:pt x="267120" y="543698"/>
                  </a:lnTo>
                  <a:lnTo>
                    <a:pt x="304832" y="544506"/>
                  </a:lnTo>
                  <a:lnTo>
                    <a:pt x="345662" y="543612"/>
                  </a:lnTo>
                  <a:lnTo>
                    <a:pt x="383420" y="537556"/>
                  </a:lnTo>
                  <a:lnTo>
                    <a:pt x="424282" y="531326"/>
                  </a:lnTo>
                  <a:lnTo>
                    <a:pt x="463442" y="526677"/>
                  </a:lnTo>
                  <a:lnTo>
                    <a:pt x="502486" y="517233"/>
                  </a:lnTo>
                  <a:lnTo>
                    <a:pt x="543382" y="505814"/>
                  </a:lnTo>
                  <a:lnTo>
                    <a:pt x="587252" y="494995"/>
                  </a:lnTo>
                  <a:lnTo>
                    <a:pt x="622321" y="490235"/>
                  </a:lnTo>
                  <a:lnTo>
                    <a:pt x="656854" y="479123"/>
                  </a:lnTo>
                  <a:lnTo>
                    <a:pt x="698339" y="471718"/>
                  </a:lnTo>
                  <a:lnTo>
                    <a:pt x="739717" y="460994"/>
                  </a:lnTo>
                  <a:lnTo>
                    <a:pt x="776967" y="452269"/>
                  </a:lnTo>
                  <a:lnTo>
                    <a:pt x="820733" y="440432"/>
                  </a:lnTo>
                  <a:lnTo>
                    <a:pt x="863920" y="428540"/>
                  </a:lnTo>
                  <a:lnTo>
                    <a:pt x="901408" y="416636"/>
                  </a:lnTo>
                  <a:lnTo>
                    <a:pt x="938469" y="404730"/>
                  </a:lnTo>
                  <a:lnTo>
                    <a:pt x="977687" y="392824"/>
                  </a:lnTo>
                  <a:lnTo>
                    <a:pt x="1018511" y="371804"/>
                  </a:lnTo>
                  <a:lnTo>
                    <a:pt x="1057914" y="354497"/>
                  </a:lnTo>
                  <a:lnTo>
                    <a:pt x="1089145" y="336649"/>
                  </a:lnTo>
                  <a:lnTo>
                    <a:pt x="1131916" y="303692"/>
                  </a:lnTo>
                  <a:lnTo>
                    <a:pt x="1156111" y="285682"/>
                  </a:lnTo>
                  <a:lnTo>
                    <a:pt x="1162059" y="276743"/>
                  </a:lnTo>
                  <a:lnTo>
                    <a:pt x="1164618" y="273765"/>
                  </a:lnTo>
                  <a:lnTo>
                    <a:pt x="1167460" y="265164"/>
                  </a:lnTo>
                  <a:lnTo>
                    <a:pt x="1169717" y="220951"/>
                  </a:lnTo>
                  <a:lnTo>
                    <a:pt x="1168740" y="199240"/>
                  </a:lnTo>
                  <a:lnTo>
                    <a:pt x="1153921" y="156768"/>
                  </a:lnTo>
                  <a:lnTo>
                    <a:pt x="1131003" y="117704"/>
                  </a:lnTo>
                  <a:lnTo>
                    <a:pt x="1122424" y="109153"/>
                  </a:lnTo>
                  <a:lnTo>
                    <a:pt x="1112988" y="101052"/>
                  </a:lnTo>
                  <a:lnTo>
                    <a:pt x="1096201" y="82329"/>
                  </a:lnTo>
                  <a:lnTo>
                    <a:pt x="1056502" y="54828"/>
                  </a:lnTo>
                  <a:lnTo>
                    <a:pt x="1031796" y="39464"/>
                  </a:lnTo>
                  <a:lnTo>
                    <a:pt x="990615" y="23843"/>
                  </a:lnTo>
                  <a:lnTo>
                    <a:pt x="946423" y="11508"/>
                  </a:lnTo>
                  <a:lnTo>
                    <a:pt x="906020" y="4633"/>
                  </a:lnTo>
                  <a:lnTo>
                    <a:pt x="865958" y="849"/>
                  </a:lnTo>
                  <a:lnTo>
                    <a:pt x="832451" y="193"/>
                  </a:lnTo>
                  <a:lnTo>
                    <a:pt x="797389" y="0"/>
                  </a:lnTo>
                  <a:lnTo>
                    <a:pt x="761863" y="934"/>
                  </a:lnTo>
                  <a:lnTo>
                    <a:pt x="725211" y="6062"/>
                  </a:lnTo>
                  <a:lnTo>
                    <a:pt x="683371" y="10007"/>
                  </a:lnTo>
                  <a:lnTo>
                    <a:pt x="639556" y="21869"/>
                  </a:lnTo>
                  <a:lnTo>
                    <a:pt x="595155" y="34093"/>
                  </a:lnTo>
                  <a:lnTo>
                    <a:pt x="550578" y="54692"/>
                  </a:lnTo>
                  <a:lnTo>
                    <a:pt x="505951" y="74797"/>
                  </a:lnTo>
                  <a:lnTo>
                    <a:pt x="462302" y="99164"/>
                  </a:lnTo>
                  <a:lnTo>
                    <a:pt x="423791" y="126228"/>
                  </a:lnTo>
                  <a:lnTo>
                    <a:pt x="387246" y="157948"/>
                  </a:lnTo>
                  <a:lnTo>
                    <a:pt x="339273" y="19637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8" name="SMARTInkShape-Group160"/>
          <p:cNvGrpSpPr/>
          <p:nvPr/>
        </p:nvGrpSpPr>
        <p:grpSpPr>
          <a:xfrm>
            <a:off x="7923240" y="3273480"/>
            <a:ext cx="1203120" cy="1012680"/>
            <a:chOff x="7923240" y="3273480"/>
            <a:chExt cx="1203120" cy="1012680"/>
          </a:xfrm>
        </p:grpSpPr>
        <p:sp>
          <p:nvSpPr>
            <p:cNvPr id="129" name="SMARTInkShape-44"/>
            <p:cNvSpPr/>
            <p:nvPr/>
          </p:nvSpPr>
          <p:spPr>
            <a:xfrm>
              <a:off x="7923240" y="3715920"/>
              <a:ext cx="515520" cy="35460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515439" h="354540">
                  <a:moveTo>
                    <a:pt x="15375" y="114835"/>
                  </a:moveTo>
                  <a:lnTo>
                    <a:pt x="15375" y="114835"/>
                  </a:lnTo>
                  <a:lnTo>
                    <a:pt x="5895" y="114835"/>
                  </a:lnTo>
                  <a:lnTo>
                    <a:pt x="3103" y="113842"/>
                  </a:lnTo>
                  <a:lnTo>
                    <a:pt x="1241" y="112189"/>
                  </a:lnTo>
                  <a:lnTo>
                    <a:pt x="0" y="110094"/>
                  </a:lnTo>
                  <a:lnTo>
                    <a:pt x="164" y="107706"/>
                  </a:lnTo>
                  <a:lnTo>
                    <a:pt x="5423" y="98584"/>
                  </a:lnTo>
                  <a:lnTo>
                    <a:pt x="29537" y="72895"/>
                  </a:lnTo>
                  <a:lnTo>
                    <a:pt x="35151" y="61204"/>
                  </a:lnTo>
                  <a:lnTo>
                    <a:pt x="45519" y="49340"/>
                  </a:lnTo>
                  <a:lnTo>
                    <a:pt x="58923" y="40417"/>
                  </a:lnTo>
                  <a:lnTo>
                    <a:pt x="103429" y="21211"/>
                  </a:lnTo>
                  <a:lnTo>
                    <a:pt x="121976" y="14569"/>
                  </a:lnTo>
                  <a:lnTo>
                    <a:pt x="128238" y="10741"/>
                  </a:lnTo>
                  <a:lnTo>
                    <a:pt x="140344" y="8284"/>
                  </a:lnTo>
                  <a:lnTo>
                    <a:pt x="161404" y="6766"/>
                  </a:lnTo>
                  <a:lnTo>
                    <a:pt x="178717" y="0"/>
                  </a:lnTo>
                  <a:lnTo>
                    <a:pt x="204602" y="6547"/>
                  </a:lnTo>
                  <a:lnTo>
                    <a:pt x="211263" y="9821"/>
                  </a:lnTo>
                  <a:lnTo>
                    <a:pt x="214428" y="12083"/>
                  </a:lnTo>
                  <a:lnTo>
                    <a:pt x="232774" y="17699"/>
                  </a:lnTo>
                  <a:lnTo>
                    <a:pt x="273735" y="54863"/>
                  </a:lnTo>
                  <a:lnTo>
                    <a:pt x="299877" y="98887"/>
                  </a:lnTo>
                  <a:lnTo>
                    <a:pt x="321591" y="143033"/>
                  </a:lnTo>
                  <a:lnTo>
                    <a:pt x="336797" y="186458"/>
                  </a:lnTo>
                  <a:lnTo>
                    <a:pt x="343114" y="213117"/>
                  </a:lnTo>
                  <a:lnTo>
                    <a:pt x="345541" y="256931"/>
                  </a:lnTo>
                  <a:lnTo>
                    <a:pt x="345761" y="299336"/>
                  </a:lnTo>
                  <a:lnTo>
                    <a:pt x="343122" y="308622"/>
                  </a:lnTo>
                  <a:lnTo>
                    <a:pt x="330328" y="328913"/>
                  </a:lnTo>
                  <a:lnTo>
                    <a:pt x="329524" y="331967"/>
                  </a:lnTo>
                  <a:lnTo>
                    <a:pt x="323338" y="338007"/>
                  </a:lnTo>
                  <a:lnTo>
                    <a:pt x="301351" y="351221"/>
                  </a:lnTo>
                  <a:lnTo>
                    <a:pt x="290169" y="354539"/>
                  </a:lnTo>
                  <a:lnTo>
                    <a:pt x="286875" y="354013"/>
                  </a:lnTo>
                  <a:lnTo>
                    <a:pt x="250377" y="337141"/>
                  </a:lnTo>
                  <a:lnTo>
                    <a:pt x="228065" y="318097"/>
                  </a:lnTo>
                  <a:lnTo>
                    <a:pt x="206947" y="288353"/>
                  </a:lnTo>
                  <a:lnTo>
                    <a:pt x="204698" y="281912"/>
                  </a:lnTo>
                  <a:lnTo>
                    <a:pt x="202946" y="246181"/>
                  </a:lnTo>
                  <a:lnTo>
                    <a:pt x="205565" y="240018"/>
                  </a:lnTo>
                  <a:lnTo>
                    <a:pt x="207653" y="236985"/>
                  </a:lnTo>
                  <a:lnTo>
                    <a:pt x="212618" y="233616"/>
                  </a:lnTo>
                  <a:lnTo>
                    <a:pt x="218134" y="231126"/>
                  </a:lnTo>
                  <a:lnTo>
                    <a:pt x="237452" y="218650"/>
                  </a:lnTo>
                  <a:lnTo>
                    <a:pt x="277420" y="206259"/>
                  </a:lnTo>
                  <a:lnTo>
                    <a:pt x="301146" y="197680"/>
                  </a:lnTo>
                  <a:lnTo>
                    <a:pt x="318991" y="193291"/>
                  </a:lnTo>
                  <a:lnTo>
                    <a:pt x="361772" y="177175"/>
                  </a:lnTo>
                  <a:lnTo>
                    <a:pt x="401835" y="159469"/>
                  </a:lnTo>
                  <a:lnTo>
                    <a:pt x="443435" y="141623"/>
                  </a:lnTo>
                  <a:lnTo>
                    <a:pt x="486540" y="114835"/>
                  </a:lnTo>
                  <a:lnTo>
                    <a:pt x="500138" y="102928"/>
                  </a:lnTo>
                  <a:lnTo>
                    <a:pt x="509361" y="89258"/>
                  </a:lnTo>
                  <a:lnTo>
                    <a:pt x="513638" y="77381"/>
                  </a:lnTo>
                  <a:lnTo>
                    <a:pt x="515438" y="3446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SMARTInkShape-45"/>
            <p:cNvSpPr/>
            <p:nvPr/>
          </p:nvSpPr>
          <p:spPr>
            <a:xfrm>
              <a:off x="8277840" y="3531960"/>
              <a:ext cx="240840" cy="3074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40966" h="307500">
                  <a:moveTo>
                    <a:pt x="80354" y="75384"/>
                  </a:moveTo>
                  <a:lnTo>
                    <a:pt x="80354" y="75384"/>
                  </a:lnTo>
                  <a:lnTo>
                    <a:pt x="75614" y="75384"/>
                  </a:lnTo>
                  <a:lnTo>
                    <a:pt x="70640" y="72739"/>
                  </a:lnTo>
                  <a:lnTo>
                    <a:pt x="65123" y="69248"/>
                  </a:lnTo>
                  <a:lnTo>
                    <a:pt x="53496" y="67007"/>
                  </a:lnTo>
                  <a:lnTo>
                    <a:pt x="23798" y="66465"/>
                  </a:lnTo>
                  <a:lnTo>
                    <a:pt x="17845" y="69105"/>
                  </a:lnTo>
                  <a:lnTo>
                    <a:pt x="5940" y="78885"/>
                  </a:lnTo>
                  <a:lnTo>
                    <a:pt x="2634" y="84547"/>
                  </a:lnTo>
                  <a:lnTo>
                    <a:pt x="509" y="96266"/>
                  </a:lnTo>
                  <a:lnTo>
                    <a:pt x="0" y="130699"/>
                  </a:lnTo>
                  <a:lnTo>
                    <a:pt x="12417" y="169807"/>
                  </a:lnTo>
                  <a:lnTo>
                    <a:pt x="42227" y="211021"/>
                  </a:lnTo>
                  <a:lnTo>
                    <a:pt x="77428" y="255368"/>
                  </a:lnTo>
                  <a:lnTo>
                    <a:pt x="109796" y="282028"/>
                  </a:lnTo>
                  <a:lnTo>
                    <a:pt x="138876" y="302578"/>
                  </a:lnTo>
                  <a:lnTo>
                    <a:pt x="161109" y="306573"/>
                  </a:lnTo>
                  <a:lnTo>
                    <a:pt x="194728" y="307499"/>
                  </a:lnTo>
                  <a:lnTo>
                    <a:pt x="203286" y="304885"/>
                  </a:lnTo>
                  <a:lnTo>
                    <a:pt x="210396" y="301408"/>
                  </a:lnTo>
                  <a:lnTo>
                    <a:pt x="219978" y="298459"/>
                  </a:lnTo>
                  <a:lnTo>
                    <a:pt x="226083" y="294253"/>
                  </a:lnTo>
                  <a:lnTo>
                    <a:pt x="229458" y="286430"/>
                  </a:lnTo>
                  <a:lnTo>
                    <a:pt x="231951" y="277331"/>
                  </a:lnTo>
                  <a:lnTo>
                    <a:pt x="237939" y="265638"/>
                  </a:lnTo>
                  <a:lnTo>
                    <a:pt x="240965" y="224058"/>
                  </a:lnTo>
                  <a:lnTo>
                    <a:pt x="233389" y="181025"/>
                  </a:lnTo>
                  <a:lnTo>
                    <a:pt x="222607" y="140339"/>
                  </a:lnTo>
                  <a:lnTo>
                    <a:pt x="201136" y="100327"/>
                  </a:lnTo>
                  <a:lnTo>
                    <a:pt x="180979" y="61864"/>
                  </a:lnTo>
                  <a:lnTo>
                    <a:pt x="162408" y="34570"/>
                  </a:lnTo>
                  <a:lnTo>
                    <a:pt x="140623" y="12054"/>
                  </a:lnTo>
                  <a:lnTo>
                    <a:pt x="117775" y="274"/>
                  </a:lnTo>
                  <a:lnTo>
                    <a:pt x="106577" y="0"/>
                  </a:lnTo>
                  <a:lnTo>
                    <a:pt x="78296" y="5412"/>
                  </a:lnTo>
                  <a:lnTo>
                    <a:pt x="39610" y="37526"/>
                  </a:lnTo>
                  <a:lnTo>
                    <a:pt x="31021" y="51710"/>
                  </a:lnTo>
                  <a:lnTo>
                    <a:pt x="27614" y="65894"/>
                  </a:lnTo>
                  <a:lnTo>
                    <a:pt x="26776" y="8431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1" name="SMARTInkShape-46"/>
            <p:cNvSpPr/>
            <p:nvPr/>
          </p:nvSpPr>
          <p:spPr>
            <a:xfrm>
              <a:off x="8412120" y="3273480"/>
              <a:ext cx="339120" cy="3693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339262" h="369103">
                  <a:moveTo>
                    <a:pt x="0" y="119650"/>
                  </a:moveTo>
                  <a:lnTo>
                    <a:pt x="0" y="119650"/>
                  </a:lnTo>
                  <a:lnTo>
                    <a:pt x="4741" y="124391"/>
                  </a:lnTo>
                  <a:lnTo>
                    <a:pt x="7068" y="129364"/>
                  </a:lnTo>
                  <a:lnTo>
                    <a:pt x="9678" y="143566"/>
                  </a:lnTo>
                  <a:lnTo>
                    <a:pt x="33831" y="183520"/>
                  </a:lnTo>
                  <a:lnTo>
                    <a:pt x="65842" y="227841"/>
                  </a:lnTo>
                  <a:lnTo>
                    <a:pt x="100037" y="271591"/>
                  </a:lnTo>
                  <a:lnTo>
                    <a:pt x="136046" y="309053"/>
                  </a:lnTo>
                  <a:lnTo>
                    <a:pt x="170079" y="338523"/>
                  </a:lnTo>
                  <a:lnTo>
                    <a:pt x="214368" y="359784"/>
                  </a:lnTo>
                  <a:lnTo>
                    <a:pt x="245302" y="367727"/>
                  </a:lnTo>
                  <a:lnTo>
                    <a:pt x="264395" y="369102"/>
                  </a:lnTo>
                  <a:lnTo>
                    <a:pt x="282619" y="364770"/>
                  </a:lnTo>
                  <a:lnTo>
                    <a:pt x="300587" y="357201"/>
                  </a:lnTo>
                  <a:lnTo>
                    <a:pt x="307226" y="351567"/>
                  </a:lnTo>
                  <a:lnTo>
                    <a:pt x="324657" y="330971"/>
                  </a:lnTo>
                  <a:lnTo>
                    <a:pt x="333438" y="322052"/>
                  </a:lnTo>
                  <a:lnTo>
                    <a:pt x="336710" y="313455"/>
                  </a:lnTo>
                  <a:lnTo>
                    <a:pt x="339261" y="270834"/>
                  </a:lnTo>
                  <a:lnTo>
                    <a:pt x="338306" y="259272"/>
                  </a:lnTo>
                  <a:lnTo>
                    <a:pt x="330232" y="216676"/>
                  </a:lnTo>
                  <a:lnTo>
                    <a:pt x="318077" y="173070"/>
                  </a:lnTo>
                  <a:lnTo>
                    <a:pt x="300909" y="128559"/>
                  </a:lnTo>
                  <a:lnTo>
                    <a:pt x="279626" y="90066"/>
                  </a:lnTo>
                  <a:lnTo>
                    <a:pt x="252593" y="52585"/>
                  </a:lnTo>
                  <a:lnTo>
                    <a:pt x="221984" y="28645"/>
                  </a:lnTo>
                  <a:lnTo>
                    <a:pt x="183169" y="10076"/>
                  </a:lnTo>
                  <a:lnTo>
                    <a:pt x="154704" y="753"/>
                  </a:lnTo>
                  <a:lnTo>
                    <a:pt x="137880" y="0"/>
                  </a:lnTo>
                  <a:lnTo>
                    <a:pt x="97568" y="4087"/>
                  </a:lnTo>
                  <a:lnTo>
                    <a:pt x="58233" y="15931"/>
                  </a:lnTo>
                  <a:lnTo>
                    <a:pt x="16322" y="42272"/>
                  </a:lnTo>
                  <a:lnTo>
                    <a:pt x="12215" y="50864"/>
                  </a:lnTo>
                  <a:lnTo>
                    <a:pt x="11120" y="55933"/>
                  </a:lnTo>
                  <a:lnTo>
                    <a:pt x="11382" y="60305"/>
                  </a:lnTo>
                  <a:lnTo>
                    <a:pt x="14320" y="67808"/>
                  </a:lnTo>
                  <a:lnTo>
                    <a:pt x="26789" y="839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SMARTInkShape-47"/>
            <p:cNvSpPr/>
            <p:nvPr/>
          </p:nvSpPr>
          <p:spPr>
            <a:xfrm>
              <a:off x="8456760" y="3866760"/>
              <a:ext cx="444960" cy="4194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445053" h="419014">
                  <a:moveTo>
                    <a:pt x="0" y="196293"/>
                  </a:moveTo>
                  <a:lnTo>
                    <a:pt x="0" y="196293"/>
                  </a:lnTo>
                  <a:lnTo>
                    <a:pt x="4741" y="201034"/>
                  </a:lnTo>
                  <a:lnTo>
                    <a:pt x="9714" y="203361"/>
                  </a:lnTo>
                  <a:lnTo>
                    <a:pt x="12429" y="203982"/>
                  </a:lnTo>
                  <a:lnTo>
                    <a:pt x="20990" y="209596"/>
                  </a:lnTo>
                  <a:lnTo>
                    <a:pt x="56913" y="237220"/>
                  </a:lnTo>
                  <a:lnTo>
                    <a:pt x="98248" y="265825"/>
                  </a:lnTo>
                  <a:lnTo>
                    <a:pt x="130420" y="283715"/>
                  </a:lnTo>
                  <a:lnTo>
                    <a:pt x="140379" y="285220"/>
                  </a:lnTo>
                  <a:lnTo>
                    <a:pt x="160218" y="285586"/>
                  </a:lnTo>
                  <a:lnTo>
                    <a:pt x="165323" y="280849"/>
                  </a:lnTo>
                  <a:lnTo>
                    <a:pt x="167735" y="275877"/>
                  </a:lnTo>
                  <a:lnTo>
                    <a:pt x="169283" y="264599"/>
                  </a:lnTo>
                  <a:lnTo>
                    <a:pt x="166849" y="258733"/>
                  </a:lnTo>
                  <a:lnTo>
                    <a:pt x="163452" y="252818"/>
                  </a:lnTo>
                  <a:lnTo>
                    <a:pt x="160549" y="243910"/>
                  </a:lnTo>
                  <a:lnTo>
                    <a:pt x="128737" y="199933"/>
                  </a:lnTo>
                  <a:lnTo>
                    <a:pt x="100133" y="160439"/>
                  </a:lnTo>
                  <a:lnTo>
                    <a:pt x="77503" y="131324"/>
                  </a:lnTo>
                  <a:lnTo>
                    <a:pt x="71487" y="127731"/>
                  </a:lnTo>
                  <a:lnTo>
                    <a:pt x="63034" y="125024"/>
                  </a:lnTo>
                  <a:lnTo>
                    <a:pt x="54867" y="124871"/>
                  </a:lnTo>
                  <a:lnTo>
                    <a:pt x="61380" y="124857"/>
                  </a:lnTo>
                  <a:lnTo>
                    <a:pt x="89353" y="149068"/>
                  </a:lnTo>
                  <a:lnTo>
                    <a:pt x="132366" y="164903"/>
                  </a:lnTo>
                  <a:lnTo>
                    <a:pt x="172723" y="176364"/>
                  </a:lnTo>
                  <a:lnTo>
                    <a:pt x="191517" y="183664"/>
                  </a:lnTo>
                  <a:lnTo>
                    <a:pt x="227958" y="191617"/>
                  </a:lnTo>
                  <a:lnTo>
                    <a:pt x="272494" y="216000"/>
                  </a:lnTo>
                  <a:lnTo>
                    <a:pt x="313146" y="231863"/>
                  </a:lnTo>
                  <a:lnTo>
                    <a:pt x="351131" y="247868"/>
                  </a:lnTo>
                  <a:lnTo>
                    <a:pt x="393968" y="272855"/>
                  </a:lnTo>
                  <a:lnTo>
                    <a:pt x="430170" y="305153"/>
                  </a:lnTo>
                  <a:lnTo>
                    <a:pt x="434273" y="314459"/>
                  </a:lnTo>
                  <a:lnTo>
                    <a:pt x="437088" y="324218"/>
                  </a:lnTo>
                  <a:lnTo>
                    <a:pt x="444336" y="338567"/>
                  </a:lnTo>
                  <a:lnTo>
                    <a:pt x="445052" y="341744"/>
                  </a:lnTo>
                  <a:lnTo>
                    <a:pt x="443202" y="350566"/>
                  </a:lnTo>
                  <a:lnTo>
                    <a:pt x="435406" y="374320"/>
                  </a:lnTo>
                  <a:lnTo>
                    <a:pt x="431639" y="380588"/>
                  </a:lnTo>
                  <a:lnTo>
                    <a:pt x="428526" y="389695"/>
                  </a:lnTo>
                  <a:lnTo>
                    <a:pt x="424281" y="395690"/>
                  </a:lnTo>
                  <a:lnTo>
                    <a:pt x="408327" y="407622"/>
                  </a:lnTo>
                  <a:lnTo>
                    <a:pt x="402767" y="415565"/>
                  </a:lnTo>
                  <a:lnTo>
                    <a:pt x="397951" y="417771"/>
                  </a:lnTo>
                  <a:lnTo>
                    <a:pt x="384920" y="419013"/>
                  </a:lnTo>
                  <a:lnTo>
                    <a:pt x="381630" y="418195"/>
                  </a:lnTo>
                  <a:lnTo>
                    <a:pt x="379436" y="416657"/>
                  </a:lnTo>
                  <a:lnTo>
                    <a:pt x="377973" y="414641"/>
                  </a:lnTo>
                  <a:lnTo>
                    <a:pt x="376005" y="413296"/>
                  </a:lnTo>
                  <a:lnTo>
                    <a:pt x="368496" y="410411"/>
                  </a:lnTo>
                  <a:lnTo>
                    <a:pt x="362876" y="406220"/>
                  </a:lnTo>
                  <a:lnTo>
                    <a:pt x="359716" y="401050"/>
                  </a:lnTo>
                  <a:lnTo>
                    <a:pt x="357319" y="395445"/>
                  </a:lnTo>
                  <a:lnTo>
                    <a:pt x="352947" y="389646"/>
                  </a:lnTo>
                  <a:lnTo>
                    <a:pt x="350342" y="381116"/>
                  </a:lnTo>
                  <a:lnTo>
                    <a:pt x="346231" y="365158"/>
                  </a:lnTo>
                  <a:lnTo>
                    <a:pt x="333109" y="328957"/>
                  </a:lnTo>
                  <a:lnTo>
                    <a:pt x="323198" y="290162"/>
                  </a:lnTo>
                  <a:lnTo>
                    <a:pt x="314630" y="246652"/>
                  </a:lnTo>
                  <a:lnTo>
                    <a:pt x="308212" y="206351"/>
                  </a:lnTo>
                  <a:lnTo>
                    <a:pt x="297390" y="163591"/>
                  </a:lnTo>
                  <a:lnTo>
                    <a:pt x="285698" y="122806"/>
                  </a:lnTo>
                  <a:lnTo>
                    <a:pt x="273833" y="81567"/>
                  </a:lnTo>
                  <a:lnTo>
                    <a:pt x="255985" y="39178"/>
                  </a:lnTo>
                  <a:lnTo>
                    <a:pt x="238125" y="15302"/>
                  </a:lnTo>
                  <a:lnTo>
                    <a:pt x="226220" y="3924"/>
                  </a:lnTo>
                  <a:lnTo>
                    <a:pt x="220266" y="1655"/>
                  </a:lnTo>
                  <a:lnTo>
                    <a:pt x="202407" y="0"/>
                  </a:lnTo>
                  <a:lnTo>
                    <a:pt x="196453" y="2557"/>
                  </a:lnTo>
                  <a:lnTo>
                    <a:pt x="184547" y="12284"/>
                  </a:lnTo>
                  <a:lnTo>
                    <a:pt x="181241" y="17939"/>
                  </a:lnTo>
                  <a:lnTo>
                    <a:pt x="170595" y="50616"/>
                  </a:lnTo>
                  <a:lnTo>
                    <a:pt x="170739" y="84453"/>
                  </a:lnTo>
                  <a:lnTo>
                    <a:pt x="182105" y="120675"/>
                  </a:lnTo>
                  <a:lnTo>
                    <a:pt x="195398" y="139382"/>
                  </a:lnTo>
                  <a:lnTo>
                    <a:pt x="234108" y="169258"/>
                  </a:lnTo>
                  <a:lnTo>
                    <a:pt x="244939" y="174356"/>
                  </a:lnTo>
                  <a:lnTo>
                    <a:pt x="256369" y="176622"/>
                  </a:lnTo>
                  <a:lnTo>
                    <a:pt x="268061" y="174983"/>
                  </a:lnTo>
                  <a:lnTo>
                    <a:pt x="306428" y="162589"/>
                  </a:lnTo>
                  <a:lnTo>
                    <a:pt x="333253" y="139702"/>
                  </a:lnTo>
                  <a:lnTo>
                    <a:pt x="342269" y="121317"/>
                  </a:lnTo>
                  <a:lnTo>
                    <a:pt x="347469" y="89455"/>
                  </a:lnTo>
                  <a:lnTo>
                    <a:pt x="347162" y="53277"/>
                  </a:lnTo>
                  <a:lnTo>
                    <a:pt x="339328" y="2662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SMARTInkShape-48"/>
            <p:cNvSpPr/>
            <p:nvPr/>
          </p:nvSpPr>
          <p:spPr>
            <a:xfrm>
              <a:off x="8724600" y="3759480"/>
              <a:ext cx="214200" cy="1429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14194" h="142862">
                  <a:moveTo>
                    <a:pt x="80248" y="8930"/>
                  </a:moveTo>
                  <a:lnTo>
                    <a:pt x="80248" y="8930"/>
                  </a:lnTo>
                  <a:lnTo>
                    <a:pt x="66610" y="8930"/>
                  </a:lnTo>
                  <a:lnTo>
                    <a:pt x="61620" y="6284"/>
                  </a:lnTo>
                  <a:lnTo>
                    <a:pt x="56095" y="2793"/>
                  </a:lnTo>
                  <a:lnTo>
                    <a:pt x="46249" y="368"/>
                  </a:lnTo>
                  <a:lnTo>
                    <a:pt x="13512" y="1"/>
                  </a:lnTo>
                  <a:lnTo>
                    <a:pt x="11946" y="993"/>
                  </a:lnTo>
                  <a:lnTo>
                    <a:pt x="10901" y="2646"/>
                  </a:lnTo>
                  <a:lnTo>
                    <a:pt x="10204" y="4741"/>
                  </a:lnTo>
                  <a:lnTo>
                    <a:pt x="8747" y="6137"/>
                  </a:lnTo>
                  <a:lnTo>
                    <a:pt x="4483" y="7689"/>
                  </a:lnTo>
                  <a:lnTo>
                    <a:pt x="2948" y="9095"/>
                  </a:lnTo>
                  <a:lnTo>
                    <a:pt x="1245" y="13302"/>
                  </a:lnTo>
                  <a:lnTo>
                    <a:pt x="0" y="29889"/>
                  </a:lnTo>
                  <a:lnTo>
                    <a:pt x="2580" y="35773"/>
                  </a:lnTo>
                  <a:lnTo>
                    <a:pt x="26740" y="76179"/>
                  </a:lnTo>
                  <a:lnTo>
                    <a:pt x="33646" y="89420"/>
                  </a:lnTo>
                  <a:lnTo>
                    <a:pt x="78224" y="133293"/>
                  </a:lnTo>
                  <a:lnTo>
                    <a:pt x="85302" y="138616"/>
                  </a:lnTo>
                  <a:lnTo>
                    <a:pt x="94864" y="141613"/>
                  </a:lnTo>
                  <a:lnTo>
                    <a:pt x="120181" y="142861"/>
                  </a:lnTo>
                  <a:lnTo>
                    <a:pt x="121753" y="141874"/>
                  </a:lnTo>
                  <a:lnTo>
                    <a:pt x="122801" y="140223"/>
                  </a:lnTo>
                  <a:lnTo>
                    <a:pt x="123499" y="138131"/>
                  </a:lnTo>
                  <a:lnTo>
                    <a:pt x="129223" y="130445"/>
                  </a:lnTo>
                  <a:lnTo>
                    <a:pt x="129765" y="127643"/>
                  </a:lnTo>
                  <a:lnTo>
                    <a:pt x="129133" y="124783"/>
                  </a:lnTo>
                  <a:lnTo>
                    <a:pt x="126779" y="118959"/>
                  </a:lnTo>
                  <a:lnTo>
                    <a:pt x="123954" y="92271"/>
                  </a:lnTo>
                  <a:lnTo>
                    <a:pt x="98040" y="51485"/>
                  </a:lnTo>
                  <a:lnTo>
                    <a:pt x="83217" y="30666"/>
                  </a:lnTo>
                  <a:lnTo>
                    <a:pt x="74293" y="22095"/>
                  </a:lnTo>
                  <a:lnTo>
                    <a:pt x="62390" y="17860"/>
                  </a:lnTo>
                  <a:lnTo>
                    <a:pt x="67130" y="17859"/>
                  </a:lnTo>
                  <a:lnTo>
                    <a:pt x="72103" y="20506"/>
                  </a:lnTo>
                  <a:lnTo>
                    <a:pt x="77620" y="23997"/>
                  </a:lnTo>
                  <a:lnTo>
                    <a:pt x="86305" y="26954"/>
                  </a:lnTo>
                  <a:lnTo>
                    <a:pt x="110208" y="40956"/>
                  </a:lnTo>
                  <a:lnTo>
                    <a:pt x="124346" y="43919"/>
                  </a:lnTo>
                  <a:lnTo>
                    <a:pt x="131598" y="45317"/>
                  </a:lnTo>
                  <a:lnTo>
                    <a:pt x="153389" y="52295"/>
                  </a:lnTo>
                  <a:lnTo>
                    <a:pt x="163215" y="53198"/>
                  </a:lnTo>
                  <a:lnTo>
                    <a:pt x="169378" y="50763"/>
                  </a:lnTo>
                  <a:lnTo>
                    <a:pt x="172410" y="48725"/>
                  </a:lnTo>
                  <a:lnTo>
                    <a:pt x="194457" y="42540"/>
                  </a:lnTo>
                  <a:lnTo>
                    <a:pt x="198060" y="40266"/>
                  </a:lnTo>
                  <a:lnTo>
                    <a:pt x="202062" y="35094"/>
                  </a:lnTo>
                  <a:lnTo>
                    <a:pt x="204834" y="29488"/>
                  </a:lnTo>
                  <a:lnTo>
                    <a:pt x="209373" y="23689"/>
                  </a:lnTo>
                  <a:lnTo>
                    <a:pt x="212051" y="15159"/>
                  </a:lnTo>
                  <a:lnTo>
                    <a:pt x="2141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SMARTInkShape-49"/>
            <p:cNvSpPr/>
            <p:nvPr/>
          </p:nvSpPr>
          <p:spPr>
            <a:xfrm>
              <a:off x="8840880" y="3527280"/>
              <a:ext cx="97920" cy="219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98174" h="219182">
                  <a:moveTo>
                    <a:pt x="26769" y="142875"/>
                  </a:moveTo>
                  <a:lnTo>
                    <a:pt x="26769" y="142875"/>
                  </a:lnTo>
                  <a:lnTo>
                    <a:pt x="26769" y="152356"/>
                  </a:lnTo>
                  <a:lnTo>
                    <a:pt x="29415" y="159657"/>
                  </a:lnTo>
                  <a:lnTo>
                    <a:pt x="61020" y="203541"/>
                  </a:lnTo>
                  <a:lnTo>
                    <a:pt x="66793" y="209578"/>
                  </a:lnTo>
                  <a:lnTo>
                    <a:pt x="72007" y="212209"/>
                  </a:lnTo>
                  <a:lnTo>
                    <a:pt x="74788" y="212910"/>
                  </a:lnTo>
                  <a:lnTo>
                    <a:pt x="85385" y="219181"/>
                  </a:lnTo>
                  <a:lnTo>
                    <a:pt x="86683" y="218550"/>
                  </a:lnTo>
                  <a:lnTo>
                    <a:pt x="88765" y="215150"/>
                  </a:lnTo>
                  <a:lnTo>
                    <a:pt x="98173" y="214315"/>
                  </a:lnTo>
                  <a:lnTo>
                    <a:pt x="71349" y="184809"/>
                  </a:lnTo>
                  <a:lnTo>
                    <a:pt x="64441" y="175403"/>
                  </a:lnTo>
                  <a:lnTo>
                    <a:pt x="46483" y="158634"/>
                  </a:lnTo>
                  <a:lnTo>
                    <a:pt x="22509" y="120410"/>
                  </a:lnTo>
                  <a:lnTo>
                    <a:pt x="11326" y="95636"/>
                  </a:lnTo>
                  <a:lnTo>
                    <a:pt x="3782" y="84340"/>
                  </a:lnTo>
                  <a:lnTo>
                    <a:pt x="1106" y="74710"/>
                  </a:lnTo>
                  <a:lnTo>
                    <a:pt x="0" y="33630"/>
                  </a:lnTo>
                  <a:lnTo>
                    <a:pt x="981" y="22884"/>
                  </a:lnTo>
                  <a:lnTo>
                    <a:pt x="891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SMARTInkShape-50"/>
            <p:cNvSpPr/>
            <p:nvPr/>
          </p:nvSpPr>
          <p:spPr>
            <a:xfrm>
              <a:off x="8913600" y="3411000"/>
              <a:ext cx="212760" cy="3661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12931" h="366118">
                  <a:moveTo>
                    <a:pt x="25538" y="0"/>
                  </a:moveTo>
                  <a:lnTo>
                    <a:pt x="25538" y="0"/>
                  </a:lnTo>
                  <a:lnTo>
                    <a:pt x="25538" y="4741"/>
                  </a:lnTo>
                  <a:lnTo>
                    <a:pt x="22892" y="9714"/>
                  </a:lnTo>
                  <a:lnTo>
                    <a:pt x="19402" y="15232"/>
                  </a:lnTo>
                  <a:lnTo>
                    <a:pt x="9029" y="51138"/>
                  </a:lnTo>
                  <a:lnTo>
                    <a:pt x="6766" y="91313"/>
                  </a:lnTo>
                  <a:lnTo>
                    <a:pt x="628" y="109025"/>
                  </a:lnTo>
                  <a:lnTo>
                    <a:pt x="0" y="114355"/>
                  </a:lnTo>
                  <a:lnTo>
                    <a:pt x="1951" y="122924"/>
                  </a:lnTo>
                  <a:lnTo>
                    <a:pt x="6548" y="131768"/>
                  </a:lnTo>
                  <a:lnTo>
                    <a:pt x="7650" y="142451"/>
                  </a:lnTo>
                  <a:lnTo>
                    <a:pt x="23930" y="142864"/>
                  </a:lnTo>
                  <a:lnTo>
                    <a:pt x="41668" y="128635"/>
                  </a:lnTo>
                  <a:lnTo>
                    <a:pt x="51228" y="126624"/>
                  </a:lnTo>
                  <a:lnTo>
                    <a:pt x="55563" y="124104"/>
                  </a:lnTo>
                  <a:lnTo>
                    <a:pt x="77546" y="105040"/>
                  </a:lnTo>
                  <a:lnTo>
                    <a:pt x="94416" y="100245"/>
                  </a:lnTo>
                  <a:lnTo>
                    <a:pt x="116902" y="97633"/>
                  </a:lnTo>
                  <a:lnTo>
                    <a:pt x="134574" y="91238"/>
                  </a:lnTo>
                  <a:lnTo>
                    <a:pt x="145437" y="91152"/>
                  </a:lnTo>
                  <a:lnTo>
                    <a:pt x="173264" y="98467"/>
                  </a:lnTo>
                  <a:lnTo>
                    <a:pt x="197272" y="113392"/>
                  </a:lnTo>
                  <a:lnTo>
                    <a:pt x="209667" y="130994"/>
                  </a:lnTo>
                  <a:lnTo>
                    <a:pt x="211553" y="136933"/>
                  </a:lnTo>
                  <a:lnTo>
                    <a:pt x="212930" y="167212"/>
                  </a:lnTo>
                  <a:lnTo>
                    <a:pt x="196264" y="208882"/>
                  </a:lnTo>
                  <a:lnTo>
                    <a:pt x="183942" y="242139"/>
                  </a:lnTo>
                  <a:lnTo>
                    <a:pt x="167723" y="279774"/>
                  </a:lnTo>
                  <a:lnTo>
                    <a:pt x="150349" y="322344"/>
                  </a:lnTo>
                  <a:lnTo>
                    <a:pt x="132695" y="36611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36" name="SMARTInkShape-Group161"/>
          <p:cNvGrpSpPr/>
          <p:nvPr/>
        </p:nvGrpSpPr>
        <p:grpSpPr>
          <a:xfrm>
            <a:off x="2384280" y="4813200"/>
            <a:ext cx="3125880" cy="1366920"/>
            <a:chOff x="2384280" y="4813200"/>
            <a:chExt cx="3125880" cy="1366920"/>
          </a:xfrm>
        </p:grpSpPr>
        <p:sp>
          <p:nvSpPr>
            <p:cNvPr id="137" name="SMARTInkShape-51"/>
            <p:cNvSpPr/>
            <p:nvPr/>
          </p:nvSpPr>
          <p:spPr>
            <a:xfrm>
              <a:off x="2607120" y="5125680"/>
              <a:ext cx="1947240" cy="69840"/>
            </a:xfrm>
            <a:custGeom>
              <a:avLst/>
              <a:gdLst>
                <a:gd name="textAreaLeft" fmla="*/ 0 w 1947240"/>
                <a:gd name="textAreaRight" fmla="*/ 1947600 w 1947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946672" h="70055">
                  <a:moveTo>
                    <a:pt x="0" y="53469"/>
                  </a:moveTo>
                  <a:lnTo>
                    <a:pt x="0" y="53469"/>
                  </a:lnTo>
                  <a:lnTo>
                    <a:pt x="42449" y="53469"/>
                  </a:lnTo>
                  <a:lnTo>
                    <a:pt x="84268" y="53469"/>
                  </a:lnTo>
                  <a:lnTo>
                    <a:pt x="128844" y="53469"/>
                  </a:lnTo>
                  <a:lnTo>
                    <a:pt x="165770" y="54461"/>
                  </a:lnTo>
                  <a:lnTo>
                    <a:pt x="208863" y="61157"/>
                  </a:lnTo>
                  <a:lnTo>
                    <a:pt x="246837" y="62289"/>
                  </a:lnTo>
                  <a:lnTo>
                    <a:pt x="290927" y="62383"/>
                  </a:lnTo>
                  <a:lnTo>
                    <a:pt x="330088" y="62397"/>
                  </a:lnTo>
                  <a:lnTo>
                    <a:pt x="367448" y="62398"/>
                  </a:lnTo>
                  <a:lnTo>
                    <a:pt x="407383" y="62398"/>
                  </a:lnTo>
                  <a:lnTo>
                    <a:pt x="451160" y="54710"/>
                  </a:lnTo>
                  <a:lnTo>
                    <a:pt x="495732" y="53577"/>
                  </a:lnTo>
                  <a:lnTo>
                    <a:pt x="539670" y="52483"/>
                  </a:lnTo>
                  <a:lnTo>
                    <a:pt x="582571" y="45367"/>
                  </a:lnTo>
                  <a:lnTo>
                    <a:pt x="625188" y="44612"/>
                  </a:lnTo>
                  <a:lnTo>
                    <a:pt x="669658" y="44545"/>
                  </a:lnTo>
                  <a:lnTo>
                    <a:pt x="698560" y="41894"/>
                  </a:lnTo>
                  <a:lnTo>
                    <a:pt x="740441" y="36437"/>
                  </a:lnTo>
                  <a:lnTo>
                    <a:pt x="778159" y="35718"/>
                  </a:lnTo>
                  <a:lnTo>
                    <a:pt x="821699" y="35624"/>
                  </a:lnTo>
                  <a:lnTo>
                    <a:pt x="860065" y="35611"/>
                  </a:lnTo>
                  <a:lnTo>
                    <a:pt x="893524" y="32963"/>
                  </a:lnTo>
                  <a:lnTo>
                    <a:pt x="936882" y="27230"/>
                  </a:lnTo>
                  <a:lnTo>
                    <a:pt x="980339" y="24081"/>
                  </a:lnTo>
                  <a:lnTo>
                    <a:pt x="1002199" y="19626"/>
                  </a:lnTo>
                  <a:lnTo>
                    <a:pt x="1046817" y="17914"/>
                  </a:lnTo>
                  <a:lnTo>
                    <a:pt x="1089691" y="16779"/>
                  </a:lnTo>
                  <a:lnTo>
                    <a:pt x="1134105" y="10065"/>
                  </a:lnTo>
                  <a:lnTo>
                    <a:pt x="1174301" y="8983"/>
                  </a:lnTo>
                  <a:lnTo>
                    <a:pt x="1213564" y="4112"/>
                  </a:lnTo>
                  <a:lnTo>
                    <a:pt x="1254549" y="447"/>
                  </a:lnTo>
                  <a:lnTo>
                    <a:pt x="1293908" y="0"/>
                  </a:lnTo>
                  <a:lnTo>
                    <a:pt x="1330345" y="904"/>
                  </a:lnTo>
                  <a:lnTo>
                    <a:pt x="1366207" y="6963"/>
                  </a:lnTo>
                  <a:lnTo>
                    <a:pt x="1401954" y="8453"/>
                  </a:lnTo>
                  <a:lnTo>
                    <a:pt x="1437678" y="8747"/>
                  </a:lnTo>
                  <a:lnTo>
                    <a:pt x="1477587" y="8811"/>
                  </a:lnTo>
                  <a:lnTo>
                    <a:pt x="1518598" y="11464"/>
                  </a:lnTo>
                  <a:lnTo>
                    <a:pt x="1562768" y="16922"/>
                  </a:lnTo>
                  <a:lnTo>
                    <a:pt x="1595782" y="20232"/>
                  </a:lnTo>
                  <a:lnTo>
                    <a:pt x="1620785" y="24769"/>
                  </a:lnTo>
                  <a:lnTo>
                    <a:pt x="1663132" y="27420"/>
                  </a:lnTo>
                  <a:lnTo>
                    <a:pt x="1705860" y="34335"/>
                  </a:lnTo>
                  <a:lnTo>
                    <a:pt x="1743188" y="42509"/>
                  </a:lnTo>
                  <a:lnTo>
                    <a:pt x="1785195" y="45263"/>
                  </a:lnTo>
                  <a:lnTo>
                    <a:pt x="1825298" y="52618"/>
                  </a:lnTo>
                  <a:lnTo>
                    <a:pt x="1855448" y="55946"/>
                  </a:lnTo>
                  <a:lnTo>
                    <a:pt x="1880807" y="61124"/>
                  </a:lnTo>
                  <a:lnTo>
                    <a:pt x="1910903" y="64876"/>
                  </a:lnTo>
                  <a:lnTo>
                    <a:pt x="1930015" y="70054"/>
                  </a:lnTo>
                  <a:lnTo>
                    <a:pt x="1933583" y="69486"/>
                  </a:lnTo>
                  <a:lnTo>
                    <a:pt x="1946671" y="623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SMARTInkShape-52"/>
            <p:cNvSpPr/>
            <p:nvPr/>
          </p:nvSpPr>
          <p:spPr>
            <a:xfrm>
              <a:off x="2384280" y="4813200"/>
              <a:ext cx="838440" cy="419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838391" h="419420">
                  <a:moveTo>
                    <a:pt x="35558" y="294403"/>
                  </a:moveTo>
                  <a:lnTo>
                    <a:pt x="35558" y="294403"/>
                  </a:lnTo>
                  <a:lnTo>
                    <a:pt x="26077" y="289663"/>
                  </a:lnTo>
                  <a:lnTo>
                    <a:pt x="18777" y="282044"/>
                  </a:lnTo>
                  <a:lnTo>
                    <a:pt x="6005" y="260983"/>
                  </a:lnTo>
                  <a:lnTo>
                    <a:pt x="1667" y="243601"/>
                  </a:lnTo>
                  <a:lnTo>
                    <a:pt x="0" y="217546"/>
                  </a:lnTo>
                  <a:lnTo>
                    <a:pt x="12282" y="189486"/>
                  </a:lnTo>
                  <a:lnTo>
                    <a:pt x="42700" y="147516"/>
                  </a:lnTo>
                  <a:lnTo>
                    <a:pt x="83626" y="104726"/>
                  </a:lnTo>
                  <a:lnTo>
                    <a:pt x="125305" y="74246"/>
                  </a:lnTo>
                  <a:lnTo>
                    <a:pt x="161655" y="56483"/>
                  </a:lnTo>
                  <a:lnTo>
                    <a:pt x="203378" y="37540"/>
                  </a:lnTo>
                  <a:lnTo>
                    <a:pt x="245317" y="23951"/>
                  </a:lnTo>
                  <a:lnTo>
                    <a:pt x="280051" y="14729"/>
                  </a:lnTo>
                  <a:lnTo>
                    <a:pt x="321207" y="8861"/>
                  </a:lnTo>
                  <a:lnTo>
                    <a:pt x="354902" y="2872"/>
                  </a:lnTo>
                  <a:lnTo>
                    <a:pt x="390021" y="656"/>
                  </a:lnTo>
                  <a:lnTo>
                    <a:pt x="424571" y="0"/>
                  </a:lnTo>
                  <a:lnTo>
                    <a:pt x="466060" y="2424"/>
                  </a:lnTo>
                  <a:lnTo>
                    <a:pt x="500458" y="9453"/>
                  </a:lnTo>
                  <a:lnTo>
                    <a:pt x="535785" y="17820"/>
                  </a:lnTo>
                  <a:lnTo>
                    <a:pt x="571388" y="26583"/>
                  </a:lnTo>
                  <a:lnTo>
                    <a:pt x="604426" y="38108"/>
                  </a:lnTo>
                  <a:lnTo>
                    <a:pt x="646998" y="55041"/>
                  </a:lnTo>
                  <a:lnTo>
                    <a:pt x="681841" y="74322"/>
                  </a:lnTo>
                  <a:lnTo>
                    <a:pt x="721049" y="100375"/>
                  </a:lnTo>
                  <a:lnTo>
                    <a:pt x="759958" y="130619"/>
                  </a:lnTo>
                  <a:lnTo>
                    <a:pt x="786677" y="160627"/>
                  </a:lnTo>
                  <a:lnTo>
                    <a:pt x="815169" y="205043"/>
                  </a:lnTo>
                  <a:lnTo>
                    <a:pt x="832852" y="242188"/>
                  </a:lnTo>
                  <a:lnTo>
                    <a:pt x="838390" y="278586"/>
                  </a:lnTo>
                  <a:lnTo>
                    <a:pt x="837865" y="294318"/>
                  </a:lnTo>
                  <a:lnTo>
                    <a:pt x="831990" y="313340"/>
                  </a:lnTo>
                  <a:lnTo>
                    <a:pt x="818471" y="331805"/>
                  </a:lnTo>
                  <a:lnTo>
                    <a:pt x="787217" y="367151"/>
                  </a:lnTo>
                  <a:lnTo>
                    <a:pt x="748045" y="386530"/>
                  </a:lnTo>
                  <a:lnTo>
                    <a:pt x="718986" y="397561"/>
                  </a:lnTo>
                  <a:lnTo>
                    <a:pt x="679733" y="403415"/>
                  </a:lnTo>
                  <a:lnTo>
                    <a:pt x="643021" y="409092"/>
                  </a:lnTo>
                  <a:lnTo>
                    <a:pt x="600970" y="411205"/>
                  </a:lnTo>
                  <a:lnTo>
                    <a:pt x="562971" y="417502"/>
                  </a:lnTo>
                  <a:lnTo>
                    <a:pt x="523972" y="419166"/>
                  </a:lnTo>
                  <a:lnTo>
                    <a:pt x="481987" y="419396"/>
                  </a:lnTo>
                  <a:lnTo>
                    <a:pt x="473113" y="41941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SMARTInkShape-53"/>
            <p:cNvSpPr/>
            <p:nvPr/>
          </p:nvSpPr>
          <p:spPr>
            <a:xfrm>
              <a:off x="2696760" y="5196960"/>
              <a:ext cx="348120" cy="25020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348258" h="250032">
                  <a:moveTo>
                    <a:pt x="0" y="0"/>
                  </a:moveTo>
                  <a:lnTo>
                    <a:pt x="0" y="0"/>
                  </a:lnTo>
                  <a:lnTo>
                    <a:pt x="0" y="43373"/>
                  </a:lnTo>
                  <a:lnTo>
                    <a:pt x="2645" y="51688"/>
                  </a:lnTo>
                  <a:lnTo>
                    <a:pt x="6136" y="58691"/>
                  </a:lnTo>
                  <a:lnTo>
                    <a:pt x="9094" y="68211"/>
                  </a:lnTo>
                  <a:lnTo>
                    <a:pt x="13302" y="74303"/>
                  </a:lnTo>
                  <a:lnTo>
                    <a:pt x="53864" y="112358"/>
                  </a:lnTo>
                  <a:lnTo>
                    <a:pt x="95266" y="144392"/>
                  </a:lnTo>
                  <a:lnTo>
                    <a:pt x="136922" y="174705"/>
                  </a:lnTo>
                  <a:lnTo>
                    <a:pt x="178777" y="199533"/>
                  </a:lnTo>
                  <a:lnTo>
                    <a:pt x="223078" y="223074"/>
                  </a:lnTo>
                  <a:lnTo>
                    <a:pt x="266014" y="241086"/>
                  </a:lnTo>
                  <a:lnTo>
                    <a:pt x="279955" y="246055"/>
                  </a:lnTo>
                  <a:lnTo>
                    <a:pt x="323544" y="249683"/>
                  </a:lnTo>
                  <a:lnTo>
                    <a:pt x="348257" y="2500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SMARTInkShape-54"/>
            <p:cNvSpPr/>
            <p:nvPr/>
          </p:nvSpPr>
          <p:spPr>
            <a:xfrm>
              <a:off x="2973600" y="5322240"/>
              <a:ext cx="186840" cy="196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87027" h="196454">
                  <a:moveTo>
                    <a:pt x="44644" y="0"/>
                  </a:moveTo>
                  <a:lnTo>
                    <a:pt x="44644" y="0"/>
                  </a:lnTo>
                  <a:lnTo>
                    <a:pt x="60021" y="0"/>
                  </a:lnTo>
                  <a:lnTo>
                    <a:pt x="70134" y="6136"/>
                  </a:lnTo>
                  <a:lnTo>
                    <a:pt x="83726" y="9094"/>
                  </a:lnTo>
                  <a:lnTo>
                    <a:pt x="127277" y="32824"/>
                  </a:lnTo>
                  <a:lnTo>
                    <a:pt x="162321" y="56558"/>
                  </a:lnTo>
                  <a:lnTo>
                    <a:pt x="166398" y="62508"/>
                  </a:lnTo>
                  <a:lnTo>
                    <a:pt x="167486" y="65485"/>
                  </a:lnTo>
                  <a:lnTo>
                    <a:pt x="169202" y="67469"/>
                  </a:lnTo>
                  <a:lnTo>
                    <a:pt x="181898" y="75655"/>
                  </a:lnTo>
                  <a:lnTo>
                    <a:pt x="185021" y="80918"/>
                  </a:lnTo>
                  <a:lnTo>
                    <a:pt x="187026" y="87641"/>
                  </a:lnTo>
                  <a:lnTo>
                    <a:pt x="182632" y="93546"/>
                  </a:lnTo>
                  <a:lnTo>
                    <a:pt x="177741" y="96146"/>
                  </a:lnTo>
                  <a:lnTo>
                    <a:pt x="163595" y="98944"/>
                  </a:lnTo>
                  <a:lnTo>
                    <a:pt x="153752" y="104282"/>
                  </a:lnTo>
                  <a:lnTo>
                    <a:pt x="109972" y="111784"/>
                  </a:lnTo>
                  <a:lnTo>
                    <a:pt x="82988" y="118165"/>
                  </a:lnTo>
                  <a:lnTo>
                    <a:pt x="41421" y="139979"/>
                  </a:lnTo>
                  <a:lnTo>
                    <a:pt x="4307" y="160552"/>
                  </a:lnTo>
                  <a:lnTo>
                    <a:pt x="2870" y="162598"/>
                  </a:lnTo>
                  <a:lnTo>
                    <a:pt x="1273" y="167515"/>
                  </a:lnTo>
                  <a:lnTo>
                    <a:pt x="0" y="191853"/>
                  </a:lnTo>
                  <a:lnTo>
                    <a:pt x="991" y="193386"/>
                  </a:lnTo>
                  <a:lnTo>
                    <a:pt x="2643" y="194408"/>
                  </a:lnTo>
                  <a:lnTo>
                    <a:pt x="9710" y="195847"/>
                  </a:lnTo>
                  <a:lnTo>
                    <a:pt x="26785" y="1964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SMARTInkShape-55"/>
            <p:cNvSpPr/>
            <p:nvPr/>
          </p:nvSpPr>
          <p:spPr>
            <a:xfrm>
              <a:off x="3246120" y="5170320"/>
              <a:ext cx="227160" cy="433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27083" h="433299">
                  <a:moveTo>
                    <a:pt x="209600" y="142754"/>
                  </a:moveTo>
                  <a:lnTo>
                    <a:pt x="209600" y="142754"/>
                  </a:lnTo>
                  <a:lnTo>
                    <a:pt x="209600" y="129451"/>
                  </a:lnTo>
                  <a:lnTo>
                    <a:pt x="212246" y="124275"/>
                  </a:lnTo>
                  <a:lnTo>
                    <a:pt x="215737" y="118666"/>
                  </a:lnTo>
                  <a:lnTo>
                    <a:pt x="217978" y="106981"/>
                  </a:lnTo>
                  <a:lnTo>
                    <a:pt x="218162" y="104022"/>
                  </a:lnTo>
                  <a:lnTo>
                    <a:pt x="221012" y="98089"/>
                  </a:lnTo>
                  <a:lnTo>
                    <a:pt x="224594" y="92145"/>
                  </a:lnTo>
                  <a:lnTo>
                    <a:pt x="226893" y="80245"/>
                  </a:lnTo>
                  <a:lnTo>
                    <a:pt x="227082" y="77269"/>
                  </a:lnTo>
                  <a:lnTo>
                    <a:pt x="217696" y="52673"/>
                  </a:lnTo>
                  <a:lnTo>
                    <a:pt x="211999" y="38012"/>
                  </a:lnTo>
                  <a:lnTo>
                    <a:pt x="211200" y="34230"/>
                  </a:lnTo>
                  <a:lnTo>
                    <a:pt x="209674" y="31710"/>
                  </a:lnTo>
                  <a:lnTo>
                    <a:pt x="207665" y="30029"/>
                  </a:lnTo>
                  <a:lnTo>
                    <a:pt x="205333" y="28909"/>
                  </a:lnTo>
                  <a:lnTo>
                    <a:pt x="203779" y="27169"/>
                  </a:lnTo>
                  <a:lnTo>
                    <a:pt x="198638" y="17249"/>
                  </a:lnTo>
                  <a:lnTo>
                    <a:pt x="196339" y="14435"/>
                  </a:lnTo>
                  <a:lnTo>
                    <a:pt x="191138" y="11310"/>
                  </a:lnTo>
                  <a:lnTo>
                    <a:pt x="185520" y="8929"/>
                  </a:lnTo>
                  <a:lnTo>
                    <a:pt x="176778" y="3001"/>
                  </a:lnTo>
                  <a:lnTo>
                    <a:pt x="167905" y="803"/>
                  </a:lnTo>
                  <a:lnTo>
                    <a:pt x="148302" y="0"/>
                  </a:lnTo>
                  <a:lnTo>
                    <a:pt x="140023" y="2579"/>
                  </a:lnTo>
                  <a:lnTo>
                    <a:pt x="123525" y="15117"/>
                  </a:lnTo>
                  <a:lnTo>
                    <a:pt x="108776" y="26738"/>
                  </a:lnTo>
                  <a:lnTo>
                    <a:pt x="91788" y="38588"/>
                  </a:lnTo>
                  <a:lnTo>
                    <a:pt x="64128" y="80479"/>
                  </a:lnTo>
                  <a:lnTo>
                    <a:pt x="40491" y="115985"/>
                  </a:lnTo>
                  <a:lnTo>
                    <a:pt x="25126" y="152862"/>
                  </a:lnTo>
                  <a:lnTo>
                    <a:pt x="10180" y="191746"/>
                  </a:lnTo>
                  <a:lnTo>
                    <a:pt x="2356" y="229977"/>
                  </a:lnTo>
                  <a:lnTo>
                    <a:pt x="0" y="236621"/>
                  </a:lnTo>
                  <a:lnTo>
                    <a:pt x="28" y="251942"/>
                  </a:lnTo>
                  <a:lnTo>
                    <a:pt x="4658" y="288689"/>
                  </a:lnTo>
                  <a:lnTo>
                    <a:pt x="19400" y="332347"/>
                  </a:lnTo>
                  <a:lnTo>
                    <a:pt x="28420" y="356887"/>
                  </a:lnTo>
                  <a:lnTo>
                    <a:pt x="29282" y="362900"/>
                  </a:lnTo>
                  <a:lnTo>
                    <a:pt x="35531" y="374873"/>
                  </a:lnTo>
                  <a:lnTo>
                    <a:pt x="50972" y="393988"/>
                  </a:lnTo>
                  <a:lnTo>
                    <a:pt x="82054" y="413465"/>
                  </a:lnTo>
                  <a:lnTo>
                    <a:pt x="111646" y="424504"/>
                  </a:lnTo>
                  <a:lnTo>
                    <a:pt x="155968" y="433298"/>
                  </a:lnTo>
                  <a:lnTo>
                    <a:pt x="188365" y="429331"/>
                  </a:lnTo>
                  <a:lnTo>
                    <a:pt x="200493" y="423579"/>
                  </a:lnTo>
                  <a:lnTo>
                    <a:pt x="218529" y="4106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SMARTInkShape-56"/>
            <p:cNvSpPr/>
            <p:nvPr/>
          </p:nvSpPr>
          <p:spPr>
            <a:xfrm>
              <a:off x="3554280" y="5366880"/>
              <a:ext cx="267840" cy="1785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67892" h="178470">
                  <a:moveTo>
                    <a:pt x="0" y="35715"/>
                  </a:moveTo>
                  <a:lnTo>
                    <a:pt x="0" y="35715"/>
                  </a:lnTo>
                  <a:lnTo>
                    <a:pt x="0" y="23286"/>
                  </a:lnTo>
                  <a:lnTo>
                    <a:pt x="992" y="21475"/>
                  </a:lnTo>
                  <a:lnTo>
                    <a:pt x="2646" y="20269"/>
                  </a:lnTo>
                  <a:lnTo>
                    <a:pt x="4740" y="19465"/>
                  </a:lnTo>
                  <a:lnTo>
                    <a:pt x="6137" y="17936"/>
                  </a:lnTo>
                  <a:lnTo>
                    <a:pt x="7689" y="13591"/>
                  </a:lnTo>
                  <a:lnTo>
                    <a:pt x="8930" y="0"/>
                  </a:lnTo>
                  <a:lnTo>
                    <a:pt x="8930" y="38705"/>
                  </a:lnTo>
                  <a:lnTo>
                    <a:pt x="6284" y="44651"/>
                  </a:lnTo>
                  <a:lnTo>
                    <a:pt x="4190" y="47625"/>
                  </a:lnTo>
                  <a:lnTo>
                    <a:pt x="1242" y="61292"/>
                  </a:lnTo>
                  <a:lnTo>
                    <a:pt x="22" y="103275"/>
                  </a:lnTo>
                  <a:lnTo>
                    <a:pt x="1" y="136907"/>
                  </a:lnTo>
                  <a:lnTo>
                    <a:pt x="2646" y="142867"/>
                  </a:lnTo>
                  <a:lnTo>
                    <a:pt x="31120" y="173986"/>
                  </a:lnTo>
                  <a:lnTo>
                    <a:pt x="36321" y="176544"/>
                  </a:lnTo>
                  <a:lnTo>
                    <a:pt x="48902" y="178469"/>
                  </a:lnTo>
                  <a:lnTo>
                    <a:pt x="76639" y="169488"/>
                  </a:lnTo>
                  <a:lnTo>
                    <a:pt x="95184" y="154500"/>
                  </a:lnTo>
                  <a:lnTo>
                    <a:pt x="129976" y="119057"/>
                  </a:lnTo>
                  <a:lnTo>
                    <a:pt x="132770" y="110129"/>
                  </a:lnTo>
                  <a:lnTo>
                    <a:pt x="133423" y="104176"/>
                  </a:lnTo>
                  <a:lnTo>
                    <a:pt x="136360" y="98223"/>
                  </a:lnTo>
                  <a:lnTo>
                    <a:pt x="138532" y="95246"/>
                  </a:lnTo>
                  <a:lnTo>
                    <a:pt x="143613" y="72444"/>
                  </a:lnTo>
                  <a:lnTo>
                    <a:pt x="148937" y="64898"/>
                  </a:lnTo>
                  <a:lnTo>
                    <a:pt x="151427" y="55261"/>
                  </a:lnTo>
                  <a:lnTo>
                    <a:pt x="151805" y="36992"/>
                  </a:lnTo>
                  <a:lnTo>
                    <a:pt x="150813" y="36566"/>
                  </a:lnTo>
                  <a:lnTo>
                    <a:pt x="147065" y="36093"/>
                  </a:lnTo>
                  <a:lnTo>
                    <a:pt x="146661" y="36959"/>
                  </a:lnTo>
                  <a:lnTo>
                    <a:pt x="150931" y="43437"/>
                  </a:lnTo>
                  <a:lnTo>
                    <a:pt x="148771" y="46753"/>
                  </a:lnTo>
                  <a:lnTo>
                    <a:pt x="146806" y="49027"/>
                  </a:lnTo>
                  <a:lnTo>
                    <a:pt x="144622" y="54199"/>
                  </a:lnTo>
                  <a:lnTo>
                    <a:pt x="141951" y="69309"/>
                  </a:lnTo>
                  <a:lnTo>
                    <a:pt x="136759" y="77639"/>
                  </a:lnTo>
                  <a:lnTo>
                    <a:pt x="134502" y="89343"/>
                  </a:lnTo>
                  <a:lnTo>
                    <a:pt x="134055" y="96468"/>
                  </a:lnTo>
                  <a:lnTo>
                    <a:pt x="141028" y="107705"/>
                  </a:lnTo>
                  <a:lnTo>
                    <a:pt x="141644" y="110497"/>
                  </a:lnTo>
                  <a:lnTo>
                    <a:pt x="149781" y="125060"/>
                  </a:lnTo>
                  <a:lnTo>
                    <a:pt x="150456" y="128021"/>
                  </a:lnTo>
                  <a:lnTo>
                    <a:pt x="151898" y="129994"/>
                  </a:lnTo>
                  <a:lnTo>
                    <a:pt x="153852" y="131309"/>
                  </a:lnTo>
                  <a:lnTo>
                    <a:pt x="158667" y="133764"/>
                  </a:lnTo>
                  <a:lnTo>
                    <a:pt x="176690" y="148077"/>
                  </a:lnTo>
                  <a:lnTo>
                    <a:pt x="198200" y="151310"/>
                  </a:lnTo>
                  <a:lnTo>
                    <a:pt x="204837" y="148936"/>
                  </a:lnTo>
                  <a:lnTo>
                    <a:pt x="207995" y="146914"/>
                  </a:lnTo>
                  <a:lnTo>
                    <a:pt x="243413" y="135979"/>
                  </a:lnTo>
                  <a:lnTo>
                    <a:pt x="267891" y="11608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SMARTInkShape-57"/>
            <p:cNvSpPr/>
            <p:nvPr/>
          </p:nvSpPr>
          <p:spPr>
            <a:xfrm>
              <a:off x="3857760" y="5259600"/>
              <a:ext cx="26640" cy="267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6769" h="267856">
                  <a:moveTo>
                    <a:pt x="26768" y="26753"/>
                  </a:moveTo>
                  <a:lnTo>
                    <a:pt x="26768" y="26753"/>
                  </a:lnTo>
                  <a:lnTo>
                    <a:pt x="26768" y="22013"/>
                  </a:lnTo>
                  <a:lnTo>
                    <a:pt x="24122" y="17039"/>
                  </a:lnTo>
                  <a:lnTo>
                    <a:pt x="19080" y="10503"/>
                  </a:lnTo>
                  <a:lnTo>
                    <a:pt x="17841" y="0"/>
                  </a:lnTo>
                  <a:lnTo>
                    <a:pt x="17838" y="13267"/>
                  </a:lnTo>
                  <a:lnTo>
                    <a:pt x="15192" y="18445"/>
                  </a:lnTo>
                  <a:lnTo>
                    <a:pt x="13098" y="21214"/>
                  </a:lnTo>
                  <a:lnTo>
                    <a:pt x="10771" y="29582"/>
                  </a:lnTo>
                  <a:lnTo>
                    <a:pt x="8957" y="73337"/>
                  </a:lnTo>
                  <a:lnTo>
                    <a:pt x="7922" y="101422"/>
                  </a:lnTo>
                  <a:lnTo>
                    <a:pt x="531" y="140207"/>
                  </a:lnTo>
                  <a:lnTo>
                    <a:pt x="0" y="181780"/>
                  </a:lnTo>
                  <a:lnTo>
                    <a:pt x="973" y="211137"/>
                  </a:lnTo>
                  <a:lnTo>
                    <a:pt x="8081" y="237159"/>
                  </a:lnTo>
                  <a:lnTo>
                    <a:pt x="8541" y="243629"/>
                  </a:lnTo>
                  <a:lnTo>
                    <a:pt x="11392" y="249811"/>
                  </a:lnTo>
                  <a:lnTo>
                    <a:pt x="14973" y="255866"/>
                  </a:lnTo>
                  <a:lnTo>
                    <a:pt x="16564" y="261865"/>
                  </a:lnTo>
                  <a:lnTo>
                    <a:pt x="17981" y="263861"/>
                  </a:lnTo>
                  <a:lnTo>
                    <a:pt x="19918" y="265193"/>
                  </a:lnTo>
                  <a:lnTo>
                    <a:pt x="26768" y="26785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SMARTInkShape-58"/>
            <p:cNvSpPr/>
            <p:nvPr/>
          </p:nvSpPr>
          <p:spPr>
            <a:xfrm>
              <a:off x="4045680" y="5205960"/>
              <a:ext cx="35640" cy="312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35647" h="312540">
                  <a:moveTo>
                    <a:pt x="35646" y="0"/>
                  </a:moveTo>
                  <a:lnTo>
                    <a:pt x="35646" y="0"/>
                  </a:lnTo>
                  <a:lnTo>
                    <a:pt x="35646" y="9480"/>
                  </a:lnTo>
                  <a:lnTo>
                    <a:pt x="33000" y="16781"/>
                  </a:lnTo>
                  <a:lnTo>
                    <a:pt x="27958" y="24812"/>
                  </a:lnTo>
                  <a:lnTo>
                    <a:pt x="25970" y="33528"/>
                  </a:lnTo>
                  <a:lnTo>
                    <a:pt x="20652" y="42896"/>
                  </a:lnTo>
                  <a:lnTo>
                    <a:pt x="17644" y="56806"/>
                  </a:lnTo>
                  <a:lnTo>
                    <a:pt x="11902" y="68646"/>
                  </a:lnTo>
                  <a:lnTo>
                    <a:pt x="7944" y="113007"/>
                  </a:lnTo>
                  <a:lnTo>
                    <a:pt x="1179" y="140276"/>
                  </a:lnTo>
                  <a:lnTo>
                    <a:pt x="0" y="181592"/>
                  </a:lnTo>
                  <a:lnTo>
                    <a:pt x="925" y="211154"/>
                  </a:lnTo>
                  <a:lnTo>
                    <a:pt x="7617" y="238493"/>
                  </a:lnTo>
                  <a:lnTo>
                    <a:pt x="9828" y="279884"/>
                  </a:lnTo>
                  <a:lnTo>
                    <a:pt x="18533" y="303350"/>
                  </a:lnTo>
                  <a:lnTo>
                    <a:pt x="26716" y="3125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SMARTInkShape-59"/>
            <p:cNvSpPr/>
            <p:nvPr/>
          </p:nvSpPr>
          <p:spPr>
            <a:xfrm>
              <a:off x="3947040" y="5313240"/>
              <a:ext cx="491040" cy="17460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91134" h="174459">
                  <a:moveTo>
                    <a:pt x="0" y="35717"/>
                  </a:moveTo>
                  <a:lnTo>
                    <a:pt x="0" y="35717"/>
                  </a:lnTo>
                  <a:lnTo>
                    <a:pt x="4741" y="30976"/>
                  </a:lnTo>
                  <a:lnTo>
                    <a:pt x="9714" y="28649"/>
                  </a:lnTo>
                  <a:lnTo>
                    <a:pt x="53831" y="26835"/>
                  </a:lnTo>
                  <a:lnTo>
                    <a:pt x="95076" y="26788"/>
                  </a:lnTo>
                  <a:lnTo>
                    <a:pt x="134376" y="26787"/>
                  </a:lnTo>
                  <a:lnTo>
                    <a:pt x="171426" y="25795"/>
                  </a:lnTo>
                  <a:lnTo>
                    <a:pt x="189342" y="19719"/>
                  </a:lnTo>
                  <a:lnTo>
                    <a:pt x="210400" y="17110"/>
                  </a:lnTo>
                  <a:lnTo>
                    <a:pt x="223057" y="10838"/>
                  </a:lnTo>
                  <a:lnTo>
                    <a:pt x="240577" y="8960"/>
                  </a:lnTo>
                  <a:lnTo>
                    <a:pt x="241088" y="366"/>
                  </a:lnTo>
                  <a:lnTo>
                    <a:pt x="249664" y="7"/>
                  </a:lnTo>
                  <a:lnTo>
                    <a:pt x="245182" y="0"/>
                  </a:lnTo>
                  <a:lnTo>
                    <a:pt x="243822" y="992"/>
                  </a:lnTo>
                  <a:lnTo>
                    <a:pt x="242311" y="4739"/>
                  </a:lnTo>
                  <a:lnTo>
                    <a:pt x="241208" y="16248"/>
                  </a:lnTo>
                  <a:lnTo>
                    <a:pt x="234987" y="24668"/>
                  </a:lnTo>
                  <a:lnTo>
                    <a:pt x="233006" y="32994"/>
                  </a:lnTo>
                  <a:lnTo>
                    <a:pt x="232182" y="65486"/>
                  </a:lnTo>
                  <a:lnTo>
                    <a:pt x="229531" y="71436"/>
                  </a:lnTo>
                  <a:lnTo>
                    <a:pt x="227435" y="74413"/>
                  </a:lnTo>
                  <a:lnTo>
                    <a:pt x="227030" y="78381"/>
                  </a:lnTo>
                  <a:lnTo>
                    <a:pt x="232992" y="112861"/>
                  </a:lnTo>
                  <a:lnTo>
                    <a:pt x="241852" y="124965"/>
                  </a:lnTo>
                  <a:lnTo>
                    <a:pt x="253157" y="136910"/>
                  </a:lnTo>
                  <a:lnTo>
                    <a:pt x="259027" y="140222"/>
                  </a:lnTo>
                  <a:lnTo>
                    <a:pt x="264944" y="142687"/>
                  </a:lnTo>
                  <a:lnTo>
                    <a:pt x="273853" y="148660"/>
                  </a:lnTo>
                  <a:lnTo>
                    <a:pt x="282776" y="151864"/>
                  </a:lnTo>
                  <a:lnTo>
                    <a:pt x="291704" y="157663"/>
                  </a:lnTo>
                  <a:lnTo>
                    <a:pt x="300634" y="159822"/>
                  </a:lnTo>
                  <a:lnTo>
                    <a:pt x="306586" y="160328"/>
                  </a:lnTo>
                  <a:lnTo>
                    <a:pt x="351173" y="151048"/>
                  </a:lnTo>
                  <a:lnTo>
                    <a:pt x="362241" y="144744"/>
                  </a:lnTo>
                  <a:lnTo>
                    <a:pt x="371804" y="135600"/>
                  </a:lnTo>
                  <a:lnTo>
                    <a:pt x="379929" y="121757"/>
                  </a:lnTo>
                  <a:lnTo>
                    <a:pt x="383770" y="110930"/>
                  </a:lnTo>
                  <a:lnTo>
                    <a:pt x="389759" y="100446"/>
                  </a:lnTo>
                  <a:lnTo>
                    <a:pt x="392883" y="56627"/>
                  </a:lnTo>
                  <a:lnTo>
                    <a:pt x="392907" y="12068"/>
                  </a:lnTo>
                  <a:lnTo>
                    <a:pt x="392907" y="8964"/>
                  </a:lnTo>
                  <a:lnTo>
                    <a:pt x="388167" y="8938"/>
                  </a:lnTo>
                  <a:lnTo>
                    <a:pt x="386771" y="9927"/>
                  </a:lnTo>
                  <a:lnTo>
                    <a:pt x="385840" y="11578"/>
                  </a:lnTo>
                  <a:lnTo>
                    <a:pt x="384346" y="21357"/>
                  </a:lnTo>
                  <a:lnTo>
                    <a:pt x="383980" y="56557"/>
                  </a:lnTo>
                  <a:lnTo>
                    <a:pt x="386624" y="62507"/>
                  </a:lnTo>
                  <a:lnTo>
                    <a:pt x="388718" y="65484"/>
                  </a:lnTo>
                  <a:lnTo>
                    <a:pt x="395002" y="87433"/>
                  </a:lnTo>
                  <a:lnTo>
                    <a:pt x="398799" y="94421"/>
                  </a:lnTo>
                  <a:lnTo>
                    <a:pt x="408699" y="119171"/>
                  </a:lnTo>
                  <a:lnTo>
                    <a:pt x="449464" y="163698"/>
                  </a:lnTo>
                  <a:lnTo>
                    <a:pt x="458062" y="167011"/>
                  </a:lnTo>
                  <a:lnTo>
                    <a:pt x="467506" y="169476"/>
                  </a:lnTo>
                  <a:lnTo>
                    <a:pt x="475010" y="173879"/>
                  </a:lnTo>
                  <a:lnTo>
                    <a:pt x="478400" y="174458"/>
                  </a:lnTo>
                  <a:lnTo>
                    <a:pt x="481652" y="173851"/>
                  </a:lnTo>
                  <a:lnTo>
                    <a:pt x="491133" y="16966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SMARTInkShape-60"/>
            <p:cNvSpPr/>
            <p:nvPr/>
          </p:nvSpPr>
          <p:spPr>
            <a:xfrm>
              <a:off x="4465440" y="5304240"/>
              <a:ext cx="160560" cy="1515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60736" h="151692">
                  <a:moveTo>
                    <a:pt x="0" y="53578"/>
                  </a:moveTo>
                  <a:lnTo>
                    <a:pt x="0" y="53578"/>
                  </a:lnTo>
                  <a:lnTo>
                    <a:pt x="0" y="63058"/>
                  </a:lnTo>
                  <a:lnTo>
                    <a:pt x="2646" y="70358"/>
                  </a:lnTo>
                  <a:lnTo>
                    <a:pt x="7689" y="78390"/>
                  </a:lnTo>
                  <a:lnTo>
                    <a:pt x="9677" y="87105"/>
                  </a:lnTo>
                  <a:lnTo>
                    <a:pt x="14995" y="95482"/>
                  </a:lnTo>
                  <a:lnTo>
                    <a:pt x="17483" y="105422"/>
                  </a:lnTo>
                  <a:lnTo>
                    <a:pt x="17827" y="119433"/>
                  </a:lnTo>
                  <a:lnTo>
                    <a:pt x="20491" y="125179"/>
                  </a:lnTo>
                  <a:lnTo>
                    <a:pt x="23990" y="131041"/>
                  </a:lnTo>
                  <a:lnTo>
                    <a:pt x="25545" y="136953"/>
                  </a:lnTo>
                  <a:lnTo>
                    <a:pt x="26953" y="138927"/>
                  </a:lnTo>
                  <a:lnTo>
                    <a:pt x="28882" y="140242"/>
                  </a:lnTo>
                  <a:lnTo>
                    <a:pt x="34369" y="142355"/>
                  </a:lnTo>
                  <a:lnTo>
                    <a:pt x="35119" y="145289"/>
                  </a:lnTo>
                  <a:lnTo>
                    <a:pt x="35709" y="151691"/>
                  </a:lnTo>
                  <a:lnTo>
                    <a:pt x="35718" y="144105"/>
                  </a:lnTo>
                  <a:lnTo>
                    <a:pt x="29583" y="135988"/>
                  </a:lnTo>
                  <a:lnTo>
                    <a:pt x="27617" y="127714"/>
                  </a:lnTo>
                  <a:lnTo>
                    <a:pt x="26796" y="86133"/>
                  </a:lnTo>
                  <a:lnTo>
                    <a:pt x="26789" y="59639"/>
                  </a:lnTo>
                  <a:lnTo>
                    <a:pt x="29435" y="53626"/>
                  </a:lnTo>
                  <a:lnTo>
                    <a:pt x="32926" y="47646"/>
                  </a:lnTo>
                  <a:lnTo>
                    <a:pt x="35884" y="38701"/>
                  </a:lnTo>
                  <a:lnTo>
                    <a:pt x="65521" y="5953"/>
                  </a:lnTo>
                  <a:lnTo>
                    <a:pt x="71454" y="2645"/>
                  </a:lnTo>
                  <a:lnTo>
                    <a:pt x="83018" y="783"/>
                  </a:lnTo>
                  <a:lnTo>
                    <a:pt x="124968" y="6"/>
                  </a:lnTo>
                  <a:lnTo>
                    <a:pt x="136913" y="0"/>
                  </a:lnTo>
                  <a:lnTo>
                    <a:pt x="142871" y="2646"/>
                  </a:lnTo>
                  <a:lnTo>
                    <a:pt x="148827" y="6137"/>
                  </a:lnTo>
                  <a:lnTo>
                    <a:pt x="160735" y="892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SMARTInkShape-61"/>
            <p:cNvSpPr/>
            <p:nvPr/>
          </p:nvSpPr>
          <p:spPr>
            <a:xfrm>
              <a:off x="4636800" y="5331240"/>
              <a:ext cx="355320" cy="1785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55529" h="178524">
                  <a:moveTo>
                    <a:pt x="159075" y="107121"/>
                  </a:moveTo>
                  <a:lnTo>
                    <a:pt x="159075" y="107121"/>
                  </a:lnTo>
                  <a:lnTo>
                    <a:pt x="163815" y="102380"/>
                  </a:lnTo>
                  <a:lnTo>
                    <a:pt x="168788" y="100053"/>
                  </a:lnTo>
                  <a:lnTo>
                    <a:pt x="171504" y="99432"/>
                  </a:lnTo>
                  <a:lnTo>
                    <a:pt x="173314" y="98026"/>
                  </a:lnTo>
                  <a:lnTo>
                    <a:pt x="192878" y="73327"/>
                  </a:lnTo>
                  <a:lnTo>
                    <a:pt x="199156" y="67041"/>
                  </a:lnTo>
                  <a:lnTo>
                    <a:pt x="201693" y="61857"/>
                  </a:lnTo>
                  <a:lnTo>
                    <a:pt x="203322" y="50445"/>
                  </a:lnTo>
                  <a:lnTo>
                    <a:pt x="202464" y="48501"/>
                  </a:lnTo>
                  <a:lnTo>
                    <a:pt x="200899" y="47205"/>
                  </a:lnTo>
                  <a:lnTo>
                    <a:pt x="198865" y="46340"/>
                  </a:lnTo>
                  <a:lnTo>
                    <a:pt x="197507" y="44772"/>
                  </a:lnTo>
                  <a:lnTo>
                    <a:pt x="192684" y="35127"/>
                  </a:lnTo>
                  <a:lnTo>
                    <a:pt x="182471" y="23666"/>
                  </a:lnTo>
                  <a:lnTo>
                    <a:pt x="176749" y="20421"/>
                  </a:lnTo>
                  <a:lnTo>
                    <a:pt x="170899" y="17985"/>
                  </a:lnTo>
                  <a:lnTo>
                    <a:pt x="162027" y="12029"/>
                  </a:lnTo>
                  <a:lnTo>
                    <a:pt x="127159" y="873"/>
                  </a:lnTo>
                  <a:lnTo>
                    <a:pt x="90124" y="0"/>
                  </a:lnTo>
                  <a:lnTo>
                    <a:pt x="81135" y="2626"/>
                  </a:lnTo>
                  <a:lnTo>
                    <a:pt x="72842" y="6108"/>
                  </a:lnTo>
                  <a:lnTo>
                    <a:pt x="45585" y="13268"/>
                  </a:lnTo>
                  <a:lnTo>
                    <a:pt x="29207" y="24053"/>
                  </a:lnTo>
                  <a:lnTo>
                    <a:pt x="22643" y="29852"/>
                  </a:lnTo>
                  <a:lnTo>
                    <a:pt x="19064" y="35737"/>
                  </a:lnTo>
                  <a:lnTo>
                    <a:pt x="16481" y="41660"/>
                  </a:lnTo>
                  <a:lnTo>
                    <a:pt x="2072" y="60489"/>
                  </a:lnTo>
                  <a:lnTo>
                    <a:pt x="0" y="70190"/>
                  </a:lnTo>
                  <a:lnTo>
                    <a:pt x="1724" y="78470"/>
                  </a:lnTo>
                  <a:lnTo>
                    <a:pt x="4805" y="85457"/>
                  </a:lnTo>
                  <a:lnTo>
                    <a:pt x="7532" y="94969"/>
                  </a:lnTo>
                  <a:lnTo>
                    <a:pt x="22673" y="116035"/>
                  </a:lnTo>
                  <a:lnTo>
                    <a:pt x="23492" y="119017"/>
                  </a:lnTo>
                  <a:lnTo>
                    <a:pt x="29694" y="124975"/>
                  </a:lnTo>
                  <a:lnTo>
                    <a:pt x="71438" y="154745"/>
                  </a:lnTo>
                  <a:lnTo>
                    <a:pt x="80769" y="158053"/>
                  </a:lnTo>
                  <a:lnTo>
                    <a:pt x="122626" y="160629"/>
                  </a:lnTo>
                  <a:lnTo>
                    <a:pt x="135118" y="160684"/>
                  </a:lnTo>
                  <a:lnTo>
                    <a:pt x="141151" y="158047"/>
                  </a:lnTo>
                  <a:lnTo>
                    <a:pt x="147141" y="154559"/>
                  </a:lnTo>
                  <a:lnTo>
                    <a:pt x="153109" y="153009"/>
                  </a:lnTo>
                  <a:lnTo>
                    <a:pt x="155097" y="151603"/>
                  </a:lnTo>
                  <a:lnTo>
                    <a:pt x="156423" y="149674"/>
                  </a:lnTo>
                  <a:lnTo>
                    <a:pt x="158290" y="142218"/>
                  </a:lnTo>
                  <a:lnTo>
                    <a:pt x="158552" y="139449"/>
                  </a:lnTo>
                  <a:lnTo>
                    <a:pt x="159718" y="137603"/>
                  </a:lnTo>
                  <a:lnTo>
                    <a:pt x="161489" y="136371"/>
                  </a:lnTo>
                  <a:lnTo>
                    <a:pt x="163660" y="135551"/>
                  </a:lnTo>
                  <a:lnTo>
                    <a:pt x="165109" y="134012"/>
                  </a:lnTo>
                  <a:lnTo>
                    <a:pt x="167624" y="126365"/>
                  </a:lnTo>
                  <a:lnTo>
                    <a:pt x="168004" y="107156"/>
                  </a:lnTo>
                  <a:lnTo>
                    <a:pt x="159184" y="107121"/>
                  </a:lnTo>
                  <a:lnTo>
                    <a:pt x="159078" y="120423"/>
                  </a:lnTo>
                  <a:lnTo>
                    <a:pt x="161722" y="125600"/>
                  </a:lnTo>
                  <a:lnTo>
                    <a:pt x="163816" y="128370"/>
                  </a:lnTo>
                  <a:lnTo>
                    <a:pt x="168789" y="131448"/>
                  </a:lnTo>
                  <a:lnTo>
                    <a:pt x="171504" y="132268"/>
                  </a:lnTo>
                  <a:lnTo>
                    <a:pt x="173314" y="133807"/>
                  </a:lnTo>
                  <a:lnTo>
                    <a:pt x="175326" y="138164"/>
                  </a:lnTo>
                  <a:lnTo>
                    <a:pt x="181511" y="143407"/>
                  </a:lnTo>
                  <a:lnTo>
                    <a:pt x="203341" y="158102"/>
                  </a:lnTo>
                  <a:lnTo>
                    <a:pt x="209507" y="160537"/>
                  </a:lnTo>
                  <a:lnTo>
                    <a:pt x="219548" y="166493"/>
                  </a:lnTo>
                  <a:lnTo>
                    <a:pt x="233658" y="169692"/>
                  </a:lnTo>
                  <a:lnTo>
                    <a:pt x="247817" y="176512"/>
                  </a:lnTo>
                  <a:lnTo>
                    <a:pt x="290592" y="178504"/>
                  </a:lnTo>
                  <a:lnTo>
                    <a:pt x="294378" y="178523"/>
                  </a:lnTo>
                  <a:lnTo>
                    <a:pt x="301230" y="175896"/>
                  </a:lnTo>
                  <a:lnTo>
                    <a:pt x="317730" y="164317"/>
                  </a:lnTo>
                  <a:lnTo>
                    <a:pt x="335788" y="158768"/>
                  </a:lnTo>
                  <a:lnTo>
                    <a:pt x="339392" y="156434"/>
                  </a:lnTo>
                  <a:lnTo>
                    <a:pt x="355528" y="1339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SMARTInkShape-62"/>
            <p:cNvSpPr/>
            <p:nvPr/>
          </p:nvSpPr>
          <p:spPr>
            <a:xfrm>
              <a:off x="5001480" y="5241960"/>
              <a:ext cx="26640" cy="312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26790" h="312540">
                  <a:moveTo>
                    <a:pt x="0" y="0"/>
                  </a:moveTo>
                  <a:lnTo>
                    <a:pt x="0" y="0"/>
                  </a:lnTo>
                  <a:lnTo>
                    <a:pt x="0" y="40198"/>
                  </a:lnTo>
                  <a:lnTo>
                    <a:pt x="0" y="82024"/>
                  </a:lnTo>
                  <a:lnTo>
                    <a:pt x="8378" y="125196"/>
                  </a:lnTo>
                  <a:lnTo>
                    <a:pt x="11527" y="167817"/>
                  </a:lnTo>
                  <a:lnTo>
                    <a:pt x="16608" y="193112"/>
                  </a:lnTo>
                  <a:lnTo>
                    <a:pt x="17749" y="233903"/>
                  </a:lnTo>
                  <a:lnTo>
                    <a:pt x="24912" y="274402"/>
                  </a:lnTo>
                  <a:lnTo>
                    <a:pt x="26789" y="3125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SMARTInkShape-63"/>
            <p:cNvSpPr/>
            <p:nvPr/>
          </p:nvSpPr>
          <p:spPr>
            <a:xfrm>
              <a:off x="3099960" y="5733360"/>
              <a:ext cx="703440" cy="446760"/>
            </a:xfrm>
            <a:custGeom>
              <a:avLst/>
              <a:gdLst>
                <a:gd name="textAreaLeft" fmla="*/ 0 w 703440"/>
                <a:gd name="textAreaRight" fmla="*/ 703800 w 703440"/>
                <a:gd name="textAreaTop" fmla="*/ 0 h 446760"/>
                <a:gd name="textAreaBottom" fmla="*/ 447120 h 446760"/>
              </a:gdLst>
              <a:ahLst/>
              <a:rect l="textAreaLeft" t="textAreaTop" r="textAreaRight" b="textAreaBottom"/>
              <a:pathLst>
                <a:path w="703527" h="446484">
                  <a:moveTo>
                    <a:pt x="25406" y="44647"/>
                  </a:moveTo>
                  <a:lnTo>
                    <a:pt x="25406" y="44647"/>
                  </a:lnTo>
                  <a:lnTo>
                    <a:pt x="11167" y="29416"/>
                  </a:lnTo>
                  <a:lnTo>
                    <a:pt x="5617" y="17789"/>
                  </a:lnTo>
                  <a:lnTo>
                    <a:pt x="1728" y="11875"/>
                  </a:lnTo>
                  <a:lnTo>
                    <a:pt x="0" y="5938"/>
                  </a:lnTo>
                  <a:lnTo>
                    <a:pt x="531" y="3958"/>
                  </a:lnTo>
                  <a:lnTo>
                    <a:pt x="1878" y="2639"/>
                  </a:lnTo>
                  <a:lnTo>
                    <a:pt x="7215" y="154"/>
                  </a:lnTo>
                  <a:lnTo>
                    <a:pt x="49785" y="0"/>
                  </a:lnTo>
                  <a:lnTo>
                    <a:pt x="88773" y="2645"/>
                  </a:lnTo>
                  <a:lnTo>
                    <a:pt x="123803" y="7687"/>
                  </a:lnTo>
                  <a:lnTo>
                    <a:pt x="159953" y="13301"/>
                  </a:lnTo>
                  <a:lnTo>
                    <a:pt x="197343" y="21249"/>
                  </a:lnTo>
                  <a:lnTo>
                    <a:pt x="233557" y="29887"/>
                  </a:lnTo>
                  <a:lnTo>
                    <a:pt x="269423" y="38731"/>
                  </a:lnTo>
                  <a:lnTo>
                    <a:pt x="309925" y="47634"/>
                  </a:lnTo>
                  <a:lnTo>
                    <a:pt x="348605" y="61298"/>
                  </a:lnTo>
                  <a:lnTo>
                    <a:pt x="385201" y="73173"/>
                  </a:lnTo>
                  <a:lnTo>
                    <a:pt x="425920" y="87716"/>
                  </a:lnTo>
                  <a:lnTo>
                    <a:pt x="464664" y="104592"/>
                  </a:lnTo>
                  <a:lnTo>
                    <a:pt x="506020" y="122161"/>
                  </a:lnTo>
                  <a:lnTo>
                    <a:pt x="540211" y="139934"/>
                  </a:lnTo>
                  <a:lnTo>
                    <a:pt x="584567" y="169855"/>
                  </a:lnTo>
                  <a:lnTo>
                    <a:pt x="627435" y="202038"/>
                  </a:lnTo>
                  <a:lnTo>
                    <a:pt x="670199" y="245048"/>
                  </a:lnTo>
                  <a:lnTo>
                    <a:pt x="691797" y="286904"/>
                  </a:lnTo>
                  <a:lnTo>
                    <a:pt x="699987" y="300202"/>
                  </a:lnTo>
                  <a:lnTo>
                    <a:pt x="703526" y="327756"/>
                  </a:lnTo>
                  <a:lnTo>
                    <a:pt x="701179" y="336831"/>
                  </a:lnTo>
                  <a:lnTo>
                    <a:pt x="697820" y="345163"/>
                  </a:lnTo>
                  <a:lnTo>
                    <a:pt x="694937" y="360019"/>
                  </a:lnTo>
                  <a:lnTo>
                    <a:pt x="690746" y="367706"/>
                  </a:lnTo>
                  <a:lnTo>
                    <a:pt x="662144" y="389847"/>
                  </a:lnTo>
                  <a:lnTo>
                    <a:pt x="646553" y="397842"/>
                  </a:lnTo>
                  <a:lnTo>
                    <a:pt x="603135" y="411314"/>
                  </a:lnTo>
                  <a:lnTo>
                    <a:pt x="578247" y="417211"/>
                  </a:lnTo>
                  <a:lnTo>
                    <a:pt x="534293" y="419368"/>
                  </a:lnTo>
                  <a:lnTo>
                    <a:pt x="489736" y="419652"/>
                  </a:lnTo>
                  <a:lnTo>
                    <a:pt x="453037" y="419685"/>
                  </a:lnTo>
                  <a:lnTo>
                    <a:pt x="411244" y="419693"/>
                  </a:lnTo>
                  <a:lnTo>
                    <a:pt x="369291" y="419694"/>
                  </a:lnTo>
                  <a:lnTo>
                    <a:pt x="329916" y="420686"/>
                  </a:lnTo>
                  <a:lnTo>
                    <a:pt x="289227" y="427383"/>
                  </a:lnTo>
                  <a:lnTo>
                    <a:pt x="251919" y="429544"/>
                  </a:lnTo>
                  <a:lnTo>
                    <a:pt x="231730" y="437183"/>
                  </a:lnTo>
                  <a:lnTo>
                    <a:pt x="231068" y="442184"/>
                  </a:lnTo>
                  <a:lnTo>
                    <a:pt x="231968" y="443617"/>
                  </a:lnTo>
                  <a:lnTo>
                    <a:pt x="233559" y="444573"/>
                  </a:lnTo>
                  <a:lnTo>
                    <a:pt x="238965" y="445634"/>
                  </a:lnTo>
                  <a:lnTo>
                    <a:pt x="284367" y="4464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SMARTInkShape-64"/>
            <p:cNvSpPr/>
            <p:nvPr/>
          </p:nvSpPr>
          <p:spPr>
            <a:xfrm>
              <a:off x="3920400" y="5974560"/>
              <a:ext cx="17640" cy="106920"/>
            </a:xfrm>
            <a:custGeom>
              <a:avLst/>
              <a:gdLst>
                <a:gd name="textAreaLeft" fmla="*/ 0 w 17640"/>
                <a:gd name="textAreaRight" fmla="*/ 17640 w 176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7861" h="107157">
                  <a:moveTo>
                    <a:pt x="0" y="0"/>
                  </a:moveTo>
                  <a:lnTo>
                    <a:pt x="0" y="0"/>
                  </a:lnTo>
                  <a:lnTo>
                    <a:pt x="0" y="41695"/>
                  </a:lnTo>
                  <a:lnTo>
                    <a:pt x="0" y="83343"/>
                  </a:lnTo>
                  <a:lnTo>
                    <a:pt x="2646" y="89296"/>
                  </a:lnTo>
                  <a:lnTo>
                    <a:pt x="6137" y="95250"/>
                  </a:lnTo>
                  <a:lnTo>
                    <a:pt x="8563" y="105392"/>
                  </a:lnTo>
                  <a:lnTo>
                    <a:pt x="9677" y="105980"/>
                  </a:lnTo>
                  <a:lnTo>
                    <a:pt x="17860" y="1071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SMARTInkShape-65"/>
            <p:cNvSpPr/>
            <p:nvPr/>
          </p:nvSpPr>
          <p:spPr>
            <a:xfrm>
              <a:off x="3875760" y="5787000"/>
              <a:ext cx="71280" cy="26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1438" h="26790">
                  <a:moveTo>
                    <a:pt x="0" y="26789"/>
                  </a:moveTo>
                  <a:lnTo>
                    <a:pt x="0" y="26789"/>
                  </a:lnTo>
                  <a:lnTo>
                    <a:pt x="0" y="1718"/>
                  </a:lnTo>
                  <a:lnTo>
                    <a:pt x="992" y="1146"/>
                  </a:lnTo>
                  <a:lnTo>
                    <a:pt x="16806" y="30"/>
                  </a:lnTo>
                  <a:lnTo>
                    <a:pt x="60323" y="0"/>
                  </a:lnTo>
                  <a:lnTo>
                    <a:pt x="7143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SMARTInkShape-66"/>
            <p:cNvSpPr/>
            <p:nvPr/>
          </p:nvSpPr>
          <p:spPr>
            <a:xfrm>
              <a:off x="4036680" y="5679720"/>
              <a:ext cx="187200" cy="410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187459" h="410630">
                  <a:moveTo>
                    <a:pt x="187458" y="80244"/>
                  </a:moveTo>
                  <a:lnTo>
                    <a:pt x="187458" y="80244"/>
                  </a:lnTo>
                  <a:lnTo>
                    <a:pt x="187458" y="75504"/>
                  </a:lnTo>
                  <a:lnTo>
                    <a:pt x="179770" y="51565"/>
                  </a:lnTo>
                  <a:lnTo>
                    <a:pt x="171143" y="42363"/>
                  </a:lnTo>
                  <a:lnTo>
                    <a:pt x="135706" y="15156"/>
                  </a:lnTo>
                  <a:lnTo>
                    <a:pt x="104632" y="1987"/>
                  </a:lnTo>
                  <a:lnTo>
                    <a:pt x="85392" y="0"/>
                  </a:lnTo>
                  <a:lnTo>
                    <a:pt x="57266" y="8979"/>
                  </a:lnTo>
                  <a:lnTo>
                    <a:pt x="24575" y="32701"/>
                  </a:lnTo>
                  <a:lnTo>
                    <a:pt x="5629" y="61175"/>
                  </a:lnTo>
                  <a:lnTo>
                    <a:pt x="1622" y="73051"/>
                  </a:lnTo>
                  <a:lnTo>
                    <a:pt x="0" y="116146"/>
                  </a:lnTo>
                  <a:lnTo>
                    <a:pt x="956" y="127951"/>
                  </a:lnTo>
                  <a:lnTo>
                    <a:pt x="13606" y="172192"/>
                  </a:lnTo>
                  <a:lnTo>
                    <a:pt x="35286" y="216284"/>
                  </a:lnTo>
                  <a:lnTo>
                    <a:pt x="53481" y="258238"/>
                  </a:lnTo>
                  <a:lnTo>
                    <a:pt x="65079" y="276520"/>
                  </a:lnTo>
                  <a:lnTo>
                    <a:pt x="91840" y="318359"/>
                  </a:lnTo>
                  <a:lnTo>
                    <a:pt x="103049" y="342180"/>
                  </a:lnTo>
                  <a:lnTo>
                    <a:pt x="108939" y="363348"/>
                  </a:lnTo>
                  <a:lnTo>
                    <a:pt x="122467" y="383621"/>
                  </a:lnTo>
                  <a:lnTo>
                    <a:pt x="124623" y="398706"/>
                  </a:lnTo>
                  <a:lnTo>
                    <a:pt x="124950" y="410629"/>
                  </a:lnTo>
                  <a:lnTo>
                    <a:pt x="116020" y="40171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SMARTInkShape-67"/>
            <p:cNvSpPr/>
            <p:nvPr/>
          </p:nvSpPr>
          <p:spPr>
            <a:xfrm>
              <a:off x="3992040" y="5885280"/>
              <a:ext cx="223200" cy="266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3243" h="26782">
                  <a:moveTo>
                    <a:pt x="0" y="17851"/>
                  </a:moveTo>
                  <a:lnTo>
                    <a:pt x="0" y="17851"/>
                  </a:lnTo>
                  <a:lnTo>
                    <a:pt x="0" y="5423"/>
                  </a:lnTo>
                  <a:lnTo>
                    <a:pt x="992" y="3612"/>
                  </a:lnTo>
                  <a:lnTo>
                    <a:pt x="2646" y="2406"/>
                  </a:lnTo>
                  <a:lnTo>
                    <a:pt x="7688" y="468"/>
                  </a:lnTo>
                  <a:lnTo>
                    <a:pt x="51595" y="0"/>
                  </a:lnTo>
                  <a:lnTo>
                    <a:pt x="81740" y="2640"/>
                  </a:lnTo>
                  <a:lnTo>
                    <a:pt x="124204" y="9087"/>
                  </a:lnTo>
                  <a:lnTo>
                    <a:pt x="161999" y="21242"/>
                  </a:lnTo>
                  <a:lnTo>
                    <a:pt x="202904" y="26051"/>
                  </a:lnTo>
                  <a:lnTo>
                    <a:pt x="223242" y="2678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SMARTInkShape-68"/>
            <p:cNvSpPr/>
            <p:nvPr/>
          </p:nvSpPr>
          <p:spPr>
            <a:xfrm>
              <a:off x="4295880" y="5683680"/>
              <a:ext cx="178200" cy="41184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178475" h="411748">
                  <a:moveTo>
                    <a:pt x="178474" y="112027"/>
                  </a:moveTo>
                  <a:lnTo>
                    <a:pt x="178474" y="112027"/>
                  </a:lnTo>
                  <a:lnTo>
                    <a:pt x="171407" y="95246"/>
                  </a:lnTo>
                  <a:lnTo>
                    <a:pt x="168798" y="79426"/>
                  </a:lnTo>
                  <a:lnTo>
                    <a:pt x="163480" y="69405"/>
                  </a:lnTo>
                  <a:lnTo>
                    <a:pt x="160472" y="55300"/>
                  </a:lnTo>
                  <a:lnTo>
                    <a:pt x="153715" y="41144"/>
                  </a:lnTo>
                  <a:lnTo>
                    <a:pt x="153038" y="37982"/>
                  </a:lnTo>
                  <a:lnTo>
                    <a:pt x="151595" y="35875"/>
                  </a:lnTo>
                  <a:lnTo>
                    <a:pt x="149641" y="34470"/>
                  </a:lnTo>
                  <a:lnTo>
                    <a:pt x="147346" y="33533"/>
                  </a:lnTo>
                  <a:lnTo>
                    <a:pt x="145816" y="31916"/>
                  </a:lnTo>
                  <a:lnTo>
                    <a:pt x="140714" y="22192"/>
                  </a:lnTo>
                  <a:lnTo>
                    <a:pt x="138419" y="19396"/>
                  </a:lnTo>
                  <a:lnTo>
                    <a:pt x="130575" y="16287"/>
                  </a:lnTo>
                  <a:lnTo>
                    <a:pt x="121467" y="13913"/>
                  </a:lnTo>
                  <a:lnTo>
                    <a:pt x="107536" y="6951"/>
                  </a:lnTo>
                  <a:lnTo>
                    <a:pt x="101305" y="4803"/>
                  </a:lnTo>
                  <a:lnTo>
                    <a:pt x="95229" y="541"/>
                  </a:lnTo>
                  <a:lnTo>
                    <a:pt x="92219" y="0"/>
                  </a:lnTo>
                  <a:lnTo>
                    <a:pt x="89221" y="631"/>
                  </a:lnTo>
                  <a:lnTo>
                    <a:pt x="82251" y="2987"/>
                  </a:lnTo>
                  <a:lnTo>
                    <a:pt x="57264" y="5698"/>
                  </a:lnTo>
                  <a:lnTo>
                    <a:pt x="44692" y="11906"/>
                  </a:lnTo>
                  <a:lnTo>
                    <a:pt x="41661" y="12537"/>
                  </a:lnTo>
                  <a:lnTo>
                    <a:pt x="32655" y="18167"/>
                  </a:lnTo>
                  <a:lnTo>
                    <a:pt x="23702" y="30858"/>
                  </a:lnTo>
                  <a:lnTo>
                    <a:pt x="10905" y="60948"/>
                  </a:lnTo>
                  <a:lnTo>
                    <a:pt x="8749" y="70474"/>
                  </a:lnTo>
                  <a:lnTo>
                    <a:pt x="2949" y="82407"/>
                  </a:lnTo>
                  <a:lnTo>
                    <a:pt x="0" y="127031"/>
                  </a:lnTo>
                  <a:lnTo>
                    <a:pt x="2543" y="159337"/>
                  </a:lnTo>
                  <a:lnTo>
                    <a:pt x="10906" y="200774"/>
                  </a:lnTo>
                  <a:lnTo>
                    <a:pt x="29769" y="242963"/>
                  </a:lnTo>
                  <a:lnTo>
                    <a:pt x="50488" y="285658"/>
                  </a:lnTo>
                  <a:lnTo>
                    <a:pt x="71318" y="327650"/>
                  </a:lnTo>
                  <a:lnTo>
                    <a:pt x="77602" y="341941"/>
                  </a:lnTo>
                  <a:lnTo>
                    <a:pt x="84466" y="360399"/>
                  </a:lnTo>
                  <a:lnTo>
                    <a:pt x="95625" y="379307"/>
                  </a:lnTo>
                  <a:lnTo>
                    <a:pt x="97996" y="385600"/>
                  </a:lnTo>
                  <a:lnTo>
                    <a:pt x="103917" y="394720"/>
                  </a:lnTo>
                  <a:lnTo>
                    <a:pt x="105651" y="400718"/>
                  </a:lnTo>
                  <a:lnTo>
                    <a:pt x="107105" y="402714"/>
                  </a:lnTo>
                  <a:lnTo>
                    <a:pt x="109066" y="404045"/>
                  </a:lnTo>
                  <a:lnTo>
                    <a:pt x="114604" y="406181"/>
                  </a:lnTo>
                  <a:lnTo>
                    <a:pt x="115361" y="409119"/>
                  </a:lnTo>
                  <a:lnTo>
                    <a:pt x="115697" y="411747"/>
                  </a:lnTo>
                  <a:lnTo>
                    <a:pt x="115966" y="4067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SMARTInkShape-69"/>
            <p:cNvSpPr/>
            <p:nvPr/>
          </p:nvSpPr>
          <p:spPr>
            <a:xfrm>
              <a:off x="4241880" y="5849640"/>
              <a:ext cx="196200" cy="266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6454" h="26786">
                  <a:moveTo>
                    <a:pt x="0" y="17855"/>
                  </a:moveTo>
                  <a:lnTo>
                    <a:pt x="0" y="17855"/>
                  </a:lnTo>
                  <a:lnTo>
                    <a:pt x="4740" y="13115"/>
                  </a:lnTo>
                  <a:lnTo>
                    <a:pt x="7068" y="8142"/>
                  </a:lnTo>
                  <a:lnTo>
                    <a:pt x="7688" y="5427"/>
                  </a:lnTo>
                  <a:lnTo>
                    <a:pt x="9095" y="3616"/>
                  </a:lnTo>
                  <a:lnTo>
                    <a:pt x="16509" y="473"/>
                  </a:lnTo>
                  <a:lnTo>
                    <a:pt x="55350" y="0"/>
                  </a:lnTo>
                  <a:lnTo>
                    <a:pt x="98412" y="11020"/>
                  </a:lnTo>
                  <a:lnTo>
                    <a:pt x="111208" y="14818"/>
                  </a:lnTo>
                  <a:lnTo>
                    <a:pt x="153962" y="18581"/>
                  </a:lnTo>
                  <a:lnTo>
                    <a:pt x="196453" y="2678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SMARTInkShape-70"/>
            <p:cNvSpPr/>
            <p:nvPr/>
          </p:nvSpPr>
          <p:spPr>
            <a:xfrm>
              <a:off x="4545720" y="5858640"/>
              <a:ext cx="267840" cy="151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7891" h="151803">
                  <a:moveTo>
                    <a:pt x="0" y="8927"/>
                  </a:moveTo>
                  <a:lnTo>
                    <a:pt x="0" y="8927"/>
                  </a:lnTo>
                  <a:lnTo>
                    <a:pt x="0" y="50852"/>
                  </a:lnTo>
                  <a:lnTo>
                    <a:pt x="0" y="74783"/>
                  </a:lnTo>
                  <a:lnTo>
                    <a:pt x="2645" y="80530"/>
                  </a:lnTo>
                  <a:lnTo>
                    <a:pt x="29888" y="110241"/>
                  </a:lnTo>
                  <a:lnTo>
                    <a:pt x="35773" y="113487"/>
                  </a:lnTo>
                  <a:lnTo>
                    <a:pt x="41695" y="115922"/>
                  </a:lnTo>
                  <a:lnTo>
                    <a:pt x="50608" y="121879"/>
                  </a:lnTo>
                  <a:lnTo>
                    <a:pt x="59533" y="125077"/>
                  </a:lnTo>
                  <a:lnTo>
                    <a:pt x="68461" y="130875"/>
                  </a:lnTo>
                  <a:lnTo>
                    <a:pt x="77391" y="133034"/>
                  </a:lnTo>
                  <a:lnTo>
                    <a:pt x="118694" y="133933"/>
                  </a:lnTo>
                  <a:lnTo>
                    <a:pt x="124852" y="131292"/>
                  </a:lnTo>
                  <a:lnTo>
                    <a:pt x="130896" y="127804"/>
                  </a:lnTo>
                  <a:lnTo>
                    <a:pt x="136889" y="126254"/>
                  </a:lnTo>
                  <a:lnTo>
                    <a:pt x="138884" y="124848"/>
                  </a:lnTo>
                  <a:lnTo>
                    <a:pt x="140214" y="122919"/>
                  </a:lnTo>
                  <a:lnTo>
                    <a:pt x="142685" y="118129"/>
                  </a:lnTo>
                  <a:lnTo>
                    <a:pt x="148661" y="109855"/>
                  </a:lnTo>
                  <a:lnTo>
                    <a:pt x="150873" y="101119"/>
                  </a:lnTo>
                  <a:lnTo>
                    <a:pt x="151390" y="95211"/>
                  </a:lnTo>
                  <a:lnTo>
                    <a:pt x="154266" y="89278"/>
                  </a:lnTo>
                  <a:lnTo>
                    <a:pt x="156423" y="86308"/>
                  </a:lnTo>
                  <a:lnTo>
                    <a:pt x="159456" y="72645"/>
                  </a:lnTo>
                  <a:lnTo>
                    <a:pt x="160727" y="29785"/>
                  </a:lnTo>
                  <a:lnTo>
                    <a:pt x="160734" y="0"/>
                  </a:lnTo>
                  <a:lnTo>
                    <a:pt x="160734" y="38729"/>
                  </a:lnTo>
                  <a:lnTo>
                    <a:pt x="163379" y="44662"/>
                  </a:lnTo>
                  <a:lnTo>
                    <a:pt x="166870" y="50606"/>
                  </a:lnTo>
                  <a:lnTo>
                    <a:pt x="178686" y="85491"/>
                  </a:lnTo>
                  <a:lnTo>
                    <a:pt x="193746" y="104105"/>
                  </a:lnTo>
                  <a:lnTo>
                    <a:pt x="201493" y="113085"/>
                  </a:lnTo>
                  <a:lnTo>
                    <a:pt x="207260" y="125009"/>
                  </a:lnTo>
                  <a:lnTo>
                    <a:pt x="226328" y="145849"/>
                  </a:lnTo>
                  <a:lnTo>
                    <a:pt x="232220" y="149157"/>
                  </a:lnTo>
                  <a:lnTo>
                    <a:pt x="244087" y="151280"/>
                  </a:lnTo>
                  <a:lnTo>
                    <a:pt x="267890" y="1518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SMARTInkShape-71"/>
            <p:cNvSpPr/>
            <p:nvPr/>
          </p:nvSpPr>
          <p:spPr>
            <a:xfrm>
              <a:off x="4813560" y="5769000"/>
              <a:ext cx="151560" cy="2592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51757" h="258960">
                  <a:moveTo>
                    <a:pt x="98227" y="26787"/>
                  </a:moveTo>
                  <a:lnTo>
                    <a:pt x="98227" y="26787"/>
                  </a:lnTo>
                  <a:lnTo>
                    <a:pt x="98227" y="17306"/>
                  </a:lnTo>
                  <a:lnTo>
                    <a:pt x="97235" y="14513"/>
                  </a:lnTo>
                  <a:lnTo>
                    <a:pt x="95581" y="12650"/>
                  </a:lnTo>
                  <a:lnTo>
                    <a:pt x="87203" y="6609"/>
                  </a:lnTo>
                  <a:lnTo>
                    <a:pt x="80768" y="385"/>
                  </a:lnTo>
                  <a:lnTo>
                    <a:pt x="58248" y="0"/>
                  </a:lnTo>
                  <a:lnTo>
                    <a:pt x="53008" y="2645"/>
                  </a:lnTo>
                  <a:lnTo>
                    <a:pt x="47372" y="6136"/>
                  </a:lnTo>
                  <a:lnTo>
                    <a:pt x="38621" y="9093"/>
                  </a:lnTo>
                  <a:lnTo>
                    <a:pt x="32709" y="13301"/>
                  </a:lnTo>
                  <a:lnTo>
                    <a:pt x="29421" y="18478"/>
                  </a:lnTo>
                  <a:lnTo>
                    <a:pt x="27309" y="29886"/>
                  </a:lnTo>
                  <a:lnTo>
                    <a:pt x="26144" y="31829"/>
                  </a:lnTo>
                  <a:lnTo>
                    <a:pt x="24374" y="33125"/>
                  </a:lnTo>
                  <a:lnTo>
                    <a:pt x="22203" y="33990"/>
                  </a:lnTo>
                  <a:lnTo>
                    <a:pt x="20755" y="35558"/>
                  </a:lnTo>
                  <a:lnTo>
                    <a:pt x="19147" y="39945"/>
                  </a:lnTo>
                  <a:lnTo>
                    <a:pt x="17894" y="65515"/>
                  </a:lnTo>
                  <a:lnTo>
                    <a:pt x="26956" y="94422"/>
                  </a:lnTo>
                  <a:lnTo>
                    <a:pt x="56279" y="136023"/>
                  </a:lnTo>
                  <a:lnTo>
                    <a:pt x="96203" y="179197"/>
                  </a:lnTo>
                  <a:lnTo>
                    <a:pt x="132031" y="221162"/>
                  </a:lnTo>
                  <a:lnTo>
                    <a:pt x="147584" y="237849"/>
                  </a:lnTo>
                  <a:lnTo>
                    <a:pt x="149929" y="243955"/>
                  </a:lnTo>
                  <a:lnTo>
                    <a:pt x="151756" y="258433"/>
                  </a:lnTo>
                  <a:lnTo>
                    <a:pt x="107149" y="258959"/>
                  </a:lnTo>
                  <a:lnTo>
                    <a:pt x="99217" y="257967"/>
                  </a:lnTo>
                  <a:lnTo>
                    <a:pt x="56543" y="250580"/>
                  </a:lnTo>
                  <a:lnTo>
                    <a:pt x="47951" y="249282"/>
                  </a:lnTo>
                  <a:lnTo>
                    <a:pt x="26924" y="241948"/>
                  </a:lnTo>
                  <a:lnTo>
                    <a:pt x="18250" y="241476"/>
                  </a:lnTo>
                  <a:lnTo>
                    <a:pt x="15143" y="240359"/>
                  </a:lnTo>
                  <a:lnTo>
                    <a:pt x="13072" y="238621"/>
                  </a:lnTo>
                  <a:lnTo>
                    <a:pt x="11692" y="236471"/>
                  </a:lnTo>
                  <a:lnTo>
                    <a:pt x="9779" y="235037"/>
                  </a:lnTo>
                  <a:lnTo>
                    <a:pt x="0" y="23217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SMARTInkShape-72"/>
            <p:cNvSpPr/>
            <p:nvPr/>
          </p:nvSpPr>
          <p:spPr>
            <a:xfrm>
              <a:off x="5010120" y="5805000"/>
              <a:ext cx="17640" cy="142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7851" h="142834">
                  <a:moveTo>
                    <a:pt x="8920" y="17818"/>
                  </a:moveTo>
                  <a:lnTo>
                    <a:pt x="8920" y="17818"/>
                  </a:lnTo>
                  <a:lnTo>
                    <a:pt x="13660" y="13078"/>
                  </a:lnTo>
                  <a:lnTo>
                    <a:pt x="15988" y="8104"/>
                  </a:lnTo>
                  <a:lnTo>
                    <a:pt x="17840" y="0"/>
                  </a:lnTo>
                  <a:lnTo>
                    <a:pt x="17850" y="13262"/>
                  </a:lnTo>
                  <a:lnTo>
                    <a:pt x="15204" y="18440"/>
                  </a:lnTo>
                  <a:lnTo>
                    <a:pt x="11713" y="24047"/>
                  </a:lnTo>
                  <a:lnTo>
                    <a:pt x="9471" y="35732"/>
                  </a:lnTo>
                  <a:lnTo>
                    <a:pt x="9029" y="47594"/>
                  </a:lnTo>
                  <a:lnTo>
                    <a:pt x="6322" y="53541"/>
                  </a:lnTo>
                  <a:lnTo>
                    <a:pt x="4212" y="56516"/>
                  </a:lnTo>
                  <a:lnTo>
                    <a:pt x="1241" y="70184"/>
                  </a:lnTo>
                  <a:lnTo>
                    <a:pt x="12" y="112168"/>
                  </a:lnTo>
                  <a:lnTo>
                    <a:pt x="0" y="118621"/>
                  </a:lnTo>
                  <a:lnTo>
                    <a:pt x="2641" y="124797"/>
                  </a:lnTo>
                  <a:lnTo>
                    <a:pt x="6130" y="130848"/>
                  </a:lnTo>
                  <a:lnTo>
                    <a:pt x="8920" y="1428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SMARTInkShape-73"/>
            <p:cNvSpPr/>
            <p:nvPr/>
          </p:nvSpPr>
          <p:spPr>
            <a:xfrm>
              <a:off x="4992480" y="562752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790" h="25484">
                  <a:moveTo>
                    <a:pt x="0" y="25483"/>
                  </a:moveTo>
                  <a:lnTo>
                    <a:pt x="0" y="25483"/>
                  </a:lnTo>
                  <a:lnTo>
                    <a:pt x="0" y="10106"/>
                  </a:lnTo>
                  <a:lnTo>
                    <a:pt x="992" y="9278"/>
                  </a:lnTo>
                  <a:lnTo>
                    <a:pt x="4740" y="8359"/>
                  </a:lnTo>
                  <a:lnTo>
                    <a:pt x="6136" y="7122"/>
                  </a:lnTo>
                  <a:lnTo>
                    <a:pt x="8561" y="0"/>
                  </a:lnTo>
                  <a:lnTo>
                    <a:pt x="11412" y="1920"/>
                  </a:lnTo>
                  <a:lnTo>
                    <a:pt x="13561" y="3821"/>
                  </a:lnTo>
                  <a:lnTo>
                    <a:pt x="18595" y="5934"/>
                  </a:lnTo>
                  <a:lnTo>
                    <a:pt x="26789" y="762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SMARTInkShape-74"/>
            <p:cNvSpPr/>
            <p:nvPr/>
          </p:nvSpPr>
          <p:spPr>
            <a:xfrm>
              <a:off x="5090760" y="5742360"/>
              <a:ext cx="151560" cy="187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1757" h="187506">
                  <a:moveTo>
                    <a:pt x="71402" y="17845"/>
                  </a:moveTo>
                  <a:lnTo>
                    <a:pt x="71402" y="17845"/>
                  </a:lnTo>
                  <a:lnTo>
                    <a:pt x="66662" y="13105"/>
                  </a:lnTo>
                  <a:lnTo>
                    <a:pt x="65265" y="12700"/>
                  </a:lnTo>
                  <a:lnTo>
                    <a:pt x="64335" y="13424"/>
                  </a:lnTo>
                  <a:lnTo>
                    <a:pt x="63714" y="14897"/>
                  </a:lnTo>
                  <a:lnTo>
                    <a:pt x="62307" y="14887"/>
                  </a:lnTo>
                  <a:lnTo>
                    <a:pt x="58100" y="12231"/>
                  </a:lnTo>
                  <a:lnTo>
                    <a:pt x="55589" y="12117"/>
                  </a:lnTo>
                  <a:lnTo>
                    <a:pt x="44715" y="17212"/>
                  </a:lnTo>
                  <a:lnTo>
                    <a:pt x="32328" y="17762"/>
                  </a:lnTo>
                  <a:lnTo>
                    <a:pt x="26586" y="20454"/>
                  </a:lnTo>
                  <a:lnTo>
                    <a:pt x="23665" y="22561"/>
                  </a:lnTo>
                  <a:lnTo>
                    <a:pt x="20420" y="27548"/>
                  </a:lnTo>
                  <a:lnTo>
                    <a:pt x="19554" y="30267"/>
                  </a:lnTo>
                  <a:lnTo>
                    <a:pt x="17985" y="32079"/>
                  </a:lnTo>
                  <a:lnTo>
                    <a:pt x="13597" y="34094"/>
                  </a:lnTo>
                  <a:lnTo>
                    <a:pt x="12029" y="35623"/>
                  </a:lnTo>
                  <a:lnTo>
                    <a:pt x="2010" y="53733"/>
                  </a:lnTo>
                  <a:lnTo>
                    <a:pt x="18" y="83004"/>
                  </a:lnTo>
                  <a:lnTo>
                    <a:pt x="0" y="88073"/>
                  </a:lnTo>
                  <a:lnTo>
                    <a:pt x="2626" y="96352"/>
                  </a:lnTo>
                  <a:lnTo>
                    <a:pt x="6109" y="103339"/>
                  </a:lnTo>
                  <a:lnTo>
                    <a:pt x="13268" y="123680"/>
                  </a:lnTo>
                  <a:lnTo>
                    <a:pt x="26937" y="142294"/>
                  </a:lnTo>
                  <a:lnTo>
                    <a:pt x="65450" y="181553"/>
                  </a:lnTo>
                  <a:lnTo>
                    <a:pt x="71402" y="184862"/>
                  </a:lnTo>
                  <a:lnTo>
                    <a:pt x="83308" y="186986"/>
                  </a:lnTo>
                  <a:lnTo>
                    <a:pt x="119027" y="187505"/>
                  </a:lnTo>
                  <a:lnTo>
                    <a:pt x="124981" y="184862"/>
                  </a:lnTo>
                  <a:lnTo>
                    <a:pt x="146184" y="166260"/>
                  </a:lnTo>
                  <a:lnTo>
                    <a:pt x="149286" y="160536"/>
                  </a:lnTo>
                  <a:lnTo>
                    <a:pt x="151442" y="145813"/>
                  </a:lnTo>
                  <a:lnTo>
                    <a:pt x="151756" y="122024"/>
                  </a:lnTo>
                  <a:lnTo>
                    <a:pt x="147026" y="108355"/>
                  </a:lnTo>
                  <a:lnTo>
                    <a:pt x="121958" y="65057"/>
                  </a:lnTo>
                  <a:lnTo>
                    <a:pt x="95213" y="32872"/>
                  </a:lnTo>
                  <a:lnTo>
                    <a:pt x="75371" y="11900"/>
                  </a:lnTo>
                  <a:lnTo>
                    <a:pt x="71406" y="0"/>
                  </a:lnTo>
                  <a:lnTo>
                    <a:pt x="76143" y="4730"/>
                  </a:lnTo>
                  <a:lnTo>
                    <a:pt x="81117" y="7055"/>
                  </a:lnTo>
                  <a:lnTo>
                    <a:pt x="97133" y="13289"/>
                  </a:lnTo>
                  <a:lnTo>
                    <a:pt x="116051" y="267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SMARTInkShape-75"/>
            <p:cNvSpPr/>
            <p:nvPr/>
          </p:nvSpPr>
          <p:spPr>
            <a:xfrm>
              <a:off x="5287320" y="5752440"/>
              <a:ext cx="222840" cy="1684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23085" h="168387">
                  <a:moveTo>
                    <a:pt x="0" y="96949"/>
                  </a:moveTo>
                  <a:lnTo>
                    <a:pt x="0" y="96949"/>
                  </a:lnTo>
                  <a:lnTo>
                    <a:pt x="0" y="128078"/>
                  </a:lnTo>
                  <a:lnTo>
                    <a:pt x="992" y="129607"/>
                  </a:lnTo>
                  <a:lnTo>
                    <a:pt x="2645" y="130627"/>
                  </a:lnTo>
                  <a:lnTo>
                    <a:pt x="8897" y="132658"/>
                  </a:lnTo>
                  <a:lnTo>
                    <a:pt x="8927" y="140356"/>
                  </a:lnTo>
                  <a:lnTo>
                    <a:pt x="8930" y="133801"/>
                  </a:lnTo>
                  <a:lnTo>
                    <a:pt x="15066" y="125762"/>
                  </a:lnTo>
                  <a:lnTo>
                    <a:pt x="17491" y="116447"/>
                  </a:lnTo>
                  <a:lnTo>
                    <a:pt x="17858" y="76429"/>
                  </a:lnTo>
                  <a:lnTo>
                    <a:pt x="17859" y="52639"/>
                  </a:lnTo>
                  <a:lnTo>
                    <a:pt x="20505" y="44844"/>
                  </a:lnTo>
                  <a:lnTo>
                    <a:pt x="33693" y="24998"/>
                  </a:lnTo>
                  <a:lnTo>
                    <a:pt x="34368" y="22193"/>
                  </a:lnTo>
                  <a:lnTo>
                    <a:pt x="35811" y="20323"/>
                  </a:lnTo>
                  <a:lnTo>
                    <a:pt x="53758" y="9733"/>
                  </a:lnTo>
                  <a:lnTo>
                    <a:pt x="68484" y="6934"/>
                  </a:lnTo>
                  <a:lnTo>
                    <a:pt x="80371" y="639"/>
                  </a:lnTo>
                  <a:lnTo>
                    <a:pt x="83346" y="0"/>
                  </a:lnTo>
                  <a:lnTo>
                    <a:pt x="86322" y="566"/>
                  </a:lnTo>
                  <a:lnTo>
                    <a:pt x="96242" y="5112"/>
                  </a:lnTo>
                  <a:lnTo>
                    <a:pt x="121211" y="8421"/>
                  </a:lnTo>
                  <a:lnTo>
                    <a:pt x="156908" y="31562"/>
                  </a:lnTo>
                  <a:lnTo>
                    <a:pt x="166436" y="41416"/>
                  </a:lnTo>
                  <a:lnTo>
                    <a:pt x="201572" y="84963"/>
                  </a:lnTo>
                  <a:lnTo>
                    <a:pt x="217179" y="112213"/>
                  </a:lnTo>
                  <a:lnTo>
                    <a:pt x="222710" y="138103"/>
                  </a:lnTo>
                  <a:lnTo>
                    <a:pt x="223084" y="145303"/>
                  </a:lnTo>
                  <a:lnTo>
                    <a:pt x="220526" y="150851"/>
                  </a:lnTo>
                  <a:lnTo>
                    <a:pt x="205383" y="16838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2" name="SMARTInkShape-76"/>
          <p:cNvSpPr/>
          <p:nvPr/>
        </p:nvSpPr>
        <p:spPr>
          <a:xfrm>
            <a:off x="3340080" y="5830920"/>
            <a:ext cx="44640" cy="303120"/>
          </a:xfrm>
          <a:custGeom>
            <a:avLst/>
            <a:gdLst>
              <a:gd name="textAreaLeft" fmla="*/ 0 w 44640"/>
              <a:gd name="textAreaRight" fmla="*/ 45000 w 4464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44649" h="303610">
                <a:moveTo>
                  <a:pt x="0" y="0"/>
                </a:moveTo>
                <a:lnTo>
                  <a:pt x="0" y="0"/>
                </a:lnTo>
                <a:lnTo>
                  <a:pt x="14239" y="15231"/>
                </a:lnTo>
                <a:lnTo>
                  <a:pt x="16250" y="20991"/>
                </a:lnTo>
                <a:lnTo>
                  <a:pt x="17778" y="22924"/>
                </a:lnTo>
                <a:lnTo>
                  <a:pt x="23678" y="26636"/>
                </a:lnTo>
                <a:lnTo>
                  <a:pt x="25406" y="31020"/>
                </a:lnTo>
                <a:lnTo>
                  <a:pt x="27700" y="56812"/>
                </a:lnTo>
                <a:lnTo>
                  <a:pt x="33841" y="73545"/>
                </a:lnTo>
                <a:lnTo>
                  <a:pt x="36464" y="100488"/>
                </a:lnTo>
                <a:lnTo>
                  <a:pt x="42737" y="118002"/>
                </a:lnTo>
                <a:lnTo>
                  <a:pt x="44537" y="157870"/>
                </a:lnTo>
                <a:lnTo>
                  <a:pt x="44642" y="199436"/>
                </a:lnTo>
                <a:lnTo>
                  <a:pt x="44648" y="239366"/>
                </a:lnTo>
                <a:lnTo>
                  <a:pt x="44648" y="282446"/>
                </a:lnTo>
                <a:lnTo>
                  <a:pt x="44648" y="30360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How Powerful Was Rom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 million square mil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80 million peopl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 million residents in city of Rome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5" descr="romanmap"/>
          <p:cNvPicPr/>
          <p:nvPr/>
        </p:nvPicPr>
        <p:blipFill>
          <a:blip r:embed="rId1"/>
          <a:stretch/>
        </p:blipFill>
        <p:spPr>
          <a:xfrm>
            <a:off x="4191120" y="2081160"/>
            <a:ext cx="4952880" cy="32418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0"/>
          <p:cNvGrpSpPr/>
          <p:nvPr/>
        </p:nvGrpSpPr>
        <p:grpSpPr>
          <a:xfrm>
            <a:off x="7608960" y="3825720"/>
            <a:ext cx="1204920" cy="1246320"/>
            <a:chOff x="7608960" y="3825720"/>
            <a:chExt cx="1204920" cy="1246320"/>
          </a:xfrm>
        </p:grpSpPr>
        <p:sp>
          <p:nvSpPr>
            <p:cNvPr id="167" name="SMARTInkAnnotation0"/>
            <p:cNvSpPr/>
            <p:nvPr/>
          </p:nvSpPr>
          <p:spPr>
            <a:xfrm>
              <a:off x="7608960" y="3825720"/>
              <a:ext cx="669240" cy="1246320"/>
            </a:xfrm>
            <a:custGeom>
              <a:avLst/>
              <a:gdLst>
                <a:gd name="textAreaLeft" fmla="*/ 0 w 669240"/>
                <a:gd name="textAreaRight" fmla="*/ 669600 w 669240"/>
                <a:gd name="textAreaTop" fmla="*/ 0 h 1246320"/>
                <a:gd name="textAreaBottom" fmla="*/ 1246680 h 1246320"/>
              </a:gdLst>
              <a:ahLst/>
              <a:rect l="textAreaLeft" t="textAreaTop" r="textAreaRight" b="textAreaBottom"/>
              <a:pathLst>
                <a:path w="669727" h="1246811">
                  <a:moveTo>
                    <a:pt x="526851" y="478976"/>
                  </a:moveTo>
                  <a:lnTo>
                    <a:pt x="526851" y="486665"/>
                  </a:lnTo>
                  <a:lnTo>
                    <a:pt x="531591" y="492279"/>
                  </a:lnTo>
                  <a:lnTo>
                    <a:pt x="532987" y="492805"/>
                  </a:lnTo>
                  <a:lnTo>
                    <a:pt x="533920" y="492164"/>
                  </a:lnTo>
                  <a:lnTo>
                    <a:pt x="534539" y="490745"/>
                  </a:lnTo>
                  <a:lnTo>
                    <a:pt x="535414" y="484007"/>
                  </a:lnTo>
                  <a:lnTo>
                    <a:pt x="536528" y="482330"/>
                  </a:lnTo>
                  <a:lnTo>
                    <a:pt x="538264" y="481212"/>
                  </a:lnTo>
                  <a:lnTo>
                    <a:pt x="540413" y="480467"/>
                  </a:lnTo>
                  <a:lnTo>
                    <a:pt x="541846" y="477986"/>
                  </a:lnTo>
                  <a:lnTo>
                    <a:pt x="543437" y="469937"/>
                  </a:lnTo>
                  <a:lnTo>
                    <a:pt x="544853" y="466997"/>
                  </a:lnTo>
                  <a:lnTo>
                    <a:pt x="546790" y="465037"/>
                  </a:lnTo>
                  <a:lnTo>
                    <a:pt x="549074" y="463731"/>
                  </a:lnTo>
                  <a:lnTo>
                    <a:pt x="550596" y="460875"/>
                  </a:lnTo>
                  <a:lnTo>
                    <a:pt x="552287" y="452411"/>
                  </a:lnTo>
                  <a:lnTo>
                    <a:pt x="553730" y="449360"/>
                  </a:lnTo>
                  <a:lnTo>
                    <a:pt x="555685" y="447326"/>
                  </a:lnTo>
                  <a:lnTo>
                    <a:pt x="560502" y="444073"/>
                  </a:lnTo>
                  <a:lnTo>
                    <a:pt x="565950" y="439321"/>
                  </a:lnTo>
                  <a:lnTo>
                    <a:pt x="567800" y="436664"/>
                  </a:lnTo>
                  <a:lnTo>
                    <a:pt x="571397" y="428185"/>
                  </a:lnTo>
                  <a:lnTo>
                    <a:pt x="575753" y="422338"/>
                  </a:lnTo>
                  <a:lnTo>
                    <a:pt x="577312" y="418397"/>
                  </a:lnTo>
                  <a:lnTo>
                    <a:pt x="579812" y="400460"/>
                  </a:lnTo>
                  <a:lnTo>
                    <a:pt x="580019" y="396866"/>
                  </a:lnTo>
                  <a:lnTo>
                    <a:pt x="588791" y="359534"/>
                  </a:lnTo>
                  <a:lnTo>
                    <a:pt x="588980" y="354700"/>
                  </a:lnTo>
                  <a:lnTo>
                    <a:pt x="590099" y="350484"/>
                  </a:lnTo>
                  <a:lnTo>
                    <a:pt x="595421" y="338819"/>
                  </a:lnTo>
                  <a:lnTo>
                    <a:pt x="597911" y="316603"/>
                  </a:lnTo>
                  <a:lnTo>
                    <a:pt x="598255" y="285094"/>
                  </a:lnTo>
                  <a:lnTo>
                    <a:pt x="597274" y="280269"/>
                  </a:lnTo>
                  <a:lnTo>
                    <a:pt x="592145" y="266752"/>
                  </a:lnTo>
                  <a:lnTo>
                    <a:pt x="589603" y="231689"/>
                  </a:lnTo>
                  <a:lnTo>
                    <a:pt x="589467" y="217266"/>
                  </a:lnTo>
                  <a:lnTo>
                    <a:pt x="588439" y="211237"/>
                  </a:lnTo>
                  <a:lnTo>
                    <a:pt x="582305" y="191786"/>
                  </a:lnTo>
                  <a:lnTo>
                    <a:pt x="581680" y="186313"/>
                  </a:lnTo>
                  <a:lnTo>
                    <a:pt x="578339" y="177586"/>
                  </a:lnTo>
                  <a:lnTo>
                    <a:pt x="568110" y="159159"/>
                  </a:lnTo>
                  <a:lnTo>
                    <a:pt x="565031" y="150635"/>
                  </a:lnTo>
                  <a:lnTo>
                    <a:pt x="562672" y="142547"/>
                  </a:lnTo>
                  <a:lnTo>
                    <a:pt x="547435" y="110606"/>
                  </a:lnTo>
                  <a:lnTo>
                    <a:pt x="538683" y="97088"/>
                  </a:lnTo>
                  <a:lnTo>
                    <a:pt x="529805" y="78090"/>
                  </a:lnTo>
                  <a:lnTo>
                    <a:pt x="526837" y="74797"/>
                  </a:lnTo>
                  <a:lnTo>
                    <a:pt x="523865" y="72602"/>
                  </a:lnTo>
                  <a:lnTo>
                    <a:pt x="517917" y="64871"/>
                  </a:lnTo>
                  <a:lnTo>
                    <a:pt x="514941" y="60031"/>
                  </a:lnTo>
                  <a:lnTo>
                    <a:pt x="511967" y="56804"/>
                  </a:lnTo>
                  <a:lnTo>
                    <a:pt x="508990" y="54653"/>
                  </a:lnTo>
                  <a:lnTo>
                    <a:pt x="503038" y="51271"/>
                  </a:lnTo>
                  <a:lnTo>
                    <a:pt x="482203" y="32371"/>
                  </a:lnTo>
                  <a:lnTo>
                    <a:pt x="470297" y="20562"/>
                  </a:lnTo>
                  <a:lnTo>
                    <a:pt x="467320" y="18585"/>
                  </a:lnTo>
                  <a:lnTo>
                    <a:pt x="458390" y="14812"/>
                  </a:lnTo>
                  <a:lnTo>
                    <a:pt x="452437" y="10413"/>
                  </a:lnTo>
                  <a:lnTo>
                    <a:pt x="448469" y="8843"/>
                  </a:lnTo>
                  <a:lnTo>
                    <a:pt x="434394" y="5641"/>
                  </a:lnTo>
                  <a:lnTo>
                    <a:pt x="426889" y="1376"/>
                  </a:lnTo>
                  <a:lnTo>
                    <a:pt x="423499" y="834"/>
                  </a:lnTo>
                  <a:lnTo>
                    <a:pt x="420246" y="1465"/>
                  </a:lnTo>
                  <a:lnTo>
                    <a:pt x="417086" y="2878"/>
                  </a:lnTo>
                  <a:lnTo>
                    <a:pt x="413987" y="2827"/>
                  </a:lnTo>
                  <a:lnTo>
                    <a:pt x="410928" y="1801"/>
                  </a:lnTo>
                  <a:lnTo>
                    <a:pt x="407897" y="125"/>
                  </a:lnTo>
                  <a:lnTo>
                    <a:pt x="403892" y="0"/>
                  </a:lnTo>
                  <a:lnTo>
                    <a:pt x="383207" y="4282"/>
                  </a:lnTo>
                  <a:lnTo>
                    <a:pt x="364752" y="5423"/>
                  </a:lnTo>
                  <a:lnTo>
                    <a:pt x="345415" y="10792"/>
                  </a:lnTo>
                  <a:lnTo>
                    <a:pt x="341401" y="10088"/>
                  </a:lnTo>
                  <a:lnTo>
                    <a:pt x="337733" y="8626"/>
                  </a:lnTo>
                  <a:lnTo>
                    <a:pt x="333304" y="9636"/>
                  </a:lnTo>
                  <a:lnTo>
                    <a:pt x="314583" y="20223"/>
                  </a:lnTo>
                  <a:lnTo>
                    <a:pt x="310925" y="21336"/>
                  </a:lnTo>
                  <a:lnTo>
                    <a:pt x="304215" y="25219"/>
                  </a:lnTo>
                  <a:lnTo>
                    <a:pt x="292214" y="32983"/>
                  </a:lnTo>
                  <a:lnTo>
                    <a:pt x="287081" y="35796"/>
                  </a:lnTo>
                  <a:lnTo>
                    <a:pt x="278735" y="44213"/>
                  </a:lnTo>
                  <a:lnTo>
                    <a:pt x="265293" y="61045"/>
                  </a:lnTo>
                  <a:lnTo>
                    <a:pt x="246945" y="73924"/>
                  </a:lnTo>
                  <a:lnTo>
                    <a:pt x="239399" y="80010"/>
                  </a:lnTo>
                  <a:lnTo>
                    <a:pt x="235006" y="82030"/>
                  </a:lnTo>
                  <a:lnTo>
                    <a:pt x="224833" y="84275"/>
                  </a:lnTo>
                  <a:lnTo>
                    <a:pt x="220334" y="87849"/>
                  </a:lnTo>
                  <a:lnTo>
                    <a:pt x="209261" y="104126"/>
                  </a:lnTo>
                  <a:lnTo>
                    <a:pt x="205983" y="107037"/>
                  </a:lnTo>
                  <a:lnTo>
                    <a:pt x="202807" y="108978"/>
                  </a:lnTo>
                  <a:lnTo>
                    <a:pt x="188855" y="125930"/>
                  </a:lnTo>
                  <a:lnTo>
                    <a:pt x="183154" y="136197"/>
                  </a:lnTo>
                  <a:lnTo>
                    <a:pt x="181634" y="140324"/>
                  </a:lnTo>
                  <a:lnTo>
                    <a:pt x="170013" y="155614"/>
                  </a:lnTo>
                  <a:lnTo>
                    <a:pt x="155438" y="172420"/>
                  </a:lnTo>
                  <a:lnTo>
                    <a:pt x="139984" y="199575"/>
                  </a:lnTo>
                  <a:lnTo>
                    <a:pt x="136629" y="208616"/>
                  </a:lnTo>
                  <a:lnTo>
                    <a:pt x="129734" y="231985"/>
                  </a:lnTo>
                  <a:lnTo>
                    <a:pt x="124467" y="242864"/>
                  </a:lnTo>
                  <a:lnTo>
                    <a:pt x="118819" y="252991"/>
                  </a:lnTo>
                  <a:lnTo>
                    <a:pt x="109754" y="278454"/>
                  </a:lnTo>
                  <a:lnTo>
                    <a:pt x="102928" y="303106"/>
                  </a:lnTo>
                  <a:lnTo>
                    <a:pt x="97671" y="314161"/>
                  </a:lnTo>
                  <a:lnTo>
                    <a:pt x="94878" y="318498"/>
                  </a:lnTo>
                  <a:lnTo>
                    <a:pt x="91778" y="328608"/>
                  </a:lnTo>
                  <a:lnTo>
                    <a:pt x="89407" y="339716"/>
                  </a:lnTo>
                  <a:lnTo>
                    <a:pt x="82447" y="360371"/>
                  </a:lnTo>
                  <a:lnTo>
                    <a:pt x="76037" y="383780"/>
                  </a:lnTo>
                  <a:lnTo>
                    <a:pt x="70836" y="394664"/>
                  </a:lnTo>
                  <a:lnTo>
                    <a:pt x="68060" y="398956"/>
                  </a:lnTo>
                  <a:lnTo>
                    <a:pt x="64975" y="409016"/>
                  </a:lnTo>
                  <a:lnTo>
                    <a:pt x="64153" y="414476"/>
                  </a:lnTo>
                  <a:lnTo>
                    <a:pt x="60593" y="423190"/>
                  </a:lnTo>
                  <a:lnTo>
                    <a:pt x="58255" y="426903"/>
                  </a:lnTo>
                  <a:lnTo>
                    <a:pt x="55656" y="438965"/>
                  </a:lnTo>
                  <a:lnTo>
                    <a:pt x="52860" y="467313"/>
                  </a:lnTo>
                  <a:lnTo>
                    <a:pt x="44508" y="501973"/>
                  </a:lnTo>
                  <a:lnTo>
                    <a:pt x="38763" y="518312"/>
                  </a:lnTo>
                  <a:lnTo>
                    <a:pt x="33251" y="554959"/>
                  </a:lnTo>
                  <a:lnTo>
                    <a:pt x="28703" y="575904"/>
                  </a:lnTo>
                  <a:lnTo>
                    <a:pt x="26049" y="606798"/>
                  </a:lnTo>
                  <a:lnTo>
                    <a:pt x="19771" y="630747"/>
                  </a:lnTo>
                  <a:lnTo>
                    <a:pt x="17118" y="660542"/>
                  </a:lnTo>
                  <a:lnTo>
                    <a:pt x="10841" y="684358"/>
                  </a:lnTo>
                  <a:lnTo>
                    <a:pt x="8188" y="708980"/>
                  </a:lnTo>
                  <a:lnTo>
                    <a:pt x="1274" y="738276"/>
                  </a:lnTo>
                  <a:lnTo>
                    <a:pt x="74" y="776826"/>
                  </a:lnTo>
                  <a:lnTo>
                    <a:pt x="0" y="883450"/>
                  </a:lnTo>
                  <a:lnTo>
                    <a:pt x="991" y="889516"/>
                  </a:lnTo>
                  <a:lnTo>
                    <a:pt x="7068" y="909026"/>
                  </a:lnTo>
                  <a:lnTo>
                    <a:pt x="9095" y="920141"/>
                  </a:lnTo>
                  <a:lnTo>
                    <a:pt x="14821" y="937555"/>
                  </a:lnTo>
                  <a:lnTo>
                    <a:pt x="17951" y="955282"/>
                  </a:lnTo>
                  <a:lnTo>
                    <a:pt x="23729" y="973102"/>
                  </a:lnTo>
                  <a:lnTo>
                    <a:pt x="26874" y="990950"/>
                  </a:lnTo>
                  <a:lnTo>
                    <a:pt x="31127" y="1002854"/>
                  </a:lnTo>
                  <a:lnTo>
                    <a:pt x="36323" y="1012113"/>
                  </a:lnTo>
                  <a:lnTo>
                    <a:pt x="39098" y="1015971"/>
                  </a:lnTo>
                  <a:lnTo>
                    <a:pt x="42182" y="1025550"/>
                  </a:lnTo>
                  <a:lnTo>
                    <a:pt x="43003" y="1030882"/>
                  </a:lnTo>
                  <a:lnTo>
                    <a:pt x="46564" y="1039453"/>
                  </a:lnTo>
                  <a:lnTo>
                    <a:pt x="59783" y="1061299"/>
                  </a:lnTo>
                  <a:lnTo>
                    <a:pt x="62676" y="1063644"/>
                  </a:lnTo>
                  <a:lnTo>
                    <a:pt x="65597" y="1065208"/>
                  </a:lnTo>
                  <a:lnTo>
                    <a:pt x="67543" y="1068235"/>
                  </a:lnTo>
                  <a:lnTo>
                    <a:pt x="69706" y="1076890"/>
                  </a:lnTo>
                  <a:lnTo>
                    <a:pt x="72267" y="1080983"/>
                  </a:lnTo>
                  <a:lnTo>
                    <a:pt x="87991" y="1097329"/>
                  </a:lnTo>
                  <a:lnTo>
                    <a:pt x="100945" y="1114632"/>
                  </a:lnTo>
                  <a:lnTo>
                    <a:pt x="119039" y="1133703"/>
                  </a:lnTo>
                  <a:lnTo>
                    <a:pt x="122023" y="1135727"/>
                  </a:lnTo>
                  <a:lnTo>
                    <a:pt x="130963" y="1139567"/>
                  </a:lnTo>
                  <a:lnTo>
                    <a:pt x="136920" y="1143981"/>
                  </a:lnTo>
                  <a:lnTo>
                    <a:pt x="140889" y="1145555"/>
                  </a:lnTo>
                  <a:lnTo>
                    <a:pt x="150591" y="1147304"/>
                  </a:lnTo>
                  <a:lnTo>
                    <a:pt x="154965" y="1149754"/>
                  </a:lnTo>
                  <a:lnTo>
                    <a:pt x="165859" y="1160700"/>
                  </a:lnTo>
                  <a:lnTo>
                    <a:pt x="169113" y="1162654"/>
                  </a:lnTo>
                  <a:lnTo>
                    <a:pt x="172272" y="1163957"/>
                  </a:lnTo>
                  <a:lnTo>
                    <a:pt x="175371" y="1166810"/>
                  </a:lnTo>
                  <a:lnTo>
                    <a:pt x="181462" y="1175271"/>
                  </a:lnTo>
                  <a:lnTo>
                    <a:pt x="185467" y="1178321"/>
                  </a:lnTo>
                  <a:lnTo>
                    <a:pt x="190120" y="1180354"/>
                  </a:lnTo>
                  <a:lnTo>
                    <a:pt x="195208" y="1181710"/>
                  </a:lnTo>
                  <a:lnTo>
                    <a:pt x="206152" y="1188508"/>
                  </a:lnTo>
                  <a:lnTo>
                    <a:pt x="224607" y="1204301"/>
                  </a:lnTo>
                  <a:lnTo>
                    <a:pt x="229112" y="1206604"/>
                  </a:lnTo>
                  <a:lnTo>
                    <a:pt x="243943" y="1210838"/>
                  </a:lnTo>
                  <a:lnTo>
                    <a:pt x="256054" y="1216943"/>
                  </a:lnTo>
                  <a:lnTo>
                    <a:pt x="271770" y="1220185"/>
                  </a:lnTo>
                  <a:lnTo>
                    <a:pt x="288994" y="1225997"/>
                  </a:lnTo>
                  <a:lnTo>
                    <a:pt x="305673" y="1229152"/>
                  </a:lnTo>
                  <a:lnTo>
                    <a:pt x="313787" y="1233406"/>
                  </a:lnTo>
                  <a:lnTo>
                    <a:pt x="325992" y="1235958"/>
                  </a:lnTo>
                  <a:lnTo>
                    <a:pt x="340346" y="1238084"/>
                  </a:lnTo>
                  <a:lnTo>
                    <a:pt x="359583" y="1243867"/>
                  </a:lnTo>
                  <a:lnTo>
                    <a:pt x="377851" y="1246023"/>
                  </a:lnTo>
                  <a:lnTo>
                    <a:pt x="395831" y="1246661"/>
                  </a:lnTo>
                  <a:lnTo>
                    <a:pt x="407766" y="1246810"/>
                  </a:lnTo>
                  <a:lnTo>
                    <a:pt x="419685" y="1244230"/>
                  </a:lnTo>
                  <a:lnTo>
                    <a:pt x="434906" y="1239847"/>
                  </a:lnTo>
                  <a:lnTo>
                    <a:pt x="443322" y="1237828"/>
                  </a:lnTo>
                  <a:lnTo>
                    <a:pt x="462249" y="1231094"/>
                  </a:lnTo>
                  <a:lnTo>
                    <a:pt x="470357" y="1228977"/>
                  </a:lnTo>
                  <a:lnTo>
                    <a:pt x="485087" y="1222208"/>
                  </a:lnTo>
                  <a:lnTo>
                    <a:pt x="502102" y="1211031"/>
                  </a:lnTo>
                  <a:lnTo>
                    <a:pt x="515880" y="1202228"/>
                  </a:lnTo>
                  <a:lnTo>
                    <a:pt x="519536" y="1199269"/>
                  </a:lnTo>
                  <a:lnTo>
                    <a:pt x="523959" y="1197296"/>
                  </a:lnTo>
                  <a:lnTo>
                    <a:pt x="534165" y="1195105"/>
                  </a:lnTo>
                  <a:lnTo>
                    <a:pt x="538672" y="1192536"/>
                  </a:lnTo>
                  <a:lnTo>
                    <a:pt x="549756" y="1181424"/>
                  </a:lnTo>
                  <a:lnTo>
                    <a:pt x="553036" y="1179447"/>
                  </a:lnTo>
                  <a:lnTo>
                    <a:pt x="556214" y="1178129"/>
                  </a:lnTo>
                  <a:lnTo>
                    <a:pt x="565037" y="1168727"/>
                  </a:lnTo>
                  <a:lnTo>
                    <a:pt x="574581" y="1157602"/>
                  </a:lnTo>
                  <a:lnTo>
                    <a:pt x="585531" y="1149355"/>
                  </a:lnTo>
                  <a:lnTo>
                    <a:pt x="604168" y="1124609"/>
                  </a:lnTo>
                  <a:lnTo>
                    <a:pt x="625074" y="1086004"/>
                  </a:lnTo>
                  <a:lnTo>
                    <a:pt x="639961" y="1051260"/>
                  </a:lnTo>
                  <a:lnTo>
                    <a:pt x="645914" y="1041565"/>
                  </a:lnTo>
                  <a:lnTo>
                    <a:pt x="649221" y="1026010"/>
                  </a:lnTo>
                  <a:lnTo>
                    <a:pt x="651683" y="1008844"/>
                  </a:lnTo>
                  <a:lnTo>
                    <a:pt x="657655" y="991619"/>
                  </a:lnTo>
                  <a:lnTo>
                    <a:pt x="662821" y="962783"/>
                  </a:lnTo>
                  <a:lnTo>
                    <a:pt x="666658" y="948993"/>
                  </a:lnTo>
                  <a:lnTo>
                    <a:pt x="669322" y="911913"/>
                  </a:lnTo>
                  <a:lnTo>
                    <a:pt x="669673" y="873920"/>
                  </a:lnTo>
                  <a:lnTo>
                    <a:pt x="669726" y="714352"/>
                  </a:lnTo>
                  <a:lnTo>
                    <a:pt x="667080" y="697358"/>
                  </a:lnTo>
                  <a:lnTo>
                    <a:pt x="663589" y="682199"/>
                  </a:lnTo>
                  <a:lnTo>
                    <a:pt x="658703" y="648214"/>
                  </a:lnTo>
                  <a:lnTo>
                    <a:pt x="648476" y="612838"/>
                  </a:lnTo>
                  <a:lnTo>
                    <a:pt x="642047" y="578179"/>
                  </a:lnTo>
                  <a:lnTo>
                    <a:pt x="630988" y="555554"/>
                  </a:lnTo>
                  <a:lnTo>
                    <a:pt x="623599" y="518650"/>
                  </a:lnTo>
                  <a:lnTo>
                    <a:pt x="608139" y="482183"/>
                  </a:lnTo>
                  <a:lnTo>
                    <a:pt x="593105" y="450028"/>
                  </a:lnTo>
                  <a:lnTo>
                    <a:pt x="577554" y="411995"/>
                  </a:lnTo>
                  <a:lnTo>
                    <a:pt x="559602" y="374927"/>
                  </a:lnTo>
                  <a:lnTo>
                    <a:pt x="556622" y="370914"/>
                  </a:lnTo>
                  <a:lnTo>
                    <a:pt x="553643" y="368240"/>
                  </a:lnTo>
                  <a:lnTo>
                    <a:pt x="550666" y="366457"/>
                  </a:lnTo>
                  <a:lnTo>
                    <a:pt x="544711" y="359184"/>
                  </a:lnTo>
                  <a:lnTo>
                    <a:pt x="537544" y="347827"/>
                  </a:lnTo>
                  <a:lnTo>
                    <a:pt x="534973" y="346895"/>
                  </a:lnTo>
                  <a:lnTo>
                    <a:pt x="517922" y="3450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SMARTInkAnnotation1"/>
            <p:cNvSpPr/>
            <p:nvPr/>
          </p:nvSpPr>
          <p:spPr>
            <a:xfrm>
              <a:off x="8010720" y="4188240"/>
              <a:ext cx="249840" cy="2217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250022" h="221893">
                  <a:moveTo>
                    <a:pt x="8919" y="205383"/>
                  </a:moveTo>
                  <a:lnTo>
                    <a:pt x="8919" y="210124"/>
                  </a:lnTo>
                  <a:lnTo>
                    <a:pt x="7927" y="211520"/>
                  </a:lnTo>
                  <a:lnTo>
                    <a:pt x="6274" y="212451"/>
                  </a:lnTo>
                  <a:lnTo>
                    <a:pt x="4179" y="213072"/>
                  </a:lnTo>
                  <a:lnTo>
                    <a:pt x="2783" y="214477"/>
                  </a:lnTo>
                  <a:lnTo>
                    <a:pt x="1852" y="216407"/>
                  </a:lnTo>
                  <a:lnTo>
                    <a:pt x="357" y="221892"/>
                  </a:lnTo>
                  <a:lnTo>
                    <a:pt x="235" y="221350"/>
                  </a:lnTo>
                  <a:lnTo>
                    <a:pt x="63" y="217831"/>
                  </a:lnTo>
                  <a:lnTo>
                    <a:pt x="21" y="220176"/>
                  </a:lnTo>
                  <a:lnTo>
                    <a:pt x="0" y="212853"/>
                  </a:lnTo>
                  <a:lnTo>
                    <a:pt x="988" y="211355"/>
                  </a:lnTo>
                  <a:lnTo>
                    <a:pt x="2640" y="211349"/>
                  </a:lnTo>
                  <a:lnTo>
                    <a:pt x="4734" y="212337"/>
                  </a:lnTo>
                  <a:lnTo>
                    <a:pt x="7120" y="212003"/>
                  </a:lnTo>
                  <a:lnTo>
                    <a:pt x="12420" y="208987"/>
                  </a:lnTo>
                  <a:lnTo>
                    <a:pt x="18082" y="204339"/>
                  </a:lnTo>
                  <a:lnTo>
                    <a:pt x="24898" y="197974"/>
                  </a:lnTo>
                  <a:lnTo>
                    <a:pt x="34542" y="188530"/>
                  </a:lnTo>
                  <a:lnTo>
                    <a:pt x="39892" y="184226"/>
                  </a:lnTo>
                  <a:lnTo>
                    <a:pt x="45443" y="180364"/>
                  </a:lnTo>
                  <a:lnTo>
                    <a:pt x="51127" y="176797"/>
                  </a:lnTo>
                  <a:lnTo>
                    <a:pt x="55910" y="172436"/>
                  </a:lnTo>
                  <a:lnTo>
                    <a:pt x="60090" y="167543"/>
                  </a:lnTo>
                  <a:lnTo>
                    <a:pt x="63870" y="162297"/>
                  </a:lnTo>
                  <a:lnTo>
                    <a:pt x="68372" y="156815"/>
                  </a:lnTo>
                  <a:lnTo>
                    <a:pt x="73360" y="151177"/>
                  </a:lnTo>
                  <a:lnTo>
                    <a:pt x="78669" y="145433"/>
                  </a:lnTo>
                  <a:lnTo>
                    <a:pt x="84192" y="140612"/>
                  </a:lnTo>
                  <a:lnTo>
                    <a:pt x="89859" y="136406"/>
                  </a:lnTo>
                  <a:lnTo>
                    <a:pt x="95622" y="132609"/>
                  </a:lnTo>
                  <a:lnTo>
                    <a:pt x="101447" y="127101"/>
                  </a:lnTo>
                  <a:lnTo>
                    <a:pt x="107316" y="120454"/>
                  </a:lnTo>
                  <a:lnTo>
                    <a:pt x="113212" y="113045"/>
                  </a:lnTo>
                  <a:lnTo>
                    <a:pt x="119128" y="107113"/>
                  </a:lnTo>
                  <a:lnTo>
                    <a:pt x="125056" y="102167"/>
                  </a:lnTo>
                  <a:lnTo>
                    <a:pt x="130992" y="97877"/>
                  </a:lnTo>
                  <a:lnTo>
                    <a:pt x="136933" y="93033"/>
                  </a:lnTo>
                  <a:lnTo>
                    <a:pt x="142879" y="87819"/>
                  </a:lnTo>
                  <a:lnTo>
                    <a:pt x="148827" y="82358"/>
                  </a:lnTo>
                  <a:lnTo>
                    <a:pt x="154777" y="77726"/>
                  </a:lnTo>
                  <a:lnTo>
                    <a:pt x="160728" y="73645"/>
                  </a:lnTo>
                  <a:lnTo>
                    <a:pt x="166680" y="69933"/>
                  </a:lnTo>
                  <a:lnTo>
                    <a:pt x="172632" y="65474"/>
                  </a:lnTo>
                  <a:lnTo>
                    <a:pt x="178584" y="60517"/>
                  </a:lnTo>
                  <a:lnTo>
                    <a:pt x="184537" y="55227"/>
                  </a:lnTo>
                  <a:lnTo>
                    <a:pt x="190490" y="50709"/>
                  </a:lnTo>
                  <a:lnTo>
                    <a:pt x="196443" y="46705"/>
                  </a:lnTo>
                  <a:lnTo>
                    <a:pt x="202396" y="43042"/>
                  </a:lnTo>
                  <a:lnTo>
                    <a:pt x="207357" y="38617"/>
                  </a:lnTo>
                  <a:lnTo>
                    <a:pt x="211656" y="33682"/>
                  </a:lnTo>
                  <a:lnTo>
                    <a:pt x="215515" y="28408"/>
                  </a:lnTo>
                  <a:lnTo>
                    <a:pt x="220071" y="23900"/>
                  </a:lnTo>
                  <a:lnTo>
                    <a:pt x="225093" y="19902"/>
                  </a:lnTo>
                  <a:lnTo>
                    <a:pt x="230425" y="16245"/>
                  </a:lnTo>
                  <a:lnTo>
                    <a:pt x="234973" y="12814"/>
                  </a:lnTo>
                  <a:lnTo>
                    <a:pt x="242672" y="6357"/>
                  </a:lnTo>
                  <a:lnTo>
                    <a:pt x="25002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SMARTInkAnnotation2"/>
            <p:cNvSpPr/>
            <p:nvPr/>
          </p:nvSpPr>
          <p:spPr>
            <a:xfrm>
              <a:off x="8126640" y="4355280"/>
              <a:ext cx="213480" cy="3207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13812" h="321016">
                  <a:moveTo>
                    <a:pt x="0" y="38653"/>
                  </a:moveTo>
                  <a:lnTo>
                    <a:pt x="4740" y="29172"/>
                  </a:lnTo>
                  <a:lnTo>
                    <a:pt x="7068" y="21872"/>
                  </a:lnTo>
                  <a:lnTo>
                    <a:pt x="7688" y="18535"/>
                  </a:lnTo>
                  <a:lnTo>
                    <a:pt x="11023" y="12183"/>
                  </a:lnTo>
                  <a:lnTo>
                    <a:pt x="15813" y="6053"/>
                  </a:lnTo>
                  <a:lnTo>
                    <a:pt x="21249" y="21"/>
                  </a:lnTo>
                  <a:lnTo>
                    <a:pt x="25079" y="0"/>
                  </a:lnTo>
                  <a:lnTo>
                    <a:pt x="29618" y="1970"/>
                  </a:lnTo>
                  <a:lnTo>
                    <a:pt x="34627" y="5268"/>
                  </a:lnTo>
                  <a:lnTo>
                    <a:pt x="39952" y="7467"/>
                  </a:lnTo>
                  <a:lnTo>
                    <a:pt x="45486" y="8933"/>
                  </a:lnTo>
                  <a:lnTo>
                    <a:pt x="51160" y="9909"/>
                  </a:lnTo>
                  <a:lnTo>
                    <a:pt x="55934" y="12546"/>
                  </a:lnTo>
                  <a:lnTo>
                    <a:pt x="60110" y="16287"/>
                  </a:lnTo>
                  <a:lnTo>
                    <a:pt x="63886" y="20766"/>
                  </a:lnTo>
                  <a:lnTo>
                    <a:pt x="68387" y="23752"/>
                  </a:lnTo>
                  <a:lnTo>
                    <a:pt x="73373" y="25743"/>
                  </a:lnTo>
                  <a:lnTo>
                    <a:pt x="78682" y="27069"/>
                  </a:lnTo>
                  <a:lnTo>
                    <a:pt x="84204" y="29938"/>
                  </a:lnTo>
                  <a:lnTo>
                    <a:pt x="89869" y="33836"/>
                  </a:lnTo>
                  <a:lnTo>
                    <a:pt x="95632" y="38418"/>
                  </a:lnTo>
                  <a:lnTo>
                    <a:pt x="101458" y="42465"/>
                  </a:lnTo>
                  <a:lnTo>
                    <a:pt x="107326" y="46156"/>
                  </a:lnTo>
                  <a:lnTo>
                    <a:pt x="113222" y="49608"/>
                  </a:lnTo>
                  <a:lnTo>
                    <a:pt x="119138" y="53894"/>
                  </a:lnTo>
                  <a:lnTo>
                    <a:pt x="125065" y="58735"/>
                  </a:lnTo>
                  <a:lnTo>
                    <a:pt x="131002" y="63947"/>
                  </a:lnTo>
                  <a:lnTo>
                    <a:pt x="135951" y="69407"/>
                  </a:lnTo>
                  <a:lnTo>
                    <a:pt x="140244" y="75030"/>
                  </a:lnTo>
                  <a:lnTo>
                    <a:pt x="144098" y="80764"/>
                  </a:lnTo>
                  <a:lnTo>
                    <a:pt x="148651" y="86571"/>
                  </a:lnTo>
                  <a:lnTo>
                    <a:pt x="153670" y="92426"/>
                  </a:lnTo>
                  <a:lnTo>
                    <a:pt x="159001" y="98315"/>
                  </a:lnTo>
                  <a:lnTo>
                    <a:pt x="163548" y="104224"/>
                  </a:lnTo>
                  <a:lnTo>
                    <a:pt x="167571" y="110148"/>
                  </a:lnTo>
                  <a:lnTo>
                    <a:pt x="171245" y="116082"/>
                  </a:lnTo>
                  <a:lnTo>
                    <a:pt x="175678" y="122023"/>
                  </a:lnTo>
                  <a:lnTo>
                    <a:pt x="180620" y="127967"/>
                  </a:lnTo>
                  <a:lnTo>
                    <a:pt x="185898" y="133914"/>
                  </a:lnTo>
                  <a:lnTo>
                    <a:pt x="189416" y="140856"/>
                  </a:lnTo>
                  <a:lnTo>
                    <a:pt x="191761" y="148461"/>
                  </a:lnTo>
                  <a:lnTo>
                    <a:pt x="193324" y="156507"/>
                  </a:lnTo>
                  <a:lnTo>
                    <a:pt x="195360" y="163855"/>
                  </a:lnTo>
                  <a:lnTo>
                    <a:pt x="197708" y="170738"/>
                  </a:lnTo>
                  <a:lnTo>
                    <a:pt x="200266" y="177311"/>
                  </a:lnTo>
                  <a:lnTo>
                    <a:pt x="205755" y="192552"/>
                  </a:lnTo>
                  <a:lnTo>
                    <a:pt x="208606" y="200784"/>
                  </a:lnTo>
                  <a:lnTo>
                    <a:pt x="210509" y="207264"/>
                  </a:lnTo>
                  <a:lnTo>
                    <a:pt x="212622" y="217109"/>
                  </a:lnTo>
                  <a:lnTo>
                    <a:pt x="213185" y="223109"/>
                  </a:lnTo>
                  <a:lnTo>
                    <a:pt x="213561" y="230084"/>
                  </a:lnTo>
                  <a:lnTo>
                    <a:pt x="213811" y="237712"/>
                  </a:lnTo>
                  <a:lnTo>
                    <a:pt x="212986" y="244781"/>
                  </a:lnTo>
                  <a:lnTo>
                    <a:pt x="211444" y="251478"/>
                  </a:lnTo>
                  <a:lnTo>
                    <a:pt x="209424" y="257927"/>
                  </a:lnTo>
                  <a:lnTo>
                    <a:pt x="207179" y="267738"/>
                  </a:lnTo>
                  <a:lnTo>
                    <a:pt x="205189" y="276398"/>
                  </a:lnTo>
                  <a:lnTo>
                    <a:pt x="203269" y="281486"/>
                  </a:lnTo>
                  <a:lnTo>
                    <a:pt x="200997" y="286862"/>
                  </a:lnTo>
                  <a:lnTo>
                    <a:pt x="197498" y="290446"/>
                  </a:lnTo>
                  <a:lnTo>
                    <a:pt x="193181" y="292835"/>
                  </a:lnTo>
                  <a:lnTo>
                    <a:pt x="188318" y="294428"/>
                  </a:lnTo>
                  <a:lnTo>
                    <a:pt x="184085" y="297475"/>
                  </a:lnTo>
                  <a:lnTo>
                    <a:pt x="180270" y="301490"/>
                  </a:lnTo>
                  <a:lnTo>
                    <a:pt x="176735" y="306150"/>
                  </a:lnTo>
                  <a:lnTo>
                    <a:pt x="172393" y="309258"/>
                  </a:lnTo>
                  <a:lnTo>
                    <a:pt x="167515" y="311330"/>
                  </a:lnTo>
                  <a:lnTo>
                    <a:pt x="162278" y="312711"/>
                  </a:lnTo>
                  <a:lnTo>
                    <a:pt x="156802" y="314624"/>
                  </a:lnTo>
                  <a:lnTo>
                    <a:pt x="151167" y="316892"/>
                  </a:lnTo>
                  <a:lnTo>
                    <a:pt x="145427" y="319395"/>
                  </a:lnTo>
                  <a:lnTo>
                    <a:pt x="139615" y="320073"/>
                  </a:lnTo>
                  <a:lnTo>
                    <a:pt x="133756" y="319531"/>
                  </a:lnTo>
                  <a:lnTo>
                    <a:pt x="127865" y="318179"/>
                  </a:lnTo>
                  <a:lnTo>
                    <a:pt x="122946" y="318270"/>
                  </a:lnTo>
                  <a:lnTo>
                    <a:pt x="118675" y="319321"/>
                  </a:lnTo>
                  <a:lnTo>
                    <a:pt x="114835" y="321015"/>
                  </a:lnTo>
                  <a:lnTo>
                    <a:pt x="110291" y="320160"/>
                  </a:lnTo>
                  <a:lnTo>
                    <a:pt x="105277" y="317606"/>
                  </a:lnTo>
                  <a:lnTo>
                    <a:pt x="99950" y="313918"/>
                  </a:lnTo>
                  <a:lnTo>
                    <a:pt x="94415" y="309476"/>
                  </a:lnTo>
                  <a:lnTo>
                    <a:pt x="88739" y="304530"/>
                  </a:lnTo>
                  <a:lnTo>
                    <a:pt x="82972" y="299248"/>
                  </a:lnTo>
                  <a:lnTo>
                    <a:pt x="78135" y="295727"/>
                  </a:lnTo>
                  <a:lnTo>
                    <a:pt x="73917" y="293379"/>
                  </a:lnTo>
                  <a:lnTo>
                    <a:pt x="62507" y="2886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SMARTInkAnnotation3"/>
            <p:cNvSpPr/>
            <p:nvPr/>
          </p:nvSpPr>
          <p:spPr>
            <a:xfrm>
              <a:off x="8314200" y="4380120"/>
              <a:ext cx="169560" cy="1915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69665" h="191872">
                  <a:moveTo>
                    <a:pt x="0" y="103000"/>
                  </a:moveTo>
                  <a:lnTo>
                    <a:pt x="18042" y="103000"/>
                  </a:lnTo>
                  <a:lnTo>
                    <a:pt x="21951" y="102008"/>
                  </a:lnTo>
                  <a:lnTo>
                    <a:pt x="25547" y="100355"/>
                  </a:lnTo>
                  <a:lnTo>
                    <a:pt x="28938" y="98259"/>
                  </a:lnTo>
                  <a:lnTo>
                    <a:pt x="32190" y="96863"/>
                  </a:lnTo>
                  <a:lnTo>
                    <a:pt x="35350" y="95932"/>
                  </a:lnTo>
                  <a:lnTo>
                    <a:pt x="38450" y="95312"/>
                  </a:lnTo>
                  <a:lnTo>
                    <a:pt x="41508" y="93906"/>
                  </a:lnTo>
                  <a:lnTo>
                    <a:pt x="44538" y="91976"/>
                  </a:lnTo>
                  <a:lnTo>
                    <a:pt x="47551" y="89698"/>
                  </a:lnTo>
                  <a:lnTo>
                    <a:pt x="49561" y="87187"/>
                  </a:lnTo>
                  <a:lnTo>
                    <a:pt x="50900" y="84520"/>
                  </a:lnTo>
                  <a:lnTo>
                    <a:pt x="51793" y="81750"/>
                  </a:lnTo>
                  <a:lnTo>
                    <a:pt x="55431" y="76027"/>
                  </a:lnTo>
                  <a:lnTo>
                    <a:pt x="57789" y="73112"/>
                  </a:lnTo>
                  <a:lnTo>
                    <a:pt x="59362" y="69184"/>
                  </a:lnTo>
                  <a:lnTo>
                    <a:pt x="60410" y="64581"/>
                  </a:lnTo>
                  <a:lnTo>
                    <a:pt x="61110" y="59528"/>
                  </a:lnTo>
                  <a:lnTo>
                    <a:pt x="61576" y="55167"/>
                  </a:lnTo>
                  <a:lnTo>
                    <a:pt x="61886" y="51268"/>
                  </a:lnTo>
                  <a:lnTo>
                    <a:pt x="62093" y="47676"/>
                  </a:lnTo>
                  <a:lnTo>
                    <a:pt x="62323" y="38393"/>
                  </a:lnTo>
                  <a:lnTo>
                    <a:pt x="62497" y="11127"/>
                  </a:lnTo>
                  <a:lnTo>
                    <a:pt x="61508" y="9009"/>
                  </a:lnTo>
                  <a:lnTo>
                    <a:pt x="59857" y="7597"/>
                  </a:lnTo>
                  <a:lnTo>
                    <a:pt x="57764" y="6656"/>
                  </a:lnTo>
                  <a:lnTo>
                    <a:pt x="52792" y="2964"/>
                  </a:lnTo>
                  <a:lnTo>
                    <a:pt x="50077" y="590"/>
                  </a:lnTo>
                  <a:lnTo>
                    <a:pt x="48268" y="0"/>
                  </a:lnTo>
                  <a:lnTo>
                    <a:pt x="47061" y="599"/>
                  </a:lnTo>
                  <a:lnTo>
                    <a:pt x="46257" y="1990"/>
                  </a:lnTo>
                  <a:lnTo>
                    <a:pt x="44728" y="2918"/>
                  </a:lnTo>
                  <a:lnTo>
                    <a:pt x="40384" y="3949"/>
                  </a:lnTo>
                  <a:lnTo>
                    <a:pt x="35146" y="7053"/>
                  </a:lnTo>
                  <a:lnTo>
                    <a:pt x="32360" y="9269"/>
                  </a:lnTo>
                  <a:lnTo>
                    <a:pt x="30503" y="12732"/>
                  </a:lnTo>
                  <a:lnTo>
                    <a:pt x="29266" y="17024"/>
                  </a:lnTo>
                  <a:lnTo>
                    <a:pt x="28439" y="21871"/>
                  </a:lnTo>
                  <a:lnTo>
                    <a:pt x="26897" y="25101"/>
                  </a:lnTo>
                  <a:lnTo>
                    <a:pt x="24877" y="27254"/>
                  </a:lnTo>
                  <a:lnTo>
                    <a:pt x="22538" y="28690"/>
                  </a:lnTo>
                  <a:lnTo>
                    <a:pt x="20979" y="33616"/>
                  </a:lnTo>
                  <a:lnTo>
                    <a:pt x="19938" y="40870"/>
                  </a:lnTo>
                  <a:lnTo>
                    <a:pt x="18783" y="56535"/>
                  </a:lnTo>
                  <a:lnTo>
                    <a:pt x="18270" y="66805"/>
                  </a:lnTo>
                  <a:lnTo>
                    <a:pt x="17142" y="72916"/>
                  </a:lnTo>
                  <a:lnTo>
                    <a:pt x="15396" y="79968"/>
                  </a:lnTo>
                  <a:lnTo>
                    <a:pt x="13240" y="87645"/>
                  </a:lnTo>
                  <a:lnTo>
                    <a:pt x="12795" y="94748"/>
                  </a:lnTo>
                  <a:lnTo>
                    <a:pt x="13491" y="101467"/>
                  </a:lnTo>
                  <a:lnTo>
                    <a:pt x="14947" y="107931"/>
                  </a:lnTo>
                  <a:lnTo>
                    <a:pt x="15918" y="115218"/>
                  </a:lnTo>
                  <a:lnTo>
                    <a:pt x="16565" y="123051"/>
                  </a:lnTo>
                  <a:lnTo>
                    <a:pt x="16997" y="131250"/>
                  </a:lnTo>
                  <a:lnTo>
                    <a:pt x="18276" y="137709"/>
                  </a:lnTo>
                  <a:lnTo>
                    <a:pt x="20121" y="143006"/>
                  </a:lnTo>
                  <a:lnTo>
                    <a:pt x="30212" y="163378"/>
                  </a:lnTo>
                  <a:lnTo>
                    <a:pt x="33040" y="168057"/>
                  </a:lnTo>
                  <a:lnTo>
                    <a:pt x="35917" y="172168"/>
                  </a:lnTo>
                  <a:lnTo>
                    <a:pt x="38827" y="175901"/>
                  </a:lnTo>
                  <a:lnTo>
                    <a:pt x="41760" y="178390"/>
                  </a:lnTo>
                  <a:lnTo>
                    <a:pt x="44707" y="180049"/>
                  </a:lnTo>
                  <a:lnTo>
                    <a:pt x="47665" y="181155"/>
                  </a:lnTo>
                  <a:lnTo>
                    <a:pt x="51619" y="182885"/>
                  </a:lnTo>
                  <a:lnTo>
                    <a:pt x="61307" y="187452"/>
                  </a:lnTo>
                  <a:lnTo>
                    <a:pt x="65676" y="189067"/>
                  </a:lnTo>
                  <a:lnTo>
                    <a:pt x="69581" y="190144"/>
                  </a:lnTo>
                  <a:lnTo>
                    <a:pt x="73177" y="190861"/>
                  </a:lnTo>
                  <a:lnTo>
                    <a:pt x="77557" y="191340"/>
                  </a:lnTo>
                  <a:lnTo>
                    <a:pt x="82462" y="191659"/>
                  </a:lnTo>
                  <a:lnTo>
                    <a:pt x="87717" y="191871"/>
                  </a:lnTo>
                  <a:lnTo>
                    <a:pt x="92212" y="191021"/>
                  </a:lnTo>
                  <a:lnTo>
                    <a:pt x="96201" y="189462"/>
                  </a:lnTo>
                  <a:lnTo>
                    <a:pt x="99853" y="187430"/>
                  </a:lnTo>
                  <a:lnTo>
                    <a:pt x="104272" y="186076"/>
                  </a:lnTo>
                  <a:lnTo>
                    <a:pt x="109202" y="185173"/>
                  </a:lnTo>
                  <a:lnTo>
                    <a:pt x="114473" y="184571"/>
                  </a:lnTo>
                  <a:lnTo>
                    <a:pt x="118980" y="183178"/>
                  </a:lnTo>
                  <a:lnTo>
                    <a:pt x="122976" y="181257"/>
                  </a:lnTo>
                  <a:lnTo>
                    <a:pt x="126633" y="178983"/>
                  </a:lnTo>
                  <a:lnTo>
                    <a:pt x="130062" y="176476"/>
                  </a:lnTo>
                  <a:lnTo>
                    <a:pt x="133341" y="173812"/>
                  </a:lnTo>
                  <a:lnTo>
                    <a:pt x="136518" y="171044"/>
                  </a:lnTo>
                  <a:lnTo>
                    <a:pt x="139630" y="168207"/>
                  </a:lnTo>
                  <a:lnTo>
                    <a:pt x="145732" y="162407"/>
                  </a:lnTo>
                  <a:lnTo>
                    <a:pt x="148748" y="157488"/>
                  </a:lnTo>
                  <a:lnTo>
                    <a:pt x="151751" y="151231"/>
                  </a:lnTo>
                  <a:lnTo>
                    <a:pt x="154746" y="144084"/>
                  </a:lnTo>
                  <a:lnTo>
                    <a:pt x="157734" y="139319"/>
                  </a:lnTo>
                  <a:lnTo>
                    <a:pt x="160719" y="136143"/>
                  </a:lnTo>
                  <a:lnTo>
                    <a:pt x="169664" y="1297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SMARTInkAnnotation4"/>
            <p:cNvSpPr/>
            <p:nvPr/>
          </p:nvSpPr>
          <p:spPr>
            <a:xfrm>
              <a:off x="8403480" y="4280400"/>
              <a:ext cx="196200" cy="2318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96418" h="232025">
                  <a:moveTo>
                    <a:pt x="0" y="104303"/>
                  </a:moveTo>
                  <a:lnTo>
                    <a:pt x="0" y="95482"/>
                  </a:lnTo>
                  <a:lnTo>
                    <a:pt x="4740" y="104886"/>
                  </a:lnTo>
                  <a:lnTo>
                    <a:pt x="7128" y="108660"/>
                  </a:lnTo>
                  <a:lnTo>
                    <a:pt x="12429" y="115500"/>
                  </a:lnTo>
                  <a:lnTo>
                    <a:pt x="15231" y="120697"/>
                  </a:lnTo>
                  <a:lnTo>
                    <a:pt x="18092" y="127138"/>
                  </a:lnTo>
                  <a:lnTo>
                    <a:pt x="20990" y="134409"/>
                  </a:lnTo>
                  <a:lnTo>
                    <a:pt x="24908" y="141241"/>
                  </a:lnTo>
                  <a:lnTo>
                    <a:pt x="29504" y="147780"/>
                  </a:lnTo>
                  <a:lnTo>
                    <a:pt x="34552" y="154124"/>
                  </a:lnTo>
                  <a:lnTo>
                    <a:pt x="38910" y="161329"/>
                  </a:lnTo>
                  <a:lnTo>
                    <a:pt x="42807" y="169109"/>
                  </a:lnTo>
                  <a:lnTo>
                    <a:pt x="46397" y="177273"/>
                  </a:lnTo>
                  <a:lnTo>
                    <a:pt x="50775" y="183707"/>
                  </a:lnTo>
                  <a:lnTo>
                    <a:pt x="55679" y="188989"/>
                  </a:lnTo>
                  <a:lnTo>
                    <a:pt x="60931" y="193502"/>
                  </a:lnTo>
                  <a:lnTo>
                    <a:pt x="65425" y="197503"/>
                  </a:lnTo>
                  <a:lnTo>
                    <a:pt x="73065" y="204595"/>
                  </a:lnTo>
                  <a:lnTo>
                    <a:pt x="87684" y="218906"/>
                  </a:lnTo>
                  <a:lnTo>
                    <a:pt x="92190" y="221385"/>
                  </a:lnTo>
                  <a:lnTo>
                    <a:pt x="96186" y="222045"/>
                  </a:lnTo>
                  <a:lnTo>
                    <a:pt x="99843" y="221493"/>
                  </a:lnTo>
                  <a:lnTo>
                    <a:pt x="103272" y="223109"/>
                  </a:lnTo>
                  <a:lnTo>
                    <a:pt x="106552" y="226171"/>
                  </a:lnTo>
                  <a:lnTo>
                    <a:pt x="109729" y="230197"/>
                  </a:lnTo>
                  <a:lnTo>
                    <a:pt x="111847" y="231888"/>
                  </a:lnTo>
                  <a:lnTo>
                    <a:pt x="113260" y="232024"/>
                  </a:lnTo>
                  <a:lnTo>
                    <a:pt x="114201" y="231122"/>
                  </a:lnTo>
                  <a:lnTo>
                    <a:pt x="115822" y="230521"/>
                  </a:lnTo>
                  <a:lnTo>
                    <a:pt x="120268" y="229853"/>
                  </a:lnTo>
                  <a:lnTo>
                    <a:pt x="122843" y="228683"/>
                  </a:lnTo>
                  <a:lnTo>
                    <a:pt x="128349" y="224736"/>
                  </a:lnTo>
                  <a:lnTo>
                    <a:pt x="130214" y="222295"/>
                  </a:lnTo>
                  <a:lnTo>
                    <a:pt x="131457" y="219675"/>
                  </a:lnTo>
                  <a:lnTo>
                    <a:pt x="132286" y="216937"/>
                  </a:lnTo>
                  <a:lnTo>
                    <a:pt x="132840" y="213126"/>
                  </a:lnTo>
                  <a:lnTo>
                    <a:pt x="133207" y="208602"/>
                  </a:lnTo>
                  <a:lnTo>
                    <a:pt x="133453" y="203601"/>
                  </a:lnTo>
                  <a:lnTo>
                    <a:pt x="132625" y="198283"/>
                  </a:lnTo>
                  <a:lnTo>
                    <a:pt x="131081" y="192753"/>
                  </a:lnTo>
                  <a:lnTo>
                    <a:pt x="129058" y="187082"/>
                  </a:lnTo>
                  <a:lnTo>
                    <a:pt x="127712" y="182309"/>
                  </a:lnTo>
                  <a:lnTo>
                    <a:pt x="126812" y="178135"/>
                  </a:lnTo>
                  <a:lnTo>
                    <a:pt x="126214" y="174360"/>
                  </a:lnTo>
                  <a:lnTo>
                    <a:pt x="124822" y="167875"/>
                  </a:lnTo>
                  <a:lnTo>
                    <a:pt x="120630" y="150086"/>
                  </a:lnTo>
                  <a:lnTo>
                    <a:pt x="118123" y="142762"/>
                  </a:lnTo>
                  <a:lnTo>
                    <a:pt x="115460" y="136888"/>
                  </a:lnTo>
                  <a:lnTo>
                    <a:pt x="112692" y="131980"/>
                  </a:lnTo>
                  <a:lnTo>
                    <a:pt x="110846" y="126723"/>
                  </a:lnTo>
                  <a:lnTo>
                    <a:pt x="109616" y="121234"/>
                  </a:lnTo>
                  <a:lnTo>
                    <a:pt x="108796" y="115590"/>
                  </a:lnTo>
                  <a:lnTo>
                    <a:pt x="107258" y="110835"/>
                  </a:lnTo>
                  <a:lnTo>
                    <a:pt x="105240" y="106674"/>
                  </a:lnTo>
                  <a:lnTo>
                    <a:pt x="102901" y="102907"/>
                  </a:lnTo>
                  <a:lnTo>
                    <a:pt x="97658" y="96076"/>
                  </a:lnTo>
                  <a:lnTo>
                    <a:pt x="94871" y="92865"/>
                  </a:lnTo>
                  <a:lnTo>
                    <a:pt x="92021" y="90724"/>
                  </a:lnTo>
                  <a:lnTo>
                    <a:pt x="86208" y="88346"/>
                  </a:lnTo>
                  <a:lnTo>
                    <a:pt x="84260" y="86720"/>
                  </a:lnTo>
                  <a:lnTo>
                    <a:pt x="82963" y="84643"/>
                  </a:lnTo>
                  <a:lnTo>
                    <a:pt x="80879" y="78922"/>
                  </a:lnTo>
                  <a:lnTo>
                    <a:pt x="80708" y="79445"/>
                  </a:lnTo>
                  <a:lnTo>
                    <a:pt x="80469" y="82936"/>
                  </a:lnTo>
                  <a:lnTo>
                    <a:pt x="80412" y="80585"/>
                  </a:lnTo>
                  <a:lnTo>
                    <a:pt x="81390" y="81546"/>
                  </a:lnTo>
                  <a:lnTo>
                    <a:pt x="85120" y="87904"/>
                  </a:lnTo>
                  <a:lnTo>
                    <a:pt x="87440" y="94700"/>
                  </a:lnTo>
                  <a:lnTo>
                    <a:pt x="88059" y="97900"/>
                  </a:lnTo>
                  <a:lnTo>
                    <a:pt x="89464" y="102019"/>
                  </a:lnTo>
                  <a:lnTo>
                    <a:pt x="91392" y="106749"/>
                  </a:lnTo>
                  <a:lnTo>
                    <a:pt x="93670" y="111886"/>
                  </a:lnTo>
                  <a:lnTo>
                    <a:pt x="96181" y="116304"/>
                  </a:lnTo>
                  <a:lnTo>
                    <a:pt x="98848" y="120241"/>
                  </a:lnTo>
                  <a:lnTo>
                    <a:pt x="101616" y="123858"/>
                  </a:lnTo>
                  <a:lnTo>
                    <a:pt x="105448" y="128254"/>
                  </a:lnTo>
                  <a:lnTo>
                    <a:pt x="109986" y="133168"/>
                  </a:lnTo>
                  <a:lnTo>
                    <a:pt x="123207" y="146921"/>
                  </a:lnTo>
                  <a:lnTo>
                    <a:pt x="136564" y="160456"/>
                  </a:lnTo>
                  <a:lnTo>
                    <a:pt x="140652" y="163566"/>
                  </a:lnTo>
                  <a:lnTo>
                    <a:pt x="145362" y="166632"/>
                  </a:lnTo>
                  <a:lnTo>
                    <a:pt x="150486" y="169668"/>
                  </a:lnTo>
                  <a:lnTo>
                    <a:pt x="154894" y="171692"/>
                  </a:lnTo>
                  <a:lnTo>
                    <a:pt x="158824" y="173042"/>
                  </a:lnTo>
                  <a:lnTo>
                    <a:pt x="162438" y="173941"/>
                  </a:lnTo>
                  <a:lnTo>
                    <a:pt x="165838" y="174541"/>
                  </a:lnTo>
                  <a:lnTo>
                    <a:pt x="169098" y="174941"/>
                  </a:lnTo>
                  <a:lnTo>
                    <a:pt x="172262" y="175207"/>
                  </a:lnTo>
                  <a:lnTo>
                    <a:pt x="175365" y="174392"/>
                  </a:lnTo>
                  <a:lnTo>
                    <a:pt x="181458" y="170842"/>
                  </a:lnTo>
                  <a:lnTo>
                    <a:pt x="187317" y="166615"/>
                  </a:lnTo>
                  <a:lnTo>
                    <a:pt x="193304" y="160910"/>
                  </a:lnTo>
                  <a:lnTo>
                    <a:pt x="195053" y="159227"/>
                  </a:lnTo>
                  <a:lnTo>
                    <a:pt x="195831" y="153188"/>
                  </a:lnTo>
                  <a:lnTo>
                    <a:pt x="196176" y="144881"/>
                  </a:lnTo>
                  <a:lnTo>
                    <a:pt x="196331" y="137882"/>
                  </a:lnTo>
                  <a:lnTo>
                    <a:pt x="196417" y="123622"/>
                  </a:lnTo>
                  <a:lnTo>
                    <a:pt x="195435" y="117183"/>
                  </a:lnTo>
                  <a:lnTo>
                    <a:pt x="193791" y="109913"/>
                  </a:lnTo>
                  <a:lnTo>
                    <a:pt x="191701" y="102090"/>
                  </a:lnTo>
                  <a:lnTo>
                    <a:pt x="188324" y="95882"/>
                  </a:lnTo>
                  <a:lnTo>
                    <a:pt x="184088" y="90751"/>
                  </a:lnTo>
                  <a:lnTo>
                    <a:pt x="179280" y="86339"/>
                  </a:lnTo>
                  <a:lnTo>
                    <a:pt x="175082" y="79428"/>
                  </a:lnTo>
                  <a:lnTo>
                    <a:pt x="171292" y="70853"/>
                  </a:lnTo>
                  <a:lnTo>
                    <a:pt x="167772" y="61167"/>
                  </a:lnTo>
                  <a:lnTo>
                    <a:pt x="164433" y="54709"/>
                  </a:lnTo>
                  <a:lnTo>
                    <a:pt x="161216" y="50405"/>
                  </a:lnTo>
                  <a:lnTo>
                    <a:pt x="158079" y="47535"/>
                  </a:lnTo>
                  <a:lnTo>
                    <a:pt x="154003" y="42645"/>
                  </a:lnTo>
                  <a:lnTo>
                    <a:pt x="149302" y="36409"/>
                  </a:lnTo>
                  <a:lnTo>
                    <a:pt x="144183" y="29274"/>
                  </a:lnTo>
                  <a:lnTo>
                    <a:pt x="139777" y="24518"/>
                  </a:lnTo>
                  <a:lnTo>
                    <a:pt x="135848" y="21347"/>
                  </a:lnTo>
                  <a:lnTo>
                    <a:pt x="132238" y="19234"/>
                  </a:lnTo>
                  <a:lnTo>
                    <a:pt x="128838" y="15840"/>
                  </a:lnTo>
                  <a:lnTo>
                    <a:pt x="125579" y="11593"/>
                  </a:lnTo>
                  <a:lnTo>
                    <a:pt x="122414" y="6778"/>
                  </a:lnTo>
                  <a:lnTo>
                    <a:pt x="119313" y="3567"/>
                  </a:lnTo>
                  <a:lnTo>
                    <a:pt x="116253" y="1427"/>
                  </a:lnTo>
                  <a:lnTo>
                    <a:pt x="113220" y="0"/>
                  </a:lnTo>
                  <a:lnTo>
                    <a:pt x="109214" y="41"/>
                  </a:lnTo>
                  <a:lnTo>
                    <a:pt x="104559" y="1060"/>
                  </a:lnTo>
                  <a:lnTo>
                    <a:pt x="99472" y="2732"/>
                  </a:lnTo>
                  <a:lnTo>
                    <a:pt x="96080" y="4839"/>
                  </a:lnTo>
                  <a:lnTo>
                    <a:pt x="93818" y="7236"/>
                  </a:lnTo>
                  <a:lnTo>
                    <a:pt x="89297" y="150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SMARTInkAnnotation5"/>
            <p:cNvSpPr/>
            <p:nvPr/>
          </p:nvSpPr>
          <p:spPr>
            <a:xfrm>
              <a:off x="8590680" y="4295520"/>
              <a:ext cx="71280" cy="74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1439" h="74507">
                  <a:moveTo>
                    <a:pt x="0" y="0"/>
                  </a:moveTo>
                  <a:lnTo>
                    <a:pt x="4740" y="4740"/>
                  </a:lnTo>
                  <a:lnTo>
                    <a:pt x="6136" y="7129"/>
                  </a:lnTo>
                  <a:lnTo>
                    <a:pt x="7069" y="9713"/>
                  </a:lnTo>
                  <a:lnTo>
                    <a:pt x="7688" y="12428"/>
                  </a:lnTo>
                  <a:lnTo>
                    <a:pt x="9094" y="15231"/>
                  </a:lnTo>
                  <a:lnTo>
                    <a:pt x="11024" y="18091"/>
                  </a:lnTo>
                  <a:lnTo>
                    <a:pt x="13303" y="20990"/>
                  </a:lnTo>
                  <a:lnTo>
                    <a:pt x="15813" y="24907"/>
                  </a:lnTo>
                  <a:lnTo>
                    <a:pt x="18479" y="29503"/>
                  </a:lnTo>
                  <a:lnTo>
                    <a:pt x="21249" y="34551"/>
                  </a:lnTo>
                  <a:lnTo>
                    <a:pt x="24088" y="38909"/>
                  </a:lnTo>
                  <a:lnTo>
                    <a:pt x="26974" y="42807"/>
                  </a:lnTo>
                  <a:lnTo>
                    <a:pt x="29888" y="46397"/>
                  </a:lnTo>
                  <a:lnTo>
                    <a:pt x="32825" y="50775"/>
                  </a:lnTo>
                  <a:lnTo>
                    <a:pt x="35773" y="55678"/>
                  </a:lnTo>
                  <a:lnTo>
                    <a:pt x="38732" y="60931"/>
                  </a:lnTo>
                  <a:lnTo>
                    <a:pt x="42688" y="65425"/>
                  </a:lnTo>
                  <a:lnTo>
                    <a:pt x="47311" y="69413"/>
                  </a:lnTo>
                  <a:lnTo>
                    <a:pt x="52375" y="73065"/>
                  </a:lnTo>
                  <a:lnTo>
                    <a:pt x="55754" y="74506"/>
                  </a:lnTo>
                  <a:lnTo>
                    <a:pt x="58006" y="74475"/>
                  </a:lnTo>
                  <a:lnTo>
                    <a:pt x="59506" y="73462"/>
                  </a:lnTo>
                  <a:lnTo>
                    <a:pt x="61499" y="72787"/>
                  </a:lnTo>
                  <a:lnTo>
                    <a:pt x="63820" y="72337"/>
                  </a:lnTo>
                  <a:lnTo>
                    <a:pt x="71438" y="714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SMARTInkAnnotation6"/>
            <p:cNvSpPr/>
            <p:nvPr/>
          </p:nvSpPr>
          <p:spPr>
            <a:xfrm>
              <a:off x="8492760" y="4248360"/>
              <a:ext cx="8640" cy="11160"/>
            </a:xfrm>
            <a:custGeom>
              <a:avLst/>
              <a:gdLst>
                <a:gd name="textAreaLeft" fmla="*/ 0 w 8640"/>
                <a:gd name="textAreaRight" fmla="*/ 8640 w 8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931" h="11491">
                  <a:moveTo>
                    <a:pt x="0" y="11490"/>
                  </a:moveTo>
                  <a:lnTo>
                    <a:pt x="0" y="0"/>
                  </a:lnTo>
                  <a:lnTo>
                    <a:pt x="0" y="853"/>
                  </a:lnTo>
                  <a:lnTo>
                    <a:pt x="991" y="2415"/>
                  </a:lnTo>
                  <a:lnTo>
                    <a:pt x="2645" y="4448"/>
                  </a:lnTo>
                  <a:lnTo>
                    <a:pt x="8930" y="114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SMARTInkAnnotation7"/>
            <p:cNvSpPr/>
            <p:nvPr/>
          </p:nvSpPr>
          <p:spPr>
            <a:xfrm>
              <a:off x="8573040" y="4143600"/>
              <a:ext cx="129600" cy="1872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29823" h="187524">
                  <a:moveTo>
                    <a:pt x="17849" y="0"/>
                  </a:moveTo>
                  <a:lnTo>
                    <a:pt x="17849" y="12429"/>
                  </a:lnTo>
                  <a:lnTo>
                    <a:pt x="16857" y="17216"/>
                  </a:lnTo>
                  <a:lnTo>
                    <a:pt x="15203" y="23383"/>
                  </a:lnTo>
                  <a:lnTo>
                    <a:pt x="13109" y="30472"/>
                  </a:lnTo>
                  <a:lnTo>
                    <a:pt x="11713" y="37181"/>
                  </a:lnTo>
                  <a:lnTo>
                    <a:pt x="10781" y="43639"/>
                  </a:lnTo>
                  <a:lnTo>
                    <a:pt x="10161" y="49929"/>
                  </a:lnTo>
                  <a:lnTo>
                    <a:pt x="9748" y="57098"/>
                  </a:lnTo>
                  <a:lnTo>
                    <a:pt x="9287" y="73002"/>
                  </a:lnTo>
                  <a:lnTo>
                    <a:pt x="8172" y="81410"/>
                  </a:lnTo>
                  <a:lnTo>
                    <a:pt x="6438" y="89992"/>
                  </a:lnTo>
                  <a:lnTo>
                    <a:pt x="1264" y="110931"/>
                  </a:lnTo>
                  <a:lnTo>
                    <a:pt x="840" y="114634"/>
                  </a:lnTo>
                  <a:lnTo>
                    <a:pt x="556" y="119087"/>
                  </a:lnTo>
                  <a:lnTo>
                    <a:pt x="367" y="124039"/>
                  </a:lnTo>
                  <a:lnTo>
                    <a:pt x="158" y="126897"/>
                  </a:lnTo>
                  <a:lnTo>
                    <a:pt x="102" y="126269"/>
                  </a:lnTo>
                  <a:lnTo>
                    <a:pt x="23" y="130128"/>
                  </a:lnTo>
                  <a:lnTo>
                    <a:pt x="0" y="123333"/>
                  </a:lnTo>
                  <a:lnTo>
                    <a:pt x="988" y="120918"/>
                  </a:lnTo>
                  <a:lnTo>
                    <a:pt x="2640" y="119307"/>
                  </a:lnTo>
                  <a:lnTo>
                    <a:pt x="4734" y="118233"/>
                  </a:lnTo>
                  <a:lnTo>
                    <a:pt x="7121" y="114541"/>
                  </a:lnTo>
                  <a:lnTo>
                    <a:pt x="9704" y="109103"/>
                  </a:lnTo>
                  <a:lnTo>
                    <a:pt x="12419" y="102501"/>
                  </a:lnTo>
                  <a:lnTo>
                    <a:pt x="15222" y="97107"/>
                  </a:lnTo>
                  <a:lnTo>
                    <a:pt x="18083" y="92520"/>
                  </a:lnTo>
                  <a:lnTo>
                    <a:pt x="20981" y="88469"/>
                  </a:lnTo>
                  <a:lnTo>
                    <a:pt x="23906" y="84776"/>
                  </a:lnTo>
                  <a:lnTo>
                    <a:pt x="26847" y="81322"/>
                  </a:lnTo>
                  <a:lnTo>
                    <a:pt x="29801" y="78027"/>
                  </a:lnTo>
                  <a:lnTo>
                    <a:pt x="35729" y="71720"/>
                  </a:lnTo>
                  <a:lnTo>
                    <a:pt x="50594" y="56592"/>
                  </a:lnTo>
                  <a:lnTo>
                    <a:pt x="56546" y="50618"/>
                  </a:lnTo>
                  <a:lnTo>
                    <a:pt x="59522" y="50612"/>
                  </a:lnTo>
                  <a:lnTo>
                    <a:pt x="62499" y="52593"/>
                  </a:lnTo>
                  <a:lnTo>
                    <a:pt x="65475" y="55898"/>
                  </a:lnTo>
                  <a:lnTo>
                    <a:pt x="69443" y="57109"/>
                  </a:lnTo>
                  <a:lnTo>
                    <a:pt x="74073" y="56924"/>
                  </a:lnTo>
                  <a:lnTo>
                    <a:pt x="79144" y="55809"/>
                  </a:lnTo>
                  <a:lnTo>
                    <a:pt x="83518" y="57050"/>
                  </a:lnTo>
                  <a:lnTo>
                    <a:pt x="87426" y="59861"/>
                  </a:lnTo>
                  <a:lnTo>
                    <a:pt x="94413" y="67285"/>
                  </a:lnTo>
                  <a:lnTo>
                    <a:pt x="100825" y="73891"/>
                  </a:lnTo>
                  <a:lnTo>
                    <a:pt x="102933" y="78034"/>
                  </a:lnTo>
                  <a:lnTo>
                    <a:pt x="104337" y="82781"/>
                  </a:lnTo>
                  <a:lnTo>
                    <a:pt x="105273" y="87930"/>
                  </a:lnTo>
                  <a:lnTo>
                    <a:pt x="106890" y="92354"/>
                  </a:lnTo>
                  <a:lnTo>
                    <a:pt x="108960" y="96296"/>
                  </a:lnTo>
                  <a:lnTo>
                    <a:pt x="111332" y="99916"/>
                  </a:lnTo>
                  <a:lnTo>
                    <a:pt x="113905" y="104314"/>
                  </a:lnTo>
                  <a:lnTo>
                    <a:pt x="116614" y="109231"/>
                  </a:lnTo>
                  <a:lnTo>
                    <a:pt x="119411" y="114492"/>
                  </a:lnTo>
                  <a:lnTo>
                    <a:pt x="121276" y="118992"/>
                  </a:lnTo>
                  <a:lnTo>
                    <a:pt x="122518" y="122984"/>
                  </a:lnTo>
                  <a:lnTo>
                    <a:pt x="123348" y="126638"/>
                  </a:lnTo>
                  <a:lnTo>
                    <a:pt x="124892" y="130066"/>
                  </a:lnTo>
                  <a:lnTo>
                    <a:pt x="126914" y="133343"/>
                  </a:lnTo>
                  <a:lnTo>
                    <a:pt x="129253" y="136520"/>
                  </a:lnTo>
                  <a:lnTo>
                    <a:pt x="129822" y="140623"/>
                  </a:lnTo>
                  <a:lnTo>
                    <a:pt x="129208" y="145342"/>
                  </a:lnTo>
                  <a:lnTo>
                    <a:pt x="127807" y="150473"/>
                  </a:lnTo>
                  <a:lnTo>
                    <a:pt x="126874" y="152902"/>
                  </a:lnTo>
                  <a:lnTo>
                    <a:pt x="126251" y="153528"/>
                  </a:lnTo>
                  <a:lnTo>
                    <a:pt x="125835" y="152953"/>
                  </a:lnTo>
                  <a:lnTo>
                    <a:pt x="125374" y="157607"/>
                  </a:lnTo>
                  <a:lnTo>
                    <a:pt x="125251" y="161626"/>
                  </a:lnTo>
                  <a:lnTo>
                    <a:pt x="124178" y="165298"/>
                  </a:lnTo>
                  <a:lnTo>
                    <a:pt x="122469" y="168737"/>
                  </a:lnTo>
                  <a:lnTo>
                    <a:pt x="120338" y="172022"/>
                  </a:lnTo>
                  <a:lnTo>
                    <a:pt x="118917" y="175205"/>
                  </a:lnTo>
                  <a:lnTo>
                    <a:pt x="117970" y="178319"/>
                  </a:lnTo>
                  <a:lnTo>
                    <a:pt x="116076" y="1875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SMARTInkAnnotation8"/>
            <p:cNvSpPr/>
            <p:nvPr/>
          </p:nvSpPr>
          <p:spPr>
            <a:xfrm>
              <a:off x="8510400" y="4009680"/>
              <a:ext cx="303480" cy="22860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03611" h="228799">
                  <a:moveTo>
                    <a:pt x="0" y="0"/>
                  </a:moveTo>
                  <a:lnTo>
                    <a:pt x="0" y="4740"/>
                  </a:lnTo>
                  <a:lnTo>
                    <a:pt x="992" y="6137"/>
                  </a:lnTo>
                  <a:lnTo>
                    <a:pt x="2646" y="7068"/>
                  </a:lnTo>
                  <a:lnTo>
                    <a:pt x="4740" y="7688"/>
                  </a:lnTo>
                  <a:lnTo>
                    <a:pt x="7128" y="10086"/>
                  </a:lnTo>
                  <a:lnTo>
                    <a:pt x="9714" y="13669"/>
                  </a:lnTo>
                  <a:lnTo>
                    <a:pt x="12429" y="18042"/>
                  </a:lnTo>
                  <a:lnTo>
                    <a:pt x="16223" y="20958"/>
                  </a:lnTo>
                  <a:lnTo>
                    <a:pt x="20737" y="22901"/>
                  </a:lnTo>
                  <a:lnTo>
                    <a:pt x="25731" y="24197"/>
                  </a:lnTo>
                  <a:lnTo>
                    <a:pt x="30053" y="27045"/>
                  </a:lnTo>
                  <a:lnTo>
                    <a:pt x="33925" y="30929"/>
                  </a:lnTo>
                  <a:lnTo>
                    <a:pt x="37499" y="35502"/>
                  </a:lnTo>
                  <a:lnTo>
                    <a:pt x="41867" y="40535"/>
                  </a:lnTo>
                  <a:lnTo>
                    <a:pt x="46762" y="45875"/>
                  </a:lnTo>
                  <a:lnTo>
                    <a:pt x="57494" y="57099"/>
                  </a:lnTo>
                  <a:lnTo>
                    <a:pt x="68879" y="68703"/>
                  </a:lnTo>
                  <a:lnTo>
                    <a:pt x="73700" y="75568"/>
                  </a:lnTo>
                  <a:lnTo>
                    <a:pt x="77907" y="83121"/>
                  </a:lnTo>
                  <a:lnTo>
                    <a:pt x="81703" y="91132"/>
                  </a:lnTo>
                  <a:lnTo>
                    <a:pt x="86219" y="98458"/>
                  </a:lnTo>
                  <a:lnTo>
                    <a:pt x="91213" y="105326"/>
                  </a:lnTo>
                  <a:lnTo>
                    <a:pt x="96528" y="111889"/>
                  </a:lnTo>
                  <a:lnTo>
                    <a:pt x="102054" y="119241"/>
                  </a:lnTo>
                  <a:lnTo>
                    <a:pt x="113488" y="135347"/>
                  </a:lnTo>
                  <a:lnTo>
                    <a:pt x="119315" y="141825"/>
                  </a:lnTo>
                  <a:lnTo>
                    <a:pt x="125184" y="147136"/>
                  </a:lnTo>
                  <a:lnTo>
                    <a:pt x="131081" y="151669"/>
                  </a:lnTo>
                  <a:lnTo>
                    <a:pt x="136997" y="157667"/>
                  </a:lnTo>
                  <a:lnTo>
                    <a:pt x="142925" y="164643"/>
                  </a:lnTo>
                  <a:lnTo>
                    <a:pt x="148862" y="172269"/>
                  </a:lnTo>
                  <a:lnTo>
                    <a:pt x="153811" y="178346"/>
                  </a:lnTo>
                  <a:lnTo>
                    <a:pt x="158104" y="183390"/>
                  </a:lnTo>
                  <a:lnTo>
                    <a:pt x="161957" y="187744"/>
                  </a:lnTo>
                  <a:lnTo>
                    <a:pt x="165518" y="192631"/>
                  </a:lnTo>
                  <a:lnTo>
                    <a:pt x="168885" y="197874"/>
                  </a:lnTo>
                  <a:lnTo>
                    <a:pt x="172121" y="203353"/>
                  </a:lnTo>
                  <a:lnTo>
                    <a:pt x="175270" y="207998"/>
                  </a:lnTo>
                  <a:lnTo>
                    <a:pt x="178363" y="212087"/>
                  </a:lnTo>
                  <a:lnTo>
                    <a:pt x="181416" y="215806"/>
                  </a:lnTo>
                  <a:lnTo>
                    <a:pt x="184445" y="218284"/>
                  </a:lnTo>
                  <a:lnTo>
                    <a:pt x="187455" y="219937"/>
                  </a:lnTo>
                  <a:lnTo>
                    <a:pt x="190454" y="221039"/>
                  </a:lnTo>
                  <a:lnTo>
                    <a:pt x="192454" y="222765"/>
                  </a:lnTo>
                  <a:lnTo>
                    <a:pt x="193787" y="224908"/>
                  </a:lnTo>
                  <a:lnTo>
                    <a:pt x="194676" y="227330"/>
                  </a:lnTo>
                  <a:lnTo>
                    <a:pt x="195268" y="227951"/>
                  </a:lnTo>
                  <a:lnTo>
                    <a:pt x="195663" y="227374"/>
                  </a:lnTo>
                  <a:lnTo>
                    <a:pt x="195926" y="225996"/>
                  </a:lnTo>
                  <a:lnTo>
                    <a:pt x="196102" y="226070"/>
                  </a:lnTo>
                  <a:lnTo>
                    <a:pt x="196298" y="228798"/>
                  </a:lnTo>
                  <a:lnTo>
                    <a:pt x="196408" y="221691"/>
                  </a:lnTo>
                  <a:lnTo>
                    <a:pt x="195430" y="219231"/>
                  </a:lnTo>
                  <a:lnTo>
                    <a:pt x="193787" y="217591"/>
                  </a:lnTo>
                  <a:lnTo>
                    <a:pt x="191699" y="216498"/>
                  </a:lnTo>
                  <a:lnTo>
                    <a:pt x="186734" y="209992"/>
                  </a:lnTo>
                  <a:lnTo>
                    <a:pt x="184021" y="205479"/>
                  </a:lnTo>
                  <a:lnTo>
                    <a:pt x="181219" y="202471"/>
                  </a:lnTo>
                  <a:lnTo>
                    <a:pt x="178361" y="200465"/>
                  </a:lnTo>
                  <a:lnTo>
                    <a:pt x="175462" y="199127"/>
                  </a:lnTo>
                  <a:lnTo>
                    <a:pt x="172537" y="195259"/>
                  </a:lnTo>
                  <a:lnTo>
                    <a:pt x="169595" y="189704"/>
                  </a:lnTo>
                  <a:lnTo>
                    <a:pt x="166642" y="183024"/>
                  </a:lnTo>
                  <a:lnTo>
                    <a:pt x="160714" y="170310"/>
                  </a:lnTo>
                  <a:lnTo>
                    <a:pt x="148824" y="145979"/>
                  </a:lnTo>
                  <a:lnTo>
                    <a:pt x="145849" y="138991"/>
                  </a:lnTo>
                  <a:lnTo>
                    <a:pt x="142872" y="131356"/>
                  </a:lnTo>
                  <a:lnTo>
                    <a:pt x="139897" y="123289"/>
                  </a:lnTo>
                  <a:lnTo>
                    <a:pt x="137913" y="116919"/>
                  </a:lnTo>
                  <a:lnTo>
                    <a:pt x="136590" y="111680"/>
                  </a:lnTo>
                  <a:lnTo>
                    <a:pt x="135709" y="107195"/>
                  </a:lnTo>
                  <a:lnTo>
                    <a:pt x="135121" y="101229"/>
                  </a:lnTo>
                  <a:lnTo>
                    <a:pt x="134729" y="94275"/>
                  </a:lnTo>
                  <a:lnTo>
                    <a:pt x="134178" y="75558"/>
                  </a:lnTo>
                  <a:lnTo>
                    <a:pt x="134100" y="71208"/>
                  </a:lnTo>
                  <a:lnTo>
                    <a:pt x="135042" y="65331"/>
                  </a:lnTo>
                  <a:lnTo>
                    <a:pt x="136660" y="58437"/>
                  </a:lnTo>
                  <a:lnTo>
                    <a:pt x="141648" y="40206"/>
                  </a:lnTo>
                  <a:lnTo>
                    <a:pt x="144976" y="35067"/>
                  </a:lnTo>
                  <a:lnTo>
                    <a:pt x="147252" y="32307"/>
                  </a:lnTo>
                  <a:lnTo>
                    <a:pt x="149762" y="31460"/>
                  </a:lnTo>
                  <a:lnTo>
                    <a:pt x="152427" y="31887"/>
                  </a:lnTo>
                  <a:lnTo>
                    <a:pt x="155195" y="33164"/>
                  </a:lnTo>
                  <a:lnTo>
                    <a:pt x="163565" y="34584"/>
                  </a:lnTo>
                  <a:lnTo>
                    <a:pt x="172906" y="35214"/>
                  </a:lnTo>
                  <a:lnTo>
                    <a:pt x="180365" y="35494"/>
                  </a:lnTo>
                  <a:lnTo>
                    <a:pt x="183743" y="37553"/>
                  </a:lnTo>
                  <a:lnTo>
                    <a:pt x="186987" y="40910"/>
                  </a:lnTo>
                  <a:lnTo>
                    <a:pt x="190143" y="45133"/>
                  </a:lnTo>
                  <a:lnTo>
                    <a:pt x="194231" y="48940"/>
                  </a:lnTo>
                  <a:lnTo>
                    <a:pt x="198941" y="52471"/>
                  </a:lnTo>
                  <a:lnTo>
                    <a:pt x="204064" y="55816"/>
                  </a:lnTo>
                  <a:lnTo>
                    <a:pt x="208473" y="61023"/>
                  </a:lnTo>
                  <a:lnTo>
                    <a:pt x="212404" y="67471"/>
                  </a:lnTo>
                  <a:lnTo>
                    <a:pt x="216016" y="74746"/>
                  </a:lnTo>
                  <a:lnTo>
                    <a:pt x="220409" y="79596"/>
                  </a:lnTo>
                  <a:lnTo>
                    <a:pt x="225322" y="82830"/>
                  </a:lnTo>
                  <a:lnTo>
                    <a:pt x="230582" y="84986"/>
                  </a:lnTo>
                  <a:lnTo>
                    <a:pt x="235080" y="89399"/>
                  </a:lnTo>
                  <a:lnTo>
                    <a:pt x="239072" y="95318"/>
                  </a:lnTo>
                  <a:lnTo>
                    <a:pt x="242724" y="102241"/>
                  </a:lnTo>
                  <a:lnTo>
                    <a:pt x="246153" y="107847"/>
                  </a:lnTo>
                  <a:lnTo>
                    <a:pt x="249429" y="112578"/>
                  </a:lnTo>
                  <a:lnTo>
                    <a:pt x="252606" y="116724"/>
                  </a:lnTo>
                  <a:lnTo>
                    <a:pt x="255717" y="121472"/>
                  </a:lnTo>
                  <a:lnTo>
                    <a:pt x="258783" y="126622"/>
                  </a:lnTo>
                  <a:lnTo>
                    <a:pt x="261818" y="132039"/>
                  </a:lnTo>
                  <a:lnTo>
                    <a:pt x="263843" y="136643"/>
                  </a:lnTo>
                  <a:lnTo>
                    <a:pt x="265193" y="140705"/>
                  </a:lnTo>
                  <a:lnTo>
                    <a:pt x="266091" y="144404"/>
                  </a:lnTo>
                  <a:lnTo>
                    <a:pt x="269736" y="151162"/>
                  </a:lnTo>
                  <a:lnTo>
                    <a:pt x="274664" y="157471"/>
                  </a:lnTo>
                  <a:lnTo>
                    <a:pt x="280161" y="163584"/>
                  </a:lnTo>
                  <a:lnTo>
                    <a:pt x="282024" y="164618"/>
                  </a:lnTo>
                  <a:lnTo>
                    <a:pt x="283266" y="164316"/>
                  </a:lnTo>
                  <a:lnTo>
                    <a:pt x="284094" y="163122"/>
                  </a:lnTo>
                  <a:lnTo>
                    <a:pt x="284646" y="163318"/>
                  </a:lnTo>
                  <a:lnTo>
                    <a:pt x="285014" y="164441"/>
                  </a:lnTo>
                  <a:lnTo>
                    <a:pt x="285259" y="166182"/>
                  </a:lnTo>
                  <a:lnTo>
                    <a:pt x="286414" y="167343"/>
                  </a:lnTo>
                  <a:lnTo>
                    <a:pt x="288177" y="168116"/>
                  </a:lnTo>
                  <a:lnTo>
                    <a:pt x="290344" y="168632"/>
                  </a:lnTo>
                  <a:lnTo>
                    <a:pt x="291789" y="169968"/>
                  </a:lnTo>
                  <a:lnTo>
                    <a:pt x="292754" y="171851"/>
                  </a:lnTo>
                  <a:lnTo>
                    <a:pt x="293396" y="174098"/>
                  </a:lnTo>
                  <a:lnTo>
                    <a:pt x="293823" y="174605"/>
                  </a:lnTo>
                  <a:lnTo>
                    <a:pt x="294109" y="173950"/>
                  </a:lnTo>
                  <a:lnTo>
                    <a:pt x="294299" y="172521"/>
                  </a:lnTo>
                  <a:lnTo>
                    <a:pt x="297156" y="168288"/>
                  </a:lnTo>
                  <a:lnTo>
                    <a:pt x="303610" y="1607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Rise of a New Relig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63 BC, Rome took over Judea, the home of the Jewish relig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dea was controlled by King Herod, a Jewish governor for 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Herod’s death, fighting broke out among his s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me sent troops to create peace in Jud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5" descr="nils_route"/>
          <p:cNvPicPr/>
          <p:nvPr/>
        </p:nvPicPr>
        <p:blipFill>
          <a:blip r:embed="rId1"/>
          <a:stretch/>
        </p:blipFill>
        <p:spPr>
          <a:xfrm>
            <a:off x="5257800" y="259092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179" name="SMARTInkShape-124"/>
          <p:cNvSpPr/>
          <p:nvPr/>
        </p:nvSpPr>
        <p:spPr>
          <a:xfrm>
            <a:off x="2535120" y="2013120"/>
            <a:ext cx="2625840" cy="129960"/>
          </a:xfrm>
          <a:custGeom>
            <a:avLst/>
            <a:gdLst>
              <a:gd name="textAreaLeft" fmla="*/ 0 w 2625840"/>
              <a:gd name="textAreaRight" fmla="*/ 2626200 w 26258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2625329" h="130140">
                <a:moveTo>
                  <a:pt x="0" y="14053"/>
                </a:moveTo>
                <a:lnTo>
                  <a:pt x="0" y="14053"/>
                </a:lnTo>
                <a:lnTo>
                  <a:pt x="38855" y="6985"/>
                </a:lnTo>
                <a:lnTo>
                  <a:pt x="72366" y="5675"/>
                </a:lnTo>
                <a:lnTo>
                  <a:pt x="114506" y="5232"/>
                </a:lnTo>
                <a:lnTo>
                  <a:pt x="143827" y="2526"/>
                </a:lnTo>
                <a:lnTo>
                  <a:pt x="176040" y="0"/>
                </a:lnTo>
                <a:lnTo>
                  <a:pt x="211902" y="3164"/>
                </a:lnTo>
                <a:lnTo>
                  <a:pt x="247223" y="4543"/>
                </a:lnTo>
                <a:lnTo>
                  <a:pt x="283816" y="4951"/>
                </a:lnTo>
                <a:lnTo>
                  <a:pt x="324644" y="5072"/>
                </a:lnTo>
                <a:lnTo>
                  <a:pt x="363309" y="6100"/>
                </a:lnTo>
                <a:lnTo>
                  <a:pt x="405744" y="11255"/>
                </a:lnTo>
                <a:lnTo>
                  <a:pt x="449737" y="13224"/>
                </a:lnTo>
                <a:lnTo>
                  <a:pt x="479349" y="13684"/>
                </a:lnTo>
                <a:lnTo>
                  <a:pt x="511692" y="13889"/>
                </a:lnTo>
                <a:lnTo>
                  <a:pt x="544919" y="13980"/>
                </a:lnTo>
                <a:lnTo>
                  <a:pt x="576223" y="14021"/>
                </a:lnTo>
                <a:lnTo>
                  <a:pt x="609317" y="14039"/>
                </a:lnTo>
                <a:lnTo>
                  <a:pt x="643870" y="15039"/>
                </a:lnTo>
                <a:lnTo>
                  <a:pt x="679071" y="18791"/>
                </a:lnTo>
                <a:lnTo>
                  <a:pt x="714559" y="21119"/>
                </a:lnTo>
                <a:lnTo>
                  <a:pt x="751168" y="22155"/>
                </a:lnTo>
                <a:lnTo>
                  <a:pt x="790590" y="22615"/>
                </a:lnTo>
                <a:lnTo>
                  <a:pt x="828615" y="22819"/>
                </a:lnTo>
                <a:lnTo>
                  <a:pt x="866352" y="22910"/>
                </a:lnTo>
                <a:lnTo>
                  <a:pt x="906274" y="22950"/>
                </a:lnTo>
                <a:lnTo>
                  <a:pt x="947169" y="22968"/>
                </a:lnTo>
                <a:lnTo>
                  <a:pt x="987503" y="23968"/>
                </a:lnTo>
                <a:lnTo>
                  <a:pt x="1025273" y="27720"/>
                </a:lnTo>
                <a:lnTo>
                  <a:pt x="1064549" y="30049"/>
                </a:lnTo>
                <a:lnTo>
                  <a:pt x="1105157" y="31084"/>
                </a:lnTo>
                <a:lnTo>
                  <a:pt x="1146355" y="31544"/>
                </a:lnTo>
                <a:lnTo>
                  <a:pt x="1187817" y="31748"/>
                </a:lnTo>
                <a:lnTo>
                  <a:pt x="1229395" y="31840"/>
                </a:lnTo>
                <a:lnTo>
                  <a:pt x="1271025" y="31880"/>
                </a:lnTo>
                <a:lnTo>
                  <a:pt x="1310033" y="34544"/>
                </a:lnTo>
                <a:lnTo>
                  <a:pt x="1349197" y="38043"/>
                </a:lnTo>
                <a:lnTo>
                  <a:pt x="1393062" y="39598"/>
                </a:lnTo>
                <a:lnTo>
                  <a:pt x="1436371" y="40289"/>
                </a:lnTo>
                <a:lnTo>
                  <a:pt x="1478770" y="41588"/>
                </a:lnTo>
                <a:lnTo>
                  <a:pt x="1520765" y="45473"/>
                </a:lnTo>
                <a:lnTo>
                  <a:pt x="1562580" y="47861"/>
                </a:lnTo>
                <a:lnTo>
                  <a:pt x="1605309" y="48923"/>
                </a:lnTo>
                <a:lnTo>
                  <a:pt x="1627815" y="49206"/>
                </a:lnTo>
                <a:lnTo>
                  <a:pt x="1650757" y="49394"/>
                </a:lnTo>
                <a:lnTo>
                  <a:pt x="1673989" y="50512"/>
                </a:lnTo>
                <a:lnTo>
                  <a:pt x="1697415" y="52250"/>
                </a:lnTo>
                <a:lnTo>
                  <a:pt x="1720969" y="54400"/>
                </a:lnTo>
                <a:lnTo>
                  <a:pt x="1743617" y="55834"/>
                </a:lnTo>
                <a:lnTo>
                  <a:pt x="1787303" y="57427"/>
                </a:lnTo>
                <a:lnTo>
                  <a:pt x="1809668" y="58844"/>
                </a:lnTo>
                <a:lnTo>
                  <a:pt x="1832515" y="60781"/>
                </a:lnTo>
                <a:lnTo>
                  <a:pt x="1855685" y="63064"/>
                </a:lnTo>
                <a:lnTo>
                  <a:pt x="1879068" y="64586"/>
                </a:lnTo>
                <a:lnTo>
                  <a:pt x="1902595" y="65601"/>
                </a:lnTo>
                <a:lnTo>
                  <a:pt x="1926217" y="66278"/>
                </a:lnTo>
                <a:lnTo>
                  <a:pt x="1948910" y="66729"/>
                </a:lnTo>
                <a:lnTo>
                  <a:pt x="1992646" y="67230"/>
                </a:lnTo>
                <a:lnTo>
                  <a:pt x="2015025" y="68356"/>
                </a:lnTo>
                <a:lnTo>
                  <a:pt x="2037881" y="70099"/>
                </a:lnTo>
                <a:lnTo>
                  <a:pt x="2061056" y="72253"/>
                </a:lnTo>
                <a:lnTo>
                  <a:pt x="2105327" y="74646"/>
                </a:lnTo>
                <a:lnTo>
                  <a:pt x="2148154" y="76702"/>
                </a:lnTo>
                <a:lnTo>
                  <a:pt x="2190339" y="80923"/>
                </a:lnTo>
                <a:lnTo>
                  <a:pt x="2232239" y="83460"/>
                </a:lnTo>
                <a:lnTo>
                  <a:pt x="2272029" y="85580"/>
                </a:lnTo>
                <a:lnTo>
                  <a:pt x="2306249" y="89830"/>
                </a:lnTo>
                <a:lnTo>
                  <a:pt x="2340640" y="92380"/>
                </a:lnTo>
                <a:lnTo>
                  <a:pt x="2374777" y="94506"/>
                </a:lnTo>
                <a:lnTo>
                  <a:pt x="2406485" y="98758"/>
                </a:lnTo>
                <a:lnTo>
                  <a:pt x="2437114" y="101309"/>
                </a:lnTo>
                <a:lnTo>
                  <a:pt x="2479603" y="105391"/>
                </a:lnTo>
                <a:lnTo>
                  <a:pt x="2517327" y="112884"/>
                </a:lnTo>
                <a:lnTo>
                  <a:pt x="2560889" y="119565"/>
                </a:lnTo>
                <a:lnTo>
                  <a:pt x="2604568" y="128060"/>
                </a:lnTo>
                <a:lnTo>
                  <a:pt x="2625328" y="13013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0" name="SMARTInkShape-Group174"/>
          <p:cNvGrpSpPr/>
          <p:nvPr/>
        </p:nvGrpSpPr>
        <p:grpSpPr>
          <a:xfrm>
            <a:off x="571680" y="2394000"/>
            <a:ext cx="1427040" cy="731880"/>
            <a:chOff x="571680" y="2394000"/>
            <a:chExt cx="1427040" cy="731880"/>
          </a:xfrm>
        </p:grpSpPr>
        <p:sp>
          <p:nvSpPr>
            <p:cNvPr id="181" name="SMARTInkShape-125"/>
            <p:cNvSpPr/>
            <p:nvPr/>
          </p:nvSpPr>
          <p:spPr>
            <a:xfrm>
              <a:off x="1036080" y="2394000"/>
              <a:ext cx="875520" cy="44640"/>
            </a:xfrm>
            <a:custGeom>
              <a:avLst/>
              <a:gdLst>
                <a:gd name="textAreaLeft" fmla="*/ 0 w 875520"/>
                <a:gd name="textAreaRight" fmla="*/ 875880 w 875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875110" h="44647">
                  <a:moveTo>
                    <a:pt x="0" y="44646"/>
                  </a:moveTo>
                  <a:lnTo>
                    <a:pt x="0" y="44646"/>
                  </a:lnTo>
                  <a:lnTo>
                    <a:pt x="44300" y="44646"/>
                  </a:lnTo>
                  <a:lnTo>
                    <a:pt x="75576" y="43654"/>
                  </a:lnTo>
                  <a:lnTo>
                    <a:pt x="109073" y="36958"/>
                  </a:lnTo>
                  <a:lnTo>
                    <a:pt x="153214" y="35826"/>
                  </a:lnTo>
                  <a:lnTo>
                    <a:pt x="196638" y="28663"/>
                  </a:lnTo>
                  <a:lnTo>
                    <a:pt x="232208" y="27158"/>
                  </a:lnTo>
                  <a:lnTo>
                    <a:pt x="274034" y="20724"/>
                  </a:lnTo>
                  <a:lnTo>
                    <a:pt x="314635" y="18423"/>
                  </a:lnTo>
                  <a:lnTo>
                    <a:pt x="355837" y="17969"/>
                  </a:lnTo>
                  <a:lnTo>
                    <a:pt x="399768" y="11742"/>
                  </a:lnTo>
                  <a:lnTo>
                    <a:pt x="434848" y="9762"/>
                  </a:lnTo>
                  <a:lnTo>
                    <a:pt x="470376" y="8183"/>
                  </a:lnTo>
                  <a:lnTo>
                    <a:pt x="506039" y="2864"/>
                  </a:lnTo>
                  <a:lnTo>
                    <a:pt x="541741" y="847"/>
                  </a:lnTo>
                  <a:lnTo>
                    <a:pt x="577455" y="250"/>
                  </a:lnTo>
                  <a:lnTo>
                    <a:pt x="613172" y="72"/>
                  </a:lnTo>
                  <a:lnTo>
                    <a:pt x="648891" y="20"/>
                  </a:lnTo>
                  <a:lnTo>
                    <a:pt x="684609" y="5"/>
                  </a:lnTo>
                  <a:lnTo>
                    <a:pt x="720328" y="0"/>
                  </a:lnTo>
                  <a:lnTo>
                    <a:pt x="756046" y="991"/>
                  </a:lnTo>
                  <a:lnTo>
                    <a:pt x="791765" y="6135"/>
                  </a:lnTo>
                  <a:lnTo>
                    <a:pt x="827484" y="8101"/>
                  </a:lnTo>
                  <a:lnTo>
                    <a:pt x="875109" y="892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SMARTInkShape-126"/>
            <p:cNvSpPr/>
            <p:nvPr/>
          </p:nvSpPr>
          <p:spPr>
            <a:xfrm>
              <a:off x="571680" y="2394000"/>
              <a:ext cx="1427040" cy="73188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426352" h="732164">
                  <a:moveTo>
                    <a:pt x="1249987" y="482132"/>
                  </a:moveTo>
                  <a:lnTo>
                    <a:pt x="1249987" y="482132"/>
                  </a:lnTo>
                  <a:lnTo>
                    <a:pt x="1220871" y="497578"/>
                  </a:lnTo>
                  <a:lnTo>
                    <a:pt x="1180207" y="506847"/>
                  </a:lnTo>
                  <a:lnTo>
                    <a:pt x="1161182" y="510953"/>
                  </a:lnTo>
                  <a:lnTo>
                    <a:pt x="1123860" y="523079"/>
                  </a:lnTo>
                  <a:lnTo>
                    <a:pt x="1086388" y="528695"/>
                  </a:lnTo>
                  <a:lnTo>
                    <a:pt x="1052685" y="536278"/>
                  </a:lnTo>
                  <a:lnTo>
                    <a:pt x="1017564" y="544808"/>
                  </a:lnTo>
                  <a:lnTo>
                    <a:pt x="982022" y="550974"/>
                  </a:lnTo>
                  <a:lnTo>
                    <a:pt x="943710" y="555447"/>
                  </a:lnTo>
                  <a:lnTo>
                    <a:pt x="903585" y="563056"/>
                  </a:lnTo>
                  <a:lnTo>
                    <a:pt x="866561" y="571594"/>
                  </a:lnTo>
                  <a:lnTo>
                    <a:pt x="827809" y="577762"/>
                  </a:lnTo>
                  <a:lnTo>
                    <a:pt x="787554" y="582235"/>
                  </a:lnTo>
                  <a:lnTo>
                    <a:pt x="747845" y="587199"/>
                  </a:lnTo>
                  <a:lnTo>
                    <a:pt x="707306" y="591315"/>
                  </a:lnTo>
                  <a:lnTo>
                    <a:pt x="667513" y="596173"/>
                  </a:lnTo>
                  <a:lnTo>
                    <a:pt x="624303" y="597612"/>
                  </a:lnTo>
                  <a:lnTo>
                    <a:pt x="580081" y="598038"/>
                  </a:lnTo>
                  <a:lnTo>
                    <a:pt x="535559" y="598165"/>
                  </a:lnTo>
                  <a:lnTo>
                    <a:pt x="493594" y="598202"/>
                  </a:lnTo>
                  <a:lnTo>
                    <a:pt x="453378" y="598214"/>
                  </a:lnTo>
                  <a:lnTo>
                    <a:pt x="410044" y="598217"/>
                  </a:lnTo>
                  <a:lnTo>
                    <a:pt x="365784" y="595572"/>
                  </a:lnTo>
                  <a:lnTo>
                    <a:pt x="323897" y="591150"/>
                  </a:lnTo>
                  <a:lnTo>
                    <a:pt x="283705" y="587195"/>
                  </a:lnTo>
                  <a:lnTo>
                    <a:pt x="243022" y="579739"/>
                  </a:lnTo>
                  <a:lnTo>
                    <a:pt x="198461" y="568330"/>
                  </a:lnTo>
                  <a:lnTo>
                    <a:pt x="154859" y="556522"/>
                  </a:lnTo>
                  <a:lnTo>
                    <a:pt x="126794" y="546617"/>
                  </a:lnTo>
                  <a:lnTo>
                    <a:pt x="88012" y="525044"/>
                  </a:lnTo>
                  <a:lnTo>
                    <a:pt x="54046" y="499371"/>
                  </a:lnTo>
                  <a:lnTo>
                    <a:pt x="16515" y="465972"/>
                  </a:lnTo>
                  <a:lnTo>
                    <a:pt x="4155" y="443184"/>
                  </a:lnTo>
                  <a:lnTo>
                    <a:pt x="211" y="401560"/>
                  </a:lnTo>
                  <a:lnTo>
                    <a:pt x="0" y="388113"/>
                  </a:lnTo>
                  <a:lnTo>
                    <a:pt x="16635" y="347565"/>
                  </a:lnTo>
                  <a:lnTo>
                    <a:pt x="34418" y="303457"/>
                  </a:lnTo>
                  <a:lnTo>
                    <a:pt x="67555" y="263620"/>
                  </a:lnTo>
                  <a:lnTo>
                    <a:pt x="107674" y="222618"/>
                  </a:lnTo>
                  <a:lnTo>
                    <a:pt x="147582" y="187343"/>
                  </a:lnTo>
                  <a:lnTo>
                    <a:pt x="181964" y="165371"/>
                  </a:lnTo>
                  <a:lnTo>
                    <a:pt x="217287" y="141553"/>
                  </a:lnTo>
                  <a:lnTo>
                    <a:pt x="257629" y="120385"/>
                  </a:lnTo>
                  <a:lnTo>
                    <a:pt x="301001" y="101545"/>
                  </a:lnTo>
                  <a:lnTo>
                    <a:pt x="340531" y="83395"/>
                  </a:lnTo>
                  <a:lnTo>
                    <a:pt x="382119" y="65450"/>
                  </a:lnTo>
                  <a:lnTo>
                    <a:pt x="413815" y="56169"/>
                  </a:lnTo>
                  <a:lnTo>
                    <a:pt x="446754" y="47745"/>
                  </a:lnTo>
                  <a:lnTo>
                    <a:pt x="477930" y="37386"/>
                  </a:lnTo>
                  <a:lnTo>
                    <a:pt x="508322" y="28814"/>
                  </a:lnTo>
                  <a:lnTo>
                    <a:pt x="539358" y="21697"/>
                  </a:lnTo>
                  <a:lnTo>
                    <a:pt x="572996" y="15226"/>
                  </a:lnTo>
                  <a:lnTo>
                    <a:pt x="607790" y="9043"/>
                  </a:lnTo>
                  <a:lnTo>
                    <a:pt x="644090" y="3980"/>
                  </a:lnTo>
                  <a:lnTo>
                    <a:pt x="683374" y="1729"/>
                  </a:lnTo>
                  <a:lnTo>
                    <a:pt x="721339" y="729"/>
                  </a:lnTo>
                  <a:lnTo>
                    <a:pt x="759048" y="285"/>
                  </a:lnTo>
                  <a:lnTo>
                    <a:pt x="798959" y="87"/>
                  </a:lnTo>
                  <a:lnTo>
                    <a:pt x="837202" y="0"/>
                  </a:lnTo>
                  <a:lnTo>
                    <a:pt x="874043" y="952"/>
                  </a:lnTo>
                  <a:lnTo>
                    <a:pt x="910260" y="4683"/>
                  </a:lnTo>
                  <a:lnTo>
                    <a:pt x="946200" y="9649"/>
                  </a:lnTo>
                  <a:lnTo>
                    <a:pt x="982018" y="16155"/>
                  </a:lnTo>
                  <a:lnTo>
                    <a:pt x="1017780" y="25662"/>
                  </a:lnTo>
                  <a:lnTo>
                    <a:pt x="1050873" y="33855"/>
                  </a:lnTo>
                  <a:lnTo>
                    <a:pt x="1082117" y="41797"/>
                  </a:lnTo>
                  <a:lnTo>
                    <a:pt x="1126605" y="56432"/>
                  </a:lnTo>
                  <a:lnTo>
                    <a:pt x="1166356" y="69477"/>
                  </a:lnTo>
                  <a:lnTo>
                    <a:pt x="1208120" y="90320"/>
                  </a:lnTo>
                  <a:lnTo>
                    <a:pt x="1246071" y="110496"/>
                  </a:lnTo>
                  <a:lnTo>
                    <a:pt x="1281459" y="133893"/>
                  </a:lnTo>
                  <a:lnTo>
                    <a:pt x="1320586" y="162725"/>
                  </a:lnTo>
                  <a:lnTo>
                    <a:pt x="1356978" y="192049"/>
                  </a:lnTo>
                  <a:lnTo>
                    <a:pt x="1390845" y="224079"/>
                  </a:lnTo>
                  <a:lnTo>
                    <a:pt x="1412648" y="267939"/>
                  </a:lnTo>
                  <a:lnTo>
                    <a:pt x="1425796" y="312484"/>
                  </a:lnTo>
                  <a:lnTo>
                    <a:pt x="1426351" y="330334"/>
                  </a:lnTo>
                  <a:lnTo>
                    <a:pt x="1415989" y="374977"/>
                  </a:lnTo>
                  <a:lnTo>
                    <a:pt x="1399056" y="412557"/>
                  </a:lnTo>
                  <a:lnTo>
                    <a:pt x="1387677" y="428389"/>
                  </a:lnTo>
                  <a:lnTo>
                    <a:pt x="1353473" y="457369"/>
                  </a:lnTo>
                  <a:lnTo>
                    <a:pt x="1313534" y="486721"/>
                  </a:lnTo>
                  <a:lnTo>
                    <a:pt x="1269853" y="517765"/>
                  </a:lnTo>
                  <a:lnTo>
                    <a:pt x="1233824" y="537780"/>
                  </a:lnTo>
                  <a:lnTo>
                    <a:pt x="1192171" y="556277"/>
                  </a:lnTo>
                  <a:lnTo>
                    <a:pt x="1163106" y="568333"/>
                  </a:lnTo>
                  <a:lnTo>
                    <a:pt x="1131006" y="577660"/>
                  </a:lnTo>
                  <a:lnTo>
                    <a:pt x="1097888" y="585112"/>
                  </a:lnTo>
                  <a:lnTo>
                    <a:pt x="1066632" y="591732"/>
                  </a:lnTo>
                  <a:lnTo>
                    <a:pt x="1033559" y="600627"/>
                  </a:lnTo>
                  <a:lnTo>
                    <a:pt x="999015" y="610203"/>
                  </a:lnTo>
                  <a:lnTo>
                    <a:pt x="963819" y="617766"/>
                  </a:lnTo>
                  <a:lnTo>
                    <a:pt x="928333" y="624435"/>
                  </a:lnTo>
                  <a:lnTo>
                    <a:pt x="892717" y="631698"/>
                  </a:lnTo>
                  <a:lnTo>
                    <a:pt x="857044" y="641541"/>
                  </a:lnTo>
                  <a:lnTo>
                    <a:pt x="818700" y="649884"/>
                  </a:lnTo>
                  <a:lnTo>
                    <a:pt x="779499" y="656900"/>
                  </a:lnTo>
                  <a:lnTo>
                    <a:pt x="742233" y="663325"/>
                  </a:lnTo>
                  <a:lnTo>
                    <a:pt x="705826" y="669488"/>
                  </a:lnTo>
                  <a:lnTo>
                    <a:pt x="670794" y="675534"/>
                  </a:lnTo>
                  <a:lnTo>
                    <a:pt x="638688" y="681529"/>
                  </a:lnTo>
                  <a:lnTo>
                    <a:pt x="605236" y="687501"/>
                  </a:lnTo>
                  <a:lnTo>
                    <a:pt x="571517" y="693462"/>
                  </a:lnTo>
                  <a:lnTo>
                    <a:pt x="539994" y="699418"/>
                  </a:lnTo>
                  <a:lnTo>
                    <a:pt x="509448" y="705374"/>
                  </a:lnTo>
                  <a:lnTo>
                    <a:pt x="479335" y="712319"/>
                  </a:lnTo>
                  <a:lnTo>
                    <a:pt x="439452" y="725401"/>
                  </a:lnTo>
                  <a:lnTo>
                    <a:pt x="419526" y="73216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83" name="SMARTInkShape-Group175"/>
          <p:cNvGrpSpPr/>
          <p:nvPr/>
        </p:nvGrpSpPr>
        <p:grpSpPr>
          <a:xfrm>
            <a:off x="776160" y="3822840"/>
            <a:ext cx="2135160" cy="722160"/>
            <a:chOff x="776160" y="3822840"/>
            <a:chExt cx="2135160" cy="722160"/>
          </a:xfrm>
        </p:grpSpPr>
        <p:sp>
          <p:nvSpPr>
            <p:cNvPr id="184" name="SMARTInkShape-127"/>
            <p:cNvSpPr/>
            <p:nvPr/>
          </p:nvSpPr>
          <p:spPr>
            <a:xfrm>
              <a:off x="1017360" y="3867120"/>
              <a:ext cx="1893960" cy="133560"/>
            </a:xfrm>
            <a:custGeom>
              <a:avLst/>
              <a:gdLst>
                <a:gd name="textAreaLeft" fmla="*/ 0 w 1893960"/>
                <a:gd name="textAreaRight" fmla="*/ 1894320 w 18939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893095" h="133947">
                  <a:moveTo>
                    <a:pt x="0" y="0"/>
                  </a:moveTo>
                  <a:lnTo>
                    <a:pt x="0" y="0"/>
                  </a:lnTo>
                  <a:lnTo>
                    <a:pt x="4741" y="0"/>
                  </a:lnTo>
                  <a:lnTo>
                    <a:pt x="9714" y="2646"/>
                  </a:lnTo>
                  <a:lnTo>
                    <a:pt x="15232" y="6138"/>
                  </a:lnTo>
                  <a:lnTo>
                    <a:pt x="24908" y="8103"/>
                  </a:lnTo>
                  <a:lnTo>
                    <a:pt x="62746" y="11528"/>
                  </a:lnTo>
                  <a:lnTo>
                    <a:pt x="81627" y="16609"/>
                  </a:lnTo>
                  <a:lnTo>
                    <a:pt x="120303" y="18779"/>
                  </a:lnTo>
                  <a:lnTo>
                    <a:pt x="163898" y="25956"/>
                  </a:lnTo>
                  <a:lnTo>
                    <a:pt x="205800" y="26680"/>
                  </a:lnTo>
                  <a:lnTo>
                    <a:pt x="250086" y="33843"/>
                  </a:lnTo>
                  <a:lnTo>
                    <a:pt x="290502" y="35348"/>
                  </a:lnTo>
                  <a:lnTo>
                    <a:pt x="329573" y="41783"/>
                  </a:lnTo>
                  <a:lnTo>
                    <a:pt x="368600" y="44083"/>
                  </a:lnTo>
                  <a:lnTo>
                    <a:pt x="409493" y="44537"/>
                  </a:lnTo>
                  <a:lnTo>
                    <a:pt x="453362" y="45619"/>
                  </a:lnTo>
                  <a:lnTo>
                    <a:pt x="488430" y="50779"/>
                  </a:lnTo>
                  <a:lnTo>
                    <a:pt x="523956" y="52749"/>
                  </a:lnTo>
                  <a:lnTo>
                    <a:pt x="559618" y="54325"/>
                  </a:lnTo>
                  <a:lnTo>
                    <a:pt x="596312" y="59643"/>
                  </a:lnTo>
                  <a:lnTo>
                    <a:pt x="637171" y="62651"/>
                  </a:lnTo>
                  <a:lnTo>
                    <a:pt x="675845" y="68394"/>
                  </a:lnTo>
                  <a:lnTo>
                    <a:pt x="717291" y="70536"/>
                  </a:lnTo>
                  <a:lnTo>
                    <a:pt x="756139" y="72163"/>
                  </a:lnTo>
                  <a:lnTo>
                    <a:pt x="797636" y="77496"/>
                  </a:lnTo>
                  <a:lnTo>
                    <a:pt x="836500" y="80509"/>
                  </a:lnTo>
                  <a:lnTo>
                    <a:pt x="878993" y="86252"/>
                  </a:lnTo>
                  <a:lnTo>
                    <a:pt x="922011" y="88395"/>
                  </a:lnTo>
                  <a:lnTo>
                    <a:pt x="961326" y="90022"/>
                  </a:lnTo>
                  <a:lnTo>
                    <a:pt x="1003953" y="95355"/>
                  </a:lnTo>
                  <a:lnTo>
                    <a:pt x="1048002" y="97376"/>
                  </a:lnTo>
                  <a:lnTo>
                    <a:pt x="1092474" y="97975"/>
                  </a:lnTo>
                  <a:lnTo>
                    <a:pt x="1137069" y="98152"/>
                  </a:lnTo>
                  <a:lnTo>
                    <a:pt x="1166823" y="98194"/>
                  </a:lnTo>
                  <a:lnTo>
                    <a:pt x="1199229" y="98212"/>
                  </a:lnTo>
                  <a:lnTo>
                    <a:pt x="1232483" y="98220"/>
                  </a:lnTo>
                  <a:lnTo>
                    <a:pt x="1263799" y="98224"/>
                  </a:lnTo>
                  <a:lnTo>
                    <a:pt x="1294254" y="98226"/>
                  </a:lnTo>
                  <a:lnTo>
                    <a:pt x="1325318" y="98226"/>
                  </a:lnTo>
                  <a:lnTo>
                    <a:pt x="1358968" y="98227"/>
                  </a:lnTo>
                  <a:lnTo>
                    <a:pt x="1391121" y="98227"/>
                  </a:lnTo>
                  <a:lnTo>
                    <a:pt x="1434468" y="98227"/>
                  </a:lnTo>
                  <a:lnTo>
                    <a:pt x="1475093" y="98227"/>
                  </a:lnTo>
                  <a:lnTo>
                    <a:pt x="1518549" y="98227"/>
                  </a:lnTo>
                  <a:lnTo>
                    <a:pt x="1560198" y="98227"/>
                  </a:lnTo>
                  <a:lnTo>
                    <a:pt x="1597674" y="98227"/>
                  </a:lnTo>
                  <a:lnTo>
                    <a:pt x="1633914" y="100873"/>
                  </a:lnTo>
                  <a:lnTo>
                    <a:pt x="1669787" y="105295"/>
                  </a:lnTo>
                  <a:lnTo>
                    <a:pt x="1705552" y="109251"/>
                  </a:lnTo>
                  <a:lnTo>
                    <a:pt x="1748451" y="114736"/>
                  </a:lnTo>
                  <a:lnTo>
                    <a:pt x="1785588" y="121957"/>
                  </a:lnTo>
                  <a:lnTo>
                    <a:pt x="1821588" y="127058"/>
                  </a:lnTo>
                  <a:lnTo>
                    <a:pt x="1865304" y="133039"/>
                  </a:lnTo>
                  <a:lnTo>
                    <a:pt x="1893094" y="13394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SMARTInkShape-128"/>
            <p:cNvSpPr/>
            <p:nvPr/>
          </p:nvSpPr>
          <p:spPr>
            <a:xfrm>
              <a:off x="776160" y="3822840"/>
              <a:ext cx="1580760" cy="722160"/>
            </a:xfrm>
            <a:custGeom>
              <a:avLst/>
              <a:gdLst>
                <a:gd name="textAreaLeft" fmla="*/ 0 w 1580760"/>
                <a:gd name="textAreaRight" fmla="*/ 1581120 w 15807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1579899" h="722859">
                  <a:moveTo>
                    <a:pt x="750062" y="35441"/>
                  </a:moveTo>
                  <a:lnTo>
                    <a:pt x="750062" y="35441"/>
                  </a:lnTo>
                  <a:lnTo>
                    <a:pt x="735805" y="29304"/>
                  </a:lnTo>
                  <a:lnTo>
                    <a:pt x="693701" y="26675"/>
                  </a:lnTo>
                  <a:lnTo>
                    <a:pt x="649730" y="29171"/>
                  </a:lnTo>
                  <a:lnTo>
                    <a:pt x="608895" y="34615"/>
                  </a:lnTo>
                  <a:lnTo>
                    <a:pt x="569789" y="35369"/>
                  </a:lnTo>
                  <a:lnTo>
                    <a:pt x="531340" y="35431"/>
                  </a:lnTo>
                  <a:lnTo>
                    <a:pt x="490521" y="42508"/>
                  </a:lnTo>
                  <a:lnTo>
                    <a:pt x="455268" y="48743"/>
                  </a:lnTo>
                  <a:lnTo>
                    <a:pt x="413504" y="58537"/>
                  </a:lnTo>
                  <a:lnTo>
                    <a:pt x="375563" y="64146"/>
                  </a:lnTo>
                  <a:lnTo>
                    <a:pt x="348389" y="74373"/>
                  </a:lnTo>
                  <a:lnTo>
                    <a:pt x="312540" y="90866"/>
                  </a:lnTo>
                  <a:lnTo>
                    <a:pt x="276795" y="104671"/>
                  </a:lnTo>
                  <a:lnTo>
                    <a:pt x="241072" y="125478"/>
                  </a:lnTo>
                  <a:lnTo>
                    <a:pt x="211636" y="140171"/>
                  </a:lnTo>
                  <a:lnTo>
                    <a:pt x="183070" y="153454"/>
                  </a:lnTo>
                  <a:lnTo>
                    <a:pt x="142261" y="180554"/>
                  </a:lnTo>
                  <a:lnTo>
                    <a:pt x="102859" y="203403"/>
                  </a:lnTo>
                  <a:lnTo>
                    <a:pt x="60591" y="243875"/>
                  </a:lnTo>
                  <a:lnTo>
                    <a:pt x="32884" y="285663"/>
                  </a:lnTo>
                  <a:lnTo>
                    <a:pt x="9083" y="329958"/>
                  </a:lnTo>
                  <a:lnTo>
                    <a:pt x="4019" y="342947"/>
                  </a:lnTo>
                  <a:lnTo>
                    <a:pt x="325" y="385841"/>
                  </a:lnTo>
                  <a:lnTo>
                    <a:pt x="0" y="428457"/>
                  </a:lnTo>
                  <a:lnTo>
                    <a:pt x="964" y="472927"/>
                  </a:lnTo>
                  <a:lnTo>
                    <a:pt x="12398" y="505337"/>
                  </a:lnTo>
                  <a:lnTo>
                    <a:pt x="41836" y="547386"/>
                  </a:lnTo>
                  <a:lnTo>
                    <a:pt x="57463" y="564270"/>
                  </a:lnTo>
                  <a:lnTo>
                    <a:pt x="77876" y="582012"/>
                  </a:lnTo>
                  <a:lnTo>
                    <a:pt x="81672" y="587345"/>
                  </a:lnTo>
                  <a:lnTo>
                    <a:pt x="93828" y="595916"/>
                  </a:lnTo>
                  <a:lnTo>
                    <a:pt x="136176" y="615687"/>
                  </a:lnTo>
                  <a:lnTo>
                    <a:pt x="151787" y="622734"/>
                  </a:lnTo>
                  <a:lnTo>
                    <a:pt x="183269" y="640781"/>
                  </a:lnTo>
                  <a:lnTo>
                    <a:pt x="222377" y="654195"/>
                  </a:lnTo>
                  <a:lnTo>
                    <a:pt x="259757" y="660262"/>
                  </a:lnTo>
                  <a:lnTo>
                    <a:pt x="304330" y="669986"/>
                  </a:lnTo>
                  <a:lnTo>
                    <a:pt x="339520" y="675892"/>
                  </a:lnTo>
                  <a:lnTo>
                    <a:pt x="375082" y="680287"/>
                  </a:lnTo>
                  <a:lnTo>
                    <a:pt x="413399" y="685228"/>
                  </a:lnTo>
                  <a:lnTo>
                    <a:pt x="453527" y="689338"/>
                  </a:lnTo>
                  <a:lnTo>
                    <a:pt x="493197" y="694193"/>
                  </a:lnTo>
                  <a:lnTo>
                    <a:pt x="533725" y="698278"/>
                  </a:lnTo>
                  <a:lnTo>
                    <a:pt x="573515" y="703126"/>
                  </a:lnTo>
                  <a:lnTo>
                    <a:pt x="616723" y="707208"/>
                  </a:lnTo>
                  <a:lnTo>
                    <a:pt x="660946" y="712056"/>
                  </a:lnTo>
                  <a:lnTo>
                    <a:pt x="702822" y="713492"/>
                  </a:lnTo>
                  <a:lnTo>
                    <a:pt x="743010" y="716564"/>
                  </a:lnTo>
                  <a:lnTo>
                    <a:pt x="786338" y="721111"/>
                  </a:lnTo>
                  <a:lnTo>
                    <a:pt x="830594" y="722459"/>
                  </a:lnTo>
                  <a:lnTo>
                    <a:pt x="872481" y="722858"/>
                  </a:lnTo>
                  <a:lnTo>
                    <a:pt x="912673" y="720331"/>
                  </a:lnTo>
                  <a:lnTo>
                    <a:pt x="956001" y="715944"/>
                  </a:lnTo>
                  <a:lnTo>
                    <a:pt x="997613" y="711998"/>
                  </a:lnTo>
                  <a:lnTo>
                    <a:pt x="1037723" y="707192"/>
                  </a:lnTo>
                  <a:lnTo>
                    <a:pt x="1081027" y="703121"/>
                  </a:lnTo>
                  <a:lnTo>
                    <a:pt x="1122631" y="695631"/>
                  </a:lnTo>
                  <a:lnTo>
                    <a:pt x="1160094" y="687128"/>
                  </a:lnTo>
                  <a:lnTo>
                    <a:pt x="1196329" y="678325"/>
                  </a:lnTo>
                  <a:lnTo>
                    <a:pt x="1232201" y="669432"/>
                  </a:lnTo>
                  <a:lnTo>
                    <a:pt x="1267966" y="660514"/>
                  </a:lnTo>
                  <a:lnTo>
                    <a:pt x="1301052" y="648942"/>
                  </a:lnTo>
                  <a:lnTo>
                    <a:pt x="1343639" y="631994"/>
                  </a:lnTo>
                  <a:lnTo>
                    <a:pt x="1383139" y="611963"/>
                  </a:lnTo>
                  <a:lnTo>
                    <a:pt x="1419605" y="588898"/>
                  </a:lnTo>
                  <a:lnTo>
                    <a:pt x="1443878" y="568522"/>
                  </a:lnTo>
                  <a:lnTo>
                    <a:pt x="1482125" y="533347"/>
                  </a:lnTo>
                  <a:lnTo>
                    <a:pt x="1519723" y="495888"/>
                  </a:lnTo>
                  <a:lnTo>
                    <a:pt x="1543033" y="454623"/>
                  </a:lnTo>
                  <a:lnTo>
                    <a:pt x="1562039" y="413066"/>
                  </a:lnTo>
                  <a:lnTo>
                    <a:pt x="1567347" y="398735"/>
                  </a:lnTo>
                  <a:lnTo>
                    <a:pt x="1575775" y="356538"/>
                  </a:lnTo>
                  <a:lnTo>
                    <a:pt x="1579898" y="312212"/>
                  </a:lnTo>
                  <a:lnTo>
                    <a:pt x="1579254" y="295372"/>
                  </a:lnTo>
                  <a:lnTo>
                    <a:pt x="1572799" y="257439"/>
                  </a:lnTo>
                  <a:lnTo>
                    <a:pt x="1562039" y="220939"/>
                  </a:lnTo>
                  <a:lnTo>
                    <a:pt x="1555441" y="205197"/>
                  </a:lnTo>
                  <a:lnTo>
                    <a:pt x="1529362" y="168026"/>
                  </a:lnTo>
                  <a:lnTo>
                    <a:pt x="1494154" y="128117"/>
                  </a:lnTo>
                  <a:lnTo>
                    <a:pt x="1454717" y="98002"/>
                  </a:lnTo>
                  <a:lnTo>
                    <a:pt x="1410755" y="74327"/>
                  </a:lnTo>
                  <a:lnTo>
                    <a:pt x="1372474" y="55396"/>
                  </a:lnTo>
                  <a:lnTo>
                    <a:pt x="1331729" y="37067"/>
                  </a:lnTo>
                  <a:lnTo>
                    <a:pt x="1287889" y="21467"/>
                  </a:lnTo>
                  <a:lnTo>
                    <a:pt x="1252826" y="12890"/>
                  </a:lnTo>
                  <a:lnTo>
                    <a:pt x="1216309" y="8915"/>
                  </a:lnTo>
                  <a:lnTo>
                    <a:pt x="1174511" y="2887"/>
                  </a:lnTo>
                  <a:lnTo>
                    <a:pt x="1131699" y="660"/>
                  </a:lnTo>
                  <a:lnTo>
                    <a:pt x="1092445" y="0"/>
                  </a:lnTo>
                  <a:lnTo>
                    <a:pt x="1050829" y="797"/>
                  </a:lnTo>
                  <a:lnTo>
                    <a:pt x="1011929" y="5883"/>
                  </a:lnTo>
                  <a:lnTo>
                    <a:pt x="970418" y="8824"/>
                  </a:lnTo>
                  <a:lnTo>
                    <a:pt x="932541" y="14545"/>
                  </a:lnTo>
                  <a:lnTo>
                    <a:pt x="896183" y="17674"/>
                  </a:lnTo>
                  <a:lnTo>
                    <a:pt x="860275" y="24444"/>
                  </a:lnTo>
                  <a:lnTo>
                    <a:pt x="824500" y="32734"/>
                  </a:lnTo>
                  <a:lnTo>
                    <a:pt x="789757" y="41474"/>
                  </a:lnTo>
                  <a:lnTo>
                    <a:pt x="750062" y="533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86" name="SMARTInkShape-Group176"/>
          <p:cNvGrpSpPr/>
          <p:nvPr/>
        </p:nvGrpSpPr>
        <p:grpSpPr>
          <a:xfrm>
            <a:off x="528480" y="4938840"/>
            <a:ext cx="1957680" cy="934920"/>
            <a:chOff x="528480" y="4938840"/>
            <a:chExt cx="1957680" cy="934920"/>
          </a:xfrm>
        </p:grpSpPr>
        <p:sp>
          <p:nvSpPr>
            <p:cNvPr id="187" name="SMARTInkShape-129"/>
            <p:cNvSpPr/>
            <p:nvPr/>
          </p:nvSpPr>
          <p:spPr>
            <a:xfrm>
              <a:off x="700200" y="4938840"/>
              <a:ext cx="281520" cy="4996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281842" h="500051">
                  <a:moveTo>
                    <a:pt x="5144" y="89284"/>
                  </a:moveTo>
                  <a:lnTo>
                    <a:pt x="5144" y="89284"/>
                  </a:lnTo>
                  <a:lnTo>
                    <a:pt x="404" y="79802"/>
                  </a:lnTo>
                  <a:lnTo>
                    <a:pt x="0" y="77010"/>
                  </a:lnTo>
                  <a:lnTo>
                    <a:pt x="722" y="75148"/>
                  </a:lnTo>
                  <a:lnTo>
                    <a:pt x="2196" y="73907"/>
                  </a:lnTo>
                  <a:lnTo>
                    <a:pt x="3834" y="69882"/>
                  </a:lnTo>
                  <a:lnTo>
                    <a:pt x="4271" y="67420"/>
                  </a:lnTo>
                  <a:lnTo>
                    <a:pt x="5554" y="65778"/>
                  </a:lnTo>
                  <a:lnTo>
                    <a:pt x="23202" y="55620"/>
                  </a:lnTo>
                  <a:lnTo>
                    <a:pt x="65202" y="45912"/>
                  </a:lnTo>
                  <a:lnTo>
                    <a:pt x="100441" y="32319"/>
                  </a:lnTo>
                  <a:lnTo>
                    <a:pt x="119071" y="21734"/>
                  </a:lnTo>
                  <a:lnTo>
                    <a:pt x="153100" y="13618"/>
                  </a:lnTo>
                  <a:lnTo>
                    <a:pt x="172468" y="3708"/>
                  </a:lnTo>
                  <a:lnTo>
                    <a:pt x="211991" y="205"/>
                  </a:lnTo>
                  <a:lnTo>
                    <a:pt x="244596" y="0"/>
                  </a:lnTo>
                  <a:lnTo>
                    <a:pt x="253119" y="2638"/>
                  </a:lnTo>
                  <a:lnTo>
                    <a:pt x="260215" y="6126"/>
                  </a:lnTo>
                  <a:lnTo>
                    <a:pt x="266676" y="7676"/>
                  </a:lnTo>
                  <a:lnTo>
                    <a:pt x="268795" y="9082"/>
                  </a:lnTo>
                  <a:lnTo>
                    <a:pt x="270208" y="11011"/>
                  </a:lnTo>
                  <a:lnTo>
                    <a:pt x="272771" y="15801"/>
                  </a:lnTo>
                  <a:lnTo>
                    <a:pt x="278799" y="24074"/>
                  </a:lnTo>
                  <a:lnTo>
                    <a:pt x="281027" y="32811"/>
                  </a:lnTo>
                  <a:lnTo>
                    <a:pt x="281841" y="52363"/>
                  </a:lnTo>
                  <a:lnTo>
                    <a:pt x="272863" y="93357"/>
                  </a:lnTo>
                  <a:lnTo>
                    <a:pt x="257875" y="137083"/>
                  </a:lnTo>
                  <a:lnTo>
                    <a:pt x="238492" y="178995"/>
                  </a:lnTo>
                  <a:lnTo>
                    <a:pt x="210290" y="216216"/>
                  </a:lnTo>
                  <a:lnTo>
                    <a:pt x="181722" y="259200"/>
                  </a:lnTo>
                  <a:lnTo>
                    <a:pt x="161365" y="294717"/>
                  </a:lnTo>
                  <a:lnTo>
                    <a:pt x="128757" y="339323"/>
                  </a:lnTo>
                  <a:lnTo>
                    <a:pt x="105183" y="383964"/>
                  </a:lnTo>
                  <a:lnTo>
                    <a:pt x="86142" y="425966"/>
                  </a:lnTo>
                  <a:lnTo>
                    <a:pt x="70712" y="465159"/>
                  </a:lnTo>
                  <a:lnTo>
                    <a:pt x="58722" y="500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SMARTInkShape-130"/>
            <p:cNvSpPr/>
            <p:nvPr/>
          </p:nvSpPr>
          <p:spPr>
            <a:xfrm>
              <a:off x="528480" y="5162040"/>
              <a:ext cx="1061280" cy="517320"/>
            </a:xfrm>
            <a:custGeom>
              <a:avLst/>
              <a:gdLst>
                <a:gd name="textAreaLeft" fmla="*/ 0 w 1061280"/>
                <a:gd name="textAreaRight" fmla="*/ 1061640 w 10612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061237" h="517807">
                  <a:moveTo>
                    <a:pt x="1061236" y="437442"/>
                  </a:moveTo>
                  <a:lnTo>
                    <a:pt x="1061236" y="437442"/>
                  </a:lnTo>
                  <a:lnTo>
                    <a:pt x="1051756" y="437442"/>
                  </a:lnTo>
                  <a:lnTo>
                    <a:pt x="1044455" y="440087"/>
                  </a:lnTo>
                  <a:lnTo>
                    <a:pt x="1022499" y="451681"/>
                  </a:lnTo>
                  <a:lnTo>
                    <a:pt x="1011504" y="455220"/>
                  </a:lnTo>
                  <a:lnTo>
                    <a:pt x="991859" y="469445"/>
                  </a:lnTo>
                  <a:lnTo>
                    <a:pt x="973816" y="475072"/>
                  </a:lnTo>
                  <a:lnTo>
                    <a:pt x="966820" y="478971"/>
                  </a:lnTo>
                  <a:lnTo>
                    <a:pt x="924980" y="496248"/>
                  </a:lnTo>
                  <a:lnTo>
                    <a:pt x="885239" y="507494"/>
                  </a:lnTo>
                  <a:lnTo>
                    <a:pt x="842179" y="516446"/>
                  </a:lnTo>
                  <a:lnTo>
                    <a:pt x="801651" y="517629"/>
                  </a:lnTo>
                  <a:lnTo>
                    <a:pt x="757545" y="517786"/>
                  </a:lnTo>
                  <a:lnTo>
                    <a:pt x="712968" y="517806"/>
                  </a:lnTo>
                  <a:lnTo>
                    <a:pt x="668329" y="510740"/>
                  </a:lnTo>
                  <a:lnTo>
                    <a:pt x="627871" y="504506"/>
                  </a:lnTo>
                  <a:lnTo>
                    <a:pt x="584007" y="497903"/>
                  </a:lnTo>
                  <a:lnTo>
                    <a:pt x="544297" y="492380"/>
                  </a:lnTo>
                  <a:lnTo>
                    <a:pt x="506798" y="484159"/>
                  </a:lnTo>
                  <a:lnTo>
                    <a:pt x="464848" y="472981"/>
                  </a:lnTo>
                  <a:lnTo>
                    <a:pt x="427604" y="461219"/>
                  </a:lnTo>
                  <a:lnTo>
                    <a:pt x="385447" y="449341"/>
                  </a:lnTo>
                  <a:lnTo>
                    <a:pt x="347428" y="437441"/>
                  </a:lnTo>
                  <a:lnTo>
                    <a:pt x="311254" y="420795"/>
                  </a:lnTo>
                  <a:lnTo>
                    <a:pt x="275446" y="404536"/>
                  </a:lnTo>
                  <a:lnTo>
                    <a:pt x="239709" y="385889"/>
                  </a:lnTo>
                  <a:lnTo>
                    <a:pt x="203987" y="367617"/>
                  </a:lnTo>
                  <a:lnTo>
                    <a:pt x="161984" y="348749"/>
                  </a:lnTo>
                  <a:lnTo>
                    <a:pt x="142262" y="336749"/>
                  </a:lnTo>
                  <a:lnTo>
                    <a:pt x="99853" y="309828"/>
                  </a:lnTo>
                  <a:lnTo>
                    <a:pt x="59251" y="274628"/>
                  </a:lnTo>
                  <a:lnTo>
                    <a:pt x="34943" y="247874"/>
                  </a:lnTo>
                  <a:lnTo>
                    <a:pt x="10195" y="207311"/>
                  </a:lnTo>
                  <a:lnTo>
                    <a:pt x="7724" y="200224"/>
                  </a:lnTo>
                  <a:lnTo>
                    <a:pt x="1747" y="189663"/>
                  </a:lnTo>
                  <a:lnTo>
                    <a:pt x="0" y="179813"/>
                  </a:lnTo>
                  <a:lnTo>
                    <a:pt x="7202" y="135525"/>
                  </a:lnTo>
                  <a:lnTo>
                    <a:pt x="10032" y="126978"/>
                  </a:lnTo>
                  <a:lnTo>
                    <a:pt x="34387" y="87144"/>
                  </a:lnTo>
                  <a:lnTo>
                    <a:pt x="46241" y="69708"/>
                  </a:lnTo>
                  <a:lnTo>
                    <a:pt x="86320" y="41595"/>
                  </a:lnTo>
                  <a:lnTo>
                    <a:pt x="130850" y="14771"/>
                  </a:lnTo>
                  <a:lnTo>
                    <a:pt x="152645" y="9993"/>
                  </a:lnTo>
                  <a:lnTo>
                    <a:pt x="165182" y="8173"/>
                  </a:lnTo>
                  <a:lnTo>
                    <a:pt x="186693" y="1817"/>
                  </a:lnTo>
                  <a:lnTo>
                    <a:pt x="227832" y="0"/>
                  </a:lnTo>
                  <a:lnTo>
                    <a:pt x="245481" y="902"/>
                  </a:lnTo>
                  <a:lnTo>
                    <a:pt x="272816" y="7579"/>
                  </a:lnTo>
                  <a:lnTo>
                    <a:pt x="317067" y="8810"/>
                  </a:lnTo>
                  <a:lnTo>
                    <a:pt x="329002" y="881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SMARTInkShape-131"/>
            <p:cNvSpPr/>
            <p:nvPr/>
          </p:nvSpPr>
          <p:spPr>
            <a:xfrm>
              <a:off x="1303920" y="5197680"/>
              <a:ext cx="1182240" cy="676080"/>
            </a:xfrm>
            <a:custGeom>
              <a:avLst/>
              <a:gdLst>
                <a:gd name="textAreaLeft" fmla="*/ 0 w 1182240"/>
                <a:gd name="textAreaRight" fmla="*/ 1182600 w 11822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182451" h="676696">
                  <a:moveTo>
                    <a:pt x="500063" y="71393"/>
                  </a:moveTo>
                  <a:lnTo>
                    <a:pt x="500063" y="71393"/>
                  </a:lnTo>
                  <a:lnTo>
                    <a:pt x="470922" y="78460"/>
                  </a:lnTo>
                  <a:lnTo>
                    <a:pt x="429203" y="82805"/>
                  </a:lnTo>
                  <a:lnTo>
                    <a:pt x="408291" y="87342"/>
                  </a:lnTo>
                  <a:lnTo>
                    <a:pt x="366684" y="91730"/>
                  </a:lnTo>
                  <a:lnTo>
                    <a:pt x="348426" y="96270"/>
                  </a:lnTo>
                  <a:lnTo>
                    <a:pt x="330448" y="100261"/>
                  </a:lnTo>
                  <a:lnTo>
                    <a:pt x="287616" y="116224"/>
                  </a:lnTo>
                  <a:lnTo>
                    <a:pt x="243128" y="136562"/>
                  </a:lnTo>
                  <a:lnTo>
                    <a:pt x="199549" y="163299"/>
                  </a:lnTo>
                  <a:lnTo>
                    <a:pt x="155800" y="193574"/>
                  </a:lnTo>
                  <a:lnTo>
                    <a:pt x="114797" y="230513"/>
                  </a:lnTo>
                  <a:lnTo>
                    <a:pt x="84270" y="270902"/>
                  </a:lnTo>
                  <a:lnTo>
                    <a:pt x="62562" y="315145"/>
                  </a:lnTo>
                  <a:lnTo>
                    <a:pt x="55353" y="343996"/>
                  </a:lnTo>
                  <a:lnTo>
                    <a:pt x="53734" y="385586"/>
                  </a:lnTo>
                  <a:lnTo>
                    <a:pt x="53592" y="425226"/>
                  </a:lnTo>
                  <a:lnTo>
                    <a:pt x="66008" y="466029"/>
                  </a:lnTo>
                  <a:lnTo>
                    <a:pt x="78486" y="493231"/>
                  </a:lnTo>
                  <a:lnTo>
                    <a:pt x="109257" y="535687"/>
                  </a:lnTo>
                  <a:lnTo>
                    <a:pt x="148951" y="577405"/>
                  </a:lnTo>
                  <a:lnTo>
                    <a:pt x="192246" y="605438"/>
                  </a:lnTo>
                  <a:lnTo>
                    <a:pt x="232794" y="627058"/>
                  </a:lnTo>
                  <a:lnTo>
                    <a:pt x="276902" y="647936"/>
                  </a:lnTo>
                  <a:lnTo>
                    <a:pt x="312555" y="657926"/>
                  </a:lnTo>
                  <a:lnTo>
                    <a:pt x="353002" y="664934"/>
                  </a:lnTo>
                  <a:lnTo>
                    <a:pt x="393072" y="668743"/>
                  </a:lnTo>
                  <a:lnTo>
                    <a:pt x="426580" y="670396"/>
                  </a:lnTo>
                  <a:lnTo>
                    <a:pt x="470812" y="676695"/>
                  </a:lnTo>
                  <a:lnTo>
                    <a:pt x="504625" y="675398"/>
                  </a:lnTo>
                  <a:lnTo>
                    <a:pt x="543417" y="671375"/>
                  </a:lnTo>
                  <a:lnTo>
                    <a:pt x="587340" y="665276"/>
                  </a:lnTo>
                  <a:lnTo>
                    <a:pt x="625031" y="657351"/>
                  </a:lnTo>
                  <a:lnTo>
                    <a:pt x="662878" y="648720"/>
                  </a:lnTo>
                  <a:lnTo>
                    <a:pt x="699227" y="635138"/>
                  </a:lnTo>
                  <a:lnTo>
                    <a:pt x="739873" y="623286"/>
                  </a:lnTo>
                  <a:lnTo>
                    <a:pt x="778595" y="608751"/>
                  </a:lnTo>
                  <a:lnTo>
                    <a:pt x="815204" y="591876"/>
                  </a:lnTo>
                  <a:lnTo>
                    <a:pt x="851186" y="574309"/>
                  </a:lnTo>
                  <a:lnTo>
                    <a:pt x="886983" y="556535"/>
                  </a:lnTo>
                  <a:lnTo>
                    <a:pt x="922725" y="538702"/>
                  </a:lnTo>
                  <a:lnTo>
                    <a:pt x="958450" y="516109"/>
                  </a:lnTo>
                  <a:lnTo>
                    <a:pt x="994171" y="495305"/>
                  </a:lnTo>
                  <a:lnTo>
                    <a:pt x="1034668" y="470497"/>
                  </a:lnTo>
                  <a:lnTo>
                    <a:pt x="1075597" y="440519"/>
                  </a:lnTo>
                  <a:lnTo>
                    <a:pt x="1114097" y="403656"/>
                  </a:lnTo>
                  <a:lnTo>
                    <a:pt x="1151744" y="363589"/>
                  </a:lnTo>
                  <a:lnTo>
                    <a:pt x="1161769" y="348101"/>
                  </a:lnTo>
                  <a:lnTo>
                    <a:pt x="1179034" y="303732"/>
                  </a:lnTo>
                  <a:lnTo>
                    <a:pt x="1181906" y="297723"/>
                  </a:lnTo>
                  <a:lnTo>
                    <a:pt x="1182450" y="283108"/>
                  </a:lnTo>
                  <a:lnTo>
                    <a:pt x="1176401" y="241613"/>
                  </a:lnTo>
                  <a:lnTo>
                    <a:pt x="1162539" y="205227"/>
                  </a:lnTo>
                  <a:lnTo>
                    <a:pt x="1130719" y="165902"/>
                  </a:lnTo>
                  <a:lnTo>
                    <a:pt x="1104562" y="135812"/>
                  </a:lnTo>
                  <a:lnTo>
                    <a:pt x="1062275" y="104386"/>
                  </a:lnTo>
                  <a:lnTo>
                    <a:pt x="1024198" y="80372"/>
                  </a:lnTo>
                  <a:lnTo>
                    <a:pt x="990391" y="62478"/>
                  </a:lnTo>
                  <a:lnTo>
                    <a:pt x="955238" y="47254"/>
                  </a:lnTo>
                  <a:lnTo>
                    <a:pt x="919687" y="36459"/>
                  </a:lnTo>
                  <a:lnTo>
                    <a:pt x="881372" y="26977"/>
                  </a:lnTo>
                  <a:lnTo>
                    <a:pt x="838601" y="17883"/>
                  </a:lnTo>
                  <a:lnTo>
                    <a:pt x="794508" y="8905"/>
                  </a:lnTo>
                  <a:lnTo>
                    <a:pt x="750025" y="2607"/>
                  </a:lnTo>
                  <a:lnTo>
                    <a:pt x="705425" y="740"/>
                  </a:lnTo>
                  <a:lnTo>
                    <a:pt x="660791" y="188"/>
                  </a:lnTo>
                  <a:lnTo>
                    <a:pt x="630037" y="59"/>
                  </a:lnTo>
                  <a:lnTo>
                    <a:pt x="596524" y="0"/>
                  </a:lnTo>
                  <a:lnTo>
                    <a:pt x="564432" y="2621"/>
                  </a:lnTo>
                  <a:lnTo>
                    <a:pt x="533632" y="7093"/>
                  </a:lnTo>
                  <a:lnTo>
                    <a:pt x="503407" y="12388"/>
                  </a:lnTo>
                  <a:lnTo>
                    <a:pt x="473437" y="18049"/>
                  </a:lnTo>
                  <a:lnTo>
                    <a:pt x="443581" y="23871"/>
                  </a:lnTo>
                  <a:lnTo>
                    <a:pt x="413775" y="29767"/>
                  </a:lnTo>
                  <a:lnTo>
                    <a:pt x="381346" y="38340"/>
                  </a:lnTo>
                  <a:lnTo>
                    <a:pt x="348081" y="48765"/>
                  </a:lnTo>
                  <a:lnTo>
                    <a:pt x="316760" y="60012"/>
                  </a:lnTo>
                  <a:lnTo>
                    <a:pt x="286303" y="71627"/>
                  </a:lnTo>
                  <a:lnTo>
                    <a:pt x="243911" y="91967"/>
                  </a:lnTo>
                  <a:lnTo>
                    <a:pt x="206216" y="116845"/>
                  </a:lnTo>
                  <a:lnTo>
                    <a:pt x="169911" y="145714"/>
                  </a:lnTo>
                  <a:lnTo>
                    <a:pt x="134019" y="176757"/>
                  </a:lnTo>
                  <a:lnTo>
                    <a:pt x="91076" y="213914"/>
                  </a:lnTo>
                  <a:lnTo>
                    <a:pt x="61059" y="256053"/>
                  </a:lnTo>
                  <a:lnTo>
                    <a:pt x="36021" y="294069"/>
                  </a:lnTo>
                  <a:lnTo>
                    <a:pt x="7978" y="336232"/>
                  </a:lnTo>
                  <a:lnTo>
                    <a:pt x="0" y="34821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0" name="SMARTInkShape-132"/>
          <p:cNvSpPr/>
          <p:nvPr/>
        </p:nvSpPr>
        <p:spPr>
          <a:xfrm>
            <a:off x="990720" y="6143760"/>
            <a:ext cx="4421160" cy="11592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420197" h="116087">
                <a:moveTo>
                  <a:pt x="0" y="0"/>
                </a:moveTo>
                <a:lnTo>
                  <a:pt x="0" y="0"/>
                </a:lnTo>
                <a:lnTo>
                  <a:pt x="4741" y="4740"/>
                </a:lnTo>
                <a:lnTo>
                  <a:pt x="9714" y="7067"/>
                </a:lnTo>
                <a:lnTo>
                  <a:pt x="38709" y="8897"/>
                </a:lnTo>
                <a:lnTo>
                  <a:pt x="40689" y="9900"/>
                </a:lnTo>
                <a:lnTo>
                  <a:pt x="42009" y="11561"/>
                </a:lnTo>
                <a:lnTo>
                  <a:pt x="42889" y="13660"/>
                </a:lnTo>
                <a:lnTo>
                  <a:pt x="44468" y="15060"/>
                </a:lnTo>
                <a:lnTo>
                  <a:pt x="48868" y="16614"/>
                </a:lnTo>
                <a:lnTo>
                  <a:pt x="85515" y="18830"/>
                </a:lnTo>
                <a:lnTo>
                  <a:pt x="96004" y="23989"/>
                </a:lnTo>
                <a:lnTo>
                  <a:pt x="140044" y="26679"/>
                </a:lnTo>
                <a:lnTo>
                  <a:pt x="181579" y="26782"/>
                </a:lnTo>
                <a:lnTo>
                  <a:pt x="223243" y="26789"/>
                </a:lnTo>
                <a:lnTo>
                  <a:pt x="264914" y="26789"/>
                </a:lnTo>
                <a:lnTo>
                  <a:pt x="308322" y="26789"/>
                </a:lnTo>
                <a:lnTo>
                  <a:pt x="348878" y="26789"/>
                </a:lnTo>
                <a:lnTo>
                  <a:pt x="375231" y="29434"/>
                </a:lnTo>
                <a:lnTo>
                  <a:pt x="419719" y="34891"/>
                </a:lnTo>
                <a:lnTo>
                  <a:pt x="464347" y="35609"/>
                </a:lnTo>
                <a:lnTo>
                  <a:pt x="508993" y="42771"/>
                </a:lnTo>
                <a:lnTo>
                  <a:pt x="553641" y="44401"/>
                </a:lnTo>
                <a:lnTo>
                  <a:pt x="592006" y="44599"/>
                </a:lnTo>
                <a:lnTo>
                  <a:pt x="632767" y="44639"/>
                </a:lnTo>
                <a:lnTo>
                  <a:pt x="675618" y="44647"/>
                </a:lnTo>
                <a:lnTo>
                  <a:pt x="716421" y="44648"/>
                </a:lnTo>
                <a:lnTo>
                  <a:pt x="757664" y="44648"/>
                </a:lnTo>
                <a:lnTo>
                  <a:pt x="801603" y="44648"/>
                </a:lnTo>
                <a:lnTo>
                  <a:pt x="836683" y="44648"/>
                </a:lnTo>
                <a:lnTo>
                  <a:pt x="871221" y="44648"/>
                </a:lnTo>
                <a:lnTo>
                  <a:pt x="912706" y="44648"/>
                </a:lnTo>
                <a:lnTo>
                  <a:pt x="947104" y="44648"/>
                </a:lnTo>
                <a:lnTo>
                  <a:pt x="982430" y="47294"/>
                </a:lnTo>
                <a:lnTo>
                  <a:pt x="1018033" y="51716"/>
                </a:lnTo>
                <a:lnTo>
                  <a:pt x="1053718" y="53026"/>
                </a:lnTo>
                <a:lnTo>
                  <a:pt x="1092072" y="53414"/>
                </a:lnTo>
                <a:lnTo>
                  <a:pt x="1132210" y="53530"/>
                </a:lnTo>
                <a:lnTo>
                  <a:pt x="1169238" y="53563"/>
                </a:lnTo>
                <a:lnTo>
                  <a:pt x="1207990" y="53573"/>
                </a:lnTo>
                <a:lnTo>
                  <a:pt x="1248246" y="53577"/>
                </a:lnTo>
                <a:lnTo>
                  <a:pt x="1285309" y="53578"/>
                </a:lnTo>
                <a:lnTo>
                  <a:pt x="1324072" y="53578"/>
                </a:lnTo>
                <a:lnTo>
                  <a:pt x="1366977" y="53578"/>
                </a:lnTo>
                <a:lnTo>
                  <a:pt x="1408463" y="53578"/>
                </a:lnTo>
                <a:lnTo>
                  <a:pt x="1445890" y="53578"/>
                </a:lnTo>
                <a:lnTo>
                  <a:pt x="1484761" y="53578"/>
                </a:lnTo>
                <a:lnTo>
                  <a:pt x="1525052" y="53578"/>
                </a:lnTo>
                <a:lnTo>
                  <a:pt x="1564771" y="53578"/>
                </a:lnTo>
                <a:lnTo>
                  <a:pt x="1607959" y="53578"/>
                </a:lnTo>
                <a:lnTo>
                  <a:pt x="1652175" y="56223"/>
                </a:lnTo>
                <a:lnTo>
                  <a:pt x="1691403" y="58000"/>
                </a:lnTo>
                <a:lnTo>
                  <a:pt x="1727170" y="54888"/>
                </a:lnTo>
                <a:lnTo>
                  <a:pt x="1755850" y="54160"/>
                </a:lnTo>
                <a:lnTo>
                  <a:pt x="1788440" y="53837"/>
                </a:lnTo>
                <a:lnTo>
                  <a:pt x="1820123" y="53693"/>
                </a:lnTo>
                <a:lnTo>
                  <a:pt x="1850740" y="53629"/>
                </a:lnTo>
                <a:lnTo>
                  <a:pt x="1880885" y="53600"/>
                </a:lnTo>
                <a:lnTo>
                  <a:pt x="1910819" y="53588"/>
                </a:lnTo>
                <a:lnTo>
                  <a:pt x="1952916" y="53580"/>
                </a:lnTo>
                <a:lnTo>
                  <a:pt x="1993171" y="53579"/>
                </a:lnTo>
                <a:lnTo>
                  <a:pt x="2036517" y="53578"/>
                </a:lnTo>
                <a:lnTo>
                  <a:pt x="2080780" y="56223"/>
                </a:lnTo>
                <a:lnTo>
                  <a:pt x="2125314" y="60646"/>
                </a:lnTo>
                <a:lnTo>
                  <a:pt x="2169929" y="61956"/>
                </a:lnTo>
                <a:lnTo>
                  <a:pt x="2214567" y="64990"/>
                </a:lnTo>
                <a:lnTo>
                  <a:pt x="2256566" y="69527"/>
                </a:lnTo>
                <a:lnTo>
                  <a:pt x="2296792" y="70870"/>
                </a:lnTo>
                <a:lnTo>
                  <a:pt x="2340130" y="71270"/>
                </a:lnTo>
                <a:lnTo>
                  <a:pt x="2384390" y="71388"/>
                </a:lnTo>
                <a:lnTo>
                  <a:pt x="2428924" y="71422"/>
                </a:lnTo>
                <a:lnTo>
                  <a:pt x="2470892" y="71433"/>
                </a:lnTo>
                <a:lnTo>
                  <a:pt x="2511108" y="71436"/>
                </a:lnTo>
                <a:lnTo>
                  <a:pt x="2554444" y="71437"/>
                </a:lnTo>
                <a:lnTo>
                  <a:pt x="2598703" y="71437"/>
                </a:lnTo>
                <a:lnTo>
                  <a:pt x="2640591" y="71437"/>
                </a:lnTo>
                <a:lnTo>
                  <a:pt x="2680783" y="71437"/>
                </a:lnTo>
                <a:lnTo>
                  <a:pt x="2724111" y="71437"/>
                </a:lnTo>
                <a:lnTo>
                  <a:pt x="2765722" y="71437"/>
                </a:lnTo>
                <a:lnTo>
                  <a:pt x="2805833" y="71437"/>
                </a:lnTo>
                <a:lnTo>
                  <a:pt x="2846491" y="71437"/>
                </a:lnTo>
                <a:lnTo>
                  <a:pt x="2886319" y="71437"/>
                </a:lnTo>
                <a:lnTo>
                  <a:pt x="2929539" y="74083"/>
                </a:lnTo>
                <a:lnTo>
                  <a:pt x="2971118" y="78505"/>
                </a:lnTo>
                <a:lnTo>
                  <a:pt x="3008573" y="79815"/>
                </a:lnTo>
                <a:lnTo>
                  <a:pt x="3047452" y="82850"/>
                </a:lnTo>
                <a:lnTo>
                  <a:pt x="3087746" y="87387"/>
                </a:lnTo>
                <a:lnTo>
                  <a:pt x="3127466" y="88730"/>
                </a:lnTo>
                <a:lnTo>
                  <a:pt x="3168008" y="91775"/>
                </a:lnTo>
                <a:lnTo>
                  <a:pt x="3205156" y="96315"/>
                </a:lnTo>
                <a:lnTo>
                  <a:pt x="3243945" y="97660"/>
                </a:lnTo>
                <a:lnTo>
                  <a:pt x="3281565" y="98059"/>
                </a:lnTo>
                <a:lnTo>
                  <a:pt x="3316854" y="98177"/>
                </a:lnTo>
                <a:lnTo>
                  <a:pt x="3356084" y="98211"/>
                </a:lnTo>
                <a:lnTo>
                  <a:pt x="3392843" y="100868"/>
                </a:lnTo>
                <a:lnTo>
                  <a:pt x="3428870" y="105292"/>
                </a:lnTo>
                <a:lnTo>
                  <a:pt x="3471859" y="106788"/>
                </a:lnTo>
                <a:lnTo>
                  <a:pt x="3516143" y="107083"/>
                </a:lnTo>
                <a:lnTo>
                  <a:pt x="3551283" y="107134"/>
                </a:lnTo>
                <a:lnTo>
                  <a:pt x="3586830" y="108142"/>
                </a:lnTo>
                <a:lnTo>
                  <a:pt x="3622498" y="113291"/>
                </a:lnTo>
                <a:lnTo>
                  <a:pt x="3657210" y="115258"/>
                </a:lnTo>
                <a:lnTo>
                  <a:pt x="3698754" y="115922"/>
                </a:lnTo>
                <a:lnTo>
                  <a:pt x="3740144" y="116053"/>
                </a:lnTo>
                <a:lnTo>
                  <a:pt x="3784111" y="116079"/>
                </a:lnTo>
                <a:lnTo>
                  <a:pt x="3828368" y="116085"/>
                </a:lnTo>
                <a:lnTo>
                  <a:pt x="3870807" y="116086"/>
                </a:lnTo>
                <a:lnTo>
                  <a:pt x="3910279" y="116086"/>
                </a:lnTo>
                <a:lnTo>
                  <a:pt x="3946739" y="116086"/>
                </a:lnTo>
                <a:lnTo>
                  <a:pt x="3982605" y="116086"/>
                </a:lnTo>
                <a:lnTo>
                  <a:pt x="4018352" y="115094"/>
                </a:lnTo>
                <a:lnTo>
                  <a:pt x="4054077" y="109018"/>
                </a:lnTo>
                <a:lnTo>
                  <a:pt x="4089797" y="107524"/>
                </a:lnTo>
                <a:lnTo>
                  <a:pt x="4134446" y="107204"/>
                </a:lnTo>
                <a:lnTo>
                  <a:pt x="4158589" y="104524"/>
                </a:lnTo>
                <a:lnTo>
                  <a:pt x="4189265" y="99471"/>
                </a:lnTo>
                <a:lnTo>
                  <a:pt x="4229282" y="98335"/>
                </a:lnTo>
                <a:lnTo>
                  <a:pt x="4270118" y="98236"/>
                </a:lnTo>
                <a:lnTo>
                  <a:pt x="4314737" y="98226"/>
                </a:lnTo>
                <a:lnTo>
                  <a:pt x="4354594" y="98226"/>
                </a:lnTo>
                <a:lnTo>
                  <a:pt x="4398286" y="98226"/>
                </a:lnTo>
                <a:lnTo>
                  <a:pt x="4420196" y="9822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SMARTInkShape-133"/>
          <p:cNvSpPr/>
          <p:nvPr/>
        </p:nvSpPr>
        <p:spPr>
          <a:xfrm>
            <a:off x="750960" y="6589800"/>
            <a:ext cx="2901960" cy="63360"/>
          </a:xfrm>
          <a:custGeom>
            <a:avLst/>
            <a:gdLst>
              <a:gd name="textAreaLeft" fmla="*/ 0 w 2901960"/>
              <a:gd name="textAreaRight" fmla="*/ 2902320 w 29019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902149" h="62508">
                <a:moveTo>
                  <a:pt x="0" y="0"/>
                </a:moveTo>
                <a:lnTo>
                  <a:pt x="0" y="0"/>
                </a:lnTo>
                <a:lnTo>
                  <a:pt x="0" y="12428"/>
                </a:lnTo>
                <a:lnTo>
                  <a:pt x="992" y="14239"/>
                </a:lnTo>
                <a:lnTo>
                  <a:pt x="2646" y="15445"/>
                </a:lnTo>
                <a:lnTo>
                  <a:pt x="7129" y="17778"/>
                </a:lnTo>
                <a:lnTo>
                  <a:pt x="16250" y="25407"/>
                </a:lnTo>
                <a:lnTo>
                  <a:pt x="24670" y="27509"/>
                </a:lnTo>
                <a:lnTo>
                  <a:pt x="32996" y="32846"/>
                </a:lnTo>
                <a:lnTo>
                  <a:pt x="44698" y="35151"/>
                </a:lnTo>
                <a:lnTo>
                  <a:pt x="51616" y="36459"/>
                </a:lnTo>
                <a:lnTo>
                  <a:pt x="73175" y="43374"/>
                </a:lnTo>
                <a:lnTo>
                  <a:pt x="92212" y="45389"/>
                </a:lnTo>
                <a:lnTo>
                  <a:pt x="109202" y="51667"/>
                </a:lnTo>
                <a:lnTo>
                  <a:pt x="148948" y="53466"/>
                </a:lnTo>
                <a:lnTo>
                  <a:pt x="190507" y="45469"/>
                </a:lnTo>
                <a:lnTo>
                  <a:pt x="232172" y="44697"/>
                </a:lnTo>
                <a:lnTo>
                  <a:pt x="269066" y="44655"/>
                </a:lnTo>
                <a:lnTo>
                  <a:pt x="312694" y="44649"/>
                </a:lnTo>
                <a:lnTo>
                  <a:pt x="352786" y="44648"/>
                </a:lnTo>
                <a:lnTo>
                  <a:pt x="392037" y="44648"/>
                </a:lnTo>
                <a:lnTo>
                  <a:pt x="433018" y="44648"/>
                </a:lnTo>
                <a:lnTo>
                  <a:pt x="472377" y="39909"/>
                </a:lnTo>
                <a:lnTo>
                  <a:pt x="514952" y="36546"/>
                </a:lnTo>
                <a:lnTo>
                  <a:pt x="555699" y="33236"/>
                </a:lnTo>
                <a:lnTo>
                  <a:pt x="596932" y="28063"/>
                </a:lnTo>
                <a:lnTo>
                  <a:pt x="640868" y="20904"/>
                </a:lnTo>
                <a:lnTo>
                  <a:pt x="675948" y="18761"/>
                </a:lnTo>
                <a:lnTo>
                  <a:pt x="711478" y="17135"/>
                </a:lnTo>
                <a:lnTo>
                  <a:pt x="747140" y="11801"/>
                </a:lnTo>
                <a:lnTo>
                  <a:pt x="782843" y="9780"/>
                </a:lnTo>
                <a:lnTo>
                  <a:pt x="818556" y="8190"/>
                </a:lnTo>
                <a:lnTo>
                  <a:pt x="854274" y="2868"/>
                </a:lnTo>
                <a:lnTo>
                  <a:pt x="890984" y="851"/>
                </a:lnTo>
                <a:lnTo>
                  <a:pt x="932840" y="252"/>
                </a:lnTo>
                <a:lnTo>
                  <a:pt x="975668" y="75"/>
                </a:lnTo>
                <a:lnTo>
                  <a:pt x="1013935" y="22"/>
                </a:lnTo>
                <a:lnTo>
                  <a:pt x="1051400" y="7"/>
                </a:lnTo>
                <a:lnTo>
                  <a:pt x="1093480" y="1"/>
                </a:lnTo>
                <a:lnTo>
                  <a:pt x="1136375" y="0"/>
                </a:lnTo>
                <a:lnTo>
                  <a:pt x="1175653" y="0"/>
                </a:lnTo>
                <a:lnTo>
                  <a:pt x="1218269" y="0"/>
                </a:lnTo>
                <a:lnTo>
                  <a:pt x="1262316" y="0"/>
                </a:lnTo>
                <a:lnTo>
                  <a:pt x="1305794" y="0"/>
                </a:lnTo>
                <a:lnTo>
                  <a:pt x="1345245" y="0"/>
                </a:lnTo>
                <a:lnTo>
                  <a:pt x="1388904" y="0"/>
                </a:lnTo>
                <a:lnTo>
                  <a:pt x="1421955" y="0"/>
                </a:lnTo>
                <a:lnTo>
                  <a:pt x="1453841" y="0"/>
                </a:lnTo>
                <a:lnTo>
                  <a:pt x="1497038" y="0"/>
                </a:lnTo>
                <a:lnTo>
                  <a:pt x="1537618" y="0"/>
                </a:lnTo>
                <a:lnTo>
                  <a:pt x="1581062" y="0"/>
                </a:lnTo>
                <a:lnTo>
                  <a:pt x="1625353" y="0"/>
                </a:lnTo>
                <a:lnTo>
                  <a:pt x="1656027" y="0"/>
                </a:lnTo>
                <a:lnTo>
                  <a:pt x="1689504" y="0"/>
                </a:lnTo>
                <a:lnTo>
                  <a:pt x="1721581" y="0"/>
                </a:lnTo>
                <a:lnTo>
                  <a:pt x="1764884" y="2646"/>
                </a:lnTo>
                <a:lnTo>
                  <a:pt x="1808142" y="4422"/>
                </a:lnTo>
                <a:lnTo>
                  <a:pt x="1840455" y="2958"/>
                </a:lnTo>
                <a:lnTo>
                  <a:pt x="1871352" y="5614"/>
                </a:lnTo>
                <a:lnTo>
                  <a:pt x="1911897" y="3206"/>
                </a:lnTo>
                <a:lnTo>
                  <a:pt x="1942130" y="1425"/>
                </a:lnTo>
                <a:lnTo>
                  <a:pt x="1974419" y="634"/>
                </a:lnTo>
                <a:lnTo>
                  <a:pt x="2005305" y="282"/>
                </a:lnTo>
                <a:lnTo>
                  <a:pt x="2035569" y="125"/>
                </a:lnTo>
                <a:lnTo>
                  <a:pt x="2065557" y="55"/>
                </a:lnTo>
                <a:lnTo>
                  <a:pt x="2095421" y="24"/>
                </a:lnTo>
                <a:lnTo>
                  <a:pt x="2125230" y="10"/>
                </a:lnTo>
                <a:lnTo>
                  <a:pt x="2156008" y="5"/>
                </a:lnTo>
                <a:lnTo>
                  <a:pt x="2189530" y="3"/>
                </a:lnTo>
                <a:lnTo>
                  <a:pt x="2221627" y="1"/>
                </a:lnTo>
                <a:lnTo>
                  <a:pt x="2252429" y="993"/>
                </a:lnTo>
                <a:lnTo>
                  <a:pt x="2282655" y="4740"/>
                </a:lnTo>
                <a:lnTo>
                  <a:pt x="2312625" y="7067"/>
                </a:lnTo>
                <a:lnTo>
                  <a:pt x="2342482" y="8101"/>
                </a:lnTo>
                <a:lnTo>
                  <a:pt x="2372288" y="8562"/>
                </a:lnTo>
                <a:lnTo>
                  <a:pt x="2402071" y="11413"/>
                </a:lnTo>
                <a:lnTo>
                  <a:pt x="2432837" y="14994"/>
                </a:lnTo>
                <a:lnTo>
                  <a:pt x="2466354" y="16585"/>
                </a:lnTo>
                <a:lnTo>
                  <a:pt x="2509212" y="22222"/>
                </a:lnTo>
                <a:lnTo>
                  <a:pt x="2551787" y="25436"/>
                </a:lnTo>
                <a:lnTo>
                  <a:pt x="2595821" y="31129"/>
                </a:lnTo>
                <a:lnTo>
                  <a:pt x="2640287" y="34358"/>
                </a:lnTo>
                <a:lnTo>
                  <a:pt x="2684882" y="40055"/>
                </a:lnTo>
                <a:lnTo>
                  <a:pt x="2729514" y="48028"/>
                </a:lnTo>
                <a:lnTo>
                  <a:pt x="2761922" y="51111"/>
                </a:lnTo>
                <a:lnTo>
                  <a:pt x="2795177" y="53474"/>
                </a:lnTo>
                <a:lnTo>
                  <a:pt x="2826494" y="57831"/>
                </a:lnTo>
                <a:lnTo>
                  <a:pt x="2856948" y="60430"/>
                </a:lnTo>
                <a:lnTo>
                  <a:pt x="2902148" y="625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Birth of Christian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daism was tolerated by the Romans a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notheistic Religion: Only one supreme go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sus of Nazareth was born under the rule of Octavian (Caesar Augustu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ew up preaching the idea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rue g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read a message of peace, love, forgive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Jews initially believed that Jesus wa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ssia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vi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from the Roma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sus was calle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ris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“savior” in Greek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2" descr="C:\Users\glennlauren\AppData\Local\Microsoft\Windows\Temporary Internet Files\Content.IE5\6SLW3F44\MC900276838[1].wmf"/>
          <p:cNvPicPr/>
          <p:nvPr/>
        </p:nvPicPr>
        <p:blipFill>
          <a:blip r:embed="rId1"/>
          <a:stretch/>
        </p:blipFill>
        <p:spPr>
          <a:xfrm>
            <a:off x="7812000" y="1219320"/>
            <a:ext cx="1224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195" name="SMARTInkShape-Group179"/>
          <p:cNvGrpSpPr/>
          <p:nvPr/>
        </p:nvGrpSpPr>
        <p:grpSpPr>
          <a:xfrm>
            <a:off x="1197000" y="1133640"/>
            <a:ext cx="2838600" cy="661680"/>
            <a:chOff x="1197000" y="1133640"/>
            <a:chExt cx="2838600" cy="661680"/>
          </a:xfrm>
        </p:grpSpPr>
        <p:sp>
          <p:nvSpPr>
            <p:cNvPr id="196" name="SMARTInkShape-134"/>
            <p:cNvSpPr/>
            <p:nvPr/>
          </p:nvSpPr>
          <p:spPr>
            <a:xfrm>
              <a:off x="2313000" y="1182240"/>
              <a:ext cx="1722600" cy="613080"/>
            </a:xfrm>
            <a:custGeom>
              <a:avLst/>
              <a:gdLst>
                <a:gd name="textAreaLeft" fmla="*/ 0 w 1722600"/>
                <a:gd name="textAreaRight" fmla="*/ 1722960 w 1722600"/>
                <a:gd name="textAreaTop" fmla="*/ 0 h 613080"/>
                <a:gd name="textAreaBottom" fmla="*/ 613440 h 613080"/>
              </a:gdLst>
              <a:ahLst/>
              <a:rect l="textAreaLeft" t="textAreaTop" r="textAreaRight" b="textAreaBottom"/>
              <a:pathLst>
                <a:path w="1723072" h="611955">
                  <a:moveTo>
                    <a:pt x="0" y="433396"/>
                  </a:moveTo>
                  <a:lnTo>
                    <a:pt x="0" y="433396"/>
                  </a:lnTo>
                  <a:lnTo>
                    <a:pt x="41981" y="433396"/>
                  </a:lnTo>
                  <a:lnTo>
                    <a:pt x="86319" y="433396"/>
                  </a:lnTo>
                  <a:lnTo>
                    <a:pt x="117262" y="436042"/>
                  </a:lnTo>
                  <a:lnTo>
                    <a:pt x="161881" y="442491"/>
                  </a:lnTo>
                  <a:lnTo>
                    <a:pt x="206197" y="449230"/>
                  </a:lnTo>
                  <a:lnTo>
                    <a:pt x="243988" y="453301"/>
                  </a:lnTo>
                  <a:lnTo>
                    <a:pt x="283959" y="460791"/>
                  </a:lnTo>
                  <a:lnTo>
                    <a:pt x="320938" y="469295"/>
                  </a:lnTo>
                  <a:lnTo>
                    <a:pt x="357030" y="480744"/>
                  </a:lnTo>
                  <a:lnTo>
                    <a:pt x="395506" y="494058"/>
                  </a:lnTo>
                  <a:lnTo>
                    <a:pt x="438325" y="506933"/>
                  </a:lnTo>
                  <a:lnTo>
                    <a:pt x="482431" y="520669"/>
                  </a:lnTo>
                  <a:lnTo>
                    <a:pt x="526919" y="531023"/>
                  </a:lnTo>
                  <a:lnTo>
                    <a:pt x="571520" y="543021"/>
                  </a:lnTo>
                  <a:lnTo>
                    <a:pt x="616154" y="556497"/>
                  </a:lnTo>
                  <a:lnTo>
                    <a:pt x="660799" y="566774"/>
                  </a:lnTo>
                  <a:lnTo>
                    <a:pt x="705446" y="576103"/>
                  </a:lnTo>
                  <a:lnTo>
                    <a:pt x="750094" y="582505"/>
                  </a:lnTo>
                  <a:lnTo>
                    <a:pt x="794742" y="587048"/>
                  </a:lnTo>
                  <a:lnTo>
                    <a:pt x="825500" y="591975"/>
                  </a:lnTo>
                  <a:lnTo>
                    <a:pt x="859014" y="597472"/>
                  </a:lnTo>
                  <a:lnTo>
                    <a:pt x="893752" y="600577"/>
                  </a:lnTo>
                  <a:lnTo>
                    <a:pt x="929036" y="602949"/>
                  </a:lnTo>
                  <a:lnTo>
                    <a:pt x="964561" y="607310"/>
                  </a:lnTo>
                  <a:lnTo>
                    <a:pt x="1000194" y="609910"/>
                  </a:lnTo>
                  <a:lnTo>
                    <a:pt x="1035874" y="611066"/>
                  </a:lnTo>
                  <a:lnTo>
                    <a:pt x="1071576" y="611579"/>
                  </a:lnTo>
                  <a:lnTo>
                    <a:pt x="1104642" y="611807"/>
                  </a:lnTo>
                  <a:lnTo>
                    <a:pt x="1136866" y="611909"/>
                  </a:lnTo>
                  <a:lnTo>
                    <a:pt x="1171031" y="611954"/>
                  </a:lnTo>
                  <a:lnTo>
                    <a:pt x="1206060" y="609328"/>
                  </a:lnTo>
                  <a:lnTo>
                    <a:pt x="1240480" y="605846"/>
                  </a:lnTo>
                  <a:lnTo>
                    <a:pt x="1272313" y="604299"/>
                  </a:lnTo>
                  <a:lnTo>
                    <a:pt x="1305644" y="600965"/>
                  </a:lnTo>
                  <a:lnTo>
                    <a:pt x="1338318" y="596176"/>
                  </a:lnTo>
                  <a:lnTo>
                    <a:pt x="1380017" y="587902"/>
                  </a:lnTo>
                  <a:lnTo>
                    <a:pt x="1423350" y="579166"/>
                  </a:lnTo>
                  <a:lnTo>
                    <a:pt x="1466617" y="570294"/>
                  </a:lnTo>
                  <a:lnTo>
                    <a:pt x="1505013" y="560389"/>
                  </a:lnTo>
                  <a:lnTo>
                    <a:pt x="1541525" y="545328"/>
                  </a:lnTo>
                  <a:lnTo>
                    <a:pt x="1576486" y="528297"/>
                  </a:lnTo>
                  <a:lnTo>
                    <a:pt x="1615469" y="504765"/>
                  </a:lnTo>
                  <a:lnTo>
                    <a:pt x="1632783" y="491905"/>
                  </a:lnTo>
                  <a:lnTo>
                    <a:pt x="1672448" y="449104"/>
                  </a:lnTo>
                  <a:lnTo>
                    <a:pt x="1689583" y="429672"/>
                  </a:lnTo>
                  <a:lnTo>
                    <a:pt x="1708009" y="388257"/>
                  </a:lnTo>
                  <a:lnTo>
                    <a:pt x="1720713" y="351103"/>
                  </a:lnTo>
                  <a:lnTo>
                    <a:pt x="1723071" y="309119"/>
                  </a:lnTo>
                  <a:lnTo>
                    <a:pt x="1720713" y="279680"/>
                  </a:lnTo>
                  <a:lnTo>
                    <a:pt x="1711049" y="254236"/>
                  </a:lnTo>
                  <a:lnTo>
                    <a:pt x="1683288" y="210080"/>
                  </a:lnTo>
                  <a:lnTo>
                    <a:pt x="1658619" y="184335"/>
                  </a:lnTo>
                  <a:lnTo>
                    <a:pt x="1617876" y="154710"/>
                  </a:lnTo>
                  <a:lnTo>
                    <a:pt x="1584667" y="129234"/>
                  </a:lnTo>
                  <a:lnTo>
                    <a:pt x="1543409" y="105480"/>
                  </a:lnTo>
                  <a:lnTo>
                    <a:pt x="1499765" y="85874"/>
                  </a:lnTo>
                  <a:lnTo>
                    <a:pt x="1469242" y="73559"/>
                  </a:lnTo>
                  <a:lnTo>
                    <a:pt x="1435832" y="61471"/>
                  </a:lnTo>
                  <a:lnTo>
                    <a:pt x="1403786" y="52130"/>
                  </a:lnTo>
                  <a:lnTo>
                    <a:pt x="1371022" y="43679"/>
                  </a:lnTo>
                  <a:lnTo>
                    <a:pt x="1333309" y="33309"/>
                  </a:lnTo>
                  <a:lnTo>
                    <a:pt x="1293397" y="24731"/>
                  </a:lnTo>
                  <a:lnTo>
                    <a:pt x="1252507" y="17611"/>
                  </a:lnTo>
                  <a:lnTo>
                    <a:pt x="1211183" y="11139"/>
                  </a:lnTo>
                  <a:lnTo>
                    <a:pt x="1167020" y="7602"/>
                  </a:lnTo>
                  <a:lnTo>
                    <a:pt x="1144130" y="6658"/>
                  </a:lnTo>
                  <a:lnTo>
                    <a:pt x="1100177" y="2964"/>
                  </a:lnTo>
                  <a:lnTo>
                    <a:pt x="1057491" y="0"/>
                  </a:lnTo>
                  <a:lnTo>
                    <a:pt x="1015368" y="1989"/>
                  </a:lnTo>
                  <a:lnTo>
                    <a:pt x="991435" y="2917"/>
                  </a:lnTo>
                  <a:lnTo>
                    <a:pt x="965559" y="3535"/>
                  </a:lnTo>
                  <a:lnTo>
                    <a:pt x="938385" y="3947"/>
                  </a:lnTo>
                  <a:lnTo>
                    <a:pt x="912333" y="5214"/>
                  </a:lnTo>
                  <a:lnTo>
                    <a:pt x="887027" y="7051"/>
                  </a:lnTo>
                  <a:lnTo>
                    <a:pt x="862218" y="9268"/>
                  </a:lnTo>
                  <a:lnTo>
                    <a:pt x="837742" y="11738"/>
                  </a:lnTo>
                  <a:lnTo>
                    <a:pt x="813487" y="14376"/>
                  </a:lnTo>
                  <a:lnTo>
                    <a:pt x="789379" y="17128"/>
                  </a:lnTo>
                  <a:lnTo>
                    <a:pt x="764378" y="19954"/>
                  </a:lnTo>
                  <a:lnTo>
                    <a:pt x="738780" y="22831"/>
                  </a:lnTo>
                  <a:lnTo>
                    <a:pt x="712786" y="25741"/>
                  </a:lnTo>
                  <a:lnTo>
                    <a:pt x="688511" y="29665"/>
                  </a:lnTo>
                  <a:lnTo>
                    <a:pt x="665383" y="34265"/>
                  </a:lnTo>
                  <a:lnTo>
                    <a:pt x="643018" y="39317"/>
                  </a:lnTo>
                  <a:lnTo>
                    <a:pt x="619179" y="44669"/>
                  </a:lnTo>
                  <a:lnTo>
                    <a:pt x="594356" y="50221"/>
                  </a:lnTo>
                  <a:lnTo>
                    <a:pt x="568878" y="55907"/>
                  </a:lnTo>
                  <a:lnTo>
                    <a:pt x="544947" y="61682"/>
                  </a:lnTo>
                  <a:lnTo>
                    <a:pt x="522048" y="67517"/>
                  </a:lnTo>
                  <a:lnTo>
                    <a:pt x="478084" y="79291"/>
                  </a:lnTo>
                  <a:lnTo>
                    <a:pt x="435393" y="91139"/>
                  </a:lnTo>
                  <a:lnTo>
                    <a:pt x="395914" y="103019"/>
                  </a:lnTo>
                  <a:lnTo>
                    <a:pt x="359516" y="114913"/>
                  </a:lnTo>
                  <a:lnTo>
                    <a:pt x="326803" y="126815"/>
                  </a:lnTo>
                  <a:lnTo>
                    <a:pt x="295727" y="141364"/>
                  </a:lnTo>
                  <a:lnTo>
                    <a:pt x="252988" y="163644"/>
                  </a:lnTo>
                  <a:lnTo>
                    <a:pt x="212471" y="188951"/>
                  </a:lnTo>
                  <a:lnTo>
                    <a:pt x="174713" y="219035"/>
                  </a:lnTo>
                  <a:lnTo>
                    <a:pt x="149124" y="260753"/>
                  </a:lnTo>
                  <a:lnTo>
                    <a:pt x="144726" y="278614"/>
                  </a:lnTo>
                  <a:lnTo>
                    <a:pt x="143423" y="296474"/>
                  </a:lnTo>
                  <a:lnTo>
                    <a:pt x="147778" y="314334"/>
                  </a:lnTo>
                  <a:lnTo>
                    <a:pt x="155352" y="327453"/>
                  </a:lnTo>
                  <a:lnTo>
                    <a:pt x="182098" y="353581"/>
                  </a:lnTo>
                  <a:lnTo>
                    <a:pt x="222766" y="381729"/>
                  </a:lnTo>
                  <a:lnTo>
                    <a:pt x="260074" y="408843"/>
                  </a:lnTo>
                  <a:lnTo>
                    <a:pt x="294680" y="42446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SMARTInkShape-135"/>
            <p:cNvSpPr/>
            <p:nvPr/>
          </p:nvSpPr>
          <p:spPr>
            <a:xfrm>
              <a:off x="1233000" y="1151280"/>
              <a:ext cx="1303200" cy="14292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303328" h="142869">
                  <a:moveTo>
                    <a:pt x="1303327" y="142868"/>
                  </a:moveTo>
                  <a:lnTo>
                    <a:pt x="1303327" y="142868"/>
                  </a:lnTo>
                  <a:lnTo>
                    <a:pt x="1275522" y="117708"/>
                  </a:lnTo>
                  <a:lnTo>
                    <a:pt x="1246638" y="102403"/>
                  </a:lnTo>
                  <a:lnTo>
                    <a:pt x="1204905" y="92450"/>
                  </a:lnTo>
                  <a:lnTo>
                    <a:pt x="1170924" y="87268"/>
                  </a:lnTo>
                  <a:lnTo>
                    <a:pt x="1131542" y="76984"/>
                  </a:lnTo>
                  <a:lnTo>
                    <a:pt x="1090396" y="71535"/>
                  </a:lnTo>
                  <a:lnTo>
                    <a:pt x="1055800" y="65618"/>
                  </a:lnTo>
                  <a:lnTo>
                    <a:pt x="1020414" y="62432"/>
                  </a:lnTo>
                  <a:lnTo>
                    <a:pt x="983802" y="55645"/>
                  </a:lnTo>
                  <a:lnTo>
                    <a:pt x="941975" y="48342"/>
                  </a:lnTo>
                  <a:lnTo>
                    <a:pt x="898162" y="44745"/>
                  </a:lnTo>
                  <a:lnTo>
                    <a:pt x="854754" y="37837"/>
                  </a:lnTo>
                  <a:lnTo>
                    <a:pt x="815324" y="30498"/>
                  </a:lnTo>
                  <a:lnTo>
                    <a:pt x="773655" y="26891"/>
                  </a:lnTo>
                  <a:lnTo>
                    <a:pt x="734739" y="19979"/>
                  </a:lnTo>
                  <a:lnTo>
                    <a:pt x="692231" y="12639"/>
                  </a:lnTo>
                  <a:lnTo>
                    <a:pt x="648216" y="9031"/>
                  </a:lnTo>
                  <a:lnTo>
                    <a:pt x="618599" y="4671"/>
                  </a:lnTo>
                  <a:lnTo>
                    <a:pt x="586253" y="2072"/>
                  </a:lnTo>
                  <a:lnTo>
                    <a:pt x="554019" y="917"/>
                  </a:lnTo>
                  <a:lnTo>
                    <a:pt x="512566" y="267"/>
                  </a:lnTo>
                  <a:lnTo>
                    <a:pt x="469305" y="74"/>
                  </a:lnTo>
                  <a:lnTo>
                    <a:pt x="426060" y="17"/>
                  </a:lnTo>
                  <a:lnTo>
                    <a:pt x="386678" y="0"/>
                  </a:lnTo>
                  <a:lnTo>
                    <a:pt x="346016" y="987"/>
                  </a:lnTo>
                  <a:lnTo>
                    <a:pt x="301958" y="7061"/>
                  </a:lnTo>
                  <a:lnTo>
                    <a:pt x="260072" y="13295"/>
                  </a:lnTo>
                  <a:lnTo>
                    <a:pt x="216006" y="23089"/>
                  </a:lnTo>
                  <a:lnTo>
                    <a:pt x="171730" y="28698"/>
                  </a:lnTo>
                  <a:lnTo>
                    <a:pt x="138767" y="39066"/>
                  </a:lnTo>
                  <a:lnTo>
                    <a:pt x="99978" y="60688"/>
                  </a:lnTo>
                  <a:lnTo>
                    <a:pt x="56274" y="83230"/>
                  </a:lnTo>
                  <a:lnTo>
                    <a:pt x="46943" y="91888"/>
                  </a:lnTo>
                  <a:lnTo>
                    <a:pt x="43066" y="96975"/>
                  </a:lnTo>
                  <a:lnTo>
                    <a:pt x="33466" y="102627"/>
                  </a:lnTo>
                  <a:lnTo>
                    <a:pt x="28128" y="104134"/>
                  </a:lnTo>
                  <a:lnTo>
                    <a:pt x="24570" y="106131"/>
                  </a:lnTo>
                  <a:lnTo>
                    <a:pt x="22197" y="108455"/>
                  </a:lnTo>
                  <a:lnTo>
                    <a:pt x="10801" y="125123"/>
                  </a:lnTo>
                  <a:lnTo>
                    <a:pt x="10041" y="128061"/>
                  </a:lnTo>
                  <a:lnTo>
                    <a:pt x="8543" y="130020"/>
                  </a:lnTo>
                  <a:lnTo>
                    <a:pt x="0" y="133785"/>
                  </a:lnTo>
                  <a:lnTo>
                    <a:pt x="8417" y="133937"/>
                  </a:lnTo>
                  <a:lnTo>
                    <a:pt x="17452" y="12500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SMARTInkShape-136"/>
            <p:cNvSpPr/>
            <p:nvPr/>
          </p:nvSpPr>
          <p:spPr>
            <a:xfrm>
              <a:off x="1197000" y="1133640"/>
              <a:ext cx="303120" cy="250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303490" h="249996">
                  <a:moveTo>
                    <a:pt x="44529" y="0"/>
                  </a:moveTo>
                  <a:lnTo>
                    <a:pt x="44529" y="0"/>
                  </a:lnTo>
                  <a:lnTo>
                    <a:pt x="44529" y="4741"/>
                  </a:lnTo>
                  <a:lnTo>
                    <a:pt x="43536" y="6137"/>
                  </a:lnTo>
                  <a:lnTo>
                    <a:pt x="41883" y="7068"/>
                  </a:lnTo>
                  <a:lnTo>
                    <a:pt x="39788" y="7689"/>
                  </a:lnTo>
                  <a:lnTo>
                    <a:pt x="39384" y="10087"/>
                  </a:lnTo>
                  <a:lnTo>
                    <a:pt x="44413" y="54253"/>
                  </a:lnTo>
                  <a:lnTo>
                    <a:pt x="43485" y="64792"/>
                  </a:lnTo>
                  <a:lnTo>
                    <a:pt x="37450" y="82289"/>
                  </a:lnTo>
                  <a:lnTo>
                    <a:pt x="33502" y="98796"/>
                  </a:lnTo>
                  <a:lnTo>
                    <a:pt x="28693" y="116255"/>
                  </a:lnTo>
                  <a:lnTo>
                    <a:pt x="19779" y="158888"/>
                  </a:lnTo>
                  <a:lnTo>
                    <a:pt x="15698" y="178047"/>
                  </a:lnTo>
                  <a:lnTo>
                    <a:pt x="1921" y="221134"/>
                  </a:lnTo>
                  <a:lnTo>
                    <a:pt x="0" y="239214"/>
                  </a:lnTo>
                  <a:lnTo>
                    <a:pt x="8778" y="249995"/>
                  </a:lnTo>
                  <a:lnTo>
                    <a:pt x="47638" y="231938"/>
                  </a:lnTo>
                  <a:lnTo>
                    <a:pt x="91312" y="214292"/>
                  </a:lnTo>
                  <a:lnTo>
                    <a:pt x="135875" y="196452"/>
                  </a:lnTo>
                  <a:lnTo>
                    <a:pt x="177752" y="181570"/>
                  </a:lnTo>
                  <a:lnTo>
                    <a:pt x="204532" y="172310"/>
                  </a:lnTo>
                  <a:lnTo>
                    <a:pt x="247985" y="162829"/>
                  </a:lnTo>
                  <a:lnTo>
                    <a:pt x="268603" y="161148"/>
                  </a:lnTo>
                  <a:lnTo>
                    <a:pt x="296107" y="168459"/>
                  </a:lnTo>
                  <a:lnTo>
                    <a:pt x="298568" y="169853"/>
                  </a:lnTo>
                  <a:lnTo>
                    <a:pt x="300208" y="171775"/>
                  </a:lnTo>
                  <a:lnTo>
                    <a:pt x="302031" y="176555"/>
                  </a:lnTo>
                  <a:lnTo>
                    <a:pt x="303489" y="1875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9" name="SMARTInkShape-137"/>
          <p:cNvSpPr/>
          <p:nvPr/>
        </p:nvSpPr>
        <p:spPr>
          <a:xfrm>
            <a:off x="1152360" y="2027160"/>
            <a:ext cx="3079800" cy="33984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080728" h="339296">
                <a:moveTo>
                  <a:pt x="321468" y="44616"/>
                </a:moveTo>
                <a:lnTo>
                  <a:pt x="321468" y="44616"/>
                </a:lnTo>
                <a:lnTo>
                  <a:pt x="321468" y="39876"/>
                </a:lnTo>
                <a:lnTo>
                  <a:pt x="324114" y="34903"/>
                </a:lnTo>
                <a:lnTo>
                  <a:pt x="343592" y="13596"/>
                </a:lnTo>
                <a:lnTo>
                  <a:pt x="348829" y="10986"/>
                </a:lnTo>
                <a:lnTo>
                  <a:pt x="392677" y="339"/>
                </a:lnTo>
                <a:lnTo>
                  <a:pt x="421149" y="0"/>
                </a:lnTo>
                <a:lnTo>
                  <a:pt x="459642" y="8072"/>
                </a:lnTo>
                <a:lnTo>
                  <a:pt x="489322" y="11380"/>
                </a:lnTo>
                <a:lnTo>
                  <a:pt x="511101" y="15917"/>
                </a:lnTo>
                <a:lnTo>
                  <a:pt x="553918" y="23713"/>
                </a:lnTo>
                <a:lnTo>
                  <a:pt x="593585" y="31097"/>
                </a:lnTo>
                <a:lnTo>
                  <a:pt x="633041" y="34780"/>
                </a:lnTo>
                <a:lnTo>
                  <a:pt x="676407" y="38153"/>
                </a:lnTo>
                <a:lnTo>
                  <a:pt x="718671" y="43340"/>
                </a:lnTo>
                <a:lnTo>
                  <a:pt x="753461" y="44238"/>
                </a:lnTo>
                <a:lnTo>
                  <a:pt x="788904" y="44504"/>
                </a:lnTo>
                <a:lnTo>
                  <a:pt x="824541" y="49324"/>
                </a:lnTo>
                <a:lnTo>
                  <a:pt x="860237" y="52295"/>
                </a:lnTo>
                <a:lnTo>
                  <a:pt x="895948" y="53175"/>
                </a:lnTo>
                <a:lnTo>
                  <a:pt x="936405" y="58177"/>
                </a:lnTo>
                <a:lnTo>
                  <a:pt x="975071" y="61202"/>
                </a:lnTo>
                <a:lnTo>
                  <a:pt x="1011663" y="66839"/>
                </a:lnTo>
                <a:lnTo>
                  <a:pt x="1047641" y="70052"/>
                </a:lnTo>
                <a:lnTo>
                  <a:pt x="1088177" y="71004"/>
                </a:lnTo>
                <a:lnTo>
                  <a:pt x="1126866" y="76027"/>
                </a:lnTo>
                <a:lnTo>
                  <a:pt x="1163465" y="79059"/>
                </a:lnTo>
                <a:lnTo>
                  <a:pt x="1204185" y="79957"/>
                </a:lnTo>
                <a:lnTo>
                  <a:pt x="1247669" y="84964"/>
                </a:lnTo>
                <a:lnTo>
                  <a:pt x="1287233" y="87990"/>
                </a:lnTo>
                <a:lnTo>
                  <a:pt x="1328831" y="93628"/>
                </a:lnTo>
                <a:lnTo>
                  <a:pt x="1372575" y="101582"/>
                </a:lnTo>
                <a:lnTo>
                  <a:pt x="1416956" y="105482"/>
                </a:lnTo>
                <a:lnTo>
                  <a:pt x="1456785" y="106638"/>
                </a:lnTo>
                <a:lnTo>
                  <a:pt x="1498462" y="111721"/>
                </a:lnTo>
                <a:lnTo>
                  <a:pt x="1530178" y="114128"/>
                </a:lnTo>
                <a:lnTo>
                  <a:pt x="1562133" y="115198"/>
                </a:lnTo>
                <a:lnTo>
                  <a:pt x="1603429" y="116792"/>
                </a:lnTo>
                <a:lnTo>
                  <a:pt x="1646643" y="122115"/>
                </a:lnTo>
                <a:lnTo>
                  <a:pt x="1676073" y="123709"/>
                </a:lnTo>
                <a:lnTo>
                  <a:pt x="1708335" y="124417"/>
                </a:lnTo>
                <a:lnTo>
                  <a:pt x="1741525" y="125724"/>
                </a:lnTo>
                <a:lnTo>
                  <a:pt x="1772813" y="129612"/>
                </a:lnTo>
                <a:lnTo>
                  <a:pt x="1803255" y="132002"/>
                </a:lnTo>
                <a:lnTo>
                  <a:pt x="1834314" y="133064"/>
                </a:lnTo>
                <a:lnTo>
                  <a:pt x="1867961" y="133536"/>
                </a:lnTo>
                <a:lnTo>
                  <a:pt x="1900114" y="133745"/>
                </a:lnTo>
                <a:lnTo>
                  <a:pt x="1930940" y="133839"/>
                </a:lnTo>
                <a:lnTo>
                  <a:pt x="1961177" y="133880"/>
                </a:lnTo>
                <a:lnTo>
                  <a:pt x="1991152" y="133899"/>
                </a:lnTo>
                <a:lnTo>
                  <a:pt x="2022003" y="133907"/>
                </a:lnTo>
                <a:lnTo>
                  <a:pt x="2055558" y="133910"/>
                </a:lnTo>
                <a:lnTo>
                  <a:pt x="2087670" y="133912"/>
                </a:lnTo>
                <a:lnTo>
                  <a:pt x="2118478" y="134905"/>
                </a:lnTo>
                <a:lnTo>
                  <a:pt x="2148707" y="138654"/>
                </a:lnTo>
                <a:lnTo>
                  <a:pt x="2178679" y="140981"/>
                </a:lnTo>
                <a:lnTo>
                  <a:pt x="2209528" y="142015"/>
                </a:lnTo>
                <a:lnTo>
                  <a:pt x="2243083" y="142475"/>
                </a:lnTo>
                <a:lnTo>
                  <a:pt x="2275194" y="142680"/>
                </a:lnTo>
                <a:lnTo>
                  <a:pt x="2306002" y="142770"/>
                </a:lnTo>
                <a:lnTo>
                  <a:pt x="2350244" y="142821"/>
                </a:lnTo>
                <a:lnTo>
                  <a:pt x="2389923" y="142837"/>
                </a:lnTo>
                <a:lnTo>
                  <a:pt x="2432657" y="142841"/>
                </a:lnTo>
                <a:lnTo>
                  <a:pt x="2475746" y="142842"/>
                </a:lnTo>
                <a:lnTo>
                  <a:pt x="2515082" y="142843"/>
                </a:lnTo>
                <a:lnTo>
                  <a:pt x="2556723" y="142843"/>
                </a:lnTo>
                <a:lnTo>
                  <a:pt x="2594637" y="143835"/>
                </a:lnTo>
                <a:lnTo>
                  <a:pt x="2630015" y="148980"/>
                </a:lnTo>
                <a:lnTo>
                  <a:pt x="2671784" y="151221"/>
                </a:lnTo>
                <a:lnTo>
                  <a:pt x="2708477" y="151664"/>
                </a:lnTo>
                <a:lnTo>
                  <a:pt x="2748064" y="158826"/>
                </a:lnTo>
                <a:lnTo>
                  <a:pt x="2788785" y="160629"/>
                </a:lnTo>
                <a:lnTo>
                  <a:pt x="2801732" y="160693"/>
                </a:lnTo>
                <a:lnTo>
                  <a:pt x="2812814" y="169600"/>
                </a:lnTo>
                <a:lnTo>
                  <a:pt x="2808100" y="169623"/>
                </a:lnTo>
                <a:lnTo>
                  <a:pt x="2803133" y="166982"/>
                </a:lnTo>
                <a:lnTo>
                  <a:pt x="2797618" y="163493"/>
                </a:lnTo>
                <a:lnTo>
                  <a:pt x="2785993" y="161254"/>
                </a:lnTo>
                <a:lnTo>
                  <a:pt x="2764041" y="159783"/>
                </a:lnTo>
                <a:lnTo>
                  <a:pt x="2723485" y="149683"/>
                </a:lnTo>
                <a:lnTo>
                  <a:pt x="2705674" y="144869"/>
                </a:lnTo>
                <a:lnTo>
                  <a:pt x="2687829" y="140797"/>
                </a:lnTo>
                <a:lnTo>
                  <a:pt x="2674934" y="136973"/>
                </a:lnTo>
                <a:lnTo>
                  <a:pt x="2631116" y="128045"/>
                </a:lnTo>
                <a:lnTo>
                  <a:pt x="2589195" y="120646"/>
                </a:lnTo>
                <a:lnTo>
                  <a:pt x="2547552" y="114013"/>
                </a:lnTo>
                <a:lnTo>
                  <a:pt x="2512179" y="103744"/>
                </a:lnTo>
                <a:lnTo>
                  <a:pt x="2474103" y="98299"/>
                </a:lnTo>
                <a:lnTo>
                  <a:pt x="2435273" y="91343"/>
                </a:lnTo>
                <a:lnTo>
                  <a:pt x="2401335" y="87235"/>
                </a:lnTo>
                <a:lnTo>
                  <a:pt x="2366144" y="82380"/>
                </a:lnTo>
                <a:lnTo>
                  <a:pt x="2330582" y="78295"/>
                </a:lnTo>
                <a:lnTo>
                  <a:pt x="2294910" y="73447"/>
                </a:lnTo>
                <a:lnTo>
                  <a:pt x="2256559" y="72010"/>
                </a:lnTo>
                <a:lnTo>
                  <a:pt x="2216423" y="68939"/>
                </a:lnTo>
                <a:lnTo>
                  <a:pt x="2176749" y="64391"/>
                </a:lnTo>
                <a:lnTo>
                  <a:pt x="2133574" y="63043"/>
                </a:lnTo>
                <a:lnTo>
                  <a:pt x="2089363" y="62644"/>
                </a:lnTo>
                <a:lnTo>
                  <a:pt x="2044843" y="62526"/>
                </a:lnTo>
                <a:lnTo>
                  <a:pt x="2000233" y="62491"/>
                </a:lnTo>
                <a:lnTo>
                  <a:pt x="1969485" y="62482"/>
                </a:lnTo>
                <a:lnTo>
                  <a:pt x="1935975" y="62479"/>
                </a:lnTo>
                <a:lnTo>
                  <a:pt x="1903883" y="62477"/>
                </a:lnTo>
                <a:lnTo>
                  <a:pt x="1873084" y="62476"/>
                </a:lnTo>
                <a:lnTo>
                  <a:pt x="1842859" y="62476"/>
                </a:lnTo>
                <a:lnTo>
                  <a:pt x="1810244" y="62476"/>
                </a:lnTo>
                <a:lnTo>
                  <a:pt x="1775904" y="62476"/>
                </a:lnTo>
                <a:lnTo>
                  <a:pt x="1740798" y="62476"/>
                </a:lnTo>
                <a:lnTo>
                  <a:pt x="1705352" y="65122"/>
                </a:lnTo>
                <a:lnTo>
                  <a:pt x="1669754" y="68613"/>
                </a:lnTo>
                <a:lnTo>
                  <a:pt x="1634089" y="70164"/>
                </a:lnTo>
                <a:lnTo>
                  <a:pt x="1598395" y="70854"/>
                </a:lnTo>
                <a:lnTo>
                  <a:pt x="1563678" y="72153"/>
                </a:lnTo>
                <a:lnTo>
                  <a:pt x="1531713" y="76037"/>
                </a:lnTo>
                <a:lnTo>
                  <a:pt x="1498324" y="78425"/>
                </a:lnTo>
                <a:lnTo>
                  <a:pt x="1463640" y="79486"/>
                </a:lnTo>
                <a:lnTo>
                  <a:pt x="1428381" y="79958"/>
                </a:lnTo>
                <a:lnTo>
                  <a:pt x="1392867" y="80168"/>
                </a:lnTo>
                <a:lnTo>
                  <a:pt x="1357239" y="81253"/>
                </a:lnTo>
                <a:lnTo>
                  <a:pt x="1321561" y="85043"/>
                </a:lnTo>
                <a:lnTo>
                  <a:pt x="1288506" y="87388"/>
                </a:lnTo>
                <a:lnTo>
                  <a:pt x="1256286" y="88431"/>
                </a:lnTo>
                <a:lnTo>
                  <a:pt x="1222123" y="88894"/>
                </a:lnTo>
                <a:lnTo>
                  <a:pt x="1189741" y="89100"/>
                </a:lnTo>
                <a:lnTo>
                  <a:pt x="1157820" y="89192"/>
                </a:lnTo>
                <a:lnTo>
                  <a:pt x="1123790" y="89232"/>
                </a:lnTo>
                <a:lnTo>
                  <a:pt x="1091467" y="91896"/>
                </a:lnTo>
                <a:lnTo>
                  <a:pt x="1059573" y="95395"/>
                </a:lnTo>
                <a:lnTo>
                  <a:pt x="1025554" y="96950"/>
                </a:lnTo>
                <a:lnTo>
                  <a:pt x="990590" y="97641"/>
                </a:lnTo>
                <a:lnTo>
                  <a:pt x="956200" y="97949"/>
                </a:lnTo>
                <a:lnTo>
                  <a:pt x="924379" y="98085"/>
                </a:lnTo>
                <a:lnTo>
                  <a:pt x="893699" y="100792"/>
                </a:lnTo>
                <a:lnTo>
                  <a:pt x="862535" y="104310"/>
                </a:lnTo>
                <a:lnTo>
                  <a:pt x="828841" y="105873"/>
                </a:lnTo>
                <a:lnTo>
                  <a:pt x="796668" y="106568"/>
                </a:lnTo>
                <a:lnTo>
                  <a:pt x="753310" y="106959"/>
                </a:lnTo>
                <a:lnTo>
                  <a:pt x="712682" y="109721"/>
                </a:lnTo>
                <a:lnTo>
                  <a:pt x="669224" y="114178"/>
                </a:lnTo>
                <a:lnTo>
                  <a:pt x="624929" y="115498"/>
                </a:lnTo>
                <a:lnTo>
                  <a:pt x="583031" y="115889"/>
                </a:lnTo>
                <a:lnTo>
                  <a:pt x="545481" y="116005"/>
                </a:lnTo>
                <a:lnTo>
                  <a:pt x="509220" y="118685"/>
                </a:lnTo>
                <a:lnTo>
                  <a:pt x="470695" y="123117"/>
                </a:lnTo>
                <a:lnTo>
                  <a:pt x="433152" y="124430"/>
                </a:lnTo>
                <a:lnTo>
                  <a:pt x="389060" y="124874"/>
                </a:lnTo>
                <a:lnTo>
                  <a:pt x="348269" y="131099"/>
                </a:lnTo>
                <a:lnTo>
                  <a:pt x="305669" y="133357"/>
                </a:lnTo>
                <a:lnTo>
                  <a:pt x="268297" y="133803"/>
                </a:lnTo>
                <a:lnTo>
                  <a:pt x="230363" y="133899"/>
                </a:lnTo>
                <a:lnTo>
                  <a:pt x="215493" y="134899"/>
                </a:lnTo>
                <a:lnTo>
                  <a:pt x="189675" y="141601"/>
                </a:lnTo>
                <a:lnTo>
                  <a:pt x="145743" y="142829"/>
                </a:lnTo>
                <a:lnTo>
                  <a:pt x="142889" y="142843"/>
                </a:lnTo>
                <a:lnTo>
                  <a:pt x="147620" y="138102"/>
                </a:lnTo>
                <a:lnTo>
                  <a:pt x="152590" y="135775"/>
                </a:lnTo>
                <a:lnTo>
                  <a:pt x="194012" y="133946"/>
                </a:lnTo>
                <a:lnTo>
                  <a:pt x="223531" y="132928"/>
                </a:lnTo>
                <a:lnTo>
                  <a:pt x="260371" y="126226"/>
                </a:lnTo>
                <a:lnTo>
                  <a:pt x="295950" y="125229"/>
                </a:lnTo>
                <a:lnTo>
                  <a:pt x="337521" y="125032"/>
                </a:lnTo>
                <a:lnTo>
                  <a:pt x="374690" y="124993"/>
                </a:lnTo>
                <a:lnTo>
                  <a:pt x="417824" y="123993"/>
                </a:lnTo>
                <a:lnTo>
                  <a:pt x="452765" y="118847"/>
                </a:lnTo>
                <a:lnTo>
                  <a:pt x="488253" y="116882"/>
                </a:lnTo>
                <a:lnTo>
                  <a:pt x="523904" y="116299"/>
                </a:lnTo>
                <a:lnTo>
                  <a:pt x="560594" y="116127"/>
                </a:lnTo>
                <a:lnTo>
                  <a:pt x="602444" y="116075"/>
                </a:lnTo>
                <a:lnTo>
                  <a:pt x="645271" y="116060"/>
                </a:lnTo>
                <a:lnTo>
                  <a:pt x="684529" y="116056"/>
                </a:lnTo>
                <a:lnTo>
                  <a:pt x="728131" y="116054"/>
                </a:lnTo>
                <a:lnTo>
                  <a:pt x="761168" y="116054"/>
                </a:lnTo>
                <a:lnTo>
                  <a:pt x="793049" y="116054"/>
                </a:lnTo>
                <a:lnTo>
                  <a:pt x="824747" y="116054"/>
                </a:lnTo>
                <a:lnTo>
                  <a:pt x="858679" y="116054"/>
                </a:lnTo>
                <a:lnTo>
                  <a:pt x="890958" y="116054"/>
                </a:lnTo>
                <a:lnTo>
                  <a:pt x="922833" y="116054"/>
                </a:lnTo>
                <a:lnTo>
                  <a:pt x="956843" y="116054"/>
                </a:lnTo>
                <a:lnTo>
                  <a:pt x="991802" y="116054"/>
                </a:lnTo>
                <a:lnTo>
                  <a:pt x="1027184" y="116054"/>
                </a:lnTo>
                <a:lnTo>
                  <a:pt x="1062753" y="116054"/>
                </a:lnTo>
                <a:lnTo>
                  <a:pt x="1095759" y="116054"/>
                </a:lnTo>
                <a:lnTo>
                  <a:pt x="1127957" y="116054"/>
                </a:lnTo>
                <a:lnTo>
                  <a:pt x="1162111" y="116054"/>
                </a:lnTo>
                <a:lnTo>
                  <a:pt x="1197134" y="118700"/>
                </a:lnTo>
                <a:lnTo>
                  <a:pt x="1232544" y="122191"/>
                </a:lnTo>
                <a:lnTo>
                  <a:pt x="1268125" y="123742"/>
                </a:lnTo>
                <a:lnTo>
                  <a:pt x="1301137" y="124432"/>
                </a:lnTo>
                <a:lnTo>
                  <a:pt x="1333337" y="125731"/>
                </a:lnTo>
                <a:lnTo>
                  <a:pt x="1367493" y="129615"/>
                </a:lnTo>
                <a:lnTo>
                  <a:pt x="1402516" y="132003"/>
                </a:lnTo>
                <a:lnTo>
                  <a:pt x="1437926" y="133064"/>
                </a:lnTo>
                <a:lnTo>
                  <a:pt x="1473508" y="133536"/>
                </a:lnTo>
                <a:lnTo>
                  <a:pt x="1509166" y="133746"/>
                </a:lnTo>
                <a:lnTo>
                  <a:pt x="1544857" y="134831"/>
                </a:lnTo>
                <a:lnTo>
                  <a:pt x="1580564" y="138621"/>
                </a:lnTo>
                <a:lnTo>
                  <a:pt x="1616278" y="140966"/>
                </a:lnTo>
                <a:lnTo>
                  <a:pt x="1651993" y="142009"/>
                </a:lnTo>
                <a:lnTo>
                  <a:pt x="1687711" y="142472"/>
                </a:lnTo>
                <a:lnTo>
                  <a:pt x="1723429" y="142678"/>
                </a:lnTo>
                <a:lnTo>
                  <a:pt x="1759148" y="143762"/>
                </a:lnTo>
                <a:lnTo>
                  <a:pt x="1794867" y="147551"/>
                </a:lnTo>
                <a:lnTo>
                  <a:pt x="1830585" y="149896"/>
                </a:lnTo>
                <a:lnTo>
                  <a:pt x="1866304" y="150939"/>
                </a:lnTo>
                <a:lnTo>
                  <a:pt x="1902023" y="151402"/>
                </a:lnTo>
                <a:lnTo>
                  <a:pt x="1937742" y="154253"/>
                </a:lnTo>
                <a:lnTo>
                  <a:pt x="1973460" y="157836"/>
                </a:lnTo>
                <a:lnTo>
                  <a:pt x="2009179" y="159429"/>
                </a:lnTo>
                <a:lnTo>
                  <a:pt x="2044898" y="160136"/>
                </a:lnTo>
                <a:lnTo>
                  <a:pt x="2079624" y="160451"/>
                </a:lnTo>
                <a:lnTo>
                  <a:pt x="2111595" y="160591"/>
                </a:lnTo>
                <a:lnTo>
                  <a:pt x="2144987" y="163298"/>
                </a:lnTo>
                <a:lnTo>
                  <a:pt x="2179671" y="166817"/>
                </a:lnTo>
                <a:lnTo>
                  <a:pt x="2214930" y="168381"/>
                </a:lnTo>
                <a:lnTo>
                  <a:pt x="2247799" y="169076"/>
                </a:lnTo>
                <a:lnTo>
                  <a:pt x="2279935" y="170377"/>
                </a:lnTo>
                <a:lnTo>
                  <a:pt x="2314062" y="174263"/>
                </a:lnTo>
                <a:lnTo>
                  <a:pt x="2346427" y="176651"/>
                </a:lnTo>
                <a:lnTo>
                  <a:pt x="2377349" y="178705"/>
                </a:lnTo>
                <a:lnTo>
                  <a:pt x="2407628" y="182925"/>
                </a:lnTo>
                <a:lnTo>
                  <a:pt x="2437621" y="185462"/>
                </a:lnTo>
                <a:lnTo>
                  <a:pt x="2467489" y="186589"/>
                </a:lnTo>
                <a:lnTo>
                  <a:pt x="2497300" y="187091"/>
                </a:lnTo>
                <a:lnTo>
                  <a:pt x="2527085" y="189959"/>
                </a:lnTo>
                <a:lnTo>
                  <a:pt x="2569099" y="194506"/>
                </a:lnTo>
                <a:lnTo>
                  <a:pt x="2606683" y="198500"/>
                </a:lnTo>
                <a:lnTo>
                  <a:pt x="2642954" y="203321"/>
                </a:lnTo>
                <a:lnTo>
                  <a:pt x="2686025" y="209690"/>
                </a:lnTo>
                <a:lnTo>
                  <a:pt x="2729333" y="214366"/>
                </a:lnTo>
                <a:lnTo>
                  <a:pt x="2767580" y="221169"/>
                </a:lnTo>
                <a:lnTo>
                  <a:pt x="2792161" y="225251"/>
                </a:lnTo>
                <a:lnTo>
                  <a:pt x="2818245" y="230779"/>
                </a:lnTo>
                <a:lnTo>
                  <a:pt x="2841514" y="232863"/>
                </a:lnTo>
                <a:lnTo>
                  <a:pt x="2864506" y="240691"/>
                </a:lnTo>
                <a:lnTo>
                  <a:pt x="2875322" y="241069"/>
                </a:lnTo>
                <a:lnTo>
                  <a:pt x="2832245" y="241069"/>
                </a:lnTo>
                <a:lnTo>
                  <a:pt x="2790938" y="232967"/>
                </a:lnTo>
                <a:lnTo>
                  <a:pt x="2754550" y="232249"/>
                </a:lnTo>
                <a:lnTo>
                  <a:pt x="2716485" y="226024"/>
                </a:lnTo>
                <a:lnTo>
                  <a:pt x="2679274" y="223766"/>
                </a:lnTo>
                <a:lnTo>
                  <a:pt x="2638520" y="223320"/>
                </a:lnTo>
                <a:lnTo>
                  <a:pt x="2603991" y="218502"/>
                </a:lnTo>
                <a:lnTo>
                  <a:pt x="2568624" y="215531"/>
                </a:lnTo>
                <a:lnTo>
                  <a:pt x="2533010" y="209910"/>
                </a:lnTo>
                <a:lnTo>
                  <a:pt x="2492582" y="206702"/>
                </a:lnTo>
                <a:lnTo>
                  <a:pt x="2453924" y="205751"/>
                </a:lnTo>
                <a:lnTo>
                  <a:pt x="2412595" y="200729"/>
                </a:lnTo>
                <a:lnTo>
                  <a:pt x="2368930" y="197698"/>
                </a:lnTo>
                <a:lnTo>
                  <a:pt x="2324572" y="196799"/>
                </a:lnTo>
                <a:lnTo>
                  <a:pt x="2280010" y="191793"/>
                </a:lnTo>
                <a:lnTo>
                  <a:pt x="2235387" y="188766"/>
                </a:lnTo>
                <a:lnTo>
                  <a:pt x="2202982" y="188058"/>
                </a:lnTo>
                <a:lnTo>
                  <a:pt x="2169727" y="186751"/>
                </a:lnTo>
                <a:lnTo>
                  <a:pt x="2138411" y="182863"/>
                </a:lnTo>
                <a:lnTo>
                  <a:pt x="2105311" y="180473"/>
                </a:lnTo>
                <a:lnTo>
                  <a:pt x="2071748" y="178419"/>
                </a:lnTo>
                <a:lnTo>
                  <a:pt x="2040295" y="174199"/>
                </a:lnTo>
                <a:lnTo>
                  <a:pt x="2007133" y="171662"/>
                </a:lnTo>
                <a:lnTo>
                  <a:pt x="1972551" y="170534"/>
                </a:lnTo>
                <a:lnTo>
                  <a:pt x="1937337" y="170033"/>
                </a:lnTo>
                <a:lnTo>
                  <a:pt x="1904489" y="169810"/>
                </a:lnTo>
                <a:lnTo>
                  <a:pt x="1872361" y="169711"/>
                </a:lnTo>
                <a:lnTo>
                  <a:pt x="1838238" y="169667"/>
                </a:lnTo>
                <a:lnTo>
                  <a:pt x="1803229" y="167002"/>
                </a:lnTo>
                <a:lnTo>
                  <a:pt x="1767825" y="163502"/>
                </a:lnTo>
                <a:lnTo>
                  <a:pt x="1732247" y="161947"/>
                </a:lnTo>
                <a:lnTo>
                  <a:pt x="1696590" y="161255"/>
                </a:lnTo>
                <a:lnTo>
                  <a:pt x="1661891" y="160948"/>
                </a:lnTo>
                <a:lnTo>
                  <a:pt x="1629933" y="160812"/>
                </a:lnTo>
                <a:lnTo>
                  <a:pt x="1596547" y="160751"/>
                </a:lnTo>
                <a:lnTo>
                  <a:pt x="1561865" y="160724"/>
                </a:lnTo>
                <a:lnTo>
                  <a:pt x="1526607" y="160712"/>
                </a:lnTo>
                <a:lnTo>
                  <a:pt x="1491093" y="158061"/>
                </a:lnTo>
                <a:lnTo>
                  <a:pt x="1456458" y="154567"/>
                </a:lnTo>
                <a:lnTo>
                  <a:pt x="1424528" y="153015"/>
                </a:lnTo>
                <a:lnTo>
                  <a:pt x="1391155" y="149679"/>
                </a:lnTo>
                <a:lnTo>
                  <a:pt x="1357471" y="145881"/>
                </a:lnTo>
                <a:lnTo>
                  <a:pt x="1325963" y="144193"/>
                </a:lnTo>
                <a:lnTo>
                  <a:pt x="1292778" y="143443"/>
                </a:lnTo>
                <a:lnTo>
                  <a:pt x="1259177" y="143110"/>
                </a:lnTo>
                <a:lnTo>
                  <a:pt x="1227707" y="142961"/>
                </a:lnTo>
                <a:lnTo>
                  <a:pt x="1197184" y="142896"/>
                </a:lnTo>
                <a:lnTo>
                  <a:pt x="1167081" y="141874"/>
                </a:lnTo>
                <a:lnTo>
                  <a:pt x="1137166" y="138113"/>
                </a:lnTo>
                <a:lnTo>
                  <a:pt x="1107334" y="138426"/>
                </a:lnTo>
                <a:lnTo>
                  <a:pt x="1076547" y="140880"/>
                </a:lnTo>
                <a:lnTo>
                  <a:pt x="1043020" y="141970"/>
                </a:lnTo>
                <a:lnTo>
                  <a:pt x="1010921" y="142455"/>
                </a:lnTo>
                <a:lnTo>
                  <a:pt x="980118" y="142671"/>
                </a:lnTo>
                <a:lnTo>
                  <a:pt x="949892" y="142766"/>
                </a:lnTo>
                <a:lnTo>
                  <a:pt x="919921" y="142809"/>
                </a:lnTo>
                <a:lnTo>
                  <a:pt x="890064" y="142828"/>
                </a:lnTo>
                <a:lnTo>
                  <a:pt x="860258" y="142836"/>
                </a:lnTo>
                <a:lnTo>
                  <a:pt x="830475" y="142840"/>
                </a:lnTo>
                <a:lnTo>
                  <a:pt x="800701" y="143834"/>
                </a:lnTo>
                <a:lnTo>
                  <a:pt x="770932" y="147583"/>
                </a:lnTo>
                <a:lnTo>
                  <a:pt x="741165" y="149911"/>
                </a:lnTo>
                <a:lnTo>
                  <a:pt x="711398" y="151937"/>
                </a:lnTo>
                <a:lnTo>
                  <a:pt x="681633" y="156145"/>
                </a:lnTo>
                <a:lnTo>
                  <a:pt x="636984" y="159352"/>
                </a:lnTo>
                <a:lnTo>
                  <a:pt x="597076" y="165043"/>
                </a:lnTo>
                <a:lnTo>
                  <a:pt x="560116" y="168272"/>
                </a:lnTo>
                <a:lnTo>
                  <a:pt x="524030" y="173970"/>
                </a:lnTo>
                <a:lnTo>
                  <a:pt x="488202" y="181941"/>
                </a:lnTo>
                <a:lnTo>
                  <a:pt x="452451" y="185847"/>
                </a:lnTo>
                <a:lnTo>
                  <a:pt x="416722" y="191745"/>
                </a:lnTo>
                <a:lnTo>
                  <a:pt x="381001" y="199776"/>
                </a:lnTo>
                <a:lnTo>
                  <a:pt x="339512" y="210386"/>
                </a:lnTo>
                <a:lnTo>
                  <a:pt x="299419" y="216157"/>
                </a:lnTo>
                <a:lnTo>
                  <a:pt x="258409" y="229410"/>
                </a:lnTo>
                <a:lnTo>
                  <a:pt x="218980" y="239338"/>
                </a:lnTo>
                <a:lnTo>
                  <a:pt x="176797" y="249380"/>
                </a:lnTo>
                <a:lnTo>
                  <a:pt x="171443" y="249586"/>
                </a:lnTo>
                <a:lnTo>
                  <a:pt x="167873" y="250716"/>
                </a:lnTo>
                <a:lnTo>
                  <a:pt x="165493" y="252461"/>
                </a:lnTo>
                <a:lnTo>
                  <a:pt x="160736" y="258926"/>
                </a:lnTo>
                <a:lnTo>
                  <a:pt x="202975" y="258929"/>
                </a:lnTo>
                <a:lnTo>
                  <a:pt x="245863" y="258929"/>
                </a:lnTo>
                <a:lnTo>
                  <a:pt x="283897" y="252792"/>
                </a:lnTo>
                <a:lnTo>
                  <a:pt x="321103" y="247905"/>
                </a:lnTo>
                <a:lnTo>
                  <a:pt x="361855" y="242420"/>
                </a:lnTo>
                <a:lnTo>
                  <a:pt x="396384" y="236729"/>
                </a:lnTo>
                <a:lnTo>
                  <a:pt x="431750" y="233500"/>
                </a:lnTo>
                <a:lnTo>
                  <a:pt x="467364" y="227802"/>
                </a:lnTo>
                <a:lnTo>
                  <a:pt x="507792" y="224571"/>
                </a:lnTo>
                <a:lnTo>
                  <a:pt x="551190" y="218873"/>
                </a:lnTo>
                <a:lnTo>
                  <a:pt x="595468" y="210901"/>
                </a:lnTo>
                <a:lnTo>
                  <a:pt x="640007" y="206995"/>
                </a:lnTo>
                <a:lnTo>
                  <a:pt x="684622" y="201098"/>
                </a:lnTo>
                <a:lnTo>
                  <a:pt x="717027" y="198500"/>
                </a:lnTo>
                <a:lnTo>
                  <a:pt x="750280" y="196352"/>
                </a:lnTo>
                <a:lnTo>
                  <a:pt x="781595" y="192091"/>
                </a:lnTo>
                <a:lnTo>
                  <a:pt x="814696" y="189536"/>
                </a:lnTo>
                <a:lnTo>
                  <a:pt x="848259" y="188400"/>
                </a:lnTo>
                <a:lnTo>
                  <a:pt x="879712" y="187895"/>
                </a:lnTo>
                <a:lnTo>
                  <a:pt x="912874" y="185025"/>
                </a:lnTo>
                <a:lnTo>
                  <a:pt x="947456" y="181434"/>
                </a:lnTo>
                <a:lnTo>
                  <a:pt x="982670" y="179838"/>
                </a:lnTo>
                <a:lnTo>
                  <a:pt x="1020810" y="179129"/>
                </a:lnTo>
                <a:lnTo>
                  <a:pt x="1059919" y="178814"/>
                </a:lnTo>
                <a:lnTo>
                  <a:pt x="1097145" y="178674"/>
                </a:lnTo>
                <a:lnTo>
                  <a:pt x="1133534" y="178611"/>
                </a:lnTo>
                <a:lnTo>
                  <a:pt x="1170543" y="178584"/>
                </a:lnTo>
                <a:lnTo>
                  <a:pt x="1210142" y="178572"/>
                </a:lnTo>
                <a:lnTo>
                  <a:pt x="1250893" y="178566"/>
                </a:lnTo>
                <a:lnTo>
                  <a:pt x="1291163" y="178564"/>
                </a:lnTo>
                <a:lnTo>
                  <a:pt x="1328905" y="178563"/>
                </a:lnTo>
                <a:lnTo>
                  <a:pt x="1365523" y="178562"/>
                </a:lnTo>
                <a:lnTo>
                  <a:pt x="1402633" y="178562"/>
                </a:lnTo>
                <a:lnTo>
                  <a:pt x="1442278" y="178562"/>
                </a:lnTo>
                <a:lnTo>
                  <a:pt x="1480403" y="178562"/>
                </a:lnTo>
                <a:lnTo>
                  <a:pt x="1518183" y="178562"/>
                </a:lnTo>
                <a:lnTo>
                  <a:pt x="1558126" y="178562"/>
                </a:lnTo>
                <a:lnTo>
                  <a:pt x="1596383" y="181208"/>
                </a:lnTo>
                <a:lnTo>
                  <a:pt x="1634222" y="184699"/>
                </a:lnTo>
                <a:lnTo>
                  <a:pt x="1674191" y="186250"/>
                </a:lnTo>
                <a:lnTo>
                  <a:pt x="1715105" y="186940"/>
                </a:lnTo>
                <a:lnTo>
                  <a:pt x="1755448" y="188239"/>
                </a:lnTo>
                <a:lnTo>
                  <a:pt x="1793223" y="192123"/>
                </a:lnTo>
                <a:lnTo>
                  <a:pt x="1829854" y="194511"/>
                </a:lnTo>
                <a:lnTo>
                  <a:pt x="1866972" y="195572"/>
                </a:lnTo>
                <a:lnTo>
                  <a:pt x="1906619" y="196044"/>
                </a:lnTo>
                <a:lnTo>
                  <a:pt x="1947391" y="198899"/>
                </a:lnTo>
                <a:lnTo>
                  <a:pt x="1987671" y="202483"/>
                </a:lnTo>
                <a:lnTo>
                  <a:pt x="2025417" y="204077"/>
                </a:lnTo>
                <a:lnTo>
                  <a:pt x="2062037" y="207430"/>
                </a:lnTo>
                <a:lnTo>
                  <a:pt x="2099148" y="212228"/>
                </a:lnTo>
                <a:lnTo>
                  <a:pt x="2138793" y="217668"/>
                </a:lnTo>
                <a:lnTo>
                  <a:pt x="2176918" y="220747"/>
                </a:lnTo>
                <a:lnTo>
                  <a:pt x="2213706" y="223108"/>
                </a:lnTo>
                <a:lnTo>
                  <a:pt x="2249901" y="227464"/>
                </a:lnTo>
                <a:lnTo>
                  <a:pt x="2285831" y="232708"/>
                </a:lnTo>
                <a:lnTo>
                  <a:pt x="2321644" y="237353"/>
                </a:lnTo>
                <a:lnTo>
                  <a:pt x="2357404" y="239418"/>
                </a:lnTo>
                <a:lnTo>
                  <a:pt x="2390495" y="242981"/>
                </a:lnTo>
                <a:lnTo>
                  <a:pt x="2422731" y="246880"/>
                </a:lnTo>
                <a:lnTo>
                  <a:pt x="2456902" y="248613"/>
                </a:lnTo>
                <a:lnTo>
                  <a:pt x="2489287" y="252029"/>
                </a:lnTo>
                <a:lnTo>
                  <a:pt x="2520217" y="256855"/>
                </a:lnTo>
                <a:lnTo>
                  <a:pt x="2550500" y="262306"/>
                </a:lnTo>
                <a:lnTo>
                  <a:pt x="2580495" y="265391"/>
                </a:lnTo>
                <a:lnTo>
                  <a:pt x="2610363" y="267754"/>
                </a:lnTo>
                <a:lnTo>
                  <a:pt x="2640174" y="272112"/>
                </a:lnTo>
                <a:lnTo>
                  <a:pt x="2669960" y="277356"/>
                </a:lnTo>
                <a:lnTo>
                  <a:pt x="2699735" y="282001"/>
                </a:lnTo>
                <a:lnTo>
                  <a:pt x="2743397" y="285609"/>
                </a:lnTo>
                <a:lnTo>
                  <a:pt x="2782901" y="292521"/>
                </a:lnTo>
                <a:lnTo>
                  <a:pt x="2824592" y="299860"/>
                </a:lnTo>
                <a:lnTo>
                  <a:pt x="2861529" y="303468"/>
                </a:lnTo>
                <a:lnTo>
                  <a:pt x="2903826" y="313073"/>
                </a:lnTo>
                <a:lnTo>
                  <a:pt x="2945364" y="319785"/>
                </a:lnTo>
                <a:lnTo>
                  <a:pt x="2988611" y="328287"/>
                </a:lnTo>
                <a:lnTo>
                  <a:pt x="3032951" y="330245"/>
                </a:lnTo>
                <a:lnTo>
                  <a:pt x="3076421" y="339049"/>
                </a:lnTo>
                <a:lnTo>
                  <a:pt x="3080727" y="339295"/>
                </a:lnTo>
                <a:lnTo>
                  <a:pt x="3049697" y="338304"/>
                </a:lnTo>
                <a:lnTo>
                  <a:pt x="3016302" y="331608"/>
                </a:lnTo>
                <a:lnTo>
                  <a:pt x="2981141" y="329619"/>
                </a:lnTo>
                <a:lnTo>
                  <a:pt x="2939653" y="323347"/>
                </a:lnTo>
                <a:lnTo>
                  <a:pt x="2897760" y="317074"/>
                </a:lnTo>
                <a:lnTo>
                  <a:pt x="2863035" y="313860"/>
                </a:lnTo>
                <a:lnTo>
                  <a:pt x="2822870" y="308168"/>
                </a:lnTo>
                <a:lnTo>
                  <a:pt x="2779549" y="304937"/>
                </a:lnTo>
                <a:lnTo>
                  <a:pt x="2735295" y="299240"/>
                </a:lnTo>
                <a:lnTo>
                  <a:pt x="2690763" y="296008"/>
                </a:lnTo>
                <a:lnTo>
                  <a:pt x="2658379" y="292606"/>
                </a:lnTo>
                <a:lnTo>
                  <a:pt x="2625134" y="288779"/>
                </a:lnTo>
                <a:lnTo>
                  <a:pt x="2593823" y="287079"/>
                </a:lnTo>
                <a:lnTo>
                  <a:pt x="2560724" y="283677"/>
                </a:lnTo>
                <a:lnTo>
                  <a:pt x="2526170" y="279850"/>
                </a:lnTo>
                <a:lnTo>
                  <a:pt x="2490968" y="278149"/>
                </a:lnTo>
                <a:lnTo>
                  <a:pt x="2455480" y="274747"/>
                </a:lnTo>
                <a:lnTo>
                  <a:pt x="2419863" y="270920"/>
                </a:lnTo>
                <a:lnTo>
                  <a:pt x="2384189" y="269219"/>
                </a:lnTo>
                <a:lnTo>
                  <a:pt x="2348492" y="268463"/>
                </a:lnTo>
                <a:lnTo>
                  <a:pt x="2311790" y="267135"/>
                </a:lnTo>
                <a:lnTo>
                  <a:pt x="2272326" y="263237"/>
                </a:lnTo>
                <a:lnTo>
                  <a:pt x="2231636" y="260844"/>
                </a:lnTo>
                <a:lnTo>
                  <a:pt x="2191393" y="258788"/>
                </a:lnTo>
                <a:lnTo>
                  <a:pt x="2153663" y="254567"/>
                </a:lnTo>
                <a:lnTo>
                  <a:pt x="2114404" y="252029"/>
                </a:lnTo>
                <a:lnTo>
                  <a:pt x="2073805" y="250901"/>
                </a:lnTo>
                <a:lnTo>
                  <a:pt x="2032611" y="250400"/>
                </a:lnTo>
                <a:lnTo>
                  <a:pt x="1993796" y="250177"/>
                </a:lnTo>
                <a:lnTo>
                  <a:pt x="1954717" y="250079"/>
                </a:lnTo>
                <a:lnTo>
                  <a:pt x="1910891" y="250034"/>
                </a:lnTo>
                <a:lnTo>
                  <a:pt x="1870245" y="247369"/>
                </a:lnTo>
                <a:lnTo>
                  <a:pt x="1831345" y="243869"/>
                </a:lnTo>
                <a:lnTo>
                  <a:pt x="1790905" y="242314"/>
                </a:lnTo>
                <a:lnTo>
                  <a:pt x="1747135" y="241622"/>
                </a:lnTo>
                <a:lnTo>
                  <a:pt x="1724350" y="241438"/>
                </a:lnTo>
                <a:lnTo>
                  <a:pt x="1680513" y="241233"/>
                </a:lnTo>
                <a:lnTo>
                  <a:pt x="1638871" y="241142"/>
                </a:lnTo>
                <a:lnTo>
                  <a:pt x="1600520" y="241102"/>
                </a:lnTo>
                <a:lnTo>
                  <a:pt x="1560985" y="241084"/>
                </a:lnTo>
                <a:lnTo>
                  <a:pt x="1520263" y="241076"/>
                </a:lnTo>
                <a:lnTo>
                  <a:pt x="1479013" y="241073"/>
                </a:lnTo>
                <a:lnTo>
                  <a:pt x="1437529" y="241071"/>
                </a:lnTo>
                <a:lnTo>
                  <a:pt x="1395941" y="240078"/>
                </a:lnTo>
                <a:lnTo>
                  <a:pt x="1354306" y="236329"/>
                </a:lnTo>
                <a:lnTo>
                  <a:pt x="1312650" y="234002"/>
                </a:lnTo>
                <a:lnTo>
                  <a:pt x="1270986" y="232968"/>
                </a:lnTo>
                <a:lnTo>
                  <a:pt x="1229317" y="232508"/>
                </a:lnTo>
                <a:lnTo>
                  <a:pt x="1190293" y="232303"/>
                </a:lnTo>
                <a:lnTo>
                  <a:pt x="1152112" y="232213"/>
                </a:lnTo>
                <a:lnTo>
                  <a:pt x="1111992" y="232172"/>
                </a:lnTo>
                <a:lnTo>
                  <a:pt x="1073656" y="229508"/>
                </a:lnTo>
                <a:lnTo>
                  <a:pt x="1036774" y="226009"/>
                </a:lnTo>
                <a:lnTo>
                  <a:pt x="1000538" y="224454"/>
                </a:lnTo>
                <a:lnTo>
                  <a:pt x="961944" y="223763"/>
                </a:lnTo>
                <a:lnTo>
                  <a:pt x="922632" y="223456"/>
                </a:lnTo>
                <a:lnTo>
                  <a:pt x="885316" y="223319"/>
                </a:lnTo>
                <a:lnTo>
                  <a:pt x="848888" y="223259"/>
                </a:lnTo>
                <a:lnTo>
                  <a:pt x="812854" y="222239"/>
                </a:lnTo>
                <a:lnTo>
                  <a:pt x="776995" y="218479"/>
                </a:lnTo>
                <a:lnTo>
                  <a:pt x="741214" y="216147"/>
                </a:lnTo>
                <a:lnTo>
                  <a:pt x="705467" y="215110"/>
                </a:lnTo>
                <a:lnTo>
                  <a:pt x="669736" y="214649"/>
                </a:lnTo>
                <a:lnTo>
                  <a:pt x="631366" y="214444"/>
                </a:lnTo>
                <a:lnTo>
                  <a:pt x="592154" y="214353"/>
                </a:lnTo>
                <a:lnTo>
                  <a:pt x="554882" y="214313"/>
                </a:lnTo>
                <a:lnTo>
                  <a:pt x="518474" y="214295"/>
                </a:lnTo>
                <a:lnTo>
                  <a:pt x="481456" y="215279"/>
                </a:lnTo>
                <a:lnTo>
                  <a:pt x="441852" y="219024"/>
                </a:lnTo>
                <a:lnTo>
                  <a:pt x="401100" y="221350"/>
                </a:lnTo>
                <a:lnTo>
                  <a:pt x="360829" y="222383"/>
                </a:lnTo>
                <a:lnTo>
                  <a:pt x="323087" y="222843"/>
                </a:lnTo>
                <a:lnTo>
                  <a:pt x="286469" y="225693"/>
                </a:lnTo>
                <a:lnTo>
                  <a:pt x="249358" y="230266"/>
                </a:lnTo>
                <a:lnTo>
                  <a:pt x="209714" y="235607"/>
                </a:lnTo>
                <a:lnTo>
                  <a:pt x="171589" y="243933"/>
                </a:lnTo>
                <a:lnTo>
                  <a:pt x="133808" y="254248"/>
                </a:lnTo>
                <a:lnTo>
                  <a:pt x="93866" y="265448"/>
                </a:lnTo>
                <a:lnTo>
                  <a:pt x="55608" y="277040"/>
                </a:lnTo>
                <a:lnTo>
                  <a:pt x="0" y="29464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SMARTInkShape-138"/>
          <p:cNvSpPr/>
          <p:nvPr/>
        </p:nvSpPr>
        <p:spPr>
          <a:xfrm>
            <a:off x="5160960" y="2106720"/>
            <a:ext cx="1465200" cy="5400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64467" h="53576">
                <a:moveTo>
                  <a:pt x="0" y="0"/>
                </a:moveTo>
                <a:lnTo>
                  <a:pt x="0" y="0"/>
                </a:lnTo>
                <a:lnTo>
                  <a:pt x="37240" y="0"/>
                </a:lnTo>
                <a:lnTo>
                  <a:pt x="44002" y="2646"/>
                </a:lnTo>
                <a:lnTo>
                  <a:pt x="47194" y="4741"/>
                </a:lnTo>
                <a:lnTo>
                  <a:pt x="61167" y="7689"/>
                </a:lnTo>
                <a:lnTo>
                  <a:pt x="104591" y="8898"/>
                </a:lnTo>
                <a:lnTo>
                  <a:pt x="143713" y="15993"/>
                </a:lnTo>
                <a:lnTo>
                  <a:pt x="181497" y="17614"/>
                </a:lnTo>
                <a:lnTo>
                  <a:pt x="217532" y="17811"/>
                </a:lnTo>
                <a:lnTo>
                  <a:pt x="257834" y="22590"/>
                </a:lnTo>
                <a:lnTo>
                  <a:pt x="295449" y="25960"/>
                </a:lnTo>
                <a:lnTo>
                  <a:pt x="340068" y="26625"/>
                </a:lnTo>
                <a:lnTo>
                  <a:pt x="375266" y="26741"/>
                </a:lnTo>
                <a:lnTo>
                  <a:pt x="410831" y="29421"/>
                </a:lnTo>
                <a:lnTo>
                  <a:pt x="449150" y="33853"/>
                </a:lnTo>
                <a:lnTo>
                  <a:pt x="491923" y="35166"/>
                </a:lnTo>
                <a:lnTo>
                  <a:pt x="536016" y="35555"/>
                </a:lnTo>
                <a:lnTo>
                  <a:pt x="580499" y="35670"/>
                </a:lnTo>
                <a:lnTo>
                  <a:pt x="625099" y="38350"/>
                </a:lnTo>
                <a:lnTo>
                  <a:pt x="669733" y="42782"/>
                </a:lnTo>
                <a:lnTo>
                  <a:pt x="700487" y="43819"/>
                </a:lnTo>
                <a:lnTo>
                  <a:pt x="733999" y="44280"/>
                </a:lnTo>
                <a:lnTo>
                  <a:pt x="766092" y="44485"/>
                </a:lnTo>
                <a:lnTo>
                  <a:pt x="797883" y="44576"/>
                </a:lnTo>
                <a:lnTo>
                  <a:pt x="831857" y="44616"/>
                </a:lnTo>
                <a:lnTo>
                  <a:pt x="866800" y="44634"/>
                </a:lnTo>
                <a:lnTo>
                  <a:pt x="901182" y="44642"/>
                </a:lnTo>
                <a:lnTo>
                  <a:pt x="932999" y="44646"/>
                </a:lnTo>
                <a:lnTo>
                  <a:pt x="963677" y="44647"/>
                </a:lnTo>
                <a:lnTo>
                  <a:pt x="994840" y="44648"/>
                </a:lnTo>
                <a:lnTo>
                  <a:pt x="1028534" y="44648"/>
                </a:lnTo>
                <a:lnTo>
                  <a:pt x="1060707" y="44648"/>
                </a:lnTo>
                <a:lnTo>
                  <a:pt x="1091543" y="44648"/>
                </a:lnTo>
                <a:lnTo>
                  <a:pt x="1135801" y="44648"/>
                </a:lnTo>
                <a:lnTo>
                  <a:pt x="1174491" y="44648"/>
                </a:lnTo>
                <a:lnTo>
                  <a:pt x="1211090" y="44648"/>
                </a:lnTo>
                <a:lnTo>
                  <a:pt x="1246077" y="44648"/>
                </a:lnTo>
                <a:lnTo>
                  <a:pt x="1287716" y="44648"/>
                </a:lnTo>
                <a:lnTo>
                  <a:pt x="1329124" y="44648"/>
                </a:lnTo>
                <a:lnTo>
                  <a:pt x="1372341" y="51716"/>
                </a:lnTo>
                <a:lnTo>
                  <a:pt x="1416550" y="53506"/>
                </a:lnTo>
                <a:lnTo>
                  <a:pt x="1449169" y="53575"/>
                </a:lnTo>
                <a:lnTo>
                  <a:pt x="1451292" y="52584"/>
                </a:lnTo>
                <a:lnTo>
                  <a:pt x="1452707" y="50931"/>
                </a:lnTo>
                <a:lnTo>
                  <a:pt x="1454981" y="45890"/>
                </a:lnTo>
                <a:lnTo>
                  <a:pt x="1457936" y="45200"/>
                </a:lnTo>
                <a:lnTo>
                  <a:pt x="1464466" y="44649"/>
                </a:lnTo>
                <a:lnTo>
                  <a:pt x="1455539" y="4464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SMARTInkShape-139"/>
          <p:cNvSpPr/>
          <p:nvPr/>
        </p:nvSpPr>
        <p:spPr>
          <a:xfrm>
            <a:off x="938160" y="2571840"/>
            <a:ext cx="2249640" cy="54000"/>
          </a:xfrm>
          <a:custGeom>
            <a:avLst/>
            <a:gdLst>
              <a:gd name="textAreaLeft" fmla="*/ 0 w 2249640"/>
              <a:gd name="textAreaRight" fmla="*/ 2250000 w 2249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0282" h="53579">
                <a:moveTo>
                  <a:pt x="0" y="53578"/>
                </a:moveTo>
                <a:lnTo>
                  <a:pt x="0" y="53578"/>
                </a:lnTo>
                <a:lnTo>
                  <a:pt x="15377" y="45890"/>
                </a:lnTo>
                <a:lnTo>
                  <a:pt x="46878" y="42051"/>
                </a:lnTo>
                <a:lnTo>
                  <a:pt x="64161" y="36970"/>
                </a:lnTo>
                <a:lnTo>
                  <a:pt x="92380" y="34800"/>
                </a:lnTo>
                <a:lnTo>
                  <a:pt x="105314" y="29603"/>
                </a:lnTo>
                <a:lnTo>
                  <a:pt x="145298" y="26044"/>
                </a:lnTo>
                <a:lnTo>
                  <a:pt x="180285" y="19133"/>
                </a:lnTo>
                <a:lnTo>
                  <a:pt x="223465" y="15381"/>
                </a:lnTo>
                <a:lnTo>
                  <a:pt x="263746" y="10204"/>
                </a:lnTo>
                <a:lnTo>
                  <a:pt x="302791" y="9181"/>
                </a:lnTo>
                <a:lnTo>
                  <a:pt x="341812" y="8979"/>
                </a:lnTo>
                <a:lnTo>
                  <a:pt x="375783" y="6298"/>
                </a:lnTo>
                <a:lnTo>
                  <a:pt x="410984" y="1866"/>
                </a:lnTo>
                <a:lnTo>
                  <a:pt x="446549" y="553"/>
                </a:lnTo>
                <a:lnTo>
                  <a:pt x="482222" y="164"/>
                </a:lnTo>
                <a:lnTo>
                  <a:pt x="517928" y="48"/>
                </a:lnTo>
                <a:lnTo>
                  <a:pt x="556288" y="14"/>
                </a:lnTo>
                <a:lnTo>
                  <a:pt x="599073" y="4"/>
                </a:lnTo>
                <a:lnTo>
                  <a:pt x="643170" y="1"/>
                </a:lnTo>
                <a:lnTo>
                  <a:pt x="673799" y="0"/>
                </a:lnTo>
                <a:lnTo>
                  <a:pt x="707255" y="0"/>
                </a:lnTo>
                <a:lnTo>
                  <a:pt x="741969" y="2646"/>
                </a:lnTo>
                <a:lnTo>
                  <a:pt x="777240" y="6137"/>
                </a:lnTo>
                <a:lnTo>
                  <a:pt x="812760" y="7688"/>
                </a:lnTo>
                <a:lnTo>
                  <a:pt x="848391" y="8378"/>
                </a:lnTo>
                <a:lnTo>
                  <a:pt x="884070" y="8684"/>
                </a:lnTo>
                <a:lnTo>
                  <a:pt x="919772" y="8820"/>
                </a:lnTo>
                <a:lnTo>
                  <a:pt x="955483" y="8881"/>
                </a:lnTo>
                <a:lnTo>
                  <a:pt x="992190" y="8908"/>
                </a:lnTo>
                <a:lnTo>
                  <a:pt x="1031656" y="8920"/>
                </a:lnTo>
                <a:lnTo>
                  <a:pt x="1069701" y="8925"/>
                </a:lnTo>
                <a:lnTo>
                  <a:pt x="1106454" y="9920"/>
                </a:lnTo>
                <a:lnTo>
                  <a:pt x="1142633" y="13669"/>
                </a:lnTo>
                <a:lnTo>
                  <a:pt x="1178556" y="15997"/>
                </a:lnTo>
                <a:lnTo>
                  <a:pt x="1214365" y="17032"/>
                </a:lnTo>
                <a:lnTo>
                  <a:pt x="1250124" y="17491"/>
                </a:lnTo>
                <a:lnTo>
                  <a:pt x="1288507" y="17696"/>
                </a:lnTo>
                <a:lnTo>
                  <a:pt x="1327724" y="17787"/>
                </a:lnTo>
                <a:lnTo>
                  <a:pt x="1364998" y="17827"/>
                </a:lnTo>
                <a:lnTo>
                  <a:pt x="1404054" y="20491"/>
                </a:lnTo>
                <a:lnTo>
                  <a:pt x="1443571" y="23990"/>
                </a:lnTo>
                <a:lnTo>
                  <a:pt x="1480978" y="25545"/>
                </a:lnTo>
                <a:lnTo>
                  <a:pt x="1520092" y="26236"/>
                </a:lnTo>
                <a:lnTo>
                  <a:pt x="1559635" y="26543"/>
                </a:lnTo>
                <a:lnTo>
                  <a:pt x="1597054" y="26680"/>
                </a:lnTo>
                <a:lnTo>
                  <a:pt x="1633528" y="26740"/>
                </a:lnTo>
                <a:lnTo>
                  <a:pt x="1669583" y="26767"/>
                </a:lnTo>
                <a:lnTo>
                  <a:pt x="1705451" y="26780"/>
                </a:lnTo>
                <a:lnTo>
                  <a:pt x="1741236" y="26785"/>
                </a:lnTo>
                <a:lnTo>
                  <a:pt x="1776984" y="26787"/>
                </a:lnTo>
                <a:lnTo>
                  <a:pt x="1812716" y="26788"/>
                </a:lnTo>
                <a:lnTo>
                  <a:pt x="1845795" y="26789"/>
                </a:lnTo>
                <a:lnTo>
                  <a:pt x="1877033" y="26789"/>
                </a:lnTo>
                <a:lnTo>
                  <a:pt x="1907453" y="26789"/>
                </a:lnTo>
                <a:lnTo>
                  <a:pt x="1937510" y="26789"/>
                </a:lnTo>
                <a:lnTo>
                  <a:pt x="1979676" y="26789"/>
                </a:lnTo>
                <a:lnTo>
                  <a:pt x="2017305" y="26789"/>
                </a:lnTo>
                <a:lnTo>
                  <a:pt x="2053590" y="26789"/>
                </a:lnTo>
                <a:lnTo>
                  <a:pt x="2089476" y="26789"/>
                </a:lnTo>
                <a:lnTo>
                  <a:pt x="2132417" y="26789"/>
                </a:lnTo>
                <a:lnTo>
                  <a:pt x="2175963" y="26789"/>
                </a:lnTo>
                <a:lnTo>
                  <a:pt x="2220348" y="26789"/>
                </a:lnTo>
                <a:lnTo>
                  <a:pt x="2250281" y="26789"/>
                </a:lnTo>
                <a:lnTo>
                  <a:pt x="2242593" y="26789"/>
                </a:lnTo>
                <a:lnTo>
                  <a:pt x="2234468" y="20652"/>
                </a:lnTo>
                <a:lnTo>
                  <a:pt x="2226193" y="18687"/>
                </a:lnTo>
                <a:lnTo>
                  <a:pt x="2193335" y="18924"/>
                </a:lnTo>
                <a:lnTo>
                  <a:pt x="2148794" y="25557"/>
                </a:lnTo>
                <a:lnTo>
                  <a:pt x="2116336" y="3571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SMARTInkShape-140"/>
          <p:cNvSpPr/>
          <p:nvPr/>
        </p:nvSpPr>
        <p:spPr>
          <a:xfrm>
            <a:off x="687240" y="3125880"/>
            <a:ext cx="2992680" cy="115920"/>
          </a:xfrm>
          <a:custGeom>
            <a:avLst/>
            <a:gdLst>
              <a:gd name="textAreaLeft" fmla="*/ 0 w 2992680"/>
              <a:gd name="textAreaRight" fmla="*/ 2993040 w 29926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991446" h="116063">
                <a:moveTo>
                  <a:pt x="0" y="71414"/>
                </a:moveTo>
                <a:lnTo>
                  <a:pt x="0" y="71414"/>
                </a:lnTo>
                <a:lnTo>
                  <a:pt x="16250" y="55164"/>
                </a:lnTo>
                <a:lnTo>
                  <a:pt x="19790" y="54269"/>
                </a:lnTo>
                <a:lnTo>
                  <a:pt x="40055" y="53559"/>
                </a:lnTo>
                <a:lnTo>
                  <a:pt x="45253" y="50911"/>
                </a:lnTo>
                <a:lnTo>
                  <a:pt x="48028" y="48815"/>
                </a:lnTo>
                <a:lnTo>
                  <a:pt x="56403" y="46487"/>
                </a:lnTo>
                <a:lnTo>
                  <a:pt x="95415" y="44734"/>
                </a:lnTo>
                <a:lnTo>
                  <a:pt x="134751" y="44639"/>
                </a:lnTo>
                <a:lnTo>
                  <a:pt x="173555" y="43635"/>
                </a:lnTo>
                <a:lnTo>
                  <a:pt x="213023" y="37557"/>
                </a:lnTo>
                <a:lnTo>
                  <a:pt x="254517" y="31323"/>
                </a:lnTo>
                <a:lnTo>
                  <a:pt x="289174" y="28115"/>
                </a:lnTo>
                <a:lnTo>
                  <a:pt x="330303" y="19903"/>
                </a:lnTo>
                <a:lnTo>
                  <a:pt x="363994" y="12605"/>
                </a:lnTo>
                <a:lnTo>
                  <a:pt x="399112" y="9010"/>
                </a:lnTo>
                <a:lnTo>
                  <a:pt x="434653" y="3094"/>
                </a:lnTo>
                <a:lnTo>
                  <a:pt x="470319" y="900"/>
                </a:lnTo>
                <a:lnTo>
                  <a:pt x="507014" y="250"/>
                </a:lnTo>
                <a:lnTo>
                  <a:pt x="547873" y="58"/>
                </a:lnTo>
                <a:lnTo>
                  <a:pt x="585556" y="0"/>
                </a:lnTo>
                <a:lnTo>
                  <a:pt x="622848" y="976"/>
                </a:lnTo>
                <a:lnTo>
                  <a:pt x="664877" y="6116"/>
                </a:lnTo>
                <a:lnTo>
                  <a:pt x="708749" y="8079"/>
                </a:lnTo>
                <a:lnTo>
                  <a:pt x="738333" y="8539"/>
                </a:lnTo>
                <a:lnTo>
                  <a:pt x="770663" y="8743"/>
                </a:lnTo>
                <a:lnTo>
                  <a:pt x="803884" y="8834"/>
                </a:lnTo>
                <a:lnTo>
                  <a:pt x="835185" y="8874"/>
                </a:lnTo>
                <a:lnTo>
                  <a:pt x="868279" y="8892"/>
                </a:lnTo>
                <a:lnTo>
                  <a:pt x="901839" y="8900"/>
                </a:lnTo>
                <a:lnTo>
                  <a:pt x="933292" y="8903"/>
                </a:lnTo>
                <a:lnTo>
                  <a:pt x="963806" y="8905"/>
                </a:lnTo>
                <a:lnTo>
                  <a:pt x="994897" y="9898"/>
                </a:lnTo>
                <a:lnTo>
                  <a:pt x="1028559" y="13646"/>
                </a:lnTo>
                <a:lnTo>
                  <a:pt x="1060718" y="15974"/>
                </a:lnTo>
                <a:lnTo>
                  <a:pt x="1091547" y="18001"/>
                </a:lnTo>
                <a:lnTo>
                  <a:pt x="1121786" y="22208"/>
                </a:lnTo>
                <a:lnTo>
                  <a:pt x="1151761" y="24740"/>
                </a:lnTo>
                <a:lnTo>
                  <a:pt x="1182612" y="26858"/>
                </a:lnTo>
                <a:lnTo>
                  <a:pt x="1216168" y="31106"/>
                </a:lnTo>
                <a:lnTo>
                  <a:pt x="1248279" y="33656"/>
                </a:lnTo>
                <a:lnTo>
                  <a:pt x="1280080" y="35781"/>
                </a:lnTo>
                <a:lnTo>
                  <a:pt x="1314057" y="40033"/>
                </a:lnTo>
                <a:lnTo>
                  <a:pt x="1349002" y="42584"/>
                </a:lnTo>
                <a:lnTo>
                  <a:pt x="1384377" y="44710"/>
                </a:lnTo>
                <a:lnTo>
                  <a:pt x="1419942" y="48963"/>
                </a:lnTo>
                <a:lnTo>
                  <a:pt x="1452947" y="54160"/>
                </a:lnTo>
                <a:lnTo>
                  <a:pt x="1485145" y="58784"/>
                </a:lnTo>
                <a:lnTo>
                  <a:pt x="1519299" y="60840"/>
                </a:lnTo>
                <a:lnTo>
                  <a:pt x="1554322" y="64399"/>
                </a:lnTo>
                <a:lnTo>
                  <a:pt x="1589731" y="68296"/>
                </a:lnTo>
                <a:lnTo>
                  <a:pt x="1625313" y="70028"/>
                </a:lnTo>
                <a:lnTo>
                  <a:pt x="1660970" y="73444"/>
                </a:lnTo>
                <a:lnTo>
                  <a:pt x="1696662" y="77277"/>
                </a:lnTo>
                <a:lnTo>
                  <a:pt x="1732369" y="78981"/>
                </a:lnTo>
                <a:lnTo>
                  <a:pt x="1770728" y="82384"/>
                </a:lnTo>
                <a:lnTo>
                  <a:pt x="1809935" y="86211"/>
                </a:lnTo>
                <a:lnTo>
                  <a:pt x="1847205" y="87913"/>
                </a:lnTo>
                <a:lnTo>
                  <a:pt x="1883613" y="88668"/>
                </a:lnTo>
                <a:lnTo>
                  <a:pt x="1920630" y="89997"/>
                </a:lnTo>
                <a:lnTo>
                  <a:pt x="1960233" y="93895"/>
                </a:lnTo>
                <a:lnTo>
                  <a:pt x="2000985" y="96288"/>
                </a:lnTo>
                <a:lnTo>
                  <a:pt x="2041257" y="97352"/>
                </a:lnTo>
                <a:lnTo>
                  <a:pt x="2078998" y="97825"/>
                </a:lnTo>
                <a:lnTo>
                  <a:pt x="2118262" y="98035"/>
                </a:lnTo>
                <a:lnTo>
                  <a:pt x="2159856" y="97136"/>
                </a:lnTo>
                <a:lnTo>
                  <a:pt x="2182060" y="95507"/>
                </a:lnTo>
                <a:lnTo>
                  <a:pt x="2204800" y="93429"/>
                </a:lnTo>
                <a:lnTo>
                  <a:pt x="2248588" y="91120"/>
                </a:lnTo>
                <a:lnTo>
                  <a:pt x="2291201" y="90094"/>
                </a:lnTo>
                <a:lnTo>
                  <a:pt x="2333290" y="89638"/>
                </a:lnTo>
                <a:lnTo>
                  <a:pt x="2375148" y="89436"/>
                </a:lnTo>
                <a:lnTo>
                  <a:pt x="2417894" y="89346"/>
                </a:lnTo>
                <a:lnTo>
                  <a:pt x="2440406" y="89322"/>
                </a:lnTo>
                <a:lnTo>
                  <a:pt x="2463351" y="89306"/>
                </a:lnTo>
                <a:lnTo>
                  <a:pt x="2486586" y="89295"/>
                </a:lnTo>
                <a:lnTo>
                  <a:pt x="2510013" y="89287"/>
                </a:lnTo>
                <a:lnTo>
                  <a:pt x="2533568" y="89283"/>
                </a:lnTo>
                <a:lnTo>
                  <a:pt x="2557210" y="89280"/>
                </a:lnTo>
                <a:lnTo>
                  <a:pt x="2580908" y="89278"/>
                </a:lnTo>
                <a:lnTo>
                  <a:pt x="2604644" y="89276"/>
                </a:lnTo>
                <a:lnTo>
                  <a:pt x="2628406" y="89275"/>
                </a:lnTo>
                <a:lnTo>
                  <a:pt x="2652185" y="89274"/>
                </a:lnTo>
                <a:lnTo>
                  <a:pt x="2675975" y="89274"/>
                </a:lnTo>
                <a:lnTo>
                  <a:pt x="2700764" y="90266"/>
                </a:lnTo>
                <a:lnTo>
                  <a:pt x="2726220" y="91920"/>
                </a:lnTo>
                <a:lnTo>
                  <a:pt x="2752121" y="94014"/>
                </a:lnTo>
                <a:lnTo>
                  <a:pt x="2776334" y="96403"/>
                </a:lnTo>
                <a:lnTo>
                  <a:pt x="2799420" y="98987"/>
                </a:lnTo>
                <a:lnTo>
                  <a:pt x="2821756" y="101702"/>
                </a:lnTo>
                <a:lnTo>
                  <a:pt x="2844585" y="104505"/>
                </a:lnTo>
                <a:lnTo>
                  <a:pt x="2867741" y="107365"/>
                </a:lnTo>
                <a:lnTo>
                  <a:pt x="2891116" y="110264"/>
                </a:lnTo>
                <a:lnTo>
                  <a:pt x="2932964" y="113485"/>
                </a:lnTo>
                <a:lnTo>
                  <a:pt x="2991445" y="11606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SMARTInkShape-141"/>
          <p:cNvSpPr/>
          <p:nvPr/>
        </p:nvSpPr>
        <p:spPr>
          <a:xfrm>
            <a:off x="615960" y="3589200"/>
            <a:ext cx="4938840" cy="285840"/>
          </a:xfrm>
          <a:custGeom>
            <a:avLst/>
            <a:gdLst>
              <a:gd name="textAreaLeft" fmla="*/ 0 w 4938840"/>
              <a:gd name="textAreaRight" fmla="*/ 4939200 w 4938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4938109" h="285751">
                <a:moveTo>
                  <a:pt x="8920" y="0"/>
                </a:moveTo>
                <a:lnTo>
                  <a:pt x="8920" y="0"/>
                </a:lnTo>
                <a:lnTo>
                  <a:pt x="23" y="8898"/>
                </a:lnTo>
                <a:lnTo>
                  <a:pt x="0" y="13661"/>
                </a:lnTo>
                <a:lnTo>
                  <a:pt x="989" y="15060"/>
                </a:lnTo>
                <a:lnTo>
                  <a:pt x="2641" y="15993"/>
                </a:lnTo>
                <a:lnTo>
                  <a:pt x="9085" y="17614"/>
                </a:lnTo>
                <a:lnTo>
                  <a:pt x="21240" y="17827"/>
                </a:lnTo>
                <a:lnTo>
                  <a:pt x="26963" y="20491"/>
                </a:lnTo>
                <a:lnTo>
                  <a:pt x="32814" y="23990"/>
                </a:lnTo>
                <a:lnTo>
                  <a:pt x="44655" y="26236"/>
                </a:lnTo>
                <a:lnTo>
                  <a:pt x="65661" y="27708"/>
                </a:lnTo>
                <a:lnTo>
                  <a:pt x="82452" y="33843"/>
                </a:lnTo>
                <a:lnTo>
                  <a:pt x="126893" y="35609"/>
                </a:lnTo>
                <a:lnTo>
                  <a:pt x="166321" y="35709"/>
                </a:lnTo>
                <a:lnTo>
                  <a:pt x="210054" y="35718"/>
                </a:lnTo>
                <a:lnTo>
                  <a:pt x="241024" y="30574"/>
                </a:lnTo>
                <a:lnTo>
                  <a:pt x="285657" y="35137"/>
                </a:lnTo>
                <a:lnTo>
                  <a:pt x="322820" y="35642"/>
                </a:lnTo>
                <a:lnTo>
                  <a:pt x="366287" y="42777"/>
                </a:lnTo>
                <a:lnTo>
                  <a:pt x="401862" y="44279"/>
                </a:lnTo>
                <a:lnTo>
                  <a:pt x="443689" y="44575"/>
                </a:lnTo>
                <a:lnTo>
                  <a:pt x="484289" y="41988"/>
                </a:lnTo>
                <a:lnTo>
                  <a:pt x="525492" y="36957"/>
                </a:lnTo>
                <a:lnTo>
                  <a:pt x="568431" y="35964"/>
                </a:lnTo>
                <a:lnTo>
                  <a:pt x="611896" y="35767"/>
                </a:lnTo>
                <a:lnTo>
                  <a:pt x="650601" y="33088"/>
                </a:lnTo>
                <a:lnTo>
                  <a:pt x="694494" y="28033"/>
                </a:lnTo>
                <a:lnTo>
                  <a:pt x="732180" y="27158"/>
                </a:lnTo>
                <a:lnTo>
                  <a:pt x="770025" y="26898"/>
                </a:lnTo>
                <a:lnTo>
                  <a:pt x="806373" y="26822"/>
                </a:lnTo>
                <a:lnTo>
                  <a:pt x="842279" y="26799"/>
                </a:lnTo>
                <a:lnTo>
                  <a:pt x="882793" y="31533"/>
                </a:lnTo>
                <a:lnTo>
                  <a:pt x="921476" y="29738"/>
                </a:lnTo>
                <a:lnTo>
                  <a:pt x="962814" y="32403"/>
                </a:lnTo>
                <a:lnTo>
                  <a:pt x="1006481" y="29996"/>
                </a:lnTo>
                <a:lnTo>
                  <a:pt x="1050840" y="27739"/>
                </a:lnTo>
                <a:lnTo>
                  <a:pt x="1095401" y="27071"/>
                </a:lnTo>
                <a:lnTo>
                  <a:pt x="1140024" y="26873"/>
                </a:lnTo>
                <a:lnTo>
                  <a:pt x="1184665" y="26814"/>
                </a:lnTo>
                <a:lnTo>
                  <a:pt x="1229312" y="26796"/>
                </a:lnTo>
                <a:lnTo>
                  <a:pt x="1273959" y="31532"/>
                </a:lnTo>
                <a:lnTo>
                  <a:pt x="1318607" y="34479"/>
                </a:lnTo>
                <a:lnTo>
                  <a:pt x="1351019" y="35168"/>
                </a:lnTo>
                <a:lnTo>
                  <a:pt x="1384276" y="35474"/>
                </a:lnTo>
                <a:lnTo>
                  <a:pt x="1415593" y="35610"/>
                </a:lnTo>
                <a:lnTo>
                  <a:pt x="1446048" y="38317"/>
                </a:lnTo>
                <a:lnTo>
                  <a:pt x="1477112" y="41835"/>
                </a:lnTo>
                <a:lnTo>
                  <a:pt x="1510762" y="43398"/>
                </a:lnTo>
                <a:lnTo>
                  <a:pt x="1542916" y="44093"/>
                </a:lnTo>
                <a:lnTo>
                  <a:pt x="1573743" y="45393"/>
                </a:lnTo>
                <a:lnTo>
                  <a:pt x="1603980" y="49279"/>
                </a:lnTo>
                <a:lnTo>
                  <a:pt x="1636601" y="51667"/>
                </a:lnTo>
                <a:lnTo>
                  <a:pt x="1669951" y="52729"/>
                </a:lnTo>
                <a:lnTo>
                  <a:pt x="1701310" y="53201"/>
                </a:lnTo>
                <a:lnTo>
                  <a:pt x="1734429" y="53411"/>
                </a:lnTo>
                <a:lnTo>
                  <a:pt x="1768993" y="54496"/>
                </a:lnTo>
                <a:lnTo>
                  <a:pt x="1804198" y="58286"/>
                </a:lnTo>
                <a:lnTo>
                  <a:pt x="1837043" y="60632"/>
                </a:lnTo>
                <a:lnTo>
                  <a:pt x="1869169" y="62667"/>
                </a:lnTo>
                <a:lnTo>
                  <a:pt x="1903291" y="66878"/>
                </a:lnTo>
                <a:lnTo>
                  <a:pt x="1935654" y="69411"/>
                </a:lnTo>
                <a:lnTo>
                  <a:pt x="1967567" y="71529"/>
                </a:lnTo>
                <a:lnTo>
                  <a:pt x="2001594" y="75778"/>
                </a:lnTo>
                <a:lnTo>
                  <a:pt x="2033915" y="78328"/>
                </a:lnTo>
                <a:lnTo>
                  <a:pt x="2065808" y="80453"/>
                </a:lnTo>
                <a:lnTo>
                  <a:pt x="2099827" y="84705"/>
                </a:lnTo>
                <a:lnTo>
                  <a:pt x="2134790" y="89902"/>
                </a:lnTo>
                <a:lnTo>
                  <a:pt x="2170173" y="94527"/>
                </a:lnTo>
                <a:lnTo>
                  <a:pt x="2205743" y="96582"/>
                </a:lnTo>
                <a:lnTo>
                  <a:pt x="2241395" y="97496"/>
                </a:lnTo>
                <a:lnTo>
                  <a:pt x="2277084" y="98894"/>
                </a:lnTo>
                <a:lnTo>
                  <a:pt x="2312790" y="102822"/>
                </a:lnTo>
                <a:lnTo>
                  <a:pt x="2345857" y="105230"/>
                </a:lnTo>
                <a:lnTo>
                  <a:pt x="2378082" y="106300"/>
                </a:lnTo>
                <a:lnTo>
                  <a:pt x="2412248" y="106776"/>
                </a:lnTo>
                <a:lnTo>
                  <a:pt x="2447277" y="106987"/>
                </a:lnTo>
                <a:lnTo>
                  <a:pt x="2482689" y="108074"/>
                </a:lnTo>
                <a:lnTo>
                  <a:pt x="2518271" y="111864"/>
                </a:lnTo>
                <a:lnTo>
                  <a:pt x="2553929" y="114209"/>
                </a:lnTo>
                <a:lnTo>
                  <a:pt x="2589621" y="115252"/>
                </a:lnTo>
                <a:lnTo>
                  <a:pt x="2625328" y="115715"/>
                </a:lnTo>
                <a:lnTo>
                  <a:pt x="2661042" y="115922"/>
                </a:lnTo>
                <a:lnTo>
                  <a:pt x="2696758" y="117005"/>
                </a:lnTo>
                <a:lnTo>
                  <a:pt x="2732475" y="120794"/>
                </a:lnTo>
                <a:lnTo>
                  <a:pt x="2768194" y="123140"/>
                </a:lnTo>
                <a:lnTo>
                  <a:pt x="2803912" y="125175"/>
                </a:lnTo>
                <a:lnTo>
                  <a:pt x="2839631" y="129386"/>
                </a:lnTo>
                <a:lnTo>
                  <a:pt x="2875349" y="131919"/>
                </a:lnTo>
                <a:lnTo>
                  <a:pt x="2911068" y="134037"/>
                </a:lnTo>
                <a:lnTo>
                  <a:pt x="2946787" y="138286"/>
                </a:lnTo>
                <a:lnTo>
                  <a:pt x="2982506" y="140836"/>
                </a:lnTo>
                <a:lnTo>
                  <a:pt x="3018224" y="142961"/>
                </a:lnTo>
                <a:lnTo>
                  <a:pt x="3053943" y="147213"/>
                </a:lnTo>
                <a:lnTo>
                  <a:pt x="3089662" y="149764"/>
                </a:lnTo>
                <a:lnTo>
                  <a:pt x="3125381" y="151890"/>
                </a:lnTo>
                <a:lnTo>
                  <a:pt x="3161099" y="156142"/>
                </a:lnTo>
                <a:lnTo>
                  <a:pt x="3196818" y="158693"/>
                </a:lnTo>
                <a:lnTo>
                  <a:pt x="3233529" y="159827"/>
                </a:lnTo>
                <a:lnTo>
                  <a:pt x="3272996" y="160332"/>
                </a:lnTo>
                <a:lnTo>
                  <a:pt x="3311042" y="163202"/>
                </a:lnTo>
                <a:lnTo>
                  <a:pt x="3347795" y="166792"/>
                </a:lnTo>
                <a:lnTo>
                  <a:pt x="3383974" y="168388"/>
                </a:lnTo>
                <a:lnTo>
                  <a:pt x="3419897" y="171743"/>
                </a:lnTo>
                <a:lnTo>
                  <a:pt x="3455706" y="175549"/>
                </a:lnTo>
                <a:lnTo>
                  <a:pt x="3491466" y="177241"/>
                </a:lnTo>
                <a:lnTo>
                  <a:pt x="3524556" y="180638"/>
                </a:lnTo>
                <a:lnTo>
                  <a:pt x="3556792" y="184464"/>
                </a:lnTo>
                <a:lnTo>
                  <a:pt x="3590963" y="186163"/>
                </a:lnTo>
                <a:lnTo>
                  <a:pt x="3625993" y="189565"/>
                </a:lnTo>
                <a:lnTo>
                  <a:pt x="3661407" y="193392"/>
                </a:lnTo>
                <a:lnTo>
                  <a:pt x="3696989" y="195093"/>
                </a:lnTo>
                <a:lnTo>
                  <a:pt x="3730002" y="198495"/>
                </a:lnTo>
                <a:lnTo>
                  <a:pt x="3762203" y="203314"/>
                </a:lnTo>
                <a:lnTo>
                  <a:pt x="3796358" y="208762"/>
                </a:lnTo>
                <a:lnTo>
                  <a:pt x="3828736" y="211846"/>
                </a:lnTo>
                <a:lnTo>
                  <a:pt x="3860655" y="214209"/>
                </a:lnTo>
                <a:lnTo>
                  <a:pt x="3894685" y="218566"/>
                </a:lnTo>
                <a:lnTo>
                  <a:pt x="3927007" y="221164"/>
                </a:lnTo>
                <a:lnTo>
                  <a:pt x="3958901" y="223311"/>
                </a:lnTo>
                <a:lnTo>
                  <a:pt x="3992920" y="227572"/>
                </a:lnTo>
                <a:lnTo>
                  <a:pt x="4025237" y="232773"/>
                </a:lnTo>
                <a:lnTo>
                  <a:pt x="4057129" y="237400"/>
                </a:lnTo>
                <a:lnTo>
                  <a:pt x="4091147" y="239457"/>
                </a:lnTo>
                <a:lnTo>
                  <a:pt x="4123465" y="240370"/>
                </a:lnTo>
                <a:lnTo>
                  <a:pt x="4155357" y="240777"/>
                </a:lnTo>
                <a:lnTo>
                  <a:pt x="4189374" y="240957"/>
                </a:lnTo>
                <a:lnTo>
                  <a:pt x="4221691" y="243683"/>
                </a:lnTo>
                <a:lnTo>
                  <a:pt x="4252591" y="247210"/>
                </a:lnTo>
                <a:lnTo>
                  <a:pt x="4282860" y="248778"/>
                </a:lnTo>
                <a:lnTo>
                  <a:pt x="4315496" y="249474"/>
                </a:lnTo>
                <a:lnTo>
                  <a:pt x="4348852" y="249784"/>
                </a:lnTo>
                <a:lnTo>
                  <a:pt x="4380214" y="249922"/>
                </a:lnTo>
                <a:lnTo>
                  <a:pt x="4410689" y="252629"/>
                </a:lnTo>
                <a:lnTo>
                  <a:pt x="4441761" y="256147"/>
                </a:lnTo>
                <a:lnTo>
                  <a:pt x="4475415" y="257710"/>
                </a:lnTo>
                <a:lnTo>
                  <a:pt x="4507571" y="258405"/>
                </a:lnTo>
                <a:lnTo>
                  <a:pt x="4538398" y="258714"/>
                </a:lnTo>
                <a:lnTo>
                  <a:pt x="4568636" y="258851"/>
                </a:lnTo>
                <a:lnTo>
                  <a:pt x="4598612" y="261558"/>
                </a:lnTo>
                <a:lnTo>
                  <a:pt x="4628471" y="265076"/>
                </a:lnTo>
                <a:lnTo>
                  <a:pt x="4658278" y="266640"/>
                </a:lnTo>
                <a:lnTo>
                  <a:pt x="4688061" y="267335"/>
                </a:lnTo>
                <a:lnTo>
                  <a:pt x="4730074" y="267726"/>
                </a:lnTo>
                <a:lnTo>
                  <a:pt x="4770304" y="270488"/>
                </a:lnTo>
                <a:lnTo>
                  <a:pt x="4813643" y="274944"/>
                </a:lnTo>
                <a:lnTo>
                  <a:pt x="4857904" y="278910"/>
                </a:lnTo>
                <a:lnTo>
                  <a:pt x="4899791" y="283724"/>
                </a:lnTo>
                <a:lnTo>
                  <a:pt x="4938108" y="28575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4" name="SMARTInkShape-Group187"/>
          <p:cNvGrpSpPr/>
          <p:nvPr/>
        </p:nvGrpSpPr>
        <p:grpSpPr>
          <a:xfrm>
            <a:off x="2081160" y="3616200"/>
            <a:ext cx="5124600" cy="669960"/>
            <a:chOff x="2081160" y="3616200"/>
            <a:chExt cx="5124600" cy="669960"/>
          </a:xfrm>
        </p:grpSpPr>
        <p:sp>
          <p:nvSpPr>
            <p:cNvPr id="205" name="SMARTInkShape-142"/>
            <p:cNvSpPr/>
            <p:nvPr/>
          </p:nvSpPr>
          <p:spPr>
            <a:xfrm>
              <a:off x="6304320" y="3749760"/>
              <a:ext cx="17640" cy="482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7860" h="482191">
                  <a:moveTo>
                    <a:pt x="0" y="0"/>
                  </a:moveTo>
                  <a:lnTo>
                    <a:pt x="0" y="0"/>
                  </a:lnTo>
                  <a:lnTo>
                    <a:pt x="0" y="39293"/>
                  </a:lnTo>
                  <a:lnTo>
                    <a:pt x="0" y="81922"/>
                  </a:lnTo>
                  <a:lnTo>
                    <a:pt x="0" y="118706"/>
                  </a:lnTo>
                  <a:lnTo>
                    <a:pt x="0" y="161080"/>
                  </a:lnTo>
                  <a:lnTo>
                    <a:pt x="0" y="196522"/>
                  </a:lnTo>
                  <a:lnTo>
                    <a:pt x="0" y="238323"/>
                  </a:lnTo>
                  <a:lnTo>
                    <a:pt x="0" y="276272"/>
                  </a:lnTo>
                  <a:lnTo>
                    <a:pt x="0" y="315260"/>
                  </a:lnTo>
                  <a:lnTo>
                    <a:pt x="2646" y="348796"/>
                  </a:lnTo>
                  <a:lnTo>
                    <a:pt x="8378" y="392170"/>
                  </a:lnTo>
                  <a:lnTo>
                    <a:pt x="8898" y="434536"/>
                  </a:lnTo>
                  <a:lnTo>
                    <a:pt x="11561" y="443820"/>
                  </a:lnTo>
                  <a:lnTo>
                    <a:pt x="15060" y="451254"/>
                  </a:lnTo>
                  <a:lnTo>
                    <a:pt x="17491" y="467165"/>
                  </a:lnTo>
                  <a:lnTo>
                    <a:pt x="17859" y="482190"/>
                  </a:lnTo>
                  <a:lnTo>
                    <a:pt x="17859" y="45541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SMARTInkShape-143"/>
            <p:cNvSpPr/>
            <p:nvPr/>
          </p:nvSpPr>
          <p:spPr>
            <a:xfrm>
              <a:off x="6304320" y="3642480"/>
              <a:ext cx="794520" cy="643680"/>
            </a:xfrm>
            <a:custGeom>
              <a:avLst/>
              <a:gdLst>
                <a:gd name="textAreaLeft" fmla="*/ 0 w 794520"/>
                <a:gd name="textAreaRight" fmla="*/ 794880 w 79452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794743" h="642939">
                  <a:moveTo>
                    <a:pt x="0" y="62508"/>
                  </a:moveTo>
                  <a:lnTo>
                    <a:pt x="0" y="62508"/>
                  </a:lnTo>
                  <a:lnTo>
                    <a:pt x="12429" y="62508"/>
                  </a:lnTo>
                  <a:lnTo>
                    <a:pt x="18092" y="65154"/>
                  </a:lnTo>
                  <a:lnTo>
                    <a:pt x="25070" y="70197"/>
                  </a:lnTo>
                  <a:lnTo>
                    <a:pt x="66489" y="72408"/>
                  </a:lnTo>
                  <a:lnTo>
                    <a:pt x="101291" y="79538"/>
                  </a:lnTo>
                  <a:lnTo>
                    <a:pt x="145526" y="80319"/>
                  </a:lnTo>
                  <a:lnTo>
                    <a:pt x="189618" y="80363"/>
                  </a:lnTo>
                  <a:lnTo>
                    <a:pt x="214933" y="77721"/>
                  </a:lnTo>
                  <a:lnTo>
                    <a:pt x="259043" y="72265"/>
                  </a:lnTo>
                  <a:lnTo>
                    <a:pt x="303620" y="71547"/>
                  </a:lnTo>
                  <a:lnTo>
                    <a:pt x="348259" y="64384"/>
                  </a:lnTo>
                  <a:lnTo>
                    <a:pt x="388717" y="58138"/>
                  </a:lnTo>
                  <a:lnTo>
                    <a:pt x="427797" y="53487"/>
                  </a:lnTo>
                  <a:lnTo>
                    <a:pt x="466827" y="46689"/>
                  </a:lnTo>
                  <a:lnTo>
                    <a:pt x="507718" y="40311"/>
                  </a:lnTo>
                  <a:lnTo>
                    <a:pt x="545452" y="35634"/>
                  </a:lnTo>
                  <a:lnTo>
                    <a:pt x="584802" y="28830"/>
                  </a:lnTo>
                  <a:lnTo>
                    <a:pt x="625654" y="20921"/>
                  </a:lnTo>
                  <a:lnTo>
                    <a:pt x="665061" y="13522"/>
                  </a:lnTo>
                  <a:lnTo>
                    <a:pt x="707060" y="9333"/>
                  </a:lnTo>
                  <a:lnTo>
                    <a:pt x="718730" y="6463"/>
                  </a:lnTo>
                  <a:lnTo>
                    <a:pt x="728217" y="2873"/>
                  </a:lnTo>
                  <a:lnTo>
                    <a:pt x="770797" y="33"/>
                  </a:lnTo>
                  <a:lnTo>
                    <a:pt x="794732" y="0"/>
                  </a:lnTo>
                  <a:lnTo>
                    <a:pt x="794742" y="20991"/>
                  </a:lnTo>
                  <a:lnTo>
                    <a:pt x="792096" y="26858"/>
                  </a:lnTo>
                  <a:lnTo>
                    <a:pt x="788604" y="32773"/>
                  </a:lnTo>
                  <a:lnTo>
                    <a:pt x="776791" y="74764"/>
                  </a:lnTo>
                  <a:lnTo>
                    <a:pt x="769312" y="104226"/>
                  </a:lnTo>
                  <a:lnTo>
                    <a:pt x="765486" y="143666"/>
                  </a:lnTo>
                  <a:lnTo>
                    <a:pt x="759874" y="181491"/>
                  </a:lnTo>
                  <a:lnTo>
                    <a:pt x="754395" y="223624"/>
                  </a:lnTo>
                  <a:lnTo>
                    <a:pt x="750659" y="267941"/>
                  </a:lnTo>
                  <a:lnTo>
                    <a:pt x="750168" y="312546"/>
                  </a:lnTo>
                  <a:lnTo>
                    <a:pt x="750103" y="352448"/>
                  </a:lnTo>
                  <a:lnTo>
                    <a:pt x="750095" y="389949"/>
                  </a:lnTo>
                  <a:lnTo>
                    <a:pt x="752740" y="421169"/>
                  </a:lnTo>
                  <a:lnTo>
                    <a:pt x="758197" y="463545"/>
                  </a:lnTo>
                  <a:lnTo>
                    <a:pt x="758951" y="502708"/>
                  </a:lnTo>
                  <a:lnTo>
                    <a:pt x="759018" y="544692"/>
                  </a:lnTo>
                  <a:lnTo>
                    <a:pt x="758029" y="555617"/>
                  </a:lnTo>
                  <a:lnTo>
                    <a:pt x="751955" y="573361"/>
                  </a:lnTo>
                  <a:lnTo>
                    <a:pt x="750109" y="616094"/>
                  </a:lnTo>
                  <a:lnTo>
                    <a:pt x="750093" y="6429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SMARTInkShape-144"/>
            <p:cNvSpPr/>
            <p:nvPr/>
          </p:nvSpPr>
          <p:spPr>
            <a:xfrm>
              <a:off x="2081160" y="4098600"/>
              <a:ext cx="5124600" cy="86760"/>
            </a:xfrm>
            <a:custGeom>
              <a:avLst/>
              <a:gdLst>
                <a:gd name="textAreaLeft" fmla="*/ 0 w 5124600"/>
                <a:gd name="textAreaRight" fmla="*/ 5124960 w 5124600"/>
                <a:gd name="textAreaTop" fmla="*/ 0 h 86760"/>
                <a:gd name="textAreaBottom" fmla="*/ 86760 h 86760"/>
              </a:gdLst>
              <a:ahLst/>
              <a:rect l="textAreaLeft" t="textAreaTop" r="textAreaRight" b="textAreaBottom"/>
              <a:pathLst>
                <a:path w="5125641" h="86989">
                  <a:moveTo>
                    <a:pt x="0" y="62508"/>
                  </a:moveTo>
                  <a:lnTo>
                    <a:pt x="0" y="62508"/>
                  </a:lnTo>
                  <a:lnTo>
                    <a:pt x="22379" y="75775"/>
                  </a:lnTo>
                  <a:lnTo>
                    <a:pt x="52823" y="84849"/>
                  </a:lnTo>
                  <a:lnTo>
                    <a:pt x="87971" y="86988"/>
                  </a:lnTo>
                  <a:lnTo>
                    <a:pt x="129363" y="82770"/>
                  </a:lnTo>
                  <a:lnTo>
                    <a:pt x="171063" y="81079"/>
                  </a:lnTo>
                  <a:lnTo>
                    <a:pt x="212769" y="80461"/>
                  </a:lnTo>
                  <a:lnTo>
                    <a:pt x="254084" y="80373"/>
                  </a:lnTo>
                  <a:lnTo>
                    <a:pt x="296836" y="80368"/>
                  </a:lnTo>
                  <a:lnTo>
                    <a:pt x="339440" y="80367"/>
                  </a:lnTo>
                  <a:lnTo>
                    <a:pt x="378764" y="80367"/>
                  </a:lnTo>
                  <a:lnTo>
                    <a:pt x="421823" y="79375"/>
                  </a:lnTo>
                  <a:lnTo>
                    <a:pt x="464453" y="72266"/>
                  </a:lnTo>
                  <a:lnTo>
                    <a:pt x="503780" y="71511"/>
                  </a:lnTo>
                  <a:lnTo>
                    <a:pt x="546838" y="71445"/>
                  </a:lnTo>
                  <a:lnTo>
                    <a:pt x="589469" y="71438"/>
                  </a:lnTo>
                  <a:lnTo>
                    <a:pt x="628795" y="71438"/>
                  </a:lnTo>
                  <a:lnTo>
                    <a:pt x="672846" y="71438"/>
                  </a:lnTo>
                  <a:lnTo>
                    <a:pt x="716449" y="71438"/>
                  </a:lnTo>
                  <a:lnTo>
                    <a:pt x="759128" y="71438"/>
                  </a:lnTo>
                  <a:lnTo>
                    <a:pt x="779008" y="70445"/>
                  </a:lnTo>
                  <a:lnTo>
                    <a:pt x="821481" y="63060"/>
                  </a:lnTo>
                  <a:lnTo>
                    <a:pt x="857428" y="63573"/>
                  </a:lnTo>
                  <a:lnTo>
                    <a:pt x="896692" y="70617"/>
                  </a:lnTo>
                  <a:lnTo>
                    <a:pt x="939745" y="71366"/>
                  </a:lnTo>
                  <a:lnTo>
                    <a:pt x="977230" y="71431"/>
                  </a:lnTo>
                  <a:lnTo>
                    <a:pt x="1021119" y="71437"/>
                  </a:lnTo>
                  <a:lnTo>
                    <a:pt x="1064708" y="71438"/>
                  </a:lnTo>
                  <a:lnTo>
                    <a:pt x="1107386" y="70445"/>
                  </a:lnTo>
                  <a:lnTo>
                    <a:pt x="1128258" y="66293"/>
                  </a:lnTo>
                  <a:lnTo>
                    <a:pt x="1172856" y="70856"/>
                  </a:lnTo>
                  <a:lnTo>
                    <a:pt x="1217500" y="71387"/>
                  </a:lnTo>
                  <a:lnTo>
                    <a:pt x="1259489" y="71431"/>
                  </a:lnTo>
                  <a:lnTo>
                    <a:pt x="1296720" y="71437"/>
                  </a:lnTo>
                  <a:lnTo>
                    <a:pt x="1332577" y="70445"/>
                  </a:lnTo>
                  <a:lnTo>
                    <a:pt x="1370130" y="63336"/>
                  </a:lnTo>
                  <a:lnTo>
                    <a:pt x="1414025" y="62581"/>
                  </a:lnTo>
                  <a:lnTo>
                    <a:pt x="1458607" y="62515"/>
                  </a:lnTo>
                  <a:lnTo>
                    <a:pt x="1502258" y="62509"/>
                  </a:lnTo>
                  <a:lnTo>
                    <a:pt x="1544940" y="62508"/>
                  </a:lnTo>
                  <a:lnTo>
                    <a:pt x="1589416" y="62508"/>
                  </a:lnTo>
                  <a:lnTo>
                    <a:pt x="1628904" y="62508"/>
                  </a:lnTo>
                  <a:lnTo>
                    <a:pt x="1672969" y="62508"/>
                  </a:lnTo>
                  <a:lnTo>
                    <a:pt x="1706186" y="59862"/>
                  </a:lnTo>
                  <a:lnTo>
                    <a:pt x="1749489" y="54130"/>
                  </a:lnTo>
                  <a:lnTo>
                    <a:pt x="1788519" y="53627"/>
                  </a:lnTo>
                  <a:lnTo>
                    <a:pt x="1832674" y="53583"/>
                  </a:lnTo>
                  <a:lnTo>
                    <a:pt x="1877280" y="53579"/>
                  </a:lnTo>
                  <a:lnTo>
                    <a:pt x="1893011" y="52586"/>
                  </a:lnTo>
                  <a:lnTo>
                    <a:pt x="1937563" y="45201"/>
                  </a:lnTo>
                  <a:lnTo>
                    <a:pt x="1949569" y="45887"/>
                  </a:lnTo>
                  <a:lnTo>
                    <a:pt x="1991497" y="52772"/>
                  </a:lnTo>
                  <a:lnTo>
                    <a:pt x="2035805" y="53532"/>
                  </a:lnTo>
                  <a:lnTo>
                    <a:pt x="2078741" y="53574"/>
                  </a:lnTo>
                  <a:lnTo>
                    <a:pt x="2091690" y="52585"/>
                  </a:lnTo>
                  <a:lnTo>
                    <a:pt x="2134146" y="45200"/>
                  </a:lnTo>
                  <a:lnTo>
                    <a:pt x="2176977" y="44697"/>
                  </a:lnTo>
                  <a:lnTo>
                    <a:pt x="2220406" y="44652"/>
                  </a:lnTo>
                  <a:lnTo>
                    <a:pt x="2263173" y="44649"/>
                  </a:lnTo>
                  <a:lnTo>
                    <a:pt x="2306008" y="44649"/>
                  </a:lnTo>
                  <a:lnTo>
                    <a:pt x="2343474" y="44649"/>
                  </a:lnTo>
                  <a:lnTo>
                    <a:pt x="2386370" y="44649"/>
                  </a:lnTo>
                  <a:lnTo>
                    <a:pt x="2428826" y="44649"/>
                  </a:lnTo>
                  <a:lnTo>
                    <a:pt x="2440760" y="43656"/>
                  </a:lnTo>
                  <a:lnTo>
                    <a:pt x="2482635" y="36547"/>
                  </a:lnTo>
                  <a:lnTo>
                    <a:pt x="2526938" y="35768"/>
                  </a:lnTo>
                  <a:lnTo>
                    <a:pt x="2568764" y="35722"/>
                  </a:lnTo>
                  <a:lnTo>
                    <a:pt x="2612180" y="35719"/>
                  </a:lnTo>
                  <a:lnTo>
                    <a:pt x="2653772" y="35719"/>
                  </a:lnTo>
                  <a:lnTo>
                    <a:pt x="2693412" y="35719"/>
                  </a:lnTo>
                  <a:lnTo>
                    <a:pt x="2735439" y="35719"/>
                  </a:lnTo>
                  <a:lnTo>
                    <a:pt x="2779777" y="35719"/>
                  </a:lnTo>
                  <a:lnTo>
                    <a:pt x="2821230" y="35719"/>
                  </a:lnTo>
                  <a:lnTo>
                    <a:pt x="2860097" y="35719"/>
                  </a:lnTo>
                  <a:lnTo>
                    <a:pt x="2901592" y="35719"/>
                  </a:lnTo>
                  <a:lnTo>
                    <a:pt x="2943788" y="35719"/>
                  </a:lnTo>
                  <a:lnTo>
                    <a:pt x="2987224" y="28031"/>
                  </a:lnTo>
                  <a:lnTo>
                    <a:pt x="3031060" y="26862"/>
                  </a:lnTo>
                  <a:lnTo>
                    <a:pt x="3073956" y="26796"/>
                  </a:lnTo>
                  <a:lnTo>
                    <a:pt x="3116412" y="26790"/>
                  </a:lnTo>
                  <a:lnTo>
                    <a:pt x="3159243" y="26789"/>
                  </a:lnTo>
                  <a:lnTo>
                    <a:pt x="3202671" y="26789"/>
                  </a:lnTo>
                  <a:lnTo>
                    <a:pt x="3245439" y="26789"/>
                  </a:lnTo>
                  <a:lnTo>
                    <a:pt x="3288274" y="26789"/>
                  </a:lnTo>
                  <a:lnTo>
                    <a:pt x="3330725" y="26789"/>
                  </a:lnTo>
                  <a:lnTo>
                    <a:pt x="3372442" y="26789"/>
                  </a:lnTo>
                  <a:lnTo>
                    <a:pt x="3415852" y="26789"/>
                  </a:lnTo>
                  <a:lnTo>
                    <a:pt x="3458693" y="26789"/>
                  </a:lnTo>
                  <a:lnTo>
                    <a:pt x="3500615" y="26789"/>
                  </a:lnTo>
                  <a:lnTo>
                    <a:pt x="3539879" y="26789"/>
                  </a:lnTo>
                  <a:lnTo>
                    <a:pt x="3563057" y="25797"/>
                  </a:lnTo>
                  <a:lnTo>
                    <a:pt x="3602381" y="18687"/>
                  </a:lnTo>
                  <a:lnTo>
                    <a:pt x="3645440" y="17932"/>
                  </a:lnTo>
                  <a:lnTo>
                    <a:pt x="3688071" y="18858"/>
                  </a:lnTo>
                  <a:lnTo>
                    <a:pt x="3727396" y="25963"/>
                  </a:lnTo>
                  <a:lnTo>
                    <a:pt x="3770455" y="26717"/>
                  </a:lnTo>
                  <a:lnTo>
                    <a:pt x="3813086" y="26783"/>
                  </a:lnTo>
                  <a:lnTo>
                    <a:pt x="3857557" y="26789"/>
                  </a:lnTo>
                  <a:lnTo>
                    <a:pt x="3897045" y="26789"/>
                  </a:lnTo>
                  <a:lnTo>
                    <a:pt x="3940118" y="26789"/>
                  </a:lnTo>
                  <a:lnTo>
                    <a:pt x="3982749" y="26789"/>
                  </a:lnTo>
                  <a:lnTo>
                    <a:pt x="4022076" y="26789"/>
                  </a:lnTo>
                  <a:lnTo>
                    <a:pt x="4054813" y="29435"/>
                  </a:lnTo>
                  <a:lnTo>
                    <a:pt x="4098007" y="35167"/>
                  </a:lnTo>
                  <a:lnTo>
                    <a:pt x="4141450" y="35670"/>
                  </a:lnTo>
                  <a:lnTo>
                    <a:pt x="4185992" y="35715"/>
                  </a:lnTo>
                  <a:lnTo>
                    <a:pt x="4230631" y="35719"/>
                  </a:lnTo>
                  <a:lnTo>
                    <a:pt x="4275279" y="35719"/>
                  </a:lnTo>
                  <a:lnTo>
                    <a:pt x="4297220" y="38365"/>
                  </a:lnTo>
                  <a:lnTo>
                    <a:pt x="4341869" y="44097"/>
                  </a:lnTo>
                  <a:lnTo>
                    <a:pt x="4386517" y="44600"/>
                  </a:lnTo>
                  <a:lnTo>
                    <a:pt x="4431166" y="47290"/>
                  </a:lnTo>
                  <a:lnTo>
                    <a:pt x="4473169" y="53026"/>
                  </a:lnTo>
                  <a:lnTo>
                    <a:pt x="4516507" y="53530"/>
                  </a:lnTo>
                  <a:lnTo>
                    <a:pt x="4556618" y="53574"/>
                  </a:lnTo>
                  <a:lnTo>
                    <a:pt x="4598222" y="53578"/>
                  </a:lnTo>
                  <a:lnTo>
                    <a:pt x="4637104" y="53578"/>
                  </a:lnTo>
                  <a:lnTo>
                    <a:pt x="4678600" y="53578"/>
                  </a:lnTo>
                  <a:lnTo>
                    <a:pt x="4720795" y="53578"/>
                  </a:lnTo>
                  <a:lnTo>
                    <a:pt x="4759492" y="53578"/>
                  </a:lnTo>
                  <a:lnTo>
                    <a:pt x="4800213" y="53578"/>
                  </a:lnTo>
                  <a:lnTo>
                    <a:pt x="4842809" y="53578"/>
                  </a:lnTo>
                  <a:lnTo>
                    <a:pt x="4884535" y="53578"/>
                  </a:lnTo>
                  <a:lnTo>
                    <a:pt x="4895451" y="52586"/>
                  </a:lnTo>
                  <a:lnTo>
                    <a:pt x="4913189" y="46511"/>
                  </a:lnTo>
                  <a:lnTo>
                    <a:pt x="4953108" y="44758"/>
                  </a:lnTo>
                  <a:lnTo>
                    <a:pt x="4985583" y="43663"/>
                  </a:lnTo>
                  <a:lnTo>
                    <a:pt x="5002652" y="37582"/>
                  </a:lnTo>
                  <a:lnTo>
                    <a:pt x="5043940" y="35751"/>
                  </a:lnTo>
                  <a:lnTo>
                    <a:pt x="5055902" y="35729"/>
                  </a:lnTo>
                  <a:lnTo>
                    <a:pt x="5062566" y="33078"/>
                  </a:lnTo>
                  <a:lnTo>
                    <a:pt x="5068834" y="29584"/>
                  </a:lnTo>
                  <a:lnTo>
                    <a:pt x="5080942" y="27342"/>
                  </a:lnTo>
                  <a:lnTo>
                    <a:pt x="5106126" y="26792"/>
                  </a:lnTo>
                  <a:lnTo>
                    <a:pt x="5112032" y="22050"/>
                  </a:lnTo>
                  <a:lnTo>
                    <a:pt x="5114631" y="17076"/>
                  </a:lnTo>
                  <a:lnTo>
                    <a:pt x="5115324" y="14361"/>
                  </a:lnTo>
                  <a:lnTo>
                    <a:pt x="512564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SMARTInkShape-145"/>
            <p:cNvSpPr/>
            <p:nvPr/>
          </p:nvSpPr>
          <p:spPr>
            <a:xfrm>
              <a:off x="5107680" y="3616200"/>
              <a:ext cx="580320" cy="5090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580431" h="508612">
                  <a:moveTo>
                    <a:pt x="580430" y="463963"/>
                  </a:moveTo>
                  <a:lnTo>
                    <a:pt x="580430" y="463963"/>
                  </a:lnTo>
                  <a:lnTo>
                    <a:pt x="566190" y="448732"/>
                  </a:lnTo>
                  <a:lnTo>
                    <a:pt x="563643" y="440047"/>
                  </a:lnTo>
                  <a:lnTo>
                    <a:pt x="561672" y="421290"/>
                  </a:lnTo>
                  <a:lnTo>
                    <a:pt x="555521" y="400669"/>
                  </a:lnTo>
                  <a:lnTo>
                    <a:pt x="553663" y="361433"/>
                  </a:lnTo>
                  <a:lnTo>
                    <a:pt x="553641" y="317249"/>
                  </a:lnTo>
                  <a:lnTo>
                    <a:pt x="554633" y="299997"/>
                  </a:lnTo>
                  <a:lnTo>
                    <a:pt x="561742" y="263519"/>
                  </a:lnTo>
                  <a:lnTo>
                    <a:pt x="563490" y="220711"/>
                  </a:lnTo>
                  <a:lnTo>
                    <a:pt x="570944" y="178261"/>
                  </a:lnTo>
                  <a:lnTo>
                    <a:pt x="572419" y="148454"/>
                  </a:lnTo>
                  <a:lnTo>
                    <a:pt x="579873" y="113843"/>
                  </a:lnTo>
                  <a:lnTo>
                    <a:pt x="580420" y="69444"/>
                  </a:lnTo>
                  <a:lnTo>
                    <a:pt x="580430" y="26844"/>
                  </a:lnTo>
                  <a:lnTo>
                    <a:pt x="580430" y="10214"/>
                  </a:lnTo>
                  <a:lnTo>
                    <a:pt x="579438" y="9659"/>
                  </a:lnTo>
                  <a:lnTo>
                    <a:pt x="575690" y="9042"/>
                  </a:lnTo>
                  <a:lnTo>
                    <a:pt x="574293" y="7886"/>
                  </a:lnTo>
                  <a:lnTo>
                    <a:pt x="571609" y="0"/>
                  </a:lnTo>
                  <a:lnTo>
                    <a:pt x="564393" y="5831"/>
                  </a:lnTo>
                  <a:lnTo>
                    <a:pt x="556275" y="7744"/>
                  </a:lnTo>
                  <a:lnTo>
                    <a:pt x="550511" y="8191"/>
                  </a:lnTo>
                  <a:lnTo>
                    <a:pt x="544643" y="11035"/>
                  </a:lnTo>
                  <a:lnTo>
                    <a:pt x="514759" y="31466"/>
                  </a:lnTo>
                  <a:lnTo>
                    <a:pt x="475837" y="47616"/>
                  </a:lnTo>
                  <a:lnTo>
                    <a:pt x="434554" y="68102"/>
                  </a:lnTo>
                  <a:lnTo>
                    <a:pt x="416712" y="76024"/>
                  </a:lnTo>
                  <a:lnTo>
                    <a:pt x="374863" y="86768"/>
                  </a:lnTo>
                  <a:lnTo>
                    <a:pt x="348809" y="95364"/>
                  </a:lnTo>
                  <a:lnTo>
                    <a:pt x="330562" y="99756"/>
                  </a:lnTo>
                  <a:lnTo>
                    <a:pt x="317572" y="103656"/>
                  </a:lnTo>
                  <a:lnTo>
                    <a:pt x="274677" y="107494"/>
                  </a:lnTo>
                  <a:lnTo>
                    <a:pt x="232062" y="114853"/>
                  </a:lnTo>
                  <a:lnTo>
                    <a:pt x="193728" y="114638"/>
                  </a:lnTo>
                  <a:lnTo>
                    <a:pt x="151820" y="107323"/>
                  </a:lnTo>
                  <a:lnTo>
                    <a:pt x="122041" y="105856"/>
                  </a:lnTo>
                  <a:lnTo>
                    <a:pt x="93449" y="97687"/>
                  </a:lnTo>
                  <a:lnTo>
                    <a:pt x="82700" y="91956"/>
                  </a:lnTo>
                  <a:lnTo>
                    <a:pt x="68379" y="88825"/>
                  </a:lnTo>
                  <a:lnTo>
                    <a:pt x="54150" y="82026"/>
                  </a:lnTo>
                  <a:lnTo>
                    <a:pt x="37516" y="80106"/>
                  </a:lnTo>
                  <a:lnTo>
                    <a:pt x="28944" y="73873"/>
                  </a:lnTo>
                  <a:lnTo>
                    <a:pt x="19516" y="71427"/>
                  </a:lnTo>
                  <a:lnTo>
                    <a:pt x="8966" y="71057"/>
                  </a:lnTo>
                  <a:lnTo>
                    <a:pt x="8940" y="75797"/>
                  </a:lnTo>
                  <a:lnTo>
                    <a:pt x="7944" y="77194"/>
                  </a:lnTo>
                  <a:lnTo>
                    <a:pt x="6288" y="78124"/>
                  </a:lnTo>
                  <a:lnTo>
                    <a:pt x="4192" y="78745"/>
                  </a:lnTo>
                  <a:lnTo>
                    <a:pt x="2795" y="80151"/>
                  </a:lnTo>
                  <a:lnTo>
                    <a:pt x="1242" y="84359"/>
                  </a:lnTo>
                  <a:lnTo>
                    <a:pt x="6" y="128794"/>
                  </a:lnTo>
                  <a:lnTo>
                    <a:pt x="0" y="170542"/>
                  </a:lnTo>
                  <a:lnTo>
                    <a:pt x="0" y="214097"/>
                  </a:lnTo>
                  <a:lnTo>
                    <a:pt x="0" y="255614"/>
                  </a:lnTo>
                  <a:lnTo>
                    <a:pt x="0" y="297276"/>
                  </a:lnTo>
                  <a:lnTo>
                    <a:pt x="0" y="338139"/>
                  </a:lnTo>
                  <a:lnTo>
                    <a:pt x="0" y="380878"/>
                  </a:lnTo>
                  <a:lnTo>
                    <a:pt x="0" y="421314"/>
                  </a:lnTo>
                  <a:lnTo>
                    <a:pt x="0" y="463343"/>
                  </a:lnTo>
                  <a:lnTo>
                    <a:pt x="0" y="507991"/>
                  </a:lnTo>
                  <a:lnTo>
                    <a:pt x="0" y="508611"/>
                  </a:lnTo>
                  <a:lnTo>
                    <a:pt x="8930" y="49968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09" name="SMARTInkShape-Group188"/>
          <p:cNvGrpSpPr/>
          <p:nvPr/>
        </p:nvGrpSpPr>
        <p:grpSpPr>
          <a:xfrm>
            <a:off x="7304040" y="3009960"/>
            <a:ext cx="1492200" cy="1052280"/>
            <a:chOff x="7304040" y="3009960"/>
            <a:chExt cx="1492200" cy="1052280"/>
          </a:xfrm>
        </p:grpSpPr>
        <p:sp>
          <p:nvSpPr>
            <p:cNvPr id="210" name="SMARTInkShape-146"/>
            <p:cNvSpPr/>
            <p:nvPr/>
          </p:nvSpPr>
          <p:spPr>
            <a:xfrm>
              <a:off x="8412120" y="3027600"/>
              <a:ext cx="384120" cy="151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83977" h="151806">
                  <a:moveTo>
                    <a:pt x="0" y="142875"/>
                  </a:moveTo>
                  <a:lnTo>
                    <a:pt x="0" y="142875"/>
                  </a:lnTo>
                  <a:lnTo>
                    <a:pt x="0" y="117545"/>
                  </a:lnTo>
                  <a:lnTo>
                    <a:pt x="30147" y="85943"/>
                  </a:lnTo>
                  <a:lnTo>
                    <a:pt x="35889" y="82845"/>
                  </a:lnTo>
                  <a:lnTo>
                    <a:pt x="41748" y="80476"/>
                  </a:lnTo>
                  <a:lnTo>
                    <a:pt x="71439" y="56174"/>
                  </a:lnTo>
                  <a:lnTo>
                    <a:pt x="77390" y="53739"/>
                  </a:lnTo>
                  <a:lnTo>
                    <a:pt x="107156" y="29386"/>
                  </a:lnTo>
                  <a:lnTo>
                    <a:pt x="113109" y="26951"/>
                  </a:lnTo>
                  <a:lnTo>
                    <a:pt x="127993" y="14512"/>
                  </a:lnTo>
                  <a:lnTo>
                    <a:pt x="131299" y="8765"/>
                  </a:lnTo>
                  <a:lnTo>
                    <a:pt x="133943" y="9"/>
                  </a:lnTo>
                  <a:lnTo>
                    <a:pt x="133943" y="6"/>
                  </a:lnTo>
                  <a:lnTo>
                    <a:pt x="133944" y="4"/>
                  </a:lnTo>
                  <a:lnTo>
                    <a:pt x="133944" y="2"/>
                  </a:lnTo>
                  <a:lnTo>
                    <a:pt x="133945" y="0"/>
                  </a:lnTo>
                  <a:lnTo>
                    <a:pt x="147248" y="13302"/>
                  </a:lnTo>
                  <a:lnTo>
                    <a:pt x="149778" y="18480"/>
                  </a:lnTo>
                  <a:lnTo>
                    <a:pt x="150454" y="21249"/>
                  </a:lnTo>
                  <a:lnTo>
                    <a:pt x="151897" y="23096"/>
                  </a:lnTo>
                  <a:lnTo>
                    <a:pt x="164115" y="31043"/>
                  </a:lnTo>
                  <a:lnTo>
                    <a:pt x="175696" y="47069"/>
                  </a:lnTo>
                  <a:lnTo>
                    <a:pt x="190511" y="57462"/>
                  </a:lnTo>
                  <a:lnTo>
                    <a:pt x="211336" y="84554"/>
                  </a:lnTo>
                  <a:lnTo>
                    <a:pt x="248170" y="104661"/>
                  </a:lnTo>
                  <a:lnTo>
                    <a:pt x="255158" y="107039"/>
                  </a:lnTo>
                  <a:lnTo>
                    <a:pt x="264670" y="112964"/>
                  </a:lnTo>
                  <a:lnTo>
                    <a:pt x="273772" y="116153"/>
                  </a:lnTo>
                  <a:lnTo>
                    <a:pt x="283745" y="121948"/>
                  </a:lnTo>
                  <a:lnTo>
                    <a:pt x="297834" y="125099"/>
                  </a:lnTo>
                  <a:lnTo>
                    <a:pt x="311985" y="131904"/>
                  </a:lnTo>
                  <a:lnTo>
                    <a:pt x="353377" y="143016"/>
                  </a:lnTo>
                  <a:lnTo>
                    <a:pt x="363886" y="148759"/>
                  </a:lnTo>
                  <a:lnTo>
                    <a:pt x="383976" y="15180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SMARTInkShape-147"/>
            <p:cNvSpPr/>
            <p:nvPr/>
          </p:nvSpPr>
          <p:spPr>
            <a:xfrm>
              <a:off x="8349480" y="3009960"/>
              <a:ext cx="267840" cy="2584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67692" h="258951">
                  <a:moveTo>
                    <a:pt x="17779" y="0"/>
                  </a:moveTo>
                  <a:lnTo>
                    <a:pt x="17779" y="0"/>
                  </a:lnTo>
                  <a:lnTo>
                    <a:pt x="13039" y="4741"/>
                  </a:lnTo>
                  <a:lnTo>
                    <a:pt x="10712" y="9714"/>
                  </a:lnTo>
                  <a:lnTo>
                    <a:pt x="10091" y="12429"/>
                  </a:lnTo>
                  <a:lnTo>
                    <a:pt x="2959" y="24908"/>
                  </a:lnTo>
                  <a:lnTo>
                    <a:pt x="0" y="67411"/>
                  </a:lnTo>
                  <a:lnTo>
                    <a:pt x="920" y="103251"/>
                  </a:lnTo>
                  <a:lnTo>
                    <a:pt x="15734" y="145740"/>
                  </a:lnTo>
                  <a:lnTo>
                    <a:pt x="47557" y="190097"/>
                  </a:lnTo>
                  <a:lnTo>
                    <a:pt x="82382" y="222675"/>
                  </a:lnTo>
                  <a:lnTo>
                    <a:pt x="126852" y="251327"/>
                  </a:lnTo>
                  <a:lnTo>
                    <a:pt x="137694" y="255568"/>
                  </a:lnTo>
                  <a:lnTo>
                    <a:pt x="178563" y="258763"/>
                  </a:lnTo>
                  <a:lnTo>
                    <a:pt x="207760" y="258950"/>
                  </a:lnTo>
                  <a:lnTo>
                    <a:pt x="237187" y="249866"/>
                  </a:lnTo>
                  <a:lnTo>
                    <a:pt x="251763" y="239056"/>
                  </a:lnTo>
                  <a:lnTo>
                    <a:pt x="254136" y="236761"/>
                  </a:lnTo>
                  <a:lnTo>
                    <a:pt x="256773" y="231566"/>
                  </a:lnTo>
                  <a:lnTo>
                    <a:pt x="257476" y="228791"/>
                  </a:lnTo>
                  <a:lnTo>
                    <a:pt x="265765" y="214260"/>
                  </a:lnTo>
                  <a:lnTo>
                    <a:pt x="267691" y="193474"/>
                  </a:lnTo>
                  <a:lnTo>
                    <a:pt x="265112" y="187523"/>
                  </a:lnTo>
                  <a:lnTo>
                    <a:pt x="261651" y="181570"/>
                  </a:lnTo>
                  <a:lnTo>
                    <a:pt x="259427" y="169665"/>
                  </a:lnTo>
                  <a:lnTo>
                    <a:pt x="259245" y="166688"/>
                  </a:lnTo>
                  <a:lnTo>
                    <a:pt x="256397" y="160735"/>
                  </a:lnTo>
                  <a:lnTo>
                    <a:pt x="244664" y="145852"/>
                  </a:lnTo>
                  <a:lnTo>
                    <a:pt x="242640" y="139899"/>
                  </a:lnTo>
                  <a:lnTo>
                    <a:pt x="241108" y="137915"/>
                  </a:lnTo>
                  <a:lnTo>
                    <a:pt x="225885" y="128157"/>
                  </a:lnTo>
                  <a:lnTo>
                    <a:pt x="220073" y="126412"/>
                  </a:lnTo>
                  <a:lnTo>
                    <a:pt x="187443" y="1250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SMARTInkShape-148"/>
            <p:cNvSpPr/>
            <p:nvPr/>
          </p:nvSpPr>
          <p:spPr>
            <a:xfrm>
              <a:off x="8045640" y="3161520"/>
              <a:ext cx="428760" cy="32112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428618" h="321470">
                  <a:moveTo>
                    <a:pt x="26785" y="187523"/>
                  </a:moveTo>
                  <a:lnTo>
                    <a:pt x="26785" y="187523"/>
                  </a:lnTo>
                  <a:lnTo>
                    <a:pt x="50873" y="210620"/>
                  </a:lnTo>
                  <a:lnTo>
                    <a:pt x="62559" y="216229"/>
                  </a:lnTo>
                  <a:lnTo>
                    <a:pt x="88083" y="235261"/>
                  </a:lnTo>
                  <a:lnTo>
                    <a:pt x="132030" y="259126"/>
                  </a:lnTo>
                  <a:lnTo>
                    <a:pt x="176126" y="285755"/>
                  </a:lnTo>
                  <a:lnTo>
                    <a:pt x="179924" y="288730"/>
                  </a:lnTo>
                  <a:lnTo>
                    <a:pt x="189435" y="292035"/>
                  </a:lnTo>
                  <a:lnTo>
                    <a:pt x="199284" y="294497"/>
                  </a:lnTo>
                  <a:lnTo>
                    <a:pt x="231076" y="312428"/>
                  </a:lnTo>
                  <a:lnTo>
                    <a:pt x="238679" y="318349"/>
                  </a:lnTo>
                  <a:lnTo>
                    <a:pt x="250023" y="321468"/>
                  </a:lnTo>
                  <a:lnTo>
                    <a:pt x="236725" y="321469"/>
                  </a:lnTo>
                  <a:lnTo>
                    <a:pt x="192519" y="305656"/>
                  </a:lnTo>
                  <a:lnTo>
                    <a:pt x="150551" y="282737"/>
                  </a:lnTo>
                  <a:lnTo>
                    <a:pt x="110999" y="257223"/>
                  </a:lnTo>
                  <a:lnTo>
                    <a:pt x="87481" y="243330"/>
                  </a:lnTo>
                  <a:lnTo>
                    <a:pt x="69605" y="225153"/>
                  </a:lnTo>
                  <a:lnTo>
                    <a:pt x="52000" y="211713"/>
                  </a:lnTo>
                  <a:lnTo>
                    <a:pt x="33254" y="189435"/>
                  </a:lnTo>
                  <a:lnTo>
                    <a:pt x="23707" y="181428"/>
                  </a:lnTo>
                  <a:lnTo>
                    <a:pt x="13746" y="166756"/>
                  </a:lnTo>
                  <a:lnTo>
                    <a:pt x="11069" y="159111"/>
                  </a:lnTo>
                  <a:lnTo>
                    <a:pt x="9362" y="156676"/>
                  </a:lnTo>
                  <a:lnTo>
                    <a:pt x="7232" y="155052"/>
                  </a:lnTo>
                  <a:lnTo>
                    <a:pt x="4819" y="153970"/>
                  </a:lnTo>
                  <a:lnTo>
                    <a:pt x="3212" y="152256"/>
                  </a:lnTo>
                  <a:lnTo>
                    <a:pt x="1425" y="147706"/>
                  </a:lnTo>
                  <a:lnTo>
                    <a:pt x="0" y="126301"/>
                  </a:lnTo>
                  <a:lnTo>
                    <a:pt x="990" y="125872"/>
                  </a:lnTo>
                  <a:lnTo>
                    <a:pt x="38446" y="125019"/>
                  </a:lnTo>
                  <a:lnTo>
                    <a:pt x="80586" y="133394"/>
                  </a:lnTo>
                  <a:lnTo>
                    <a:pt x="92369" y="134693"/>
                  </a:lnTo>
                  <a:lnTo>
                    <a:pt x="133947" y="144955"/>
                  </a:lnTo>
                  <a:lnTo>
                    <a:pt x="176728" y="158271"/>
                  </a:lnTo>
                  <a:lnTo>
                    <a:pt x="221213" y="167586"/>
                  </a:lnTo>
                  <a:lnTo>
                    <a:pt x="240498" y="171695"/>
                  </a:lnTo>
                  <a:lnTo>
                    <a:pt x="253729" y="175528"/>
                  </a:lnTo>
                  <a:lnTo>
                    <a:pt x="296802" y="178325"/>
                  </a:lnTo>
                  <a:lnTo>
                    <a:pt x="315260" y="179506"/>
                  </a:lnTo>
                  <a:lnTo>
                    <a:pt x="351208" y="186689"/>
                  </a:lnTo>
                  <a:lnTo>
                    <a:pt x="394114" y="187491"/>
                  </a:lnTo>
                  <a:lnTo>
                    <a:pt x="428608" y="187523"/>
                  </a:lnTo>
                  <a:lnTo>
                    <a:pt x="428617" y="182783"/>
                  </a:lnTo>
                  <a:lnTo>
                    <a:pt x="427625" y="181387"/>
                  </a:lnTo>
                  <a:lnTo>
                    <a:pt x="425974" y="180456"/>
                  </a:lnTo>
                  <a:lnTo>
                    <a:pt x="423879" y="179836"/>
                  </a:lnTo>
                  <a:lnTo>
                    <a:pt x="422484" y="178429"/>
                  </a:lnTo>
                  <a:lnTo>
                    <a:pt x="417596" y="169044"/>
                  </a:lnTo>
                  <a:lnTo>
                    <a:pt x="407371" y="157635"/>
                  </a:lnTo>
                  <a:lnTo>
                    <a:pt x="399002" y="154396"/>
                  </a:lnTo>
                  <a:lnTo>
                    <a:pt x="393992" y="153532"/>
                  </a:lnTo>
                  <a:lnTo>
                    <a:pt x="389660" y="150972"/>
                  </a:lnTo>
                  <a:lnTo>
                    <a:pt x="377830" y="139872"/>
                  </a:lnTo>
                  <a:lnTo>
                    <a:pt x="344999" y="126345"/>
                  </a:lnTo>
                  <a:lnTo>
                    <a:pt x="324056" y="111535"/>
                  </a:lnTo>
                  <a:lnTo>
                    <a:pt x="299794" y="99612"/>
                  </a:lnTo>
                  <a:lnTo>
                    <a:pt x="282523" y="86951"/>
                  </a:lnTo>
                  <a:lnTo>
                    <a:pt x="264837" y="80334"/>
                  </a:lnTo>
                  <a:lnTo>
                    <a:pt x="222023" y="50891"/>
                  </a:lnTo>
                  <a:lnTo>
                    <a:pt x="202565" y="39745"/>
                  </a:lnTo>
                  <a:lnTo>
                    <a:pt x="191426" y="35919"/>
                  </a:lnTo>
                  <a:lnTo>
                    <a:pt x="161145" y="9341"/>
                  </a:lnTo>
                  <a:lnTo>
                    <a:pt x="160766" y="8966"/>
                  </a:lnTo>
                  <a:lnTo>
                    <a:pt x="16966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SMARTInkShape-149"/>
            <p:cNvSpPr/>
            <p:nvPr/>
          </p:nvSpPr>
          <p:spPr>
            <a:xfrm>
              <a:off x="7902720" y="3411360"/>
              <a:ext cx="248760" cy="2404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248778" h="240715">
                  <a:moveTo>
                    <a:pt x="17858" y="53574"/>
                  </a:moveTo>
                  <a:lnTo>
                    <a:pt x="17858" y="53574"/>
                  </a:lnTo>
                  <a:lnTo>
                    <a:pt x="2482" y="53574"/>
                  </a:lnTo>
                  <a:lnTo>
                    <a:pt x="1654" y="54567"/>
                  </a:lnTo>
                  <a:lnTo>
                    <a:pt x="217" y="61263"/>
                  </a:lnTo>
                  <a:lnTo>
                    <a:pt x="0" y="95254"/>
                  </a:lnTo>
                  <a:lnTo>
                    <a:pt x="2645" y="99549"/>
                  </a:lnTo>
                  <a:lnTo>
                    <a:pt x="12427" y="115131"/>
                  </a:lnTo>
                  <a:lnTo>
                    <a:pt x="18770" y="131181"/>
                  </a:lnTo>
                  <a:lnTo>
                    <a:pt x="51422" y="175513"/>
                  </a:lnTo>
                  <a:lnTo>
                    <a:pt x="72187" y="194372"/>
                  </a:lnTo>
                  <a:lnTo>
                    <a:pt x="112953" y="227291"/>
                  </a:lnTo>
                  <a:lnTo>
                    <a:pt x="128826" y="230723"/>
                  </a:lnTo>
                  <a:lnTo>
                    <a:pt x="145106" y="232732"/>
                  </a:lnTo>
                  <a:lnTo>
                    <a:pt x="163220" y="239800"/>
                  </a:lnTo>
                  <a:lnTo>
                    <a:pt x="177234" y="240714"/>
                  </a:lnTo>
                  <a:lnTo>
                    <a:pt x="185595" y="238281"/>
                  </a:lnTo>
                  <a:lnTo>
                    <a:pt x="192619" y="234885"/>
                  </a:lnTo>
                  <a:lnTo>
                    <a:pt x="208246" y="232526"/>
                  </a:lnTo>
                  <a:lnTo>
                    <a:pt x="217255" y="232274"/>
                  </a:lnTo>
                  <a:lnTo>
                    <a:pt x="219250" y="231247"/>
                  </a:lnTo>
                  <a:lnTo>
                    <a:pt x="220581" y="229569"/>
                  </a:lnTo>
                  <a:lnTo>
                    <a:pt x="221468" y="227459"/>
                  </a:lnTo>
                  <a:lnTo>
                    <a:pt x="223050" y="226052"/>
                  </a:lnTo>
                  <a:lnTo>
                    <a:pt x="232721" y="221149"/>
                  </a:lnTo>
                  <a:lnTo>
                    <a:pt x="235515" y="218869"/>
                  </a:lnTo>
                  <a:lnTo>
                    <a:pt x="238618" y="213690"/>
                  </a:lnTo>
                  <a:lnTo>
                    <a:pt x="240774" y="205481"/>
                  </a:lnTo>
                  <a:lnTo>
                    <a:pt x="240956" y="201125"/>
                  </a:lnTo>
                  <a:lnTo>
                    <a:pt x="243681" y="195882"/>
                  </a:lnTo>
                  <a:lnTo>
                    <a:pt x="247209" y="190244"/>
                  </a:lnTo>
                  <a:lnTo>
                    <a:pt x="248777" y="184431"/>
                  </a:lnTo>
                  <a:lnTo>
                    <a:pt x="248202" y="182484"/>
                  </a:lnTo>
                  <a:lnTo>
                    <a:pt x="246828" y="181186"/>
                  </a:lnTo>
                  <a:lnTo>
                    <a:pt x="244919" y="180321"/>
                  </a:lnTo>
                  <a:lnTo>
                    <a:pt x="243647" y="178752"/>
                  </a:lnTo>
                  <a:lnTo>
                    <a:pt x="242232" y="174362"/>
                  </a:lnTo>
                  <a:lnTo>
                    <a:pt x="240175" y="146602"/>
                  </a:lnTo>
                  <a:lnTo>
                    <a:pt x="233991" y="137142"/>
                  </a:lnTo>
                  <a:lnTo>
                    <a:pt x="193800" y="95578"/>
                  </a:lnTo>
                  <a:lnTo>
                    <a:pt x="167568" y="71986"/>
                  </a:lnTo>
                  <a:lnTo>
                    <a:pt x="123098" y="44659"/>
                  </a:lnTo>
                  <a:lnTo>
                    <a:pt x="83451" y="21825"/>
                  </a:lnTo>
                  <a:lnTo>
                    <a:pt x="64586" y="15994"/>
                  </a:lnTo>
                  <a:lnTo>
                    <a:pt x="60917" y="13638"/>
                  </a:lnTo>
                  <a:lnTo>
                    <a:pt x="46270" y="10322"/>
                  </a:lnTo>
                  <a:lnTo>
                    <a:pt x="30673" y="8210"/>
                  </a:lnTo>
                  <a:lnTo>
                    <a:pt x="18038" y="1913"/>
                  </a:lnTo>
                  <a:lnTo>
                    <a:pt x="45" y="0"/>
                  </a:lnTo>
                  <a:lnTo>
                    <a:pt x="13" y="4738"/>
                  </a:lnTo>
                  <a:lnTo>
                    <a:pt x="1000" y="6134"/>
                  </a:lnTo>
                  <a:lnTo>
                    <a:pt x="2651" y="7064"/>
                  </a:lnTo>
                  <a:lnTo>
                    <a:pt x="8928" y="89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SMARTInkShape-150"/>
            <p:cNvSpPr/>
            <p:nvPr/>
          </p:nvSpPr>
          <p:spPr>
            <a:xfrm>
              <a:off x="7598880" y="3536280"/>
              <a:ext cx="473400" cy="2494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473166" h="249754">
                  <a:moveTo>
                    <a:pt x="8821" y="205227"/>
                  </a:moveTo>
                  <a:lnTo>
                    <a:pt x="8821" y="205227"/>
                  </a:lnTo>
                  <a:lnTo>
                    <a:pt x="1753" y="188446"/>
                  </a:lnTo>
                  <a:lnTo>
                    <a:pt x="0" y="166595"/>
                  </a:lnTo>
                  <a:lnTo>
                    <a:pt x="2585" y="160607"/>
                  </a:lnTo>
                  <a:lnTo>
                    <a:pt x="4664" y="157621"/>
                  </a:lnTo>
                  <a:lnTo>
                    <a:pt x="15879" y="121118"/>
                  </a:lnTo>
                  <a:lnTo>
                    <a:pt x="55218" y="78501"/>
                  </a:lnTo>
                  <a:lnTo>
                    <a:pt x="98302" y="38026"/>
                  </a:lnTo>
                  <a:lnTo>
                    <a:pt x="139614" y="11846"/>
                  </a:lnTo>
                  <a:lnTo>
                    <a:pt x="158534" y="2509"/>
                  </a:lnTo>
                  <a:lnTo>
                    <a:pt x="181339" y="0"/>
                  </a:lnTo>
                  <a:lnTo>
                    <a:pt x="183365" y="940"/>
                  </a:lnTo>
                  <a:lnTo>
                    <a:pt x="184714" y="2560"/>
                  </a:lnTo>
                  <a:lnTo>
                    <a:pt x="187207" y="7004"/>
                  </a:lnTo>
                  <a:lnTo>
                    <a:pt x="193196" y="15084"/>
                  </a:lnTo>
                  <a:lnTo>
                    <a:pt x="195411" y="23763"/>
                  </a:lnTo>
                  <a:lnTo>
                    <a:pt x="196321" y="65679"/>
                  </a:lnTo>
                  <a:lnTo>
                    <a:pt x="195346" y="83292"/>
                  </a:lnTo>
                  <a:lnTo>
                    <a:pt x="185320" y="124866"/>
                  </a:lnTo>
                  <a:lnTo>
                    <a:pt x="180510" y="142721"/>
                  </a:lnTo>
                  <a:lnTo>
                    <a:pt x="176017" y="178438"/>
                  </a:lnTo>
                  <a:lnTo>
                    <a:pt x="171471" y="196297"/>
                  </a:lnTo>
                  <a:lnTo>
                    <a:pt x="169667" y="225540"/>
                  </a:lnTo>
                  <a:lnTo>
                    <a:pt x="172251" y="231784"/>
                  </a:lnTo>
                  <a:lnTo>
                    <a:pt x="177254" y="239135"/>
                  </a:lnTo>
                  <a:lnTo>
                    <a:pt x="178120" y="245150"/>
                  </a:lnTo>
                  <a:lnTo>
                    <a:pt x="179235" y="246725"/>
                  </a:lnTo>
                  <a:lnTo>
                    <a:pt x="180969" y="247775"/>
                  </a:lnTo>
                  <a:lnTo>
                    <a:pt x="187558" y="249599"/>
                  </a:lnTo>
                  <a:lnTo>
                    <a:pt x="191778" y="249753"/>
                  </a:lnTo>
                  <a:lnTo>
                    <a:pt x="219411" y="240774"/>
                  </a:lnTo>
                  <a:lnTo>
                    <a:pt x="229859" y="235052"/>
                  </a:lnTo>
                  <a:lnTo>
                    <a:pt x="268001" y="222480"/>
                  </a:lnTo>
                  <a:lnTo>
                    <a:pt x="279786" y="217856"/>
                  </a:lnTo>
                  <a:lnTo>
                    <a:pt x="321366" y="207306"/>
                  </a:lnTo>
                  <a:lnTo>
                    <a:pt x="339222" y="203197"/>
                  </a:lnTo>
                  <a:lnTo>
                    <a:pt x="378743" y="190430"/>
                  </a:lnTo>
                  <a:lnTo>
                    <a:pt x="395027" y="187283"/>
                  </a:lnTo>
                  <a:lnTo>
                    <a:pt x="407569" y="181500"/>
                  </a:lnTo>
                  <a:lnTo>
                    <a:pt x="422421" y="178353"/>
                  </a:lnTo>
                  <a:lnTo>
                    <a:pt x="436831" y="171550"/>
                  </a:lnTo>
                  <a:lnTo>
                    <a:pt x="443125" y="169423"/>
                  </a:lnTo>
                  <a:lnTo>
                    <a:pt x="452248" y="163640"/>
                  </a:lnTo>
                  <a:lnTo>
                    <a:pt x="458245" y="161939"/>
                  </a:lnTo>
                  <a:lnTo>
                    <a:pt x="460242" y="160494"/>
                  </a:lnTo>
                  <a:lnTo>
                    <a:pt x="461574" y="158537"/>
                  </a:lnTo>
                  <a:lnTo>
                    <a:pt x="464044" y="153719"/>
                  </a:lnTo>
                  <a:lnTo>
                    <a:pt x="470022" y="145427"/>
                  </a:lnTo>
                  <a:lnTo>
                    <a:pt x="473165" y="1337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SMARTInkShape-151"/>
            <p:cNvSpPr/>
            <p:nvPr/>
          </p:nvSpPr>
          <p:spPr>
            <a:xfrm>
              <a:off x="7616520" y="3732480"/>
              <a:ext cx="231840" cy="1159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31792" h="116087">
                  <a:moveTo>
                    <a:pt x="0" y="0"/>
                  </a:moveTo>
                  <a:lnTo>
                    <a:pt x="0" y="0"/>
                  </a:lnTo>
                  <a:lnTo>
                    <a:pt x="9480" y="0"/>
                  </a:lnTo>
                  <a:lnTo>
                    <a:pt x="16781" y="2646"/>
                  </a:lnTo>
                  <a:lnTo>
                    <a:pt x="23334" y="6137"/>
                  </a:lnTo>
                  <a:lnTo>
                    <a:pt x="32602" y="9095"/>
                  </a:lnTo>
                  <a:lnTo>
                    <a:pt x="41630" y="14821"/>
                  </a:lnTo>
                  <a:lnTo>
                    <a:pt x="50590" y="17952"/>
                  </a:lnTo>
                  <a:lnTo>
                    <a:pt x="60520" y="23730"/>
                  </a:lnTo>
                  <a:lnTo>
                    <a:pt x="74597" y="26875"/>
                  </a:lnTo>
                  <a:lnTo>
                    <a:pt x="118346" y="50681"/>
                  </a:lnTo>
                  <a:lnTo>
                    <a:pt x="162971" y="77393"/>
                  </a:lnTo>
                  <a:lnTo>
                    <a:pt x="190357" y="94258"/>
                  </a:lnTo>
                  <a:lnTo>
                    <a:pt x="204766" y="97443"/>
                  </a:lnTo>
                  <a:lnTo>
                    <a:pt x="207949" y="97704"/>
                  </a:lnTo>
                  <a:lnTo>
                    <a:pt x="214131" y="100640"/>
                  </a:lnTo>
                  <a:lnTo>
                    <a:pt x="222709" y="106775"/>
                  </a:lnTo>
                  <a:lnTo>
                    <a:pt x="231791" y="107147"/>
                  </a:lnTo>
                  <a:lnTo>
                    <a:pt x="223242" y="11608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SMARTInkShape-152"/>
            <p:cNvSpPr/>
            <p:nvPr/>
          </p:nvSpPr>
          <p:spPr>
            <a:xfrm>
              <a:off x="7304040" y="3786120"/>
              <a:ext cx="375120" cy="27612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5009" h="276440">
                  <a:moveTo>
                    <a:pt x="44645" y="214313"/>
                  </a:moveTo>
                  <a:lnTo>
                    <a:pt x="44645" y="214313"/>
                  </a:lnTo>
                  <a:lnTo>
                    <a:pt x="20730" y="191389"/>
                  </a:lnTo>
                  <a:lnTo>
                    <a:pt x="14834" y="189242"/>
                  </a:lnTo>
                  <a:lnTo>
                    <a:pt x="12865" y="187677"/>
                  </a:lnTo>
                  <a:lnTo>
                    <a:pt x="0" y="169668"/>
                  </a:lnTo>
                  <a:lnTo>
                    <a:pt x="4738" y="169666"/>
                  </a:lnTo>
                  <a:lnTo>
                    <a:pt x="6135" y="170658"/>
                  </a:lnTo>
                  <a:lnTo>
                    <a:pt x="7066" y="172311"/>
                  </a:lnTo>
                  <a:lnTo>
                    <a:pt x="7686" y="174405"/>
                  </a:lnTo>
                  <a:lnTo>
                    <a:pt x="9091" y="175801"/>
                  </a:lnTo>
                  <a:lnTo>
                    <a:pt x="13300" y="177353"/>
                  </a:lnTo>
                  <a:lnTo>
                    <a:pt x="29615" y="181076"/>
                  </a:lnTo>
                  <a:lnTo>
                    <a:pt x="42838" y="185613"/>
                  </a:lnTo>
                  <a:lnTo>
                    <a:pt x="55685" y="189603"/>
                  </a:lnTo>
                  <a:lnTo>
                    <a:pt x="95371" y="208481"/>
                  </a:lnTo>
                  <a:lnTo>
                    <a:pt x="136925" y="237305"/>
                  </a:lnTo>
                  <a:lnTo>
                    <a:pt x="178590" y="258913"/>
                  </a:lnTo>
                  <a:lnTo>
                    <a:pt x="193804" y="265230"/>
                  </a:lnTo>
                  <a:lnTo>
                    <a:pt x="221144" y="270303"/>
                  </a:lnTo>
                  <a:lnTo>
                    <a:pt x="228261" y="273924"/>
                  </a:lnTo>
                  <a:lnTo>
                    <a:pt x="243952" y="276439"/>
                  </a:lnTo>
                  <a:lnTo>
                    <a:pt x="245978" y="275574"/>
                  </a:lnTo>
                  <a:lnTo>
                    <a:pt x="247327" y="274005"/>
                  </a:lnTo>
                  <a:lnTo>
                    <a:pt x="249982" y="267997"/>
                  </a:lnTo>
                  <a:lnTo>
                    <a:pt x="250025" y="260212"/>
                  </a:lnTo>
                  <a:lnTo>
                    <a:pt x="243890" y="252079"/>
                  </a:lnTo>
                  <a:lnTo>
                    <a:pt x="240933" y="243803"/>
                  </a:lnTo>
                  <a:lnTo>
                    <a:pt x="217203" y="212138"/>
                  </a:lnTo>
                  <a:lnTo>
                    <a:pt x="202393" y="201532"/>
                  </a:lnTo>
                  <a:lnTo>
                    <a:pt x="199091" y="196065"/>
                  </a:lnTo>
                  <a:lnTo>
                    <a:pt x="198211" y="193218"/>
                  </a:lnTo>
                  <a:lnTo>
                    <a:pt x="196632" y="191320"/>
                  </a:lnTo>
                  <a:lnTo>
                    <a:pt x="178703" y="178704"/>
                  </a:lnTo>
                  <a:lnTo>
                    <a:pt x="186289" y="186292"/>
                  </a:lnTo>
                  <a:lnTo>
                    <a:pt x="195101" y="187415"/>
                  </a:lnTo>
                  <a:lnTo>
                    <a:pt x="203312" y="193639"/>
                  </a:lnTo>
                  <a:lnTo>
                    <a:pt x="237318" y="204482"/>
                  </a:lnTo>
                  <a:lnTo>
                    <a:pt x="247806" y="206108"/>
                  </a:lnTo>
                  <a:lnTo>
                    <a:pt x="288656" y="220198"/>
                  </a:lnTo>
                  <a:lnTo>
                    <a:pt x="315429" y="222975"/>
                  </a:lnTo>
                  <a:lnTo>
                    <a:pt x="332969" y="223207"/>
                  </a:lnTo>
                  <a:lnTo>
                    <a:pt x="339146" y="220581"/>
                  </a:lnTo>
                  <a:lnTo>
                    <a:pt x="357168" y="207795"/>
                  </a:lnTo>
                  <a:lnTo>
                    <a:pt x="360150" y="206991"/>
                  </a:lnTo>
                  <a:lnTo>
                    <a:pt x="362139" y="205463"/>
                  </a:lnTo>
                  <a:lnTo>
                    <a:pt x="373647" y="181486"/>
                  </a:lnTo>
                  <a:lnTo>
                    <a:pt x="375008" y="149117"/>
                  </a:lnTo>
                  <a:lnTo>
                    <a:pt x="365946" y="119908"/>
                  </a:lnTo>
                  <a:lnTo>
                    <a:pt x="350957" y="101278"/>
                  </a:lnTo>
                  <a:lnTo>
                    <a:pt x="324436" y="75408"/>
                  </a:lnTo>
                  <a:lnTo>
                    <a:pt x="312535" y="69576"/>
                  </a:lnTo>
                  <a:lnTo>
                    <a:pt x="280621" y="48545"/>
                  </a:lnTo>
                  <a:lnTo>
                    <a:pt x="268051" y="42773"/>
                  </a:lnTo>
                  <a:lnTo>
                    <a:pt x="253027" y="30511"/>
                  </a:lnTo>
                  <a:lnTo>
                    <a:pt x="247061" y="28443"/>
                  </a:lnTo>
                  <a:lnTo>
                    <a:pt x="245074" y="26900"/>
                  </a:lnTo>
                  <a:lnTo>
                    <a:pt x="241622" y="19246"/>
                  </a:lnTo>
                  <a:lnTo>
                    <a:pt x="238686" y="18476"/>
                  </a:lnTo>
                  <a:lnTo>
                    <a:pt x="233457" y="17981"/>
                  </a:lnTo>
                  <a:lnTo>
                    <a:pt x="233027" y="16948"/>
                  </a:lnTo>
                  <a:lnTo>
                    <a:pt x="232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17" name="SMARTInkShape-Group189"/>
          <p:cNvGrpSpPr/>
          <p:nvPr/>
        </p:nvGrpSpPr>
        <p:grpSpPr>
          <a:xfrm>
            <a:off x="7804080" y="3330720"/>
            <a:ext cx="1098720" cy="822240"/>
            <a:chOff x="7804080" y="3330720"/>
            <a:chExt cx="1098720" cy="822240"/>
          </a:xfrm>
        </p:grpSpPr>
        <p:sp>
          <p:nvSpPr>
            <p:cNvPr id="218" name="SMARTInkShape-153"/>
            <p:cNvSpPr/>
            <p:nvPr/>
          </p:nvSpPr>
          <p:spPr>
            <a:xfrm>
              <a:off x="8759880" y="3402000"/>
              <a:ext cx="142920" cy="187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42876" h="187524">
                  <a:moveTo>
                    <a:pt x="0" y="187523"/>
                  </a:moveTo>
                  <a:lnTo>
                    <a:pt x="0" y="187523"/>
                  </a:lnTo>
                  <a:lnTo>
                    <a:pt x="7067" y="170742"/>
                  </a:lnTo>
                  <a:lnTo>
                    <a:pt x="13562" y="144150"/>
                  </a:lnTo>
                  <a:lnTo>
                    <a:pt x="25131" y="121703"/>
                  </a:lnTo>
                  <a:lnTo>
                    <a:pt x="55692" y="77702"/>
                  </a:lnTo>
                  <a:lnTo>
                    <a:pt x="67416" y="62315"/>
                  </a:lnTo>
                  <a:lnTo>
                    <a:pt x="109387" y="25049"/>
                  </a:lnTo>
                  <a:lnTo>
                    <a:pt x="14287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SMARTInkShape-154"/>
            <p:cNvSpPr/>
            <p:nvPr/>
          </p:nvSpPr>
          <p:spPr>
            <a:xfrm>
              <a:off x="8581320" y="3429000"/>
              <a:ext cx="98280" cy="115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98227" h="116087">
                  <a:moveTo>
                    <a:pt x="0" y="116086"/>
                  </a:moveTo>
                  <a:lnTo>
                    <a:pt x="0" y="116086"/>
                  </a:lnTo>
                  <a:lnTo>
                    <a:pt x="0" y="95968"/>
                  </a:lnTo>
                  <a:lnTo>
                    <a:pt x="2647" y="89616"/>
                  </a:lnTo>
                  <a:lnTo>
                    <a:pt x="15446" y="71465"/>
                  </a:lnTo>
                  <a:lnTo>
                    <a:pt x="16251" y="68480"/>
                  </a:lnTo>
                  <a:lnTo>
                    <a:pt x="22436" y="62516"/>
                  </a:lnTo>
                  <a:lnTo>
                    <a:pt x="30808" y="55566"/>
                  </a:lnTo>
                  <a:lnTo>
                    <a:pt x="51423" y="30593"/>
                  </a:lnTo>
                  <a:lnTo>
                    <a:pt x="95110" y="1774"/>
                  </a:lnTo>
                  <a:lnTo>
                    <a:pt x="9822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SMARTInkShape-155"/>
            <p:cNvSpPr/>
            <p:nvPr/>
          </p:nvSpPr>
          <p:spPr>
            <a:xfrm>
              <a:off x="8474040" y="3330720"/>
              <a:ext cx="115920" cy="1785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16083" h="178595">
                  <a:moveTo>
                    <a:pt x="26785" y="178594"/>
                  </a:moveTo>
                  <a:lnTo>
                    <a:pt x="26785" y="178594"/>
                  </a:lnTo>
                  <a:lnTo>
                    <a:pt x="22045" y="173853"/>
                  </a:lnTo>
                  <a:lnTo>
                    <a:pt x="17071" y="171526"/>
                  </a:lnTo>
                  <a:lnTo>
                    <a:pt x="5795" y="170032"/>
                  </a:lnTo>
                  <a:lnTo>
                    <a:pt x="3861" y="168918"/>
                  </a:lnTo>
                  <a:lnTo>
                    <a:pt x="2573" y="167182"/>
                  </a:lnTo>
                  <a:lnTo>
                    <a:pt x="505" y="162008"/>
                  </a:lnTo>
                  <a:lnTo>
                    <a:pt x="0" y="147183"/>
                  </a:lnTo>
                  <a:lnTo>
                    <a:pt x="2643" y="142144"/>
                  </a:lnTo>
                  <a:lnTo>
                    <a:pt x="22920" y="119034"/>
                  </a:lnTo>
                  <a:lnTo>
                    <a:pt x="28668" y="107151"/>
                  </a:lnTo>
                  <a:lnTo>
                    <a:pt x="59550" y="64738"/>
                  </a:lnTo>
                  <a:lnTo>
                    <a:pt x="95576" y="20555"/>
                  </a:lnTo>
                  <a:lnTo>
                    <a:pt x="11608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SMARTInkShape-156"/>
            <p:cNvSpPr/>
            <p:nvPr/>
          </p:nvSpPr>
          <p:spPr>
            <a:xfrm>
              <a:off x="8518680" y="3491640"/>
              <a:ext cx="178200" cy="1155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78069" h="115606">
                  <a:moveTo>
                    <a:pt x="0" y="0"/>
                  </a:moveTo>
                  <a:lnTo>
                    <a:pt x="0" y="0"/>
                  </a:lnTo>
                  <a:lnTo>
                    <a:pt x="20117" y="12430"/>
                  </a:lnTo>
                  <a:lnTo>
                    <a:pt x="48758" y="32774"/>
                  </a:lnTo>
                  <a:lnTo>
                    <a:pt x="76315" y="50605"/>
                  </a:lnTo>
                  <a:lnTo>
                    <a:pt x="119384" y="83528"/>
                  </a:lnTo>
                  <a:lnTo>
                    <a:pt x="136024" y="93431"/>
                  </a:lnTo>
                  <a:lnTo>
                    <a:pt x="151040" y="97280"/>
                  </a:lnTo>
                  <a:lnTo>
                    <a:pt x="154271" y="97595"/>
                  </a:lnTo>
                  <a:lnTo>
                    <a:pt x="160509" y="100592"/>
                  </a:lnTo>
                  <a:lnTo>
                    <a:pt x="178068" y="115605"/>
                  </a:lnTo>
                  <a:lnTo>
                    <a:pt x="169664" y="1071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SMARTInkShape-157"/>
            <p:cNvSpPr/>
            <p:nvPr/>
          </p:nvSpPr>
          <p:spPr>
            <a:xfrm>
              <a:off x="8393760" y="3545280"/>
              <a:ext cx="267840" cy="1695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67843" h="169653">
                  <a:moveTo>
                    <a:pt x="8881" y="0"/>
                  </a:moveTo>
                  <a:lnTo>
                    <a:pt x="8881" y="0"/>
                  </a:lnTo>
                  <a:lnTo>
                    <a:pt x="4141" y="4740"/>
                  </a:lnTo>
                  <a:lnTo>
                    <a:pt x="1813" y="9714"/>
                  </a:lnTo>
                  <a:lnTo>
                    <a:pt x="0" y="51185"/>
                  </a:lnTo>
                  <a:lnTo>
                    <a:pt x="951" y="75275"/>
                  </a:lnTo>
                  <a:lnTo>
                    <a:pt x="10976" y="116137"/>
                  </a:lnTo>
                  <a:lnTo>
                    <a:pt x="22152" y="150072"/>
                  </a:lnTo>
                  <a:lnTo>
                    <a:pt x="24674" y="153626"/>
                  </a:lnTo>
                  <a:lnTo>
                    <a:pt x="31970" y="159620"/>
                  </a:lnTo>
                  <a:lnTo>
                    <a:pt x="34027" y="164538"/>
                  </a:lnTo>
                  <a:lnTo>
                    <a:pt x="35567" y="166247"/>
                  </a:lnTo>
                  <a:lnTo>
                    <a:pt x="44191" y="169531"/>
                  </a:lnTo>
                  <a:lnTo>
                    <a:pt x="52252" y="169652"/>
                  </a:lnTo>
                  <a:lnTo>
                    <a:pt x="69321" y="154842"/>
                  </a:lnTo>
                  <a:lnTo>
                    <a:pt x="109217" y="140833"/>
                  </a:lnTo>
                  <a:lnTo>
                    <a:pt x="119950" y="137006"/>
                  </a:lnTo>
                  <a:lnTo>
                    <a:pt x="160742" y="127056"/>
                  </a:lnTo>
                  <a:lnTo>
                    <a:pt x="199055" y="122549"/>
                  </a:lnTo>
                  <a:lnTo>
                    <a:pt x="241898" y="116464"/>
                  </a:lnTo>
                  <a:lnTo>
                    <a:pt x="249035" y="113608"/>
                  </a:lnTo>
                  <a:lnTo>
                    <a:pt x="255515" y="110024"/>
                  </a:lnTo>
                  <a:lnTo>
                    <a:pt x="267842" y="1071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3" name="SMARTInkShape-158"/>
            <p:cNvSpPr/>
            <p:nvPr/>
          </p:nvSpPr>
          <p:spPr>
            <a:xfrm>
              <a:off x="8313120" y="3625560"/>
              <a:ext cx="223200" cy="892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23243" h="89298">
                  <a:moveTo>
                    <a:pt x="0" y="0"/>
                  </a:moveTo>
                  <a:lnTo>
                    <a:pt x="0" y="0"/>
                  </a:lnTo>
                  <a:lnTo>
                    <a:pt x="0" y="4741"/>
                  </a:lnTo>
                  <a:lnTo>
                    <a:pt x="2647" y="9714"/>
                  </a:lnTo>
                  <a:lnTo>
                    <a:pt x="7690" y="16250"/>
                  </a:lnTo>
                  <a:lnTo>
                    <a:pt x="40293" y="40107"/>
                  </a:lnTo>
                  <a:lnTo>
                    <a:pt x="83656" y="59762"/>
                  </a:lnTo>
                  <a:lnTo>
                    <a:pt x="101296" y="67537"/>
                  </a:lnTo>
                  <a:lnTo>
                    <a:pt x="142881" y="80923"/>
                  </a:lnTo>
                  <a:lnTo>
                    <a:pt x="154785" y="85576"/>
                  </a:lnTo>
                  <a:lnTo>
                    <a:pt x="197666" y="89152"/>
                  </a:lnTo>
                  <a:lnTo>
                    <a:pt x="223242" y="8929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4" name="SMARTInkShape-159"/>
            <p:cNvSpPr/>
            <p:nvPr/>
          </p:nvSpPr>
          <p:spPr>
            <a:xfrm>
              <a:off x="8179200" y="3750840"/>
              <a:ext cx="187200" cy="169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87415" h="169665">
                  <a:moveTo>
                    <a:pt x="8821" y="169664"/>
                  </a:moveTo>
                  <a:lnTo>
                    <a:pt x="8821" y="169664"/>
                  </a:lnTo>
                  <a:lnTo>
                    <a:pt x="1132" y="169664"/>
                  </a:lnTo>
                  <a:lnTo>
                    <a:pt x="719" y="168672"/>
                  </a:lnTo>
                  <a:lnTo>
                    <a:pt x="0" y="161977"/>
                  </a:lnTo>
                  <a:lnTo>
                    <a:pt x="956" y="161563"/>
                  </a:lnTo>
                  <a:lnTo>
                    <a:pt x="7590" y="160844"/>
                  </a:lnTo>
                  <a:lnTo>
                    <a:pt x="38852" y="135829"/>
                  </a:lnTo>
                  <a:lnTo>
                    <a:pt x="79023" y="97989"/>
                  </a:lnTo>
                  <a:lnTo>
                    <a:pt x="122936" y="62487"/>
                  </a:lnTo>
                  <a:lnTo>
                    <a:pt x="166463" y="20835"/>
                  </a:lnTo>
                  <a:lnTo>
                    <a:pt x="18741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SMARTInkShape-160"/>
            <p:cNvSpPr/>
            <p:nvPr/>
          </p:nvSpPr>
          <p:spPr>
            <a:xfrm>
              <a:off x="8107920" y="3759840"/>
              <a:ext cx="330120" cy="241200"/>
            </a:xfrm>
            <a:custGeom>
              <a:avLst/>
              <a:gdLst>
                <a:gd name="textAreaLeft" fmla="*/ 0 w 330120"/>
                <a:gd name="textAreaRight" fmla="*/ 330120 w 330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29985" h="241067">
                  <a:moveTo>
                    <a:pt x="8515" y="71404"/>
                  </a:moveTo>
                  <a:lnTo>
                    <a:pt x="8515" y="71404"/>
                  </a:lnTo>
                  <a:lnTo>
                    <a:pt x="8515" y="76144"/>
                  </a:lnTo>
                  <a:lnTo>
                    <a:pt x="11162" y="81117"/>
                  </a:lnTo>
                  <a:lnTo>
                    <a:pt x="44255" y="123126"/>
                  </a:lnTo>
                  <a:lnTo>
                    <a:pt x="77969" y="164832"/>
                  </a:lnTo>
                  <a:lnTo>
                    <a:pt x="110067" y="198505"/>
                  </a:lnTo>
                  <a:lnTo>
                    <a:pt x="154212" y="229061"/>
                  </a:lnTo>
                  <a:lnTo>
                    <a:pt x="165345" y="237069"/>
                  </a:lnTo>
                  <a:lnTo>
                    <a:pt x="174927" y="239883"/>
                  </a:lnTo>
                  <a:lnTo>
                    <a:pt x="195994" y="241066"/>
                  </a:lnTo>
                  <a:lnTo>
                    <a:pt x="196026" y="236327"/>
                  </a:lnTo>
                  <a:lnTo>
                    <a:pt x="190741" y="231354"/>
                  </a:lnTo>
                  <a:lnTo>
                    <a:pt x="182770" y="224844"/>
                  </a:lnTo>
                  <a:lnTo>
                    <a:pt x="144978" y="181368"/>
                  </a:lnTo>
                  <a:lnTo>
                    <a:pt x="104938" y="141062"/>
                  </a:lnTo>
                  <a:lnTo>
                    <a:pt x="65434" y="96796"/>
                  </a:lnTo>
                  <a:lnTo>
                    <a:pt x="35552" y="53171"/>
                  </a:lnTo>
                  <a:lnTo>
                    <a:pt x="20455" y="30858"/>
                  </a:lnTo>
                  <a:lnTo>
                    <a:pt x="12494" y="21136"/>
                  </a:lnTo>
                  <a:lnTo>
                    <a:pt x="10284" y="14998"/>
                  </a:lnTo>
                  <a:lnTo>
                    <a:pt x="8702" y="12964"/>
                  </a:lnTo>
                  <a:lnTo>
                    <a:pt x="982" y="9431"/>
                  </a:lnTo>
                  <a:lnTo>
                    <a:pt x="207" y="6488"/>
                  </a:lnTo>
                  <a:lnTo>
                    <a:pt x="0" y="4314"/>
                  </a:lnTo>
                  <a:lnTo>
                    <a:pt x="854" y="2865"/>
                  </a:lnTo>
                  <a:lnTo>
                    <a:pt x="2416" y="1898"/>
                  </a:lnTo>
                  <a:lnTo>
                    <a:pt x="9354" y="538"/>
                  </a:lnTo>
                  <a:lnTo>
                    <a:pt x="29401" y="0"/>
                  </a:lnTo>
                  <a:lnTo>
                    <a:pt x="68612" y="10992"/>
                  </a:lnTo>
                  <a:lnTo>
                    <a:pt x="111836" y="29855"/>
                  </a:lnTo>
                  <a:lnTo>
                    <a:pt x="149415" y="47277"/>
                  </a:lnTo>
                  <a:lnTo>
                    <a:pt x="171310" y="60617"/>
                  </a:lnTo>
                  <a:lnTo>
                    <a:pt x="215941" y="80170"/>
                  </a:lnTo>
                  <a:lnTo>
                    <a:pt x="257942" y="91111"/>
                  </a:lnTo>
                  <a:lnTo>
                    <a:pt x="276228" y="96095"/>
                  </a:lnTo>
                  <a:lnTo>
                    <a:pt x="320839" y="98186"/>
                  </a:lnTo>
                  <a:lnTo>
                    <a:pt x="329570" y="98193"/>
                  </a:lnTo>
                  <a:lnTo>
                    <a:pt x="329984" y="10712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SMARTInkShape-161"/>
            <p:cNvSpPr/>
            <p:nvPr/>
          </p:nvSpPr>
          <p:spPr>
            <a:xfrm>
              <a:off x="7964640" y="3911760"/>
              <a:ext cx="89280" cy="2145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89298" h="214313">
                  <a:moveTo>
                    <a:pt x="0" y="214312"/>
                  </a:moveTo>
                  <a:lnTo>
                    <a:pt x="0" y="214312"/>
                  </a:lnTo>
                  <a:lnTo>
                    <a:pt x="0" y="204831"/>
                  </a:lnTo>
                  <a:lnTo>
                    <a:pt x="2647" y="197531"/>
                  </a:lnTo>
                  <a:lnTo>
                    <a:pt x="4741" y="194195"/>
                  </a:lnTo>
                  <a:lnTo>
                    <a:pt x="18482" y="151600"/>
                  </a:lnTo>
                  <a:lnTo>
                    <a:pt x="38733" y="110121"/>
                  </a:lnTo>
                  <a:lnTo>
                    <a:pt x="56229" y="73298"/>
                  </a:lnTo>
                  <a:lnTo>
                    <a:pt x="69578" y="51483"/>
                  </a:lnTo>
                  <a:lnTo>
                    <a:pt x="8929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7" name="SMARTInkShape-162"/>
            <p:cNvSpPr/>
            <p:nvPr/>
          </p:nvSpPr>
          <p:spPr>
            <a:xfrm>
              <a:off x="7804080" y="3786480"/>
              <a:ext cx="196200" cy="2412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96345" h="241103">
                  <a:moveTo>
                    <a:pt x="8821" y="241102"/>
                  </a:moveTo>
                  <a:lnTo>
                    <a:pt x="8821" y="241102"/>
                  </a:lnTo>
                  <a:lnTo>
                    <a:pt x="4081" y="241102"/>
                  </a:lnTo>
                  <a:lnTo>
                    <a:pt x="2683" y="240109"/>
                  </a:lnTo>
                  <a:lnTo>
                    <a:pt x="1753" y="238456"/>
                  </a:lnTo>
                  <a:lnTo>
                    <a:pt x="259" y="228673"/>
                  </a:lnTo>
                  <a:lnTo>
                    <a:pt x="0" y="220111"/>
                  </a:lnTo>
                  <a:lnTo>
                    <a:pt x="2585" y="214244"/>
                  </a:lnTo>
                  <a:lnTo>
                    <a:pt x="26750" y="173852"/>
                  </a:lnTo>
                  <a:lnTo>
                    <a:pt x="32665" y="161604"/>
                  </a:lnTo>
                  <a:lnTo>
                    <a:pt x="68518" y="121597"/>
                  </a:lnTo>
                  <a:lnTo>
                    <a:pt x="108383" y="79138"/>
                  </a:lnTo>
                  <a:lnTo>
                    <a:pt x="150073" y="37345"/>
                  </a:lnTo>
                  <a:lnTo>
                    <a:pt x="175240" y="13168"/>
                  </a:lnTo>
                  <a:lnTo>
                    <a:pt x="187361" y="7121"/>
                  </a:lnTo>
                  <a:lnTo>
                    <a:pt x="19634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8" name="SMARTInkShape-163"/>
            <p:cNvSpPr/>
            <p:nvPr/>
          </p:nvSpPr>
          <p:spPr>
            <a:xfrm>
              <a:off x="7875360" y="4010040"/>
              <a:ext cx="276840" cy="1429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76821" h="142876">
                  <a:moveTo>
                    <a:pt x="0" y="0"/>
                  </a:moveTo>
                  <a:lnTo>
                    <a:pt x="0" y="0"/>
                  </a:lnTo>
                  <a:lnTo>
                    <a:pt x="4740" y="4741"/>
                  </a:lnTo>
                  <a:lnTo>
                    <a:pt x="9713" y="7068"/>
                  </a:lnTo>
                  <a:lnTo>
                    <a:pt x="12428" y="7689"/>
                  </a:lnTo>
                  <a:lnTo>
                    <a:pt x="24908" y="14821"/>
                  </a:lnTo>
                  <a:lnTo>
                    <a:pt x="37917" y="17952"/>
                  </a:lnTo>
                  <a:lnTo>
                    <a:pt x="40161" y="19906"/>
                  </a:lnTo>
                  <a:lnTo>
                    <a:pt x="41657" y="22200"/>
                  </a:lnTo>
                  <a:lnTo>
                    <a:pt x="69243" y="38815"/>
                  </a:lnTo>
                  <a:lnTo>
                    <a:pt x="98330" y="56240"/>
                  </a:lnTo>
                  <a:lnTo>
                    <a:pt x="139904" y="87718"/>
                  </a:lnTo>
                  <a:lnTo>
                    <a:pt x="183536" y="112843"/>
                  </a:lnTo>
                  <a:lnTo>
                    <a:pt x="228070" y="138900"/>
                  </a:lnTo>
                  <a:lnTo>
                    <a:pt x="234648" y="141109"/>
                  </a:lnTo>
                  <a:lnTo>
                    <a:pt x="276820" y="1428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9" name="SMARTInkShape-164"/>
          <p:cNvSpPr/>
          <p:nvPr/>
        </p:nvSpPr>
        <p:spPr>
          <a:xfrm>
            <a:off x="3321000" y="4545000"/>
            <a:ext cx="3832200" cy="81000"/>
          </a:xfrm>
          <a:custGeom>
            <a:avLst/>
            <a:gdLst>
              <a:gd name="textAreaLeft" fmla="*/ 0 w 3832200"/>
              <a:gd name="textAreaRight" fmla="*/ 3832560 w 3832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3830837" h="80368">
                <a:moveTo>
                  <a:pt x="0" y="71437"/>
                </a:moveTo>
                <a:lnTo>
                  <a:pt x="0" y="71437"/>
                </a:lnTo>
                <a:lnTo>
                  <a:pt x="9482" y="71437"/>
                </a:lnTo>
                <a:lnTo>
                  <a:pt x="16782" y="68791"/>
                </a:lnTo>
                <a:lnTo>
                  <a:pt x="20118" y="66697"/>
                </a:lnTo>
                <a:lnTo>
                  <a:pt x="34294" y="63749"/>
                </a:lnTo>
                <a:lnTo>
                  <a:pt x="77782" y="62556"/>
                </a:lnTo>
                <a:lnTo>
                  <a:pt x="118114" y="62509"/>
                </a:lnTo>
                <a:lnTo>
                  <a:pt x="161339" y="62507"/>
                </a:lnTo>
                <a:lnTo>
                  <a:pt x="203305" y="62507"/>
                </a:lnTo>
                <a:lnTo>
                  <a:pt x="243142" y="62507"/>
                </a:lnTo>
                <a:lnTo>
                  <a:pt x="282894" y="62507"/>
                </a:lnTo>
                <a:lnTo>
                  <a:pt x="323336" y="62507"/>
                </a:lnTo>
                <a:lnTo>
                  <a:pt x="350488" y="61516"/>
                </a:lnTo>
                <a:lnTo>
                  <a:pt x="368028" y="55440"/>
                </a:lnTo>
                <a:lnTo>
                  <a:pt x="407901" y="53687"/>
                </a:lnTo>
                <a:lnTo>
                  <a:pt x="443331" y="52592"/>
                </a:lnTo>
                <a:lnTo>
                  <a:pt x="470666" y="45890"/>
                </a:lnTo>
                <a:lnTo>
                  <a:pt x="511991" y="44721"/>
                </a:lnTo>
                <a:lnTo>
                  <a:pt x="553642" y="44653"/>
                </a:lnTo>
                <a:lnTo>
                  <a:pt x="593164" y="43656"/>
                </a:lnTo>
                <a:lnTo>
                  <a:pt x="628128" y="36546"/>
                </a:lnTo>
                <a:lnTo>
                  <a:pt x="669732" y="35767"/>
                </a:lnTo>
                <a:lnTo>
                  <a:pt x="711399" y="35721"/>
                </a:lnTo>
                <a:lnTo>
                  <a:pt x="753071" y="27616"/>
                </a:lnTo>
                <a:lnTo>
                  <a:pt x="794743" y="26837"/>
                </a:lnTo>
                <a:lnTo>
                  <a:pt x="836415" y="26792"/>
                </a:lnTo>
                <a:lnTo>
                  <a:pt x="878086" y="18687"/>
                </a:lnTo>
                <a:lnTo>
                  <a:pt x="919758" y="17907"/>
                </a:lnTo>
                <a:lnTo>
                  <a:pt x="958122" y="17864"/>
                </a:lnTo>
                <a:lnTo>
                  <a:pt x="972528" y="16868"/>
                </a:lnTo>
                <a:lnTo>
                  <a:pt x="995152" y="10792"/>
                </a:lnTo>
                <a:lnTo>
                  <a:pt x="1035408" y="9094"/>
                </a:lnTo>
                <a:lnTo>
                  <a:pt x="1077490" y="8939"/>
                </a:lnTo>
                <a:lnTo>
                  <a:pt x="1120178" y="8930"/>
                </a:lnTo>
                <a:lnTo>
                  <a:pt x="1142192" y="7937"/>
                </a:lnTo>
                <a:lnTo>
                  <a:pt x="1167686" y="1241"/>
                </a:lnTo>
                <a:lnTo>
                  <a:pt x="1208536" y="72"/>
                </a:lnTo>
                <a:lnTo>
                  <a:pt x="1250160" y="4"/>
                </a:lnTo>
                <a:lnTo>
                  <a:pt x="1292944" y="0"/>
                </a:lnTo>
                <a:lnTo>
                  <a:pt x="1336369" y="0"/>
                </a:lnTo>
                <a:lnTo>
                  <a:pt x="1378142" y="0"/>
                </a:lnTo>
                <a:lnTo>
                  <a:pt x="1419012" y="0"/>
                </a:lnTo>
                <a:lnTo>
                  <a:pt x="1434685" y="992"/>
                </a:lnTo>
                <a:lnTo>
                  <a:pt x="1474824" y="8378"/>
                </a:lnTo>
                <a:lnTo>
                  <a:pt x="1515154" y="8897"/>
                </a:lnTo>
                <a:lnTo>
                  <a:pt x="1556748" y="8928"/>
                </a:lnTo>
                <a:lnTo>
                  <a:pt x="1594446" y="9922"/>
                </a:lnTo>
                <a:lnTo>
                  <a:pt x="1637604" y="16618"/>
                </a:lnTo>
                <a:lnTo>
                  <a:pt x="1680621" y="17786"/>
                </a:lnTo>
                <a:lnTo>
                  <a:pt x="1720815" y="17856"/>
                </a:lnTo>
                <a:lnTo>
                  <a:pt x="1759715" y="17859"/>
                </a:lnTo>
                <a:lnTo>
                  <a:pt x="1771307" y="18852"/>
                </a:lnTo>
                <a:lnTo>
                  <a:pt x="1806796" y="25961"/>
                </a:lnTo>
                <a:lnTo>
                  <a:pt x="1848446" y="26741"/>
                </a:lnTo>
                <a:lnTo>
                  <a:pt x="1890118" y="26786"/>
                </a:lnTo>
                <a:lnTo>
                  <a:pt x="1929364" y="26789"/>
                </a:lnTo>
                <a:lnTo>
                  <a:pt x="1970517" y="26789"/>
                </a:lnTo>
                <a:lnTo>
                  <a:pt x="2011044" y="26789"/>
                </a:lnTo>
                <a:lnTo>
                  <a:pt x="2050961" y="26789"/>
                </a:lnTo>
                <a:lnTo>
                  <a:pt x="2091538" y="27781"/>
                </a:lnTo>
                <a:lnTo>
                  <a:pt x="2109270" y="33856"/>
                </a:lnTo>
                <a:lnTo>
                  <a:pt x="2149187" y="35609"/>
                </a:lnTo>
                <a:lnTo>
                  <a:pt x="2190757" y="35712"/>
                </a:lnTo>
                <a:lnTo>
                  <a:pt x="2233635" y="35718"/>
                </a:lnTo>
                <a:lnTo>
                  <a:pt x="2254086" y="36710"/>
                </a:lnTo>
                <a:lnTo>
                  <a:pt x="2289050" y="43820"/>
                </a:lnTo>
                <a:lnTo>
                  <a:pt x="2330653" y="44600"/>
                </a:lnTo>
                <a:lnTo>
                  <a:pt x="2342557" y="45619"/>
                </a:lnTo>
                <a:lnTo>
                  <a:pt x="2377160" y="53025"/>
                </a:lnTo>
                <a:lnTo>
                  <a:pt x="2417078" y="53546"/>
                </a:lnTo>
                <a:lnTo>
                  <a:pt x="2458647" y="53577"/>
                </a:lnTo>
                <a:lnTo>
                  <a:pt x="2500313" y="53578"/>
                </a:lnTo>
                <a:lnTo>
                  <a:pt x="2541985" y="53578"/>
                </a:lnTo>
                <a:lnTo>
                  <a:pt x="2583657" y="53578"/>
                </a:lnTo>
                <a:lnTo>
                  <a:pt x="2625328" y="53578"/>
                </a:lnTo>
                <a:lnTo>
                  <a:pt x="2637235" y="54570"/>
                </a:lnTo>
                <a:lnTo>
                  <a:pt x="2655094" y="58722"/>
                </a:lnTo>
                <a:lnTo>
                  <a:pt x="2696766" y="53966"/>
                </a:lnTo>
                <a:lnTo>
                  <a:pt x="2738438" y="53600"/>
                </a:lnTo>
                <a:lnTo>
                  <a:pt x="2781845" y="53580"/>
                </a:lnTo>
                <a:lnTo>
                  <a:pt x="2825678" y="52586"/>
                </a:lnTo>
                <a:lnTo>
                  <a:pt x="2868573" y="45476"/>
                </a:lnTo>
                <a:lnTo>
                  <a:pt x="2906045" y="44721"/>
                </a:lnTo>
                <a:lnTo>
                  <a:pt x="2948941" y="44655"/>
                </a:lnTo>
                <a:lnTo>
                  <a:pt x="2991556" y="44649"/>
                </a:lnTo>
                <a:lnTo>
                  <a:pt x="3011432" y="43656"/>
                </a:lnTo>
                <a:lnTo>
                  <a:pt x="3054064" y="36546"/>
                </a:lnTo>
                <a:lnTo>
                  <a:pt x="3098534" y="35792"/>
                </a:lnTo>
                <a:lnTo>
                  <a:pt x="3138023" y="35725"/>
                </a:lnTo>
                <a:lnTo>
                  <a:pt x="3182086" y="35719"/>
                </a:lnTo>
                <a:lnTo>
                  <a:pt x="3225691" y="35718"/>
                </a:lnTo>
                <a:lnTo>
                  <a:pt x="3263226" y="35718"/>
                </a:lnTo>
                <a:lnTo>
                  <a:pt x="3306127" y="35718"/>
                </a:lnTo>
                <a:lnTo>
                  <a:pt x="3348584" y="35718"/>
                </a:lnTo>
                <a:lnTo>
                  <a:pt x="3391415" y="35718"/>
                </a:lnTo>
                <a:lnTo>
                  <a:pt x="3434844" y="35718"/>
                </a:lnTo>
                <a:lnTo>
                  <a:pt x="3464882" y="36710"/>
                </a:lnTo>
                <a:lnTo>
                  <a:pt x="3509203" y="44096"/>
                </a:lnTo>
                <a:lnTo>
                  <a:pt x="3547718" y="44600"/>
                </a:lnTo>
                <a:lnTo>
                  <a:pt x="3589182" y="44644"/>
                </a:lnTo>
                <a:lnTo>
                  <a:pt x="3628051" y="44647"/>
                </a:lnTo>
                <a:lnTo>
                  <a:pt x="3667996" y="44648"/>
                </a:lnTo>
                <a:lnTo>
                  <a:pt x="3708849" y="44648"/>
                </a:lnTo>
                <a:lnTo>
                  <a:pt x="3726672" y="45640"/>
                </a:lnTo>
                <a:lnTo>
                  <a:pt x="3761261" y="53026"/>
                </a:lnTo>
                <a:lnTo>
                  <a:pt x="3772133" y="54324"/>
                </a:lnTo>
                <a:lnTo>
                  <a:pt x="3803312" y="61942"/>
                </a:lnTo>
                <a:lnTo>
                  <a:pt x="3806534" y="62130"/>
                </a:lnTo>
                <a:lnTo>
                  <a:pt x="3812759" y="64986"/>
                </a:lnTo>
                <a:lnTo>
                  <a:pt x="3818834" y="68570"/>
                </a:lnTo>
                <a:lnTo>
                  <a:pt x="3824841" y="70163"/>
                </a:lnTo>
                <a:lnTo>
                  <a:pt x="3826839" y="71580"/>
                </a:lnTo>
                <a:lnTo>
                  <a:pt x="3828172" y="73517"/>
                </a:lnTo>
                <a:lnTo>
                  <a:pt x="3830836" y="8036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0" name="SMARTInkShape-Group191"/>
          <p:cNvGrpSpPr/>
          <p:nvPr/>
        </p:nvGrpSpPr>
        <p:grpSpPr>
          <a:xfrm>
            <a:off x="6858000" y="4133880"/>
            <a:ext cx="1625760" cy="741240"/>
            <a:chOff x="6858000" y="4133880"/>
            <a:chExt cx="1625760" cy="741240"/>
          </a:xfrm>
        </p:grpSpPr>
        <p:sp>
          <p:nvSpPr>
            <p:cNvPr id="231" name="SMARTInkShape-165"/>
            <p:cNvSpPr/>
            <p:nvPr/>
          </p:nvSpPr>
          <p:spPr>
            <a:xfrm>
              <a:off x="6858000" y="4133880"/>
              <a:ext cx="1625760" cy="741240"/>
            </a:xfrm>
            <a:custGeom>
              <a:avLst/>
              <a:gdLst>
                <a:gd name="textAreaLeft" fmla="*/ 0 w 1625760"/>
                <a:gd name="textAreaRight" fmla="*/ 1626120 w 162576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625204" h="741154">
                  <a:moveTo>
                    <a:pt x="321469" y="89286"/>
                  </a:moveTo>
                  <a:lnTo>
                    <a:pt x="321469" y="89286"/>
                  </a:lnTo>
                  <a:lnTo>
                    <a:pt x="326210" y="84545"/>
                  </a:lnTo>
                  <a:lnTo>
                    <a:pt x="331182" y="82219"/>
                  </a:lnTo>
                  <a:lnTo>
                    <a:pt x="333898" y="81598"/>
                  </a:lnTo>
                  <a:lnTo>
                    <a:pt x="348327" y="73452"/>
                  </a:lnTo>
                  <a:lnTo>
                    <a:pt x="386332" y="71506"/>
                  </a:lnTo>
                  <a:lnTo>
                    <a:pt x="424194" y="71437"/>
                  </a:lnTo>
                  <a:lnTo>
                    <a:pt x="462291" y="71428"/>
                  </a:lnTo>
                  <a:lnTo>
                    <a:pt x="499977" y="72419"/>
                  </a:lnTo>
                  <a:lnTo>
                    <a:pt x="520983" y="76571"/>
                  </a:lnTo>
                  <a:lnTo>
                    <a:pt x="562974" y="72300"/>
                  </a:lnTo>
                  <a:lnTo>
                    <a:pt x="607272" y="71541"/>
                  </a:lnTo>
                  <a:lnTo>
                    <a:pt x="634024" y="68815"/>
                  </a:lnTo>
                  <a:lnTo>
                    <a:pt x="674471" y="63745"/>
                  </a:lnTo>
                  <a:lnTo>
                    <a:pt x="708947" y="58126"/>
                  </a:lnTo>
                  <a:lnTo>
                    <a:pt x="744297" y="54918"/>
                  </a:lnTo>
                  <a:lnTo>
                    <a:pt x="785660" y="47697"/>
                  </a:lnTo>
                  <a:lnTo>
                    <a:pt x="819393" y="45544"/>
                  </a:lnTo>
                  <a:lnTo>
                    <a:pt x="854522" y="43914"/>
                  </a:lnTo>
                  <a:lnTo>
                    <a:pt x="890067" y="38580"/>
                  </a:lnTo>
                  <a:lnTo>
                    <a:pt x="925734" y="36559"/>
                  </a:lnTo>
                  <a:lnTo>
                    <a:pt x="961437" y="34968"/>
                  </a:lnTo>
                  <a:lnTo>
                    <a:pt x="997150" y="29646"/>
                  </a:lnTo>
                  <a:lnTo>
                    <a:pt x="1032868" y="27628"/>
                  </a:lnTo>
                  <a:lnTo>
                    <a:pt x="1068587" y="26037"/>
                  </a:lnTo>
                  <a:lnTo>
                    <a:pt x="1104306" y="20716"/>
                  </a:lnTo>
                  <a:lnTo>
                    <a:pt x="1141016" y="17705"/>
                  </a:lnTo>
                  <a:lnTo>
                    <a:pt x="1180889" y="11963"/>
                  </a:lnTo>
                  <a:lnTo>
                    <a:pt x="1224678" y="6875"/>
                  </a:lnTo>
                  <a:lnTo>
                    <a:pt x="1259475" y="2029"/>
                  </a:lnTo>
                  <a:lnTo>
                    <a:pt x="1302048" y="392"/>
                  </a:lnTo>
                  <a:lnTo>
                    <a:pt x="1344265" y="69"/>
                  </a:lnTo>
                  <a:lnTo>
                    <a:pt x="1384931" y="0"/>
                  </a:lnTo>
                  <a:lnTo>
                    <a:pt x="1426214" y="7058"/>
                  </a:lnTo>
                  <a:lnTo>
                    <a:pt x="1445858" y="11014"/>
                  </a:lnTo>
                  <a:lnTo>
                    <a:pt x="1488068" y="26676"/>
                  </a:lnTo>
                  <a:lnTo>
                    <a:pt x="1507017" y="36276"/>
                  </a:lnTo>
                  <a:lnTo>
                    <a:pt x="1513145" y="41913"/>
                  </a:lnTo>
                  <a:lnTo>
                    <a:pt x="1524747" y="59543"/>
                  </a:lnTo>
                  <a:lnTo>
                    <a:pt x="1530285" y="65483"/>
                  </a:lnTo>
                  <a:lnTo>
                    <a:pt x="1533409" y="74077"/>
                  </a:lnTo>
                  <a:lnTo>
                    <a:pt x="1535788" y="83519"/>
                  </a:lnTo>
                  <a:lnTo>
                    <a:pt x="1541715" y="95404"/>
                  </a:lnTo>
                  <a:lnTo>
                    <a:pt x="1544782" y="136402"/>
                  </a:lnTo>
                  <a:lnTo>
                    <a:pt x="1545804" y="146938"/>
                  </a:lnTo>
                  <a:lnTo>
                    <a:pt x="1552935" y="181656"/>
                  </a:lnTo>
                  <a:lnTo>
                    <a:pt x="1553694" y="223423"/>
                  </a:lnTo>
                  <a:lnTo>
                    <a:pt x="1553760" y="262674"/>
                  </a:lnTo>
                  <a:lnTo>
                    <a:pt x="1554758" y="306718"/>
                  </a:lnTo>
                  <a:lnTo>
                    <a:pt x="1561455" y="348658"/>
                  </a:lnTo>
                  <a:lnTo>
                    <a:pt x="1565178" y="392949"/>
                  </a:lnTo>
                  <a:lnTo>
                    <a:pt x="1578128" y="436765"/>
                  </a:lnTo>
                  <a:lnTo>
                    <a:pt x="1587365" y="473344"/>
                  </a:lnTo>
                  <a:lnTo>
                    <a:pt x="1595938" y="499480"/>
                  </a:lnTo>
                  <a:lnTo>
                    <a:pt x="1600844" y="542788"/>
                  </a:lnTo>
                  <a:lnTo>
                    <a:pt x="1614653" y="586260"/>
                  </a:lnTo>
                  <a:lnTo>
                    <a:pt x="1618706" y="616122"/>
                  </a:lnTo>
                  <a:lnTo>
                    <a:pt x="1623279" y="633992"/>
                  </a:lnTo>
                  <a:lnTo>
                    <a:pt x="1625170" y="677277"/>
                  </a:lnTo>
                  <a:lnTo>
                    <a:pt x="1625203" y="708298"/>
                  </a:lnTo>
                  <a:lnTo>
                    <a:pt x="1624212" y="710320"/>
                  </a:lnTo>
                  <a:lnTo>
                    <a:pt x="1622557" y="711667"/>
                  </a:lnTo>
                  <a:lnTo>
                    <a:pt x="1620463" y="712566"/>
                  </a:lnTo>
                  <a:lnTo>
                    <a:pt x="1619067" y="714158"/>
                  </a:lnTo>
                  <a:lnTo>
                    <a:pt x="1617515" y="718572"/>
                  </a:lnTo>
                  <a:lnTo>
                    <a:pt x="1616108" y="720146"/>
                  </a:lnTo>
                  <a:lnTo>
                    <a:pt x="1598230" y="730177"/>
                  </a:lnTo>
                  <a:lnTo>
                    <a:pt x="1595316" y="730859"/>
                  </a:lnTo>
                  <a:lnTo>
                    <a:pt x="1580539" y="739111"/>
                  </a:lnTo>
                  <a:lnTo>
                    <a:pt x="1537486" y="741118"/>
                  </a:lnTo>
                  <a:lnTo>
                    <a:pt x="1495625" y="741152"/>
                  </a:lnTo>
                  <a:lnTo>
                    <a:pt x="1455923" y="741153"/>
                  </a:lnTo>
                  <a:lnTo>
                    <a:pt x="1417209" y="741153"/>
                  </a:lnTo>
                  <a:lnTo>
                    <a:pt x="1373082" y="738507"/>
                  </a:lnTo>
                  <a:lnTo>
                    <a:pt x="1330248" y="733051"/>
                  </a:lnTo>
                  <a:lnTo>
                    <a:pt x="1297396" y="729741"/>
                  </a:lnTo>
                  <a:lnTo>
                    <a:pt x="1275068" y="725204"/>
                  </a:lnTo>
                  <a:lnTo>
                    <a:pt x="1236115" y="723672"/>
                  </a:lnTo>
                  <a:lnTo>
                    <a:pt x="1192574" y="716275"/>
                  </a:lnTo>
                  <a:lnTo>
                    <a:pt x="1152903" y="714742"/>
                  </a:lnTo>
                  <a:lnTo>
                    <a:pt x="1116403" y="708302"/>
                  </a:lnTo>
                  <a:lnTo>
                    <a:pt x="1080530" y="703355"/>
                  </a:lnTo>
                  <a:lnTo>
                    <a:pt x="1040041" y="697858"/>
                  </a:lnTo>
                  <a:lnTo>
                    <a:pt x="1000954" y="690635"/>
                  </a:lnTo>
                  <a:lnTo>
                    <a:pt x="964571" y="685534"/>
                  </a:lnTo>
                  <a:lnTo>
                    <a:pt x="923979" y="675266"/>
                  </a:lnTo>
                  <a:lnTo>
                    <a:pt x="884873" y="669820"/>
                  </a:lnTo>
                  <a:lnTo>
                    <a:pt x="848485" y="662864"/>
                  </a:lnTo>
                  <a:lnTo>
                    <a:pt x="807894" y="656456"/>
                  </a:lnTo>
                  <a:lnTo>
                    <a:pt x="773394" y="648479"/>
                  </a:lnTo>
                  <a:lnTo>
                    <a:pt x="732318" y="643031"/>
                  </a:lnTo>
                  <a:lnTo>
                    <a:pt x="689660" y="636075"/>
                  </a:lnTo>
                  <a:lnTo>
                    <a:pt x="647537" y="629667"/>
                  </a:lnTo>
                  <a:lnTo>
                    <a:pt x="612772" y="626431"/>
                  </a:lnTo>
                  <a:lnTo>
                    <a:pt x="571606" y="624344"/>
                  </a:lnTo>
                  <a:lnTo>
                    <a:pt x="537908" y="619010"/>
                  </a:lnTo>
                  <a:lnTo>
                    <a:pt x="502788" y="616988"/>
                  </a:lnTo>
                  <a:lnTo>
                    <a:pt x="468239" y="616390"/>
                  </a:lnTo>
                  <a:lnTo>
                    <a:pt x="426749" y="616188"/>
                  </a:lnTo>
                  <a:lnTo>
                    <a:pt x="392351" y="618798"/>
                  </a:lnTo>
                  <a:lnTo>
                    <a:pt x="357023" y="623210"/>
                  </a:lnTo>
                  <a:lnTo>
                    <a:pt x="321421" y="627162"/>
                  </a:lnTo>
                  <a:lnTo>
                    <a:pt x="285736" y="631971"/>
                  </a:lnTo>
                  <a:lnTo>
                    <a:pt x="250027" y="636043"/>
                  </a:lnTo>
                  <a:lnTo>
                    <a:pt x="214312" y="643533"/>
                  </a:lnTo>
                  <a:lnTo>
                    <a:pt x="178594" y="654682"/>
                  </a:lnTo>
                  <a:lnTo>
                    <a:pt x="142875" y="667907"/>
                  </a:lnTo>
                  <a:lnTo>
                    <a:pt x="99991" y="686005"/>
                  </a:lnTo>
                  <a:lnTo>
                    <a:pt x="67220" y="702875"/>
                  </a:lnTo>
                  <a:lnTo>
                    <a:pt x="27635" y="725181"/>
                  </a:lnTo>
                  <a:lnTo>
                    <a:pt x="0" y="7411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SMARTInkShape-166"/>
            <p:cNvSpPr/>
            <p:nvPr/>
          </p:nvSpPr>
          <p:spPr>
            <a:xfrm>
              <a:off x="7161840" y="4267800"/>
              <a:ext cx="71280" cy="56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62680"/>
                <a:gd name="textAreaBottom" fmla="*/ 563040 h 562680"/>
              </a:gdLst>
              <a:ahLst/>
              <a:rect l="textAreaLeft" t="textAreaTop" r="textAreaRight" b="textAreaBottom"/>
              <a:pathLst>
                <a:path w="71366" h="562456">
                  <a:moveTo>
                    <a:pt x="8857" y="0"/>
                  </a:moveTo>
                  <a:lnTo>
                    <a:pt x="8857" y="0"/>
                  </a:lnTo>
                  <a:lnTo>
                    <a:pt x="4117" y="4741"/>
                  </a:lnTo>
                  <a:lnTo>
                    <a:pt x="1790" y="12360"/>
                  </a:lnTo>
                  <a:lnTo>
                    <a:pt x="0" y="54724"/>
                  </a:lnTo>
                  <a:lnTo>
                    <a:pt x="2588" y="82652"/>
                  </a:lnTo>
                  <a:lnTo>
                    <a:pt x="5078" y="97258"/>
                  </a:lnTo>
                  <a:lnTo>
                    <a:pt x="2887" y="112051"/>
                  </a:lnTo>
                  <a:lnTo>
                    <a:pt x="11066" y="151917"/>
                  </a:lnTo>
                  <a:lnTo>
                    <a:pt x="14801" y="164754"/>
                  </a:lnTo>
                  <a:lnTo>
                    <a:pt x="24653" y="208529"/>
                  </a:lnTo>
                  <a:lnTo>
                    <a:pt x="33181" y="241723"/>
                  </a:lnTo>
                  <a:lnTo>
                    <a:pt x="41459" y="285832"/>
                  </a:lnTo>
                  <a:lnTo>
                    <a:pt x="48906" y="325669"/>
                  </a:lnTo>
                  <a:lnTo>
                    <a:pt x="55545" y="366670"/>
                  </a:lnTo>
                  <a:lnTo>
                    <a:pt x="62521" y="409847"/>
                  </a:lnTo>
                  <a:lnTo>
                    <a:pt x="70457" y="450111"/>
                  </a:lnTo>
                  <a:lnTo>
                    <a:pt x="71286" y="493252"/>
                  </a:lnTo>
                  <a:lnTo>
                    <a:pt x="71364" y="533427"/>
                  </a:lnTo>
                  <a:lnTo>
                    <a:pt x="71365" y="552736"/>
                  </a:lnTo>
                  <a:lnTo>
                    <a:pt x="62544" y="562455"/>
                  </a:lnTo>
                  <a:lnTo>
                    <a:pt x="62468" y="557796"/>
                  </a:lnTo>
                  <a:lnTo>
                    <a:pt x="44576" y="51792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SMARTInkShape-167"/>
            <p:cNvSpPr/>
            <p:nvPr/>
          </p:nvSpPr>
          <p:spPr>
            <a:xfrm>
              <a:off x="7661880" y="4170600"/>
              <a:ext cx="419760" cy="5526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419575" h="552324">
                  <a:moveTo>
                    <a:pt x="107156" y="105872"/>
                  </a:moveTo>
                  <a:lnTo>
                    <a:pt x="107156" y="105872"/>
                  </a:lnTo>
                  <a:lnTo>
                    <a:pt x="97676" y="110612"/>
                  </a:lnTo>
                  <a:lnTo>
                    <a:pt x="90376" y="118232"/>
                  </a:lnTo>
                  <a:lnTo>
                    <a:pt x="65663" y="148308"/>
                  </a:lnTo>
                  <a:lnTo>
                    <a:pt x="55656" y="171607"/>
                  </a:lnTo>
                  <a:lnTo>
                    <a:pt x="48351" y="183447"/>
                  </a:lnTo>
                  <a:lnTo>
                    <a:pt x="37105" y="228034"/>
                  </a:lnTo>
                  <a:lnTo>
                    <a:pt x="29663" y="267625"/>
                  </a:lnTo>
                  <a:lnTo>
                    <a:pt x="19890" y="311140"/>
                  </a:lnTo>
                  <a:lnTo>
                    <a:pt x="17979" y="352920"/>
                  </a:lnTo>
                  <a:lnTo>
                    <a:pt x="18859" y="394598"/>
                  </a:lnTo>
                  <a:lnTo>
                    <a:pt x="26238" y="429203"/>
                  </a:lnTo>
                  <a:lnTo>
                    <a:pt x="27538" y="439083"/>
                  </a:lnTo>
                  <a:lnTo>
                    <a:pt x="33808" y="456155"/>
                  </a:lnTo>
                  <a:lnTo>
                    <a:pt x="35862" y="465944"/>
                  </a:lnTo>
                  <a:lnTo>
                    <a:pt x="42597" y="477033"/>
                  </a:lnTo>
                  <a:lnTo>
                    <a:pt x="74785" y="519870"/>
                  </a:lnTo>
                  <a:lnTo>
                    <a:pt x="77886" y="525681"/>
                  </a:lnTo>
                  <a:lnTo>
                    <a:pt x="78713" y="528620"/>
                  </a:lnTo>
                  <a:lnTo>
                    <a:pt x="80257" y="530579"/>
                  </a:lnTo>
                  <a:lnTo>
                    <a:pt x="96494" y="540290"/>
                  </a:lnTo>
                  <a:lnTo>
                    <a:pt x="121235" y="544144"/>
                  </a:lnTo>
                  <a:lnTo>
                    <a:pt x="133787" y="550440"/>
                  </a:lnTo>
                  <a:lnTo>
                    <a:pt x="171397" y="552323"/>
                  </a:lnTo>
                  <a:lnTo>
                    <a:pt x="178041" y="549695"/>
                  </a:lnTo>
                  <a:lnTo>
                    <a:pt x="181202" y="547606"/>
                  </a:lnTo>
                  <a:lnTo>
                    <a:pt x="195132" y="544665"/>
                  </a:lnTo>
                  <a:lnTo>
                    <a:pt x="211479" y="542679"/>
                  </a:lnTo>
                  <a:lnTo>
                    <a:pt x="226151" y="536370"/>
                  </a:lnTo>
                  <a:lnTo>
                    <a:pt x="269932" y="507689"/>
                  </a:lnTo>
                  <a:lnTo>
                    <a:pt x="296933" y="491831"/>
                  </a:lnTo>
                  <a:lnTo>
                    <a:pt x="333463" y="450222"/>
                  </a:lnTo>
                  <a:lnTo>
                    <a:pt x="359664" y="406781"/>
                  </a:lnTo>
                  <a:lnTo>
                    <a:pt x="383411" y="365380"/>
                  </a:lnTo>
                  <a:lnTo>
                    <a:pt x="388686" y="353170"/>
                  </a:lnTo>
                  <a:lnTo>
                    <a:pt x="399665" y="311092"/>
                  </a:lnTo>
                  <a:lnTo>
                    <a:pt x="408279" y="282376"/>
                  </a:lnTo>
                  <a:lnTo>
                    <a:pt x="412674" y="259703"/>
                  </a:lnTo>
                  <a:lnTo>
                    <a:pt x="417616" y="240418"/>
                  </a:lnTo>
                  <a:lnTo>
                    <a:pt x="419574" y="198181"/>
                  </a:lnTo>
                  <a:lnTo>
                    <a:pt x="418696" y="157468"/>
                  </a:lnTo>
                  <a:lnTo>
                    <a:pt x="412627" y="139730"/>
                  </a:lnTo>
                  <a:lnTo>
                    <a:pt x="408671" y="123180"/>
                  </a:lnTo>
                  <a:lnTo>
                    <a:pt x="392722" y="90610"/>
                  </a:lnTo>
                  <a:lnTo>
                    <a:pt x="359170" y="49164"/>
                  </a:lnTo>
                  <a:lnTo>
                    <a:pt x="337593" y="31830"/>
                  </a:lnTo>
                  <a:lnTo>
                    <a:pt x="328304" y="28316"/>
                  </a:lnTo>
                  <a:lnTo>
                    <a:pt x="318554" y="25762"/>
                  </a:lnTo>
                  <a:lnTo>
                    <a:pt x="290794" y="11376"/>
                  </a:lnTo>
                  <a:lnTo>
                    <a:pt x="252624" y="5218"/>
                  </a:lnTo>
                  <a:lnTo>
                    <a:pt x="244239" y="1605"/>
                  </a:lnTo>
                  <a:lnTo>
                    <a:pt x="233897" y="0"/>
                  </a:lnTo>
                  <a:lnTo>
                    <a:pt x="193404" y="6893"/>
                  </a:lnTo>
                  <a:lnTo>
                    <a:pt x="176589" y="8415"/>
                  </a:lnTo>
                  <a:lnTo>
                    <a:pt x="148000" y="23850"/>
                  </a:lnTo>
                  <a:lnTo>
                    <a:pt x="107108" y="54408"/>
                  </a:lnTo>
                  <a:lnTo>
                    <a:pt x="74079" y="88199"/>
                  </a:lnTo>
                  <a:lnTo>
                    <a:pt x="43069" y="129696"/>
                  </a:lnTo>
                  <a:lnTo>
                    <a:pt x="20918" y="171357"/>
                  </a:lnTo>
                  <a:lnTo>
                    <a:pt x="0" y="21302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SMARTInkShape-168"/>
            <p:cNvSpPr/>
            <p:nvPr/>
          </p:nvSpPr>
          <p:spPr>
            <a:xfrm>
              <a:off x="7270200" y="4240800"/>
              <a:ext cx="382680" cy="482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382735" h="482204">
                  <a:moveTo>
                    <a:pt x="7688" y="98227"/>
                  </a:moveTo>
                  <a:lnTo>
                    <a:pt x="7688" y="98227"/>
                  </a:lnTo>
                  <a:lnTo>
                    <a:pt x="2948" y="98227"/>
                  </a:lnTo>
                  <a:lnTo>
                    <a:pt x="1550" y="100212"/>
                  </a:lnTo>
                  <a:lnTo>
                    <a:pt x="0" y="107708"/>
                  </a:lnTo>
                  <a:lnTo>
                    <a:pt x="7185" y="151943"/>
                  </a:lnTo>
                  <a:lnTo>
                    <a:pt x="7658" y="193485"/>
                  </a:lnTo>
                  <a:lnTo>
                    <a:pt x="10330" y="225889"/>
                  </a:lnTo>
                  <a:lnTo>
                    <a:pt x="16066" y="269985"/>
                  </a:lnTo>
                  <a:lnTo>
                    <a:pt x="16545" y="311823"/>
                  </a:lnTo>
                  <a:lnTo>
                    <a:pt x="17588" y="332281"/>
                  </a:lnTo>
                  <a:lnTo>
                    <a:pt x="24718" y="375135"/>
                  </a:lnTo>
                  <a:lnTo>
                    <a:pt x="25499" y="416881"/>
                  </a:lnTo>
                  <a:lnTo>
                    <a:pt x="25547" y="461513"/>
                  </a:lnTo>
                  <a:lnTo>
                    <a:pt x="25547" y="473272"/>
                  </a:lnTo>
                  <a:lnTo>
                    <a:pt x="20807" y="473273"/>
                  </a:lnTo>
                  <a:lnTo>
                    <a:pt x="19409" y="472282"/>
                  </a:lnTo>
                  <a:lnTo>
                    <a:pt x="18479" y="470628"/>
                  </a:lnTo>
                  <a:lnTo>
                    <a:pt x="16985" y="460845"/>
                  </a:lnTo>
                  <a:lnTo>
                    <a:pt x="16627" y="421263"/>
                  </a:lnTo>
                  <a:lnTo>
                    <a:pt x="16617" y="379926"/>
                  </a:lnTo>
                  <a:lnTo>
                    <a:pt x="16617" y="336180"/>
                  </a:lnTo>
                  <a:lnTo>
                    <a:pt x="16617" y="291611"/>
                  </a:lnTo>
                  <a:lnTo>
                    <a:pt x="17609" y="246970"/>
                  </a:lnTo>
                  <a:lnTo>
                    <a:pt x="24721" y="203313"/>
                  </a:lnTo>
                  <a:lnTo>
                    <a:pt x="25499" y="160788"/>
                  </a:lnTo>
                  <a:lnTo>
                    <a:pt x="26533" y="130976"/>
                  </a:lnTo>
                  <a:lnTo>
                    <a:pt x="40368" y="86486"/>
                  </a:lnTo>
                  <a:lnTo>
                    <a:pt x="44132" y="65760"/>
                  </a:lnTo>
                  <a:lnTo>
                    <a:pt x="50421" y="53633"/>
                  </a:lnTo>
                  <a:lnTo>
                    <a:pt x="51060" y="50639"/>
                  </a:lnTo>
                  <a:lnTo>
                    <a:pt x="52477" y="48641"/>
                  </a:lnTo>
                  <a:lnTo>
                    <a:pt x="54415" y="47311"/>
                  </a:lnTo>
                  <a:lnTo>
                    <a:pt x="56698" y="46424"/>
                  </a:lnTo>
                  <a:lnTo>
                    <a:pt x="58221" y="44840"/>
                  </a:lnTo>
                  <a:lnTo>
                    <a:pt x="60865" y="37117"/>
                  </a:lnTo>
                  <a:lnTo>
                    <a:pt x="63734" y="36340"/>
                  </a:lnTo>
                  <a:lnTo>
                    <a:pt x="69819" y="35756"/>
                  </a:lnTo>
                  <a:lnTo>
                    <a:pt x="77251" y="41864"/>
                  </a:lnTo>
                  <a:lnTo>
                    <a:pt x="82591" y="43411"/>
                  </a:lnTo>
                  <a:lnTo>
                    <a:pt x="84413" y="44816"/>
                  </a:lnTo>
                  <a:lnTo>
                    <a:pt x="112249" y="80384"/>
                  </a:lnTo>
                  <a:lnTo>
                    <a:pt x="119072" y="97018"/>
                  </a:lnTo>
                  <a:lnTo>
                    <a:pt x="144642" y="140313"/>
                  </a:lnTo>
                  <a:lnTo>
                    <a:pt x="155531" y="163793"/>
                  </a:lnTo>
                  <a:lnTo>
                    <a:pt x="163711" y="193488"/>
                  </a:lnTo>
                  <a:lnTo>
                    <a:pt x="191480" y="235149"/>
                  </a:lnTo>
                  <a:lnTo>
                    <a:pt x="213025" y="276820"/>
                  </a:lnTo>
                  <a:lnTo>
                    <a:pt x="237994" y="319607"/>
                  </a:lnTo>
                  <a:lnTo>
                    <a:pt x="260587" y="363032"/>
                  </a:lnTo>
                  <a:lnTo>
                    <a:pt x="281524" y="404806"/>
                  </a:lnTo>
                  <a:lnTo>
                    <a:pt x="307328" y="449296"/>
                  </a:lnTo>
                  <a:lnTo>
                    <a:pt x="311112" y="460436"/>
                  </a:lnTo>
                  <a:lnTo>
                    <a:pt x="315515" y="466907"/>
                  </a:lnTo>
                  <a:lnTo>
                    <a:pt x="320779" y="470444"/>
                  </a:lnTo>
                  <a:lnTo>
                    <a:pt x="323571" y="471387"/>
                  </a:lnTo>
                  <a:lnTo>
                    <a:pt x="325432" y="473009"/>
                  </a:lnTo>
                  <a:lnTo>
                    <a:pt x="329128" y="482120"/>
                  </a:lnTo>
                  <a:lnTo>
                    <a:pt x="329144" y="482166"/>
                  </a:lnTo>
                  <a:lnTo>
                    <a:pt x="338054" y="482203"/>
                  </a:lnTo>
                  <a:lnTo>
                    <a:pt x="338077" y="477463"/>
                  </a:lnTo>
                  <a:lnTo>
                    <a:pt x="337088" y="476067"/>
                  </a:lnTo>
                  <a:lnTo>
                    <a:pt x="335437" y="475136"/>
                  </a:lnTo>
                  <a:lnTo>
                    <a:pt x="333343" y="474515"/>
                  </a:lnTo>
                  <a:lnTo>
                    <a:pt x="331947" y="472117"/>
                  </a:lnTo>
                  <a:lnTo>
                    <a:pt x="329524" y="453266"/>
                  </a:lnTo>
                  <a:lnTo>
                    <a:pt x="329172" y="414988"/>
                  </a:lnTo>
                  <a:lnTo>
                    <a:pt x="328166" y="381557"/>
                  </a:lnTo>
                  <a:lnTo>
                    <a:pt x="321054" y="339194"/>
                  </a:lnTo>
                  <a:lnTo>
                    <a:pt x="321464" y="318342"/>
                  </a:lnTo>
                  <a:lnTo>
                    <a:pt x="328351" y="273753"/>
                  </a:lnTo>
                  <a:lnTo>
                    <a:pt x="329086" y="229110"/>
                  </a:lnTo>
                  <a:lnTo>
                    <a:pt x="329151" y="185454"/>
                  </a:lnTo>
                  <a:lnTo>
                    <a:pt x="331801" y="158268"/>
                  </a:lnTo>
                  <a:lnTo>
                    <a:pt x="337535" y="116654"/>
                  </a:lnTo>
                  <a:lnTo>
                    <a:pt x="339007" y="86396"/>
                  </a:lnTo>
                  <a:lnTo>
                    <a:pt x="351386" y="46387"/>
                  </a:lnTo>
                  <a:lnTo>
                    <a:pt x="362414" y="27410"/>
                  </a:lnTo>
                  <a:lnTo>
                    <a:pt x="364774" y="21112"/>
                  </a:lnTo>
                  <a:lnTo>
                    <a:pt x="370689" y="11989"/>
                  </a:lnTo>
                  <a:lnTo>
                    <a:pt x="372420" y="5990"/>
                  </a:lnTo>
                  <a:lnTo>
                    <a:pt x="373874" y="3993"/>
                  </a:lnTo>
                  <a:lnTo>
                    <a:pt x="375835" y="2663"/>
                  </a:lnTo>
                  <a:lnTo>
                    <a:pt x="38273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35" name="SMARTInkShape-169"/>
          <p:cNvSpPr/>
          <p:nvPr/>
        </p:nvSpPr>
        <p:spPr>
          <a:xfrm>
            <a:off x="2009880" y="4572000"/>
            <a:ext cx="1589040" cy="78588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589016" h="785814">
                <a:moveTo>
                  <a:pt x="1330177" y="169664"/>
                </a:moveTo>
                <a:lnTo>
                  <a:pt x="1330177" y="169664"/>
                </a:lnTo>
                <a:lnTo>
                  <a:pt x="1315919" y="163528"/>
                </a:lnTo>
                <a:lnTo>
                  <a:pt x="1273974" y="161102"/>
                </a:lnTo>
                <a:lnTo>
                  <a:pt x="1234188" y="159815"/>
                </a:lnTo>
                <a:lnTo>
                  <a:pt x="1195154" y="153055"/>
                </a:lnTo>
                <a:lnTo>
                  <a:pt x="1161155" y="149323"/>
                </a:lnTo>
                <a:lnTo>
                  <a:pt x="1140198" y="144785"/>
                </a:lnTo>
                <a:lnTo>
                  <a:pt x="1098573" y="143043"/>
                </a:lnTo>
                <a:lnTo>
                  <a:pt x="1086351" y="141957"/>
                </a:lnTo>
                <a:lnTo>
                  <a:pt x="1044442" y="127433"/>
                </a:lnTo>
                <a:lnTo>
                  <a:pt x="999808" y="117468"/>
                </a:lnTo>
                <a:lnTo>
                  <a:pt x="959089" y="108519"/>
                </a:lnTo>
                <a:lnTo>
                  <a:pt x="915500" y="98141"/>
                </a:lnTo>
                <a:lnTo>
                  <a:pt x="872619" y="90203"/>
                </a:lnTo>
                <a:lnTo>
                  <a:pt x="854174" y="88573"/>
                </a:lnTo>
                <a:lnTo>
                  <a:pt x="809624" y="78289"/>
                </a:lnTo>
                <a:lnTo>
                  <a:pt x="774389" y="72339"/>
                </a:lnTo>
                <a:lnTo>
                  <a:pt x="737914" y="70524"/>
                </a:lnTo>
                <a:lnTo>
                  <a:pt x="702129" y="63342"/>
                </a:lnTo>
                <a:lnTo>
                  <a:pt x="660451" y="62556"/>
                </a:lnTo>
                <a:lnTo>
                  <a:pt x="622086" y="62512"/>
                </a:lnTo>
                <a:lnTo>
                  <a:pt x="580635" y="62508"/>
                </a:lnTo>
                <a:lnTo>
                  <a:pt x="538443" y="62507"/>
                </a:lnTo>
                <a:lnTo>
                  <a:pt x="496741" y="62507"/>
                </a:lnTo>
                <a:lnTo>
                  <a:pt x="461021" y="63500"/>
                </a:lnTo>
                <a:lnTo>
                  <a:pt x="421084" y="75810"/>
                </a:lnTo>
                <a:lnTo>
                  <a:pt x="392396" y="79767"/>
                </a:lnTo>
                <a:lnTo>
                  <a:pt x="380581" y="81092"/>
                </a:lnTo>
                <a:lnTo>
                  <a:pt x="351065" y="88446"/>
                </a:lnTo>
                <a:lnTo>
                  <a:pt x="335176" y="90036"/>
                </a:lnTo>
                <a:lnTo>
                  <a:pt x="306350" y="97377"/>
                </a:lnTo>
                <a:lnTo>
                  <a:pt x="291500" y="98967"/>
                </a:lnTo>
                <a:lnTo>
                  <a:pt x="274444" y="105245"/>
                </a:lnTo>
                <a:lnTo>
                  <a:pt x="253570" y="107897"/>
                </a:lnTo>
                <a:lnTo>
                  <a:pt x="240935" y="114174"/>
                </a:lnTo>
                <a:lnTo>
                  <a:pt x="224144" y="120449"/>
                </a:lnTo>
                <a:lnTo>
                  <a:pt x="205593" y="134128"/>
                </a:lnTo>
                <a:lnTo>
                  <a:pt x="199330" y="138987"/>
                </a:lnTo>
                <a:lnTo>
                  <a:pt x="187226" y="144752"/>
                </a:lnTo>
                <a:lnTo>
                  <a:pt x="172301" y="157013"/>
                </a:lnTo>
                <a:lnTo>
                  <a:pt x="160389" y="162645"/>
                </a:lnTo>
                <a:lnTo>
                  <a:pt x="138311" y="182844"/>
                </a:lnTo>
                <a:lnTo>
                  <a:pt x="135693" y="188089"/>
                </a:lnTo>
                <a:lnTo>
                  <a:pt x="132882" y="202480"/>
                </a:lnTo>
                <a:lnTo>
                  <a:pt x="126585" y="214328"/>
                </a:lnTo>
                <a:lnTo>
                  <a:pt x="125947" y="217299"/>
                </a:lnTo>
                <a:lnTo>
                  <a:pt x="117093" y="235149"/>
                </a:lnTo>
                <a:lnTo>
                  <a:pt x="115755" y="279303"/>
                </a:lnTo>
                <a:lnTo>
                  <a:pt x="115739" y="321419"/>
                </a:lnTo>
                <a:lnTo>
                  <a:pt x="116732" y="342482"/>
                </a:lnTo>
                <a:lnTo>
                  <a:pt x="122807" y="359280"/>
                </a:lnTo>
                <a:lnTo>
                  <a:pt x="124834" y="369032"/>
                </a:lnTo>
                <a:lnTo>
                  <a:pt x="131574" y="383376"/>
                </a:lnTo>
                <a:lnTo>
                  <a:pt x="142614" y="415867"/>
                </a:lnTo>
                <a:lnTo>
                  <a:pt x="148397" y="426388"/>
                </a:lnTo>
                <a:lnTo>
                  <a:pt x="151543" y="440640"/>
                </a:lnTo>
                <a:lnTo>
                  <a:pt x="158347" y="454847"/>
                </a:lnTo>
                <a:lnTo>
                  <a:pt x="164726" y="471948"/>
                </a:lnTo>
                <a:lnTo>
                  <a:pt x="184584" y="506962"/>
                </a:lnTo>
                <a:lnTo>
                  <a:pt x="187017" y="514043"/>
                </a:lnTo>
                <a:lnTo>
                  <a:pt x="202555" y="535729"/>
                </a:lnTo>
                <a:lnTo>
                  <a:pt x="203383" y="538722"/>
                </a:lnTo>
                <a:lnTo>
                  <a:pt x="243656" y="583297"/>
                </a:lnTo>
                <a:lnTo>
                  <a:pt x="285403" y="625078"/>
                </a:lnTo>
                <a:lnTo>
                  <a:pt x="288380" y="628054"/>
                </a:lnTo>
                <a:lnTo>
                  <a:pt x="296979" y="631362"/>
                </a:lnTo>
                <a:lnTo>
                  <a:pt x="306423" y="633824"/>
                </a:lnTo>
                <a:lnTo>
                  <a:pt x="320571" y="643488"/>
                </a:lnTo>
                <a:lnTo>
                  <a:pt x="332919" y="654953"/>
                </a:lnTo>
                <a:lnTo>
                  <a:pt x="341579" y="658199"/>
                </a:lnTo>
                <a:lnTo>
                  <a:pt x="351050" y="660634"/>
                </a:lnTo>
                <a:lnTo>
                  <a:pt x="365215" y="670283"/>
                </a:lnTo>
                <a:lnTo>
                  <a:pt x="368376" y="673074"/>
                </a:lnTo>
                <a:lnTo>
                  <a:pt x="377181" y="676175"/>
                </a:lnTo>
                <a:lnTo>
                  <a:pt x="403569" y="681084"/>
                </a:lnTo>
                <a:lnTo>
                  <a:pt x="446744" y="694484"/>
                </a:lnTo>
                <a:lnTo>
                  <a:pt x="474842" y="698984"/>
                </a:lnTo>
                <a:lnTo>
                  <a:pt x="492377" y="704169"/>
                </a:lnTo>
                <a:lnTo>
                  <a:pt x="523612" y="706362"/>
                </a:lnTo>
                <a:lnTo>
                  <a:pt x="545980" y="713124"/>
                </a:lnTo>
                <a:lnTo>
                  <a:pt x="589192" y="714325"/>
                </a:lnTo>
                <a:lnTo>
                  <a:pt x="630695" y="714372"/>
                </a:lnTo>
                <a:lnTo>
                  <a:pt x="639950" y="717019"/>
                </a:lnTo>
                <a:lnTo>
                  <a:pt x="643807" y="719114"/>
                </a:lnTo>
                <a:lnTo>
                  <a:pt x="648362" y="719519"/>
                </a:lnTo>
                <a:lnTo>
                  <a:pt x="687403" y="714763"/>
                </a:lnTo>
                <a:lnTo>
                  <a:pt x="728921" y="714397"/>
                </a:lnTo>
                <a:lnTo>
                  <a:pt x="769469" y="714375"/>
                </a:lnTo>
                <a:lnTo>
                  <a:pt x="809388" y="714375"/>
                </a:lnTo>
                <a:lnTo>
                  <a:pt x="850957" y="714375"/>
                </a:lnTo>
                <a:lnTo>
                  <a:pt x="892622" y="714375"/>
                </a:lnTo>
                <a:lnTo>
                  <a:pt x="903536" y="713383"/>
                </a:lnTo>
                <a:lnTo>
                  <a:pt x="921273" y="707307"/>
                </a:lnTo>
                <a:lnTo>
                  <a:pt x="961192" y="705554"/>
                </a:lnTo>
                <a:lnTo>
                  <a:pt x="983925" y="704474"/>
                </a:lnTo>
                <a:lnTo>
                  <a:pt x="1001644" y="698382"/>
                </a:lnTo>
                <a:lnTo>
                  <a:pt x="1041560" y="696624"/>
                </a:lnTo>
                <a:lnTo>
                  <a:pt x="1064292" y="695545"/>
                </a:lnTo>
                <a:lnTo>
                  <a:pt x="1082012" y="689452"/>
                </a:lnTo>
                <a:lnTo>
                  <a:pt x="1121927" y="687694"/>
                </a:lnTo>
                <a:lnTo>
                  <a:pt x="1131126" y="684988"/>
                </a:lnTo>
                <a:lnTo>
                  <a:pt x="1139515" y="681470"/>
                </a:lnTo>
                <a:lnTo>
                  <a:pt x="1178537" y="678821"/>
                </a:lnTo>
                <a:lnTo>
                  <a:pt x="1189360" y="677737"/>
                </a:lnTo>
                <a:lnTo>
                  <a:pt x="1207038" y="671602"/>
                </a:lnTo>
                <a:lnTo>
                  <a:pt x="1241045" y="667245"/>
                </a:lnTo>
                <a:lnTo>
                  <a:pt x="1259985" y="662070"/>
                </a:lnTo>
                <a:lnTo>
                  <a:pt x="1274273" y="660056"/>
                </a:lnTo>
                <a:lnTo>
                  <a:pt x="1295175" y="653778"/>
                </a:lnTo>
                <a:lnTo>
                  <a:pt x="1305691" y="651724"/>
                </a:lnTo>
                <a:lnTo>
                  <a:pt x="1320526" y="644967"/>
                </a:lnTo>
                <a:lnTo>
                  <a:pt x="1364303" y="629670"/>
                </a:lnTo>
                <a:lnTo>
                  <a:pt x="1395578" y="618218"/>
                </a:lnTo>
                <a:lnTo>
                  <a:pt x="1437317" y="583071"/>
                </a:lnTo>
                <a:lnTo>
                  <a:pt x="1443280" y="580611"/>
                </a:lnTo>
                <a:lnTo>
                  <a:pt x="1476028" y="550632"/>
                </a:lnTo>
                <a:lnTo>
                  <a:pt x="1479336" y="544696"/>
                </a:lnTo>
                <a:lnTo>
                  <a:pt x="1491628" y="503284"/>
                </a:lnTo>
                <a:lnTo>
                  <a:pt x="1497925" y="491181"/>
                </a:lnTo>
                <a:lnTo>
                  <a:pt x="1508369" y="448065"/>
                </a:lnTo>
                <a:lnTo>
                  <a:pt x="1511238" y="439579"/>
                </a:lnTo>
                <a:lnTo>
                  <a:pt x="1514828" y="432502"/>
                </a:lnTo>
                <a:lnTo>
                  <a:pt x="1516849" y="421946"/>
                </a:lnTo>
                <a:lnTo>
                  <a:pt x="1517588" y="400135"/>
                </a:lnTo>
                <a:lnTo>
                  <a:pt x="1509014" y="359439"/>
                </a:lnTo>
                <a:lnTo>
                  <a:pt x="1508803" y="337627"/>
                </a:lnTo>
                <a:lnTo>
                  <a:pt x="1506139" y="330965"/>
                </a:lnTo>
                <a:lnTo>
                  <a:pt x="1504040" y="327800"/>
                </a:lnTo>
                <a:lnTo>
                  <a:pt x="1497748" y="305521"/>
                </a:lnTo>
                <a:lnTo>
                  <a:pt x="1493950" y="298506"/>
                </a:lnTo>
                <a:lnTo>
                  <a:pt x="1491511" y="285918"/>
                </a:lnTo>
                <a:lnTo>
                  <a:pt x="1490186" y="278879"/>
                </a:lnTo>
                <a:lnTo>
                  <a:pt x="1479903" y="250587"/>
                </a:lnTo>
                <a:lnTo>
                  <a:pt x="1448893" y="214317"/>
                </a:lnTo>
                <a:lnTo>
                  <a:pt x="1446439" y="208361"/>
                </a:lnTo>
                <a:lnTo>
                  <a:pt x="1425317" y="184547"/>
                </a:lnTo>
                <a:lnTo>
                  <a:pt x="1384708" y="157390"/>
                </a:lnTo>
                <a:lnTo>
                  <a:pt x="1366413" y="145472"/>
                </a:lnTo>
                <a:lnTo>
                  <a:pt x="1360173" y="143037"/>
                </a:lnTo>
                <a:lnTo>
                  <a:pt x="1350089" y="137080"/>
                </a:lnTo>
                <a:lnTo>
                  <a:pt x="1335967" y="133882"/>
                </a:lnTo>
                <a:lnTo>
                  <a:pt x="1321803" y="124414"/>
                </a:lnTo>
                <a:lnTo>
                  <a:pt x="1315541" y="119788"/>
                </a:lnTo>
                <a:lnTo>
                  <a:pt x="1287405" y="106588"/>
                </a:lnTo>
                <a:lnTo>
                  <a:pt x="1280409" y="101943"/>
                </a:lnTo>
                <a:lnTo>
                  <a:pt x="1238800" y="87267"/>
                </a:lnTo>
                <a:lnTo>
                  <a:pt x="1225051" y="82412"/>
                </a:lnTo>
                <a:lnTo>
                  <a:pt x="1212047" y="78327"/>
                </a:lnTo>
                <a:lnTo>
                  <a:pt x="1201276" y="74499"/>
                </a:lnTo>
                <a:lnTo>
                  <a:pt x="1156685" y="65380"/>
                </a:lnTo>
                <a:lnTo>
                  <a:pt x="1140417" y="62367"/>
                </a:lnTo>
                <a:lnTo>
                  <a:pt x="1127880" y="56623"/>
                </a:lnTo>
                <a:lnTo>
                  <a:pt x="1083232" y="45555"/>
                </a:lnTo>
                <a:lnTo>
                  <a:pt x="1067390" y="43925"/>
                </a:lnTo>
                <a:lnTo>
                  <a:pt x="1038362" y="36995"/>
                </a:lnTo>
                <a:lnTo>
                  <a:pt x="1002933" y="34801"/>
                </a:lnTo>
                <a:lnTo>
                  <a:pt x="975597" y="28040"/>
                </a:lnTo>
                <a:lnTo>
                  <a:pt x="934273" y="26862"/>
                </a:lnTo>
                <a:lnTo>
                  <a:pt x="889976" y="26793"/>
                </a:lnTo>
                <a:lnTo>
                  <a:pt x="848525" y="26789"/>
                </a:lnTo>
                <a:lnTo>
                  <a:pt x="809658" y="26789"/>
                </a:lnTo>
                <a:lnTo>
                  <a:pt x="768163" y="26789"/>
                </a:lnTo>
                <a:lnTo>
                  <a:pt x="755948" y="27781"/>
                </a:lnTo>
                <a:lnTo>
                  <a:pt x="719011" y="34891"/>
                </a:lnTo>
                <a:lnTo>
                  <a:pt x="675171" y="35645"/>
                </a:lnTo>
                <a:lnTo>
                  <a:pt x="631585" y="35712"/>
                </a:lnTo>
                <a:lnTo>
                  <a:pt x="594053" y="36711"/>
                </a:lnTo>
                <a:lnTo>
                  <a:pt x="551152" y="43820"/>
                </a:lnTo>
                <a:lnTo>
                  <a:pt x="532705" y="45395"/>
                </a:lnTo>
                <a:lnTo>
                  <a:pt x="490624" y="52729"/>
                </a:lnTo>
                <a:lnTo>
                  <a:pt x="453330" y="54496"/>
                </a:lnTo>
                <a:lnTo>
                  <a:pt x="435395" y="60631"/>
                </a:lnTo>
                <a:lnTo>
                  <a:pt x="398685" y="62343"/>
                </a:lnTo>
                <a:lnTo>
                  <a:pt x="354733" y="62493"/>
                </a:lnTo>
                <a:lnTo>
                  <a:pt x="325181" y="63498"/>
                </a:lnTo>
                <a:lnTo>
                  <a:pt x="297061" y="70196"/>
                </a:lnTo>
                <a:lnTo>
                  <a:pt x="267512" y="73920"/>
                </a:lnTo>
                <a:lnTo>
                  <a:pt x="228020" y="86252"/>
                </a:lnTo>
                <a:lnTo>
                  <a:pt x="211736" y="89387"/>
                </a:lnTo>
                <a:lnTo>
                  <a:pt x="177681" y="104690"/>
                </a:lnTo>
                <a:lnTo>
                  <a:pt x="149547" y="109586"/>
                </a:lnTo>
                <a:lnTo>
                  <a:pt x="108854" y="125630"/>
                </a:lnTo>
                <a:lnTo>
                  <a:pt x="101765" y="130249"/>
                </a:lnTo>
                <a:lnTo>
                  <a:pt x="89130" y="135861"/>
                </a:lnTo>
                <a:lnTo>
                  <a:pt x="59188" y="163744"/>
                </a:lnTo>
                <a:lnTo>
                  <a:pt x="55879" y="172325"/>
                </a:lnTo>
                <a:lnTo>
                  <a:pt x="53416" y="181761"/>
                </a:lnTo>
                <a:lnTo>
                  <a:pt x="43750" y="195902"/>
                </a:lnTo>
                <a:lnTo>
                  <a:pt x="32287" y="208250"/>
                </a:lnTo>
                <a:lnTo>
                  <a:pt x="29040" y="216910"/>
                </a:lnTo>
                <a:lnTo>
                  <a:pt x="26605" y="226380"/>
                </a:lnTo>
                <a:lnTo>
                  <a:pt x="19603" y="240545"/>
                </a:lnTo>
                <a:lnTo>
                  <a:pt x="4247" y="284160"/>
                </a:lnTo>
                <a:lnTo>
                  <a:pt x="4341" y="295296"/>
                </a:lnTo>
                <a:lnTo>
                  <a:pt x="7746" y="313873"/>
                </a:lnTo>
                <a:lnTo>
                  <a:pt x="0" y="358513"/>
                </a:lnTo>
                <a:lnTo>
                  <a:pt x="8768" y="395142"/>
                </a:lnTo>
                <a:lnTo>
                  <a:pt x="14481" y="407679"/>
                </a:lnTo>
                <a:lnTo>
                  <a:pt x="24403" y="446652"/>
                </a:lnTo>
                <a:lnTo>
                  <a:pt x="28484" y="464393"/>
                </a:lnTo>
                <a:lnTo>
                  <a:pt x="35977" y="479571"/>
                </a:lnTo>
                <a:lnTo>
                  <a:pt x="49343" y="502876"/>
                </a:lnTo>
                <a:lnTo>
                  <a:pt x="57460" y="525225"/>
                </a:lnTo>
                <a:lnTo>
                  <a:pt x="94680" y="569190"/>
                </a:lnTo>
                <a:lnTo>
                  <a:pt x="127311" y="609695"/>
                </a:lnTo>
                <a:lnTo>
                  <a:pt x="153552" y="633441"/>
                </a:lnTo>
                <a:lnTo>
                  <a:pt x="190071" y="658791"/>
                </a:lnTo>
                <a:lnTo>
                  <a:pt x="202145" y="671888"/>
                </a:lnTo>
                <a:lnTo>
                  <a:pt x="240935" y="687974"/>
                </a:lnTo>
                <a:lnTo>
                  <a:pt x="282250" y="711413"/>
                </a:lnTo>
                <a:lnTo>
                  <a:pt x="315415" y="728267"/>
                </a:lnTo>
                <a:lnTo>
                  <a:pt x="356855" y="741715"/>
                </a:lnTo>
                <a:lnTo>
                  <a:pt x="368754" y="746370"/>
                </a:lnTo>
                <a:lnTo>
                  <a:pt x="410420" y="756943"/>
                </a:lnTo>
                <a:lnTo>
                  <a:pt x="446138" y="761486"/>
                </a:lnTo>
                <a:lnTo>
                  <a:pt x="466643" y="766037"/>
                </a:lnTo>
                <a:lnTo>
                  <a:pt x="508094" y="770430"/>
                </a:lnTo>
                <a:lnTo>
                  <a:pt x="528987" y="774971"/>
                </a:lnTo>
                <a:lnTo>
                  <a:pt x="570587" y="776715"/>
                </a:lnTo>
                <a:lnTo>
                  <a:pt x="582809" y="777800"/>
                </a:lnTo>
                <a:lnTo>
                  <a:pt x="624894" y="784978"/>
                </a:lnTo>
                <a:lnTo>
                  <a:pt x="664172" y="785739"/>
                </a:lnTo>
                <a:lnTo>
                  <a:pt x="707226" y="785805"/>
                </a:lnTo>
                <a:lnTo>
                  <a:pt x="749857" y="785812"/>
                </a:lnTo>
                <a:lnTo>
                  <a:pt x="794328" y="785813"/>
                </a:lnTo>
                <a:lnTo>
                  <a:pt x="814330" y="784820"/>
                </a:lnTo>
                <a:lnTo>
                  <a:pt x="857008" y="777711"/>
                </a:lnTo>
                <a:lnTo>
                  <a:pt x="901483" y="770818"/>
                </a:lnTo>
                <a:lnTo>
                  <a:pt x="946117" y="762067"/>
                </a:lnTo>
                <a:lnTo>
                  <a:pt x="985619" y="753154"/>
                </a:lnTo>
                <a:lnTo>
                  <a:pt x="1029685" y="744226"/>
                </a:lnTo>
                <a:lnTo>
                  <a:pt x="1074283" y="735296"/>
                </a:lnTo>
                <a:lnTo>
                  <a:pt x="1111528" y="727897"/>
                </a:lnTo>
                <a:lnTo>
                  <a:pt x="1153228" y="711279"/>
                </a:lnTo>
                <a:lnTo>
                  <a:pt x="1192877" y="701217"/>
                </a:lnTo>
                <a:lnTo>
                  <a:pt x="1233681" y="684499"/>
                </a:lnTo>
                <a:lnTo>
                  <a:pt x="1273252" y="666740"/>
                </a:lnTo>
                <a:lnTo>
                  <a:pt x="1316997" y="648889"/>
                </a:lnTo>
                <a:lnTo>
                  <a:pt x="1359868" y="628054"/>
                </a:lnTo>
                <a:lnTo>
                  <a:pt x="1383740" y="613502"/>
                </a:lnTo>
                <a:lnTo>
                  <a:pt x="1425426" y="586751"/>
                </a:lnTo>
                <a:lnTo>
                  <a:pt x="1448247" y="573557"/>
                </a:lnTo>
                <a:lnTo>
                  <a:pt x="1465985" y="555516"/>
                </a:lnTo>
                <a:lnTo>
                  <a:pt x="1493141" y="538013"/>
                </a:lnTo>
                <a:lnTo>
                  <a:pt x="1510681" y="519832"/>
                </a:lnTo>
                <a:lnTo>
                  <a:pt x="1520534" y="511826"/>
                </a:lnTo>
                <a:lnTo>
                  <a:pt x="1550362" y="469388"/>
                </a:lnTo>
                <a:lnTo>
                  <a:pt x="1576238" y="425790"/>
                </a:lnTo>
                <a:lnTo>
                  <a:pt x="1588207" y="381724"/>
                </a:lnTo>
                <a:lnTo>
                  <a:pt x="1589015" y="358888"/>
                </a:lnTo>
                <a:lnTo>
                  <a:pt x="1586437" y="350336"/>
                </a:lnTo>
                <a:lnTo>
                  <a:pt x="1582977" y="342236"/>
                </a:lnTo>
                <a:lnTo>
                  <a:pt x="1575576" y="305226"/>
                </a:lnTo>
                <a:lnTo>
                  <a:pt x="1547438" y="262844"/>
                </a:lnTo>
                <a:lnTo>
                  <a:pt x="1510632" y="221164"/>
                </a:lnTo>
                <a:lnTo>
                  <a:pt x="1502653" y="211404"/>
                </a:lnTo>
                <a:lnTo>
                  <a:pt x="1484007" y="194408"/>
                </a:lnTo>
                <a:lnTo>
                  <a:pt x="1475936" y="184630"/>
                </a:lnTo>
                <a:lnTo>
                  <a:pt x="1437154" y="153845"/>
                </a:lnTo>
                <a:lnTo>
                  <a:pt x="1395651" y="131088"/>
                </a:lnTo>
                <a:lnTo>
                  <a:pt x="1352253" y="113120"/>
                </a:lnTo>
                <a:lnTo>
                  <a:pt x="1307715" y="95250"/>
                </a:lnTo>
                <a:lnTo>
                  <a:pt x="1263076" y="77391"/>
                </a:lnTo>
                <a:lnTo>
                  <a:pt x="1231043" y="66477"/>
                </a:lnTo>
                <a:lnTo>
                  <a:pt x="1191923" y="58290"/>
                </a:lnTo>
                <a:lnTo>
                  <a:pt x="1153662" y="44484"/>
                </a:lnTo>
                <a:lnTo>
                  <a:pt x="1139608" y="39615"/>
                </a:lnTo>
                <a:lnTo>
                  <a:pt x="1097604" y="36232"/>
                </a:lnTo>
                <a:lnTo>
                  <a:pt x="1055950" y="28718"/>
                </a:lnTo>
                <a:lnTo>
                  <a:pt x="1016803" y="26051"/>
                </a:lnTo>
                <a:lnTo>
                  <a:pt x="977620" y="19134"/>
                </a:lnTo>
                <a:lnTo>
                  <a:pt x="936704" y="15381"/>
                </a:lnTo>
                <a:lnTo>
                  <a:pt x="898685" y="9778"/>
                </a:lnTo>
                <a:lnTo>
                  <a:pt x="867913" y="6451"/>
                </a:lnTo>
                <a:lnTo>
                  <a:pt x="845944" y="1911"/>
                </a:lnTo>
                <a:lnTo>
                  <a:pt x="809195" y="251"/>
                </a:lnTo>
                <a:lnTo>
                  <a:pt x="771944" y="33"/>
                </a:lnTo>
                <a:lnTo>
                  <a:pt x="727296" y="3"/>
                </a:lnTo>
                <a:lnTo>
                  <a:pt x="686635" y="0"/>
                </a:lnTo>
                <a:lnTo>
                  <a:pt x="643322" y="0"/>
                </a:lnTo>
                <a:lnTo>
                  <a:pt x="600962" y="0"/>
                </a:lnTo>
                <a:lnTo>
                  <a:pt x="570979" y="992"/>
                </a:lnTo>
                <a:lnTo>
                  <a:pt x="531712" y="8101"/>
                </a:lnTo>
                <a:lnTo>
                  <a:pt x="501626" y="11412"/>
                </a:lnTo>
                <a:lnTo>
                  <a:pt x="458156" y="22222"/>
                </a:lnTo>
                <a:lnTo>
                  <a:pt x="414647" y="31128"/>
                </a:lnTo>
                <a:lnTo>
                  <a:pt x="370805" y="42579"/>
                </a:lnTo>
                <a:lnTo>
                  <a:pt x="327909" y="59611"/>
                </a:lnTo>
                <a:lnTo>
                  <a:pt x="309463" y="67492"/>
                </a:lnTo>
                <a:lnTo>
                  <a:pt x="267558" y="80919"/>
                </a:lnTo>
                <a:lnTo>
                  <a:pt x="225873" y="101235"/>
                </a:lnTo>
                <a:lnTo>
                  <a:pt x="198753" y="113445"/>
                </a:lnTo>
                <a:lnTo>
                  <a:pt x="179983" y="120304"/>
                </a:lnTo>
                <a:lnTo>
                  <a:pt x="136492" y="149842"/>
                </a:lnTo>
                <a:lnTo>
                  <a:pt x="94989" y="185294"/>
                </a:lnTo>
                <a:lnTo>
                  <a:pt x="62215" y="225720"/>
                </a:lnTo>
                <a:lnTo>
                  <a:pt x="38020" y="265861"/>
                </a:lnTo>
                <a:lnTo>
                  <a:pt x="35557" y="272941"/>
                </a:lnTo>
                <a:lnTo>
                  <a:pt x="29584" y="283498"/>
                </a:lnTo>
                <a:lnTo>
                  <a:pt x="21380" y="324377"/>
                </a:lnTo>
                <a:lnTo>
                  <a:pt x="28975" y="368158"/>
                </a:lnTo>
                <a:lnTo>
                  <a:pt x="36123" y="381935"/>
                </a:lnTo>
                <a:lnTo>
                  <a:pt x="68123" y="424797"/>
                </a:lnTo>
                <a:lnTo>
                  <a:pt x="101041" y="466655"/>
                </a:lnTo>
                <a:lnTo>
                  <a:pt x="135225" y="506396"/>
                </a:lnTo>
                <a:lnTo>
                  <a:pt x="155344" y="528910"/>
                </a:lnTo>
                <a:lnTo>
                  <a:pt x="196160" y="560479"/>
                </a:lnTo>
                <a:lnTo>
                  <a:pt x="237782" y="588024"/>
                </a:lnTo>
                <a:lnTo>
                  <a:pt x="249686" y="593727"/>
                </a:lnTo>
                <a:lnTo>
                  <a:pt x="292471" y="607602"/>
                </a:lnTo>
                <a:lnTo>
                  <a:pt x="335896" y="628078"/>
                </a:lnTo>
                <a:lnTo>
                  <a:pt x="379403" y="638227"/>
                </a:lnTo>
                <a:lnTo>
                  <a:pt x="419968" y="652030"/>
                </a:lnTo>
                <a:lnTo>
                  <a:pt x="446321" y="658199"/>
                </a:lnTo>
                <a:lnTo>
                  <a:pt x="490810" y="667583"/>
                </a:lnTo>
                <a:lnTo>
                  <a:pt x="535438" y="677002"/>
                </a:lnTo>
                <a:lnTo>
                  <a:pt x="572147" y="678330"/>
                </a:lnTo>
                <a:lnTo>
                  <a:pt x="613940" y="678592"/>
                </a:lnTo>
                <a:lnTo>
                  <a:pt x="655893" y="683383"/>
                </a:lnTo>
                <a:lnTo>
                  <a:pt x="696261" y="686756"/>
                </a:lnTo>
                <a:lnTo>
                  <a:pt x="729821" y="687339"/>
                </a:lnTo>
                <a:lnTo>
                  <a:pt x="774070" y="687536"/>
                </a:lnTo>
                <a:lnTo>
                  <a:pt x="816508" y="692316"/>
                </a:lnTo>
                <a:lnTo>
                  <a:pt x="851329" y="695271"/>
                </a:lnTo>
                <a:lnTo>
                  <a:pt x="886782" y="696147"/>
                </a:lnTo>
                <a:lnTo>
                  <a:pt x="927162" y="696406"/>
                </a:lnTo>
                <a:lnTo>
                  <a:pt x="965805" y="701224"/>
                </a:lnTo>
                <a:lnTo>
                  <a:pt x="1002390" y="699454"/>
                </a:lnTo>
                <a:lnTo>
                  <a:pt x="1038366" y="702126"/>
                </a:lnTo>
                <a:lnTo>
                  <a:pt x="1078901" y="699721"/>
                </a:lnTo>
                <a:lnTo>
                  <a:pt x="1117590" y="697466"/>
                </a:lnTo>
                <a:lnTo>
                  <a:pt x="1154189" y="696797"/>
                </a:lnTo>
                <a:lnTo>
                  <a:pt x="1194909" y="691859"/>
                </a:lnTo>
                <a:lnTo>
                  <a:pt x="1238394" y="688851"/>
                </a:lnTo>
                <a:lnTo>
                  <a:pt x="1282697" y="683220"/>
                </a:lnTo>
                <a:lnTo>
                  <a:pt x="1327243" y="675268"/>
                </a:lnTo>
                <a:lnTo>
                  <a:pt x="1359631" y="669544"/>
                </a:lnTo>
                <a:lnTo>
                  <a:pt x="1392877" y="663692"/>
                </a:lnTo>
                <a:lnTo>
                  <a:pt x="1424190" y="657784"/>
                </a:lnTo>
                <a:lnTo>
                  <a:pt x="1454643" y="651851"/>
                </a:lnTo>
                <a:lnTo>
                  <a:pt x="1497032" y="640286"/>
                </a:lnTo>
                <a:lnTo>
                  <a:pt x="1535560" y="62507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6" name="SMARTInkShape-Group193"/>
          <p:cNvGrpSpPr/>
          <p:nvPr/>
        </p:nvGrpSpPr>
        <p:grpSpPr>
          <a:xfrm>
            <a:off x="554040" y="5527800"/>
            <a:ext cx="2901960" cy="88920"/>
            <a:chOff x="554040" y="5527800"/>
            <a:chExt cx="2901960" cy="88920"/>
          </a:xfrm>
        </p:grpSpPr>
        <p:sp>
          <p:nvSpPr>
            <p:cNvPr id="237" name="SMARTInkShape-170"/>
            <p:cNvSpPr/>
            <p:nvPr/>
          </p:nvSpPr>
          <p:spPr>
            <a:xfrm>
              <a:off x="1625400" y="5536440"/>
              <a:ext cx="1830600" cy="80280"/>
            </a:xfrm>
            <a:custGeom>
              <a:avLst/>
              <a:gdLst>
                <a:gd name="textAreaLeft" fmla="*/ 0 w 1830600"/>
                <a:gd name="textAreaRight" fmla="*/ 1830960 w 18306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830587" h="80368">
                  <a:moveTo>
                    <a:pt x="1830586" y="80367"/>
                  </a:moveTo>
                  <a:lnTo>
                    <a:pt x="1830586" y="80367"/>
                  </a:lnTo>
                  <a:lnTo>
                    <a:pt x="1821105" y="75627"/>
                  </a:lnTo>
                  <a:lnTo>
                    <a:pt x="1817319" y="75222"/>
                  </a:lnTo>
                  <a:lnTo>
                    <a:pt x="1796292" y="79494"/>
                  </a:lnTo>
                  <a:lnTo>
                    <a:pt x="1752507" y="67862"/>
                  </a:lnTo>
                  <a:lnTo>
                    <a:pt x="1709762" y="60071"/>
                  </a:lnTo>
                  <a:lnTo>
                    <a:pt x="1670219" y="51502"/>
                  </a:lnTo>
                  <a:lnTo>
                    <a:pt x="1652101" y="46678"/>
                  </a:lnTo>
                  <a:lnTo>
                    <a:pt x="1623351" y="42180"/>
                  </a:lnTo>
                  <a:lnTo>
                    <a:pt x="1606795" y="37633"/>
                  </a:lnTo>
                  <a:lnTo>
                    <a:pt x="1571576" y="33241"/>
                  </a:lnTo>
                  <a:lnTo>
                    <a:pt x="1529950" y="19478"/>
                  </a:lnTo>
                  <a:lnTo>
                    <a:pt x="1488281" y="9852"/>
                  </a:lnTo>
                  <a:lnTo>
                    <a:pt x="1470422" y="8210"/>
                  </a:lnTo>
                  <a:lnTo>
                    <a:pt x="1435916" y="1277"/>
                  </a:lnTo>
                  <a:lnTo>
                    <a:pt x="1396376" y="112"/>
                  </a:lnTo>
                  <a:lnTo>
                    <a:pt x="1352633" y="10"/>
                  </a:lnTo>
                  <a:lnTo>
                    <a:pt x="1308064" y="0"/>
                  </a:lnTo>
                  <a:lnTo>
                    <a:pt x="1263422" y="0"/>
                  </a:lnTo>
                  <a:lnTo>
                    <a:pt x="1218775" y="0"/>
                  </a:lnTo>
                  <a:lnTo>
                    <a:pt x="1174126" y="7688"/>
                  </a:lnTo>
                  <a:lnTo>
                    <a:pt x="1129478" y="8820"/>
                  </a:lnTo>
                  <a:lnTo>
                    <a:pt x="1087777" y="8920"/>
                  </a:lnTo>
                  <a:lnTo>
                    <a:pt x="1051624" y="11574"/>
                  </a:lnTo>
                  <a:lnTo>
                    <a:pt x="1009656" y="17308"/>
                  </a:lnTo>
                  <a:lnTo>
                    <a:pt x="970743" y="17811"/>
                  </a:lnTo>
                  <a:lnTo>
                    <a:pt x="926598" y="17855"/>
                  </a:lnTo>
                  <a:lnTo>
                    <a:pt x="884640" y="17860"/>
                  </a:lnTo>
                  <a:lnTo>
                    <a:pt x="845727" y="17860"/>
                  </a:lnTo>
                  <a:lnTo>
                    <a:pt x="810460" y="18851"/>
                  </a:lnTo>
                  <a:lnTo>
                    <a:pt x="767843" y="25961"/>
                  </a:lnTo>
                  <a:lnTo>
                    <a:pt x="728517" y="26716"/>
                  </a:lnTo>
                  <a:lnTo>
                    <a:pt x="705336" y="27760"/>
                  </a:lnTo>
                  <a:lnTo>
                    <a:pt x="666010" y="34890"/>
                  </a:lnTo>
                  <a:lnTo>
                    <a:pt x="635919" y="38201"/>
                  </a:lnTo>
                  <a:lnTo>
                    <a:pt x="610573" y="43375"/>
                  </a:lnTo>
                  <a:lnTo>
                    <a:pt x="567553" y="44574"/>
                  </a:lnTo>
                  <a:lnTo>
                    <a:pt x="545526" y="45618"/>
                  </a:lnTo>
                  <a:lnTo>
                    <a:pt x="522897" y="51712"/>
                  </a:lnTo>
                  <a:lnTo>
                    <a:pt x="482640" y="53414"/>
                  </a:lnTo>
                  <a:lnTo>
                    <a:pt x="470491" y="54498"/>
                  </a:lnTo>
                  <a:lnTo>
                    <a:pt x="434595" y="61674"/>
                  </a:lnTo>
                  <a:lnTo>
                    <a:pt x="390261" y="65105"/>
                  </a:lnTo>
                  <a:lnTo>
                    <a:pt x="348810" y="70881"/>
                  </a:lnTo>
                  <a:lnTo>
                    <a:pt x="306618" y="71405"/>
                  </a:lnTo>
                  <a:lnTo>
                    <a:pt x="264916" y="71436"/>
                  </a:lnTo>
                  <a:lnTo>
                    <a:pt x="223242" y="71437"/>
                  </a:lnTo>
                  <a:lnTo>
                    <a:pt x="181570" y="71437"/>
                  </a:lnTo>
                  <a:lnTo>
                    <a:pt x="157758" y="70446"/>
                  </a:lnTo>
                  <a:lnTo>
                    <a:pt x="122039" y="63336"/>
                  </a:lnTo>
                  <a:lnTo>
                    <a:pt x="80367" y="62556"/>
                  </a:lnTo>
                  <a:lnTo>
                    <a:pt x="61295" y="62517"/>
                  </a:lnTo>
                  <a:lnTo>
                    <a:pt x="54362" y="59866"/>
                  </a:lnTo>
                  <a:lnTo>
                    <a:pt x="51124" y="57770"/>
                  </a:lnTo>
                  <a:lnTo>
                    <a:pt x="37086" y="54820"/>
                  </a:lnTo>
                  <a:lnTo>
                    <a:pt x="20702" y="52831"/>
                  </a:lnTo>
                  <a:lnTo>
                    <a:pt x="0" y="4464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SMARTInkShape-171"/>
            <p:cNvSpPr/>
            <p:nvPr/>
          </p:nvSpPr>
          <p:spPr>
            <a:xfrm>
              <a:off x="554040" y="5527800"/>
              <a:ext cx="1249920" cy="62280"/>
            </a:xfrm>
            <a:custGeom>
              <a:avLst/>
              <a:gdLst>
                <a:gd name="textAreaLeft" fmla="*/ 0 w 1249920"/>
                <a:gd name="textAreaRight" fmla="*/ 1250280 w 12499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250157" h="62397">
                  <a:moveTo>
                    <a:pt x="0" y="62396"/>
                  </a:moveTo>
                  <a:lnTo>
                    <a:pt x="0" y="62396"/>
                  </a:lnTo>
                  <a:lnTo>
                    <a:pt x="30685" y="62396"/>
                  </a:lnTo>
                  <a:lnTo>
                    <a:pt x="67871" y="54295"/>
                  </a:lnTo>
                  <a:lnTo>
                    <a:pt x="110680" y="53575"/>
                  </a:lnTo>
                  <a:lnTo>
                    <a:pt x="144470" y="53499"/>
                  </a:lnTo>
                  <a:lnTo>
                    <a:pt x="187067" y="47336"/>
                  </a:lnTo>
                  <a:lnTo>
                    <a:pt x="230024" y="45089"/>
                  </a:lnTo>
                  <a:lnTo>
                    <a:pt x="272206" y="44646"/>
                  </a:lnTo>
                  <a:lnTo>
                    <a:pt x="312620" y="43566"/>
                  </a:lnTo>
                  <a:lnTo>
                    <a:pt x="346187" y="38407"/>
                  </a:lnTo>
                  <a:lnTo>
                    <a:pt x="381268" y="36436"/>
                  </a:lnTo>
                  <a:lnTo>
                    <a:pt x="416798" y="35852"/>
                  </a:lnTo>
                  <a:lnTo>
                    <a:pt x="452461" y="35680"/>
                  </a:lnTo>
                  <a:lnTo>
                    <a:pt x="488163" y="35629"/>
                  </a:lnTo>
                  <a:lnTo>
                    <a:pt x="523877" y="35614"/>
                  </a:lnTo>
                  <a:lnTo>
                    <a:pt x="559594" y="35608"/>
                  </a:lnTo>
                  <a:lnTo>
                    <a:pt x="596304" y="34615"/>
                  </a:lnTo>
                  <a:lnTo>
                    <a:pt x="637168" y="29470"/>
                  </a:lnTo>
                  <a:lnTo>
                    <a:pt x="674852" y="27505"/>
                  </a:lnTo>
                  <a:lnTo>
                    <a:pt x="712145" y="25930"/>
                  </a:lnTo>
                  <a:lnTo>
                    <a:pt x="754173" y="20613"/>
                  </a:lnTo>
                  <a:lnTo>
                    <a:pt x="798045" y="18596"/>
                  </a:lnTo>
                  <a:lnTo>
                    <a:pt x="842464" y="17007"/>
                  </a:lnTo>
                  <a:lnTo>
                    <a:pt x="887044" y="11685"/>
                  </a:lnTo>
                  <a:lnTo>
                    <a:pt x="931672" y="9667"/>
                  </a:lnTo>
                  <a:lnTo>
                    <a:pt x="961433" y="9195"/>
                  </a:lnTo>
                  <a:lnTo>
                    <a:pt x="993843" y="6340"/>
                  </a:lnTo>
                  <a:lnTo>
                    <a:pt x="1027098" y="2755"/>
                  </a:lnTo>
                  <a:lnTo>
                    <a:pt x="1058415" y="1162"/>
                  </a:lnTo>
                  <a:lnTo>
                    <a:pt x="1091516" y="455"/>
                  </a:lnTo>
                  <a:lnTo>
                    <a:pt x="1126071" y="140"/>
                  </a:lnTo>
                  <a:lnTo>
                    <a:pt x="1161273" y="0"/>
                  </a:lnTo>
                  <a:lnTo>
                    <a:pt x="1196762" y="2583"/>
                  </a:lnTo>
                  <a:lnTo>
                    <a:pt x="1250156" y="88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39" name="SMARTInkShape-Group194"/>
          <p:cNvGrpSpPr/>
          <p:nvPr/>
        </p:nvGrpSpPr>
        <p:grpSpPr>
          <a:xfrm>
            <a:off x="2940120" y="5600880"/>
            <a:ext cx="4157640" cy="873000"/>
            <a:chOff x="2940120" y="5600880"/>
            <a:chExt cx="4157640" cy="873000"/>
          </a:xfrm>
        </p:grpSpPr>
        <p:sp>
          <p:nvSpPr>
            <p:cNvPr id="240" name="SMARTInkShape-172"/>
            <p:cNvSpPr/>
            <p:nvPr/>
          </p:nvSpPr>
          <p:spPr>
            <a:xfrm>
              <a:off x="5956920" y="5607720"/>
              <a:ext cx="1140840" cy="840240"/>
            </a:xfrm>
            <a:custGeom>
              <a:avLst/>
              <a:gdLst>
                <a:gd name="textAreaLeft" fmla="*/ 0 w 1140840"/>
                <a:gd name="textAreaRight" fmla="*/ 1140840 w 1140840"/>
                <a:gd name="textAreaTop" fmla="*/ 0 h 840240"/>
                <a:gd name="textAreaBottom" fmla="*/ 840600 h 840240"/>
              </a:gdLst>
              <a:ahLst/>
              <a:rect l="textAreaLeft" t="textAreaTop" r="textAreaRight" b="textAreaBottom"/>
              <a:pathLst>
                <a:path w="1141240" h="839159">
                  <a:moveTo>
                    <a:pt x="1071470" y="455181"/>
                  </a:moveTo>
                  <a:lnTo>
                    <a:pt x="1071470" y="455181"/>
                  </a:lnTo>
                  <a:lnTo>
                    <a:pt x="1066730" y="455181"/>
                  </a:lnTo>
                  <a:lnTo>
                    <a:pt x="1061757" y="457827"/>
                  </a:lnTo>
                  <a:lnTo>
                    <a:pt x="1056240" y="461318"/>
                  </a:lnTo>
                  <a:lnTo>
                    <a:pt x="1047555" y="464276"/>
                  </a:lnTo>
                  <a:lnTo>
                    <a:pt x="1038697" y="470003"/>
                  </a:lnTo>
                  <a:lnTo>
                    <a:pt x="1029791" y="473133"/>
                  </a:lnTo>
                  <a:lnTo>
                    <a:pt x="1019874" y="478911"/>
                  </a:lnTo>
                  <a:lnTo>
                    <a:pt x="976066" y="489539"/>
                  </a:lnTo>
                  <a:lnTo>
                    <a:pt x="932800" y="490781"/>
                  </a:lnTo>
                  <a:lnTo>
                    <a:pt x="892255" y="495306"/>
                  </a:lnTo>
                  <a:lnTo>
                    <a:pt x="848147" y="491481"/>
                  </a:lnTo>
                  <a:lnTo>
                    <a:pt x="809848" y="488369"/>
                  </a:lnTo>
                  <a:lnTo>
                    <a:pt x="776002" y="483866"/>
                  </a:lnTo>
                  <a:lnTo>
                    <a:pt x="740839" y="482532"/>
                  </a:lnTo>
                  <a:lnTo>
                    <a:pt x="705285" y="482137"/>
                  </a:lnTo>
                  <a:lnTo>
                    <a:pt x="669614" y="482020"/>
                  </a:lnTo>
                  <a:lnTo>
                    <a:pt x="633909" y="481986"/>
                  </a:lnTo>
                  <a:lnTo>
                    <a:pt x="595550" y="481975"/>
                  </a:lnTo>
                  <a:lnTo>
                    <a:pt x="555410" y="481971"/>
                  </a:lnTo>
                  <a:lnTo>
                    <a:pt x="518381" y="481970"/>
                  </a:lnTo>
                  <a:lnTo>
                    <a:pt x="482275" y="481970"/>
                  </a:lnTo>
                  <a:lnTo>
                    <a:pt x="446441" y="481970"/>
                  </a:lnTo>
                  <a:lnTo>
                    <a:pt x="410689" y="479325"/>
                  </a:lnTo>
                  <a:lnTo>
                    <a:pt x="374960" y="474903"/>
                  </a:lnTo>
                  <a:lnTo>
                    <a:pt x="339237" y="470947"/>
                  </a:lnTo>
                  <a:lnTo>
                    <a:pt x="303518" y="463491"/>
                  </a:lnTo>
                  <a:lnTo>
                    <a:pt x="265153" y="454998"/>
                  </a:lnTo>
                  <a:lnTo>
                    <a:pt x="227659" y="448843"/>
                  </a:lnTo>
                  <a:lnTo>
                    <a:pt x="183581" y="442023"/>
                  </a:lnTo>
                  <a:lnTo>
                    <a:pt x="142794" y="431122"/>
                  </a:lnTo>
                  <a:lnTo>
                    <a:pt x="100195" y="419413"/>
                  </a:lnTo>
                  <a:lnTo>
                    <a:pt x="60886" y="404573"/>
                  </a:lnTo>
                  <a:lnTo>
                    <a:pt x="35913" y="390026"/>
                  </a:lnTo>
                  <a:lnTo>
                    <a:pt x="11872" y="368338"/>
                  </a:lnTo>
                  <a:lnTo>
                    <a:pt x="5226" y="356722"/>
                  </a:lnTo>
                  <a:lnTo>
                    <a:pt x="958" y="337837"/>
                  </a:lnTo>
                  <a:lnTo>
                    <a:pt x="0" y="298293"/>
                  </a:lnTo>
                  <a:lnTo>
                    <a:pt x="9634" y="260705"/>
                  </a:lnTo>
                  <a:lnTo>
                    <a:pt x="24818" y="222094"/>
                  </a:lnTo>
                  <a:lnTo>
                    <a:pt x="51047" y="182981"/>
                  </a:lnTo>
                  <a:lnTo>
                    <a:pt x="87414" y="144721"/>
                  </a:lnTo>
                  <a:lnTo>
                    <a:pt x="125865" y="107013"/>
                  </a:lnTo>
                  <a:lnTo>
                    <a:pt x="163475" y="80740"/>
                  </a:lnTo>
                  <a:lnTo>
                    <a:pt x="197200" y="62454"/>
                  </a:lnTo>
                  <a:lnTo>
                    <a:pt x="232328" y="47114"/>
                  </a:lnTo>
                  <a:lnTo>
                    <a:pt x="267872" y="36286"/>
                  </a:lnTo>
                  <a:lnTo>
                    <a:pt x="303540" y="26793"/>
                  </a:lnTo>
                  <a:lnTo>
                    <a:pt x="339243" y="17697"/>
                  </a:lnTo>
                  <a:lnTo>
                    <a:pt x="377603" y="8718"/>
                  </a:lnTo>
                  <a:lnTo>
                    <a:pt x="417742" y="2419"/>
                  </a:lnTo>
                  <a:lnTo>
                    <a:pt x="454771" y="553"/>
                  </a:lnTo>
                  <a:lnTo>
                    <a:pt x="493525" y="0"/>
                  </a:lnTo>
                  <a:lnTo>
                    <a:pt x="536425" y="2482"/>
                  </a:lnTo>
                  <a:lnTo>
                    <a:pt x="580556" y="9502"/>
                  </a:lnTo>
                  <a:lnTo>
                    <a:pt x="622405" y="17865"/>
                  </a:lnTo>
                  <a:lnTo>
                    <a:pt x="662587" y="26627"/>
                  </a:lnTo>
                  <a:lnTo>
                    <a:pt x="703265" y="35507"/>
                  </a:lnTo>
                  <a:lnTo>
                    <a:pt x="740453" y="44422"/>
                  </a:lnTo>
                  <a:lnTo>
                    <a:pt x="776607" y="55993"/>
                  </a:lnTo>
                  <a:lnTo>
                    <a:pt x="812455" y="71990"/>
                  </a:lnTo>
                  <a:lnTo>
                    <a:pt x="848213" y="91942"/>
                  </a:lnTo>
                  <a:lnTo>
                    <a:pt x="883943" y="114060"/>
                  </a:lnTo>
                  <a:lnTo>
                    <a:pt x="926831" y="139312"/>
                  </a:lnTo>
                  <a:lnTo>
                    <a:pt x="970102" y="169545"/>
                  </a:lnTo>
                  <a:lnTo>
                    <a:pt x="1008342" y="198301"/>
                  </a:lnTo>
                  <a:lnTo>
                    <a:pt x="1052537" y="241143"/>
                  </a:lnTo>
                  <a:lnTo>
                    <a:pt x="1085820" y="285553"/>
                  </a:lnTo>
                  <a:lnTo>
                    <a:pt x="1113403" y="330170"/>
                  </a:lnTo>
                  <a:lnTo>
                    <a:pt x="1121598" y="356956"/>
                  </a:lnTo>
                  <a:lnTo>
                    <a:pt x="1131724" y="395466"/>
                  </a:lnTo>
                  <a:lnTo>
                    <a:pt x="1141239" y="432949"/>
                  </a:lnTo>
                  <a:lnTo>
                    <a:pt x="1133717" y="469799"/>
                  </a:lnTo>
                  <a:lnTo>
                    <a:pt x="1124410" y="488789"/>
                  </a:lnTo>
                  <a:lnTo>
                    <a:pt x="1087220" y="528658"/>
                  </a:lnTo>
                  <a:lnTo>
                    <a:pt x="1065101" y="546093"/>
                  </a:lnTo>
                  <a:lnTo>
                    <a:pt x="1025022" y="565195"/>
                  </a:lnTo>
                  <a:lnTo>
                    <a:pt x="981937" y="582828"/>
                  </a:lnTo>
                  <a:lnTo>
                    <a:pt x="946409" y="599789"/>
                  </a:lnTo>
                  <a:lnTo>
                    <a:pt x="903598" y="618831"/>
                  </a:lnTo>
                  <a:lnTo>
                    <a:pt x="868713" y="630891"/>
                  </a:lnTo>
                  <a:lnTo>
                    <a:pt x="833241" y="645599"/>
                  </a:lnTo>
                  <a:lnTo>
                    <a:pt x="797596" y="657673"/>
                  </a:lnTo>
                  <a:lnTo>
                    <a:pt x="761898" y="673378"/>
                  </a:lnTo>
                  <a:lnTo>
                    <a:pt x="727180" y="689606"/>
                  </a:lnTo>
                  <a:lnTo>
                    <a:pt x="685631" y="707128"/>
                  </a:lnTo>
                  <a:lnTo>
                    <a:pt x="651224" y="726285"/>
                  </a:lnTo>
                  <a:lnTo>
                    <a:pt x="615893" y="748167"/>
                  </a:lnTo>
                  <a:lnTo>
                    <a:pt x="580289" y="769865"/>
                  </a:lnTo>
                  <a:lnTo>
                    <a:pt x="537444" y="803863"/>
                  </a:lnTo>
                  <a:lnTo>
                    <a:pt x="491041" y="83915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SMARTInkShape-173"/>
            <p:cNvSpPr/>
            <p:nvPr/>
          </p:nvSpPr>
          <p:spPr>
            <a:xfrm>
              <a:off x="6367320" y="6072480"/>
              <a:ext cx="142560" cy="268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42875" h="267892">
                  <a:moveTo>
                    <a:pt x="0" y="0"/>
                  </a:moveTo>
                  <a:lnTo>
                    <a:pt x="0" y="0"/>
                  </a:lnTo>
                  <a:lnTo>
                    <a:pt x="20117" y="0"/>
                  </a:lnTo>
                  <a:lnTo>
                    <a:pt x="26470" y="2646"/>
                  </a:lnTo>
                  <a:lnTo>
                    <a:pt x="37477" y="9095"/>
                  </a:lnTo>
                  <a:lnTo>
                    <a:pt x="59327" y="18480"/>
                  </a:lnTo>
                  <a:lnTo>
                    <a:pt x="82116" y="32824"/>
                  </a:lnTo>
                  <a:lnTo>
                    <a:pt x="98591" y="58006"/>
                  </a:lnTo>
                  <a:lnTo>
                    <a:pt x="101446" y="59506"/>
                  </a:lnTo>
                  <a:lnTo>
                    <a:pt x="119083" y="82363"/>
                  </a:lnTo>
                  <a:lnTo>
                    <a:pt x="122379" y="88861"/>
                  </a:lnTo>
                  <a:lnTo>
                    <a:pt x="124495" y="105858"/>
                  </a:lnTo>
                  <a:lnTo>
                    <a:pt x="125904" y="122187"/>
                  </a:lnTo>
                  <a:lnTo>
                    <a:pt x="132690" y="149240"/>
                  </a:lnTo>
                  <a:lnTo>
                    <a:pt x="133913" y="193855"/>
                  </a:lnTo>
                  <a:lnTo>
                    <a:pt x="134937" y="238194"/>
                  </a:lnTo>
                  <a:lnTo>
                    <a:pt x="142323" y="260217"/>
                  </a:lnTo>
                  <a:lnTo>
                    <a:pt x="142874" y="26789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SMARTInkShape-174"/>
            <p:cNvSpPr/>
            <p:nvPr/>
          </p:nvSpPr>
          <p:spPr>
            <a:xfrm>
              <a:off x="3634920" y="6036840"/>
              <a:ext cx="2968200" cy="437040"/>
            </a:xfrm>
            <a:custGeom>
              <a:avLst/>
              <a:gdLst>
                <a:gd name="textAreaLeft" fmla="*/ 0 w 2968200"/>
                <a:gd name="textAreaRight" fmla="*/ 2968560 w 296820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968669" h="436728">
                  <a:moveTo>
                    <a:pt x="0" y="0"/>
                  </a:moveTo>
                  <a:lnTo>
                    <a:pt x="0" y="0"/>
                  </a:lnTo>
                  <a:lnTo>
                    <a:pt x="4740" y="4740"/>
                  </a:lnTo>
                  <a:lnTo>
                    <a:pt x="12360" y="7068"/>
                  </a:lnTo>
                  <a:lnTo>
                    <a:pt x="21369" y="9095"/>
                  </a:lnTo>
                  <a:lnTo>
                    <a:pt x="35236" y="15834"/>
                  </a:lnTo>
                  <a:lnTo>
                    <a:pt x="38374" y="16510"/>
                  </a:lnTo>
                  <a:lnTo>
                    <a:pt x="47530" y="22201"/>
                  </a:lnTo>
                  <a:lnTo>
                    <a:pt x="91582" y="52402"/>
                  </a:lnTo>
                  <a:lnTo>
                    <a:pt x="135431" y="83236"/>
                  </a:lnTo>
                  <a:lnTo>
                    <a:pt x="178769" y="114220"/>
                  </a:lnTo>
                  <a:lnTo>
                    <a:pt x="221396" y="133782"/>
                  </a:lnTo>
                  <a:lnTo>
                    <a:pt x="240555" y="145473"/>
                  </a:lnTo>
                  <a:lnTo>
                    <a:pt x="279419" y="171755"/>
                  </a:lnTo>
                  <a:lnTo>
                    <a:pt x="320819" y="198713"/>
                  </a:lnTo>
                  <a:lnTo>
                    <a:pt x="358474" y="221544"/>
                  </a:lnTo>
                  <a:lnTo>
                    <a:pt x="402006" y="243132"/>
                  </a:lnTo>
                  <a:lnTo>
                    <a:pt x="440371" y="264998"/>
                  </a:lnTo>
                  <a:lnTo>
                    <a:pt x="482574" y="287366"/>
                  </a:lnTo>
                  <a:lnTo>
                    <a:pt x="526901" y="303430"/>
                  </a:lnTo>
                  <a:lnTo>
                    <a:pt x="571507" y="324606"/>
                  </a:lnTo>
                  <a:lnTo>
                    <a:pt x="616150" y="341935"/>
                  </a:lnTo>
                  <a:lnTo>
                    <a:pt x="658004" y="354138"/>
                  </a:lnTo>
                  <a:lnTo>
                    <a:pt x="695965" y="363457"/>
                  </a:lnTo>
                  <a:lnTo>
                    <a:pt x="732126" y="370332"/>
                  </a:lnTo>
                  <a:lnTo>
                    <a:pt x="768924" y="381245"/>
                  </a:lnTo>
                  <a:lnTo>
                    <a:pt x="810736" y="392955"/>
                  </a:lnTo>
                  <a:lnTo>
                    <a:pt x="852693" y="404823"/>
                  </a:lnTo>
                  <a:lnTo>
                    <a:pt x="893061" y="410585"/>
                  </a:lnTo>
                  <a:lnTo>
                    <a:pt x="935578" y="417602"/>
                  </a:lnTo>
                  <a:lnTo>
                    <a:pt x="977675" y="419282"/>
                  </a:lnTo>
                  <a:lnTo>
                    <a:pt x="1012435" y="424314"/>
                  </a:lnTo>
                  <a:lnTo>
                    <a:pt x="1047870" y="427348"/>
                  </a:lnTo>
                  <a:lnTo>
                    <a:pt x="1089263" y="428373"/>
                  </a:lnTo>
                  <a:lnTo>
                    <a:pt x="1131981" y="428575"/>
                  </a:lnTo>
                  <a:lnTo>
                    <a:pt x="1165533" y="428610"/>
                  </a:lnTo>
                  <a:lnTo>
                    <a:pt x="1201601" y="428621"/>
                  </a:lnTo>
                  <a:lnTo>
                    <a:pt x="1245196" y="433365"/>
                  </a:lnTo>
                  <a:lnTo>
                    <a:pt x="1286880" y="436727"/>
                  </a:lnTo>
                  <a:lnTo>
                    <a:pt x="1325640" y="436317"/>
                  </a:lnTo>
                  <a:lnTo>
                    <a:pt x="1361709" y="431345"/>
                  </a:lnTo>
                  <a:lnTo>
                    <a:pt x="1403712" y="429163"/>
                  </a:lnTo>
                  <a:lnTo>
                    <a:pt x="1438198" y="428784"/>
                  </a:lnTo>
                  <a:lnTo>
                    <a:pt x="1473553" y="428672"/>
                  </a:lnTo>
                  <a:lnTo>
                    <a:pt x="1509163" y="428639"/>
                  </a:lnTo>
                  <a:lnTo>
                    <a:pt x="1544850" y="425984"/>
                  </a:lnTo>
                  <a:lnTo>
                    <a:pt x="1587724" y="420938"/>
                  </a:lnTo>
                  <a:lnTo>
                    <a:pt x="1631985" y="418949"/>
                  </a:lnTo>
                  <a:lnTo>
                    <a:pt x="1667121" y="413631"/>
                  </a:lnTo>
                  <a:lnTo>
                    <a:pt x="1702667" y="411615"/>
                  </a:lnTo>
                  <a:lnTo>
                    <a:pt x="1738334" y="410025"/>
                  </a:lnTo>
                  <a:lnTo>
                    <a:pt x="1774038" y="403711"/>
                  </a:lnTo>
                  <a:lnTo>
                    <a:pt x="1809752" y="396549"/>
                  </a:lnTo>
                  <a:lnTo>
                    <a:pt x="1845470" y="393986"/>
                  </a:lnTo>
                  <a:lnTo>
                    <a:pt x="1880196" y="392234"/>
                  </a:lnTo>
                  <a:lnTo>
                    <a:pt x="1924391" y="383255"/>
                  </a:lnTo>
                  <a:lnTo>
                    <a:pt x="1960575" y="377480"/>
                  </a:lnTo>
                  <a:lnTo>
                    <a:pt x="2004209" y="370787"/>
                  </a:lnTo>
                  <a:lnTo>
                    <a:pt x="2039236" y="367502"/>
                  </a:lnTo>
                  <a:lnTo>
                    <a:pt x="2074751" y="361788"/>
                  </a:lnTo>
                  <a:lnTo>
                    <a:pt x="2116170" y="351959"/>
                  </a:lnTo>
                  <a:lnTo>
                    <a:pt x="2158894" y="346344"/>
                  </a:lnTo>
                  <a:lnTo>
                    <a:pt x="2201031" y="335973"/>
                  </a:lnTo>
                  <a:lnTo>
                    <a:pt x="2235799" y="327310"/>
                  </a:lnTo>
                  <a:lnTo>
                    <a:pt x="2276966" y="315494"/>
                  </a:lnTo>
                  <a:lnTo>
                    <a:pt x="2319641" y="303605"/>
                  </a:lnTo>
                  <a:lnTo>
                    <a:pt x="2357027" y="291703"/>
                  </a:lnTo>
                  <a:lnTo>
                    <a:pt x="2399213" y="279797"/>
                  </a:lnTo>
                  <a:lnTo>
                    <a:pt x="2437238" y="267891"/>
                  </a:lnTo>
                  <a:lnTo>
                    <a:pt x="2478152" y="255985"/>
                  </a:lnTo>
                  <a:lnTo>
                    <a:pt x="2517322" y="243087"/>
                  </a:lnTo>
                  <a:lnTo>
                    <a:pt x="2556369" y="225105"/>
                  </a:lnTo>
                  <a:lnTo>
                    <a:pt x="2600483" y="208605"/>
                  </a:lnTo>
                  <a:lnTo>
                    <a:pt x="2643444" y="193509"/>
                  </a:lnTo>
                  <a:lnTo>
                    <a:pt x="2679950" y="180585"/>
                  </a:lnTo>
                  <a:lnTo>
                    <a:pt x="2721704" y="162599"/>
                  </a:lnTo>
                  <a:lnTo>
                    <a:pt x="2758908" y="149197"/>
                  </a:lnTo>
                  <a:lnTo>
                    <a:pt x="2801228" y="129572"/>
                  </a:lnTo>
                  <a:lnTo>
                    <a:pt x="2814631" y="125057"/>
                  </a:lnTo>
                  <a:lnTo>
                    <a:pt x="2833333" y="113342"/>
                  </a:lnTo>
                  <a:lnTo>
                    <a:pt x="2870368" y="100571"/>
                  </a:lnTo>
                  <a:lnTo>
                    <a:pt x="2897635" y="89172"/>
                  </a:lnTo>
                  <a:lnTo>
                    <a:pt x="2907088" y="84281"/>
                  </a:lnTo>
                  <a:lnTo>
                    <a:pt x="2943346" y="72832"/>
                  </a:lnTo>
                  <a:lnTo>
                    <a:pt x="2953245" y="65577"/>
                  </a:lnTo>
                  <a:lnTo>
                    <a:pt x="2961826" y="62425"/>
                  </a:lnTo>
                  <a:lnTo>
                    <a:pt x="2967698" y="58172"/>
                  </a:lnTo>
                  <a:lnTo>
                    <a:pt x="2968668" y="55649"/>
                  </a:lnTo>
                  <a:lnTo>
                    <a:pt x="2968324" y="52975"/>
                  </a:lnTo>
                  <a:lnTo>
                    <a:pt x="2964656" y="4464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SMARTInkShape-175"/>
            <p:cNvSpPr/>
            <p:nvPr/>
          </p:nvSpPr>
          <p:spPr>
            <a:xfrm>
              <a:off x="2940120" y="5600880"/>
              <a:ext cx="1230480" cy="69336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693360"/>
                <a:gd name="textAreaBottom" fmla="*/ 693720 h 693360"/>
              </a:gdLst>
              <a:ahLst/>
              <a:rect l="textAreaLeft" t="textAreaTop" r="textAreaRight" b="textAreaBottom"/>
              <a:pathLst>
                <a:path w="1230831" h="692516">
                  <a:moveTo>
                    <a:pt x="1177322" y="167565"/>
                  </a:moveTo>
                  <a:lnTo>
                    <a:pt x="1177322" y="167565"/>
                  </a:lnTo>
                  <a:lnTo>
                    <a:pt x="1145714" y="149786"/>
                  </a:lnTo>
                  <a:lnTo>
                    <a:pt x="1144343" y="147775"/>
                  </a:lnTo>
                  <a:lnTo>
                    <a:pt x="1143430" y="145442"/>
                  </a:lnTo>
                  <a:lnTo>
                    <a:pt x="1141829" y="143887"/>
                  </a:lnTo>
                  <a:lnTo>
                    <a:pt x="1097780" y="123021"/>
                  </a:lnTo>
                  <a:lnTo>
                    <a:pt x="1080728" y="116065"/>
                  </a:lnTo>
                  <a:lnTo>
                    <a:pt x="1073868" y="113918"/>
                  </a:lnTo>
                  <a:lnTo>
                    <a:pt x="1063435" y="108123"/>
                  </a:lnTo>
                  <a:lnTo>
                    <a:pt x="1049210" y="104974"/>
                  </a:lnTo>
                  <a:lnTo>
                    <a:pt x="1037277" y="99189"/>
                  </a:lnTo>
                  <a:lnTo>
                    <a:pt x="1000742" y="87049"/>
                  </a:lnTo>
                  <a:lnTo>
                    <a:pt x="958262" y="73865"/>
                  </a:lnTo>
                  <a:lnTo>
                    <a:pt x="916013" y="63599"/>
                  </a:lnTo>
                  <a:lnTo>
                    <a:pt x="873584" y="54552"/>
                  </a:lnTo>
                  <a:lnTo>
                    <a:pt x="829130" y="50756"/>
                  </a:lnTo>
                  <a:lnTo>
                    <a:pt x="784499" y="43401"/>
                  </a:lnTo>
                  <a:lnTo>
                    <a:pt x="747336" y="37921"/>
                  </a:lnTo>
                  <a:lnTo>
                    <a:pt x="706515" y="34186"/>
                  </a:lnTo>
                  <a:lnTo>
                    <a:pt x="667479" y="32702"/>
                  </a:lnTo>
                  <a:lnTo>
                    <a:pt x="623569" y="25941"/>
                  </a:lnTo>
                  <a:lnTo>
                    <a:pt x="581664" y="24854"/>
                  </a:lnTo>
                  <a:lnTo>
                    <a:pt x="542484" y="25704"/>
                  </a:lnTo>
                  <a:lnTo>
                    <a:pt x="498556" y="32381"/>
                  </a:lnTo>
                  <a:lnTo>
                    <a:pt x="456789" y="27238"/>
                  </a:lnTo>
                  <a:lnTo>
                    <a:pt x="418846" y="25194"/>
                  </a:lnTo>
                  <a:lnTo>
                    <a:pt x="382688" y="24789"/>
                  </a:lnTo>
                  <a:lnTo>
                    <a:pt x="340591" y="31770"/>
                  </a:lnTo>
                  <a:lnTo>
                    <a:pt x="302379" y="39514"/>
                  </a:lnTo>
                  <a:lnTo>
                    <a:pt x="265144" y="46890"/>
                  </a:lnTo>
                  <a:lnTo>
                    <a:pt x="228735" y="60589"/>
                  </a:lnTo>
                  <a:lnTo>
                    <a:pt x="191995" y="76307"/>
                  </a:lnTo>
                  <a:lnTo>
                    <a:pt x="148338" y="102248"/>
                  </a:lnTo>
                  <a:lnTo>
                    <a:pt x="107530" y="139163"/>
                  </a:lnTo>
                  <a:lnTo>
                    <a:pt x="70777" y="182832"/>
                  </a:lnTo>
                  <a:lnTo>
                    <a:pt x="41559" y="218537"/>
                  </a:lnTo>
                  <a:lnTo>
                    <a:pt x="22528" y="261606"/>
                  </a:lnTo>
                  <a:lnTo>
                    <a:pt x="11524" y="287381"/>
                  </a:lnTo>
                  <a:lnTo>
                    <a:pt x="1746" y="330428"/>
                  </a:lnTo>
                  <a:lnTo>
                    <a:pt x="0" y="342805"/>
                  </a:lnTo>
                  <a:lnTo>
                    <a:pt x="6414" y="386556"/>
                  </a:lnTo>
                  <a:lnTo>
                    <a:pt x="9681" y="396525"/>
                  </a:lnTo>
                  <a:lnTo>
                    <a:pt x="13449" y="405254"/>
                  </a:lnTo>
                  <a:lnTo>
                    <a:pt x="18932" y="441888"/>
                  </a:lnTo>
                  <a:lnTo>
                    <a:pt x="41363" y="483332"/>
                  </a:lnTo>
                  <a:lnTo>
                    <a:pt x="72140" y="522121"/>
                  </a:lnTo>
                  <a:lnTo>
                    <a:pt x="111835" y="557863"/>
                  </a:lnTo>
                  <a:lnTo>
                    <a:pt x="154384" y="593051"/>
                  </a:lnTo>
                  <a:lnTo>
                    <a:pt x="198198" y="619073"/>
                  </a:lnTo>
                  <a:lnTo>
                    <a:pt x="242774" y="637780"/>
                  </a:lnTo>
                  <a:lnTo>
                    <a:pt x="284758" y="652734"/>
                  </a:lnTo>
                  <a:lnTo>
                    <a:pt x="329055" y="660558"/>
                  </a:lnTo>
                  <a:lnTo>
                    <a:pt x="364731" y="670972"/>
                  </a:lnTo>
                  <a:lnTo>
                    <a:pt x="406578" y="676446"/>
                  </a:lnTo>
                  <a:lnTo>
                    <a:pt x="444536" y="683407"/>
                  </a:lnTo>
                  <a:lnTo>
                    <a:pt x="480697" y="689817"/>
                  </a:lnTo>
                  <a:lnTo>
                    <a:pt x="522641" y="692515"/>
                  </a:lnTo>
                  <a:lnTo>
                    <a:pt x="563264" y="687169"/>
                  </a:lnTo>
                  <a:lnTo>
                    <a:pt x="604470" y="681078"/>
                  </a:lnTo>
                  <a:lnTo>
                    <a:pt x="648403" y="676458"/>
                  </a:lnTo>
                  <a:lnTo>
                    <a:pt x="692653" y="667020"/>
                  </a:lnTo>
                  <a:lnTo>
                    <a:pt x="735091" y="655601"/>
                  </a:lnTo>
                  <a:lnTo>
                    <a:pt x="775555" y="642799"/>
                  </a:lnTo>
                  <a:lnTo>
                    <a:pt x="818090" y="624836"/>
                  </a:lnTo>
                  <a:lnTo>
                    <a:pt x="860190" y="606699"/>
                  </a:lnTo>
                  <a:lnTo>
                    <a:pt x="904739" y="590144"/>
                  </a:lnTo>
                  <a:lnTo>
                    <a:pt x="945904" y="563043"/>
                  </a:lnTo>
                  <a:lnTo>
                    <a:pt x="987154" y="539555"/>
                  </a:lnTo>
                  <a:lnTo>
                    <a:pt x="1024994" y="515806"/>
                  </a:lnTo>
                  <a:lnTo>
                    <a:pt x="1069105" y="485063"/>
                  </a:lnTo>
                  <a:lnTo>
                    <a:pt x="1107117" y="448603"/>
                  </a:lnTo>
                  <a:lnTo>
                    <a:pt x="1147142" y="407011"/>
                  </a:lnTo>
                  <a:lnTo>
                    <a:pt x="1178498" y="367372"/>
                  </a:lnTo>
                  <a:lnTo>
                    <a:pt x="1205688" y="326568"/>
                  </a:lnTo>
                  <a:lnTo>
                    <a:pt x="1224824" y="286999"/>
                  </a:lnTo>
                  <a:lnTo>
                    <a:pt x="1229700" y="262888"/>
                  </a:lnTo>
                  <a:lnTo>
                    <a:pt x="1230830" y="218502"/>
                  </a:lnTo>
                  <a:lnTo>
                    <a:pt x="1229877" y="203102"/>
                  </a:lnTo>
                  <a:lnTo>
                    <a:pt x="1212806" y="158799"/>
                  </a:lnTo>
                  <a:lnTo>
                    <a:pt x="1192190" y="116973"/>
                  </a:lnTo>
                  <a:lnTo>
                    <a:pt x="1173789" y="99106"/>
                  </a:lnTo>
                  <a:lnTo>
                    <a:pt x="1144567" y="76407"/>
                  </a:lnTo>
                  <a:lnTo>
                    <a:pt x="1140603" y="71074"/>
                  </a:lnTo>
                  <a:lnTo>
                    <a:pt x="1096083" y="44176"/>
                  </a:lnTo>
                  <a:lnTo>
                    <a:pt x="1054837" y="25296"/>
                  </a:lnTo>
                  <a:lnTo>
                    <a:pt x="1024253" y="12904"/>
                  </a:lnTo>
                  <a:lnTo>
                    <a:pt x="983412" y="7038"/>
                  </a:lnTo>
                  <a:lnTo>
                    <a:pt x="945652" y="0"/>
                  </a:lnTo>
                  <a:lnTo>
                    <a:pt x="915864" y="1169"/>
                  </a:lnTo>
                  <a:lnTo>
                    <a:pt x="874983" y="5711"/>
                  </a:lnTo>
                  <a:lnTo>
                    <a:pt x="831116" y="13738"/>
                  </a:lnTo>
                  <a:lnTo>
                    <a:pt x="786878" y="27524"/>
                  </a:lnTo>
                  <a:lnTo>
                    <a:pt x="744443" y="44321"/>
                  </a:lnTo>
                  <a:lnTo>
                    <a:pt x="704972" y="64323"/>
                  </a:lnTo>
                  <a:lnTo>
                    <a:pt x="668512" y="90029"/>
                  </a:lnTo>
                  <a:lnTo>
                    <a:pt x="624698" y="125090"/>
                  </a:lnTo>
                  <a:lnTo>
                    <a:pt x="596892" y="14970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How do We Know About Jesu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llowers of Jesus wrote about the teachings and experiences that occurred during his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writings were calle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spels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ning ‘good news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found in the New Testament of the Christian Bi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ld Testament is used by the Jewish faith which does not believe Jesus was the true Messia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Picture 4" descr="C:\Users\glennlauren\AppData\Local\Microsoft\Windows\Temporary Internet Files\Content.IE5\TL8VM192\MC900335470[1].wmf"/>
          <p:cNvPicPr/>
          <p:nvPr/>
        </p:nvPicPr>
        <p:blipFill>
          <a:blip r:embed="rId1"/>
          <a:stretch/>
        </p:blipFill>
        <p:spPr>
          <a:xfrm>
            <a:off x="6629400" y="1523880"/>
            <a:ext cx="1814400" cy="1667160"/>
          </a:xfrm>
          <a:prstGeom prst="rect">
            <a:avLst/>
          </a:prstGeom>
          <a:ln w="0">
            <a:noFill/>
          </a:ln>
        </p:spPr>
      </p:pic>
      <p:grpSp>
        <p:nvGrpSpPr>
          <p:cNvPr id="247" name="SMARTInkShape-Group195"/>
          <p:cNvGrpSpPr/>
          <p:nvPr/>
        </p:nvGrpSpPr>
        <p:grpSpPr>
          <a:xfrm>
            <a:off x="4089240" y="3633840"/>
            <a:ext cx="2527560" cy="617400"/>
            <a:chOff x="4089240" y="3633840"/>
            <a:chExt cx="2527560" cy="617400"/>
          </a:xfrm>
        </p:grpSpPr>
        <p:sp>
          <p:nvSpPr>
            <p:cNvPr id="248" name="SMARTInkShape-176"/>
            <p:cNvSpPr/>
            <p:nvPr/>
          </p:nvSpPr>
          <p:spPr>
            <a:xfrm>
              <a:off x="5116320" y="3633840"/>
              <a:ext cx="1500480" cy="169920"/>
            </a:xfrm>
            <a:custGeom>
              <a:avLst/>
              <a:gdLst>
                <a:gd name="textAreaLeft" fmla="*/ 0 w 1500480"/>
                <a:gd name="textAreaRight" fmla="*/ 1500840 w 15004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500188" h="169664">
                  <a:moveTo>
                    <a:pt x="0" y="26788"/>
                  </a:moveTo>
                  <a:lnTo>
                    <a:pt x="0" y="26788"/>
                  </a:lnTo>
                  <a:lnTo>
                    <a:pt x="0" y="17308"/>
                  </a:lnTo>
                  <a:lnTo>
                    <a:pt x="992" y="14515"/>
                  </a:lnTo>
                  <a:lnTo>
                    <a:pt x="2645" y="12653"/>
                  </a:lnTo>
                  <a:lnTo>
                    <a:pt x="16250" y="1459"/>
                  </a:lnTo>
                  <a:lnTo>
                    <a:pt x="22123" y="432"/>
                  </a:lnTo>
                  <a:lnTo>
                    <a:pt x="63307" y="5"/>
                  </a:lnTo>
                  <a:lnTo>
                    <a:pt x="100942" y="0"/>
                  </a:lnTo>
                  <a:lnTo>
                    <a:pt x="144975" y="2646"/>
                  </a:lnTo>
                  <a:lnTo>
                    <a:pt x="187799" y="9094"/>
                  </a:lnTo>
                  <a:lnTo>
                    <a:pt x="232207" y="16509"/>
                  </a:lnTo>
                  <a:lnTo>
                    <a:pt x="274034" y="23729"/>
                  </a:lnTo>
                  <a:lnTo>
                    <a:pt x="317281" y="28830"/>
                  </a:lnTo>
                  <a:lnTo>
                    <a:pt x="355947" y="33677"/>
                  </a:lnTo>
                  <a:lnTo>
                    <a:pt x="395184" y="35114"/>
                  </a:lnTo>
                  <a:lnTo>
                    <a:pt x="438229" y="38185"/>
                  </a:lnTo>
                  <a:lnTo>
                    <a:pt x="482403" y="42733"/>
                  </a:lnTo>
                  <a:lnTo>
                    <a:pt x="513049" y="44789"/>
                  </a:lnTo>
                  <a:lnTo>
                    <a:pt x="546514" y="49010"/>
                  </a:lnTo>
                  <a:lnTo>
                    <a:pt x="578585" y="51548"/>
                  </a:lnTo>
                  <a:lnTo>
                    <a:pt x="609375" y="53668"/>
                  </a:lnTo>
                  <a:lnTo>
                    <a:pt x="639597" y="57917"/>
                  </a:lnTo>
                  <a:lnTo>
                    <a:pt x="672210" y="60467"/>
                  </a:lnTo>
                  <a:lnTo>
                    <a:pt x="706549" y="62593"/>
                  </a:lnTo>
                  <a:lnTo>
                    <a:pt x="741655" y="66845"/>
                  </a:lnTo>
                  <a:lnTo>
                    <a:pt x="777100" y="69396"/>
                  </a:lnTo>
                  <a:lnTo>
                    <a:pt x="812698" y="70530"/>
                  </a:lnTo>
                  <a:lnTo>
                    <a:pt x="848362" y="71034"/>
                  </a:lnTo>
                  <a:lnTo>
                    <a:pt x="884058" y="73904"/>
                  </a:lnTo>
                  <a:lnTo>
                    <a:pt x="919766" y="78487"/>
                  </a:lnTo>
                  <a:lnTo>
                    <a:pt x="955480" y="83830"/>
                  </a:lnTo>
                  <a:lnTo>
                    <a:pt x="991197" y="86867"/>
                  </a:lnTo>
                  <a:lnTo>
                    <a:pt x="1027907" y="89209"/>
                  </a:lnTo>
                  <a:lnTo>
                    <a:pt x="1067374" y="93557"/>
                  </a:lnTo>
                  <a:lnTo>
                    <a:pt x="1102773" y="98796"/>
                  </a:lnTo>
                  <a:lnTo>
                    <a:pt x="1136035" y="104433"/>
                  </a:lnTo>
                  <a:lnTo>
                    <a:pt x="1170662" y="110245"/>
                  </a:lnTo>
                  <a:lnTo>
                    <a:pt x="1205895" y="116135"/>
                  </a:lnTo>
                  <a:lnTo>
                    <a:pt x="1240406" y="122061"/>
                  </a:lnTo>
                  <a:lnTo>
                    <a:pt x="1272281" y="128002"/>
                  </a:lnTo>
                  <a:lnTo>
                    <a:pt x="1302984" y="133949"/>
                  </a:lnTo>
                  <a:lnTo>
                    <a:pt x="1333166" y="139900"/>
                  </a:lnTo>
                  <a:lnTo>
                    <a:pt x="1377057" y="148828"/>
                  </a:lnTo>
                  <a:lnTo>
                    <a:pt x="1414645" y="157757"/>
                  </a:lnTo>
                  <a:lnTo>
                    <a:pt x="1459047" y="167900"/>
                  </a:lnTo>
                  <a:lnTo>
                    <a:pt x="1500187" y="16966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9" name="SMARTInkShape-177"/>
            <p:cNvSpPr/>
            <p:nvPr/>
          </p:nvSpPr>
          <p:spPr>
            <a:xfrm>
              <a:off x="4160520" y="3723120"/>
              <a:ext cx="1214280" cy="42048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213929" h="419697">
                  <a:moveTo>
                    <a:pt x="1187649" y="0"/>
                  </a:moveTo>
                  <a:lnTo>
                    <a:pt x="1187649" y="0"/>
                  </a:lnTo>
                  <a:lnTo>
                    <a:pt x="1192388" y="4741"/>
                  </a:lnTo>
                  <a:lnTo>
                    <a:pt x="1197362" y="7068"/>
                  </a:lnTo>
                  <a:lnTo>
                    <a:pt x="1200077" y="7689"/>
                  </a:lnTo>
                  <a:lnTo>
                    <a:pt x="1208639" y="13303"/>
                  </a:lnTo>
                  <a:lnTo>
                    <a:pt x="1211861" y="18480"/>
                  </a:lnTo>
                  <a:lnTo>
                    <a:pt x="1213674" y="29619"/>
                  </a:lnTo>
                  <a:lnTo>
                    <a:pt x="1213928" y="34629"/>
                  </a:lnTo>
                  <a:lnTo>
                    <a:pt x="1211566" y="42841"/>
                  </a:lnTo>
                  <a:lnTo>
                    <a:pt x="1189520" y="74528"/>
                  </a:lnTo>
                  <a:lnTo>
                    <a:pt x="1150396" y="102128"/>
                  </a:lnTo>
                  <a:lnTo>
                    <a:pt x="1113262" y="125198"/>
                  </a:lnTo>
                  <a:lnTo>
                    <a:pt x="1079618" y="142930"/>
                  </a:lnTo>
                  <a:lnTo>
                    <a:pt x="1044514" y="158105"/>
                  </a:lnTo>
                  <a:lnTo>
                    <a:pt x="1006332" y="171531"/>
                  </a:lnTo>
                  <a:lnTo>
                    <a:pt x="966245" y="185431"/>
                  </a:lnTo>
                  <a:lnTo>
                    <a:pt x="926586" y="198480"/>
                  </a:lnTo>
                  <a:lnTo>
                    <a:pt x="896996" y="208268"/>
                  </a:lnTo>
                  <a:lnTo>
                    <a:pt x="864000" y="215926"/>
                  </a:lnTo>
                  <a:lnTo>
                    <a:pt x="832139" y="225282"/>
                  </a:lnTo>
                  <a:lnTo>
                    <a:pt x="800449" y="235063"/>
                  </a:lnTo>
                  <a:lnTo>
                    <a:pt x="766521" y="242718"/>
                  </a:lnTo>
                  <a:lnTo>
                    <a:pt x="731598" y="252073"/>
                  </a:lnTo>
                  <a:lnTo>
                    <a:pt x="697225" y="261853"/>
                  </a:lnTo>
                  <a:lnTo>
                    <a:pt x="665412" y="269507"/>
                  </a:lnTo>
                  <a:lnTo>
                    <a:pt x="632090" y="276216"/>
                  </a:lnTo>
                  <a:lnTo>
                    <a:pt x="597437" y="282505"/>
                  </a:lnTo>
                  <a:lnTo>
                    <a:pt x="562191" y="288607"/>
                  </a:lnTo>
                  <a:lnTo>
                    <a:pt x="526684" y="297273"/>
                  </a:lnTo>
                  <a:lnTo>
                    <a:pt x="491058" y="306747"/>
                  </a:lnTo>
                  <a:lnTo>
                    <a:pt x="455380" y="314264"/>
                  </a:lnTo>
                  <a:lnTo>
                    <a:pt x="419680" y="320913"/>
                  </a:lnTo>
                  <a:lnTo>
                    <a:pt x="384962" y="328167"/>
                  </a:lnTo>
                  <a:lnTo>
                    <a:pt x="352995" y="338006"/>
                  </a:lnTo>
                  <a:lnTo>
                    <a:pt x="322252" y="346347"/>
                  </a:lnTo>
                  <a:lnTo>
                    <a:pt x="291060" y="353362"/>
                  </a:lnTo>
                  <a:lnTo>
                    <a:pt x="257352" y="359787"/>
                  </a:lnTo>
                  <a:lnTo>
                    <a:pt x="225173" y="365950"/>
                  </a:lnTo>
                  <a:lnTo>
                    <a:pt x="181811" y="377644"/>
                  </a:lnTo>
                  <a:lnTo>
                    <a:pt x="143828" y="391031"/>
                  </a:lnTo>
                  <a:lnTo>
                    <a:pt x="107438" y="398635"/>
                  </a:lnTo>
                  <a:lnTo>
                    <a:pt x="69069" y="405944"/>
                  </a:lnTo>
                  <a:lnTo>
                    <a:pt x="29123" y="417199"/>
                  </a:lnTo>
                  <a:lnTo>
                    <a:pt x="0" y="41969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0" name="SMARTInkShape-178"/>
            <p:cNvSpPr/>
            <p:nvPr/>
          </p:nvSpPr>
          <p:spPr>
            <a:xfrm>
              <a:off x="4089240" y="3920040"/>
              <a:ext cx="660960" cy="331200"/>
            </a:xfrm>
            <a:custGeom>
              <a:avLst/>
              <a:gdLst>
                <a:gd name="textAreaLeft" fmla="*/ 0 w 660960"/>
                <a:gd name="textAreaRight" fmla="*/ 661320 w 6609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660751" h="330400">
                  <a:moveTo>
                    <a:pt x="258914" y="0"/>
                  </a:moveTo>
                  <a:lnTo>
                    <a:pt x="258914" y="0"/>
                  </a:lnTo>
                  <a:lnTo>
                    <a:pt x="245612" y="26606"/>
                  </a:lnTo>
                  <a:lnTo>
                    <a:pt x="237789" y="34315"/>
                  </a:lnTo>
                  <a:lnTo>
                    <a:pt x="197718" y="70201"/>
                  </a:lnTo>
                  <a:lnTo>
                    <a:pt x="157614" y="109243"/>
                  </a:lnTo>
                  <a:lnTo>
                    <a:pt x="116034" y="140787"/>
                  </a:lnTo>
                  <a:lnTo>
                    <a:pt x="74368" y="171278"/>
                  </a:lnTo>
                  <a:lnTo>
                    <a:pt x="30068" y="211068"/>
                  </a:lnTo>
                  <a:lnTo>
                    <a:pt x="11890" y="228180"/>
                  </a:lnTo>
                  <a:lnTo>
                    <a:pt x="5921" y="230398"/>
                  </a:lnTo>
                  <a:lnTo>
                    <a:pt x="3932" y="231982"/>
                  </a:lnTo>
                  <a:lnTo>
                    <a:pt x="1722" y="236387"/>
                  </a:lnTo>
                  <a:lnTo>
                    <a:pt x="0" y="249542"/>
                  </a:lnTo>
                  <a:lnTo>
                    <a:pt x="4708" y="249887"/>
                  </a:lnTo>
                  <a:lnTo>
                    <a:pt x="6100" y="250927"/>
                  </a:lnTo>
                  <a:lnTo>
                    <a:pt x="7646" y="254729"/>
                  </a:lnTo>
                  <a:lnTo>
                    <a:pt x="9051" y="256140"/>
                  </a:lnTo>
                  <a:lnTo>
                    <a:pt x="13257" y="257708"/>
                  </a:lnTo>
                  <a:lnTo>
                    <a:pt x="47416" y="261603"/>
                  </a:lnTo>
                  <a:lnTo>
                    <a:pt x="60650" y="266028"/>
                  </a:lnTo>
                  <a:lnTo>
                    <a:pt x="102426" y="268810"/>
                  </a:lnTo>
                  <a:lnTo>
                    <a:pt x="145994" y="275987"/>
                  </a:lnTo>
                  <a:lnTo>
                    <a:pt x="181819" y="276656"/>
                  </a:lnTo>
                  <a:lnTo>
                    <a:pt x="222078" y="276788"/>
                  </a:lnTo>
                  <a:lnTo>
                    <a:pt x="258694" y="276815"/>
                  </a:lnTo>
                  <a:lnTo>
                    <a:pt x="294590" y="276820"/>
                  </a:lnTo>
                  <a:lnTo>
                    <a:pt x="335085" y="276821"/>
                  </a:lnTo>
                  <a:lnTo>
                    <a:pt x="369568" y="276821"/>
                  </a:lnTo>
                  <a:lnTo>
                    <a:pt x="409646" y="276821"/>
                  </a:lnTo>
                  <a:lnTo>
                    <a:pt x="446226" y="276821"/>
                  </a:lnTo>
                  <a:lnTo>
                    <a:pt x="473164" y="279466"/>
                  </a:lnTo>
                  <a:lnTo>
                    <a:pt x="508933" y="284509"/>
                  </a:lnTo>
                  <a:lnTo>
                    <a:pt x="550947" y="288233"/>
                  </a:lnTo>
                  <a:lnTo>
                    <a:pt x="595111" y="299043"/>
                  </a:lnTo>
                  <a:lnTo>
                    <a:pt x="636929" y="318574"/>
                  </a:lnTo>
                  <a:lnTo>
                    <a:pt x="660750" y="33039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51" name="SMARTInkShape-179"/>
          <p:cNvSpPr/>
          <p:nvPr/>
        </p:nvSpPr>
        <p:spPr>
          <a:xfrm>
            <a:off x="2187720" y="3584520"/>
            <a:ext cx="2214360" cy="71928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213985" h="718946">
                <a:moveTo>
                  <a:pt x="1928424" y="138565"/>
                </a:moveTo>
                <a:lnTo>
                  <a:pt x="1928424" y="138565"/>
                </a:lnTo>
                <a:lnTo>
                  <a:pt x="1898871" y="100451"/>
                </a:lnTo>
                <a:lnTo>
                  <a:pt x="1868388" y="82062"/>
                </a:lnTo>
                <a:lnTo>
                  <a:pt x="1829347" y="67135"/>
                </a:lnTo>
                <a:lnTo>
                  <a:pt x="1797864" y="60846"/>
                </a:lnTo>
                <a:lnTo>
                  <a:pt x="1757117" y="56337"/>
                </a:lnTo>
                <a:lnTo>
                  <a:pt x="1713625" y="48717"/>
                </a:lnTo>
                <a:lnTo>
                  <a:pt x="1671965" y="40176"/>
                </a:lnTo>
                <a:lnTo>
                  <a:pt x="1629194" y="31361"/>
                </a:lnTo>
                <a:lnTo>
                  <a:pt x="1596995" y="26427"/>
                </a:lnTo>
                <a:lnTo>
                  <a:pt x="1566148" y="24234"/>
                </a:lnTo>
                <a:lnTo>
                  <a:pt x="1535902" y="20613"/>
                </a:lnTo>
                <a:lnTo>
                  <a:pt x="1504931" y="16689"/>
                </a:lnTo>
                <a:lnTo>
                  <a:pt x="1471322" y="14945"/>
                </a:lnTo>
                <a:lnTo>
                  <a:pt x="1436540" y="11524"/>
                </a:lnTo>
                <a:lnTo>
                  <a:pt x="1400246" y="7688"/>
                </a:lnTo>
                <a:lnTo>
                  <a:pt x="1360965" y="5984"/>
                </a:lnTo>
                <a:lnTo>
                  <a:pt x="1323001" y="5226"/>
                </a:lnTo>
                <a:lnTo>
                  <a:pt x="1286284" y="3898"/>
                </a:lnTo>
                <a:lnTo>
                  <a:pt x="1250122" y="0"/>
                </a:lnTo>
                <a:lnTo>
                  <a:pt x="1208915" y="251"/>
                </a:lnTo>
                <a:lnTo>
                  <a:pt x="1166127" y="2679"/>
                </a:lnTo>
                <a:lnTo>
                  <a:pt x="1127265" y="3757"/>
                </a:lnTo>
                <a:lnTo>
                  <a:pt x="1087505" y="4237"/>
                </a:lnTo>
                <a:lnTo>
                  <a:pt x="1045689" y="5442"/>
                </a:lnTo>
                <a:lnTo>
                  <a:pt x="1023426" y="7152"/>
                </a:lnTo>
                <a:lnTo>
                  <a:pt x="1000647" y="9285"/>
                </a:lnTo>
                <a:lnTo>
                  <a:pt x="956816" y="14300"/>
                </a:lnTo>
                <a:lnTo>
                  <a:pt x="913191" y="19836"/>
                </a:lnTo>
                <a:lnTo>
                  <a:pt x="890446" y="22701"/>
                </a:lnTo>
                <a:lnTo>
                  <a:pt x="867345" y="25604"/>
                </a:lnTo>
                <a:lnTo>
                  <a:pt x="823156" y="34121"/>
                </a:lnTo>
                <a:lnTo>
                  <a:pt x="779373" y="43528"/>
                </a:lnTo>
                <a:lnTo>
                  <a:pt x="756585" y="47426"/>
                </a:lnTo>
                <a:lnTo>
                  <a:pt x="712083" y="55395"/>
                </a:lnTo>
                <a:lnTo>
                  <a:pt x="672461" y="65551"/>
                </a:lnTo>
                <a:lnTo>
                  <a:pt x="632361" y="74034"/>
                </a:lnTo>
                <a:lnTo>
                  <a:pt x="591388" y="82104"/>
                </a:lnTo>
                <a:lnTo>
                  <a:pt x="550027" y="92305"/>
                </a:lnTo>
                <a:lnTo>
                  <a:pt x="511139" y="103453"/>
                </a:lnTo>
                <a:lnTo>
                  <a:pt x="473020" y="115023"/>
                </a:lnTo>
                <a:lnTo>
                  <a:pt x="432927" y="126779"/>
                </a:lnTo>
                <a:lnTo>
                  <a:pt x="394602" y="141265"/>
                </a:lnTo>
                <a:lnTo>
                  <a:pt x="358718" y="156632"/>
                </a:lnTo>
                <a:lnTo>
                  <a:pt x="326232" y="170077"/>
                </a:lnTo>
                <a:lnTo>
                  <a:pt x="292612" y="185313"/>
                </a:lnTo>
                <a:lnTo>
                  <a:pt x="258818" y="201014"/>
                </a:lnTo>
                <a:lnTo>
                  <a:pt x="227262" y="214607"/>
                </a:lnTo>
                <a:lnTo>
                  <a:pt x="186346" y="238156"/>
                </a:lnTo>
                <a:lnTo>
                  <a:pt x="149088" y="263986"/>
                </a:lnTo>
                <a:lnTo>
                  <a:pt x="112913" y="285750"/>
                </a:lnTo>
                <a:lnTo>
                  <a:pt x="72263" y="318010"/>
                </a:lnTo>
                <a:lnTo>
                  <a:pt x="31301" y="357179"/>
                </a:lnTo>
                <a:lnTo>
                  <a:pt x="9578" y="395447"/>
                </a:lnTo>
                <a:lnTo>
                  <a:pt x="4041" y="409501"/>
                </a:lnTo>
                <a:lnTo>
                  <a:pt x="0" y="453172"/>
                </a:lnTo>
                <a:lnTo>
                  <a:pt x="719" y="471671"/>
                </a:lnTo>
                <a:lnTo>
                  <a:pt x="17710" y="516243"/>
                </a:lnTo>
                <a:lnTo>
                  <a:pt x="24522" y="531648"/>
                </a:lnTo>
                <a:lnTo>
                  <a:pt x="50750" y="563845"/>
                </a:lnTo>
                <a:lnTo>
                  <a:pt x="89763" y="593931"/>
                </a:lnTo>
                <a:lnTo>
                  <a:pt x="124795" y="613042"/>
                </a:lnTo>
                <a:lnTo>
                  <a:pt x="167508" y="632508"/>
                </a:lnTo>
                <a:lnTo>
                  <a:pt x="202376" y="644642"/>
                </a:lnTo>
                <a:lnTo>
                  <a:pt x="238835" y="659371"/>
                </a:lnTo>
                <a:lnTo>
                  <a:pt x="281608" y="670461"/>
                </a:lnTo>
                <a:lnTo>
                  <a:pt x="314451" y="676919"/>
                </a:lnTo>
                <a:lnTo>
                  <a:pt x="346246" y="683096"/>
                </a:lnTo>
                <a:lnTo>
                  <a:pt x="377906" y="689149"/>
                </a:lnTo>
                <a:lnTo>
                  <a:pt x="411820" y="695147"/>
                </a:lnTo>
                <a:lnTo>
                  <a:pt x="449383" y="698474"/>
                </a:lnTo>
                <a:lnTo>
                  <a:pt x="488236" y="700945"/>
                </a:lnTo>
                <a:lnTo>
                  <a:pt x="525348" y="705350"/>
                </a:lnTo>
                <a:lnTo>
                  <a:pt x="564332" y="707970"/>
                </a:lnTo>
                <a:lnTo>
                  <a:pt x="604809" y="709134"/>
                </a:lnTo>
                <a:lnTo>
                  <a:pt x="645950" y="709651"/>
                </a:lnTo>
                <a:lnTo>
                  <a:pt x="687386" y="712527"/>
                </a:lnTo>
                <a:lnTo>
                  <a:pt x="728953" y="716120"/>
                </a:lnTo>
                <a:lnTo>
                  <a:pt x="770578" y="717717"/>
                </a:lnTo>
                <a:lnTo>
                  <a:pt x="812229" y="718427"/>
                </a:lnTo>
                <a:lnTo>
                  <a:pt x="854884" y="718743"/>
                </a:lnTo>
                <a:lnTo>
                  <a:pt x="877371" y="718827"/>
                </a:lnTo>
                <a:lnTo>
                  <a:pt x="900300" y="718883"/>
                </a:lnTo>
                <a:lnTo>
                  <a:pt x="944298" y="718945"/>
                </a:lnTo>
                <a:lnTo>
                  <a:pt x="987995" y="717981"/>
                </a:lnTo>
                <a:lnTo>
                  <a:pt x="1010761" y="716334"/>
                </a:lnTo>
                <a:lnTo>
                  <a:pt x="1033875" y="714245"/>
                </a:lnTo>
                <a:lnTo>
                  <a:pt x="1057222" y="712852"/>
                </a:lnTo>
                <a:lnTo>
                  <a:pt x="1080724" y="711923"/>
                </a:lnTo>
                <a:lnTo>
                  <a:pt x="1104330" y="711304"/>
                </a:lnTo>
                <a:lnTo>
                  <a:pt x="1127012" y="710891"/>
                </a:lnTo>
                <a:lnTo>
                  <a:pt x="1170736" y="710432"/>
                </a:lnTo>
                <a:lnTo>
                  <a:pt x="1213319" y="707583"/>
                </a:lnTo>
                <a:lnTo>
                  <a:pt x="1256389" y="704001"/>
                </a:lnTo>
                <a:lnTo>
                  <a:pt x="1278986" y="703046"/>
                </a:lnTo>
                <a:lnTo>
                  <a:pt x="1301989" y="702409"/>
                </a:lnTo>
                <a:lnTo>
                  <a:pt x="1325262" y="700993"/>
                </a:lnTo>
                <a:lnTo>
                  <a:pt x="1348714" y="699056"/>
                </a:lnTo>
                <a:lnTo>
                  <a:pt x="1372286" y="696773"/>
                </a:lnTo>
                <a:lnTo>
                  <a:pt x="1394947" y="694259"/>
                </a:lnTo>
                <a:lnTo>
                  <a:pt x="1438646" y="688819"/>
                </a:lnTo>
                <a:lnTo>
                  <a:pt x="1461015" y="685979"/>
                </a:lnTo>
                <a:lnTo>
                  <a:pt x="1483865" y="683094"/>
                </a:lnTo>
                <a:lnTo>
                  <a:pt x="1507036" y="680178"/>
                </a:lnTo>
                <a:lnTo>
                  <a:pt x="1551302" y="676939"/>
                </a:lnTo>
                <a:lnTo>
                  <a:pt x="1594126" y="673514"/>
                </a:lnTo>
                <a:lnTo>
                  <a:pt x="1636311" y="665378"/>
                </a:lnTo>
                <a:lnTo>
                  <a:pt x="1678211" y="657793"/>
                </a:lnTo>
                <a:lnTo>
                  <a:pt x="1719984" y="651115"/>
                </a:lnTo>
                <a:lnTo>
                  <a:pt x="1761701" y="644839"/>
                </a:lnTo>
                <a:lnTo>
                  <a:pt x="1803392" y="636097"/>
                </a:lnTo>
                <a:lnTo>
                  <a:pt x="1844081" y="626589"/>
                </a:lnTo>
                <a:lnTo>
                  <a:pt x="1882009" y="619056"/>
                </a:lnTo>
                <a:lnTo>
                  <a:pt x="1916062" y="609755"/>
                </a:lnTo>
                <a:lnTo>
                  <a:pt x="1948727" y="599998"/>
                </a:lnTo>
                <a:lnTo>
                  <a:pt x="1983088" y="592355"/>
                </a:lnTo>
                <a:lnTo>
                  <a:pt x="2015557" y="583006"/>
                </a:lnTo>
                <a:lnTo>
                  <a:pt x="2059083" y="566585"/>
                </a:lnTo>
                <a:lnTo>
                  <a:pt x="2094468" y="551798"/>
                </a:lnTo>
                <a:lnTo>
                  <a:pt x="2137832" y="533171"/>
                </a:lnTo>
                <a:lnTo>
                  <a:pt x="2177025" y="511582"/>
                </a:lnTo>
                <a:lnTo>
                  <a:pt x="2193245" y="495152"/>
                </a:lnTo>
                <a:lnTo>
                  <a:pt x="2199911" y="483580"/>
                </a:lnTo>
                <a:lnTo>
                  <a:pt x="2206836" y="462628"/>
                </a:lnTo>
                <a:lnTo>
                  <a:pt x="2210913" y="454241"/>
                </a:lnTo>
                <a:lnTo>
                  <a:pt x="2213984" y="415221"/>
                </a:lnTo>
                <a:lnTo>
                  <a:pt x="2213097" y="403406"/>
                </a:lnTo>
                <a:lnTo>
                  <a:pt x="2196077" y="361803"/>
                </a:lnTo>
                <a:lnTo>
                  <a:pt x="2184669" y="343947"/>
                </a:lnTo>
                <a:lnTo>
                  <a:pt x="2175263" y="331050"/>
                </a:lnTo>
                <a:lnTo>
                  <a:pt x="2162406" y="308046"/>
                </a:lnTo>
                <a:lnTo>
                  <a:pt x="2122451" y="269780"/>
                </a:lnTo>
                <a:lnTo>
                  <a:pt x="2103212" y="252740"/>
                </a:lnTo>
                <a:lnTo>
                  <a:pt x="2061868" y="229607"/>
                </a:lnTo>
                <a:lnTo>
                  <a:pt x="2022076" y="200911"/>
                </a:lnTo>
                <a:lnTo>
                  <a:pt x="1982862" y="181969"/>
                </a:lnTo>
                <a:lnTo>
                  <a:pt x="1945460" y="162537"/>
                </a:lnTo>
                <a:lnTo>
                  <a:pt x="1900884" y="148114"/>
                </a:lnTo>
                <a:lnTo>
                  <a:pt x="1863048" y="138749"/>
                </a:lnTo>
                <a:lnTo>
                  <a:pt x="1823063" y="129690"/>
                </a:lnTo>
                <a:lnTo>
                  <a:pt x="1783435" y="123368"/>
                </a:lnTo>
                <a:lnTo>
                  <a:pt x="1742919" y="118849"/>
                </a:lnTo>
                <a:lnTo>
                  <a:pt x="1703135" y="113872"/>
                </a:lnTo>
                <a:lnTo>
                  <a:pt x="1662573" y="115043"/>
                </a:lnTo>
                <a:lnTo>
                  <a:pt x="1622772" y="121674"/>
                </a:lnTo>
                <a:lnTo>
                  <a:pt x="1579561" y="129922"/>
                </a:lnTo>
                <a:lnTo>
                  <a:pt x="1537985" y="138651"/>
                </a:lnTo>
                <a:lnTo>
                  <a:pt x="1503176" y="150167"/>
                </a:lnTo>
                <a:lnTo>
                  <a:pt x="1464747" y="167095"/>
                </a:lnTo>
                <a:lnTo>
                  <a:pt x="1428361" y="18321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2" name="SMARTInkShape-Group197"/>
          <p:cNvGrpSpPr/>
          <p:nvPr/>
        </p:nvGrpSpPr>
        <p:grpSpPr>
          <a:xfrm>
            <a:off x="1170000" y="2027160"/>
            <a:ext cx="2411280" cy="115920"/>
            <a:chOff x="1170000" y="2027160"/>
            <a:chExt cx="2411280" cy="115920"/>
          </a:xfrm>
        </p:grpSpPr>
        <p:sp>
          <p:nvSpPr>
            <p:cNvPr id="253" name="SMARTInkShape-180"/>
            <p:cNvSpPr/>
            <p:nvPr/>
          </p:nvSpPr>
          <p:spPr>
            <a:xfrm>
              <a:off x="1170000" y="2044800"/>
              <a:ext cx="2366640" cy="98280"/>
            </a:xfrm>
            <a:custGeom>
              <a:avLst/>
              <a:gdLst>
                <a:gd name="textAreaLeft" fmla="*/ 0 w 2366640"/>
                <a:gd name="textAreaRight" fmla="*/ 2367000 w 2366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366368" h="98222">
                  <a:moveTo>
                    <a:pt x="0" y="98221"/>
                  </a:moveTo>
                  <a:lnTo>
                    <a:pt x="0" y="98221"/>
                  </a:lnTo>
                  <a:lnTo>
                    <a:pt x="43373" y="76098"/>
                  </a:lnTo>
                  <a:lnTo>
                    <a:pt x="55295" y="72814"/>
                  </a:lnTo>
                  <a:lnTo>
                    <a:pt x="80985" y="68968"/>
                  </a:lnTo>
                  <a:lnTo>
                    <a:pt x="122075" y="55192"/>
                  </a:lnTo>
                  <a:lnTo>
                    <a:pt x="164169" y="44072"/>
                  </a:lnTo>
                  <a:lnTo>
                    <a:pt x="197470" y="35544"/>
                  </a:lnTo>
                  <a:lnTo>
                    <a:pt x="232473" y="29379"/>
                  </a:lnTo>
                  <a:lnTo>
                    <a:pt x="267980" y="24907"/>
                  </a:lnTo>
                  <a:lnTo>
                    <a:pt x="306282" y="17297"/>
                  </a:lnTo>
                  <a:lnTo>
                    <a:pt x="346404" y="8759"/>
                  </a:lnTo>
                  <a:lnTo>
                    <a:pt x="386073" y="2591"/>
                  </a:lnTo>
                  <a:lnTo>
                    <a:pt x="426600" y="764"/>
                  </a:lnTo>
                  <a:lnTo>
                    <a:pt x="466390" y="222"/>
                  </a:lnTo>
                  <a:lnTo>
                    <a:pt x="509598" y="62"/>
                  </a:lnTo>
                  <a:lnTo>
                    <a:pt x="551174" y="14"/>
                  </a:lnTo>
                  <a:lnTo>
                    <a:pt x="591275" y="0"/>
                  </a:lnTo>
                  <a:lnTo>
                    <a:pt x="631929" y="2642"/>
                  </a:lnTo>
                  <a:lnTo>
                    <a:pt x="671757" y="7063"/>
                  </a:lnTo>
                  <a:lnTo>
                    <a:pt x="714976" y="11018"/>
                  </a:lnTo>
                  <a:lnTo>
                    <a:pt x="759202" y="15828"/>
                  </a:lnTo>
                  <a:lnTo>
                    <a:pt x="803725" y="17254"/>
                  </a:lnTo>
                  <a:lnTo>
                    <a:pt x="848336" y="20322"/>
                  </a:lnTo>
                  <a:lnTo>
                    <a:pt x="879085" y="23912"/>
                  </a:lnTo>
                  <a:lnTo>
                    <a:pt x="912595" y="25507"/>
                  </a:lnTo>
                  <a:lnTo>
                    <a:pt x="944686" y="28862"/>
                  </a:lnTo>
                  <a:lnTo>
                    <a:pt x="976478" y="32668"/>
                  </a:lnTo>
                  <a:lnTo>
                    <a:pt x="1010451" y="34360"/>
                  </a:lnTo>
                  <a:lnTo>
                    <a:pt x="1045394" y="35112"/>
                  </a:lnTo>
                  <a:lnTo>
                    <a:pt x="1079776" y="35446"/>
                  </a:lnTo>
                  <a:lnTo>
                    <a:pt x="1111593" y="35594"/>
                  </a:lnTo>
                  <a:lnTo>
                    <a:pt x="1144916" y="38306"/>
                  </a:lnTo>
                  <a:lnTo>
                    <a:pt x="1178579" y="41826"/>
                  </a:lnTo>
                  <a:lnTo>
                    <a:pt x="1210076" y="43391"/>
                  </a:lnTo>
                  <a:lnTo>
                    <a:pt x="1243257" y="44086"/>
                  </a:lnTo>
                  <a:lnTo>
                    <a:pt x="1276855" y="45388"/>
                  </a:lnTo>
                  <a:lnTo>
                    <a:pt x="1308325" y="49273"/>
                  </a:lnTo>
                  <a:lnTo>
                    <a:pt x="1341493" y="51662"/>
                  </a:lnTo>
                  <a:lnTo>
                    <a:pt x="1375086" y="52723"/>
                  </a:lnTo>
                  <a:lnTo>
                    <a:pt x="1406553" y="53195"/>
                  </a:lnTo>
                  <a:lnTo>
                    <a:pt x="1437075" y="56051"/>
                  </a:lnTo>
                  <a:lnTo>
                    <a:pt x="1467176" y="59635"/>
                  </a:lnTo>
                  <a:lnTo>
                    <a:pt x="1497092" y="61228"/>
                  </a:lnTo>
                  <a:lnTo>
                    <a:pt x="1529569" y="61936"/>
                  </a:lnTo>
                  <a:lnTo>
                    <a:pt x="1562856" y="63243"/>
                  </a:lnTo>
                  <a:lnTo>
                    <a:pt x="1594186" y="67131"/>
                  </a:lnTo>
                  <a:lnTo>
                    <a:pt x="1624647" y="69520"/>
                  </a:lnTo>
                  <a:lnTo>
                    <a:pt x="1655714" y="70582"/>
                  </a:lnTo>
                  <a:lnTo>
                    <a:pt x="1689365" y="71054"/>
                  </a:lnTo>
                  <a:lnTo>
                    <a:pt x="1724165" y="71264"/>
                  </a:lnTo>
                  <a:lnTo>
                    <a:pt x="1758483" y="71357"/>
                  </a:lnTo>
                  <a:lnTo>
                    <a:pt x="1790272" y="71399"/>
                  </a:lnTo>
                  <a:lnTo>
                    <a:pt x="1823582" y="74063"/>
                  </a:lnTo>
                  <a:lnTo>
                    <a:pt x="1857239" y="77562"/>
                  </a:lnTo>
                  <a:lnTo>
                    <a:pt x="1888734" y="79117"/>
                  </a:lnTo>
                  <a:lnTo>
                    <a:pt x="1921914" y="79808"/>
                  </a:lnTo>
                  <a:lnTo>
                    <a:pt x="1955512" y="80116"/>
                  </a:lnTo>
                  <a:lnTo>
                    <a:pt x="1986981" y="80252"/>
                  </a:lnTo>
                  <a:lnTo>
                    <a:pt x="2017504" y="80313"/>
                  </a:lnTo>
                  <a:lnTo>
                    <a:pt x="2047606" y="80340"/>
                  </a:lnTo>
                  <a:lnTo>
                    <a:pt x="2091451" y="80355"/>
                  </a:lnTo>
                  <a:lnTo>
                    <a:pt x="2130019" y="80359"/>
                  </a:lnTo>
                  <a:lnTo>
                    <a:pt x="2167574" y="80361"/>
                  </a:lnTo>
                  <a:lnTo>
                    <a:pt x="2207695" y="80361"/>
                  </a:lnTo>
                  <a:lnTo>
                    <a:pt x="2251571" y="80361"/>
                  </a:lnTo>
                  <a:lnTo>
                    <a:pt x="2293421" y="80361"/>
                  </a:lnTo>
                  <a:lnTo>
                    <a:pt x="2330350" y="80361"/>
                  </a:lnTo>
                  <a:lnTo>
                    <a:pt x="2366367" y="803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4" name="SMARTInkShape-181"/>
            <p:cNvSpPr/>
            <p:nvPr/>
          </p:nvSpPr>
          <p:spPr>
            <a:xfrm>
              <a:off x="3572640" y="20271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30" h="1">
                  <a:moveTo>
                    <a:pt x="0" y="0"/>
                  </a:moveTo>
                  <a:lnTo>
                    <a:pt x="0" y="0"/>
                  </a:lnTo>
                  <a:lnTo>
                    <a:pt x="892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55" name="SMARTInkShape-Group198"/>
          <p:cNvGrpSpPr/>
          <p:nvPr/>
        </p:nvGrpSpPr>
        <p:grpSpPr>
          <a:xfrm>
            <a:off x="3911760" y="1741320"/>
            <a:ext cx="927000" cy="357480"/>
            <a:chOff x="3911760" y="1741320"/>
            <a:chExt cx="927000" cy="357480"/>
          </a:xfrm>
        </p:grpSpPr>
        <p:sp>
          <p:nvSpPr>
            <p:cNvPr id="256" name="SMARTInkShape-182"/>
            <p:cNvSpPr/>
            <p:nvPr/>
          </p:nvSpPr>
          <p:spPr>
            <a:xfrm>
              <a:off x="4250160" y="1821600"/>
              <a:ext cx="17640" cy="17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860" h="17860">
                  <a:moveTo>
                    <a:pt x="0" y="17859"/>
                  </a:moveTo>
                  <a:lnTo>
                    <a:pt x="0" y="17859"/>
                  </a:lnTo>
                  <a:lnTo>
                    <a:pt x="4740" y="17859"/>
                  </a:lnTo>
                  <a:lnTo>
                    <a:pt x="6137" y="16867"/>
                  </a:lnTo>
                  <a:lnTo>
                    <a:pt x="7067" y="15214"/>
                  </a:lnTo>
                  <a:lnTo>
                    <a:pt x="7688" y="13119"/>
                  </a:lnTo>
                  <a:lnTo>
                    <a:pt x="1785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7" name="SMARTInkShape-183"/>
            <p:cNvSpPr/>
            <p:nvPr/>
          </p:nvSpPr>
          <p:spPr>
            <a:xfrm>
              <a:off x="4330800" y="1776960"/>
              <a:ext cx="8640" cy="360"/>
            </a:xfrm>
            <a:custGeom>
              <a:avLst/>
              <a:gdLst>
                <a:gd name="textAreaLeft" fmla="*/ 0 w 8640"/>
                <a:gd name="textAreaRight" fmla="*/ 864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31" h="1">
                  <a:moveTo>
                    <a:pt x="0" y="0"/>
                  </a:moveTo>
                  <a:lnTo>
                    <a:pt x="0" y="0"/>
                  </a:lnTo>
                  <a:lnTo>
                    <a:pt x="893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8" name="SMARTInkShape-184"/>
            <p:cNvSpPr/>
            <p:nvPr/>
          </p:nvSpPr>
          <p:spPr>
            <a:xfrm>
              <a:off x="3911760" y="1741320"/>
              <a:ext cx="927000" cy="3574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927554" h="357152">
                  <a:moveTo>
                    <a:pt x="463781" y="17859"/>
                  </a:moveTo>
                  <a:lnTo>
                    <a:pt x="463781" y="17859"/>
                  </a:lnTo>
                  <a:lnTo>
                    <a:pt x="450112" y="4190"/>
                  </a:lnTo>
                  <a:lnTo>
                    <a:pt x="445138" y="1862"/>
                  </a:lnTo>
                  <a:lnTo>
                    <a:pt x="402482" y="10"/>
                  </a:lnTo>
                  <a:lnTo>
                    <a:pt x="359188" y="0"/>
                  </a:lnTo>
                  <a:lnTo>
                    <a:pt x="316158" y="0"/>
                  </a:lnTo>
                  <a:lnTo>
                    <a:pt x="274443" y="0"/>
                  </a:lnTo>
                  <a:lnTo>
                    <a:pt x="234699" y="992"/>
                  </a:lnTo>
                  <a:lnTo>
                    <a:pt x="191021" y="15814"/>
                  </a:lnTo>
                  <a:lnTo>
                    <a:pt x="149015" y="32824"/>
                  </a:lnTo>
                  <a:lnTo>
                    <a:pt x="106638" y="56229"/>
                  </a:lnTo>
                  <a:lnTo>
                    <a:pt x="68233" y="82462"/>
                  </a:lnTo>
                  <a:lnTo>
                    <a:pt x="53826" y="93204"/>
                  </a:lnTo>
                  <a:lnTo>
                    <a:pt x="12347" y="136781"/>
                  </a:lnTo>
                  <a:lnTo>
                    <a:pt x="5837" y="144466"/>
                  </a:lnTo>
                  <a:lnTo>
                    <a:pt x="2282" y="153835"/>
                  </a:lnTo>
                  <a:lnTo>
                    <a:pt x="0" y="176018"/>
                  </a:lnTo>
                  <a:lnTo>
                    <a:pt x="8565" y="211176"/>
                  </a:lnTo>
                  <a:lnTo>
                    <a:pt x="26413" y="250196"/>
                  </a:lnTo>
                  <a:lnTo>
                    <a:pt x="29327" y="256094"/>
                  </a:lnTo>
                  <a:lnTo>
                    <a:pt x="47651" y="273876"/>
                  </a:lnTo>
                  <a:lnTo>
                    <a:pt x="90289" y="301877"/>
                  </a:lnTo>
                  <a:lnTo>
                    <a:pt x="133588" y="320849"/>
                  </a:lnTo>
                  <a:lnTo>
                    <a:pt x="173883" y="333252"/>
                  </a:lnTo>
                  <a:lnTo>
                    <a:pt x="208332" y="342269"/>
                  </a:lnTo>
                  <a:lnTo>
                    <a:pt x="243674" y="346483"/>
                  </a:lnTo>
                  <a:lnTo>
                    <a:pt x="279282" y="352473"/>
                  </a:lnTo>
                  <a:lnTo>
                    <a:pt x="319707" y="355790"/>
                  </a:lnTo>
                  <a:lnTo>
                    <a:pt x="363105" y="356773"/>
                  </a:lnTo>
                  <a:lnTo>
                    <a:pt x="407383" y="357065"/>
                  </a:lnTo>
                  <a:lnTo>
                    <a:pt x="451922" y="357151"/>
                  </a:lnTo>
                  <a:lnTo>
                    <a:pt x="484307" y="354526"/>
                  </a:lnTo>
                  <a:lnTo>
                    <a:pt x="517553" y="350051"/>
                  </a:lnTo>
                  <a:lnTo>
                    <a:pt x="548865" y="344756"/>
                  </a:lnTo>
                  <a:lnTo>
                    <a:pt x="589644" y="340936"/>
                  </a:lnTo>
                  <a:lnTo>
                    <a:pt x="631602" y="335064"/>
                  </a:lnTo>
                  <a:lnTo>
                    <a:pt x="670713" y="327040"/>
                  </a:lnTo>
                  <a:lnTo>
                    <a:pt x="707436" y="318379"/>
                  </a:lnTo>
                  <a:lnTo>
                    <a:pt x="748193" y="309529"/>
                  </a:lnTo>
                  <a:lnTo>
                    <a:pt x="792152" y="291513"/>
                  </a:lnTo>
                  <a:lnTo>
                    <a:pt x="833821" y="274210"/>
                  </a:lnTo>
                  <a:lnTo>
                    <a:pt x="872418" y="251941"/>
                  </a:lnTo>
                  <a:lnTo>
                    <a:pt x="897938" y="233762"/>
                  </a:lnTo>
                  <a:lnTo>
                    <a:pt x="914960" y="217199"/>
                  </a:lnTo>
                  <a:lnTo>
                    <a:pt x="923784" y="202490"/>
                  </a:lnTo>
                  <a:lnTo>
                    <a:pt x="926838" y="190414"/>
                  </a:lnTo>
                  <a:lnTo>
                    <a:pt x="927553" y="180209"/>
                  </a:lnTo>
                  <a:lnTo>
                    <a:pt x="923215" y="163308"/>
                  </a:lnTo>
                  <a:lnTo>
                    <a:pt x="911869" y="139819"/>
                  </a:lnTo>
                  <a:lnTo>
                    <a:pt x="878714" y="98222"/>
                  </a:lnTo>
                  <a:lnTo>
                    <a:pt x="855277" y="83011"/>
                  </a:lnTo>
                  <a:lnTo>
                    <a:pt x="810861" y="58703"/>
                  </a:lnTo>
                  <a:lnTo>
                    <a:pt x="766570" y="38201"/>
                  </a:lnTo>
                  <a:lnTo>
                    <a:pt x="731429" y="27525"/>
                  </a:lnTo>
                  <a:lnTo>
                    <a:pt x="695881" y="18077"/>
                  </a:lnTo>
                  <a:lnTo>
                    <a:pt x="657568" y="11640"/>
                  </a:lnTo>
                  <a:lnTo>
                    <a:pt x="614796" y="7087"/>
                  </a:lnTo>
                  <a:lnTo>
                    <a:pt x="573349" y="2100"/>
                  </a:lnTo>
                  <a:lnTo>
                    <a:pt x="533288" y="3268"/>
                  </a:lnTo>
                  <a:lnTo>
                    <a:pt x="492644" y="7252"/>
                  </a:lnTo>
                  <a:lnTo>
                    <a:pt x="448096" y="13339"/>
                  </a:lnTo>
                  <a:lnTo>
                    <a:pt x="405488" y="24095"/>
                  </a:lnTo>
                  <a:lnTo>
                    <a:pt x="364739" y="43473"/>
                  </a:lnTo>
                  <a:lnTo>
                    <a:pt x="324334" y="69860"/>
                  </a:lnTo>
                  <a:lnTo>
                    <a:pt x="303047" y="8929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59" name="SMARTInkShape-Group199"/>
          <p:cNvGrpSpPr/>
          <p:nvPr/>
        </p:nvGrpSpPr>
        <p:grpSpPr>
          <a:xfrm>
            <a:off x="5375160" y="4178160"/>
            <a:ext cx="169920" cy="233640"/>
            <a:chOff x="5375160" y="4178160"/>
            <a:chExt cx="169920" cy="233640"/>
          </a:xfrm>
        </p:grpSpPr>
        <p:sp>
          <p:nvSpPr>
            <p:cNvPr id="260" name="SMARTInkShape-185"/>
            <p:cNvSpPr/>
            <p:nvPr/>
          </p:nvSpPr>
          <p:spPr>
            <a:xfrm>
              <a:off x="5383800" y="41781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30" h="1">
                  <a:moveTo>
                    <a:pt x="0" y="0"/>
                  </a:moveTo>
                  <a:lnTo>
                    <a:pt x="0" y="0"/>
                  </a:lnTo>
                  <a:lnTo>
                    <a:pt x="892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1" name="SMARTInkShape-186"/>
            <p:cNvSpPr/>
            <p:nvPr/>
          </p:nvSpPr>
          <p:spPr>
            <a:xfrm>
              <a:off x="5375160" y="4275720"/>
              <a:ext cx="169920" cy="1360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9665" h="135139">
                  <a:moveTo>
                    <a:pt x="0" y="135138"/>
                  </a:moveTo>
                  <a:lnTo>
                    <a:pt x="0" y="135138"/>
                  </a:lnTo>
                  <a:lnTo>
                    <a:pt x="2645" y="103389"/>
                  </a:lnTo>
                  <a:lnTo>
                    <a:pt x="7129" y="60503"/>
                  </a:lnTo>
                  <a:lnTo>
                    <a:pt x="16250" y="24707"/>
                  </a:lnTo>
                  <a:lnTo>
                    <a:pt x="27727" y="18920"/>
                  </a:lnTo>
                  <a:lnTo>
                    <a:pt x="44073" y="12048"/>
                  </a:lnTo>
                  <a:lnTo>
                    <a:pt x="57952" y="2379"/>
                  </a:lnTo>
                  <a:lnTo>
                    <a:pt x="65424" y="0"/>
                  </a:lnTo>
                  <a:lnTo>
                    <a:pt x="106371" y="1123"/>
                  </a:lnTo>
                  <a:lnTo>
                    <a:pt x="148851" y="1189"/>
                  </a:lnTo>
                  <a:lnTo>
                    <a:pt x="169664" y="11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62" name="SMARTInkShape-187"/>
          <p:cNvSpPr/>
          <p:nvPr/>
        </p:nvSpPr>
        <p:spPr>
          <a:xfrm>
            <a:off x="4108320" y="4205160"/>
            <a:ext cx="69840" cy="509760"/>
          </a:xfrm>
          <a:custGeom>
            <a:avLst/>
            <a:gdLst>
              <a:gd name="textAreaLeft" fmla="*/ 0 w 69840"/>
              <a:gd name="textAreaRight" fmla="*/ 70200 w 6984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70119" h="508992">
                <a:moveTo>
                  <a:pt x="35644" y="0"/>
                </a:moveTo>
                <a:lnTo>
                  <a:pt x="35644" y="0"/>
                </a:lnTo>
                <a:lnTo>
                  <a:pt x="20267" y="0"/>
                </a:lnTo>
                <a:lnTo>
                  <a:pt x="19439" y="993"/>
                </a:lnTo>
                <a:lnTo>
                  <a:pt x="18275" y="7129"/>
                </a:lnTo>
                <a:lnTo>
                  <a:pt x="18003" y="12430"/>
                </a:lnTo>
                <a:lnTo>
                  <a:pt x="15236" y="18092"/>
                </a:lnTo>
                <a:lnTo>
                  <a:pt x="11691" y="23916"/>
                </a:lnTo>
                <a:lnTo>
                  <a:pt x="9415" y="35740"/>
                </a:lnTo>
                <a:lnTo>
                  <a:pt x="8111" y="42673"/>
                </a:lnTo>
                <a:lnTo>
                  <a:pt x="1836" y="63294"/>
                </a:lnTo>
                <a:lnTo>
                  <a:pt x="0" y="104027"/>
                </a:lnTo>
                <a:lnTo>
                  <a:pt x="940" y="118907"/>
                </a:lnTo>
                <a:lnTo>
                  <a:pt x="6997" y="135973"/>
                </a:lnTo>
                <a:lnTo>
                  <a:pt x="9022" y="145761"/>
                </a:lnTo>
                <a:lnTo>
                  <a:pt x="14747" y="157841"/>
                </a:lnTo>
                <a:lnTo>
                  <a:pt x="17876" y="172556"/>
                </a:lnTo>
                <a:lnTo>
                  <a:pt x="31945" y="200337"/>
                </a:lnTo>
                <a:lnTo>
                  <a:pt x="42495" y="241155"/>
                </a:lnTo>
                <a:lnTo>
                  <a:pt x="51459" y="283894"/>
                </a:lnTo>
                <a:lnTo>
                  <a:pt x="54226" y="322401"/>
                </a:lnTo>
                <a:lnTo>
                  <a:pt x="61156" y="361500"/>
                </a:lnTo>
                <a:lnTo>
                  <a:pt x="62265" y="399759"/>
                </a:lnTo>
                <a:lnTo>
                  <a:pt x="65064" y="440019"/>
                </a:lnTo>
                <a:lnTo>
                  <a:pt x="70118" y="469020"/>
                </a:lnTo>
                <a:lnTo>
                  <a:pt x="68164" y="478990"/>
                </a:lnTo>
                <a:lnTo>
                  <a:pt x="64131" y="490181"/>
                </a:lnTo>
                <a:lnTo>
                  <a:pt x="62433" y="508991"/>
                </a:lnTo>
                <a:lnTo>
                  <a:pt x="55366" y="492211"/>
                </a:lnTo>
                <a:lnTo>
                  <a:pt x="53503" y="48220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SMARTInkShape-188"/>
          <p:cNvSpPr/>
          <p:nvPr/>
        </p:nvSpPr>
        <p:spPr>
          <a:xfrm>
            <a:off x="4002120" y="3990960"/>
            <a:ext cx="2417760" cy="126828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1268280"/>
              <a:gd name="textAreaBottom" fmla="*/ 1268640 h 1268280"/>
            </a:gdLst>
            <a:ahLst/>
            <a:rect l="textAreaLeft" t="textAreaTop" r="textAreaRight" b="textAreaBottom"/>
            <a:pathLst>
              <a:path w="2418685" h="1268007">
                <a:moveTo>
                  <a:pt x="123773" y="178584"/>
                </a:moveTo>
                <a:lnTo>
                  <a:pt x="123773" y="178584"/>
                </a:lnTo>
                <a:lnTo>
                  <a:pt x="143891" y="178584"/>
                </a:lnTo>
                <a:lnTo>
                  <a:pt x="162510" y="183728"/>
                </a:lnTo>
                <a:lnTo>
                  <a:pt x="174497" y="181542"/>
                </a:lnTo>
                <a:lnTo>
                  <a:pt x="215537" y="187384"/>
                </a:lnTo>
                <a:lnTo>
                  <a:pt x="234307" y="190121"/>
                </a:lnTo>
                <a:lnTo>
                  <a:pt x="275091" y="195888"/>
                </a:lnTo>
                <a:lnTo>
                  <a:pt x="295939" y="198925"/>
                </a:lnTo>
                <a:lnTo>
                  <a:pt x="337423" y="204524"/>
                </a:lnTo>
                <a:lnTo>
                  <a:pt x="375089" y="205261"/>
                </a:lnTo>
                <a:lnTo>
                  <a:pt x="418622" y="198291"/>
                </a:lnTo>
                <a:lnTo>
                  <a:pt x="458945" y="196808"/>
                </a:lnTo>
                <a:lnTo>
                  <a:pt x="498991" y="190378"/>
                </a:lnTo>
                <a:lnTo>
                  <a:pt x="532495" y="188363"/>
                </a:lnTo>
                <a:lnTo>
                  <a:pt x="567557" y="187765"/>
                </a:lnTo>
                <a:lnTo>
                  <a:pt x="603082" y="187588"/>
                </a:lnTo>
                <a:lnTo>
                  <a:pt x="638743" y="187536"/>
                </a:lnTo>
                <a:lnTo>
                  <a:pt x="673452" y="187520"/>
                </a:lnTo>
                <a:lnTo>
                  <a:pt x="714996" y="187515"/>
                </a:lnTo>
                <a:lnTo>
                  <a:pt x="752050" y="187514"/>
                </a:lnTo>
                <a:lnTo>
                  <a:pt x="791801" y="187513"/>
                </a:lnTo>
                <a:lnTo>
                  <a:pt x="828715" y="187513"/>
                </a:lnTo>
                <a:lnTo>
                  <a:pt x="864788" y="187513"/>
                </a:lnTo>
                <a:lnTo>
                  <a:pt x="900612" y="187513"/>
                </a:lnTo>
                <a:lnTo>
                  <a:pt x="939008" y="187513"/>
                </a:lnTo>
                <a:lnTo>
                  <a:pt x="979157" y="187513"/>
                </a:lnTo>
                <a:lnTo>
                  <a:pt x="1018835" y="184868"/>
                </a:lnTo>
                <a:lnTo>
                  <a:pt x="1062011" y="180446"/>
                </a:lnTo>
                <a:lnTo>
                  <a:pt x="1106222" y="179136"/>
                </a:lnTo>
                <a:lnTo>
                  <a:pt x="1150742" y="176102"/>
                </a:lnTo>
                <a:lnTo>
                  <a:pt x="1192706" y="171564"/>
                </a:lnTo>
                <a:lnTo>
                  <a:pt x="1232921" y="170220"/>
                </a:lnTo>
                <a:lnTo>
                  <a:pt x="1276256" y="169822"/>
                </a:lnTo>
                <a:lnTo>
                  <a:pt x="1320515" y="169704"/>
                </a:lnTo>
                <a:lnTo>
                  <a:pt x="1362402" y="169669"/>
                </a:lnTo>
                <a:lnTo>
                  <a:pt x="1402595" y="169659"/>
                </a:lnTo>
                <a:lnTo>
                  <a:pt x="1445924" y="169655"/>
                </a:lnTo>
                <a:lnTo>
                  <a:pt x="1487534" y="169655"/>
                </a:lnTo>
                <a:lnTo>
                  <a:pt x="1527645" y="169654"/>
                </a:lnTo>
                <a:lnTo>
                  <a:pt x="1568303" y="169654"/>
                </a:lnTo>
                <a:lnTo>
                  <a:pt x="1605485" y="167008"/>
                </a:lnTo>
                <a:lnTo>
                  <a:pt x="1644284" y="162587"/>
                </a:lnTo>
                <a:lnTo>
                  <a:pt x="1687199" y="161276"/>
                </a:lnTo>
                <a:lnTo>
                  <a:pt x="1728687" y="158242"/>
                </a:lnTo>
                <a:lnTo>
                  <a:pt x="1768762" y="153705"/>
                </a:lnTo>
                <a:lnTo>
                  <a:pt x="1809409" y="149715"/>
                </a:lnTo>
                <a:lnTo>
                  <a:pt x="1846588" y="144895"/>
                </a:lnTo>
                <a:lnTo>
                  <a:pt x="1882740" y="143466"/>
                </a:lnTo>
                <a:lnTo>
                  <a:pt x="1918587" y="140397"/>
                </a:lnTo>
                <a:lnTo>
                  <a:pt x="1961514" y="135212"/>
                </a:lnTo>
                <a:lnTo>
                  <a:pt x="2004794" y="134188"/>
                </a:lnTo>
                <a:lnTo>
                  <a:pt x="2045681" y="133985"/>
                </a:lnTo>
                <a:lnTo>
                  <a:pt x="2086941" y="133945"/>
                </a:lnTo>
                <a:lnTo>
                  <a:pt x="2123753" y="133937"/>
                </a:lnTo>
                <a:lnTo>
                  <a:pt x="2163896" y="133936"/>
                </a:lnTo>
                <a:lnTo>
                  <a:pt x="2204938" y="133935"/>
                </a:lnTo>
                <a:lnTo>
                  <a:pt x="2248119" y="133935"/>
                </a:lnTo>
                <a:lnTo>
                  <a:pt x="2287392" y="133935"/>
                </a:lnTo>
                <a:lnTo>
                  <a:pt x="2329387" y="133935"/>
                </a:lnTo>
                <a:lnTo>
                  <a:pt x="2348475" y="133935"/>
                </a:lnTo>
                <a:lnTo>
                  <a:pt x="2355410" y="136581"/>
                </a:lnTo>
                <a:lnTo>
                  <a:pt x="2361800" y="140072"/>
                </a:lnTo>
                <a:lnTo>
                  <a:pt x="2370975" y="143030"/>
                </a:lnTo>
                <a:lnTo>
                  <a:pt x="2379977" y="148756"/>
                </a:lnTo>
                <a:lnTo>
                  <a:pt x="2385947" y="150444"/>
                </a:lnTo>
                <a:lnTo>
                  <a:pt x="2387936" y="151887"/>
                </a:lnTo>
                <a:lnTo>
                  <a:pt x="2389262" y="153841"/>
                </a:lnTo>
                <a:lnTo>
                  <a:pt x="2391728" y="158657"/>
                </a:lnTo>
                <a:lnTo>
                  <a:pt x="2397701" y="166947"/>
                </a:lnTo>
                <a:lnTo>
                  <a:pt x="2399913" y="175687"/>
                </a:lnTo>
                <a:lnTo>
                  <a:pt x="2400430" y="181596"/>
                </a:lnTo>
                <a:lnTo>
                  <a:pt x="2401560" y="183568"/>
                </a:lnTo>
                <a:lnTo>
                  <a:pt x="2403305" y="184883"/>
                </a:lnTo>
                <a:lnTo>
                  <a:pt x="2405462" y="185760"/>
                </a:lnTo>
                <a:lnTo>
                  <a:pt x="2406898" y="188329"/>
                </a:lnTo>
                <a:lnTo>
                  <a:pt x="2409394" y="207477"/>
                </a:lnTo>
                <a:lnTo>
                  <a:pt x="2406959" y="213914"/>
                </a:lnTo>
                <a:lnTo>
                  <a:pt x="2403562" y="220083"/>
                </a:lnTo>
                <a:lnTo>
                  <a:pt x="2401649" y="230127"/>
                </a:lnTo>
                <a:lnTo>
                  <a:pt x="2398244" y="268110"/>
                </a:lnTo>
                <a:lnTo>
                  <a:pt x="2393790" y="285808"/>
                </a:lnTo>
                <a:lnTo>
                  <a:pt x="2389823" y="303619"/>
                </a:lnTo>
                <a:lnTo>
                  <a:pt x="2376516" y="341966"/>
                </a:lnTo>
                <a:lnTo>
                  <a:pt x="2372138" y="364246"/>
                </a:lnTo>
                <a:lnTo>
                  <a:pt x="2359912" y="402757"/>
                </a:lnTo>
                <a:lnTo>
                  <a:pt x="2351943" y="446597"/>
                </a:lnTo>
                <a:lnTo>
                  <a:pt x="2345236" y="491139"/>
                </a:lnTo>
                <a:lnTo>
                  <a:pt x="2333108" y="535773"/>
                </a:lnTo>
                <a:lnTo>
                  <a:pt x="2325154" y="580420"/>
                </a:lnTo>
                <a:lnTo>
                  <a:pt x="2321092" y="625068"/>
                </a:lnTo>
                <a:lnTo>
                  <a:pt x="2318013" y="649212"/>
                </a:lnTo>
                <a:lnTo>
                  <a:pt x="2313463" y="671579"/>
                </a:lnTo>
                <a:lnTo>
                  <a:pt x="2311799" y="713618"/>
                </a:lnTo>
                <a:lnTo>
                  <a:pt x="2310578" y="753726"/>
                </a:lnTo>
                <a:lnTo>
                  <a:pt x="2303170" y="796024"/>
                </a:lnTo>
                <a:lnTo>
                  <a:pt x="2301647" y="836271"/>
                </a:lnTo>
                <a:lnTo>
                  <a:pt x="2294517" y="862267"/>
                </a:lnTo>
                <a:lnTo>
                  <a:pt x="2293720" y="882229"/>
                </a:lnTo>
                <a:lnTo>
                  <a:pt x="2292717" y="882829"/>
                </a:lnTo>
                <a:lnTo>
                  <a:pt x="2284767" y="884028"/>
                </a:lnTo>
                <a:lnTo>
                  <a:pt x="2243076" y="884029"/>
                </a:lnTo>
                <a:lnTo>
                  <a:pt x="2237129" y="884029"/>
                </a:lnTo>
                <a:lnTo>
                  <a:pt x="2231178" y="881383"/>
                </a:lnTo>
                <a:lnTo>
                  <a:pt x="2225226" y="877893"/>
                </a:lnTo>
                <a:lnTo>
                  <a:pt x="2184437" y="864124"/>
                </a:lnTo>
                <a:lnTo>
                  <a:pt x="2173695" y="860299"/>
                </a:lnTo>
                <a:lnTo>
                  <a:pt x="2131704" y="849671"/>
                </a:lnTo>
                <a:lnTo>
                  <a:pt x="2092152" y="840742"/>
                </a:lnTo>
                <a:lnTo>
                  <a:pt x="2050898" y="834760"/>
                </a:lnTo>
                <a:lnTo>
                  <a:pt x="2010361" y="831018"/>
                </a:lnTo>
                <a:lnTo>
                  <a:pt x="1988151" y="827973"/>
                </a:lnTo>
                <a:lnTo>
                  <a:pt x="1945176" y="822371"/>
                </a:lnTo>
                <a:lnTo>
                  <a:pt x="1900747" y="821633"/>
                </a:lnTo>
                <a:lnTo>
                  <a:pt x="1856128" y="821537"/>
                </a:lnTo>
                <a:lnTo>
                  <a:pt x="1815672" y="816784"/>
                </a:lnTo>
                <a:lnTo>
                  <a:pt x="1775600" y="813419"/>
                </a:lnTo>
                <a:lnTo>
                  <a:pt x="1733142" y="812755"/>
                </a:lnTo>
                <a:lnTo>
                  <a:pt x="1691058" y="812624"/>
                </a:lnTo>
                <a:lnTo>
                  <a:pt x="1650665" y="806461"/>
                </a:lnTo>
                <a:lnTo>
                  <a:pt x="1617100" y="804492"/>
                </a:lnTo>
                <a:lnTo>
                  <a:pt x="1582020" y="803907"/>
                </a:lnTo>
                <a:lnTo>
                  <a:pt x="1547483" y="803735"/>
                </a:lnTo>
                <a:lnTo>
                  <a:pt x="1505997" y="801031"/>
                </a:lnTo>
                <a:lnTo>
                  <a:pt x="1471600" y="796599"/>
                </a:lnTo>
                <a:lnTo>
                  <a:pt x="1436272" y="795285"/>
                </a:lnTo>
                <a:lnTo>
                  <a:pt x="1400669" y="794896"/>
                </a:lnTo>
                <a:lnTo>
                  <a:pt x="1357824" y="790024"/>
                </a:lnTo>
                <a:lnTo>
                  <a:pt x="1313569" y="786636"/>
                </a:lnTo>
                <a:lnTo>
                  <a:pt x="1278434" y="786050"/>
                </a:lnTo>
                <a:lnTo>
                  <a:pt x="1242888" y="785876"/>
                </a:lnTo>
                <a:lnTo>
                  <a:pt x="1207221" y="785825"/>
                </a:lnTo>
                <a:lnTo>
                  <a:pt x="1172509" y="784816"/>
                </a:lnTo>
                <a:lnTo>
                  <a:pt x="1130964" y="778737"/>
                </a:lnTo>
                <a:lnTo>
                  <a:pt x="1096557" y="777425"/>
                </a:lnTo>
                <a:lnTo>
                  <a:pt x="1061227" y="777036"/>
                </a:lnTo>
                <a:lnTo>
                  <a:pt x="1025624" y="776921"/>
                </a:lnTo>
                <a:lnTo>
                  <a:pt x="989938" y="776887"/>
                </a:lnTo>
                <a:lnTo>
                  <a:pt x="954230" y="776877"/>
                </a:lnTo>
                <a:lnTo>
                  <a:pt x="918515" y="776874"/>
                </a:lnTo>
                <a:lnTo>
                  <a:pt x="875630" y="776874"/>
                </a:lnTo>
                <a:lnTo>
                  <a:pt x="832360" y="776873"/>
                </a:lnTo>
                <a:lnTo>
                  <a:pt x="791474" y="776873"/>
                </a:lnTo>
                <a:lnTo>
                  <a:pt x="750216" y="776873"/>
                </a:lnTo>
                <a:lnTo>
                  <a:pt x="706273" y="776873"/>
                </a:lnTo>
                <a:lnTo>
                  <a:pt x="662021" y="779518"/>
                </a:lnTo>
                <a:lnTo>
                  <a:pt x="624323" y="784561"/>
                </a:lnTo>
                <a:lnTo>
                  <a:pt x="582076" y="785557"/>
                </a:lnTo>
                <a:lnTo>
                  <a:pt x="544039" y="785754"/>
                </a:lnTo>
                <a:lnTo>
                  <a:pt x="503122" y="785792"/>
                </a:lnTo>
                <a:lnTo>
                  <a:pt x="464944" y="785801"/>
                </a:lnTo>
                <a:lnTo>
                  <a:pt x="426253" y="785802"/>
                </a:lnTo>
                <a:lnTo>
                  <a:pt x="389653" y="788448"/>
                </a:lnTo>
                <a:lnTo>
                  <a:pt x="352887" y="793904"/>
                </a:lnTo>
                <a:lnTo>
                  <a:pt x="310894" y="794623"/>
                </a:lnTo>
                <a:lnTo>
                  <a:pt x="270113" y="794722"/>
                </a:lnTo>
                <a:lnTo>
                  <a:pt x="228974" y="794731"/>
                </a:lnTo>
                <a:lnTo>
                  <a:pt x="210620" y="794732"/>
                </a:lnTo>
                <a:lnTo>
                  <a:pt x="167068" y="803294"/>
                </a:lnTo>
                <a:lnTo>
                  <a:pt x="156997" y="803553"/>
                </a:lnTo>
                <a:lnTo>
                  <a:pt x="150776" y="800968"/>
                </a:lnTo>
                <a:lnTo>
                  <a:pt x="144704" y="797504"/>
                </a:lnTo>
                <a:lnTo>
                  <a:pt x="132722" y="795280"/>
                </a:lnTo>
                <a:lnTo>
                  <a:pt x="88175" y="794732"/>
                </a:lnTo>
                <a:lnTo>
                  <a:pt x="79126" y="785803"/>
                </a:lnTo>
                <a:lnTo>
                  <a:pt x="79125" y="742247"/>
                </a:lnTo>
                <a:lnTo>
                  <a:pt x="79125" y="697750"/>
                </a:lnTo>
                <a:lnTo>
                  <a:pt x="76479" y="689452"/>
                </a:lnTo>
                <a:lnTo>
                  <a:pt x="72989" y="682457"/>
                </a:lnTo>
                <a:lnTo>
                  <a:pt x="70747" y="667235"/>
                </a:lnTo>
                <a:lnTo>
                  <a:pt x="69449" y="657700"/>
                </a:lnTo>
                <a:lnTo>
                  <a:pt x="63176" y="640848"/>
                </a:lnTo>
                <a:lnTo>
                  <a:pt x="61377" y="601134"/>
                </a:lnTo>
                <a:lnTo>
                  <a:pt x="53170" y="559577"/>
                </a:lnTo>
                <a:lnTo>
                  <a:pt x="52385" y="517911"/>
                </a:lnTo>
                <a:lnTo>
                  <a:pt x="53334" y="482009"/>
                </a:lnTo>
                <a:lnTo>
                  <a:pt x="61431" y="442751"/>
                </a:lnTo>
                <a:lnTo>
                  <a:pt x="70287" y="398707"/>
                </a:lnTo>
                <a:lnTo>
                  <a:pt x="79211" y="355103"/>
                </a:lnTo>
                <a:lnTo>
                  <a:pt x="91434" y="324554"/>
                </a:lnTo>
                <a:lnTo>
                  <a:pt x="116614" y="283987"/>
                </a:lnTo>
                <a:lnTo>
                  <a:pt x="124344" y="257796"/>
                </a:lnTo>
                <a:lnTo>
                  <a:pt x="153271" y="216944"/>
                </a:lnTo>
                <a:lnTo>
                  <a:pt x="164399" y="199537"/>
                </a:lnTo>
                <a:lnTo>
                  <a:pt x="166634" y="189219"/>
                </a:lnTo>
                <a:lnTo>
                  <a:pt x="169215" y="184682"/>
                </a:lnTo>
                <a:lnTo>
                  <a:pt x="188382" y="167089"/>
                </a:lnTo>
                <a:lnTo>
                  <a:pt x="194821" y="163553"/>
                </a:lnTo>
                <a:lnTo>
                  <a:pt x="200991" y="160989"/>
                </a:lnTo>
                <a:lnTo>
                  <a:pt x="219846" y="145935"/>
                </a:lnTo>
                <a:lnTo>
                  <a:pt x="225343" y="144230"/>
                </a:lnTo>
                <a:lnTo>
                  <a:pt x="243092" y="142142"/>
                </a:lnTo>
                <a:lnTo>
                  <a:pt x="254928" y="136808"/>
                </a:lnTo>
                <a:lnTo>
                  <a:pt x="297323" y="134010"/>
                </a:lnTo>
                <a:lnTo>
                  <a:pt x="338139" y="133940"/>
                </a:lnTo>
                <a:lnTo>
                  <a:pt x="379760" y="133936"/>
                </a:lnTo>
                <a:lnTo>
                  <a:pt x="419237" y="141003"/>
                </a:lnTo>
                <a:lnTo>
                  <a:pt x="457068" y="142620"/>
                </a:lnTo>
                <a:lnTo>
                  <a:pt x="490462" y="145462"/>
                </a:lnTo>
                <a:lnTo>
                  <a:pt x="534614" y="150961"/>
                </a:lnTo>
                <a:lnTo>
                  <a:pt x="572919" y="151630"/>
                </a:lnTo>
                <a:lnTo>
                  <a:pt x="613668" y="151762"/>
                </a:lnTo>
                <a:lnTo>
                  <a:pt x="657510" y="151788"/>
                </a:lnTo>
                <a:lnTo>
                  <a:pt x="692573" y="151793"/>
                </a:lnTo>
                <a:lnTo>
                  <a:pt x="727105" y="151794"/>
                </a:lnTo>
                <a:lnTo>
                  <a:pt x="768589" y="151795"/>
                </a:lnTo>
                <a:lnTo>
                  <a:pt x="805632" y="151795"/>
                </a:lnTo>
                <a:lnTo>
                  <a:pt x="845381" y="151795"/>
                </a:lnTo>
                <a:lnTo>
                  <a:pt x="884940" y="149149"/>
                </a:lnTo>
                <a:lnTo>
                  <a:pt x="925434" y="144728"/>
                </a:lnTo>
                <a:lnTo>
                  <a:pt x="962569" y="143417"/>
                </a:lnTo>
                <a:lnTo>
                  <a:pt x="1001351" y="140383"/>
                </a:lnTo>
                <a:lnTo>
                  <a:pt x="1044263" y="135846"/>
                </a:lnTo>
                <a:lnTo>
                  <a:pt x="1088397" y="134501"/>
                </a:lnTo>
                <a:lnTo>
                  <a:pt x="1132892" y="134103"/>
                </a:lnTo>
                <a:lnTo>
                  <a:pt x="1177495" y="131339"/>
                </a:lnTo>
                <a:lnTo>
                  <a:pt x="1222131" y="124237"/>
                </a:lnTo>
                <a:lnTo>
                  <a:pt x="1266775" y="118494"/>
                </a:lnTo>
                <a:lnTo>
                  <a:pt x="1311422" y="114147"/>
                </a:lnTo>
                <a:lnTo>
                  <a:pt x="1342179" y="110258"/>
                </a:lnTo>
                <a:lnTo>
                  <a:pt x="1375693" y="108529"/>
                </a:lnTo>
                <a:lnTo>
                  <a:pt x="1407786" y="107760"/>
                </a:lnTo>
                <a:lnTo>
                  <a:pt x="1451099" y="104682"/>
                </a:lnTo>
                <a:lnTo>
                  <a:pt x="1491714" y="100132"/>
                </a:lnTo>
                <a:lnTo>
                  <a:pt x="1535167" y="98785"/>
                </a:lnTo>
                <a:lnTo>
                  <a:pt x="1576816" y="98385"/>
                </a:lnTo>
                <a:lnTo>
                  <a:pt x="1616938" y="98266"/>
                </a:lnTo>
                <a:lnTo>
                  <a:pt x="1660244" y="98232"/>
                </a:lnTo>
                <a:lnTo>
                  <a:pt x="1701850" y="98221"/>
                </a:lnTo>
                <a:lnTo>
                  <a:pt x="1739312" y="98218"/>
                </a:lnTo>
                <a:lnTo>
                  <a:pt x="1778194" y="98217"/>
                </a:lnTo>
                <a:lnTo>
                  <a:pt x="1818488" y="98216"/>
                </a:lnTo>
                <a:lnTo>
                  <a:pt x="1855562" y="98216"/>
                </a:lnTo>
                <a:lnTo>
                  <a:pt x="1891683" y="98216"/>
                </a:lnTo>
                <a:lnTo>
                  <a:pt x="1934703" y="98216"/>
                </a:lnTo>
                <a:lnTo>
                  <a:pt x="1978000" y="98216"/>
                </a:lnTo>
                <a:lnTo>
                  <a:pt x="2018891" y="98216"/>
                </a:lnTo>
                <a:lnTo>
                  <a:pt x="2060152" y="102957"/>
                </a:lnTo>
                <a:lnTo>
                  <a:pt x="2096964" y="106319"/>
                </a:lnTo>
                <a:lnTo>
                  <a:pt x="2132899" y="109629"/>
                </a:lnTo>
                <a:lnTo>
                  <a:pt x="2171458" y="116219"/>
                </a:lnTo>
                <a:lnTo>
                  <a:pt x="2215365" y="125096"/>
                </a:lnTo>
                <a:lnTo>
                  <a:pt x="2259145" y="141221"/>
                </a:lnTo>
                <a:lnTo>
                  <a:pt x="2278632" y="149669"/>
                </a:lnTo>
                <a:lnTo>
                  <a:pt x="2314487" y="181570"/>
                </a:lnTo>
                <a:lnTo>
                  <a:pt x="2317815" y="187518"/>
                </a:lnTo>
                <a:lnTo>
                  <a:pt x="2320285" y="193468"/>
                </a:lnTo>
                <a:lnTo>
                  <a:pt x="2326262" y="202397"/>
                </a:lnTo>
                <a:lnTo>
                  <a:pt x="2336972" y="233897"/>
                </a:lnTo>
                <a:lnTo>
                  <a:pt x="2336434" y="237287"/>
                </a:lnTo>
                <a:lnTo>
                  <a:pt x="2331089" y="252504"/>
                </a:lnTo>
                <a:lnTo>
                  <a:pt x="2329504" y="291839"/>
                </a:lnTo>
                <a:lnTo>
                  <a:pt x="2322296" y="315534"/>
                </a:lnTo>
                <a:lnTo>
                  <a:pt x="2315173" y="334366"/>
                </a:lnTo>
                <a:lnTo>
                  <a:pt x="2304735" y="377187"/>
                </a:lnTo>
                <a:lnTo>
                  <a:pt x="2287659" y="419797"/>
                </a:lnTo>
                <a:lnTo>
                  <a:pt x="2269868" y="459122"/>
                </a:lnTo>
                <a:lnTo>
                  <a:pt x="2260613" y="489212"/>
                </a:lnTo>
                <a:lnTo>
                  <a:pt x="2251188" y="526774"/>
                </a:lnTo>
                <a:lnTo>
                  <a:pt x="2242592" y="555675"/>
                </a:lnTo>
                <a:lnTo>
                  <a:pt x="2238199" y="578380"/>
                </a:lnTo>
                <a:lnTo>
                  <a:pt x="2233259" y="597675"/>
                </a:lnTo>
                <a:lnTo>
                  <a:pt x="2229150" y="615959"/>
                </a:lnTo>
                <a:lnTo>
                  <a:pt x="2224293" y="633944"/>
                </a:lnTo>
                <a:lnTo>
                  <a:pt x="2222370" y="675667"/>
                </a:lnTo>
                <a:lnTo>
                  <a:pt x="2222258" y="719306"/>
                </a:lnTo>
                <a:lnTo>
                  <a:pt x="2222250" y="759128"/>
                </a:lnTo>
                <a:lnTo>
                  <a:pt x="2223242" y="797548"/>
                </a:lnTo>
                <a:lnTo>
                  <a:pt x="2226990" y="805245"/>
                </a:lnTo>
                <a:lnTo>
                  <a:pt x="2227394" y="808686"/>
                </a:lnTo>
                <a:lnTo>
                  <a:pt x="2222256" y="852527"/>
                </a:lnTo>
                <a:lnTo>
                  <a:pt x="2222252" y="855843"/>
                </a:lnTo>
                <a:lnTo>
                  <a:pt x="2221260" y="856309"/>
                </a:lnTo>
                <a:lnTo>
                  <a:pt x="2177551" y="857240"/>
                </a:lnTo>
                <a:lnTo>
                  <a:pt x="2156575" y="856248"/>
                </a:lnTo>
                <a:lnTo>
                  <a:pt x="2139787" y="850173"/>
                </a:lnTo>
                <a:lnTo>
                  <a:pt x="2123402" y="846216"/>
                </a:lnTo>
                <a:lnTo>
                  <a:pt x="2105980" y="841406"/>
                </a:lnTo>
                <a:lnTo>
                  <a:pt x="2070237" y="832518"/>
                </a:lnTo>
                <a:lnTo>
                  <a:pt x="2041556" y="823987"/>
                </a:lnTo>
                <a:lnTo>
                  <a:pt x="1998731" y="814717"/>
                </a:lnTo>
                <a:lnTo>
                  <a:pt x="1954324" y="800574"/>
                </a:lnTo>
                <a:lnTo>
                  <a:pt x="1909706" y="785787"/>
                </a:lnTo>
                <a:lnTo>
                  <a:pt x="1880275" y="779514"/>
                </a:lnTo>
                <a:lnTo>
                  <a:pt x="1839514" y="772654"/>
                </a:lnTo>
                <a:lnTo>
                  <a:pt x="1802371" y="764598"/>
                </a:lnTo>
                <a:lnTo>
                  <a:pt x="1764687" y="755928"/>
                </a:lnTo>
                <a:lnTo>
                  <a:pt x="1728386" y="751815"/>
                </a:lnTo>
                <a:lnTo>
                  <a:pt x="1692495" y="745857"/>
                </a:lnTo>
                <a:lnTo>
                  <a:pt x="1656724" y="742548"/>
                </a:lnTo>
                <a:lnTo>
                  <a:pt x="1620991" y="736827"/>
                </a:lnTo>
                <a:lnTo>
                  <a:pt x="1580527" y="728848"/>
                </a:lnTo>
                <a:lnTo>
                  <a:pt x="1541859" y="724940"/>
                </a:lnTo>
                <a:lnTo>
                  <a:pt x="1500526" y="723782"/>
                </a:lnTo>
                <a:lnTo>
                  <a:pt x="1461600" y="723439"/>
                </a:lnTo>
                <a:lnTo>
                  <a:pt x="1420191" y="718597"/>
                </a:lnTo>
                <a:lnTo>
                  <a:pt x="1376502" y="720360"/>
                </a:lnTo>
                <a:lnTo>
                  <a:pt x="1344315" y="721990"/>
                </a:lnTo>
                <a:lnTo>
                  <a:pt x="1311158" y="722715"/>
                </a:lnTo>
                <a:lnTo>
                  <a:pt x="1279885" y="723036"/>
                </a:lnTo>
                <a:lnTo>
                  <a:pt x="1249449" y="723180"/>
                </a:lnTo>
                <a:lnTo>
                  <a:pt x="1219387" y="723244"/>
                </a:lnTo>
                <a:lnTo>
                  <a:pt x="1189489" y="723272"/>
                </a:lnTo>
                <a:lnTo>
                  <a:pt x="1159664" y="723285"/>
                </a:lnTo>
                <a:lnTo>
                  <a:pt x="1129872" y="723290"/>
                </a:lnTo>
                <a:lnTo>
                  <a:pt x="1100095" y="723293"/>
                </a:lnTo>
                <a:lnTo>
                  <a:pt x="1067678" y="723293"/>
                </a:lnTo>
                <a:lnTo>
                  <a:pt x="1034420" y="723294"/>
                </a:lnTo>
                <a:lnTo>
                  <a:pt x="1003101" y="723294"/>
                </a:lnTo>
                <a:lnTo>
                  <a:pt x="972646" y="725940"/>
                </a:lnTo>
                <a:lnTo>
                  <a:pt x="942574" y="729431"/>
                </a:lnTo>
                <a:lnTo>
                  <a:pt x="912672" y="730983"/>
                </a:lnTo>
                <a:lnTo>
                  <a:pt x="882845" y="731673"/>
                </a:lnTo>
                <a:lnTo>
                  <a:pt x="853053" y="731979"/>
                </a:lnTo>
                <a:lnTo>
                  <a:pt x="823275" y="732115"/>
                </a:lnTo>
                <a:lnTo>
                  <a:pt x="793504" y="734821"/>
                </a:lnTo>
                <a:lnTo>
                  <a:pt x="763736" y="738339"/>
                </a:lnTo>
                <a:lnTo>
                  <a:pt x="733969" y="739903"/>
                </a:lnTo>
                <a:lnTo>
                  <a:pt x="704203" y="743244"/>
                </a:lnTo>
                <a:lnTo>
                  <a:pt x="673445" y="748036"/>
                </a:lnTo>
                <a:lnTo>
                  <a:pt x="639932" y="753473"/>
                </a:lnTo>
                <a:lnTo>
                  <a:pt x="597075" y="762112"/>
                </a:lnTo>
                <a:lnTo>
                  <a:pt x="554502" y="770956"/>
                </a:lnTo>
                <a:lnTo>
                  <a:pt x="515208" y="779860"/>
                </a:lnTo>
                <a:lnTo>
                  <a:pt x="473690" y="784042"/>
                </a:lnTo>
                <a:lnTo>
                  <a:pt x="434709" y="790021"/>
                </a:lnTo>
                <a:lnTo>
                  <a:pt x="393111" y="793802"/>
                </a:lnTo>
                <a:lnTo>
                  <a:pt x="353585" y="794548"/>
                </a:lnTo>
                <a:lnTo>
                  <a:pt x="312595" y="799436"/>
                </a:lnTo>
                <a:lnTo>
                  <a:pt x="275834" y="802828"/>
                </a:lnTo>
                <a:lnTo>
                  <a:pt x="239910" y="803497"/>
                </a:lnTo>
                <a:lnTo>
                  <a:pt x="196210" y="804633"/>
                </a:lnTo>
                <a:lnTo>
                  <a:pt x="156865" y="811762"/>
                </a:lnTo>
                <a:lnTo>
                  <a:pt x="114864" y="812543"/>
                </a:lnTo>
                <a:lnTo>
                  <a:pt x="70980" y="812590"/>
                </a:lnTo>
                <a:lnTo>
                  <a:pt x="27424" y="812591"/>
                </a:lnTo>
                <a:lnTo>
                  <a:pt x="7807" y="812591"/>
                </a:lnTo>
                <a:lnTo>
                  <a:pt x="7699" y="804904"/>
                </a:lnTo>
                <a:lnTo>
                  <a:pt x="6702" y="804490"/>
                </a:lnTo>
                <a:lnTo>
                  <a:pt x="2950" y="804030"/>
                </a:lnTo>
                <a:lnTo>
                  <a:pt x="1553" y="802915"/>
                </a:lnTo>
                <a:lnTo>
                  <a:pt x="0" y="799030"/>
                </a:lnTo>
                <a:lnTo>
                  <a:pt x="578" y="796606"/>
                </a:lnTo>
                <a:lnTo>
                  <a:pt x="6555" y="787421"/>
                </a:lnTo>
                <a:lnTo>
                  <a:pt x="7588" y="773516"/>
                </a:lnTo>
                <a:lnTo>
                  <a:pt x="8660" y="755778"/>
                </a:lnTo>
                <a:lnTo>
                  <a:pt x="14751" y="739046"/>
                </a:lnTo>
                <a:lnTo>
                  <a:pt x="18710" y="722670"/>
                </a:lnTo>
                <a:lnTo>
                  <a:pt x="23522" y="705250"/>
                </a:lnTo>
                <a:lnTo>
                  <a:pt x="32437" y="662632"/>
                </a:lnTo>
                <a:lnTo>
                  <a:pt x="36944" y="618163"/>
                </a:lnTo>
                <a:lnTo>
                  <a:pt x="41491" y="596233"/>
                </a:lnTo>
                <a:lnTo>
                  <a:pt x="44146" y="554353"/>
                </a:lnTo>
                <a:lnTo>
                  <a:pt x="51061" y="516635"/>
                </a:lnTo>
                <a:lnTo>
                  <a:pt x="54814" y="475741"/>
                </a:lnTo>
                <a:lnTo>
                  <a:pt x="59354" y="453492"/>
                </a:lnTo>
                <a:lnTo>
                  <a:pt x="67151" y="410504"/>
                </a:lnTo>
                <a:lnTo>
                  <a:pt x="74534" y="366074"/>
                </a:lnTo>
                <a:lnTo>
                  <a:pt x="78521" y="328522"/>
                </a:lnTo>
                <a:lnTo>
                  <a:pt x="85183" y="286487"/>
                </a:lnTo>
                <a:lnTo>
                  <a:pt x="93939" y="247372"/>
                </a:lnTo>
                <a:lnTo>
                  <a:pt x="99452" y="205392"/>
                </a:lnTo>
                <a:lnTo>
                  <a:pt x="112791" y="166843"/>
                </a:lnTo>
                <a:lnTo>
                  <a:pt x="120079" y="154710"/>
                </a:lnTo>
                <a:lnTo>
                  <a:pt x="125690" y="135982"/>
                </a:lnTo>
                <a:lnTo>
                  <a:pt x="162479" y="95251"/>
                </a:lnTo>
                <a:lnTo>
                  <a:pt x="168426" y="91937"/>
                </a:lnTo>
                <a:lnTo>
                  <a:pt x="210841" y="79641"/>
                </a:lnTo>
                <a:lnTo>
                  <a:pt x="231665" y="73344"/>
                </a:lnTo>
                <a:lnTo>
                  <a:pt x="276148" y="71477"/>
                </a:lnTo>
                <a:lnTo>
                  <a:pt x="313993" y="71432"/>
                </a:lnTo>
                <a:lnTo>
                  <a:pt x="358044" y="71428"/>
                </a:lnTo>
                <a:lnTo>
                  <a:pt x="373746" y="72420"/>
                </a:lnTo>
                <a:lnTo>
                  <a:pt x="410887" y="79116"/>
                </a:lnTo>
                <a:lnTo>
                  <a:pt x="454352" y="80194"/>
                </a:lnTo>
                <a:lnTo>
                  <a:pt x="498844" y="80336"/>
                </a:lnTo>
                <a:lnTo>
                  <a:pt x="543472" y="80354"/>
                </a:lnTo>
                <a:lnTo>
                  <a:pt x="580180" y="80357"/>
                </a:lnTo>
                <a:lnTo>
                  <a:pt x="621974" y="80357"/>
                </a:lnTo>
                <a:lnTo>
                  <a:pt x="663927" y="80357"/>
                </a:lnTo>
                <a:lnTo>
                  <a:pt x="698664" y="80357"/>
                </a:lnTo>
                <a:lnTo>
                  <a:pt x="734091" y="80357"/>
                </a:lnTo>
                <a:lnTo>
                  <a:pt x="769724" y="80357"/>
                </a:lnTo>
                <a:lnTo>
                  <a:pt x="805416" y="80357"/>
                </a:lnTo>
                <a:lnTo>
                  <a:pt x="845869" y="75617"/>
                </a:lnTo>
                <a:lnTo>
                  <a:pt x="884533" y="72669"/>
                </a:lnTo>
                <a:lnTo>
                  <a:pt x="921125" y="71796"/>
                </a:lnTo>
                <a:lnTo>
                  <a:pt x="961842" y="66796"/>
                </a:lnTo>
                <a:lnTo>
                  <a:pt x="1000585" y="63771"/>
                </a:lnTo>
                <a:lnTo>
                  <a:pt x="1041941" y="62875"/>
                </a:lnTo>
                <a:lnTo>
                  <a:pt x="1080873" y="57869"/>
                </a:lnTo>
                <a:lnTo>
                  <a:pt x="1122285" y="54843"/>
                </a:lnTo>
                <a:lnTo>
                  <a:pt x="1165974" y="49206"/>
                </a:lnTo>
                <a:lnTo>
                  <a:pt x="1210338" y="45992"/>
                </a:lnTo>
                <a:lnTo>
                  <a:pt x="1254903" y="40299"/>
                </a:lnTo>
                <a:lnTo>
                  <a:pt x="1299526" y="37069"/>
                </a:lnTo>
                <a:lnTo>
                  <a:pt x="1344166" y="31371"/>
                </a:lnTo>
                <a:lnTo>
                  <a:pt x="1388813" y="28139"/>
                </a:lnTo>
                <a:lnTo>
                  <a:pt x="1433461" y="22442"/>
                </a:lnTo>
                <a:lnTo>
                  <a:pt x="1478110" y="19210"/>
                </a:lnTo>
                <a:lnTo>
                  <a:pt x="1522758" y="13512"/>
                </a:lnTo>
                <a:lnTo>
                  <a:pt x="1567406" y="10280"/>
                </a:lnTo>
                <a:lnTo>
                  <a:pt x="1612055" y="9323"/>
                </a:lnTo>
                <a:lnTo>
                  <a:pt x="1656703" y="9039"/>
                </a:lnTo>
                <a:lnTo>
                  <a:pt x="1701352" y="8955"/>
                </a:lnTo>
                <a:lnTo>
                  <a:pt x="1741260" y="8930"/>
                </a:lnTo>
                <a:lnTo>
                  <a:pt x="1782960" y="4183"/>
                </a:lnTo>
                <a:lnTo>
                  <a:pt x="1821994" y="1232"/>
                </a:lnTo>
                <a:lnTo>
                  <a:pt x="1863436" y="358"/>
                </a:lnTo>
                <a:lnTo>
                  <a:pt x="1902394" y="99"/>
                </a:lnTo>
                <a:lnTo>
                  <a:pt x="1939072" y="22"/>
                </a:lnTo>
                <a:lnTo>
                  <a:pt x="1975075" y="0"/>
                </a:lnTo>
                <a:lnTo>
                  <a:pt x="2010878" y="4733"/>
                </a:lnTo>
                <a:lnTo>
                  <a:pt x="2046622" y="7680"/>
                </a:lnTo>
                <a:lnTo>
                  <a:pt x="2088119" y="8675"/>
                </a:lnTo>
                <a:lnTo>
                  <a:pt x="2130858" y="11518"/>
                </a:lnTo>
                <a:lnTo>
                  <a:pt x="2168258" y="16599"/>
                </a:lnTo>
                <a:lnTo>
                  <a:pt x="2204309" y="23739"/>
                </a:lnTo>
                <a:lnTo>
                  <a:pt x="2240093" y="28824"/>
                </a:lnTo>
                <a:lnTo>
                  <a:pt x="2283972" y="37750"/>
                </a:lnTo>
                <a:lnTo>
                  <a:pt x="2326384" y="51924"/>
                </a:lnTo>
                <a:lnTo>
                  <a:pt x="2362144" y="65853"/>
                </a:lnTo>
                <a:lnTo>
                  <a:pt x="2384845" y="83053"/>
                </a:lnTo>
                <a:lnTo>
                  <a:pt x="2393733" y="92469"/>
                </a:lnTo>
                <a:lnTo>
                  <a:pt x="2414898" y="122949"/>
                </a:lnTo>
                <a:lnTo>
                  <a:pt x="2418201" y="149332"/>
                </a:lnTo>
                <a:lnTo>
                  <a:pt x="2418684" y="190731"/>
                </a:lnTo>
                <a:lnTo>
                  <a:pt x="2417702" y="205811"/>
                </a:lnTo>
                <a:lnTo>
                  <a:pt x="2404463" y="249982"/>
                </a:lnTo>
                <a:lnTo>
                  <a:pt x="2396579" y="291847"/>
                </a:lnTo>
                <a:lnTo>
                  <a:pt x="2384715" y="329831"/>
                </a:lnTo>
                <a:lnTo>
                  <a:pt x="2366937" y="365997"/>
                </a:lnTo>
                <a:lnTo>
                  <a:pt x="2360969" y="384910"/>
                </a:lnTo>
                <a:lnTo>
                  <a:pt x="2351846" y="429389"/>
                </a:lnTo>
                <a:lnTo>
                  <a:pt x="2339694" y="464563"/>
                </a:lnTo>
                <a:lnTo>
                  <a:pt x="2326698" y="507264"/>
                </a:lnTo>
                <a:lnTo>
                  <a:pt x="2314576" y="551490"/>
                </a:lnTo>
                <a:lnTo>
                  <a:pt x="2305609" y="586621"/>
                </a:lnTo>
                <a:lnTo>
                  <a:pt x="2296669" y="622165"/>
                </a:lnTo>
                <a:lnTo>
                  <a:pt x="2287736" y="656840"/>
                </a:lnTo>
                <a:lnTo>
                  <a:pt x="2275828" y="698372"/>
                </a:lnTo>
                <a:lnTo>
                  <a:pt x="2266898" y="732777"/>
                </a:lnTo>
                <a:lnTo>
                  <a:pt x="2260614" y="768107"/>
                </a:lnTo>
                <a:lnTo>
                  <a:pt x="2257160" y="790837"/>
                </a:lnTo>
                <a:lnTo>
                  <a:pt x="2244066" y="832327"/>
                </a:lnTo>
                <a:lnTo>
                  <a:pt x="2238636" y="866726"/>
                </a:lnTo>
                <a:lnTo>
                  <a:pt x="2230743" y="902053"/>
                </a:lnTo>
                <a:lnTo>
                  <a:pt x="2224767" y="937656"/>
                </a:lnTo>
                <a:lnTo>
                  <a:pt x="2222996" y="973341"/>
                </a:lnTo>
                <a:lnTo>
                  <a:pt x="2219826" y="1009049"/>
                </a:lnTo>
                <a:lnTo>
                  <a:pt x="2215248" y="1044764"/>
                </a:lnTo>
                <a:lnTo>
                  <a:pt x="2213891" y="1080483"/>
                </a:lnTo>
                <a:lnTo>
                  <a:pt x="2213433" y="1123367"/>
                </a:lnTo>
                <a:lnTo>
                  <a:pt x="2213343" y="1166638"/>
                </a:lnTo>
                <a:lnTo>
                  <a:pt x="2215971" y="1207523"/>
                </a:lnTo>
                <a:lnTo>
                  <a:pt x="2221010" y="1248782"/>
                </a:lnTo>
                <a:lnTo>
                  <a:pt x="2222250" y="126800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SMARTInkShape-189"/>
          <p:cNvSpPr/>
          <p:nvPr/>
        </p:nvSpPr>
        <p:spPr>
          <a:xfrm>
            <a:off x="1893960" y="5072040"/>
            <a:ext cx="2232000" cy="6080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232411" h="607198">
                <a:moveTo>
                  <a:pt x="2116335" y="116064"/>
                </a:moveTo>
                <a:lnTo>
                  <a:pt x="2116335" y="116064"/>
                </a:lnTo>
                <a:lnTo>
                  <a:pt x="2074591" y="101825"/>
                </a:lnTo>
                <a:lnTo>
                  <a:pt x="2059428" y="98286"/>
                </a:lnTo>
                <a:lnTo>
                  <a:pt x="2045416" y="91349"/>
                </a:lnTo>
                <a:lnTo>
                  <a:pt x="2001839" y="84570"/>
                </a:lnTo>
                <a:lnTo>
                  <a:pt x="1967386" y="80716"/>
                </a:lnTo>
                <a:lnTo>
                  <a:pt x="1943671" y="79426"/>
                </a:lnTo>
                <a:lnTo>
                  <a:pt x="1901837" y="72250"/>
                </a:lnTo>
                <a:lnTo>
                  <a:pt x="1857436" y="70497"/>
                </a:lnTo>
                <a:lnTo>
                  <a:pt x="1820291" y="63737"/>
                </a:lnTo>
                <a:lnTo>
                  <a:pt x="1776828" y="60005"/>
                </a:lnTo>
                <a:lnTo>
                  <a:pt x="1732335" y="54405"/>
                </a:lnTo>
                <a:lnTo>
                  <a:pt x="1687708" y="48928"/>
                </a:lnTo>
                <a:lnTo>
                  <a:pt x="1650999" y="45475"/>
                </a:lnTo>
                <a:lnTo>
                  <a:pt x="1609205" y="42148"/>
                </a:lnTo>
                <a:lnTo>
                  <a:pt x="1571993" y="36971"/>
                </a:lnTo>
                <a:lnTo>
                  <a:pt x="1529842" y="35948"/>
                </a:lnTo>
                <a:lnTo>
                  <a:pt x="1491824" y="33101"/>
                </a:lnTo>
                <a:lnTo>
                  <a:pt x="1450910" y="28018"/>
                </a:lnTo>
                <a:lnTo>
                  <a:pt x="1416354" y="27138"/>
                </a:lnTo>
                <a:lnTo>
                  <a:pt x="1380979" y="26877"/>
                </a:lnTo>
                <a:lnTo>
                  <a:pt x="1339608" y="26789"/>
                </a:lnTo>
                <a:lnTo>
                  <a:pt x="1305874" y="26774"/>
                </a:lnTo>
                <a:lnTo>
                  <a:pt x="1270744" y="26769"/>
                </a:lnTo>
                <a:lnTo>
                  <a:pt x="1236192" y="26768"/>
                </a:lnTo>
                <a:lnTo>
                  <a:pt x="1194701" y="26768"/>
                </a:lnTo>
                <a:lnTo>
                  <a:pt x="1160303" y="26768"/>
                </a:lnTo>
                <a:lnTo>
                  <a:pt x="1117864" y="22027"/>
                </a:lnTo>
                <a:lnTo>
                  <a:pt x="1073689" y="18666"/>
                </a:lnTo>
                <a:lnTo>
                  <a:pt x="1029392" y="18001"/>
                </a:lnTo>
                <a:lnTo>
                  <a:pt x="986944" y="17870"/>
                </a:lnTo>
                <a:lnTo>
                  <a:pt x="946478" y="17844"/>
                </a:lnTo>
                <a:lnTo>
                  <a:pt x="912902" y="16847"/>
                </a:lnTo>
                <a:lnTo>
                  <a:pt x="868647" y="13416"/>
                </a:lnTo>
                <a:lnTo>
                  <a:pt x="826207" y="16964"/>
                </a:lnTo>
                <a:lnTo>
                  <a:pt x="785743" y="17665"/>
                </a:lnTo>
                <a:lnTo>
                  <a:pt x="743208" y="17804"/>
                </a:lnTo>
                <a:lnTo>
                  <a:pt x="701108" y="17831"/>
                </a:lnTo>
                <a:lnTo>
                  <a:pt x="661704" y="16844"/>
                </a:lnTo>
                <a:lnTo>
                  <a:pt x="625257" y="10769"/>
                </a:lnTo>
                <a:lnTo>
                  <a:pt x="589394" y="9275"/>
                </a:lnTo>
                <a:lnTo>
                  <a:pt x="547361" y="8956"/>
                </a:lnTo>
                <a:lnTo>
                  <a:pt x="508165" y="7922"/>
                </a:lnTo>
                <a:lnTo>
                  <a:pt x="464235" y="1220"/>
                </a:lnTo>
                <a:lnTo>
                  <a:pt x="422326" y="142"/>
                </a:lnTo>
                <a:lnTo>
                  <a:pt x="384139" y="0"/>
                </a:lnTo>
                <a:lnTo>
                  <a:pt x="344564" y="973"/>
                </a:lnTo>
                <a:lnTo>
                  <a:pt x="302315" y="8356"/>
                </a:lnTo>
                <a:lnTo>
                  <a:pt x="265131" y="8860"/>
                </a:lnTo>
                <a:lnTo>
                  <a:pt x="222391" y="8905"/>
                </a:lnTo>
                <a:lnTo>
                  <a:pt x="184323" y="9900"/>
                </a:lnTo>
                <a:lnTo>
                  <a:pt x="149929" y="17286"/>
                </a:lnTo>
                <a:lnTo>
                  <a:pt x="140057" y="18584"/>
                </a:lnTo>
                <a:lnTo>
                  <a:pt x="116269" y="28847"/>
                </a:lnTo>
                <a:lnTo>
                  <a:pt x="110214" y="32652"/>
                </a:lnTo>
                <a:lnTo>
                  <a:pt x="101227" y="35787"/>
                </a:lnTo>
                <a:lnTo>
                  <a:pt x="68461" y="65498"/>
                </a:lnTo>
                <a:lnTo>
                  <a:pt x="65153" y="71431"/>
                </a:lnTo>
                <a:lnTo>
                  <a:pt x="62691" y="77375"/>
                </a:lnTo>
                <a:lnTo>
                  <a:pt x="48372" y="101366"/>
                </a:lnTo>
                <a:lnTo>
                  <a:pt x="37105" y="140290"/>
                </a:lnTo>
                <a:lnTo>
                  <a:pt x="26705" y="181572"/>
                </a:lnTo>
                <a:lnTo>
                  <a:pt x="15818" y="223221"/>
                </a:lnTo>
                <a:lnTo>
                  <a:pt x="10971" y="241080"/>
                </a:lnTo>
                <a:lnTo>
                  <a:pt x="9109" y="283866"/>
                </a:lnTo>
                <a:lnTo>
                  <a:pt x="8940" y="327290"/>
                </a:lnTo>
                <a:lnTo>
                  <a:pt x="828" y="369065"/>
                </a:lnTo>
                <a:lnTo>
                  <a:pt x="48" y="410744"/>
                </a:lnTo>
                <a:lnTo>
                  <a:pt x="1" y="453299"/>
                </a:lnTo>
                <a:lnTo>
                  <a:pt x="0" y="497390"/>
                </a:lnTo>
                <a:lnTo>
                  <a:pt x="0" y="508861"/>
                </a:lnTo>
                <a:lnTo>
                  <a:pt x="13302" y="508968"/>
                </a:lnTo>
                <a:lnTo>
                  <a:pt x="18479" y="506323"/>
                </a:lnTo>
                <a:lnTo>
                  <a:pt x="24088" y="502833"/>
                </a:lnTo>
                <a:lnTo>
                  <a:pt x="33991" y="500408"/>
                </a:lnTo>
                <a:lnTo>
                  <a:pt x="39947" y="500149"/>
                </a:lnTo>
                <a:lnTo>
                  <a:pt x="45205" y="497443"/>
                </a:lnTo>
                <a:lnTo>
                  <a:pt x="47995" y="495332"/>
                </a:lnTo>
                <a:lnTo>
                  <a:pt x="56388" y="492987"/>
                </a:lnTo>
                <a:lnTo>
                  <a:pt x="65741" y="490953"/>
                </a:lnTo>
                <a:lnTo>
                  <a:pt x="79830" y="484208"/>
                </a:lnTo>
                <a:lnTo>
                  <a:pt x="119390" y="474158"/>
                </a:lnTo>
                <a:lnTo>
                  <a:pt x="136026" y="472528"/>
                </a:lnTo>
                <a:lnTo>
                  <a:pt x="149665" y="467195"/>
                </a:lnTo>
                <a:lnTo>
                  <a:pt x="191644" y="464490"/>
                </a:lnTo>
                <a:lnTo>
                  <a:pt x="206222" y="463405"/>
                </a:lnTo>
                <a:lnTo>
                  <a:pt x="244882" y="456226"/>
                </a:lnTo>
                <a:lnTo>
                  <a:pt x="288874" y="455465"/>
                </a:lnTo>
                <a:lnTo>
                  <a:pt x="330810" y="455402"/>
                </a:lnTo>
                <a:lnTo>
                  <a:pt x="368033" y="458039"/>
                </a:lnTo>
                <a:lnTo>
                  <a:pt x="411017" y="463494"/>
                </a:lnTo>
                <a:lnTo>
                  <a:pt x="455447" y="468953"/>
                </a:lnTo>
                <a:lnTo>
                  <a:pt x="492131" y="472402"/>
                </a:lnTo>
                <a:lnTo>
                  <a:pt x="533920" y="475730"/>
                </a:lnTo>
                <a:lnTo>
                  <a:pt x="571132" y="480908"/>
                </a:lnTo>
                <a:lnTo>
                  <a:pt x="608138" y="482922"/>
                </a:lnTo>
                <a:lnTo>
                  <a:pt x="649991" y="489200"/>
                </a:lnTo>
                <a:lnTo>
                  <a:pt x="687215" y="490734"/>
                </a:lnTo>
                <a:lnTo>
                  <a:pt x="729368" y="497173"/>
                </a:lnTo>
                <a:lnTo>
                  <a:pt x="770032" y="502120"/>
                </a:lnTo>
                <a:lnTo>
                  <a:pt x="804287" y="506941"/>
                </a:lnTo>
                <a:lnTo>
                  <a:pt x="846678" y="513310"/>
                </a:lnTo>
                <a:lnTo>
                  <a:pt x="890844" y="517985"/>
                </a:lnTo>
                <a:lnTo>
                  <a:pt x="925963" y="523768"/>
                </a:lnTo>
                <a:lnTo>
                  <a:pt x="961504" y="525923"/>
                </a:lnTo>
                <a:lnTo>
                  <a:pt x="997171" y="527554"/>
                </a:lnTo>
                <a:lnTo>
                  <a:pt x="1031882" y="532887"/>
                </a:lnTo>
                <a:lnTo>
                  <a:pt x="1073425" y="537838"/>
                </a:lnTo>
                <a:lnTo>
                  <a:pt x="1107833" y="542659"/>
                </a:lnTo>
                <a:lnTo>
                  <a:pt x="1143163" y="544087"/>
                </a:lnTo>
                <a:lnTo>
                  <a:pt x="1185917" y="549311"/>
                </a:lnTo>
                <a:lnTo>
                  <a:pt x="1223405" y="552343"/>
                </a:lnTo>
                <a:lnTo>
                  <a:pt x="1267252" y="553366"/>
                </a:lnTo>
                <a:lnTo>
                  <a:pt x="1310455" y="556215"/>
                </a:lnTo>
                <a:lnTo>
                  <a:pt x="1344090" y="560672"/>
                </a:lnTo>
                <a:lnTo>
                  <a:pt x="1380183" y="561992"/>
                </a:lnTo>
                <a:lnTo>
                  <a:pt x="1423786" y="567179"/>
                </a:lnTo>
                <a:lnTo>
                  <a:pt x="1458808" y="570205"/>
                </a:lnTo>
                <a:lnTo>
                  <a:pt x="1494321" y="571101"/>
                </a:lnTo>
                <a:lnTo>
                  <a:pt x="1534747" y="571404"/>
                </a:lnTo>
                <a:lnTo>
                  <a:pt x="1574041" y="574110"/>
                </a:lnTo>
                <a:lnTo>
                  <a:pt x="1614987" y="579163"/>
                </a:lnTo>
                <a:lnTo>
                  <a:pt x="1652729" y="580163"/>
                </a:lnTo>
                <a:lnTo>
                  <a:pt x="1694728" y="583005"/>
                </a:lnTo>
                <a:lnTo>
                  <a:pt x="1734900" y="588504"/>
                </a:lnTo>
                <a:lnTo>
                  <a:pt x="1765934" y="591818"/>
                </a:lnTo>
                <a:lnTo>
                  <a:pt x="1787948" y="596356"/>
                </a:lnTo>
                <a:lnTo>
                  <a:pt x="1829978" y="598100"/>
                </a:lnTo>
                <a:lnTo>
                  <a:pt x="1842222" y="599185"/>
                </a:lnTo>
                <a:lnTo>
                  <a:pt x="1885366" y="606826"/>
                </a:lnTo>
                <a:lnTo>
                  <a:pt x="1928628" y="607193"/>
                </a:lnTo>
                <a:lnTo>
                  <a:pt x="1946671" y="607197"/>
                </a:lnTo>
                <a:lnTo>
                  <a:pt x="1938983" y="599509"/>
                </a:lnTo>
                <a:lnTo>
                  <a:pt x="1938110" y="593895"/>
                </a:lnTo>
                <a:lnTo>
                  <a:pt x="1936995" y="592375"/>
                </a:lnTo>
                <a:lnTo>
                  <a:pt x="1933110" y="590688"/>
                </a:lnTo>
                <a:lnTo>
                  <a:pt x="1931677" y="589245"/>
                </a:lnTo>
                <a:lnTo>
                  <a:pt x="1930086" y="584997"/>
                </a:lnTo>
                <a:lnTo>
                  <a:pt x="1928822" y="542943"/>
                </a:lnTo>
                <a:lnTo>
                  <a:pt x="1929806" y="522920"/>
                </a:lnTo>
                <a:lnTo>
                  <a:pt x="1946904" y="482127"/>
                </a:lnTo>
                <a:lnTo>
                  <a:pt x="1967521" y="440507"/>
                </a:lnTo>
                <a:lnTo>
                  <a:pt x="2002583" y="398838"/>
                </a:lnTo>
                <a:lnTo>
                  <a:pt x="2036540" y="357166"/>
                </a:lnTo>
                <a:lnTo>
                  <a:pt x="2069985" y="315494"/>
                </a:lnTo>
                <a:lnTo>
                  <a:pt x="2113739" y="276247"/>
                </a:lnTo>
                <a:lnTo>
                  <a:pt x="2122127" y="265639"/>
                </a:lnTo>
                <a:lnTo>
                  <a:pt x="2162307" y="230560"/>
                </a:lnTo>
                <a:lnTo>
                  <a:pt x="2205450" y="196447"/>
                </a:lnTo>
                <a:lnTo>
                  <a:pt x="2211505" y="191477"/>
                </a:lnTo>
                <a:lnTo>
                  <a:pt x="2217503" y="189269"/>
                </a:lnTo>
                <a:lnTo>
                  <a:pt x="2219499" y="187688"/>
                </a:lnTo>
                <a:lnTo>
                  <a:pt x="2223300" y="181714"/>
                </a:lnTo>
                <a:lnTo>
                  <a:pt x="2232385" y="178583"/>
                </a:lnTo>
                <a:lnTo>
                  <a:pt x="2232410" y="173835"/>
                </a:lnTo>
                <a:lnTo>
                  <a:pt x="2231422" y="172437"/>
                </a:lnTo>
                <a:lnTo>
                  <a:pt x="2229771" y="171506"/>
                </a:lnTo>
                <a:lnTo>
                  <a:pt x="2224732" y="170010"/>
                </a:lnTo>
                <a:lnTo>
                  <a:pt x="2216607" y="163578"/>
                </a:lnTo>
                <a:lnTo>
                  <a:pt x="2208334" y="161561"/>
                </a:lnTo>
                <a:lnTo>
                  <a:pt x="2193689" y="160824"/>
                </a:lnTo>
                <a:lnTo>
                  <a:pt x="2187757" y="158116"/>
                </a:lnTo>
                <a:lnTo>
                  <a:pt x="2181813" y="154597"/>
                </a:lnTo>
                <a:lnTo>
                  <a:pt x="2169913" y="152339"/>
                </a:lnTo>
                <a:lnTo>
                  <a:pt x="2148894" y="150864"/>
                </a:lnTo>
                <a:lnTo>
                  <a:pt x="2131586" y="144104"/>
                </a:lnTo>
                <a:lnTo>
                  <a:pt x="2113738" y="140372"/>
                </a:lnTo>
                <a:lnTo>
                  <a:pt x="2101491" y="135197"/>
                </a:lnTo>
                <a:lnTo>
                  <a:pt x="2085806" y="133183"/>
                </a:lnTo>
                <a:lnTo>
                  <a:pt x="2074327" y="127861"/>
                </a:lnTo>
                <a:lnTo>
                  <a:pt x="2029886" y="117417"/>
                </a:lnTo>
                <a:lnTo>
                  <a:pt x="2020697" y="114020"/>
                </a:lnTo>
                <a:lnTo>
                  <a:pt x="1996438" y="101904"/>
                </a:lnTo>
                <a:lnTo>
                  <a:pt x="1952907" y="91353"/>
                </a:lnTo>
                <a:lnTo>
                  <a:pt x="1930660" y="87244"/>
                </a:lnTo>
                <a:lnTo>
                  <a:pt x="1911501" y="82389"/>
                </a:lnTo>
                <a:lnTo>
                  <a:pt x="1874130" y="74477"/>
                </a:lnTo>
                <a:lnTo>
                  <a:pt x="1830440" y="71819"/>
                </a:lnTo>
                <a:lnTo>
                  <a:pt x="1788701" y="65359"/>
                </a:lnTo>
                <a:lnTo>
                  <a:pt x="1748119" y="63053"/>
                </a:lnTo>
                <a:lnTo>
                  <a:pt x="1713878" y="60009"/>
                </a:lnTo>
                <a:lnTo>
                  <a:pt x="1675951" y="55468"/>
                </a:lnTo>
                <a:lnTo>
                  <a:pt x="1635940" y="51477"/>
                </a:lnTo>
                <a:lnTo>
                  <a:pt x="1596303" y="46656"/>
                </a:lnTo>
                <a:lnTo>
                  <a:pt x="1553139" y="45228"/>
                </a:lnTo>
                <a:lnTo>
                  <a:pt x="1508931" y="42159"/>
                </a:lnTo>
                <a:lnTo>
                  <a:pt x="1478277" y="38568"/>
                </a:lnTo>
                <a:lnTo>
                  <a:pt x="1444808" y="36973"/>
                </a:lnTo>
                <a:lnTo>
                  <a:pt x="1412736" y="36264"/>
                </a:lnTo>
                <a:lnTo>
                  <a:pt x="1380952" y="35950"/>
                </a:lnTo>
                <a:lnTo>
                  <a:pt x="1346983" y="35809"/>
                </a:lnTo>
                <a:lnTo>
                  <a:pt x="1312041" y="35747"/>
                </a:lnTo>
                <a:lnTo>
                  <a:pt x="1276668" y="35719"/>
                </a:lnTo>
                <a:lnTo>
                  <a:pt x="1241104" y="35707"/>
                </a:lnTo>
                <a:lnTo>
                  <a:pt x="1205453" y="38348"/>
                </a:lnTo>
                <a:lnTo>
                  <a:pt x="1168773" y="41836"/>
                </a:lnTo>
                <a:lnTo>
                  <a:pt x="1129319" y="43386"/>
                </a:lnTo>
                <a:lnTo>
                  <a:pt x="1091278" y="46721"/>
                </a:lnTo>
                <a:lnTo>
                  <a:pt x="1054528" y="51511"/>
                </a:lnTo>
                <a:lnTo>
                  <a:pt x="1018351" y="56947"/>
                </a:lnTo>
                <a:lnTo>
                  <a:pt x="979783" y="62669"/>
                </a:lnTo>
                <a:lnTo>
                  <a:pt x="940482" y="69513"/>
                </a:lnTo>
                <a:lnTo>
                  <a:pt x="903172" y="79169"/>
                </a:lnTo>
                <a:lnTo>
                  <a:pt x="864100" y="92721"/>
                </a:lnTo>
                <a:lnTo>
                  <a:pt x="824575" y="107674"/>
                </a:lnTo>
                <a:lnTo>
                  <a:pt x="787165" y="120934"/>
                </a:lnTo>
                <a:lnTo>
                  <a:pt x="750695" y="133442"/>
                </a:lnTo>
                <a:lnTo>
                  <a:pt x="696515" y="15178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SMARTInkShape-190"/>
          <p:cNvSpPr/>
          <p:nvPr/>
        </p:nvSpPr>
        <p:spPr>
          <a:xfrm>
            <a:off x="2884320" y="5929200"/>
            <a:ext cx="3919680" cy="15264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920133" h="151796">
                <a:moveTo>
                  <a:pt x="0" y="0"/>
                </a:moveTo>
                <a:lnTo>
                  <a:pt x="0" y="0"/>
                </a:lnTo>
                <a:lnTo>
                  <a:pt x="42724" y="0"/>
                </a:lnTo>
                <a:lnTo>
                  <a:pt x="86241" y="0"/>
                </a:lnTo>
                <a:lnTo>
                  <a:pt x="125454" y="0"/>
                </a:lnTo>
                <a:lnTo>
                  <a:pt x="165093" y="0"/>
                </a:lnTo>
                <a:lnTo>
                  <a:pt x="206328" y="0"/>
                </a:lnTo>
                <a:lnTo>
                  <a:pt x="246824" y="0"/>
                </a:lnTo>
                <a:lnTo>
                  <a:pt x="269586" y="2646"/>
                </a:lnTo>
                <a:lnTo>
                  <a:pt x="306626" y="8102"/>
                </a:lnTo>
                <a:lnTo>
                  <a:pt x="348655" y="8821"/>
                </a:lnTo>
                <a:lnTo>
                  <a:pt x="389442" y="16609"/>
                </a:lnTo>
                <a:lnTo>
                  <a:pt x="426699" y="20340"/>
                </a:lnTo>
                <a:lnTo>
                  <a:pt x="448559" y="24878"/>
                </a:lnTo>
                <a:lnTo>
                  <a:pt x="493177" y="26622"/>
                </a:lnTo>
                <a:lnTo>
                  <a:pt x="537822" y="26774"/>
                </a:lnTo>
                <a:lnTo>
                  <a:pt x="553555" y="27774"/>
                </a:lnTo>
                <a:lnTo>
                  <a:pt x="598204" y="34891"/>
                </a:lnTo>
                <a:lnTo>
                  <a:pt x="642852" y="35646"/>
                </a:lnTo>
                <a:lnTo>
                  <a:pt x="687501" y="36705"/>
                </a:lnTo>
                <a:lnTo>
                  <a:pt x="732149" y="43821"/>
                </a:lnTo>
                <a:lnTo>
                  <a:pt x="774055" y="44539"/>
                </a:lnTo>
                <a:lnTo>
                  <a:pt x="814090" y="47280"/>
                </a:lnTo>
                <a:lnTo>
                  <a:pt x="851309" y="53741"/>
                </a:lnTo>
                <a:lnTo>
                  <a:pt x="893362" y="61158"/>
                </a:lnTo>
                <a:lnTo>
                  <a:pt x="937669" y="64975"/>
                </a:lnTo>
                <a:lnTo>
                  <a:pt x="982273" y="70587"/>
                </a:lnTo>
                <a:lnTo>
                  <a:pt x="1026915" y="71325"/>
                </a:lnTo>
                <a:lnTo>
                  <a:pt x="1071562" y="71422"/>
                </a:lnTo>
                <a:lnTo>
                  <a:pt x="1116211" y="72428"/>
                </a:lnTo>
                <a:lnTo>
                  <a:pt x="1160859" y="79126"/>
                </a:lnTo>
                <a:lnTo>
                  <a:pt x="1205507" y="82850"/>
                </a:lnTo>
                <a:lnTo>
                  <a:pt x="1241226" y="88023"/>
                </a:lnTo>
                <a:lnTo>
                  <a:pt x="1283082" y="89046"/>
                </a:lnTo>
                <a:lnTo>
                  <a:pt x="1321042" y="89247"/>
                </a:lnTo>
                <a:lnTo>
                  <a:pt x="1357203" y="89287"/>
                </a:lnTo>
                <a:lnTo>
                  <a:pt x="1393009" y="89296"/>
                </a:lnTo>
                <a:lnTo>
                  <a:pt x="1431391" y="91943"/>
                </a:lnTo>
                <a:lnTo>
                  <a:pt x="1472156" y="96985"/>
                </a:lnTo>
                <a:lnTo>
                  <a:pt x="1508872" y="97982"/>
                </a:lnTo>
                <a:lnTo>
                  <a:pt x="1544788" y="98179"/>
                </a:lnTo>
                <a:lnTo>
                  <a:pt x="1585285" y="102957"/>
                </a:lnTo>
                <a:lnTo>
                  <a:pt x="1619769" y="105912"/>
                </a:lnTo>
                <a:lnTo>
                  <a:pt x="1659849" y="106911"/>
                </a:lnTo>
                <a:lnTo>
                  <a:pt x="1699075" y="107108"/>
                </a:lnTo>
                <a:lnTo>
                  <a:pt x="1740006" y="107147"/>
                </a:lnTo>
                <a:lnTo>
                  <a:pt x="1782891" y="113291"/>
                </a:lnTo>
                <a:lnTo>
                  <a:pt x="1823700" y="115534"/>
                </a:lnTo>
                <a:lnTo>
                  <a:pt x="1864944" y="115977"/>
                </a:lnTo>
                <a:lnTo>
                  <a:pt x="1907891" y="116064"/>
                </a:lnTo>
                <a:lnTo>
                  <a:pt x="1948713" y="116082"/>
                </a:lnTo>
                <a:lnTo>
                  <a:pt x="1989960" y="116086"/>
                </a:lnTo>
                <a:lnTo>
                  <a:pt x="2032907" y="122222"/>
                </a:lnTo>
                <a:lnTo>
                  <a:pt x="2073728" y="124464"/>
                </a:lnTo>
                <a:lnTo>
                  <a:pt x="2114976" y="124906"/>
                </a:lnTo>
                <a:lnTo>
                  <a:pt x="2158915" y="124994"/>
                </a:lnTo>
                <a:lnTo>
                  <a:pt x="2193995" y="126002"/>
                </a:lnTo>
                <a:lnTo>
                  <a:pt x="2228533" y="131151"/>
                </a:lnTo>
                <a:lnTo>
                  <a:pt x="2270018" y="133394"/>
                </a:lnTo>
                <a:lnTo>
                  <a:pt x="2311396" y="133836"/>
                </a:lnTo>
                <a:lnTo>
                  <a:pt x="2355362" y="133924"/>
                </a:lnTo>
                <a:lnTo>
                  <a:pt x="2390446" y="134931"/>
                </a:lnTo>
                <a:lnTo>
                  <a:pt x="2424986" y="140080"/>
                </a:lnTo>
                <a:lnTo>
                  <a:pt x="2466471" y="142323"/>
                </a:lnTo>
                <a:lnTo>
                  <a:pt x="2500869" y="142712"/>
                </a:lnTo>
                <a:lnTo>
                  <a:pt x="2543307" y="142843"/>
                </a:lnTo>
                <a:lnTo>
                  <a:pt x="2581345" y="142868"/>
                </a:lnTo>
                <a:lnTo>
                  <a:pt x="2623402" y="142874"/>
                </a:lnTo>
                <a:lnTo>
                  <a:pt x="2665408" y="142875"/>
                </a:lnTo>
                <a:lnTo>
                  <a:pt x="2705784" y="142875"/>
                </a:lnTo>
                <a:lnTo>
                  <a:pt x="2748303" y="142875"/>
                </a:lnTo>
                <a:lnTo>
                  <a:pt x="2785659" y="142875"/>
                </a:lnTo>
                <a:lnTo>
                  <a:pt x="2827838" y="142875"/>
                </a:lnTo>
                <a:lnTo>
                  <a:pt x="2865862" y="145521"/>
                </a:lnTo>
                <a:lnTo>
                  <a:pt x="2906777" y="150563"/>
                </a:lnTo>
                <a:lnTo>
                  <a:pt x="2945946" y="151560"/>
                </a:lnTo>
                <a:lnTo>
                  <a:pt x="2982348" y="151757"/>
                </a:lnTo>
                <a:lnTo>
                  <a:pt x="3018201" y="151795"/>
                </a:lnTo>
                <a:lnTo>
                  <a:pt x="3053945" y="145666"/>
                </a:lnTo>
                <a:lnTo>
                  <a:pt x="3089671" y="143426"/>
                </a:lnTo>
                <a:lnTo>
                  <a:pt x="3130130" y="142984"/>
                </a:lnTo>
                <a:lnTo>
                  <a:pt x="3173995" y="142890"/>
                </a:lnTo>
                <a:lnTo>
                  <a:pt x="3213706" y="138138"/>
                </a:lnTo>
                <a:lnTo>
                  <a:pt x="3251205" y="133781"/>
                </a:lnTo>
                <a:lnTo>
                  <a:pt x="3293154" y="127041"/>
                </a:lnTo>
                <a:lnTo>
                  <a:pt x="3330398" y="125416"/>
                </a:lnTo>
                <a:lnTo>
                  <a:pt x="3372555" y="124103"/>
                </a:lnTo>
                <a:lnTo>
                  <a:pt x="3414952" y="117338"/>
                </a:lnTo>
                <a:lnTo>
                  <a:pt x="3456291" y="116251"/>
                </a:lnTo>
                <a:lnTo>
                  <a:pt x="3500504" y="115116"/>
                </a:lnTo>
                <a:lnTo>
                  <a:pt x="3545095" y="108401"/>
                </a:lnTo>
                <a:lnTo>
                  <a:pt x="3587090" y="107320"/>
                </a:lnTo>
                <a:lnTo>
                  <a:pt x="3625288" y="107178"/>
                </a:lnTo>
                <a:lnTo>
                  <a:pt x="3664865" y="107158"/>
                </a:lnTo>
                <a:lnTo>
                  <a:pt x="3707945" y="107156"/>
                </a:lnTo>
                <a:lnTo>
                  <a:pt x="3750418" y="107156"/>
                </a:lnTo>
                <a:lnTo>
                  <a:pt x="3791954" y="107156"/>
                </a:lnTo>
                <a:lnTo>
                  <a:pt x="3824135" y="108149"/>
                </a:lnTo>
                <a:lnTo>
                  <a:pt x="3841676" y="114224"/>
                </a:lnTo>
                <a:lnTo>
                  <a:pt x="3884360" y="116071"/>
                </a:lnTo>
                <a:lnTo>
                  <a:pt x="3918369" y="116086"/>
                </a:lnTo>
                <a:lnTo>
                  <a:pt x="3918957" y="117078"/>
                </a:lnTo>
                <a:lnTo>
                  <a:pt x="3920132" y="125006"/>
                </a:lnTo>
                <a:lnTo>
                  <a:pt x="3920132" y="125009"/>
                </a:lnTo>
                <a:lnTo>
                  <a:pt x="3920132" y="125013"/>
                </a:lnTo>
                <a:lnTo>
                  <a:pt x="3920132" y="12501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SMARTInkShape-191"/>
          <p:cNvSpPr/>
          <p:nvPr/>
        </p:nvSpPr>
        <p:spPr>
          <a:xfrm>
            <a:off x="1214280" y="6402240"/>
            <a:ext cx="2741760" cy="71640"/>
          </a:xfrm>
          <a:custGeom>
            <a:avLst/>
            <a:gdLst>
              <a:gd name="textAreaLeft" fmla="*/ 0 w 2741760"/>
              <a:gd name="textAreaRight" fmla="*/ 2741760 w 27417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741415" h="71437">
                <a:moveTo>
                  <a:pt x="0" y="0"/>
                </a:moveTo>
                <a:lnTo>
                  <a:pt x="0" y="0"/>
                </a:lnTo>
                <a:lnTo>
                  <a:pt x="44621" y="0"/>
                </a:lnTo>
                <a:lnTo>
                  <a:pt x="47607" y="0"/>
                </a:lnTo>
                <a:lnTo>
                  <a:pt x="53570" y="2645"/>
                </a:lnTo>
                <a:lnTo>
                  <a:pt x="56550" y="4740"/>
                </a:lnTo>
                <a:lnTo>
                  <a:pt x="70224" y="7688"/>
                </a:lnTo>
                <a:lnTo>
                  <a:pt x="110236" y="8856"/>
                </a:lnTo>
                <a:lnTo>
                  <a:pt x="154457" y="8925"/>
                </a:lnTo>
                <a:lnTo>
                  <a:pt x="189674" y="9921"/>
                </a:lnTo>
                <a:lnTo>
                  <a:pt x="227139" y="17031"/>
                </a:lnTo>
                <a:lnTo>
                  <a:pt x="271026" y="17786"/>
                </a:lnTo>
                <a:lnTo>
                  <a:pt x="312952" y="17850"/>
                </a:lnTo>
                <a:lnTo>
                  <a:pt x="357242" y="17858"/>
                </a:lnTo>
                <a:lnTo>
                  <a:pt x="401843" y="18851"/>
                </a:lnTo>
                <a:lnTo>
                  <a:pt x="446486" y="25547"/>
                </a:lnTo>
                <a:lnTo>
                  <a:pt x="488340" y="26544"/>
                </a:lnTo>
                <a:lnTo>
                  <a:pt x="526300" y="26741"/>
                </a:lnTo>
                <a:lnTo>
                  <a:pt x="567202" y="26779"/>
                </a:lnTo>
                <a:lnTo>
                  <a:pt x="607362" y="32924"/>
                </a:lnTo>
                <a:lnTo>
                  <a:pt x="649838" y="35166"/>
                </a:lnTo>
                <a:lnTo>
                  <a:pt x="691926" y="35609"/>
                </a:lnTo>
                <a:lnTo>
                  <a:pt x="731328" y="35697"/>
                </a:lnTo>
                <a:lnTo>
                  <a:pt x="770420" y="35714"/>
                </a:lnTo>
                <a:lnTo>
                  <a:pt x="811326" y="35718"/>
                </a:lnTo>
                <a:lnTo>
                  <a:pt x="855198" y="36710"/>
                </a:lnTo>
                <a:lnTo>
                  <a:pt x="899436" y="42786"/>
                </a:lnTo>
                <a:lnTo>
                  <a:pt x="941871" y="44280"/>
                </a:lnTo>
                <a:lnTo>
                  <a:pt x="982335" y="44575"/>
                </a:lnTo>
                <a:lnTo>
                  <a:pt x="1015911" y="44626"/>
                </a:lnTo>
                <a:lnTo>
                  <a:pt x="1050994" y="44641"/>
                </a:lnTo>
                <a:lnTo>
                  <a:pt x="1087517" y="44647"/>
                </a:lnTo>
                <a:lnTo>
                  <a:pt x="1129317" y="45640"/>
                </a:lnTo>
                <a:lnTo>
                  <a:pt x="1172129" y="50784"/>
                </a:lnTo>
                <a:lnTo>
                  <a:pt x="1210391" y="52750"/>
                </a:lnTo>
                <a:lnTo>
                  <a:pt x="1246863" y="53333"/>
                </a:lnTo>
                <a:lnTo>
                  <a:pt x="1282805" y="53505"/>
                </a:lnTo>
                <a:lnTo>
                  <a:pt x="1319582" y="53556"/>
                </a:lnTo>
                <a:lnTo>
                  <a:pt x="1360465" y="53571"/>
                </a:lnTo>
                <a:lnTo>
                  <a:pt x="1398155" y="53577"/>
                </a:lnTo>
                <a:lnTo>
                  <a:pt x="1435450" y="53577"/>
                </a:lnTo>
                <a:lnTo>
                  <a:pt x="1476486" y="53578"/>
                </a:lnTo>
                <a:lnTo>
                  <a:pt x="1515213" y="53578"/>
                </a:lnTo>
                <a:lnTo>
                  <a:pt x="1557667" y="53578"/>
                </a:lnTo>
                <a:lnTo>
                  <a:pt x="1601665" y="54570"/>
                </a:lnTo>
                <a:lnTo>
                  <a:pt x="1646120" y="59714"/>
                </a:lnTo>
                <a:lnTo>
                  <a:pt x="1690712" y="61680"/>
                </a:lnTo>
                <a:lnTo>
                  <a:pt x="1735343" y="62262"/>
                </a:lnTo>
                <a:lnTo>
                  <a:pt x="1778994" y="63427"/>
                </a:lnTo>
                <a:lnTo>
                  <a:pt x="1818496" y="68623"/>
                </a:lnTo>
                <a:lnTo>
                  <a:pt x="1861180" y="70603"/>
                </a:lnTo>
                <a:lnTo>
                  <a:pt x="1905246" y="71190"/>
                </a:lnTo>
                <a:lnTo>
                  <a:pt x="1948730" y="71364"/>
                </a:lnTo>
                <a:lnTo>
                  <a:pt x="1987190" y="71415"/>
                </a:lnTo>
                <a:lnTo>
                  <a:pt x="2024713" y="71430"/>
                </a:lnTo>
                <a:lnTo>
                  <a:pt x="2065817" y="71436"/>
                </a:lnTo>
                <a:lnTo>
                  <a:pt x="2104565" y="71436"/>
                </a:lnTo>
                <a:lnTo>
                  <a:pt x="2146032" y="70445"/>
                </a:lnTo>
                <a:lnTo>
                  <a:pt x="2184887" y="65300"/>
                </a:lnTo>
                <a:lnTo>
                  <a:pt x="2226386" y="63335"/>
                </a:lnTo>
                <a:lnTo>
                  <a:pt x="2265250" y="62753"/>
                </a:lnTo>
                <a:lnTo>
                  <a:pt x="2306751" y="61588"/>
                </a:lnTo>
                <a:lnTo>
                  <a:pt x="2346609" y="56392"/>
                </a:lnTo>
                <a:lnTo>
                  <a:pt x="2378422" y="54829"/>
                </a:lnTo>
                <a:lnTo>
                  <a:pt x="2409759" y="54134"/>
                </a:lnTo>
                <a:lnTo>
                  <a:pt x="2440223" y="52833"/>
                </a:lnTo>
                <a:lnTo>
                  <a:pt x="2470299" y="48947"/>
                </a:lnTo>
                <a:lnTo>
                  <a:pt x="2500202" y="46559"/>
                </a:lnTo>
                <a:lnTo>
                  <a:pt x="2531022" y="45497"/>
                </a:lnTo>
                <a:lnTo>
                  <a:pt x="2564563" y="45025"/>
                </a:lnTo>
                <a:lnTo>
                  <a:pt x="2596667" y="42170"/>
                </a:lnTo>
                <a:lnTo>
                  <a:pt x="2628465" y="38586"/>
                </a:lnTo>
                <a:lnTo>
                  <a:pt x="2662441" y="36992"/>
                </a:lnTo>
                <a:lnTo>
                  <a:pt x="2694740" y="36285"/>
                </a:lnTo>
                <a:lnTo>
                  <a:pt x="2741414" y="357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0:42:18Z</dcterms:created>
  <dc:creator>glennlauren</dc:creator>
  <dc:description/>
  <dc:language>en-US</dc:language>
  <cp:lastModifiedBy>Katherine Silver</cp:lastModifiedBy>
  <dcterms:modified xsi:type="dcterms:W3CDTF">2017-09-27T13:21:10Z</dcterms:modified>
  <cp:revision>28</cp:revision>
  <dc:subject/>
  <dc:title>Ancient Rome: The Rise of Christian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