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26F-10BB-4701-A688-8BAC47B0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C1E-2363-44E8-8E37-17819F1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220-FA6F-4329-BD91-6EB19A6D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A74-8310-465F-9E6C-FF7C26B7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DD01-0BA2-4E16-88B8-D65EFC09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80C-FB90-495D-B932-AC56E68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417-3445-4204-B526-FCF3BD1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BC91-4B4E-493C-BDBD-7F481D89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AF66-7E87-44AE-A3FC-B677867E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09C-0292-49A6-95C4-5D60286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10D5-F155-48CE-8582-2F1E8A3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915-0A02-4405-835D-3DAC8E2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BB24-31BA-4BE7-8A92-BF2B4C45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F241-8EC1-415E-B96E-E597E81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5E6E-873F-45CB-8E37-28BEF4F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509-55CA-4659-B593-0B009057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E367-7763-42FC-AD66-736F18CF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886-46E3-4E53-A900-8D2B2523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033-F86E-4721-824A-1951470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B6-EAD2-4B64-AA9E-5A5A924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988-CCE1-4040-87BD-EB45151F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9C3-AB3D-4133-AA1F-6C5CBFE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3E0-D6F4-4CAD-B85C-3367B6B4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89E-5170-4B0A-BBAD-C3AAA50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A9B-45CB-4D97-82F5-B3A82FC4D2B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0003-682D-4C04-8CDF-56AD22B8A50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8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4.png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4.png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1.jpeg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4.png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slide" Target="slide10.xml"/><Relationship Id="rId9" Type="http://schemas.openxmlformats.org/officeDocument/2006/relationships/image" Target="../media/image4.png"/><Relationship Id="rId10" Type="http://schemas.openxmlformats.org/officeDocument/2006/relationships/slide" Target="slide13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4.xml"/><Relationship Id="rId4" Type="http://schemas.openxmlformats.org/officeDocument/2006/relationships/image" Target="../media/image4.png"/><Relationship Id="rId5" Type="http://schemas.openxmlformats.org/officeDocument/2006/relationships/slide" Target="slide32.xml"/><Relationship Id="rId6" Type="http://schemas.openxmlformats.org/officeDocument/2006/relationships/image" Target="../media/image4.png"/><Relationship Id="rId7" Type="http://schemas.openxmlformats.org/officeDocument/2006/relationships/slide" Target="slide32.xml"/><Relationship Id="rId8" Type="http://schemas.openxmlformats.org/officeDocument/2006/relationships/image" Target="../media/image4.png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6.xml"/><Relationship Id="rId4" Type="http://schemas.openxmlformats.org/officeDocument/2006/relationships/image" Target="../media/image4.png"/><Relationship Id="rId5" Type="http://schemas.openxmlformats.org/officeDocument/2006/relationships/slide" Target="slide37.xml"/><Relationship Id="rId6" Type="http://schemas.openxmlformats.org/officeDocument/2006/relationships/image" Target="../media/image4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slide" Target="slide36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39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hyperlink" Target="http://www.youtube.com/watch?v=njINCi9iIrA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4.xml"/><Relationship Id="rId4" Type="http://schemas.openxmlformats.org/officeDocument/2006/relationships/image" Target="../media/image4.png"/><Relationship Id="rId5" Type="http://schemas.openxmlformats.org/officeDocument/2006/relationships/slide" Target="slide44.xml"/><Relationship Id="rId6" Type="http://schemas.openxmlformats.org/officeDocument/2006/relationships/image" Target="../media/image4.png"/><Relationship Id="rId7" Type="http://schemas.openxmlformats.org/officeDocument/2006/relationships/slide" Target="slide43.xml"/><Relationship Id="rId8" Type="http://schemas.openxmlformats.org/officeDocument/2006/relationships/image" Target="../media/image4.png"/><Relationship Id="rId9" Type="http://schemas.openxmlformats.org/officeDocument/2006/relationships/slide" Target="slide44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7.xml"/><Relationship Id="rId4" Type="http://schemas.openxmlformats.org/officeDocument/2006/relationships/image" Target="../media/image4.png"/><Relationship Id="rId5" Type="http://schemas.openxmlformats.org/officeDocument/2006/relationships/slide" Target="slide46.xml"/><Relationship Id="rId6" Type="http://schemas.openxmlformats.org/officeDocument/2006/relationships/image" Target="../media/image4.png"/><Relationship Id="rId7" Type="http://schemas.openxmlformats.org/officeDocument/2006/relationships/slide" Target="slide47.xml"/><Relationship Id="rId8" Type="http://schemas.openxmlformats.org/officeDocument/2006/relationships/image" Target="../media/image4.png"/><Relationship Id="rId9" Type="http://schemas.openxmlformats.org/officeDocument/2006/relationships/slide" Target="slide47.xml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8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0.xml"/><Relationship Id="rId4" Type="http://schemas.openxmlformats.org/officeDocument/2006/relationships/image" Target="../media/image4.png"/><Relationship Id="rId5" Type="http://schemas.openxmlformats.org/officeDocument/2006/relationships/slide" Target="slide50.xml"/><Relationship Id="rId6" Type="http://schemas.openxmlformats.org/officeDocument/2006/relationships/image" Target="../media/image4.png"/><Relationship Id="rId7" Type="http://schemas.openxmlformats.org/officeDocument/2006/relationships/slide" Target="slide49.xml"/><Relationship Id="rId8" Type="http://schemas.openxmlformats.org/officeDocument/2006/relationships/image" Target="../media/image4.png"/><Relationship Id="rId9" Type="http://schemas.openxmlformats.org/officeDocument/2006/relationships/slide" Target="slide50.xml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" Target="slide51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3.xml"/><Relationship Id="rId4" Type="http://schemas.openxmlformats.org/officeDocument/2006/relationships/image" Target="../media/image4.png"/><Relationship Id="rId5" Type="http://schemas.openxmlformats.org/officeDocument/2006/relationships/slide" Target="slide52.xml"/><Relationship Id="rId6" Type="http://schemas.openxmlformats.org/officeDocument/2006/relationships/image" Target="../media/image4.png"/><Relationship Id="rId7" Type="http://schemas.openxmlformats.org/officeDocument/2006/relationships/slide" Target="slide53.xml"/><Relationship Id="rId8" Type="http://schemas.openxmlformats.org/officeDocument/2006/relationships/image" Target="../media/image4.png"/><Relationship Id="rId9" Type="http://schemas.openxmlformats.org/officeDocument/2006/relationships/slide" Target="slide53.xml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4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5.xml"/><Relationship Id="rId4" Type="http://schemas.openxmlformats.org/officeDocument/2006/relationships/image" Target="../media/image4.png"/><Relationship Id="rId5" Type="http://schemas.openxmlformats.org/officeDocument/2006/relationships/slide" Target="slide56.xml"/><Relationship Id="rId6" Type="http://schemas.openxmlformats.org/officeDocument/2006/relationships/image" Target="../media/image4.png"/><Relationship Id="rId7" Type="http://schemas.openxmlformats.org/officeDocument/2006/relationships/slide" Target="slide56.xml"/><Relationship Id="rId8" Type="http://schemas.openxmlformats.org/officeDocument/2006/relationships/image" Target="../media/image4.png"/><Relationship Id="rId9" Type="http://schemas.openxmlformats.org/officeDocument/2006/relationships/slide" Target="slide56.xml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752480" y="762120"/>
            <a:ext cx="6172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ES OF WORLD WAR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0" name="Picture 25" descr="World War One Heading Graphic"/>
          <p:cNvPicPr/>
          <p:nvPr/>
        </p:nvPicPr>
        <p:blipFill>
          <a:blip r:embed="rId2"/>
          <a:stretch/>
        </p:blipFill>
        <p:spPr>
          <a:xfrm>
            <a:off x="2133720" y="1676520"/>
            <a:ext cx="571500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752480"/>
            <a:ext cx="7391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actice of extending a nations power by gaining territories for a colonial emp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countries began to compete to gain terri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late 18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Britain was the wor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largest imperialist pow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2" action="ppaction://hlinksldjump"/>
              </a:rPr>
              <a:t>Map of Britain</a:t>
            </a:r>
            <a:r>
              <a:rPr b="0" lang="ja-JP" sz="2400" spc="-1" strike="noStrike" u="sng">
                <a:solidFill>
                  <a:srgbClr val="993300"/>
                </a:solidFill>
                <a:uFillTx/>
                <a:latin typeface="Arial"/>
                <a:ea typeface="ＭＳ Ｐゴシック"/>
                <a:hlinkClick r:id="rId3" action="ppaction://hlinksldjump"/>
              </a:rPr>
              <a:t>’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4" action="ppaction://hlinksldjump"/>
              </a:rPr>
              <a:t>s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empiremap"/>
          <p:cNvPicPr/>
          <p:nvPr/>
        </p:nvPicPr>
        <p:blipFill>
          <a:blip r:embed="rId2"/>
          <a:stretch/>
        </p:blipFill>
        <p:spPr>
          <a:xfrm>
            <a:off x="838080" y="1143000"/>
            <a:ext cx="815364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Text Box 1029"/>
          <p:cNvSpPr/>
          <p:nvPr/>
        </p:nvSpPr>
        <p:spPr>
          <a:xfrm>
            <a:off x="6934320" y="5715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Move On to find the answer  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4" action="ppaction://hlinksldjump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030"/>
          <p:cNvSpPr/>
          <p:nvPr/>
        </p:nvSpPr>
        <p:spPr>
          <a:xfrm>
            <a:off x="1295280" y="586728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3 major countries were British controlled in 1914? (colored in Blac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union-j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8120" y="4191120"/>
            <a:ext cx="3429000" cy="171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India, Canada and Australia were all   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controlled by the British in 1914.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(remember this!!)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819520" y="60958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on flag to return to MAIN scre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s the desire of independent nations for dominance and presti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d Europe to become very unstable in the early 190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nations competed to dominate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park would send Europe into tota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5" action="ppaction://hlinksldjump"/>
          </p:cNvPr>
          <p:cNvSpPr/>
          <p:nvPr/>
        </p:nvSpPr>
        <p:spPr>
          <a:xfrm>
            <a:off x="7543800" y="594360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1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explain each of the MAIN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1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2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rench Warfa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 of defending a position by fighting from deep, protected di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ajor front systems formed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Ea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the Black Sea to the Baltic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We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Switzerland to the North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640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 in the tren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5">
            <a:hlinkClick r:id="rId8" action="ppaction://hlinksldjump"/>
          </p:cNvPr>
          <p:cNvSpPr/>
          <p:nvPr/>
        </p:nvSpPr>
        <p:spPr>
          <a:xfrm>
            <a:off x="6705720" y="640080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23880" y="5562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on link to view map of each fro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a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56760" y="6248520"/>
            <a:ext cx="277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6" descr="eastern front"/>
          <p:cNvPicPr/>
          <p:nvPr/>
        </p:nvPicPr>
        <p:blipFill>
          <a:blip r:embed="rId3"/>
          <a:stretch/>
        </p:blipFill>
        <p:spPr>
          <a:xfrm>
            <a:off x="2133720" y="1676520"/>
            <a:ext cx="541008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Picture 3" descr="FWWwestern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473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105520" y="6248520"/>
            <a:ext cx="358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fe in the Trench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, wet, di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anitary- disease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R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ce Food Supp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tranch1"/>
          <p:cNvPicPr/>
          <p:nvPr/>
        </p:nvPicPr>
        <p:blipFill>
          <a:blip r:embed="rId8"/>
          <a:stretch/>
        </p:blipFill>
        <p:spPr>
          <a:xfrm>
            <a:off x="5029200" y="2133720"/>
            <a:ext cx="3808440" cy="3103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14400" y="5410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diers spent months in the trenches in these horrible condi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6">
            <a:hlinkClick r:id="rId9" action="ppaction://hlinksldjump"/>
          </p:cNvPr>
          <p:cNvSpPr/>
          <p:nvPr/>
        </p:nvSpPr>
        <p:spPr>
          <a:xfrm>
            <a:off x="7772400" y="6324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- Man</a:t>
            </a:r>
            <a:r>
              <a:rPr b="0" lang="ja-JP" sz="44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 La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ea between opposing tren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ighting took place in this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imag1456"/>
          <p:cNvPicPr/>
          <p:nvPr/>
        </p:nvPicPr>
        <p:blipFill>
          <a:blip r:embed="rId4"/>
          <a:stretch/>
        </p:blipFill>
        <p:spPr>
          <a:xfrm>
            <a:off x="1447920" y="3048120"/>
            <a:ext cx="7467480" cy="32004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>
            <a:hlinkClick r:id="rId5" action="ppaction://hlinksldjump"/>
          </p:cNvPr>
          <p:cNvSpPr/>
          <p:nvPr/>
        </p:nvSpPr>
        <p:spPr>
          <a:xfrm>
            <a:off x="6400800" y="64008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905120" y="64008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Analyze the major causes of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Describe trench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Analyze the effects of new weapons in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5181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on each objective to start the less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rench Syste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Picture 3" descr="FWWtrenchsystem"/>
          <p:cNvPicPr/>
          <p:nvPr/>
        </p:nvPicPr>
        <p:blipFill>
          <a:blip r:embed="rId2"/>
          <a:stretch/>
        </p:blipFill>
        <p:spPr>
          <a:xfrm>
            <a:off x="2133720" y="1752480"/>
            <a:ext cx="5715000" cy="43642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>
            <a:hlinkClick r:id="rId3" action="ppaction://hlinksldjump"/>
          </p:cNvPr>
          <p:cNvSpPr/>
          <p:nvPr/>
        </p:nvSpPr>
        <p:spPr>
          <a:xfrm>
            <a:off x="7696080" y="62485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72428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62120" y="243828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you think the purpose of having 3 lines of trenches could be?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talemat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sid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 in,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ir trenches, a stalemate occurred along the western fr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ability for either side to win a decisiv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lemate lasted for 4 long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>
            <a:hlinkClick r:id="rId5" action="ppaction://hlinksldjump"/>
          </p:cNvPr>
          <p:cNvSpPr/>
          <p:nvPr/>
        </p:nvSpPr>
        <p:spPr>
          <a:xfrm>
            <a:off x="7772400" y="58672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2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trench warfare and the conditions in which the soldiers fo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2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3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apons of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766880"/>
            <a:ext cx="84582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 1 saw the use of new weapons in combat that made war even more danger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819520" y="2819520"/>
            <a:ext cx="3809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Weapons includ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G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t Action Rif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ll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7924680" y="6019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&amp; Bolt Action Rifl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19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Guns fired 400 to 600 round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ide set up groups of machine guns along trenches to stop enemy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machinegun"/>
          <p:cNvPicPr/>
          <p:nvPr/>
        </p:nvPicPr>
        <p:blipFill>
          <a:blip r:embed="rId4"/>
          <a:stretch/>
        </p:blipFill>
        <p:spPr>
          <a:xfrm>
            <a:off x="5029200" y="2057400"/>
            <a:ext cx="3808440" cy="122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FWWenfield"/>
          <p:cNvPicPr/>
          <p:nvPr/>
        </p:nvPicPr>
        <p:blipFill>
          <a:blip r:embed="rId5"/>
          <a:stretch/>
        </p:blipFill>
        <p:spPr>
          <a:xfrm>
            <a:off x="5029200" y="3962520"/>
            <a:ext cx="3886200" cy="1130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150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chine G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791320" y="5105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olt Action Rif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90720" y="3886200"/>
            <a:ext cx="396216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lt Action rifles could be shot accurately up to 600 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8077320" y="58672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19920" y="5791320"/>
            <a:ext cx="228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3300"/>
                </a:solidFill>
                <a:uFillTx/>
                <a:latin typeface="Tahoma"/>
                <a:hlinkClick r:id="rId7" action="ppaction://hlinksldjump"/>
              </a:rPr>
              <a:t>Continue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8" action="ppaction://hlinksldjump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</a:t>
            </a:r>
            <a:r>
              <a:rPr b="0" lang="en-US" sz="2000" spc="-1" strike="noStrike">
                <a:solidFill>
                  <a:srgbClr val="482400"/>
                </a:solidFill>
                <a:latin typeface="Tahoma"/>
              </a:rPr>
              <a:t>(cont.)</a:t>
            </a:r>
            <a:r>
              <a:rPr b="0" lang="en-US" sz="4400" spc="-1" strike="noStrike">
                <a:solidFill>
                  <a:srgbClr val="4824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ad the firepower of approx. 100 rif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matically increased the number of casualties during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FWWmachinegunsV"/>
          <p:cNvPicPr/>
          <p:nvPr/>
        </p:nvPicPr>
        <p:blipFill>
          <a:blip r:embed="rId4"/>
          <a:stretch/>
        </p:blipFill>
        <p:spPr>
          <a:xfrm>
            <a:off x="5022720" y="2619360"/>
            <a:ext cx="3808440" cy="240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410080" y="55627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ahoma"/>
                <a:hlinkClick r:id="rId5" action="ppaction://hlinksldjump"/>
              </a:rPr>
              <a:t>Artillery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6" action="ppaction://hlinksldjump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ll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ed artillery shells over 15 km that exploded into deadly fragments over enemy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FWWartiller"/>
          <p:cNvPicPr/>
          <p:nvPr/>
        </p:nvPicPr>
        <p:blipFill>
          <a:blip r:embed="rId3"/>
          <a:stretch/>
        </p:blipFill>
        <p:spPr>
          <a:xfrm>
            <a:off x="2819520" y="3276720"/>
            <a:ext cx="4514760" cy="2693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038480" y="60199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2400"/>
                </a:solidFill>
                <a:latin typeface="Tahoma"/>
              </a:rPr>
              <a:t>British Howitz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696080" y="5943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ison G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artillery shells- explosion would release gas into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ain types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ine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troyed the respiratory organs of its victims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this led to a slow death by asphyxiation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ard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internal and external bleeding and attack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nchial tubes, stripping off the mucou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mbra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Most important piece of equipment was a soldiers gasmas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n average, soldiers exposed to either gas would suffer for 3-5 weeks before finally dy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238880" y="60199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the British to end the stalemate on the Western Front in 191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cause heavy damage to enemy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tough time crossing trenches- many early models got hung up in tren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tish develop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homboid shaped to get over trenches- made a significant contribution to the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FWWmother"/>
          <p:cNvPicPr/>
          <p:nvPr/>
        </p:nvPicPr>
        <p:blipFill>
          <a:blip r:embed="rId6"/>
          <a:stretch/>
        </p:blipFill>
        <p:spPr>
          <a:xfrm>
            <a:off x="914400" y="4343400"/>
            <a:ext cx="5397480" cy="2247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>
            <a:hlinkClick r:id="rId7" action="ppaction://hlinksldjump"/>
          </p:cNvPr>
          <p:cNvSpPr/>
          <p:nvPr/>
        </p:nvSpPr>
        <p:spPr>
          <a:xfrm>
            <a:off x="7924680" y="5105520"/>
            <a:ext cx="83844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3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what new types of weapons were used during World War 1 and the effectiveness that they had in the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3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rId4" action="ppaction://hlinksldjump"/>
          </p:cNvPr>
          <p:cNvSpPr/>
          <p:nvPr/>
        </p:nvSpPr>
        <p:spPr>
          <a:xfrm>
            <a:off x="7924680" y="57913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095880" y="5867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 to next sl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.A.I.N Causes of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433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</a:t>
            </a: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6" action="ppaction://hlinksldjump"/>
              </a:rPr>
              <a:t>lli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8" action="ppaction://hlinksldjump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10" action="ppaction://hlinksldjump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90920" y="3200400"/>
            <a:ext cx="2666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4800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11" action="ppaction://hlinksldjump"/>
              </a:rPr>
              <a:t>The Spark that started World War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867280" y="25909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each link to learn more about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 Complete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o back and review each objective,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ceed to the quiz on this entire lesson, click the arrow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143000" y="5105520"/>
            <a:ext cx="7467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5" action="ppaction://hlinksldjump"/>
              </a:rPr>
              <a:t>Move on to qu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>
            <a:hlinkClick r:id="rId6" action="ppaction://hlinksldjump"/>
          </p:cNvPr>
          <p:cNvSpPr/>
          <p:nvPr/>
        </p:nvSpPr>
        <p:spPr>
          <a:xfrm>
            <a:off x="62485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rections for Quiz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be given 15 questions based on the information in the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dvance to the next question, you must answer each question correc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econd to review your notes, then click on the arrow to beg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>
            <a:hlinkClick r:id="rId5" action="ppaction://hlinksldjump"/>
          </p:cNvPr>
          <p:cNvSpPr/>
          <p:nvPr/>
        </p:nvSpPr>
        <p:spPr>
          <a:xfrm>
            <a:off x="4495680" y="5181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What 3 major European countries made up the Triple Allianc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Germany, Austria-Hungary &amp;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Russia, Germany &amp;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Great 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Great Britain, France &amp;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Alliance was formed in 1882 and consisted of Germany, Austria-Hungary and Ita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33412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2. What 3 major European countries made up the Triple Entent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Russia, Germany &amp;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Britain, France and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Italy, Austria-Hungary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Entente was formed in 1907 and consisted of Great Britain, France and Russi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0958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What 3 major countries were part of the British Empire in 1914?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175248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China, Canada and 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Australia, Canada and Mex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anada, Mexico and Mongo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India, Canada and 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510552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o review map, click he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6" name="Picture 3" descr="empiremap"/>
          <p:cNvPicPr/>
          <p:nvPr/>
        </p:nvPicPr>
        <p:blipFill>
          <a:blip r:embed="rId2"/>
          <a:stretch/>
        </p:blipFill>
        <p:spPr>
          <a:xfrm>
            <a:off x="1828800" y="1752480"/>
            <a:ext cx="6629400" cy="4219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33526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33720" y="5943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make sure speakers are 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lick until video is o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5">
            <a:hlinkClick r:id="rId2" action="ppaction://hlinksldjump"/>
          </p:cNvPr>
          <p:cNvSpPr/>
          <p:nvPr/>
        </p:nvSpPr>
        <p:spPr>
          <a:xfrm>
            <a:off x="7924680" y="5943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he Assassination of Archduke Franz Ferdinan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33720" y="274320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3"/>
              </a:rPr>
              <a:t>The Spa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the British Empire covered more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400,000 square m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he largest territory the world had ever known at this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pire included the countries of India, Australia, Canada, New Zealand, South Africa, Hong Kong &amp; several island in the West In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6294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e practice of extending a nations power by gaining territories for a colonial empire is known as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eder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is the practice of extending a nations power by gaining terri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Britain was the wor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largest imperialist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70572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5. What is considered to be the 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spark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 that started World War 1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ritish Imperialist expans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ssassination of Franz Ferdin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Forming of the Triple En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orming of the Triple Alli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sassination of Archduke Franz Ferdinand is considered to be the spark that erupted Europe into total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6. 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hat were the M.A.I.N. causes of World War 1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, Autocracy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Marxism, Alliances, Individu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Militarism, Alliances, Imperi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Militarism, Alliances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.A.I.N. causes of World War 1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ld War 1 begi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assination of Archduke Franz Ferdinand wa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r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gnited Europe into Total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5, 1914- Austria- Hungary declared war on Ser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 War had beg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7315200" y="56386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7. Which front system extended from Switzerland to the North Sea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Ea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or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Sou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stern Front extended from Switzerland to the North S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5" descr="FWWwestern"/>
          <p:cNvPicPr/>
          <p:nvPr/>
        </p:nvPicPr>
        <p:blipFill>
          <a:blip r:embed="rId4"/>
          <a:stretch/>
        </p:blipFill>
        <p:spPr>
          <a:xfrm>
            <a:off x="2362320" y="2743200"/>
            <a:ext cx="388620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. In what year did World War 1 begi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19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19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19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- Hungary declared war on Serbia on August 5, 19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9. What 3 new weapons were introduced during World War 1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guns, jet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t action rifles, poison gas &amp; scud miss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son gas, apache helicopter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 were all introduced during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s and bolt action long range rifles were also int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pposing Sides during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58632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ied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 (19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76920" y="1828800"/>
            <a:ext cx="42670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al Pow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 Hung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 (Turke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257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efore i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lusion, 30 nations would fight in World War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6">
            <a:hlinkClick r:id="rId2" action="ppaction://hlinksldjump"/>
          </p:cNvPr>
          <p:cNvSpPr/>
          <p:nvPr/>
        </p:nvSpPr>
        <p:spPr>
          <a:xfrm>
            <a:off x="7620120" y="59436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10.  Before its</a:t>
            </a:r>
            <a:r>
              <a:rPr b="0" lang="ja-JP" sz="28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 conclusion, how many different countries fought in World War 1?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different nations fought in World War 1 before the war came to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562720" y="5486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y Good!!!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completed this lesson on the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your textbook will reinforce the major points emphasized in this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arrow to get your homework assig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733920" y="53341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your textbook &amp; notes, answer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paragraph, describe what life was like for soldiers fighting in the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ffects do you think the new technology (weapons) had on the way World War 1 was f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58128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shed- Return to home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Militarism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of aggressive prepar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began arming to protect their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ize and strength of mili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Europe to become extremely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57578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B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M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Alliances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2360" y="2460240"/>
            <a:ext cx="73389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formed alliances to create a balance of power throughout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ee a map of European Alliances in 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3429000"/>
            <a:ext cx="7315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WWalliance1"/>
          <p:cNvPicPr/>
          <p:nvPr/>
        </p:nvPicPr>
        <p:blipFill>
          <a:blip r:embed="rId2"/>
          <a:stretch/>
        </p:blipFill>
        <p:spPr>
          <a:xfrm>
            <a:off x="3276720" y="1752480"/>
            <a:ext cx="4108320" cy="5105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lliances prior to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0948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En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Alli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315200" y="4876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Return to M.A.I.N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62120" y="571500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st the countries included in each alliance in your not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4:21:27Z</dcterms:created>
  <dc:creator>gen</dc:creator>
  <dc:description/>
  <dc:language>en-US</dc:language>
  <cp:lastModifiedBy>AndrewWells</cp:lastModifiedBy>
  <dcterms:modified xsi:type="dcterms:W3CDTF">2013-04-15T11:58:53Z</dcterms:modified>
  <cp:revision>54</cp:revision>
  <dc:subject/>
  <dc:title>Causes of World War 1</dc:title>
</cp:coreProperties>
</file>