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579-44FB-4EE3-A28D-21D7EB00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F540-2637-4C66-BD34-A9BC3057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949-C02F-45B3-8EB0-E3B14DB4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2930-A1B0-4201-9971-D22F554C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B6C8-142C-43EF-AEE0-336C0FC8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628D-7A6F-48E2-B97C-C3FEBAE5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76DD-E3CD-4717-BC74-E567E11F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6F41-B19C-4F17-B02A-1DA1BA49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2C39-199F-47F6-9750-C8226947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6A6F-A72B-46A8-9BF3-F0548297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B608-1F87-4978-8A40-EB6F4F9E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204-E426-4DFC-9A4C-4151D1DD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2814-F7C0-440D-B90C-88060254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21F4-2804-4EDB-8C47-B307EF4B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78CD-43E2-47AD-9236-E1A24242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C830-B20A-42CF-9060-58B0F884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2809-C797-4F68-BA12-EF7FB666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1B22-E59C-41C7-8221-C3969764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B2F-8CCF-4266-ABFB-960B01B3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8640-7D0B-4262-9ADC-A99298A5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76ED-07E6-4985-91F9-E5D05710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11DE-8F81-4446-B030-55ED1631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348E-F44C-40B2-A4F2-B249A5C8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DD88-6396-4955-8C29-01618769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4B70-73D8-4D21-88E7-2001CBBCEB5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74FC-A9F0-41ED-94F5-BFCD27959E4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" Target="slide16.xml"/><Relationship Id="rId6" Type="http://schemas.openxmlformats.org/officeDocument/2006/relationships/image" Target="../media/image8.png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4.png"/><Relationship Id="rId9" Type="http://schemas.openxmlformats.org/officeDocument/2006/relationships/slide" Target="slide19.xml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5.jpeg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15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4.png"/><Relationship Id="rId7" Type="http://schemas.openxmlformats.org/officeDocument/2006/relationships/slide" Target="slide25.xml"/><Relationship Id="rId8" Type="http://schemas.openxmlformats.org/officeDocument/2006/relationships/slide" Target="slide25.xml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9.jpeg"/><Relationship Id="rId5" Type="http://schemas.openxmlformats.org/officeDocument/2006/relationships/slide" Target="slide26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0.jpeg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" Target="slide28.xml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21.jpeg"/><Relationship Id="rId7" Type="http://schemas.openxmlformats.org/officeDocument/2006/relationships/slide" Target="slide29.xml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30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4.png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image" Target="../media/image4.png"/><Relationship Id="rId8" Type="http://schemas.openxmlformats.org/officeDocument/2006/relationships/slide" Target="slide10.xml"/><Relationship Id="rId9" Type="http://schemas.openxmlformats.org/officeDocument/2006/relationships/image" Target="../media/image4.png"/><Relationship Id="rId10" Type="http://schemas.openxmlformats.org/officeDocument/2006/relationships/slide" Target="slide13.xml"/><Relationship Id="rId11" Type="http://schemas.openxmlformats.org/officeDocument/2006/relationships/slide" Target="slide4.xml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slide" Target="slide31.xml"/><Relationship Id="rId6" Type="http://schemas.openxmlformats.org/officeDocument/2006/relationships/slide" Target="slide31.xml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33.xml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34.xml"/><Relationship Id="rId4" Type="http://schemas.openxmlformats.org/officeDocument/2006/relationships/image" Target="../media/image4.png"/><Relationship Id="rId5" Type="http://schemas.openxmlformats.org/officeDocument/2006/relationships/slide" Target="slide32.xml"/><Relationship Id="rId6" Type="http://schemas.openxmlformats.org/officeDocument/2006/relationships/image" Target="../media/image4.png"/><Relationship Id="rId7" Type="http://schemas.openxmlformats.org/officeDocument/2006/relationships/slide" Target="slide32.xml"/><Relationship Id="rId8" Type="http://schemas.openxmlformats.org/officeDocument/2006/relationships/image" Target="../media/image4.png"/><Relationship Id="rId9" Type="http://schemas.openxmlformats.org/officeDocument/2006/relationships/slide" Target="slide32.xml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35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36.xml"/><Relationship Id="rId4" Type="http://schemas.openxmlformats.org/officeDocument/2006/relationships/image" Target="../media/image4.png"/><Relationship Id="rId5" Type="http://schemas.openxmlformats.org/officeDocument/2006/relationships/slide" Target="slide37.xml"/><Relationship Id="rId6" Type="http://schemas.openxmlformats.org/officeDocument/2006/relationships/image" Target="../media/image4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slide" Target="slide36.xml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5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38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0.xml"/><Relationship Id="rId3" Type="http://schemas.openxmlformats.org/officeDocument/2006/relationships/slide" Target="slide40.xml"/><Relationship Id="rId4" Type="http://schemas.openxmlformats.org/officeDocument/2006/relationships/slide" Target="slide40.xml"/><Relationship Id="rId5" Type="http://schemas.openxmlformats.org/officeDocument/2006/relationships/slide" Target="slide41.xml"/><Relationship Id="rId6" Type="http://schemas.openxmlformats.org/officeDocument/2006/relationships/slide" Target="slide39.xml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38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hyperlink" Target="http://www.youtube.com/watch?v=njINCi9iIrA" TargetMode="External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8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" Target="slide42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44.xml"/><Relationship Id="rId4" Type="http://schemas.openxmlformats.org/officeDocument/2006/relationships/image" Target="../media/image4.png"/><Relationship Id="rId5" Type="http://schemas.openxmlformats.org/officeDocument/2006/relationships/slide" Target="slide44.xml"/><Relationship Id="rId6" Type="http://schemas.openxmlformats.org/officeDocument/2006/relationships/image" Target="../media/image4.png"/><Relationship Id="rId7" Type="http://schemas.openxmlformats.org/officeDocument/2006/relationships/slide" Target="slide43.xml"/><Relationship Id="rId8" Type="http://schemas.openxmlformats.org/officeDocument/2006/relationships/image" Target="../media/image4.png"/><Relationship Id="rId9" Type="http://schemas.openxmlformats.org/officeDocument/2006/relationships/slide" Target="slide44.xml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45.xml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2.xm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47.xml"/><Relationship Id="rId4" Type="http://schemas.openxmlformats.org/officeDocument/2006/relationships/image" Target="../media/image4.png"/><Relationship Id="rId5" Type="http://schemas.openxmlformats.org/officeDocument/2006/relationships/slide" Target="slide46.xml"/><Relationship Id="rId6" Type="http://schemas.openxmlformats.org/officeDocument/2006/relationships/image" Target="../media/image4.png"/><Relationship Id="rId7" Type="http://schemas.openxmlformats.org/officeDocument/2006/relationships/slide" Target="slide47.xml"/><Relationship Id="rId8" Type="http://schemas.openxmlformats.org/officeDocument/2006/relationships/image" Target="../media/image4.png"/><Relationship Id="rId9" Type="http://schemas.openxmlformats.org/officeDocument/2006/relationships/slide" Target="slide47.xml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48.xm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5.xm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50.xml"/><Relationship Id="rId4" Type="http://schemas.openxmlformats.org/officeDocument/2006/relationships/image" Target="../media/image4.png"/><Relationship Id="rId5" Type="http://schemas.openxmlformats.org/officeDocument/2006/relationships/slide" Target="slide50.xml"/><Relationship Id="rId6" Type="http://schemas.openxmlformats.org/officeDocument/2006/relationships/image" Target="../media/image4.png"/><Relationship Id="rId7" Type="http://schemas.openxmlformats.org/officeDocument/2006/relationships/slide" Target="slide49.xml"/><Relationship Id="rId8" Type="http://schemas.openxmlformats.org/officeDocument/2006/relationships/image" Target="../media/image4.png"/><Relationship Id="rId9" Type="http://schemas.openxmlformats.org/officeDocument/2006/relationships/slide" Target="slide50.xml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" Target="slide51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8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53.xml"/><Relationship Id="rId4" Type="http://schemas.openxmlformats.org/officeDocument/2006/relationships/image" Target="../media/image4.png"/><Relationship Id="rId5" Type="http://schemas.openxmlformats.org/officeDocument/2006/relationships/slide" Target="slide52.xml"/><Relationship Id="rId6" Type="http://schemas.openxmlformats.org/officeDocument/2006/relationships/image" Target="../media/image4.png"/><Relationship Id="rId7" Type="http://schemas.openxmlformats.org/officeDocument/2006/relationships/slide" Target="slide53.xml"/><Relationship Id="rId8" Type="http://schemas.openxmlformats.org/officeDocument/2006/relationships/image" Target="../media/image4.png"/><Relationship Id="rId9" Type="http://schemas.openxmlformats.org/officeDocument/2006/relationships/slide" Target="slide53.xml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54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1.xml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55.xml"/><Relationship Id="rId4" Type="http://schemas.openxmlformats.org/officeDocument/2006/relationships/image" Target="../media/image4.png"/><Relationship Id="rId5" Type="http://schemas.openxmlformats.org/officeDocument/2006/relationships/slide" Target="slide56.xml"/><Relationship Id="rId6" Type="http://schemas.openxmlformats.org/officeDocument/2006/relationships/image" Target="../media/image4.png"/><Relationship Id="rId7" Type="http://schemas.openxmlformats.org/officeDocument/2006/relationships/slide" Target="slide56.xml"/><Relationship Id="rId8" Type="http://schemas.openxmlformats.org/officeDocument/2006/relationships/image" Target="../media/image4.png"/><Relationship Id="rId9" Type="http://schemas.openxmlformats.org/officeDocument/2006/relationships/slide" Target="slide56.xml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WordArt 5"/>
          <p:cNvSpPr txBox="1"/>
          <p:nvPr/>
        </p:nvSpPr>
        <p:spPr>
          <a:xfrm>
            <a:off x="1752480" y="762120"/>
            <a:ext cx="6172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USES OF WORLD WAR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0" name="Picture 25" descr="World War One Heading Graphic"/>
          <p:cNvPicPr/>
          <p:nvPr/>
        </p:nvPicPr>
        <p:blipFill>
          <a:blip r:embed="rId2"/>
          <a:stretch/>
        </p:blipFill>
        <p:spPr>
          <a:xfrm>
            <a:off x="2133720" y="1676520"/>
            <a:ext cx="5715000" cy="45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erialism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990720" y="1752480"/>
            <a:ext cx="73911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actice of extending a nations power by gaining territories for a colonial empi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countries began to compete to gain terri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late 18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, Britain was the worl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largest imperialist powe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ea typeface="ＭＳ Ｐゴシック"/>
                <a:hlinkClick r:id="rId2" action="ppaction://hlinksldjump"/>
              </a:rPr>
              <a:t>Map of Britain</a:t>
            </a:r>
            <a:r>
              <a:rPr b="0" lang="ja-JP" sz="2400" spc="-1" strike="noStrike" u="sng">
                <a:solidFill>
                  <a:srgbClr val="993300"/>
                </a:solidFill>
                <a:uFillTx/>
                <a:latin typeface="Arial"/>
                <a:ea typeface="ＭＳ Ｐゴシック"/>
                <a:hlinkClick r:id="rId3" action="ppaction://hlinksldjump"/>
              </a:rPr>
              <a:t>’</a:t>
            </a: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ea typeface="ＭＳ Ｐゴシック"/>
                <a:hlinkClick r:id="rId4" action="ppaction://hlinksldjump"/>
              </a:rPr>
              <a:t>s Empi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26" descr="empiremap"/>
          <p:cNvPicPr/>
          <p:nvPr/>
        </p:nvPicPr>
        <p:blipFill>
          <a:blip r:embed="rId2"/>
          <a:stretch/>
        </p:blipFill>
        <p:spPr>
          <a:xfrm>
            <a:off x="838080" y="1143000"/>
            <a:ext cx="8153640" cy="4648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ritish Empire in 1914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Text Box 1029"/>
          <p:cNvSpPr/>
          <p:nvPr/>
        </p:nvSpPr>
        <p:spPr>
          <a:xfrm>
            <a:off x="6934320" y="57150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"/>
                <a:hlinkClick r:id="rId3" action="ppaction://hlinksldjump"/>
              </a:rPr>
              <a:t>Move On to find the answer  </a:t>
            </a:r>
            <a:r>
              <a:rPr b="0" lang="en-US" sz="1800" spc="-1" strike="noStrike" u="sng">
                <a:solidFill>
                  <a:srgbClr val="993300"/>
                </a:solidFill>
                <a:uFillTx/>
                <a:latin typeface="Wingdings"/>
                <a:ea typeface="Wingdings"/>
                <a:hlinkClick r:id="rId4" action="ppaction://hlinksldjump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1030"/>
          <p:cNvSpPr/>
          <p:nvPr/>
        </p:nvSpPr>
        <p:spPr>
          <a:xfrm>
            <a:off x="1295280" y="5867280"/>
            <a:ext cx="556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hat 3 major countries were British controlled in 1914? (colored in Black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union-jack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48120" y="4191120"/>
            <a:ext cx="3429000" cy="17143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3047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482400"/>
                </a:solidFill>
                <a:latin typeface="Times New Roman"/>
              </a:rPr>
              <a:t>India, Canada and Australia were all    </a:t>
            </a:r>
            <a:r>
              <a:rPr b="1" lang="en-US" sz="28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482400"/>
                </a:solidFill>
                <a:latin typeface="Times New Roman"/>
              </a:rPr>
              <a:t>controlled by the British in 1914.</a:t>
            </a:r>
            <a:r>
              <a:rPr b="0" lang="en-US" sz="2000" spc="-1" strike="noStrike">
                <a:solidFill>
                  <a:srgbClr val="482400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482400"/>
                </a:solidFill>
                <a:latin typeface="Times New Roman"/>
              </a:rPr>
              <a:t>(remember this!!)</a:t>
            </a:r>
            <a:br>
              <a:rPr sz="2000"/>
            </a:br>
            <a:r>
              <a:rPr b="0" lang="en-US" sz="2000" spc="-1" strike="noStrike">
                <a:solidFill>
                  <a:srgbClr val="4824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819520" y="609588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lick on flag to return to MAIN scre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ationalism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as the desire of independent nations for dominance and presti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aused Europe to become very unstable in the early 1900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s nations competed to dominate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park would send Europe into total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>
            <a:hlinkClick r:id="rId5" action="ppaction://hlinksldjump"/>
          </p:cNvPr>
          <p:cNvSpPr/>
          <p:nvPr/>
        </p:nvSpPr>
        <p:spPr>
          <a:xfrm>
            <a:off x="7543800" y="5943600"/>
            <a:ext cx="685800" cy="457200"/>
          </a:xfrm>
          <a:custGeom>
            <a:avLst/>
            <a:gdLst>
              <a:gd name="textAreaLeft" fmla="*/ 0 w 685800"/>
              <a:gd name="textAreaRight" fmla="*/ 68616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bjective #1 Comple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be able to explain each of the MAIN causes of World War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ave any questions, please review the objective #1 lesson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ceed to objective # 2, click </a:t>
            </a: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rench Warfa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y of defending a position by fighting from deep, protected dit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Major front systems formed in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Eastern Fro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xtended from the Black Sea to the Baltic 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7" action="ppaction://hlinksldjump"/>
              </a:rPr>
              <a:t>Western Fro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xtended from Switzerland to the North 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209680" y="64008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fe in the trench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AutoShape 5">
            <a:hlinkClick r:id="rId8" action="ppaction://hlinksldjump"/>
          </p:cNvPr>
          <p:cNvSpPr/>
          <p:nvPr/>
        </p:nvSpPr>
        <p:spPr>
          <a:xfrm>
            <a:off x="6705720" y="6400800"/>
            <a:ext cx="838080" cy="304920"/>
          </a:xfrm>
          <a:custGeom>
            <a:avLst/>
            <a:gdLst>
              <a:gd name="textAreaLeft" fmla="*/ 130680 w 838080"/>
              <a:gd name="textAreaRight" fmla="*/ 733320 w 8380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523880" y="55627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lick on link to view map of each fro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astern Fron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5756760" y="6248520"/>
            <a:ext cx="277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3300"/>
                </a:solidFill>
                <a:uFillTx/>
                <a:latin typeface="Comic Sans MS"/>
                <a:hlinkClick r:id="rId2" action="ppaction://hlinksldjump"/>
              </a:rPr>
              <a:t>Return to previou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6" descr="eastern front"/>
          <p:cNvPicPr/>
          <p:nvPr/>
        </p:nvPicPr>
        <p:blipFill>
          <a:blip r:embed="rId3"/>
          <a:stretch/>
        </p:blipFill>
        <p:spPr>
          <a:xfrm>
            <a:off x="2133720" y="1676520"/>
            <a:ext cx="541008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Western Fron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6" name="Picture 3" descr="FWWwestern"/>
          <p:cNvPicPr/>
          <p:nvPr/>
        </p:nvPicPr>
        <p:blipFill>
          <a:blip r:embed="rId2"/>
          <a:stretch/>
        </p:blipFill>
        <p:spPr>
          <a:xfrm>
            <a:off x="2133720" y="1676520"/>
            <a:ext cx="6248160" cy="4473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5105520" y="6248520"/>
            <a:ext cx="3581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3300"/>
                </a:solidFill>
                <a:uFillTx/>
                <a:latin typeface="Comic Sans MS"/>
                <a:hlinkClick r:id="rId3" action="ppaction://hlinksldjump"/>
              </a:rPr>
              <a:t>Return to previou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ife in the Trench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d, wet, di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anitary- disease sp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nch R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dy L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nch f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rce Food Supp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tranch1"/>
          <p:cNvPicPr/>
          <p:nvPr/>
        </p:nvPicPr>
        <p:blipFill>
          <a:blip r:embed="rId8"/>
          <a:stretch/>
        </p:blipFill>
        <p:spPr>
          <a:xfrm>
            <a:off x="5029200" y="2133720"/>
            <a:ext cx="3808440" cy="3103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914400" y="5410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diers spent months in the trenches in these horrible condi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AutoShape 6">
            <a:hlinkClick r:id="rId9" action="ppaction://hlinksldjump"/>
          </p:cNvPr>
          <p:cNvSpPr/>
          <p:nvPr/>
        </p:nvSpPr>
        <p:spPr>
          <a:xfrm>
            <a:off x="7772400" y="6324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8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o- Man</a:t>
            </a:r>
            <a:r>
              <a:rPr b="0" lang="ja-JP" sz="4400" spc="-1" strike="noStrike">
                <a:solidFill>
                  <a:srgbClr val="4824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 Lan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rea between opposing trench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ighting took place in this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imag1456"/>
          <p:cNvPicPr/>
          <p:nvPr/>
        </p:nvPicPr>
        <p:blipFill>
          <a:blip r:embed="rId4"/>
          <a:stretch/>
        </p:blipFill>
        <p:spPr>
          <a:xfrm>
            <a:off x="1447920" y="3048120"/>
            <a:ext cx="7467480" cy="32004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>
            <a:hlinkClick r:id="rId5" action="ppaction://hlinksldjump"/>
          </p:cNvPr>
          <p:cNvSpPr/>
          <p:nvPr/>
        </p:nvSpPr>
        <p:spPr>
          <a:xfrm>
            <a:off x="6400800" y="640080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905120" y="640080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advance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US" sz="2800" spc="-1" strike="noStrike" u="sng">
                <a:solidFill>
                  <a:srgbClr val="993300"/>
                </a:solidFill>
                <a:uFillTx/>
                <a:latin typeface="Comic Sans MS"/>
                <a:hlinkClick r:id="rId2" action="ppaction://hlinksldjump"/>
              </a:rPr>
              <a:t>Analyze the major causes of World War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US" sz="2800" spc="-1" strike="noStrike" u="sng">
                <a:solidFill>
                  <a:srgbClr val="993300"/>
                </a:solidFill>
                <a:uFillTx/>
                <a:latin typeface="Comic Sans MS"/>
                <a:hlinkClick r:id="rId3" action="ppaction://hlinksldjump"/>
              </a:rPr>
              <a:t>Describe trench warf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US" sz="2800" spc="-1" strike="noStrike" u="sng">
                <a:solidFill>
                  <a:srgbClr val="993300"/>
                </a:solidFill>
                <a:uFillTx/>
                <a:latin typeface="Comic Sans MS"/>
                <a:hlinkClick r:id="rId4" action="ppaction://hlinksldjump"/>
              </a:rPr>
              <a:t>Analyze the effects of new weapons in World War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43000" y="5181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on each objective to start the less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Trench System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9" name="Picture 3" descr="FWWtrenchsystem"/>
          <p:cNvPicPr/>
          <p:nvPr/>
        </p:nvPicPr>
        <p:blipFill>
          <a:blip r:embed="rId2"/>
          <a:stretch/>
        </p:blipFill>
        <p:spPr>
          <a:xfrm>
            <a:off x="2133720" y="1752480"/>
            <a:ext cx="5715000" cy="43642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4">
            <a:hlinkClick r:id="rId3" action="ppaction://hlinksldjump"/>
          </p:cNvPr>
          <p:cNvSpPr/>
          <p:nvPr/>
        </p:nvSpPr>
        <p:spPr>
          <a:xfrm>
            <a:off x="7696080" y="624852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4724280" y="6248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adv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62120" y="2438280"/>
            <a:ext cx="129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you think the purpose of having 3 lines of trenches could be?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talemate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each sid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g in,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ir trenches, a stalemate occurred along the western fr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.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ability for either side to win a decisive vi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lemate lasted for 4 long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4">
            <a:hlinkClick r:id="rId5" action="ppaction://hlinksldjump"/>
          </p:cNvPr>
          <p:cNvSpPr/>
          <p:nvPr/>
        </p:nvSpPr>
        <p:spPr>
          <a:xfrm>
            <a:off x="7772400" y="5867280"/>
            <a:ext cx="914400" cy="60984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bjective #2 Comple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now be able to describe trench warfare and the conditions in which the soldiers fou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ave any questions, please review the objective #2 lesson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ceed to objective # 3, click </a:t>
            </a: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eapons of World War 1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766880"/>
            <a:ext cx="8458200" cy="14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ld War 1 saw the use of new weapons in combat that made war even more danger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819520" y="2819520"/>
            <a:ext cx="38098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w Weapons include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chine Gu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lt Action Rif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till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son G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5">
            <a:hlinkClick r:id="rId3" action="ppaction://hlinksldjump"/>
          </p:cNvPr>
          <p:cNvSpPr/>
          <p:nvPr/>
        </p:nvSpPr>
        <p:spPr>
          <a:xfrm>
            <a:off x="7924680" y="601992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ahoma"/>
              </a:rPr>
              <a:t>Machine Guns &amp; Bolt Action Rifle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19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hine Guns fired 400 to 600 rounds per min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side set up groups of machine guns along trenches to stop enemy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machinegun"/>
          <p:cNvPicPr/>
          <p:nvPr/>
        </p:nvPicPr>
        <p:blipFill>
          <a:blip r:embed="rId4"/>
          <a:stretch/>
        </p:blipFill>
        <p:spPr>
          <a:xfrm>
            <a:off x="5029200" y="2057400"/>
            <a:ext cx="3808440" cy="1227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FWWenfield"/>
          <p:cNvPicPr/>
          <p:nvPr/>
        </p:nvPicPr>
        <p:blipFill>
          <a:blip r:embed="rId5"/>
          <a:stretch/>
        </p:blipFill>
        <p:spPr>
          <a:xfrm>
            <a:off x="5029200" y="3962520"/>
            <a:ext cx="3886200" cy="11300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571500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chine G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791320" y="51055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olt Action Rif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990720" y="3886200"/>
            <a:ext cx="3962160" cy="18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lt Action rifles could be shot accurately up to 600 me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8077320" y="5867280"/>
            <a:ext cx="761760" cy="533520"/>
          </a:xfrm>
          <a:prstGeom prst="rightArrow">
            <a:avLst>
              <a:gd name="adj1" fmla="val 50000"/>
              <a:gd name="adj2" fmla="val 356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019920" y="5791320"/>
            <a:ext cx="2286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3300"/>
                </a:solidFill>
                <a:uFillTx/>
                <a:latin typeface="Tahoma"/>
                <a:hlinkClick r:id="rId7" action="ppaction://hlinksldjump"/>
              </a:rPr>
              <a:t>Continue </a:t>
            </a:r>
            <a:r>
              <a:rPr b="0" lang="en-US" sz="1600" spc="-1" strike="noStrike" u="sng">
                <a:solidFill>
                  <a:srgbClr val="993300"/>
                </a:solidFill>
                <a:uFillTx/>
                <a:latin typeface="Wingdings"/>
                <a:ea typeface="Wingdings"/>
                <a:hlinkClick r:id="rId8" action="ppaction://hlinksldjump"/>
              </a:rPr>
              <a:t>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ahoma"/>
              </a:rPr>
              <a:t>Machine Guns </a:t>
            </a:r>
            <a:r>
              <a:rPr b="0" lang="en-US" sz="2000" spc="-1" strike="noStrike">
                <a:solidFill>
                  <a:srgbClr val="482400"/>
                </a:solidFill>
                <a:latin typeface="Tahoma"/>
              </a:rPr>
              <a:t>(cont.)</a:t>
            </a:r>
            <a:r>
              <a:rPr b="0" lang="en-US" sz="4400" spc="-1" strike="noStrike">
                <a:solidFill>
                  <a:srgbClr val="4824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ad the firepower of approx. 100 rif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matically increased the number of casualties during WW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FWWmachinegunsV"/>
          <p:cNvPicPr/>
          <p:nvPr/>
        </p:nvPicPr>
        <p:blipFill>
          <a:blip r:embed="rId4"/>
          <a:stretch/>
        </p:blipFill>
        <p:spPr>
          <a:xfrm>
            <a:off x="5022720" y="2619360"/>
            <a:ext cx="3808440" cy="24084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5410080" y="556272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ahoma"/>
                <a:hlinkClick r:id="rId5" action="ppaction://hlinksldjump"/>
              </a:rPr>
              <a:t>Artillery</a:t>
            </a:r>
            <a:r>
              <a:rPr b="0" lang="en-US" sz="2400" spc="-1" strike="noStrike" u="sng">
                <a:solidFill>
                  <a:srgbClr val="993300"/>
                </a:solidFill>
                <a:uFillTx/>
                <a:latin typeface="Wingdings"/>
                <a:ea typeface="Wingdings"/>
                <a:hlinkClick r:id="rId6" action="ppaction://hlinksldjump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rtille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unched artillery shells over 15 km that exploded into deadly fragments over enemy posi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FWWartiller"/>
          <p:cNvPicPr/>
          <p:nvPr/>
        </p:nvPicPr>
        <p:blipFill>
          <a:blip r:embed="rId3"/>
          <a:stretch/>
        </p:blipFill>
        <p:spPr>
          <a:xfrm>
            <a:off x="2819520" y="3276720"/>
            <a:ext cx="4514760" cy="2693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4038480" y="601992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82400"/>
                </a:solidFill>
                <a:latin typeface="Tahoma"/>
              </a:rPr>
              <a:t>British Howitz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7696080" y="59436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Comic Sans MS"/>
                <a:hlinkClick r:id="rId4" action="ppaction://hlinksldjump"/>
              </a:rPr>
              <a:t>Poison G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oison G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artillery shells- explosion would release gas into tren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Main types 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ine Gas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stroyed the respiratory organs of its victims an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this led to a slow death by asphyxiation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ard Gas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used internal and external bleeding and attack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e bronchial tubes, stripping off the mucou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embra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Most important piece of equipment was a soldiers gasmas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n average, soldiers exposed to either gas would suffer for 3-5 weeks before finally dy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7238880" y="601992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Comic Sans MS"/>
                <a:hlinkClick r:id="rId6" action="ppaction://hlinksldjump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ank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by the British to end the stalemate on the Western Front in 191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cause heavy damage to enemy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d tough time crossing trenches- many early models got hung up in trench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itish developed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 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rhomboid shaped to get over trenches- made a significant contribution to the w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4" descr="FWWmother"/>
          <p:cNvPicPr/>
          <p:nvPr/>
        </p:nvPicPr>
        <p:blipFill>
          <a:blip r:embed="rId6"/>
          <a:stretch/>
        </p:blipFill>
        <p:spPr>
          <a:xfrm>
            <a:off x="914400" y="4343400"/>
            <a:ext cx="5397480" cy="224784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5">
            <a:hlinkClick r:id="rId7" action="ppaction://hlinksldjump"/>
          </p:cNvPr>
          <p:cNvSpPr/>
          <p:nvPr/>
        </p:nvSpPr>
        <p:spPr>
          <a:xfrm>
            <a:off x="7924680" y="5105520"/>
            <a:ext cx="83844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bjective #3 Comple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now be able to describe what new types of weapons were used during World War 1 and the effectiveness that they had in the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ave any questions, please review the objective #3 lesson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4">
            <a:hlinkClick r:id="rId4" action="ppaction://hlinksldjump"/>
          </p:cNvPr>
          <p:cNvSpPr/>
          <p:nvPr/>
        </p:nvSpPr>
        <p:spPr>
          <a:xfrm>
            <a:off x="7924680" y="579132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095880" y="586728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vance to next sli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M.A.I.N Causes of WW1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34336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Militar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A</a:t>
            </a:r>
            <a:r>
              <a:rPr b="0" lang="en-US" sz="4400" spc="-1" strike="noStrike" u="sng">
                <a:solidFill>
                  <a:srgbClr val="993300"/>
                </a:solidFill>
                <a:uFillTx/>
                <a:latin typeface="Times New Roman"/>
                <a:hlinkClick r:id="rId6" action="ppaction://hlinksldjump"/>
              </a:rPr>
              <a:t>lli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300"/>
                </a:solidFill>
                <a:uFillTx/>
                <a:latin typeface="Times New Roman"/>
                <a:hlinkClick r:id="rId8" action="ppaction://hlinksldjump"/>
              </a:rPr>
              <a:t>Imperi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300"/>
                </a:solidFill>
                <a:uFillTx/>
                <a:latin typeface="Times New Roman"/>
                <a:hlinkClick r:id="rId10" action="ppaction://hlinksldjump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590920" y="3200400"/>
            <a:ext cx="2666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838080" y="4800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Arial"/>
                <a:hlinkClick r:id="rId11" action="ppaction://hlinksldjump"/>
              </a:rPr>
              <a:t>The Spark that started World War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5867280" y="259092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each link to learn more about the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Comic Sans MS"/>
              </a:rPr>
              <a:t>Objectives Complete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go back and review each objective, </a:t>
            </a:r>
            <a:r>
              <a:rPr b="0" lang="en-US" sz="2800" spc="-1" strike="noStrike" u="sng">
                <a:solidFill>
                  <a:srgbClr val="993300"/>
                </a:solidFill>
                <a:uFillTx/>
                <a:latin typeface="Comic Sans MS"/>
                <a:hlinkClick r:id="rId3" action="ppaction://hlinksldjump"/>
              </a:rPr>
              <a:t>click 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proceed to the quiz on this entire lesson, click the arrow b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143000" y="5105520"/>
            <a:ext cx="7467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3300"/>
                </a:solidFill>
                <a:uFillTx/>
                <a:latin typeface="Comic Sans MS"/>
                <a:hlinkClick r:id="rId5" action="ppaction://hlinksldjump"/>
              </a:rPr>
              <a:t>Move on to quiz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AutoShape 5">
            <a:hlinkClick r:id="rId6" action="ppaction://hlinksldjump"/>
          </p:cNvPr>
          <p:cNvSpPr/>
          <p:nvPr/>
        </p:nvSpPr>
        <p:spPr>
          <a:xfrm>
            <a:off x="6248520" y="5029200"/>
            <a:ext cx="838080" cy="609480"/>
          </a:xfrm>
          <a:prstGeom prst="rightArrow">
            <a:avLst>
              <a:gd name="adj1" fmla="val 50000"/>
              <a:gd name="adj2" fmla="val 34377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rections for Quiz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be given 15 questions based on the information in the les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advance to the next question, you must answer each question correct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a second to review your notes, then click on the arrow to beg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4">
            <a:hlinkClick r:id="rId5" action="ppaction://hlinksldjump"/>
          </p:cNvPr>
          <p:cNvSpPr/>
          <p:nvPr/>
        </p:nvSpPr>
        <p:spPr>
          <a:xfrm>
            <a:off x="4495680" y="518148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Try Ag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1. What 3 major European countries made up the Triple Alliance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Germany, Austria-Hungary &amp; It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Russia, Germany &amp;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7" action="ppaction://hlinksldjump"/>
              </a:rPr>
              <a:t>Great Britain, France &amp;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9" action="ppaction://hlinksldjump"/>
              </a:rPr>
              <a:t>Great Britain, France &amp; Ser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82400"/>
                </a:solidFill>
                <a:latin typeface="Times New Roman"/>
              </a:rPr>
              <a:t>CORRECT!!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ple Alliance was formed in 1882 and consisted of Germany, Austria-Hungary and Ita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334120" y="5562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2. What 3 major European countries made up the Triple Entente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Russia, Germany &amp;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Britain, France &amp;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7" action="ppaction://hlinksldjump"/>
              </a:rPr>
              <a:t>Britain, France and It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9" action="ppaction://hlinksldjump"/>
              </a:rPr>
              <a:t>Italy, Austria-Hungary &amp;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Try Ag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Correct!!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ple Entente was formed in 1907 and consisted of Great Britain, France and Russia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6095880" y="5410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. What 3 major countries were part of the British Empire in 1914?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838080" y="1752480"/>
            <a:ext cx="7620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China, Canada and Ind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Australia, Canada and Mex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4" action="ppaction://hlinksldjump"/>
              </a:rPr>
              <a:t>Canada, Mexico and Mongol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India, Canada and Austral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38080" y="5105520"/>
            <a:ext cx="289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3300"/>
                </a:solidFill>
                <a:uFillTx/>
                <a:latin typeface="Comic Sans MS"/>
                <a:hlinkClick r:id="rId6" action="ppaction://hlinksldjump"/>
              </a:rPr>
              <a:t>To review map, click he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ritish Empire in 1914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26" name="Picture 3" descr="empiremap"/>
          <p:cNvPicPr/>
          <p:nvPr/>
        </p:nvPicPr>
        <p:blipFill>
          <a:blip r:embed="rId2"/>
          <a:stretch/>
        </p:blipFill>
        <p:spPr>
          <a:xfrm>
            <a:off x="1828800" y="1752480"/>
            <a:ext cx="6629400" cy="42195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3352680" y="6172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133720" y="5943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ease make sure speakers are 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click until video is ov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AutoShape 5">
            <a:hlinkClick r:id="rId2" action="ppaction://hlinksldjump"/>
          </p:cNvPr>
          <p:cNvSpPr/>
          <p:nvPr/>
        </p:nvSpPr>
        <p:spPr>
          <a:xfrm>
            <a:off x="7924680" y="594360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The Assassination of Archduke Franz Ferdinan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2133720" y="2743200"/>
            <a:ext cx="586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Comic Sans MS"/>
                <a:hlinkClick r:id="rId3"/>
              </a:rPr>
              <a:t>The Spark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Try Ag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82400"/>
                </a:solidFill>
                <a:latin typeface="Times New Roman"/>
              </a:rPr>
              <a:t>Correct!!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14, the British Empire covered more th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,400,000 square m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was the largest territory the world had ever known at this 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mpire included the countries of India, Australia, Canada, New Zealand, South Africa, Hong Kong &amp; several island in the West Ind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62940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4" action="ppaction://hlinksldjump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The practice of extending a nations power by gaining territories for a colonial empire is known as: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Milita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Nation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7" action="ppaction://hlinksldjump"/>
              </a:rPr>
              <a:t>Imperi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9" action="ppaction://hlinksldjump"/>
              </a:rPr>
              <a:t>Feder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rect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erialism is the practice of extending a nations power by gaining terri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14, Britain was the world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largest imperialist p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6705720" y="5562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4" action="ppaction://hlinksldjump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Try Ag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5. What is considered to be the </a:t>
            </a:r>
            <a:r>
              <a:rPr b="0" lang="ja-JP" sz="3600" spc="-1" strike="noStrike">
                <a:solidFill>
                  <a:srgbClr val="4824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spark</a:t>
            </a:r>
            <a:r>
              <a:rPr b="0" lang="ja-JP" sz="3600" spc="-1" strike="noStrike">
                <a:solidFill>
                  <a:srgbClr val="4824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 that started World War 1?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British Imperialist expansio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Assassination of Franz Ferdin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7" action="ppaction://hlinksldjump"/>
              </a:rPr>
              <a:t>Forming of the Triple Ent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9" action="ppaction://hlinksldjump"/>
              </a:rPr>
              <a:t>Forming of the Triple Alli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rect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ssassination of Archduke Franz Ferdinand is considered to be the spark that erupted Europe into total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6553080" y="548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Try Ag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6. 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What were the M.A.I.N. causes of World War 1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Militarism, Autocracy, Imperialism, Naz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Marxism, Alliances, Individualism, 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3300"/>
                </a:solidFill>
                <a:uFillTx/>
                <a:latin typeface="Times New Roman"/>
                <a:hlinkClick r:id="rId7" action="ppaction://hlinksldjump"/>
              </a:rPr>
              <a:t>Militarism, Alliances, Imperialism, 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3300"/>
                </a:solidFill>
                <a:uFillTx/>
                <a:latin typeface="Times New Roman"/>
                <a:hlinkClick r:id="rId9" action="ppaction://hlinksldjump"/>
              </a:rPr>
              <a:t>Militarism, Alliances, Imperialism, Naz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rect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.A.I.N. causes of World War 1 w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eri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6553080" y="548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7" action="ppaction://hlinksldjump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orld War 1 begi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ssassination of Archduke Franz Ferdinand wa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ark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ignited Europe into Total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 5, 1914- Austria- Hungary declared war on Ser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eat War had beg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">
            <a:hlinkClick r:id="rId5" action="ppaction://hlinksldjump"/>
          </p:cNvPr>
          <p:cNvSpPr/>
          <p:nvPr/>
        </p:nvSpPr>
        <p:spPr>
          <a:xfrm>
            <a:off x="7315200" y="563868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Try Ag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7. Which front system extended from Switzerland to the North Sea?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Eastern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Western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7" action="ppaction://hlinksldjump"/>
              </a:rPr>
              <a:t>Northern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9" action="ppaction://hlinksldjump"/>
              </a:rPr>
              <a:t>Southern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rect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stern Front extended from Switzerland to the North Se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6553080" y="548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Picture 5" descr="FWWwestern"/>
          <p:cNvPicPr/>
          <p:nvPr/>
        </p:nvPicPr>
        <p:blipFill>
          <a:blip r:embed="rId4"/>
          <a:stretch/>
        </p:blipFill>
        <p:spPr>
          <a:xfrm>
            <a:off x="2362320" y="2743200"/>
            <a:ext cx="3886200" cy="31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Try Ag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8. In what year did World War 1 begin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19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19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7" action="ppaction://hlinksldjump"/>
              </a:rPr>
              <a:t>19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9" action="ppaction://hlinksldjump"/>
              </a:rPr>
              <a:t>19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rect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stria- Hungary declared war on Serbia on August 5, 191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6553080" y="548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Try Ag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9. What 3 new weapons were introduced during World War 1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 guns, jets &amp; t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t action rifles, poison gas &amp; scud miss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illery shells, machine guns &amp; poison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son gas, apache helicopters &amp; t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rect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illery shells, machine guns &amp; poison gas were all introduced during World War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ks and bolt action long range rifles were also int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6553080" y="548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Try Ag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pposing Sides during WW1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358632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ied P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aly (19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ed States (19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876920" y="1828800"/>
            <a:ext cx="426708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entral Pow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ia- Hung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toman Empire (Turke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62120" y="5257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Before i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clusion, 30 nations would fight in World War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AutoShape 6">
            <a:hlinkClick r:id="rId2" action="ppaction://hlinksldjump"/>
          </p:cNvPr>
          <p:cNvSpPr/>
          <p:nvPr/>
        </p:nvSpPr>
        <p:spPr>
          <a:xfrm>
            <a:off x="7620120" y="5943600"/>
            <a:ext cx="1066680" cy="533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8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2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10.  Before its</a:t>
            </a:r>
            <a:r>
              <a:rPr b="0" lang="ja-JP" sz="2800" spc="-1" strike="noStrike">
                <a:solidFill>
                  <a:srgbClr val="4824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 conclusion, how many different countries fought in World War 1?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rect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 different nations fought in World War 1 before the war came to an 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562720" y="54864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Sorry, that is not the correct answer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Try Again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ery Good!!!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have completed this lesson on the Causes of World War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your textbook will reinforce the major points emphasized in this les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the arrow to get your homework assign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3733920" y="53341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your textbook &amp; notes, answer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ne paragraph, describe what life was like for soldiers fighting in the tren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ffects do you think the new technology (weapons) had on the way World War 1 was fou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581280" y="59436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shed- Return to home scre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82400"/>
                </a:solidFill>
                <a:latin typeface="Times New Roman"/>
              </a:rPr>
              <a:t>Militarism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cy of aggressive prepare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nations began arming to protect their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size and strength of milit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Europe to become extremely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575784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"/>
                <a:hlinkClick r:id="rId5" action="ppaction://hlinksldjump"/>
              </a:rPr>
              <a:t>Back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MAIN Cau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82400"/>
                </a:solidFill>
                <a:latin typeface="Times New Roman"/>
              </a:rPr>
              <a:t>Alliances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22360" y="2460240"/>
            <a:ext cx="7338960" cy="23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nations formed alliances to create a balance of power throughout Euro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3300"/>
                </a:solidFill>
                <a:uFillTx/>
                <a:latin typeface="Times New Roman"/>
                <a:hlinkClick r:id="rId4" action="ppaction://hlinksldjump"/>
              </a:rPr>
              <a:t>Click he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 see a map of European Alliances in 191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914400" y="3429000"/>
            <a:ext cx="7315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FWWalliance1"/>
          <p:cNvPicPr/>
          <p:nvPr/>
        </p:nvPicPr>
        <p:blipFill>
          <a:blip r:embed="rId2"/>
          <a:stretch/>
        </p:blipFill>
        <p:spPr>
          <a:xfrm>
            <a:off x="3276720" y="1752480"/>
            <a:ext cx="4108320" cy="5105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Alliances prior to World War 1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09480" y="4648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Triple Ent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Pin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Triple Alli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7315200" y="4876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Arial"/>
                <a:hlinkClick r:id="rId3" action="ppaction://hlinksldjump"/>
              </a:rPr>
              <a:t>Return to M.A.I.N p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762120" y="5715000"/>
            <a:ext cx="2361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st the countries included in each alliance in your note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2T14:21:27Z</dcterms:created>
  <dc:creator>gen</dc:creator>
  <dc:description/>
  <dc:language>en-US</dc:language>
  <cp:lastModifiedBy>AndrewWells</cp:lastModifiedBy>
  <dcterms:modified xsi:type="dcterms:W3CDTF">2013-04-15T11:58:53Z</dcterms:modified>
  <cp:revision>54</cp:revision>
  <dc:subject/>
  <dc:title>Causes of World War 1</dc:title>
</cp:coreProperties>
</file>