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6603-0C4D-4AED-A499-AE6CE9419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6C21-8E3D-46C2-A36E-9B808A3BE1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83FE-E1E9-4313-A980-E0F8D68E72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1E37-07B3-49F2-9031-89D9A90917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EDD0-9714-41C7-80FD-4B913838C1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2F49-B72E-47D1-819D-BD41AFC870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1F96-2679-4CC5-A472-8BFA7CE586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263-B273-4A3D-9C27-A871C040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4D4-9E1C-490A-AD41-05DA4140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023-3113-444B-9C68-8C37890E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99B-0BE2-46A2-888D-99B901A6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7E2A-B9C6-4918-A6F0-B5D75374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EBF3-9F76-40F1-B7B3-C2A6EFD9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FDB9-8B15-4C67-BD61-ACF187D5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32EA-32C4-415B-8983-7C1D59B4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582D-372A-4358-A5FA-952FE621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B0B0-97A0-4281-A360-A671B44D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EAE3-6437-4AD2-90BA-164A46A8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C93-A8D5-4B1B-9FC3-389184CD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C3A8-928C-4FFB-93C3-AFE75DC8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3F2C-2317-4C44-AC79-52000146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B42E-0057-4468-9B62-D0BF6CE7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6B52-69B2-452A-99A3-49E5B9F3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ACC3-2890-41BA-9F74-B0E7B8FF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97D-24E3-4565-9EDA-5E6D8599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229-7366-408B-8710-661D8DA2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0A1-40C7-43C3-9E4A-A07B6F5B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37F-CDCD-42FF-B942-A5E23A63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B2B-76D7-4B1F-89CE-71B20FBA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DA4-07A0-42AB-A0DA-261BF827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9D6-131C-4143-8BF9-5DB012E9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ACDD-DEB1-4F64-819D-6A0D5F90A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92A6-18D9-4D9A-8BCF-BE82D02D28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AUS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17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Led by Rober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live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, the British Eas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dian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Co. (B.E.I. co.) defeats Mughal Empire @ Battle of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Plass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B.E.I.Co. ruled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dia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/little interference from British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gov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til 1800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BEI Co. has its own army; B. officers and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epoy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soldiers (Indian soldi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British establish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ailroad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network in In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ailroad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transport of raw materials from interior to ports; manufactured goods transported from coast to inter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RR helps to unify India &amp; improve economy 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OFIT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FOR BRITAI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British restricted Indian own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dustries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such as cotton textiles and reduced food production in favor of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SH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Villagers are no longer self-suffici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Food production declines and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famine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sets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- The Sepoy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ut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- cartridges for rifles rumored to be sealed with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nimal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at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; refusal of sepoys to use leads to punishment and the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be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year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of vio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BEI Co. asks British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ov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 for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British gov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 takes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mplete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control of India (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Raj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acism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and mut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trust in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8e4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5.CA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Division betwee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Hindus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and Muslims prevents Indian unity against Brit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am Mohun Ro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alls for reform/moder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India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ationalist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feelings grow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Indian National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ngres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and later,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uslim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League are form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BOTH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groups call for indepen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NATION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Ch. 27 Guided Reading – Section 4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ITISH IMPERIALISM IN IN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6. CAU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- Britain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partitions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Bengal Region into two separate Hindu and Muslim s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(PARTI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separat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divid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-Resentment by Muslim and Hindu to British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artiti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-British change policy to redraw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oundarie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in favor of Indians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wis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*Shows Indians that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UNIT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works (Gandhi 194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4:34:57Z</dcterms:created>
  <dc:creator>Olean Community School</dc:creator>
  <dc:description/>
  <dc:language>en-US</dc:language>
  <cp:lastModifiedBy>Katherine Silver</cp:lastModifiedBy>
  <dcterms:modified xsi:type="dcterms:W3CDTF">2017-12-01T23:48:17Z</dcterms:modified>
  <cp:revision>8</cp:revision>
  <dc:subject/>
  <dc:title>Ch. 27 Guided Reading – Section 4 BRITISH IMPERIALISM IN INDIA</dc:title>
</cp:coreProperties>
</file>