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DF8-F5DA-4CF4-8ADE-8BB4BD4D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37E-A0C1-4861-822C-457916C70F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3BF7-4CF7-49AA-B332-4A77C9398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80A8-87B3-4EFE-BE9E-8A47B365FE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66B5-50BF-4394-8661-1DF39FF4C3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73AF-A042-4008-A4DA-5750E8EF1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1D4-557F-4690-8EDE-425306A00F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B3A-84B3-4037-9899-12E26A11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08A-0891-46E4-9321-D1C4EF6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671-9DB4-49E4-BF3F-21A61198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0F1-F522-4646-87FF-231F3C9C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659-A04A-41A8-A990-795F139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7FF7-D749-48F9-B304-72233F0B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C0E-E2C2-4AEC-A49E-3039165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BA09-7579-460C-AF71-79A0699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55B-42A5-4192-84AC-7F754FA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B68-D351-4A86-9335-3A5D59A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4ACF-0002-4853-830B-9ABED68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9D2-8C81-4FD0-8494-81E3ADF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463E-34D7-4C24-BCE6-BCE77CE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27AB-C909-4C0F-AA1C-8F85DAC6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2BE-868D-4A86-9A3C-79AD98E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BD10-B433-4FCD-B124-FFABF333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5845-D053-441F-A67E-962F7E44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3D4-8C9B-480C-B104-C2B2C0B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056-9BF8-445F-BC4E-336313E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866-E048-4834-ABDD-A544369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E0C-F060-4790-83B3-8DEFD7E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61A-BEE7-4294-A8F9-892095A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5B2-E87A-4B19-A876-B8A8D81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D8B-B51A-413B-B22E-B64F8293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2818-5453-45F0-A8F4-D4FBC87E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0E37-0D08-43EB-99A3-D4D9C05F0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17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Led by Rober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live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, the British Eas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ian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o. (B.E.I. co.) defeats Mughal Empire @ Battle of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las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.E.I.Co. ru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dia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/little interference from British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ov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til 1800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has its own army; B. officers 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po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oldiers (Indian soldi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establish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network in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ransport of raw materials from interior to ports; manufactured goods transported from coast to i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RR helps to unify India &amp; improve economy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FIT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FOR BRIT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restricted Indian own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ustrie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such as cotton textiles and reduced food production in favor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SH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Villagers are no longer self-suffici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Food production declines and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amin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et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The Sepo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ut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cartridges for rifles rumored to be sealed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nimal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; refusal of sepoys to use leads to punishment and th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yea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of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asks Britis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ritish 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take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control of India (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Raj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cis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mu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ust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8e4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5.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ivision betwe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indu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and Muslims prevents Indian unity against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m Mohun Ro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lls for reform/moder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ndi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ationalist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feelings grow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Indian National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gres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later,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sli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League are form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groups call for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6. CA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 Britain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artitions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Bengal Region into two separate Hindu and Muslim s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(PART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para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ivid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Resentment by Muslim and Hindu to British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British change policy to redraw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oundari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 favor of Indians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Shows Indians tha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UNIT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orks (Gandhi 19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34:57Z</dcterms:created>
  <dc:creator>Olean Community School</dc:creator>
  <dc:description/>
  <dc:language>en-US</dc:language>
  <cp:lastModifiedBy>Katherine Silver</cp:lastModifiedBy>
  <dcterms:modified xsi:type="dcterms:W3CDTF">2017-12-01T23:48:17Z</dcterms:modified>
  <cp:revision>8</cp:revision>
  <dc:subject/>
  <dc:title>Ch. 27 Guided Reading – Section 4 BRITISH IMPERIALISM IN INDIA</dc:title>
</cp:coreProperties>
</file>