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5E90-C7C7-4A95-96D2-CF49F8789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5B3B-2DA9-488A-B432-9E715E8159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1D0F-D206-4044-9608-0CCE852B17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4A2D-C42B-4A4E-87E5-DBCEFBD89A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54AB-D388-42C9-AEF0-F681D8C853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E0B0-8C33-4CB8-8C3D-3D01674809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BB36-9A55-4F55-9FF3-8E26FF7489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CFAC-4A4A-4CB7-9239-B17C7135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AA16-188B-465B-A12E-7114436B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0C74-0A22-4A7B-B611-98CB3C37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9BB-079E-47CA-82CC-252EFDA4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99F7-074B-4600-B44D-316C451A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AAC7-7237-4F17-8834-32B023EC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CFBC-C9A2-4AAA-A90D-31EDE64E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1874-9EA3-4704-9B24-01891590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0B09-90A7-49D9-B199-BEE24898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3A04-98A2-498D-A001-50398CEA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83C4-086A-4247-BE80-56604CCC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5D8B-210A-499B-A904-8896595C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3A38-A3E8-4864-AC13-A2C931EC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52BF-E5D6-4B39-AD84-0EA67FD6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140C-6BCE-4984-B133-6488696C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2623-E8EA-4CBD-BDB3-3D001789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12B1-CEED-410A-89B1-F97AB8E8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8BF8-3C8E-4217-8A7B-E52B5BC6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F114-F0FE-4E7A-B146-C1426097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18E-4EBA-427E-966C-76ABB117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F7B5-0D15-41BA-9C96-175EC58F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D9A2-5CF3-44E4-B045-2FD13641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FEBF-014B-4012-99D6-7ABAA61A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8F88-5421-4EFE-8E24-76B60380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5AFE-C7A2-45C8-8EF8-C562123FA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079F-79C7-40CB-B868-F36068B50A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Arial"/>
              </a:rPr>
              <a:t>Ch. 27 Guided Reading – Section 4</a:t>
            </a:r>
            <a:br>
              <a:rPr sz="28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RITISH IMPERIALISM IN IND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CAUS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17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Led by Rober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live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, the British Eas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dian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Co. (B.E.I. co.) defeats Mughal Empire @ Battle of</a:t>
            </a: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Plass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FF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B.E.I.Co. ruled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India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w/little interference from British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gov</a:t>
            </a: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until 1800</a:t>
            </a:r>
            <a:r>
              <a:rPr b="0" lang="ja-JP" sz="28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BEI Co. has its own army; B. officers and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Sepoy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soldiers (Indian soldi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Arial"/>
              </a:rPr>
              <a:t>Ch. 27 Guided Reading – Section 4</a:t>
            </a:r>
            <a:br>
              <a:rPr sz="28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RITISH IMPERIALISM IN IND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CAU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British establish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ailroad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network in Ind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FFEC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Railroad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transport of raw materials from interior to ports; manufactured goods transported from coast to interi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RR helps to unify India &amp; improve economy =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PROFITS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FOR BRITAI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Arial"/>
              </a:rPr>
              <a:t>Ch. 27 Guided Reading – Section 4</a:t>
            </a:r>
            <a:br>
              <a:rPr sz="28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RITISH IMPERIALISM IN IND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CAU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British restricted Indian owne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dustries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such as cotton textiles and reduced food production in favor of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ASH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FFEC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 Villagers are no longer self-sufficie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 Food production declines and 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famine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sets 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Arial"/>
              </a:rPr>
              <a:t>Ch. 27 Guided Reading – Section 4</a:t>
            </a:r>
            <a:br>
              <a:rPr sz="28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ITISH IMPERIALISM IN IND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CAU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- The Sepoy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ut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- cartridges for rifles rumored to be sealed with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nimal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at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; refusal of sepoys to use leads to punishment and the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be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FFECT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1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year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of vio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BEI Co. asks British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gov</a:t>
            </a:r>
            <a:r>
              <a:rPr b="0" lang="ja-JP" sz="28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 for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British gov</a:t>
            </a:r>
            <a:r>
              <a:rPr b="0" lang="ja-JP" sz="28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 takes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omplete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control of India (</a:t>
            </a:r>
            <a:r>
              <a:rPr b="0" lang="ja-JP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Raj</a:t>
            </a:r>
            <a:r>
              <a:rPr b="0" lang="ja-JP" sz="28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Racism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and mut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strust incr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8e4"/>
                </a:solidFill>
                <a:latin typeface="Arial"/>
              </a:rPr>
              <a:t>Ch. 27 Guided Reading – Section 4</a:t>
            </a:r>
            <a:br>
              <a:rPr sz="28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RITISH IMPERIALISM IN IND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5.CAU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Division betwee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Hindus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and Muslims prevents Indian unity against Brit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am Mohun Ro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calls for reform/moder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India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ationalist</a:t>
            </a: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feelings grow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FFEC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Indian National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ongress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and later, th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Muslim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League are forme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BOTH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groups call for independe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NATION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Arial"/>
              </a:rPr>
              <a:t>Ch. 27 Guided Reading – Section 4</a:t>
            </a:r>
            <a:br>
              <a:rPr sz="28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RITISH IMPERIALISM IN IND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6. CAU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- Britain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partitions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Bengal Region into two separate Hindu and Muslim se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(PARTITIO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separat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divid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FFEC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-Resentment by Muslim and Hindu to British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partitio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-British change policy to redraw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boundarie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in favor of Indians</a:t>
            </a:r>
            <a:r>
              <a:rPr b="0" lang="ja-JP" sz="24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wish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*Shows Indians that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UNITY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works (Gandhi 194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4:34:57Z</dcterms:created>
  <dc:creator>Olean Community School</dc:creator>
  <dc:description/>
  <dc:language>en-US</dc:language>
  <cp:lastModifiedBy>Katherine Silver</cp:lastModifiedBy>
  <dcterms:modified xsi:type="dcterms:W3CDTF">2017-12-01T23:48:17Z</dcterms:modified>
  <cp:revision>8</cp:revision>
  <dc:subject/>
  <dc:title>Ch. 27 Guided Reading – Section 4 BRITISH IMPERIALISM IN INDIA</dc:title>
</cp:coreProperties>
</file>