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79C0-C9F3-4ADD-BEF1-6F09C96EB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CFB0-202D-419E-9B5C-9159A0C6FAD5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DEE0-5509-4E70-B6A4-65F01E42E98C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3832-F777-4AC4-A368-FA5246C39BA8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D2B8-5F60-4BEF-879F-07F4C7A33F34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48FD-D9AD-4CCA-909F-92F2660A1ACA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9798-2095-4246-B8CF-501B590EE49C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5372-DDBC-44CE-B791-D51CDC573171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4EA0-4721-4B50-B0BA-D9FA461F59C4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CB0B-FF62-4B7E-913F-19752A8E788A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E300-583F-4248-9B10-12B1ADD67C8E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BF3D-21CE-452F-9895-3D2C427D8165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0404-6934-4D94-9AAC-2B7FFF4A4C20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6ABD-6988-4834-A0A9-8614A32EAD7D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3376-5C36-4462-B496-1C0B226D7F9A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6C27-B922-4497-AF52-A5623464DF4B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BCB3-3F93-43FB-9093-F4D8A90DFEF9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6A39-8817-40F8-A37A-A788CF18736D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61E9-E29C-4142-A439-97EC9BAB02BE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FF11-94D5-44CC-B20E-BDBD4CC95186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BD89-7CFB-4E91-9399-AF5F21F65078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C880-812F-40B1-A570-DF8C96087798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1564-AE6D-41EF-A0A0-59B6218CE9D3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3EF-2852-48D5-B014-5E05E443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B9A-518D-44E6-9471-1AC33282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1CF-00A8-464B-9FCC-167B9966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4CF-0E8A-4BB2-A339-E7488295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2972-96CE-45CA-8FC2-23DB2CEE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D009-6038-4D10-9AB2-304FC86B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F8D2-DC1D-4A4F-9081-B6DB2547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3387-38CE-49FD-9CDB-05E3BACF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E6CF-384F-446F-8F4B-BDB44A98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0FC8-E28D-4507-98E8-29485DE1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551B-31E7-417D-883F-EFBAB0BD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31A-0C14-419B-B670-087EF319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8264-0C8B-4ACE-A40F-8C7C5B4C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9999-DFFD-43FB-ABDD-A4CC166C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C68B-497E-4753-9290-744D280C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65AF-F0A6-4F15-85BC-86F73C6B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B175-9322-4CF7-9EBB-F1C13E93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F80-32A0-4EF1-AE6D-A3C24313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274-8C4C-4A83-A733-912CC7E5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E53-6F5A-4CFF-9140-313A2CE3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534-DACE-4BFC-B119-C21F7F83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6D3-9BFF-42DF-9692-3C8183E3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D84-B7B5-4956-AC52-9BAD4C71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019-4AF2-4F67-87AC-DA08C8DA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3B65-30CD-4D4A-934C-3A1A08022F18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120" y="2235240"/>
                    <a:ext cx="71280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E5C9-1475-44AC-BF77-D3DDB23B3AA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400" spc="-1" strike="noStrike">
                <a:solidFill>
                  <a:srgbClr val="ffffff"/>
                </a:solidFill>
                <a:latin typeface="Arial Black"/>
              </a:rPr>
              <a:t>As a High School Student, What is your Burden?  What are you supposed to do with your life?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541368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Black"/>
              </a:rPr>
              <a:t>Imperialism and Afric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376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Black"/>
              </a:rPr>
              <a:t>Scramble for Colon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5486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nventions help Europeans explore Afric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New medical knowledg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tter gun – Maxim g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rlin Confer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cided to “carve up” Afric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Only 1/10 under European control in 1875 BY 1895 only 1/10 was NOT under European contr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4" descr="imperialism"/>
          <p:cNvPicPr/>
          <p:nvPr/>
        </p:nvPicPr>
        <p:blipFill>
          <a:blip r:embed="rId1"/>
          <a:stretch/>
        </p:blipFill>
        <p:spPr>
          <a:xfrm>
            <a:off x="5562720" y="1971720"/>
            <a:ext cx="35812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Lucida Sans"/>
              </a:rPr>
              <a:t>    </a:t>
            </a:r>
            <a:r>
              <a:rPr b="1" lang="en-US" sz="4000" spc="-1" strike="noStrike">
                <a:solidFill>
                  <a:srgbClr val="66ff33"/>
                </a:solidFill>
                <a:latin typeface="Lucida Sans"/>
              </a:rPr>
              <a:t>FORMS OF IMPERIALIS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COLONIAL</a:t>
            </a:r>
            <a:r>
              <a:rPr b="1" lang="en-US" sz="2800" spc="-1" strike="noStrike">
                <a:solidFill>
                  <a:srgbClr val="cc3300"/>
                </a:solidFill>
                <a:latin typeface="Lucida Sans"/>
              </a:rPr>
              <a:t>:</a:t>
            </a: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  “Mother Country” directly rules region - settles people ther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PROTECTORATE</a:t>
            </a:r>
            <a:r>
              <a:rPr b="1" lang="en-US" sz="2800" spc="-1" strike="noStrike">
                <a:solidFill>
                  <a:srgbClr val="cc3300"/>
                </a:solidFill>
                <a:latin typeface="Lucida Sans"/>
              </a:rPr>
              <a:t>:</a:t>
            </a: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  “Mother Country” allows native rulers to stay in power, but controls them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SPHERE OF INFLUENCE</a:t>
            </a:r>
            <a:r>
              <a:rPr b="1" lang="en-US" sz="2800" spc="-1" strike="noStrike">
                <a:solidFill>
                  <a:srgbClr val="cc3300"/>
                </a:solidFill>
                <a:latin typeface="Lucida Sans"/>
              </a:rPr>
              <a:t>:</a:t>
            </a: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  country has exclusive rights to trade in particular region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CONCESSIONAL</a:t>
            </a:r>
            <a:r>
              <a:rPr b="1" lang="en-US" sz="2800" spc="-1" strike="noStrike">
                <a:solidFill>
                  <a:srgbClr val="cc3300"/>
                </a:solidFill>
                <a:latin typeface="Lucida Sans"/>
              </a:rPr>
              <a:t>:</a:t>
            </a: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  country granted exclusive right to exploit a particular resour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Lucida Sans"/>
              </a:rPr>
              <a:t>Methods of Gaining Control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23760" y="17474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Lucida San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Military Invasion</a:t>
            </a:r>
            <a:r>
              <a:rPr b="1" lang="en-US" sz="3200" spc="-1" strike="noStrike">
                <a:solidFill>
                  <a:srgbClr val="cc3300"/>
                </a:solidFill>
                <a:latin typeface="Lucida Sans"/>
              </a:rPr>
              <a:t> 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area is a threat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disorder threatens business in reg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debtedness  </a:t>
            </a: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ruler of region gets loans from other country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falls under their control</a:t>
            </a: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Gain Concession</a:t>
            </a:r>
            <a:r>
              <a:rPr b="0" lang="en-US" sz="24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then send in support (military) to protect concessio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ar</a:t>
            </a:r>
            <a:r>
              <a:rPr b="1" lang="en-US" sz="2400" spc="-1" strike="noStrike">
                <a:solidFill>
                  <a:srgbClr val="cc33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Lucida Sans"/>
              </a:rPr>
              <a:t>conquer territor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Lucida Sans"/>
              </a:rPr>
              <a:t>Treatment of Native Peopl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Enslave</a:t>
            </a: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 - Forced Labor</a:t>
            </a: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Segregation</a:t>
            </a: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- Separated Natives and Euro Colonists (</a:t>
            </a: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utch, English, Germans)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Assimilation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- Natives to adopt European Culture (Franc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Murder</a:t>
            </a:r>
            <a:r>
              <a:rPr b="1" lang="en-US" sz="3600" spc="-1" strike="noStrike">
                <a:solidFill>
                  <a:srgbClr val="cc3300"/>
                </a:solidFill>
                <a:latin typeface="Lucida Sans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- Genocid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                   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Lucida Sans"/>
              </a:rPr>
              <a:t>Diamonds and Gold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Lucida Sans"/>
              </a:rPr>
              <a:t>Discovery in Boar land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Lucida Sans"/>
              </a:rPr>
              <a:t>Diamonds in 1879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Lucida Sans"/>
              </a:rPr>
              <a:t>Gold in 188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Lucida Sans"/>
              </a:rPr>
              <a:t>British claim valuable land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Lucida Sans"/>
              </a:rPr>
              <a:t>Defeat the Boars in the Boars Wars (1899 – 1902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0440" y="301320"/>
            <a:ext cx="82677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Lucida Sans"/>
              </a:rPr>
              <a:t>Effects of European Rul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044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New Political and Economic Syste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Set up mirror govern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European laws and legal cod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Rul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irect vs Indirect Ru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irect = Mother country controls all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Indirect = let local leaders enforce colonial power’s decis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ook raw materials from Afric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Set up “cash crops” farm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isrupted traditional subsistent-farm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960" y="301320"/>
            <a:ext cx="83818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Lucida Sans"/>
              </a:rPr>
              <a:t>Effects of European Rul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Material Improvement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Transpor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Road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Railroad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Weakened African tribes family ties due to migration of peop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Schoo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Telegraph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Hospita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rhodes"/>
          <p:cNvPicPr/>
          <p:nvPr/>
        </p:nvPicPr>
        <p:blipFill>
          <a:blip r:embed="rId1"/>
          <a:stretch/>
        </p:blipFill>
        <p:spPr>
          <a:xfrm>
            <a:off x="762120" y="380880"/>
            <a:ext cx="4271760" cy="62485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5"/>
          <p:cNvSpPr/>
          <p:nvPr/>
        </p:nvSpPr>
        <p:spPr>
          <a:xfrm>
            <a:off x="5181480" y="220968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Cecil Rhodes - British dominance of southern Africa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De Beers Mining Company, controlled 90% diamon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Sans"/>
              </a:rPr>
              <a:t>Prime minister of the Cape Colony (now South Africa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Lucida Sans"/>
              </a:rPr>
              <a:t>Learning Targe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Rectangle 3" descr=""/>
          <p:cNvPicPr/>
          <p:nvPr/>
        </p:nvPicPr>
        <p:blipFill>
          <a:blip r:embed="rId1"/>
          <a:stretch/>
        </p:blipFill>
        <p:spPr>
          <a:xfrm>
            <a:off x="-60480" y="1298520"/>
            <a:ext cx="92044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1906LeopoldCaricPunch100dpi"/>
          <p:cNvPicPr/>
          <p:nvPr/>
        </p:nvPicPr>
        <p:blipFill>
          <a:blip r:embed="rId1"/>
          <a:stretch/>
        </p:blipFill>
        <p:spPr>
          <a:xfrm>
            <a:off x="380880" y="228600"/>
            <a:ext cx="4203720" cy="64008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5"/>
          <p:cNvSpPr/>
          <p:nvPr/>
        </p:nvSpPr>
        <p:spPr>
          <a:xfrm>
            <a:off x="4952880" y="182880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ing Leopold of Belgian Congo Free State (early 1900)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rge rubber industr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ports of human rights abuse (enslavement, multination and death) of the native population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ports were up to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 million dead.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0083"/>
          <p:cNvPicPr/>
          <p:nvPr/>
        </p:nvPicPr>
        <p:blipFill>
          <a:blip r:embed="rId1"/>
          <a:stretch/>
        </p:blipFill>
        <p:spPr>
          <a:xfrm>
            <a:off x="457200" y="228600"/>
            <a:ext cx="5757840" cy="617220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5"/>
          <p:cNvSpPr/>
          <p:nvPr/>
        </p:nvSpPr>
        <p:spPr>
          <a:xfrm>
            <a:off x="6461280" y="2398680"/>
            <a:ext cx="237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 American cartoon depicting Britain taking African territory (circa. 1900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Lucida Sans"/>
              </a:rPr>
              <a:t>Nationalism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A pride/devotion in one’s countr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Lucida Sans"/>
              </a:rPr>
              <a:t>One of the very reasons for African imperialism by the Europeans would be one of the very reasons for African independence from the European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Lucida Sans"/>
              </a:rPr>
              <a:t>Irony of European Ru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Many Africans went to Europe to become educa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Saw strengths and weaknesses of Europ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Learned about the idea of democracy and equa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Lucida Sans"/>
              </a:rPr>
              <a:t>Came back and became politically acti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320" y="18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Lucida Sans"/>
              </a:rPr>
              <a:t>How </a:t>
            </a:r>
            <a:r>
              <a:rPr b="1" lang="en-US" sz="2800" spc="-1" strike="noStrike">
                <a:solidFill>
                  <a:srgbClr val="00ff00"/>
                </a:solidFill>
                <a:latin typeface="Lucida Sans"/>
              </a:rPr>
              <a:t>did such a small # of Europeans control such a large # of Africans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1920" y="132876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s kept the African tribes divid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 nations exploited Africa’s raw materials for their own purpo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s took over great amounts of land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s forced the Africans to pay heavy tax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Lucida Sans"/>
              </a:rPr>
              <a:t>The Europeans used brutal methods to keep the Africans under contr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103"/>
                </a:solidFill>
                <a:latin typeface="Lucida Sans"/>
              </a:rPr>
              <a:t>Imperialism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5562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Lucida Sans"/>
              </a:rPr>
              <a:t>ONE COUNTRY’S DOMINATION OF THE POLITICAL, ECONOMIC &amp; SOCIAL LIFE OF ANOTHER COUNT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52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"/>
          <p:cNvSpPr/>
          <p:nvPr/>
        </p:nvSpPr>
        <p:spPr>
          <a:xfrm>
            <a:off x="914400" y="4572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Imperialism in Afric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301320"/>
            <a:ext cx="87631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Causes of African Imperialism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763640"/>
            <a:ext cx="87631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os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of New World Europe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760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-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France lost Canada &amp; India to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          Britain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770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 -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Britain lost American colonies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   to independence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- Early 1800s - Spain &amp; Portugal lost Latin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- American colonies to independence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- Simon Bolivar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- San Marti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520" y="301320"/>
            <a:ext cx="80773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 Black"/>
              </a:rPr>
              <a:t>Motives for Imperialis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conomic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–   Sources of raw materials…             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New Markets for their products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olitical/Nationalistic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–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Gain power, prestige, strategic        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locations, gre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ligious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–     Spread Christianity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xploratory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–  Learn about the              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unknown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deological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–  Spread their “superior” 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cultur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520" y="301320"/>
            <a:ext cx="8534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Rationale for Imperi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Social Darwinism – Social theory stating that the political and economic advantages in a developed society are derived from the biological advantages of its collective membershi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960" y="301320"/>
            <a:ext cx="83818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  <a:ea typeface="Arial"/>
              </a:rPr>
              <a:t>Justifications For Imperialis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ivilizing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Mission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sire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to spread Western technology, religion, customs &amp; traditions - believed Western culture was superior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pread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Christian message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ipling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- “White Man’s Burden”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62160" y="457200"/>
            <a:ext cx="443052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 Black"/>
              </a:rPr>
              <a:t>In February 1899, British novelist and poet Rudyard Kipling wrote a poem entitled </a:t>
            </a:r>
            <a:r>
              <a:rPr b="1" lang="en-US" sz="2400" spc="-1" strike="noStrike">
                <a:solidFill>
                  <a:srgbClr val="00ff00"/>
                </a:solidFill>
                <a:latin typeface="Arial Black"/>
              </a:rPr>
              <a:t>“The White Man's Burden: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80520" y="6019920"/>
            <a:ext cx="8610840" cy="6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ngsana New"/>
                <a:ea typeface="Angsana New"/>
              </a:rPr>
              <a:t>More on Kipling…late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2" descr="https://upload.wikimedia.org/wikipedia/commons/3/3f/%22The_White_Man%27s_Burden%22_Judge_1899.png"/>
          <p:cNvPicPr/>
          <p:nvPr/>
        </p:nvPicPr>
        <p:blipFill>
          <a:blip r:embed="rId1"/>
          <a:stretch/>
        </p:blipFill>
        <p:spPr>
          <a:xfrm>
            <a:off x="696960" y="2438280"/>
            <a:ext cx="7913520" cy="3657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228600" y="50760"/>
            <a:ext cx="35766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02:05:11Z</dcterms:created>
  <dc:creator>frank tellez</dc:creator>
  <dc:description/>
  <dc:language>en-US</dc:language>
  <cp:lastModifiedBy>Katherine Silver</cp:lastModifiedBy>
  <cp:lastPrinted>2017-04-20T10:53:31Z</cp:lastPrinted>
  <dcterms:modified xsi:type="dcterms:W3CDTF">2017-12-01T19:17:56Z</dcterms:modified>
  <cp:revision>32</cp:revision>
  <dc:subject/>
  <dc:title>Imperialism</dc:title>
</cp:coreProperties>
</file>