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B1C3-E85F-4F44-9E8B-A18E65244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14C4-CC87-4860-B332-DCC866CF539C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DFAD-E746-4624-B9F0-06BB2C07ABF2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D5A4-9CD0-49AF-92F7-4DCDCAA8EED8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BC87-D993-4C1E-A5D2-24D0639AF12A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766D-CB75-4C50-ACB7-2401E8CAC870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45FD-E395-47FA-844C-5A4D63B6E59E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E982-87C5-4202-82C6-FCC11A94F9D9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56B2-1C88-4561-8DA2-410B8530C4A4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DF8F-049A-40A7-B035-948C79116746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2DD8-9518-413F-9628-FB03F4D2604E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5495-13C4-4FFE-9825-A01101397EC9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99A2-4D07-40E2-B4BD-6CEAA49C9D7F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90B1-5BBA-47D6-A204-65BE6889A026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4A45-2D26-437E-BD97-2BD914307F5F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73DF-CFF9-4D4C-A856-0904741667CD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956A-5AAA-44B8-B98A-CE050EDE585C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9C03-B48E-4FB5-B36C-93545CCDAB9F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DF6B-20C8-4097-B93F-C870AD12EF03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BC17-E5CB-4B79-B873-C68681972AF7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BF2D-3A5D-4791-8CB9-7F0FB6E2D4A7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6B83-196A-4DD7-816E-ADF9DD09C6E8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8D37-DD4F-49CD-8ED8-5988BD3A0C6E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52C8-BA75-4E04-BBA9-167A8915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197F-A809-4D73-833F-E16E40BB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F56-AF1F-4A5F-BAED-1673C8ED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923-1F66-42AB-89AE-32AB5870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FEAF-BA79-4911-B0E6-0AAA49AB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B9A8-15B6-4293-9853-D7496A27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2C12-A429-415E-B832-09804230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1F22-757D-478F-8618-C0620C74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3100-C4BB-4FD3-BD97-F6363DD2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F4D8-EE19-410D-A2BA-FCADFDEB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0C1F-617C-4928-BE69-3E8343FE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3F5-4DCB-4533-BD48-A976982E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2507-4B17-4897-ABA2-7D3F79E5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6C84-DF00-4F24-80E2-AFB5FABB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5BFC-7A27-49C5-8142-733D9B03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E756-076B-4D32-ADCC-6BEF268B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F42F-74F3-40F9-AAAA-C16C7B9E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5C5E-69D5-47D8-9211-DBC72783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B2D-ADE3-4193-8061-5951A956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CC9-80B5-4E93-9CA3-DA33C4D6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250-2872-4CBE-A7F4-80CDCECC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E24-C689-4360-980C-5E7B928B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31B-D2A9-4006-80D0-5B6CE36C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C64F-7612-468A-A6FB-468544BE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D8CF-4276-4725-9FEC-7163590AF913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120" y="2235240"/>
                    <a:ext cx="71280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985E-A7D6-4763-A4C3-AFC3A196B69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400" spc="-1" strike="noStrike">
                <a:solidFill>
                  <a:srgbClr val="ffffff"/>
                </a:solidFill>
                <a:latin typeface="Arial Black"/>
              </a:rPr>
              <a:t>As a High School Student, What is your Burden?  What are you supposed to do with your life?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536400" y="603360"/>
            <a:ext cx="541368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Black"/>
              </a:rPr>
              <a:t>Imperialism and Afric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376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Black"/>
              </a:rPr>
              <a:t>Scramble for Colon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5486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nventions help Europeans explore Afric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New medical knowledg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tter gun – Maxim g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rlin Confer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cided to “carve up” Afric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Only 1/10 under European control in 1875 BY 1895 only 1/10 was NOT under European contro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4" descr="imperialism"/>
          <p:cNvPicPr/>
          <p:nvPr/>
        </p:nvPicPr>
        <p:blipFill>
          <a:blip r:embed="rId1"/>
          <a:stretch/>
        </p:blipFill>
        <p:spPr>
          <a:xfrm>
            <a:off x="5562720" y="1971720"/>
            <a:ext cx="35812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Lucida Sans"/>
              </a:rPr>
              <a:t>    </a:t>
            </a:r>
            <a:r>
              <a:rPr b="1" lang="en-US" sz="4000" spc="-1" strike="noStrike">
                <a:solidFill>
                  <a:srgbClr val="66ff33"/>
                </a:solidFill>
                <a:latin typeface="Lucida Sans"/>
              </a:rPr>
              <a:t>FORMS OF IMPERIALIS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COLONIAL</a:t>
            </a:r>
            <a:r>
              <a:rPr b="1" lang="en-US" sz="2800" spc="-1" strike="noStrike">
                <a:solidFill>
                  <a:srgbClr val="cc3300"/>
                </a:solidFill>
                <a:latin typeface="Lucida Sans"/>
              </a:rPr>
              <a:t>:</a:t>
            </a: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  “Mother Country” directly rules region - settles people ther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PROTECTORATE</a:t>
            </a:r>
            <a:r>
              <a:rPr b="1" lang="en-US" sz="2800" spc="-1" strike="noStrike">
                <a:solidFill>
                  <a:srgbClr val="cc3300"/>
                </a:solidFill>
                <a:latin typeface="Lucida Sans"/>
              </a:rPr>
              <a:t>:</a:t>
            </a: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  “Mother Country” allows native rulers to stay in power, but controls them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SPHERE OF INFLUENCE</a:t>
            </a:r>
            <a:r>
              <a:rPr b="1" lang="en-US" sz="2800" spc="-1" strike="noStrike">
                <a:solidFill>
                  <a:srgbClr val="cc3300"/>
                </a:solidFill>
                <a:latin typeface="Lucida Sans"/>
              </a:rPr>
              <a:t>:</a:t>
            </a: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  country has exclusive rights to trade in particular region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CONCESSIONAL</a:t>
            </a:r>
            <a:r>
              <a:rPr b="1" lang="en-US" sz="2800" spc="-1" strike="noStrike">
                <a:solidFill>
                  <a:srgbClr val="cc3300"/>
                </a:solidFill>
                <a:latin typeface="Lucida Sans"/>
              </a:rPr>
              <a:t>:</a:t>
            </a: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  country granted exclusive right to exploit a particular resour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Lucida Sans"/>
              </a:rPr>
              <a:t>Methods of Gaining Control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-23760" y="17474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Lucida San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Military Invasion</a:t>
            </a:r>
            <a:r>
              <a:rPr b="1" lang="en-US" sz="3200" spc="-1" strike="noStrike">
                <a:solidFill>
                  <a:srgbClr val="cc3300"/>
                </a:solidFill>
                <a:latin typeface="Lucida Sans"/>
              </a:rPr>
              <a:t> 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Lucida Sans"/>
              </a:rPr>
              <a:t>area is a threat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Lucida Sans"/>
              </a:rPr>
              <a:t>disorder threatens business in reg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debtedness  </a:t>
            </a: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Lucida Sans"/>
              </a:rPr>
              <a:t>ruler of region gets loans from other country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Lucida Sans"/>
              </a:rPr>
              <a:t>falls under their control</a:t>
            </a: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Gain Concession</a:t>
            </a:r>
            <a:r>
              <a:rPr b="0" lang="en-US" sz="24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Lucida Sans"/>
              </a:rPr>
              <a:t>then send in support (military) to protect concession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ar</a:t>
            </a:r>
            <a:r>
              <a:rPr b="1" lang="en-US" sz="2400" spc="-1" strike="noStrike">
                <a:solidFill>
                  <a:srgbClr val="cc33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Lucida Sans"/>
              </a:rPr>
              <a:t>conquer territor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Lucida Sans"/>
              </a:rPr>
              <a:t>Treatment of Native People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Enslave</a:t>
            </a:r>
            <a:r>
              <a:rPr b="1" lang="en-US" sz="3600" spc="-1" strike="noStrike">
                <a:solidFill>
                  <a:srgbClr val="ffcc00"/>
                </a:solidFill>
                <a:latin typeface="Lucida Sans"/>
              </a:rPr>
              <a:t> - Forced Labor</a:t>
            </a: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Segregation</a:t>
            </a:r>
            <a:r>
              <a:rPr b="1" lang="en-US" sz="3600" spc="-1" strike="noStrike">
                <a:solidFill>
                  <a:srgbClr val="ffcc00"/>
                </a:solidFill>
                <a:latin typeface="Lucida Sans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- Separated Natives and Euro Colonists (</a:t>
            </a: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Dutch, English, Germans)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Assimilation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- Natives to adopt European Culture (Franc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Murder</a:t>
            </a:r>
            <a:r>
              <a:rPr b="1" lang="en-US" sz="3600" spc="-1" strike="noStrike">
                <a:solidFill>
                  <a:srgbClr val="cc3300"/>
                </a:solidFill>
                <a:latin typeface="Lucida Sans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Lucida Sans"/>
              </a:rPr>
              <a:t>- Genocid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                    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Lucida Sans"/>
              </a:rPr>
              <a:t>Diamonds and Gold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Lucida Sans"/>
              </a:rPr>
              <a:t>Discovery in Boar land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Lucida Sans"/>
              </a:rPr>
              <a:t>Diamonds in 1879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Lucida Sans"/>
              </a:rPr>
              <a:t>Gold in 188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Lucida Sans"/>
              </a:rPr>
              <a:t>British claim valuable land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Lucida Sans"/>
              </a:rPr>
              <a:t>Defeat the Boars in the Boars Wars (1899 – 1902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0440" y="301320"/>
            <a:ext cx="82677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Lucida Sans"/>
              </a:rPr>
              <a:t>Effects of European Rul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044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New Political and Economic Syste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Set up mirror govern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European laws and legal cod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Rul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Direct vs Indirect Ru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Direct = Mother country controls all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Indirect = let local leaders enforce colonial power’s decis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Took raw materials from Afric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Set up “cash crops” farm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Disrupted traditional subsistent-farm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960" y="301320"/>
            <a:ext cx="83818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Lucida Sans"/>
              </a:rPr>
              <a:t>Effects of European Rul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Lucida Sans"/>
              </a:rPr>
              <a:t>Material Improvement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Transpor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Road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Railroad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Weakened African tribes family ties due to migration of peop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Schoo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Telegraph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Hospita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rhodes"/>
          <p:cNvPicPr/>
          <p:nvPr/>
        </p:nvPicPr>
        <p:blipFill>
          <a:blip r:embed="rId1"/>
          <a:stretch/>
        </p:blipFill>
        <p:spPr>
          <a:xfrm>
            <a:off x="762120" y="380880"/>
            <a:ext cx="4271760" cy="62485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5"/>
          <p:cNvSpPr/>
          <p:nvPr/>
        </p:nvSpPr>
        <p:spPr>
          <a:xfrm>
            <a:off x="5181480" y="2209680"/>
            <a:ext cx="373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Cecil Rhodes - British dominance of southern Africa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De Beers Mining Company, controlled 90% diamon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Prime minister of the Cape Colony (now South Africa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Lucida Sans"/>
              </a:rPr>
              <a:t>Learning Targe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Rectangle 3" descr=""/>
          <p:cNvPicPr/>
          <p:nvPr/>
        </p:nvPicPr>
        <p:blipFill>
          <a:blip r:embed="rId1"/>
          <a:stretch/>
        </p:blipFill>
        <p:spPr>
          <a:xfrm>
            <a:off x="-60480" y="1298520"/>
            <a:ext cx="92044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1906LeopoldCaricPunch100dpi"/>
          <p:cNvPicPr/>
          <p:nvPr/>
        </p:nvPicPr>
        <p:blipFill>
          <a:blip r:embed="rId1"/>
          <a:stretch/>
        </p:blipFill>
        <p:spPr>
          <a:xfrm>
            <a:off x="380880" y="228600"/>
            <a:ext cx="4203720" cy="640080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5"/>
          <p:cNvSpPr/>
          <p:nvPr/>
        </p:nvSpPr>
        <p:spPr>
          <a:xfrm>
            <a:off x="4952880" y="182880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ing Leopold of Belgian Congo Free State (early 1900)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arge rubber industr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ports of human rights abuse (enslavement, multination and death) of the native population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ports were up to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 million dead.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0083"/>
          <p:cNvPicPr/>
          <p:nvPr/>
        </p:nvPicPr>
        <p:blipFill>
          <a:blip r:embed="rId1"/>
          <a:stretch/>
        </p:blipFill>
        <p:spPr>
          <a:xfrm>
            <a:off x="457200" y="228600"/>
            <a:ext cx="5757840" cy="617220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5"/>
          <p:cNvSpPr/>
          <p:nvPr/>
        </p:nvSpPr>
        <p:spPr>
          <a:xfrm>
            <a:off x="6461280" y="2398680"/>
            <a:ext cx="237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 American cartoon depicting Britain taking African territory (circa. 1900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Lucida Sans"/>
              </a:rPr>
              <a:t>Nationalism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Lucida Sans"/>
              </a:rPr>
              <a:t>A pride/devotion in one’s countr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Lucida Sans"/>
              </a:rPr>
              <a:t>One of the very reasons for African imperialism by the Europeans would be one of the very reasons for African independence from the European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Lucida Sans"/>
              </a:rPr>
              <a:t>Irony of European Ru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Many Africans went to Europe to become educat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Saw strengths and weaknesses of Europ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Learned about the idea of democracy and equal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Came back and became politically acti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320" y="18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Lucida Sans"/>
              </a:rPr>
              <a:t>How </a:t>
            </a:r>
            <a:r>
              <a:rPr b="1" lang="en-US" sz="2800" spc="-1" strike="noStrike">
                <a:solidFill>
                  <a:srgbClr val="00ff00"/>
                </a:solidFill>
                <a:latin typeface="Lucida Sans"/>
              </a:rPr>
              <a:t>did such a small # of Europeans control such a large # of Africans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1920" y="132876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The Europeans kept the African tribes divid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The European nations exploited Africa’s raw materials for their own purpo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The Europeans took over great amounts of land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The Europeans forced the Africans to pay heavy tax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The Europeans used brutal methods to keep the Africans under contro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103"/>
                </a:solidFill>
                <a:latin typeface="Lucida Sans"/>
              </a:rPr>
              <a:t>Imperialism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5562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Lucida Sans"/>
              </a:rPr>
              <a:t>ONE COUNTRY’S DOMINATION OF THE POLITICAL, ECONOMIC &amp; SOCIAL LIFE OF ANOTHER COUNTR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1"/>
          <a:stretch/>
        </p:blipFill>
        <p:spPr>
          <a:xfrm>
            <a:off x="6095880" y="1066680"/>
            <a:ext cx="252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4"/>
          <p:cNvSpPr/>
          <p:nvPr/>
        </p:nvSpPr>
        <p:spPr>
          <a:xfrm>
            <a:off x="914400" y="4572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Imperialism in Afric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301320"/>
            <a:ext cx="87631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Causes of African Imperialism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763640"/>
            <a:ext cx="87631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os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of New World Europe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760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-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France lost Canada &amp; India to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          Britain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770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 -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Britain lost American colonies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   to independence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- Early 1800s - Spain &amp; Portugal lost Latin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- American colonies to independence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- Simon Bolivar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- San Marti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520" y="301320"/>
            <a:ext cx="80773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 Black"/>
              </a:rPr>
              <a:t>Motives for Imperialism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conomic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–   Sources of raw materials…              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New Markets for their products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olitical/Nationalistic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–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    Gain power, prestige, strategic         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locations, gre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ligious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–     Spread Christianity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xploratory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–  Learn about the               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unknown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deological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–  Spread their “superior”  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cultur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520" y="301320"/>
            <a:ext cx="8534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Rationale for Imperia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Social Darwinism – Social theory stating that the political and economic advantages in a developed society are derived from the biological advantages of its collective membershi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960" y="301320"/>
            <a:ext cx="83818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  <a:ea typeface="Arial"/>
              </a:rPr>
              <a:t>Justifications For Imperialis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9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ivilizing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Mission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100000"/>
              </a:lnSpc>
              <a:spcBef>
                <a:spcPts val="9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sire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to spread Western technology, religion, customs &amp; traditions - believed Western culture was superior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100000"/>
              </a:lnSpc>
              <a:spcBef>
                <a:spcPts val="9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pread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Christian message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ipling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- “White Man’s Burden”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62160" y="457200"/>
            <a:ext cx="443052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 Black"/>
              </a:rPr>
              <a:t>In February 1899, British novelist and poet Rudyard Kipling wrote a poem entitled </a:t>
            </a:r>
            <a:r>
              <a:rPr b="1" lang="en-US" sz="2400" spc="-1" strike="noStrike">
                <a:solidFill>
                  <a:srgbClr val="00ff00"/>
                </a:solidFill>
                <a:latin typeface="Arial Black"/>
              </a:rPr>
              <a:t>“The White Man's Burden: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80520" y="6019920"/>
            <a:ext cx="8610840" cy="69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ngsana New"/>
                <a:ea typeface="Angsana New"/>
              </a:rPr>
              <a:t>More on Kipling…late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2" descr="https://upload.wikimedia.org/wikipedia/commons/3/3f/%22The_White_Man%27s_Burden%22_Judge_1899.png"/>
          <p:cNvPicPr/>
          <p:nvPr/>
        </p:nvPicPr>
        <p:blipFill>
          <a:blip r:embed="rId1"/>
          <a:stretch/>
        </p:blipFill>
        <p:spPr>
          <a:xfrm>
            <a:off x="696960" y="2438280"/>
            <a:ext cx="7913520" cy="3657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228600" y="50760"/>
            <a:ext cx="35766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02:05:11Z</dcterms:created>
  <dc:creator>frank tellez</dc:creator>
  <dc:description/>
  <dc:language>en-US</dc:language>
  <cp:lastModifiedBy>Katherine Silver</cp:lastModifiedBy>
  <cp:lastPrinted>2017-04-20T10:53:31Z</cp:lastPrinted>
  <dcterms:modified xsi:type="dcterms:W3CDTF">2017-12-01T19:17:56Z</dcterms:modified>
  <cp:revision>32</cp:revision>
  <dc:subject/>
  <dc:title>Imperialism</dc:title>
</cp:coreProperties>
</file>