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6221B-6306-4825-B41A-2A8FF5C2B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C80CE-371E-4BA2-B195-49BAAD705DEC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03022-E384-4380-B675-6606E6D6D07E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FF803-94B6-4C56-942B-0A65AB99DF26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FCEFD-B1F0-42B5-AF8C-3363D37C28B5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2006C-6589-4D23-91E8-D8DF1CB10F39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A5609-A9F9-4D67-8781-B54CB357A8E7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7F68E-946C-4EE5-A343-56083E7F0663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8BC82-6908-4F49-A5C5-CCDC21CFEA45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7BEC0-5622-4D3D-BBC7-44C4D81132FB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2D195-E5AB-4217-9467-92224B47CCE2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C982D-A5E6-4BF7-9A8A-F5A72C195B80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7DB4B-F0FC-48AD-A32F-FA6F56DCA752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C06D7-A8B1-4E24-BE0D-FBB3ABC9B96A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60AC4-62DF-4350-BD61-541531E91EBF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47E2C-13AE-4640-8F85-6EBDAB281A71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D1928-701D-4F25-B48D-643CB8E59F07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ACE94-8447-4DBF-A54B-7376E165D467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76F60-8D1E-4551-9B13-A9383D554F08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EA457-69CE-477D-9550-CBEAC7EF2AAA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D4051-64FC-4FB3-B348-7EA87401AC6B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C0A8E-9AD3-48A3-ACE4-6AA74544D3C9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1ACCF-E238-45B8-8F4A-CE1AA11C75CE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1C8B-CFBC-428C-8AB0-706203C98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70D7-214A-4B53-9AE4-BB2875AB3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61DF-D194-4527-A493-1C5E08D13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9CBF-B81F-4F65-B5DB-701E3E945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087EC-1C67-48E5-A3BD-7B36AC86B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BA7BF-013F-45AF-A983-5F3A17F22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AAA89-9A9B-426A-8C6B-02A1403A7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DB567-ED2D-4F25-AEE9-8BE6538AB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B190F-187B-40FE-A0F0-66381A6CA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41E3D-9604-4151-BCB5-CFEB2DCB2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31C60-23B6-48D3-93B4-F63EFF74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FD4E-08B7-4CF2-9EDE-79D0F6652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F86F6-40AB-47BD-B419-7EAFDB5F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73304-3319-40C3-B699-F9E455DA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07752-050E-45C5-8533-322F568AB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8BEE4-A61E-4720-BFAC-E550C9BB4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5BAA0-0819-4E84-A963-AB6CA5AA6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A682-3EF0-4608-9ADB-DE8AC0ACB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DA2D-886B-4547-90B2-041BB17D3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4816-F137-4BAD-B810-0810BD3F9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75AC-B9A7-4701-BE7E-53BBEFAA0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F1A3-18BE-4065-9A0A-48ADF8F2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2A83-89B0-4468-8512-614A4087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2DAF-069F-4727-AEB0-66B5C5D2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9CD60-29C2-4E1B-9927-EE2303E130D4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5760"/>
                <a:ext cx="23040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120" y="2235240"/>
                    <a:ext cx="712800" cy="501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183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222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223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A005-7B96-4691-A950-827D26FDCACD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403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r>
              <a:rPr b="1" i="1" lang="en-US" sz="4400" spc="-1" strike="noStrike">
                <a:solidFill>
                  <a:srgbClr val="ffffff"/>
                </a:solidFill>
                <a:latin typeface="Arial Black"/>
              </a:rPr>
              <a:t>As a High School Student, What is your Burden?  What are you supposed to do with your life?</a:t>
            </a:r>
            <a:br>
              <a:rPr sz="3200"/>
            </a:b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8" name="Rectangle 2" descr=""/>
          <p:cNvPicPr/>
          <p:nvPr/>
        </p:nvPicPr>
        <p:blipFill>
          <a:blip r:embed="rId1"/>
          <a:stretch/>
        </p:blipFill>
        <p:spPr>
          <a:xfrm>
            <a:off x="536400" y="603360"/>
            <a:ext cx="5413680" cy="15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 Black"/>
              </a:rPr>
              <a:t>Imperialism and Afric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3" descr="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23760"/>
            <a:ext cx="7772400" cy="14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 Black"/>
              </a:rPr>
              <a:t>Scramble for Coloni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54864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nventions help Europeans explore Afric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New medical knowledg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tter gun – Maxim gu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rlin Conferenc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Decided to “carve up” Africa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Only 1/10 under European control in 1875 BY 1895 only 1/10 was NOT under European contro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2" name="Picture 4" descr="imperialism"/>
          <p:cNvPicPr/>
          <p:nvPr/>
        </p:nvPicPr>
        <p:blipFill>
          <a:blip r:embed="rId1"/>
          <a:stretch/>
        </p:blipFill>
        <p:spPr>
          <a:xfrm>
            <a:off x="5562720" y="1971720"/>
            <a:ext cx="358128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Lucida Sans"/>
              </a:rPr>
              <a:t>    </a:t>
            </a:r>
            <a:r>
              <a:rPr b="1" lang="en-US" sz="4000" spc="-1" strike="noStrike">
                <a:solidFill>
                  <a:srgbClr val="66ff33"/>
                </a:solidFill>
                <a:latin typeface="Lucida Sans"/>
              </a:rPr>
              <a:t>FORMS OF IMPERIALISM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"/>
              </a:rPr>
              <a:t>COLONIAL</a:t>
            </a:r>
            <a:r>
              <a:rPr b="1" lang="en-US" sz="2800" spc="-1" strike="noStrike">
                <a:solidFill>
                  <a:srgbClr val="cc3300"/>
                </a:solidFill>
                <a:latin typeface="Lucida Sans"/>
              </a:rPr>
              <a:t>:</a:t>
            </a:r>
            <a:r>
              <a:rPr b="1" lang="en-US" sz="2800" spc="-1" strike="noStrike">
                <a:solidFill>
                  <a:srgbClr val="ffcc00"/>
                </a:solidFill>
                <a:latin typeface="Lucida Sans"/>
              </a:rPr>
              <a:t>  “Mother Country” directly rules region - settles people there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"/>
              </a:rPr>
              <a:t>PROTECTORATE</a:t>
            </a:r>
            <a:r>
              <a:rPr b="1" lang="en-US" sz="2800" spc="-1" strike="noStrike">
                <a:solidFill>
                  <a:srgbClr val="cc3300"/>
                </a:solidFill>
                <a:latin typeface="Lucida Sans"/>
              </a:rPr>
              <a:t>:</a:t>
            </a:r>
            <a:r>
              <a:rPr b="1" lang="en-US" sz="2800" spc="-1" strike="noStrike">
                <a:solidFill>
                  <a:srgbClr val="ffcc00"/>
                </a:solidFill>
                <a:latin typeface="Lucida Sans"/>
              </a:rPr>
              <a:t>  “Mother Country” allows native rulers to stay in power, but controls them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"/>
              </a:rPr>
              <a:t>SPHERE OF INFLUENCE</a:t>
            </a:r>
            <a:r>
              <a:rPr b="1" lang="en-US" sz="2800" spc="-1" strike="noStrike">
                <a:solidFill>
                  <a:srgbClr val="cc3300"/>
                </a:solidFill>
                <a:latin typeface="Lucida Sans"/>
              </a:rPr>
              <a:t>:</a:t>
            </a:r>
            <a:r>
              <a:rPr b="1" lang="en-US" sz="2800" spc="-1" strike="noStrike">
                <a:solidFill>
                  <a:srgbClr val="ffcc00"/>
                </a:solidFill>
                <a:latin typeface="Lucida Sans"/>
              </a:rPr>
              <a:t>  country has exclusive rights to trade in particular region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"/>
              </a:rPr>
              <a:t>CONCESSIONAL</a:t>
            </a:r>
            <a:r>
              <a:rPr b="1" lang="en-US" sz="2800" spc="-1" strike="noStrike">
                <a:solidFill>
                  <a:srgbClr val="cc3300"/>
                </a:solidFill>
                <a:latin typeface="Lucida Sans"/>
              </a:rPr>
              <a:t>:</a:t>
            </a:r>
            <a:r>
              <a:rPr b="1" lang="en-US" sz="2800" spc="-1" strike="noStrike">
                <a:solidFill>
                  <a:srgbClr val="ffcc00"/>
                </a:solidFill>
                <a:latin typeface="Lucida Sans"/>
              </a:rPr>
              <a:t>  country granted exclusive right to exploit a particular resourc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Lucida Sans"/>
              </a:rPr>
              <a:t>Methods of Gaining Control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-23760" y="17474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Lucida San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Military Invasion</a:t>
            </a:r>
            <a:r>
              <a:rPr b="1" lang="en-US" sz="3200" spc="-1" strike="noStrike">
                <a:solidFill>
                  <a:srgbClr val="cc3300"/>
                </a:solidFill>
                <a:latin typeface="Lucida Sans"/>
              </a:rPr>
              <a:t> 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103"/>
                </a:solidFill>
                <a:latin typeface="Lucida Sans"/>
              </a:rPr>
              <a:t>area is a threat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103"/>
                </a:solidFill>
                <a:latin typeface="Lucida Sans"/>
              </a:rPr>
              <a:t>disorder threatens business in regio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Indebtedness  </a:t>
            </a:r>
            <a:r>
              <a:rPr b="0" lang="en-US" sz="3200" spc="-1" strike="noStrike">
                <a:solidFill>
                  <a:srgbClr val="ffffff"/>
                </a:solidFill>
                <a:latin typeface="Lucida Sans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103"/>
                </a:solidFill>
                <a:latin typeface="Lucida Sans"/>
              </a:rPr>
              <a:t>ruler of region gets loans from other country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e1f08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103"/>
                </a:solidFill>
                <a:latin typeface="Lucida Sans"/>
              </a:rPr>
              <a:t>falls under their control</a:t>
            </a:r>
            <a:r>
              <a:rPr b="0" lang="en-US" sz="2000" spc="-1" strike="noStrike">
                <a:solidFill>
                  <a:srgbClr val="cc3300"/>
                </a:solidFill>
                <a:latin typeface="Lucida Sans"/>
              </a:rPr>
              <a:t>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Gain Concession</a:t>
            </a:r>
            <a:r>
              <a:rPr b="0" lang="en-US" sz="2400" spc="-1" strike="noStrike">
                <a:solidFill>
                  <a:srgbClr val="ffffff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103"/>
                </a:solidFill>
                <a:latin typeface="Lucida Sans"/>
              </a:rPr>
              <a:t>then send in support (military) to protect concession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War</a:t>
            </a:r>
            <a:r>
              <a:rPr b="1" lang="en-US" sz="2400" spc="-1" strike="noStrike">
                <a:solidFill>
                  <a:srgbClr val="cc33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103"/>
                </a:solidFill>
                <a:latin typeface="Lucida Sans"/>
              </a:rPr>
              <a:t>conquer territory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Lucida Sans"/>
              </a:rPr>
              <a:t>Treatment of Native People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</a:rPr>
              <a:t>Enslave</a:t>
            </a:r>
            <a:r>
              <a:rPr b="1" lang="en-US" sz="3600" spc="-1" strike="noStrike">
                <a:solidFill>
                  <a:srgbClr val="ffcc00"/>
                </a:solidFill>
                <a:latin typeface="Lucida Sans"/>
              </a:rPr>
              <a:t> - Forced Labor</a:t>
            </a:r>
            <a:r>
              <a:rPr b="1" lang="en-US" sz="3200" spc="-1" strike="noStrike">
                <a:solidFill>
                  <a:srgbClr val="ffcc00"/>
                </a:solidFill>
                <a:latin typeface="Lucida Sans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</a:rPr>
              <a:t>Segregation</a:t>
            </a:r>
            <a:r>
              <a:rPr b="1" lang="en-US" sz="3600" spc="-1" strike="noStrike">
                <a:solidFill>
                  <a:srgbClr val="ffcc00"/>
                </a:solidFill>
                <a:latin typeface="Lucida Sans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Lucida Sans"/>
              </a:rPr>
              <a:t>- Separated Natives and Euro Colonists (</a:t>
            </a:r>
            <a:r>
              <a:rPr b="1" lang="en-US" sz="2400" spc="-1" strike="noStrike">
                <a:solidFill>
                  <a:srgbClr val="ffcc00"/>
                </a:solidFill>
                <a:latin typeface="Lucida Sans"/>
              </a:rPr>
              <a:t>Dutch, English, Germans)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</a:rPr>
              <a:t>Assimilation</a:t>
            </a: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Lucida Sans"/>
              </a:rPr>
              <a:t>- Natives to adopt European Culture (France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</a:rPr>
              <a:t>Murder</a:t>
            </a:r>
            <a:r>
              <a:rPr b="1" lang="en-US" sz="3600" spc="-1" strike="noStrike">
                <a:solidFill>
                  <a:srgbClr val="cc3300"/>
                </a:solidFill>
                <a:latin typeface="Lucida Sans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Lucida Sans"/>
              </a:rPr>
              <a:t>- Genocide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                    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Lucida Sans"/>
              </a:rPr>
              <a:t>Diamonds and Gold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Lucida Sans"/>
              </a:rPr>
              <a:t>Discovery in Boar land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e1f08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Lucida Sans"/>
              </a:rPr>
              <a:t>Diamonds in 1879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e1f08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Lucida Sans"/>
              </a:rPr>
              <a:t>Gold in 1886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Lucida Sans"/>
              </a:rPr>
              <a:t>British claim valuable land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Lucida Sans"/>
              </a:rPr>
              <a:t>Defeat the Boars in the Boars Wars (1899 – 1902)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0440" y="301320"/>
            <a:ext cx="826776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Lucida Sans"/>
              </a:rPr>
              <a:t>Effects of European Rule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0440" y="190512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Lucida Sans"/>
              </a:rPr>
              <a:t>New Political and Economic System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e1f08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Lucida Sans"/>
              </a:rPr>
              <a:t>Set up mirror governmen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Lucida Sans"/>
              </a:rPr>
              <a:t>European laws and legal code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e1f08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Lucida Sans"/>
              </a:rPr>
              <a:t>Rule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Lucida Sans"/>
              </a:rPr>
              <a:t>Direct vs Indirect Rul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Lucida Sans"/>
              </a:rPr>
              <a:t>Direct = Mother country controls all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Lucida Sans"/>
              </a:rPr>
              <a:t>Indirect = let local leaders enforce colonial power’s decision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e1f08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Lucida Sans"/>
              </a:rPr>
              <a:t>Took raw materials from Afric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e1f08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Lucida Sans"/>
              </a:rPr>
              <a:t>Set up “cash crops” farm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Lucida Sans"/>
              </a:rPr>
              <a:t>Disrupted traditional subsistent-farm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5960" y="301320"/>
            <a:ext cx="838188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Lucida Sans"/>
              </a:rPr>
              <a:t>Effects of European Rule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51920" y="1980720"/>
            <a:ext cx="8915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ff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Lucida Sans"/>
              </a:rPr>
              <a:t>Material Improvements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lvl="1" marL="727920" indent="-280080">
              <a:lnSpc>
                <a:spcPct val="90000"/>
              </a:lnSpc>
              <a:spcBef>
                <a:spcPts val="799"/>
              </a:spcBef>
              <a:buClr>
                <a:srgbClr val="fe1f08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Lucida Sans"/>
              </a:rPr>
              <a:t>Transportati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19960" indent="-2239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Lucida Sans"/>
              </a:rPr>
              <a:t>Road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1119960" indent="-2239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Lucida Sans"/>
              </a:rPr>
              <a:t>Railroad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1119960" indent="-2239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Lucida Sans"/>
              </a:rPr>
              <a:t>Weakened African tribes family ties due to migration of peopl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27920" indent="-280080">
              <a:lnSpc>
                <a:spcPct val="90000"/>
              </a:lnSpc>
              <a:spcBef>
                <a:spcPts val="799"/>
              </a:spcBef>
              <a:buClr>
                <a:srgbClr val="fe1f08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Lucida Sans"/>
              </a:rPr>
              <a:t>School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27920" indent="-280080">
              <a:lnSpc>
                <a:spcPct val="90000"/>
              </a:lnSpc>
              <a:spcBef>
                <a:spcPts val="799"/>
              </a:spcBef>
              <a:buClr>
                <a:srgbClr val="fe1f08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Lucida Sans"/>
              </a:rPr>
              <a:t>Telegraph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27920" indent="-280080">
              <a:lnSpc>
                <a:spcPct val="90000"/>
              </a:lnSpc>
              <a:spcBef>
                <a:spcPts val="799"/>
              </a:spcBef>
              <a:buClr>
                <a:srgbClr val="fe1f08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Lucida Sans"/>
              </a:rPr>
              <a:t>Hospital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27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4" descr="rhodes"/>
          <p:cNvPicPr/>
          <p:nvPr/>
        </p:nvPicPr>
        <p:blipFill>
          <a:blip r:embed="rId1"/>
          <a:stretch/>
        </p:blipFill>
        <p:spPr>
          <a:xfrm>
            <a:off x="762120" y="380880"/>
            <a:ext cx="4271760" cy="624852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5"/>
          <p:cNvSpPr/>
          <p:nvPr/>
        </p:nvSpPr>
        <p:spPr>
          <a:xfrm>
            <a:off x="5181480" y="2209680"/>
            <a:ext cx="3733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cc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Lucida Sans"/>
              </a:rPr>
              <a:t>Cecil Rhodes - British dominance of southern Africa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buClr>
                <a:srgbClr val="ffcc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Lucida Sans"/>
              </a:rPr>
              <a:t>De Beers Mining Company, controlled 90% diamond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buClr>
                <a:srgbClr val="ffcc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Lucida Sans"/>
              </a:rPr>
              <a:t>Prime minister of the Cape Colony (now South Africa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Lucida Sans"/>
              </a:rPr>
              <a:t>Learning Targe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0" name="Rectangle 3" descr=""/>
          <p:cNvPicPr/>
          <p:nvPr/>
        </p:nvPicPr>
        <p:blipFill>
          <a:blip r:embed="rId1"/>
          <a:stretch/>
        </p:blipFill>
        <p:spPr>
          <a:xfrm>
            <a:off x="-60480" y="1298520"/>
            <a:ext cx="920448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4" descr="1906LeopoldCaricPunch100dpi"/>
          <p:cNvPicPr/>
          <p:nvPr/>
        </p:nvPicPr>
        <p:blipFill>
          <a:blip r:embed="rId1"/>
          <a:stretch/>
        </p:blipFill>
        <p:spPr>
          <a:xfrm>
            <a:off x="380880" y="228600"/>
            <a:ext cx="4203720" cy="6400800"/>
          </a:xfrm>
          <a:prstGeom prst="rect">
            <a:avLst/>
          </a:prstGeom>
          <a:ln w="0">
            <a:noFill/>
          </a:ln>
        </p:spPr>
      </p:pic>
      <p:sp>
        <p:nvSpPr>
          <p:cNvPr id="397" name="Text Box 5"/>
          <p:cNvSpPr/>
          <p:nvPr/>
        </p:nvSpPr>
        <p:spPr>
          <a:xfrm>
            <a:off x="4952880" y="1828800"/>
            <a:ext cx="3886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King Leopold of Belgian Congo Free State (early 1900)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Large rubber industry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Reports of human rights abuse (enslavement, multination and death) of the native population.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Reports were up to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0 million dead.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4" descr="0083"/>
          <p:cNvPicPr/>
          <p:nvPr/>
        </p:nvPicPr>
        <p:blipFill>
          <a:blip r:embed="rId1"/>
          <a:stretch/>
        </p:blipFill>
        <p:spPr>
          <a:xfrm>
            <a:off x="457200" y="228600"/>
            <a:ext cx="5757840" cy="6172200"/>
          </a:xfrm>
          <a:prstGeom prst="rect">
            <a:avLst/>
          </a:prstGeom>
          <a:ln w="0">
            <a:noFill/>
          </a:ln>
        </p:spPr>
      </p:pic>
      <p:sp>
        <p:nvSpPr>
          <p:cNvPr id="399" name="Text Box 5"/>
          <p:cNvSpPr/>
          <p:nvPr/>
        </p:nvSpPr>
        <p:spPr>
          <a:xfrm>
            <a:off x="6461280" y="2398680"/>
            <a:ext cx="2377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n American cartoon depicting Britain taking African territory (circa. 1900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Lucida Sans"/>
              </a:rPr>
              <a:t>Nationalism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Lucida Sans"/>
              </a:rPr>
              <a:t>A pride/devotion in one’s country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Lucida Sans"/>
              </a:rPr>
              <a:t>One of the very reasons for African imperialism by the Europeans would be one of the very reasons for African independence from the Europeans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Lucida Sans"/>
              </a:rPr>
              <a:t>Irony of European Rul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52280" y="198072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Lucida Sans"/>
              </a:rPr>
              <a:t>Many Africans went to Europe to become educate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Lucida Sans"/>
              </a:rPr>
              <a:t>Saw strengths and weaknesses of Europ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Lucida Sans"/>
              </a:rPr>
              <a:t>Learned about the idea of democracy and equalit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Lucida Sans"/>
              </a:rPr>
              <a:t>Came back and became politically activ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6320" y="185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Lucida Sans"/>
              </a:rPr>
              <a:t>How </a:t>
            </a:r>
            <a:r>
              <a:rPr b="1" lang="en-US" sz="2800" spc="-1" strike="noStrike">
                <a:solidFill>
                  <a:srgbClr val="00ff00"/>
                </a:solidFill>
                <a:latin typeface="Lucida Sans"/>
              </a:rPr>
              <a:t>did such a small # of Europeans control such a large # of Africans?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51920" y="1328760"/>
            <a:ext cx="8915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Lucida Sans"/>
              </a:rPr>
              <a:t>The Europeans kept the African tribes divide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Lucida Sans"/>
              </a:rPr>
              <a:t>The European nations exploited Africa’s raw materials for their own purpos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Lucida Sans"/>
              </a:rPr>
              <a:t>The Europeans took over great amounts of land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Lucida Sans"/>
              </a:rPr>
              <a:t>The Europeans forced the Africans to pay heavy taxe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Lucida Sans"/>
              </a:rPr>
              <a:t>The Europeans used brutal methods to keep the Africans under contro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103"/>
                </a:solidFill>
                <a:latin typeface="Lucida Sans"/>
              </a:rPr>
              <a:t>Imperialism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228600" y="3124080"/>
            <a:ext cx="55627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Lucida Sans"/>
              </a:rPr>
              <a:t>ONE COUNTRY’S DOMINATION OF THE POLITICAL, ECONOMIC &amp; SOCIAL LIFE OF ANOTHER COUNTR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3" name="Picture 6" descr=""/>
          <p:cNvPicPr/>
          <p:nvPr/>
        </p:nvPicPr>
        <p:blipFill>
          <a:blip r:embed="rId1"/>
          <a:stretch/>
        </p:blipFill>
        <p:spPr>
          <a:xfrm>
            <a:off x="6095880" y="1066680"/>
            <a:ext cx="25243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3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4"/>
          <p:cNvSpPr/>
          <p:nvPr/>
        </p:nvSpPr>
        <p:spPr>
          <a:xfrm>
            <a:off x="914400" y="45720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 Black"/>
              </a:rPr>
              <a:t>Imperialism in Afric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28600" y="301320"/>
            <a:ext cx="87631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Arial"/>
                <a:ea typeface="Arial"/>
              </a:rPr>
              <a:t>Causes of African Imperialism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28600" y="1763640"/>
            <a:ext cx="876312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Loss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of New World Europe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1760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Arial"/>
              </a:rPr>
              <a:t>- 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France lost Canada &amp; India to 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           Britain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1770s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Arial"/>
              </a:rPr>
              <a:t> - 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Britain lost American colonies 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    to independence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  <a:ea typeface="Arial"/>
              </a:rPr>
              <a:t>       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  <a:ea typeface="Arial"/>
              </a:rPr>
              <a:t>- Early 1800s - Spain &amp; Portugal lost Latin 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  <a:ea typeface="Arial"/>
              </a:rPr>
              <a:t>       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  <a:ea typeface="Arial"/>
              </a:rPr>
              <a:t>- American colonies to independence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                 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- Simon Bolivar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                 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- San Marti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80520" y="301320"/>
            <a:ext cx="80773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Arial Black"/>
              </a:rPr>
              <a:t>Motives for Imperialism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Economic</a:t>
            </a:r>
            <a:r>
              <a:rPr b="0" lang="en-US" sz="3000" spc="-1" strike="noStrike">
                <a:solidFill>
                  <a:srgbClr val="ffcc00"/>
                </a:solidFill>
                <a:latin typeface="Arial"/>
                <a:ea typeface="Arial"/>
              </a:rPr>
              <a:t> –   Sources of raw materials…              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"/>
                <a:ea typeface="Arial"/>
              </a:rPr>
              <a:t>                         </a:t>
            </a:r>
            <a:r>
              <a:rPr b="0" lang="en-US" sz="3000" spc="-1" strike="noStrike">
                <a:solidFill>
                  <a:srgbClr val="ffcc00"/>
                </a:solidFill>
                <a:latin typeface="Arial"/>
                <a:ea typeface="Arial"/>
              </a:rPr>
              <a:t>New Markets for their products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Political/Nationalistic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  <a:ea typeface="Arial"/>
              </a:rPr>
              <a:t>  </a:t>
            </a:r>
            <a:r>
              <a:rPr b="0" lang="en-US" sz="3000" spc="-1" strike="noStrike">
                <a:solidFill>
                  <a:srgbClr val="ffcc00"/>
                </a:solidFill>
                <a:latin typeface="Arial"/>
                <a:ea typeface="Arial"/>
              </a:rPr>
              <a:t>–</a:t>
            </a:r>
            <a:br>
              <a:rPr sz="3000"/>
            </a:br>
            <a:r>
              <a:rPr b="0" lang="en-US" sz="3000" spc="-1" strike="noStrike">
                <a:solidFill>
                  <a:srgbClr val="ffcc00"/>
                </a:solidFill>
                <a:latin typeface="Arial"/>
                <a:ea typeface="Arial"/>
              </a:rPr>
              <a:t>                      Gain power, prestige, strategic         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"/>
                <a:ea typeface="Arial"/>
              </a:rPr>
              <a:t>                          </a:t>
            </a:r>
            <a:r>
              <a:rPr b="0" lang="en-US" sz="3000" spc="-1" strike="noStrike">
                <a:solidFill>
                  <a:srgbClr val="ffcc00"/>
                </a:solidFill>
                <a:latin typeface="Arial"/>
                <a:ea typeface="Arial"/>
              </a:rPr>
              <a:t>locations, greed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Religious</a:t>
            </a:r>
            <a:r>
              <a:rPr b="0" lang="en-US" sz="3000" spc="-1" strike="noStrike">
                <a:solidFill>
                  <a:srgbClr val="ffcc00"/>
                </a:solidFill>
                <a:latin typeface="Arial"/>
                <a:ea typeface="Arial"/>
              </a:rPr>
              <a:t> –     Spread Christianity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Exploratory</a:t>
            </a:r>
            <a:r>
              <a:rPr b="0" lang="en-US" sz="3000" spc="-1" strike="noStrike">
                <a:solidFill>
                  <a:srgbClr val="ffcc00"/>
                </a:solidFill>
                <a:latin typeface="Arial"/>
                <a:ea typeface="Arial"/>
              </a:rPr>
              <a:t> –  Learn about the               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"/>
                <a:ea typeface="Arial"/>
              </a:rPr>
              <a:t>                           </a:t>
            </a:r>
            <a:r>
              <a:rPr b="0" lang="en-US" sz="3000" spc="-1" strike="noStrike">
                <a:solidFill>
                  <a:srgbClr val="ffcc00"/>
                </a:solidFill>
                <a:latin typeface="Arial"/>
                <a:ea typeface="Arial"/>
              </a:rPr>
              <a:t>unknown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Ideological</a:t>
            </a:r>
            <a:r>
              <a:rPr b="0" lang="en-US" sz="3000" spc="-1" strike="noStrike">
                <a:solidFill>
                  <a:srgbClr val="ffcc00"/>
                </a:solidFill>
                <a:latin typeface="Arial"/>
                <a:ea typeface="Arial"/>
              </a:rPr>
              <a:t>  –  Spread their “superior”  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"/>
                <a:ea typeface="Arial"/>
              </a:rPr>
              <a:t>                           </a:t>
            </a:r>
            <a:r>
              <a:rPr b="0" lang="en-US" sz="3000" spc="-1" strike="noStrike">
                <a:solidFill>
                  <a:srgbClr val="ffcc00"/>
                </a:solidFill>
                <a:latin typeface="Arial"/>
                <a:ea typeface="Arial"/>
              </a:rPr>
              <a:t>culture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80520" y="301320"/>
            <a:ext cx="8534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Arial Black"/>
              </a:rPr>
              <a:t>Rationale for Imperialism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Social Darwinism – Social theory stating that the political and economic advantages in a developed society are derived from the biological advantages of its collective membership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5960" y="301320"/>
            <a:ext cx="838188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Arial"/>
                <a:ea typeface="Arial"/>
              </a:rPr>
              <a:t>Justifications For Imperialism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-277200">
              <a:lnSpc>
                <a:spcPct val="100000"/>
              </a:lnSpc>
              <a:spcBef>
                <a:spcPts val="901"/>
              </a:spcBef>
              <a:buClr>
                <a:srgbClr val="f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Civilizing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 Mission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lvl="1" marL="720720" indent="-277200">
              <a:lnSpc>
                <a:spcPct val="100000"/>
              </a:lnSpc>
              <a:spcBef>
                <a:spcPts val="901"/>
              </a:spcBef>
              <a:buClr>
                <a:srgbClr val="f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Desire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 to spread Western technology, religion, customs &amp; traditions - believed Western culture was superior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lvl="1" marL="720720" indent="-277200">
              <a:lnSpc>
                <a:spcPct val="100000"/>
              </a:lnSpc>
              <a:spcBef>
                <a:spcPts val="901"/>
              </a:spcBef>
              <a:buClr>
                <a:srgbClr val="f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pread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 Christian message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Kipling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 - “White Man’s Burden”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962160" y="457200"/>
            <a:ext cx="443052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 Black"/>
              </a:rPr>
              <a:t>In February 1899, British novelist and poet Rudyard Kipling wrote a poem entitled </a:t>
            </a:r>
            <a:r>
              <a:rPr b="1" lang="en-US" sz="2400" spc="-1" strike="noStrike">
                <a:solidFill>
                  <a:srgbClr val="00ff00"/>
                </a:solidFill>
                <a:latin typeface="Arial Black"/>
              </a:rPr>
              <a:t>“The White Man's Burden: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80520" y="6019920"/>
            <a:ext cx="8610840" cy="69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ngsana New"/>
                <a:ea typeface="Angsana New"/>
              </a:rPr>
              <a:t>More on Kipling…later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6" name="Picture 2" descr="https://upload.wikimedia.org/wikipedia/commons/3/3f/%22The_White_Man%27s_Burden%22_Judge_1899.png"/>
          <p:cNvPicPr/>
          <p:nvPr/>
        </p:nvPicPr>
        <p:blipFill>
          <a:blip r:embed="rId1"/>
          <a:stretch/>
        </p:blipFill>
        <p:spPr>
          <a:xfrm>
            <a:off x="696960" y="2438280"/>
            <a:ext cx="7913520" cy="36576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3" descr=""/>
          <p:cNvPicPr/>
          <p:nvPr/>
        </p:nvPicPr>
        <p:blipFill>
          <a:blip r:embed="rId2"/>
          <a:stretch/>
        </p:blipFill>
        <p:spPr>
          <a:xfrm>
            <a:off x="228600" y="50760"/>
            <a:ext cx="357660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4T02:05:11Z</dcterms:created>
  <dc:creator>frank tellez</dc:creator>
  <dc:description/>
  <dc:language>en-US</dc:language>
  <cp:lastModifiedBy>Katherine Silver</cp:lastModifiedBy>
  <cp:lastPrinted>2017-04-20T10:53:31Z</cp:lastPrinted>
  <dcterms:modified xsi:type="dcterms:W3CDTF">2017-12-01T19:17:56Z</dcterms:modified>
  <cp:revision>32</cp:revision>
  <dc:subject/>
  <dc:title>Imperialism</dc:title>
</cp:coreProperties>
</file>