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jpeg" ContentType="image/jpeg"/>
  <Override PartName="/ppt/media/image4.jpeg" ContentType="image/jpeg"/>
  <Override PartName="/ppt/media/image8.gif" ContentType="image/gif"/>
  <Override PartName="/ppt/media/image26.png" ContentType="image/png"/>
  <Override PartName="/ppt/media/image11.wmf" ContentType="image/x-wmf"/>
  <Override PartName="/ppt/media/image5.jpeg" ContentType="image/jpeg"/>
  <Override PartName="/ppt/media/image9.wmf" ContentType="image/x-wmf"/>
  <Override PartName="/ppt/media/image3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7.wmf" ContentType="image/x-wmf"/>
  <Override PartName="/ppt/media/image10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A83F-945E-4B9B-BF96-C5E208C7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C60-82C6-48BB-A574-5F7C0694F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F19-BD5E-41A0-AD57-07171C3D7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FDA-5808-4BE5-BD32-97804889A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F2B4-286B-4A9B-908E-B0A42152F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087-E221-4FB7-9FE2-400C59D99E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D92B-8010-4F26-BFB7-094698B864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21D5-ABD2-4935-A1DF-39ECCCD39A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18B2-9666-492C-B4C2-6E71B069E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535F-E487-4A59-8E39-6E59E1A55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6D1F-D82B-4907-A390-769E8F6799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FE08-9D66-40F3-837E-0633103BF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9382-D760-4F68-8BB1-FC5DF0124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8272-4838-4D6A-A38B-BD9B3ECF61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017-A2F4-4391-AF83-B33A4BE23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0E0-2873-4EC5-9DDB-A76022A08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04F-CB26-4E8F-AD9E-7868A442FD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9CB-D12E-4CCC-96C9-6A930870A7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E7FF-8A7D-4BD3-9C47-7FCB64567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2EA-7191-4CB9-A5F1-DF39BFDE6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29D-07B5-4FF1-89D1-B3C4702DE5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7CC-DA2F-4CAF-BFE6-BCE16F7123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570-01AF-44C5-B42C-D99E1C8EF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F1F-EBB7-41CB-B0EA-63E03254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4E5-DE78-457D-8C7E-9D8520F2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152-1697-4F33-BD7E-A975B94E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97-447A-4C63-B055-BF9323F8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2B2-EBE7-41A4-9F9D-6224311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1E1-E250-479E-BEA3-05DA63A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95D-CA27-4A10-82F0-5B611A84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0D5-F07B-42C0-A619-C16629D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F1F-5D5C-413A-B022-66A3D01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170-11D3-4C61-807E-68EEE503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2D0-914D-4311-AD6A-99282B9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E19-E020-4CC8-8B12-44B2596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28F4-BFEF-45AE-AC38-BB204A18E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b.utexas.edu/photodraw/portraits/pgreat.jpg&amp;imgrefurl=http://www.lib.utexas.edu/photodraw/portraits/&amp;h=724&amp;w=510&amp;sz=60&amp;tbnid=d2jCkMRZcFEJ:&amp;tbnh=139&amp;tbnw=97&amp;hl=en&amp;start=1&amp;prev=/images%3Fq%3Dpeter%2Bthe%2Bgreat%26svnum%3D10%26hl%3Den%26lr%3D%26sa%3D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038240"/>
            <a:ext cx="6858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63600" y="1641600"/>
            <a:ext cx="4021200" cy="4232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3400" y="1641600"/>
            <a:ext cx="8009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927680" y="1882800"/>
            <a:ext cx="3645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o is in the paint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is in the backgroun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message does this portrait convey? What is the mean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ne right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king is king because God made him k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answer to God alon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mpts to control all in rea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gious groups, nobles, local gov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favors or sup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vy-handed approach to creating 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4564080" y="2259000"/>
            <a:ext cx="15840" cy="15840"/>
            <a:chOff x="4564080" y="2259000"/>
            <a:chExt cx="15840" cy="15840"/>
          </a:xfrm>
        </p:grpSpPr>
        <p:grpSp>
          <p:nvGrpSpPr>
            <p:cNvPr id="82" name="Group 14"/>
            <p:cNvGrpSpPr/>
            <p:nvPr/>
          </p:nvGrpSpPr>
          <p:grpSpPr>
            <a:xfrm>
              <a:off x="4572000" y="2266920"/>
              <a:ext cx="360" cy="360"/>
              <a:chOff x="4572000" y="2266920"/>
              <a:chExt cx="360" cy="360"/>
            </a:xfrm>
          </p:grpSpPr>
          <p:sp>
            <p:nvSpPr>
              <p:cNvPr id="83" name="Rectangle 6"/>
              <p:cNvSpPr/>
              <p:nvPr/>
            </p:nvSpPr>
            <p:spPr>
              <a:xfrm>
                <a:off x="4572000" y="22669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4572000" y="226692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Rectangle 15"/>
            <p:cNvSpPr/>
            <p:nvPr/>
          </p:nvSpPr>
          <p:spPr>
            <a:xfrm>
              <a:off x="4564080" y="2259000"/>
              <a:ext cx="15840" cy="1584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Picture 17" descr="arg-king"/>
          <p:cNvPicPr/>
          <p:nvPr/>
        </p:nvPicPr>
        <p:blipFill>
          <a:blip r:embed="rId1"/>
          <a:stretch/>
        </p:blipFill>
        <p:spPr>
          <a:xfrm>
            <a:off x="6781680" y="3390840"/>
            <a:ext cx="221004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3352680" y="6248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9_</a:t>
            </a:r>
            <a:r>
              <a:rPr b="0" lang="en-US" sz="1400" spc="-1" strike="noStrike">
                <a:solidFill>
                  <a:srgbClr val="ffffff"/>
                </a:solidFill>
                <a:latin typeface="ヒラギノ角ゴ Pro W3"/>
              </a:rPr>
              <a:t>Yes, I know - this guy gets annoying after a whi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026"/>
          <p:cNvGraphicFramePr/>
          <p:nvPr/>
        </p:nvGraphicFramePr>
        <p:xfrm>
          <a:off x="1828800" y="5448240"/>
          <a:ext cx="219384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48240"/>
                    <a:ext cx="21938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ver financial machin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g controls the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longer has to ask nobles for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se $ through Taxes, customs duties (tariffs), &amp; other financial sche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of tax collectors whose job is to go around and collect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1029"/>
          <p:cNvGraphicFramePr/>
          <p:nvPr/>
        </p:nvGraphicFramePr>
        <p:xfrm>
          <a:off x="7086600" y="1371600"/>
          <a:ext cx="180972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1371600"/>
                    <a:ext cx="1809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ive bureaucra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civil serv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d by state, represented the 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 owed their wealth &amp; position to empl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s usually loyal &amp; grateful to 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6019920" y="1828800"/>
          <a:ext cx="257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57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ing ar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dieval system abando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udal obligation of 40 days’ service thrown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math: How much does it cost to feed an army of 200,000 men every day, 3 times a d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louis_14"/>
          <p:cNvPicPr/>
          <p:nvPr/>
        </p:nvPicPr>
        <p:blipFill>
          <a:blip r:embed="rId1"/>
          <a:srcRect l="0" t="11297" r="0" b="47311"/>
          <a:stretch/>
        </p:blipFill>
        <p:spPr>
          <a:xfrm>
            <a:off x="1828800" y="1447920"/>
            <a:ext cx="5611680" cy="36576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27"/>
          <p:cNvSpPr/>
          <p:nvPr/>
        </p:nvSpPr>
        <p:spPr>
          <a:xfrm>
            <a:off x="838080" y="1295280"/>
            <a:ext cx="1828800" cy="914400"/>
          </a:xfrm>
          <a:prstGeom prst="wedgeRoundRectCallout">
            <a:avLst>
              <a:gd name="adj1" fmla="val 140106"/>
              <a:gd name="adj2" fmla="val 1095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tat, c’est moi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2362320" y="83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uis “the Sun King”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029"/>
          <p:cNvSpPr/>
          <p:nvPr/>
        </p:nvSpPr>
        <p:spPr>
          <a:xfrm>
            <a:off x="6705720" y="1295280"/>
            <a:ext cx="2133360" cy="1905120"/>
          </a:xfrm>
          <a:prstGeom prst="wedgeRoundRectCallout">
            <a:avLst>
              <a:gd name="adj1" fmla="val -154912"/>
              <a:gd name="adj2" fmla="val 34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stat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you silly Americ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louis_14"/>
          <p:cNvPicPr/>
          <p:nvPr/>
        </p:nvPicPr>
        <p:blipFill>
          <a:blip r:embed="rId1"/>
          <a:srcRect l="0" t="11297" r="0" b="47311"/>
          <a:stretch/>
        </p:blipFill>
        <p:spPr>
          <a:xfrm>
            <a:off x="1828800" y="1447920"/>
            <a:ext cx="56116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914400" y="1143000"/>
            <a:ext cx="1828800" cy="1295280"/>
          </a:xfrm>
          <a:prstGeom prst="wedgeRoundRectCallout">
            <a:avLst>
              <a:gd name="adj1" fmla="val 131078"/>
              <a:gd name="adj2" fmla="val 7806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ose darn Huguen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943600" y="762120"/>
            <a:ext cx="1828800" cy="914400"/>
          </a:xfrm>
          <a:prstGeom prst="wedgeRoundRectCallout">
            <a:avLst>
              <a:gd name="adj1" fmla="val -125259"/>
              <a:gd name="adj2" fmla="val 16753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Army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6705720" y="2895480"/>
            <a:ext cx="1828800" cy="914400"/>
          </a:xfrm>
          <a:prstGeom prst="wedgeRoundRectCallout">
            <a:avLst>
              <a:gd name="adj1" fmla="val -170138"/>
              <a:gd name="adj2" fmla="val -59375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 Germany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5867280" y="4191120"/>
            <a:ext cx="1828800" cy="1295280"/>
          </a:xfrm>
          <a:prstGeom prst="wedgeRoundRectCallout">
            <a:avLst>
              <a:gd name="adj1" fmla="val -127430"/>
              <a:gd name="adj2" fmla="val -15551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to be king of Spain to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362320" y="83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uis “the Sun King”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4038480" y="4876920"/>
            <a:ext cx="1676520" cy="990360"/>
          </a:xfrm>
          <a:prstGeom prst="wedgeRoundRectCallout">
            <a:avLst>
              <a:gd name="adj1" fmla="val -30490"/>
              <a:gd name="adj2" fmla="val -25144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e a palace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828800" y="4572000"/>
            <a:ext cx="1828800" cy="914400"/>
          </a:xfrm>
          <a:prstGeom prst="wedgeRoundRectCallout">
            <a:avLst>
              <a:gd name="adj1" fmla="val 89412"/>
              <a:gd name="adj2" fmla="val -22691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English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666880" y="5410080"/>
            <a:ext cx="1600200" cy="838440"/>
          </a:xfrm>
          <a:prstGeom prst="wedgeRoundRectCallout">
            <a:avLst>
              <a:gd name="adj1" fmla="val 56944"/>
              <a:gd name="adj2" fmla="val -34299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Dutch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5715000" y="5562720"/>
            <a:ext cx="1828800" cy="1295280"/>
          </a:xfrm>
          <a:prstGeom prst="wedgeRoundRectCallout">
            <a:avLst>
              <a:gd name="adj1" fmla="val -123092"/>
              <a:gd name="adj2" fmla="val -25134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Swedes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228600" y="2895480"/>
            <a:ext cx="1905120" cy="1600200"/>
          </a:xfrm>
          <a:prstGeom prst="wedgeRoundRectCallout">
            <a:avLst>
              <a:gd name="adj1" fmla="val 167833"/>
              <a:gd name="adj2" fmla="val -46328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mean we’re out of money!!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ersailles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1973160" y="1920960"/>
            <a:ext cx="5197320" cy="3017880"/>
            <a:chOff x="1973160" y="1920960"/>
            <a:chExt cx="5197320" cy="3017880"/>
          </a:xfrm>
        </p:grpSpPr>
        <p:sp>
          <p:nvSpPr>
            <p:cNvPr id="117" name="Rectangle 2"/>
            <p:cNvSpPr/>
            <p:nvPr/>
          </p:nvSpPr>
          <p:spPr>
            <a:xfrm>
              <a:off x="1973160" y="1920960"/>
              <a:ext cx="519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1973160" y="1920960"/>
              <a:ext cx="51973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MS Sans Serif, Microsoft Sans S"/>
                </a:rPr>
                <a:t>  </a:t>
              </a:r>
              <a:r>
                <a:rPr b="0" lang="en-US" sz="16800" spc="-1" strike="noStrike">
                  <a:solidFill>
                    <a:srgbClr val="ffffff"/>
                  </a:solidFill>
                  <a:latin typeface="MS Sans Serif, Microsoft Sans S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MS Sans Serif, Microsoft Sans S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Palace of Versailles"/>
          <p:cNvPicPr/>
          <p:nvPr/>
        </p:nvPicPr>
        <p:blipFill>
          <a:blip r:embed="rId1"/>
          <a:stretch/>
        </p:blipFill>
        <p:spPr>
          <a:xfrm>
            <a:off x="0" y="0"/>
            <a:ext cx="4495680" cy="300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VER_118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ersailles_01"/>
          <p:cNvPicPr/>
          <p:nvPr/>
        </p:nvPicPr>
        <p:blipFill>
          <a:blip r:embed="rId3"/>
          <a:stretch/>
        </p:blipFill>
        <p:spPr>
          <a:xfrm>
            <a:off x="0" y="3048120"/>
            <a:ext cx="422928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4241880" y="2971800"/>
            <a:ext cx="4902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alace of Versaille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"/>
          <p:cNvSpPr/>
          <p:nvPr/>
        </p:nvSpPr>
        <p:spPr>
          <a:xfrm>
            <a:off x="4038480" y="152280"/>
            <a:ext cx="990720" cy="838440"/>
          </a:xfrm>
          <a:prstGeom prst="wedgeRectCallout">
            <a:avLst>
              <a:gd name="adj1" fmla="val -23236"/>
              <a:gd name="adj2" fmla="val 1096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04920" y="228600"/>
            <a:ext cx="2209680" cy="685800"/>
          </a:xfrm>
          <a:prstGeom prst="wedgeRectCallout">
            <a:avLst>
              <a:gd name="adj1" fmla="val -41162"/>
              <a:gd name="adj2" fmla="val 20995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let’s make this the kid’s 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086600" y="0"/>
            <a:ext cx="1676520" cy="685800"/>
          </a:xfrm>
          <a:prstGeom prst="wedgeRectCallout">
            <a:avLst>
              <a:gd name="adj1" fmla="val 21495"/>
              <a:gd name="adj2" fmla="val 1557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m, I think I’m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581280" y="5486400"/>
            <a:ext cx="1752840" cy="762120"/>
          </a:xfrm>
          <a:prstGeom prst="wedgeRectCallout">
            <a:avLst>
              <a:gd name="adj1" fmla="val -1087"/>
              <a:gd name="adj2" fmla="val -1352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 y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828800" y="2438280"/>
            <a:ext cx="5410080" cy="17528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all be yours for a mea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,000,000,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ce Under Louis X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g is glorified as all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ne Righ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bles stripped of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ailles bu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w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 of Spanish Succe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one gangs up on F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aty of Utrecht - Spain and France can never be un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s economy through mercantilism and heavy t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Nobles do not pay t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rning Targets and Essential Ques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arning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Define Absolu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Analyz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Analyze Prima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s regard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sential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overall political theme dominated the events that shaped Europe du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period of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-1800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0"/>
          <p:cNvSpPr/>
          <p:nvPr/>
        </p:nvSpPr>
        <p:spPr>
          <a:xfrm>
            <a:off x="7315200" y="685800"/>
            <a:ext cx="12952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352680" y="312408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943600" y="1371600"/>
            <a:ext cx="11430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7086600" y="1676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H="1" flipV="1">
            <a:off x="4800600" y="114264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1295280" y="16765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38088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1905120"/>
            <a:ext cx="8384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1066680" y="23623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47920" y="2514600"/>
            <a:ext cx="1066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2209320" y="2285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553080" y="1981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6858000" y="2286000"/>
            <a:ext cx="12952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701028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6477120" y="3200400"/>
            <a:ext cx="13716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400800" y="19810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57150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6172200" y="3733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4267080" y="533520"/>
            <a:ext cx="12193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52578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2"/>
          <p:cNvSpPr/>
          <p:nvPr/>
        </p:nvSpPr>
        <p:spPr>
          <a:xfrm flipV="1">
            <a:off x="5410080" y="5331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1143000" y="32004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ie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2514600" y="32000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H="1">
            <a:off x="152280" y="35053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380880" y="37339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 rot="18109200">
            <a:off x="702360" y="4248000"/>
            <a:ext cx="10666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981080" y="44956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447920" y="5410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182880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20968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2286000" y="5867280"/>
            <a:ext cx="10666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220968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2362320" y="58672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36"/>
          <p:cNvSpPr/>
          <p:nvPr/>
        </p:nvSpPr>
        <p:spPr>
          <a:xfrm>
            <a:off x="32767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7"/>
          <p:cNvSpPr/>
          <p:nvPr/>
        </p:nvSpPr>
        <p:spPr>
          <a:xfrm>
            <a:off x="3276720" y="61722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38"/>
          <p:cNvSpPr/>
          <p:nvPr/>
        </p:nvSpPr>
        <p:spPr>
          <a:xfrm>
            <a:off x="2819520" y="6172200"/>
            <a:ext cx="12189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39"/>
          <p:cNvSpPr/>
          <p:nvPr/>
        </p:nvSpPr>
        <p:spPr>
          <a:xfrm flipV="1">
            <a:off x="2819520" y="38095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3276720" y="14479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3"/>
          <p:cNvSpPr/>
          <p:nvPr/>
        </p:nvSpPr>
        <p:spPr>
          <a:xfrm flipV="1">
            <a:off x="3581280" y="1905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44"/>
          <p:cNvSpPr/>
          <p:nvPr/>
        </p:nvSpPr>
        <p:spPr>
          <a:xfrm flipH="1" flipV="1">
            <a:off x="1066320" y="1066680"/>
            <a:ext cx="2210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45"/>
          <p:cNvSpPr/>
          <p:nvPr/>
        </p:nvSpPr>
        <p:spPr>
          <a:xfrm flipH="1" flipV="1">
            <a:off x="1599840" y="45720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46"/>
          <p:cNvSpPr/>
          <p:nvPr/>
        </p:nvSpPr>
        <p:spPr>
          <a:xfrm flipH="1" flipV="1">
            <a:off x="2514240" y="2282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7"/>
          <p:cNvSpPr/>
          <p:nvPr/>
        </p:nvSpPr>
        <p:spPr>
          <a:xfrm>
            <a:off x="3962520" y="4419720"/>
            <a:ext cx="1143000" cy="533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48"/>
          <p:cNvSpPr/>
          <p:nvPr/>
        </p:nvSpPr>
        <p:spPr>
          <a:xfrm>
            <a:off x="5638680" y="4876920"/>
            <a:ext cx="12956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5105520" y="49528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50"/>
          <p:cNvSpPr/>
          <p:nvPr/>
        </p:nvSpPr>
        <p:spPr>
          <a:xfrm flipV="1">
            <a:off x="6858000" y="472392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51"/>
          <p:cNvSpPr/>
          <p:nvPr/>
        </p:nvSpPr>
        <p:spPr>
          <a:xfrm>
            <a:off x="6934320" y="53341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52"/>
          <p:cNvSpPr/>
          <p:nvPr/>
        </p:nvSpPr>
        <p:spPr>
          <a:xfrm>
            <a:off x="5410080" y="563868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a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53"/>
          <p:cNvSpPr/>
          <p:nvPr/>
        </p:nvSpPr>
        <p:spPr>
          <a:xfrm>
            <a:off x="46483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54"/>
          <p:cNvSpPr/>
          <p:nvPr/>
        </p:nvSpPr>
        <p:spPr>
          <a:xfrm>
            <a:off x="4267080" y="38098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55"/>
          <p:cNvSpPr/>
          <p:nvPr/>
        </p:nvSpPr>
        <p:spPr>
          <a:xfrm>
            <a:off x="6705720" y="59436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6"/>
          <p:cNvSpPr/>
          <p:nvPr/>
        </p:nvSpPr>
        <p:spPr>
          <a:xfrm>
            <a:off x="6095880" y="60958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8"/>
          <p:cNvSpPr/>
          <p:nvPr/>
        </p:nvSpPr>
        <p:spPr>
          <a:xfrm>
            <a:off x="6019920" y="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9"/>
          <p:cNvSpPr/>
          <p:nvPr/>
        </p:nvSpPr>
        <p:spPr>
          <a:xfrm>
            <a:off x="7238880" y="685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er the Gr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zar of 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ov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40080" cy="4762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2362320" y="3886200"/>
            <a:ext cx="1828800" cy="1143000"/>
          </a:xfrm>
          <a:prstGeom prst="wedgeRoundRectCallout">
            <a:avLst>
              <a:gd name="adj1" fmla="val 191148"/>
              <a:gd name="adj2" fmla="val -16777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ck off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l jok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u1660"/>
          <p:cNvPicPr/>
          <p:nvPr/>
        </p:nvPicPr>
        <p:blipFill>
          <a:blip r:embed="rId1"/>
          <a:stretch/>
        </p:blipFill>
        <p:spPr>
          <a:xfrm>
            <a:off x="-4680" y="120600"/>
            <a:ext cx="91551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europe blank map w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Oval 5"/>
          <p:cNvSpPr/>
          <p:nvPr/>
        </p:nvSpPr>
        <p:spPr>
          <a:xfrm>
            <a:off x="1219320" y="1371600"/>
            <a:ext cx="4267080" cy="518148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ed,” “Highly Cultu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lemanly”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5181480" y="1371600"/>
            <a:ext cx="2362320" cy="5181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7391520" y="0"/>
            <a:ext cx="1752480" cy="44956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HA H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bill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l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HA H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58280" y="3049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uropeans Viewed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609588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80880" y="304920"/>
            <a:ext cx="5121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graphically Iso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inated by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eval / Feud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se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urch has great infl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urope blank map w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pgreat"/>
          <p:cNvPicPr/>
          <p:nvPr/>
        </p:nvPicPr>
        <p:blipFill>
          <a:blip r:embed="rId2"/>
          <a:stretch/>
        </p:blipFill>
        <p:spPr>
          <a:xfrm>
            <a:off x="6324480" y="2666880"/>
            <a:ext cx="1997280" cy="28386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/>
          <p:cNvSpPr/>
          <p:nvPr/>
        </p:nvSpPr>
        <p:spPr>
          <a:xfrm>
            <a:off x="2971800" y="3352680"/>
            <a:ext cx="1981080" cy="1828800"/>
          </a:xfrm>
          <a:prstGeom prst="wedgeRoundRectCallout">
            <a:avLst>
              <a:gd name="adj1" fmla="val 144791"/>
              <a:gd name="adj2" fmla="val -2768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it take to get a little respect around 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1523880" y="1981080"/>
            <a:ext cx="1981440" cy="1295640"/>
          </a:xfrm>
          <a:prstGeom prst="wedgeRoundRectCallout">
            <a:avLst>
              <a:gd name="adj1" fmla="val 225560"/>
              <a:gd name="adj2" fmla="val 991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 got to get Western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362320" y="533520"/>
            <a:ext cx="1904760" cy="1295280"/>
          </a:xfrm>
          <a:prstGeom prst="wedgeRoundRectCallout">
            <a:avLst>
              <a:gd name="adj1" fmla="val 191500"/>
              <a:gd name="adj2" fmla="val 20244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a new capital would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4495680" y="380880"/>
            <a:ext cx="1905120" cy="1295640"/>
          </a:xfrm>
          <a:prstGeom prst="wedgeRoundRectCallout">
            <a:avLst>
              <a:gd name="adj1" fmla="val 77916"/>
              <a:gd name="adj2" fmla="val 21090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 big army! - and nav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7162920" y="304920"/>
            <a:ext cx="1981080" cy="1295280"/>
          </a:xfrm>
          <a:prstGeom prst="wedgeRoundRectCallout">
            <a:avLst>
              <a:gd name="adj1" fmla="val -37421"/>
              <a:gd name="adj2" fmla="val 20784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ve off that bear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4038480" y="5562720"/>
            <a:ext cx="1981440" cy="1295280"/>
          </a:xfrm>
          <a:prstGeom prst="wedgeRoundRectCallout">
            <a:avLst>
              <a:gd name="adj1" fmla="val 106328"/>
              <a:gd name="adj2" fmla="val -16556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get hold of these rotten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019920" y="1905120"/>
            <a:ext cx="2438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the Grrrrreeeaaaatt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u1660"/>
          <p:cNvPicPr/>
          <p:nvPr/>
        </p:nvPicPr>
        <p:blipFill>
          <a:blip r:embed="rId1"/>
          <a:stretch/>
        </p:blipFill>
        <p:spPr>
          <a:xfrm>
            <a:off x="0" y="239760"/>
            <a:ext cx="9155160" cy="661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pgreat"/>
          <p:cNvPicPr/>
          <p:nvPr/>
        </p:nvPicPr>
        <p:blipFill>
          <a:blip r:embed="rId2"/>
          <a:stretch/>
        </p:blipFill>
        <p:spPr>
          <a:xfrm>
            <a:off x="8001000" y="1066680"/>
            <a:ext cx="925560" cy="1314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>
            <a:off x="6019920" y="1905120"/>
            <a:ext cx="2133360" cy="914400"/>
          </a:xfrm>
          <a:prstGeom prst="wedgeRectCallout">
            <a:avLst>
              <a:gd name="adj1" fmla="val 50074"/>
              <a:gd name="adj2" fmla="val -90453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y Ottoman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access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oce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>
            <a:off x="7542360" y="5234040"/>
            <a:ext cx="1601640" cy="16239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6"/>
          <p:cNvSpPr/>
          <p:nvPr/>
        </p:nvSpPr>
        <p:spPr>
          <a:xfrm>
            <a:off x="3962520" y="5638680"/>
            <a:ext cx="2209680" cy="990720"/>
          </a:xfrm>
          <a:prstGeom prst="wedgeRectCallout">
            <a:avLst>
              <a:gd name="adj1" fmla="val 149712"/>
              <a:gd name="adj2" fmla="val -31569"/>
            </a:avLst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ep Dreaming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 will never get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rm water port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6477120" y="5029200"/>
            <a:ext cx="3045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219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4876920" y="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’s “Window On The We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int Petersbur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“European” of all Russian 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952880" y="3944880"/>
            <a:ext cx="4191120" cy="2913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0" y="3124080"/>
            <a:ext cx="4952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2077560" y="37296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’s Geographical Proble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533520" y="6094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.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 the 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s as a sa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ing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between the lines.  What kind of a man was h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d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505320" y="2514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r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95280" y="5335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808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80880" y="762120"/>
            <a:ext cx="8384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609480" y="12193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295280" y="1219320"/>
            <a:ext cx="1067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 flipV="1">
            <a:off x="2209680" y="114300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5638680" y="76212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V="1">
            <a:off x="6248520" y="2286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6400800" y="121932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086600" y="1219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019920" y="12193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095880" y="19051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095880" y="23623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55308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7010280" y="23623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380880" y="44197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533520" y="3048120"/>
            <a:ext cx="533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2743200" y="3505320"/>
            <a:ext cx="762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5"/>
          <p:cNvSpPr/>
          <p:nvPr/>
        </p:nvSpPr>
        <p:spPr>
          <a:xfrm flipH="1">
            <a:off x="2057040" y="38862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6"/>
          <p:cNvSpPr/>
          <p:nvPr/>
        </p:nvSpPr>
        <p:spPr>
          <a:xfrm flipV="1">
            <a:off x="327672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27"/>
          <p:cNvSpPr/>
          <p:nvPr/>
        </p:nvSpPr>
        <p:spPr>
          <a:xfrm>
            <a:off x="1447920" y="5029200"/>
            <a:ext cx="1523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filled the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9"/>
          <p:cNvSpPr/>
          <p:nvPr/>
        </p:nvSpPr>
        <p:spPr>
          <a:xfrm flipV="1">
            <a:off x="2590920" y="42667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2974320" y="5381280"/>
            <a:ext cx="1976040" cy="2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2743200" y="571500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4"/>
          <p:cNvSpPr/>
          <p:nvPr/>
        </p:nvSpPr>
        <p:spPr>
          <a:xfrm flipH="1" flipV="1">
            <a:off x="685800" y="342900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5"/>
          <p:cNvSpPr/>
          <p:nvPr/>
        </p:nvSpPr>
        <p:spPr>
          <a:xfrm flipV="1">
            <a:off x="10666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6"/>
          <p:cNvSpPr/>
          <p:nvPr/>
        </p:nvSpPr>
        <p:spPr>
          <a:xfrm>
            <a:off x="990720" y="3352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7"/>
          <p:cNvSpPr/>
          <p:nvPr/>
        </p:nvSpPr>
        <p:spPr>
          <a:xfrm>
            <a:off x="2133720" y="57913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1676520" y="5715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39"/>
          <p:cNvSpPr/>
          <p:nvPr/>
        </p:nvSpPr>
        <p:spPr>
          <a:xfrm flipH="1">
            <a:off x="0" y="54100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 flipV="1">
            <a:off x="5029200" y="12193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 rot="20123400">
            <a:off x="2589120" y="4191120"/>
            <a:ext cx="2597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ed nobles large estates w/ many se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42"/>
          <p:cNvSpPr/>
          <p:nvPr/>
        </p:nvSpPr>
        <p:spPr>
          <a:xfrm>
            <a:off x="5562720" y="4191120"/>
            <a:ext cx="1295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43"/>
          <p:cNvSpPr/>
          <p:nvPr/>
        </p:nvSpPr>
        <p:spPr>
          <a:xfrm>
            <a:off x="4419720" y="4267080"/>
            <a:ext cx="10666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5943600" y="4572000"/>
            <a:ext cx="1371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6629400" y="4495680"/>
            <a:ext cx="2057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 flipV="1">
            <a:off x="6858000" y="4114440"/>
            <a:ext cx="22860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48"/>
          <p:cNvSpPr/>
          <p:nvPr/>
        </p:nvSpPr>
        <p:spPr>
          <a:xfrm flipH="1" flipV="1">
            <a:off x="3123720" y="30492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1523520" y="37339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50"/>
          <p:cNvSpPr/>
          <p:nvPr/>
        </p:nvSpPr>
        <p:spPr>
          <a:xfrm flipH="1" flipV="1">
            <a:off x="1143000" y="48006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1"/>
          <p:cNvSpPr/>
          <p:nvPr/>
        </p:nvSpPr>
        <p:spPr>
          <a:xfrm flipV="1">
            <a:off x="762120" y="22856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3" descr="pgre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914400"/>
            <a:ext cx="11080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risis and Absolutism in Europe</a:t>
            </a:r>
            <a:br>
              <a:rPr sz="54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550-1715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-106200" y="-4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8652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Thirty Years War and Religious Conflict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82915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 Preview to Absolutis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1920" y="12816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irty years war was initially a religious war fought in Europe(primarily modern day Germany)which grew to engulf most of 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315120" cy="390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297160" y="495288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urope before the Thirty Years War, 1600 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uses for the Thirty Years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5560" y="1168560"/>
            <a:ext cx="818352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The Peace of Augsburg (1555) is violated through secularizations and the spread of Calvini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varia crushes Protestantism ,1570s, Austria in the 1590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1607/08: Bavaria imposes Catholicism Protestants leave  Reichst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1610: The Calvinist Frederick V seeks a grand alliance against the Hapsburgs to unite all Protestants from England to Boh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1618: Ferdinand of Austria, withdraws its Edict of To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Anticipate renewed war between Spain and the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herlands in 162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457200"/>
            <a:ext cx="6710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1617 Emperor Mathias wanted his heir (Cousin) Ferdinand II to be his successor, in order to make sure that a Catholic would be the Emper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cenario for many of Europe’s Monarchies until the Great Wa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93600" y="2008080"/>
            <a:ext cx="2448000" cy="3640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949320" y="566892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eror Matth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427640" y="2008080"/>
            <a:ext cx="2577960" cy="3640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4427640" y="5648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rdinand I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ace of Westpha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200" y="2028960"/>
            <a:ext cx="464040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Peace of Westphalia         Catholicism, Lutheranism, and Calvinism would have equal toler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7000" cy="3424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121360" y="5286240"/>
            <a:ext cx="42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urope after Thirty Years W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867280" y="5029200"/>
          <a:ext cx="30481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029200"/>
                    <a:ext cx="30481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bsolut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book defin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ruler has complete authority over the government and the lives of the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so new abou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gree of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 &amp; scope of powers clai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3:10:18Z</dcterms:created>
  <dc:creator>Frank Tellez</dc:creator>
  <dc:description/>
  <dc:language>en-US</dc:language>
  <cp:lastModifiedBy>Katherine Silver</cp:lastModifiedBy>
  <dcterms:modified xsi:type="dcterms:W3CDTF">2017-03-28T18:37:40Z</dcterms:modified>
  <cp:revision>36</cp:revision>
  <dc:subject/>
  <dc:title>PowerPoint Presentation</dc:title>
</cp:coreProperties>
</file>