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5.jpeg" ContentType="image/jpeg"/>
  <Override PartName="/ppt/media/image4.jpeg" ContentType="image/jpeg"/>
  <Override PartName="/ppt/media/image8.gif" ContentType="image/gif"/>
  <Override PartName="/ppt/media/image26.png" ContentType="image/png"/>
  <Override PartName="/ppt/media/image11.wmf" ContentType="image/x-wmf"/>
  <Override PartName="/ppt/media/image5.jpeg" ContentType="image/jpeg"/>
  <Override PartName="/ppt/media/image9.wmf" ContentType="image/x-wmf"/>
  <Override PartName="/ppt/media/image3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30.jpeg" ContentType="image/jpeg"/>
  <Override PartName="/ppt/media/image7.wmf" ContentType="image/x-wmf"/>
  <Override PartName="/ppt/media/image10.png" ContentType="image/png"/>
  <Override PartName="/ppt/media/image29.png" ContentType="image/png"/>
  <Override PartName="/ppt/media/image2.wmf" ContentType="image/x-wmf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80D4-31B5-4559-B2A2-ED1C9DEAD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D228-9723-4626-92EA-3F61C3596F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DE31-007A-48AC-A14B-415E5102F8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0111-22C0-41E2-B438-EA64B56541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3F3C-3ACB-4B41-A861-F7541F71E1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0BAD-AED3-4C79-935F-5A4736E64A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67B4-6724-4801-9EF8-3FBCDC0B7C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D3DC-0D6D-42C9-B720-146CECE94B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6845-77C0-480D-8253-C0B1A0C18F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AD1E-AA25-44EB-A54E-67E6395126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D19B-8427-44C6-8055-F70B817316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2E3E-5288-4055-8AA0-BF6102BB9E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CC40-A363-4AF7-ABED-732326C613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37CA-9C78-4A94-9C8B-D2CFDDFCBC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8BE0-5397-4F2E-8BF2-2D8B244209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FBB9-4F8E-49DD-9156-FA49BB0A79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6B18-DDA5-42B2-A378-A6434D2772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3339-5C09-4105-A497-DBF3F74AAF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DDE9-8A84-4506-A4E8-7A6A81A6AF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3D8C-A780-4980-8D0D-F7F733E225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A3B6-03E7-478D-8F3D-49BE411DD1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3005-C2D0-472C-879C-15ADB272AE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02EA-D3E4-4B76-8A6D-4004528B64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D6E-AA94-4A83-B68A-D0A97A1B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A5D-F9BC-415F-867E-C4785897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639-77C6-4AFF-B268-3E6BE900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19B-8A44-421D-9ABF-6A926264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DD84-37B9-4BDB-BC1C-846CD51F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729-72D3-409B-8AF0-10E70EC3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894-59BF-4BCA-9A99-4CF28F30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A35-A086-4735-9ED8-FFCD4644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F6C-AD8D-4C53-8FC0-3F6590F8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9F0-BC28-41BE-B5BC-AD7F4ED0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C8B-A706-4611-AAF8-295BAA34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288-2B13-4D2D-8AB0-754E8422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E858-6C84-4D30-B01A-3D01DA01D3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ib.utexas.edu/photodraw/portraits/pgreat.jpg&amp;imgrefurl=http://www.lib.utexas.edu/photodraw/portraits/&amp;h=724&amp;w=510&amp;sz=60&amp;tbnid=d2jCkMRZcFEJ:&amp;tbnh=139&amp;tbnw=97&amp;hl=en&amp;start=1&amp;prev=/images%3Fq%3Dpeter%2Bthe%2Bgreat%26svnum%3D10%26hl%3Den%26lr%3D%26sa%3DN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038240"/>
            <a:ext cx="6858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 N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63600" y="1641600"/>
            <a:ext cx="4021200" cy="4232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3400" y="1641600"/>
            <a:ext cx="80092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927680" y="1882800"/>
            <a:ext cx="36450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o is in the painting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at is in the background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at message does this portrait convey? What is the meaning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llmarks of absolut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ne right cla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king is king because God made him k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answer to God alon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empts to control all in rea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gious groups, nobles, local gov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ugh favors or sup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eavy-handed approach to creating 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6"/>
          <p:cNvGrpSpPr/>
          <p:nvPr/>
        </p:nvGrpSpPr>
        <p:grpSpPr>
          <a:xfrm>
            <a:off x="4564080" y="2259000"/>
            <a:ext cx="15840" cy="15840"/>
            <a:chOff x="4564080" y="2259000"/>
            <a:chExt cx="15840" cy="15840"/>
          </a:xfrm>
        </p:grpSpPr>
        <p:grpSp>
          <p:nvGrpSpPr>
            <p:cNvPr id="82" name="Group 14"/>
            <p:cNvGrpSpPr/>
            <p:nvPr/>
          </p:nvGrpSpPr>
          <p:grpSpPr>
            <a:xfrm>
              <a:off x="4572000" y="2266920"/>
              <a:ext cx="360" cy="360"/>
              <a:chOff x="4572000" y="2266920"/>
              <a:chExt cx="360" cy="360"/>
            </a:xfrm>
          </p:grpSpPr>
          <p:sp>
            <p:nvSpPr>
              <p:cNvPr id="83" name="Rectangle 6"/>
              <p:cNvSpPr/>
              <p:nvPr/>
            </p:nvSpPr>
            <p:spPr>
              <a:xfrm>
                <a:off x="4572000" y="22669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4572000" y="2266920"/>
                <a:ext cx="36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Rectangle 15"/>
            <p:cNvSpPr/>
            <p:nvPr/>
          </p:nvSpPr>
          <p:spPr>
            <a:xfrm>
              <a:off x="4564080" y="2259000"/>
              <a:ext cx="15840" cy="1584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" name="Picture 17" descr="arg-king"/>
          <p:cNvPicPr/>
          <p:nvPr/>
        </p:nvPicPr>
        <p:blipFill>
          <a:blip r:embed="rId1"/>
          <a:stretch/>
        </p:blipFill>
        <p:spPr>
          <a:xfrm>
            <a:off x="6781680" y="3390840"/>
            <a:ext cx="2210040" cy="2895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8"/>
          <p:cNvSpPr/>
          <p:nvPr/>
        </p:nvSpPr>
        <p:spPr>
          <a:xfrm>
            <a:off x="3352680" y="6248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19_</a:t>
            </a:r>
            <a:r>
              <a:rPr b="0" lang="en-US" sz="1400" spc="-1" strike="noStrike">
                <a:solidFill>
                  <a:srgbClr val="ffffff"/>
                </a:solidFill>
                <a:latin typeface="ヒラギノ角ゴ Pro W3"/>
              </a:rPr>
              <a:t>Yes, I know - this guy gets annoying after a whi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1026"/>
          <p:cNvGraphicFramePr/>
          <p:nvPr/>
        </p:nvGraphicFramePr>
        <p:xfrm>
          <a:off x="1828800" y="5448240"/>
          <a:ext cx="219384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448240"/>
                    <a:ext cx="219384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llmarks of absolut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024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over financial machin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g controls the mon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longer has to ask nobles for mon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se $ through Taxes, customs duties (tariffs), &amp; other financial sche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 of tax collectors whose job is to go around and collect mon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Object 1029"/>
          <p:cNvGraphicFramePr/>
          <p:nvPr/>
        </p:nvGraphicFramePr>
        <p:xfrm>
          <a:off x="7086600" y="1371600"/>
          <a:ext cx="1809720" cy="12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1371600"/>
                    <a:ext cx="180972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llmarks of absolut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ive bureaucra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e civil serv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id by state, represented the 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 owed their wealth &amp; position to employ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us usually loyal &amp; grateful to 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6019920" y="1828800"/>
          <a:ext cx="257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57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llmarks of absolut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ing arm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dieval system abando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udal obligation of 40 days’ service thrown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efi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de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the math: How much does it cost to feed an army of 200,000 men every day, 3 times a da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6" descr="louis_14"/>
          <p:cNvPicPr/>
          <p:nvPr/>
        </p:nvPicPr>
        <p:blipFill>
          <a:blip r:embed="rId1"/>
          <a:srcRect l="0" t="11297" r="0" b="47311"/>
          <a:stretch/>
        </p:blipFill>
        <p:spPr>
          <a:xfrm>
            <a:off x="1828800" y="1447920"/>
            <a:ext cx="5611680" cy="36576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027"/>
          <p:cNvSpPr/>
          <p:nvPr/>
        </p:nvSpPr>
        <p:spPr>
          <a:xfrm>
            <a:off x="838080" y="1295280"/>
            <a:ext cx="1828800" cy="914400"/>
          </a:xfrm>
          <a:prstGeom prst="wedgeRoundRectCallout">
            <a:avLst>
              <a:gd name="adj1" fmla="val 140106"/>
              <a:gd name="adj2" fmla="val 10955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etat, c’est moi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028"/>
          <p:cNvSpPr/>
          <p:nvPr/>
        </p:nvSpPr>
        <p:spPr>
          <a:xfrm>
            <a:off x="2362320" y="838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uis “the Sun King” X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1029"/>
          <p:cNvSpPr/>
          <p:nvPr/>
        </p:nvSpPr>
        <p:spPr>
          <a:xfrm>
            <a:off x="6705720" y="1295280"/>
            <a:ext cx="2133360" cy="1905120"/>
          </a:xfrm>
          <a:prstGeom prst="wedgeRoundRectCallout">
            <a:avLst>
              <a:gd name="adj1" fmla="val -154912"/>
              <a:gd name="adj2" fmla="val 3458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’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the state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you silly Americ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louis_14"/>
          <p:cNvPicPr/>
          <p:nvPr/>
        </p:nvPicPr>
        <p:blipFill>
          <a:blip r:embed="rId1"/>
          <a:srcRect l="0" t="11297" r="0" b="47311"/>
          <a:stretch/>
        </p:blipFill>
        <p:spPr>
          <a:xfrm>
            <a:off x="1828800" y="1447920"/>
            <a:ext cx="561168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/>
          <p:cNvSpPr/>
          <p:nvPr/>
        </p:nvSpPr>
        <p:spPr>
          <a:xfrm>
            <a:off x="914400" y="1143000"/>
            <a:ext cx="1828800" cy="1295280"/>
          </a:xfrm>
          <a:prstGeom prst="wedgeRoundRectCallout">
            <a:avLst>
              <a:gd name="adj1" fmla="val 131078"/>
              <a:gd name="adj2" fmla="val 78064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 those darn Huguen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5943600" y="762120"/>
            <a:ext cx="1828800" cy="914400"/>
          </a:xfrm>
          <a:prstGeom prst="wedgeRoundRectCallout">
            <a:avLst>
              <a:gd name="adj1" fmla="val -125259"/>
              <a:gd name="adj2" fmla="val 167537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he Army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6705720" y="2895480"/>
            <a:ext cx="1828800" cy="914400"/>
          </a:xfrm>
          <a:prstGeom prst="wedgeRoundRectCallout">
            <a:avLst>
              <a:gd name="adj1" fmla="val -170138"/>
              <a:gd name="adj2" fmla="val -59375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de Germany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5867280" y="4191120"/>
            <a:ext cx="1828800" cy="1295280"/>
          </a:xfrm>
          <a:prstGeom prst="wedgeRoundRectCallout">
            <a:avLst>
              <a:gd name="adj1" fmla="val -127430"/>
              <a:gd name="adj2" fmla="val -15551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ant to be king of Spain to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362320" y="838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uis “the Sun King” X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4038480" y="4876920"/>
            <a:ext cx="1676520" cy="990360"/>
          </a:xfrm>
          <a:prstGeom prst="wedgeRoundRectCallout">
            <a:avLst>
              <a:gd name="adj1" fmla="val -30490"/>
              <a:gd name="adj2" fmla="val -251444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e a palace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1828800" y="4572000"/>
            <a:ext cx="1828800" cy="914400"/>
          </a:xfrm>
          <a:prstGeom prst="wedgeRoundRectCallout">
            <a:avLst>
              <a:gd name="adj1" fmla="val 89412"/>
              <a:gd name="adj2" fmla="val -226912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 the English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2666880" y="5410080"/>
            <a:ext cx="1600200" cy="838440"/>
          </a:xfrm>
          <a:prstGeom prst="wedgeRoundRectCallout">
            <a:avLst>
              <a:gd name="adj1" fmla="val 56944"/>
              <a:gd name="adj2" fmla="val -34299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 the Dutch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5715000" y="5562720"/>
            <a:ext cx="1828800" cy="1295280"/>
          </a:xfrm>
          <a:prstGeom prst="wedgeRoundRectCallout">
            <a:avLst>
              <a:gd name="adj1" fmla="val -123092"/>
              <a:gd name="adj2" fmla="val -251347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 the Swedes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13"/>
          <p:cNvSpPr/>
          <p:nvPr/>
        </p:nvSpPr>
        <p:spPr>
          <a:xfrm>
            <a:off x="228600" y="2895480"/>
            <a:ext cx="1905120" cy="1600200"/>
          </a:xfrm>
          <a:prstGeom prst="wedgeRoundRectCallout">
            <a:avLst>
              <a:gd name="adj1" fmla="val 167833"/>
              <a:gd name="adj2" fmla="val -46328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mean we’re out of money!!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versailles"/>
          <p:cNvPicPr/>
          <p:nvPr/>
        </p:nvPicPr>
        <p:blipFill>
          <a:blip r:embed="rId1"/>
          <a:stretch/>
        </p:blipFill>
        <p:spPr>
          <a:xfrm>
            <a:off x="0" y="200160"/>
            <a:ext cx="914400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5"/>
          <p:cNvGrpSpPr/>
          <p:nvPr/>
        </p:nvGrpSpPr>
        <p:grpSpPr>
          <a:xfrm>
            <a:off x="1973160" y="1920960"/>
            <a:ext cx="5197320" cy="3017880"/>
            <a:chOff x="1973160" y="1920960"/>
            <a:chExt cx="5197320" cy="3017880"/>
          </a:xfrm>
        </p:grpSpPr>
        <p:sp>
          <p:nvSpPr>
            <p:cNvPr id="117" name="Rectangle 2"/>
            <p:cNvSpPr/>
            <p:nvPr/>
          </p:nvSpPr>
          <p:spPr>
            <a:xfrm>
              <a:off x="1973160" y="1920960"/>
              <a:ext cx="519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1973160" y="1920960"/>
              <a:ext cx="519732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MS Sans Serif, Microsoft Sans S"/>
                </a:rPr>
                <a:t>  </a:t>
              </a:r>
              <a:r>
                <a:rPr b="0" lang="en-US" sz="16800" spc="-1" strike="noStrike">
                  <a:solidFill>
                    <a:srgbClr val="ffffff"/>
                  </a:solidFill>
                  <a:latin typeface="MS Sans Serif, Microsoft Sans S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MS Sans Serif, Microsoft Sans S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9" name="Picture 4" descr="Palace of Versailles"/>
          <p:cNvPicPr/>
          <p:nvPr/>
        </p:nvPicPr>
        <p:blipFill>
          <a:blip r:embed="rId1"/>
          <a:stretch/>
        </p:blipFill>
        <p:spPr>
          <a:xfrm>
            <a:off x="0" y="0"/>
            <a:ext cx="4495680" cy="300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VER_118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versailles_01"/>
          <p:cNvPicPr/>
          <p:nvPr/>
        </p:nvPicPr>
        <p:blipFill>
          <a:blip r:embed="rId3"/>
          <a:stretch/>
        </p:blipFill>
        <p:spPr>
          <a:xfrm>
            <a:off x="0" y="3048120"/>
            <a:ext cx="4229280" cy="3809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4241880" y="2971800"/>
            <a:ext cx="4902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Palace of Versailles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3"/>
          <p:cNvSpPr/>
          <p:nvPr/>
        </p:nvSpPr>
        <p:spPr>
          <a:xfrm>
            <a:off x="4038480" y="152280"/>
            <a:ext cx="990720" cy="838440"/>
          </a:xfrm>
          <a:prstGeom prst="wedgeRectCallout">
            <a:avLst>
              <a:gd name="adj1" fmla="val -23236"/>
              <a:gd name="adj2" fmla="val 10965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ea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304920" y="228600"/>
            <a:ext cx="2209680" cy="685800"/>
          </a:xfrm>
          <a:prstGeom prst="wedgeRectCallout">
            <a:avLst>
              <a:gd name="adj1" fmla="val -41162"/>
              <a:gd name="adj2" fmla="val 20995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ney, let’s make this the kid’s w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7086600" y="0"/>
            <a:ext cx="1676520" cy="685800"/>
          </a:xfrm>
          <a:prstGeom prst="wedgeRectCallout">
            <a:avLst>
              <a:gd name="adj1" fmla="val 21495"/>
              <a:gd name="adj2" fmla="val 1557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mm, I think I’m l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3581280" y="5486400"/>
            <a:ext cx="1752840" cy="762120"/>
          </a:xfrm>
          <a:prstGeom prst="wedgeRectCallout">
            <a:avLst>
              <a:gd name="adj1" fmla="val -1087"/>
              <a:gd name="adj2" fmla="val -1352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ck y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828800" y="2438280"/>
            <a:ext cx="5410080" cy="175284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all be yours for a meas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4,000,000,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ance Under Louis XI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g is glorified as all power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ne Righ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bles stripped of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sailles bui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w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r of Spanish Succes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eryone gangs up on Fr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eaty of Utrecht - Spain and France can never be unifi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s economy through mercantilism and heavy ta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: Nobles do not pay ta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08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rning Targets and Essential Ques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16761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arning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Define Absolu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arch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Analyz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nes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lu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arch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Analyze Prima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rces regard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lu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79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ssential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overall political theme dominated the events that shaped Europe dur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ime period of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00-1800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60"/>
          <p:cNvSpPr/>
          <p:nvPr/>
        </p:nvSpPr>
        <p:spPr>
          <a:xfrm>
            <a:off x="7315200" y="685800"/>
            <a:ext cx="12952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352680" y="3124080"/>
            <a:ext cx="1524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uis X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5943600" y="1371600"/>
            <a:ext cx="11430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7086600" y="1676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 flipH="1" flipV="1">
            <a:off x="4800600" y="1142640"/>
            <a:ext cx="763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3"/>
          <p:cNvSpPr/>
          <p:nvPr/>
        </p:nvSpPr>
        <p:spPr>
          <a:xfrm>
            <a:off x="1295280" y="1676520"/>
            <a:ext cx="1143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380880" y="1981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80880" y="1905120"/>
            <a:ext cx="8384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6"/>
          <p:cNvSpPr/>
          <p:nvPr/>
        </p:nvSpPr>
        <p:spPr>
          <a:xfrm flipH="1">
            <a:off x="1066680" y="236232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447920" y="2514600"/>
            <a:ext cx="10666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2209320" y="22856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6553080" y="19810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6858000" y="2286000"/>
            <a:ext cx="12952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7010280" y="274320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6477120" y="3200400"/>
            <a:ext cx="1371600" cy="533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w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400800" y="1981080"/>
            <a:ext cx="1522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7"/>
          <p:cNvSpPr/>
          <p:nvPr/>
        </p:nvSpPr>
        <p:spPr>
          <a:xfrm flipH="1">
            <a:off x="57150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6172200" y="37339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4267080" y="533520"/>
            <a:ext cx="12193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52578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22"/>
          <p:cNvSpPr/>
          <p:nvPr/>
        </p:nvSpPr>
        <p:spPr>
          <a:xfrm flipV="1">
            <a:off x="5410080" y="53316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Oval 24"/>
          <p:cNvSpPr/>
          <p:nvPr/>
        </p:nvSpPr>
        <p:spPr>
          <a:xfrm>
            <a:off x="1143000" y="320040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lie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25"/>
          <p:cNvSpPr/>
          <p:nvPr/>
        </p:nvSpPr>
        <p:spPr>
          <a:xfrm flipV="1">
            <a:off x="2514600" y="320004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6"/>
          <p:cNvSpPr/>
          <p:nvPr/>
        </p:nvSpPr>
        <p:spPr>
          <a:xfrm flipH="1">
            <a:off x="152280" y="35053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27"/>
          <p:cNvSpPr/>
          <p:nvPr/>
        </p:nvSpPr>
        <p:spPr>
          <a:xfrm flipH="1">
            <a:off x="380880" y="37339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 rot="18109200">
            <a:off x="702360" y="4248000"/>
            <a:ext cx="10666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ning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1981080" y="4495680"/>
            <a:ext cx="12956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1447920" y="54100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31"/>
          <p:cNvSpPr/>
          <p:nvPr/>
        </p:nvSpPr>
        <p:spPr>
          <a:xfrm flipV="1">
            <a:off x="182880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2209680" y="5486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2286000" y="5867280"/>
            <a:ext cx="10666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4"/>
          <p:cNvSpPr/>
          <p:nvPr/>
        </p:nvSpPr>
        <p:spPr>
          <a:xfrm>
            <a:off x="2209680" y="5715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35"/>
          <p:cNvSpPr/>
          <p:nvPr/>
        </p:nvSpPr>
        <p:spPr>
          <a:xfrm>
            <a:off x="2362320" y="58672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36"/>
          <p:cNvSpPr/>
          <p:nvPr/>
        </p:nvSpPr>
        <p:spPr>
          <a:xfrm>
            <a:off x="3276720" y="5867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37"/>
          <p:cNvSpPr/>
          <p:nvPr/>
        </p:nvSpPr>
        <p:spPr>
          <a:xfrm>
            <a:off x="3276720" y="617220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38"/>
          <p:cNvSpPr/>
          <p:nvPr/>
        </p:nvSpPr>
        <p:spPr>
          <a:xfrm>
            <a:off x="2819520" y="6172200"/>
            <a:ext cx="12189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39"/>
          <p:cNvSpPr/>
          <p:nvPr/>
        </p:nvSpPr>
        <p:spPr>
          <a:xfrm flipV="1">
            <a:off x="2819520" y="38095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42"/>
          <p:cNvSpPr/>
          <p:nvPr/>
        </p:nvSpPr>
        <p:spPr>
          <a:xfrm>
            <a:off x="3276720" y="14479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43"/>
          <p:cNvSpPr/>
          <p:nvPr/>
        </p:nvSpPr>
        <p:spPr>
          <a:xfrm flipV="1">
            <a:off x="3581280" y="1905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44"/>
          <p:cNvSpPr/>
          <p:nvPr/>
        </p:nvSpPr>
        <p:spPr>
          <a:xfrm flipH="1" flipV="1">
            <a:off x="1066320" y="1066680"/>
            <a:ext cx="22100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45"/>
          <p:cNvSpPr/>
          <p:nvPr/>
        </p:nvSpPr>
        <p:spPr>
          <a:xfrm flipH="1" flipV="1">
            <a:off x="1599840" y="457200"/>
            <a:ext cx="16765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46"/>
          <p:cNvSpPr/>
          <p:nvPr/>
        </p:nvSpPr>
        <p:spPr>
          <a:xfrm flipH="1" flipV="1">
            <a:off x="2514240" y="22824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47"/>
          <p:cNvSpPr/>
          <p:nvPr/>
        </p:nvSpPr>
        <p:spPr>
          <a:xfrm>
            <a:off x="3962520" y="4419720"/>
            <a:ext cx="1143000" cy="533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48"/>
          <p:cNvSpPr/>
          <p:nvPr/>
        </p:nvSpPr>
        <p:spPr>
          <a:xfrm>
            <a:off x="5638680" y="4876920"/>
            <a:ext cx="12956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49"/>
          <p:cNvSpPr/>
          <p:nvPr/>
        </p:nvSpPr>
        <p:spPr>
          <a:xfrm>
            <a:off x="5105520" y="49528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50"/>
          <p:cNvSpPr/>
          <p:nvPr/>
        </p:nvSpPr>
        <p:spPr>
          <a:xfrm flipV="1">
            <a:off x="6858000" y="472392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51"/>
          <p:cNvSpPr/>
          <p:nvPr/>
        </p:nvSpPr>
        <p:spPr>
          <a:xfrm>
            <a:off x="6934320" y="53341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52"/>
          <p:cNvSpPr/>
          <p:nvPr/>
        </p:nvSpPr>
        <p:spPr>
          <a:xfrm>
            <a:off x="5410080" y="563868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paig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53"/>
          <p:cNvSpPr/>
          <p:nvPr/>
        </p:nvSpPr>
        <p:spPr>
          <a:xfrm>
            <a:off x="4648320" y="49528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54"/>
          <p:cNvSpPr/>
          <p:nvPr/>
        </p:nvSpPr>
        <p:spPr>
          <a:xfrm>
            <a:off x="4267080" y="3809880"/>
            <a:ext cx="76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55"/>
          <p:cNvSpPr/>
          <p:nvPr/>
        </p:nvSpPr>
        <p:spPr>
          <a:xfrm>
            <a:off x="6705720" y="59436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56"/>
          <p:cNvSpPr/>
          <p:nvPr/>
        </p:nvSpPr>
        <p:spPr>
          <a:xfrm>
            <a:off x="6095880" y="609588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58"/>
          <p:cNvSpPr/>
          <p:nvPr/>
        </p:nvSpPr>
        <p:spPr>
          <a:xfrm>
            <a:off x="6019920" y="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59"/>
          <p:cNvSpPr/>
          <p:nvPr/>
        </p:nvSpPr>
        <p:spPr>
          <a:xfrm>
            <a:off x="7238880" y="685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ter the Gre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zar of Rus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manov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3340080" cy="47624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9"/>
          <p:cNvSpPr/>
          <p:nvPr/>
        </p:nvSpPr>
        <p:spPr>
          <a:xfrm>
            <a:off x="2362320" y="3886200"/>
            <a:ext cx="1828800" cy="1143000"/>
          </a:xfrm>
          <a:prstGeom prst="wedgeRoundRectCallout">
            <a:avLst>
              <a:gd name="adj1" fmla="val 191148"/>
              <a:gd name="adj2" fmla="val -167777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ock off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ll jok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eu1660"/>
          <p:cNvPicPr/>
          <p:nvPr/>
        </p:nvPicPr>
        <p:blipFill>
          <a:blip r:embed="rId1"/>
          <a:stretch/>
        </p:blipFill>
        <p:spPr>
          <a:xfrm>
            <a:off x="-4680" y="120600"/>
            <a:ext cx="915516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europe blank map w w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Oval 5"/>
          <p:cNvSpPr/>
          <p:nvPr/>
        </p:nvSpPr>
        <p:spPr>
          <a:xfrm>
            <a:off x="1219320" y="1371600"/>
            <a:ext cx="4267080" cy="5181480"/>
          </a:xfrm>
          <a:prstGeom prst="ellipse">
            <a:avLst/>
          </a:prstGeom>
          <a:solidFill>
            <a:srgbClr val="00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ed,” “Highly Cultur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tlemanly”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5181480" y="1371600"/>
            <a:ext cx="2362320" cy="51814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ards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sant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7391520" y="0"/>
            <a:ext cx="1752480" cy="4495680"/>
          </a:xfrm>
          <a:prstGeom prst="ellipse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 HA HA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o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bill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l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 HA H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458280" y="304920"/>
            <a:ext cx="40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Europeans Viewed Th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6095880" cy="3886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380880" y="304920"/>
            <a:ext cx="5121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i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ographically Iso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inated by no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eval / Feud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ser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urch has great infl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europe blank map w w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pgreat"/>
          <p:cNvPicPr/>
          <p:nvPr/>
        </p:nvPicPr>
        <p:blipFill>
          <a:blip r:embed="rId2"/>
          <a:stretch/>
        </p:blipFill>
        <p:spPr>
          <a:xfrm>
            <a:off x="6324480" y="2666880"/>
            <a:ext cx="1997280" cy="28386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5"/>
          <p:cNvSpPr/>
          <p:nvPr/>
        </p:nvSpPr>
        <p:spPr>
          <a:xfrm>
            <a:off x="2971800" y="3352680"/>
            <a:ext cx="1981080" cy="1828800"/>
          </a:xfrm>
          <a:prstGeom prst="wedgeRoundRectCallout">
            <a:avLst>
              <a:gd name="adj1" fmla="val 144791"/>
              <a:gd name="adj2" fmla="val -27689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es it take to get a little respect around he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1523880" y="1981080"/>
            <a:ext cx="1981440" cy="1295640"/>
          </a:xfrm>
          <a:prstGeom prst="wedgeRoundRectCallout">
            <a:avLst>
              <a:gd name="adj1" fmla="val 225560"/>
              <a:gd name="adj2" fmla="val 991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’ve got to get Western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2362320" y="533520"/>
            <a:ext cx="1904760" cy="1295280"/>
          </a:xfrm>
          <a:prstGeom prst="wedgeRoundRectCallout">
            <a:avLst>
              <a:gd name="adj1" fmla="val 191500"/>
              <a:gd name="adj2" fmla="val 202449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be a new capital would he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4495680" y="380880"/>
            <a:ext cx="1905120" cy="1295640"/>
          </a:xfrm>
          <a:prstGeom prst="wedgeRoundRectCallout">
            <a:avLst>
              <a:gd name="adj1" fmla="val 77916"/>
              <a:gd name="adj2" fmla="val 210907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a big army! - and nav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7162920" y="304920"/>
            <a:ext cx="1981080" cy="1295280"/>
          </a:xfrm>
          <a:prstGeom prst="wedgeRoundRectCallout">
            <a:avLst>
              <a:gd name="adj1" fmla="val -37421"/>
              <a:gd name="adj2" fmla="val 207842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y you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ve off that beard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4038480" y="5562720"/>
            <a:ext cx="1981440" cy="1295280"/>
          </a:xfrm>
          <a:prstGeom prst="wedgeRoundRectCallout">
            <a:avLst>
              <a:gd name="adj1" fmla="val 106328"/>
              <a:gd name="adj2" fmla="val -165564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ter get hold of these rotten no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6019920" y="1905120"/>
            <a:ext cx="2438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er the Grrrrreeeaaaatt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eu1660"/>
          <p:cNvPicPr/>
          <p:nvPr/>
        </p:nvPicPr>
        <p:blipFill>
          <a:blip r:embed="rId1"/>
          <a:stretch/>
        </p:blipFill>
        <p:spPr>
          <a:xfrm>
            <a:off x="0" y="239760"/>
            <a:ext cx="9155160" cy="6618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pgreat"/>
          <p:cNvPicPr/>
          <p:nvPr/>
        </p:nvPicPr>
        <p:blipFill>
          <a:blip r:embed="rId2"/>
          <a:stretch/>
        </p:blipFill>
        <p:spPr>
          <a:xfrm>
            <a:off x="8001000" y="1066680"/>
            <a:ext cx="925560" cy="13147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4"/>
          <p:cNvSpPr/>
          <p:nvPr/>
        </p:nvSpPr>
        <p:spPr>
          <a:xfrm>
            <a:off x="6019920" y="1905120"/>
            <a:ext cx="2133360" cy="914400"/>
          </a:xfrm>
          <a:prstGeom prst="wedgeRectCallout">
            <a:avLst>
              <a:gd name="adj1" fmla="val 50074"/>
              <a:gd name="adj2" fmla="val -90453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y Ottoman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want access 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oce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3"/>
          <a:stretch/>
        </p:blipFill>
        <p:spPr>
          <a:xfrm>
            <a:off x="7542360" y="5234040"/>
            <a:ext cx="1601640" cy="16239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6"/>
          <p:cNvSpPr/>
          <p:nvPr/>
        </p:nvSpPr>
        <p:spPr>
          <a:xfrm>
            <a:off x="3962520" y="5638680"/>
            <a:ext cx="2209680" cy="990720"/>
          </a:xfrm>
          <a:prstGeom prst="wedgeRectCallout">
            <a:avLst>
              <a:gd name="adj1" fmla="val 149712"/>
              <a:gd name="adj2" fmla="val -31569"/>
            </a:avLst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eep Dreaming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ou will never get 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arm water port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6477120" y="5029200"/>
            <a:ext cx="3045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219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4876920" y="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ter’s “Window On The Wes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int Petersbur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“European” of all Russian 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4952880" y="3944880"/>
            <a:ext cx="4191120" cy="2913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3"/>
          <a:stretch/>
        </p:blipFill>
        <p:spPr>
          <a:xfrm>
            <a:off x="0" y="3124080"/>
            <a:ext cx="4952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2077560" y="37296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’s Geographical Problem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533520" y="609480"/>
            <a:ext cx="693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c. 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ter the 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s as a sai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veling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between the lines.  What kind of a man was h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he d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505320" y="25146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er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95280" y="533520"/>
            <a:ext cx="1143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3808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80880" y="762120"/>
            <a:ext cx="8384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 flipH="1">
            <a:off x="609480" y="121932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1295280" y="1219320"/>
            <a:ext cx="10670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H="1" flipV="1">
            <a:off x="2209680" y="1143000"/>
            <a:ext cx="1524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10"/>
          <p:cNvSpPr/>
          <p:nvPr/>
        </p:nvSpPr>
        <p:spPr>
          <a:xfrm>
            <a:off x="5638680" y="762120"/>
            <a:ext cx="152424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1"/>
          <p:cNvSpPr/>
          <p:nvPr/>
        </p:nvSpPr>
        <p:spPr>
          <a:xfrm flipV="1">
            <a:off x="6248520" y="228600"/>
            <a:ext cx="2133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6400800" y="1219320"/>
            <a:ext cx="16765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7086600" y="12193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6019920" y="12193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6095880" y="19051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6095880" y="23623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6553080" y="23623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7010280" y="23623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380880" y="4419720"/>
            <a:ext cx="12193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Oval 22"/>
          <p:cNvSpPr/>
          <p:nvPr/>
        </p:nvSpPr>
        <p:spPr>
          <a:xfrm>
            <a:off x="533520" y="3048120"/>
            <a:ext cx="5331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Oval 24"/>
          <p:cNvSpPr/>
          <p:nvPr/>
        </p:nvSpPr>
        <p:spPr>
          <a:xfrm>
            <a:off x="2743200" y="3505320"/>
            <a:ext cx="7621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25"/>
          <p:cNvSpPr/>
          <p:nvPr/>
        </p:nvSpPr>
        <p:spPr>
          <a:xfrm flipH="1">
            <a:off x="2057040" y="388620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26"/>
          <p:cNvSpPr/>
          <p:nvPr/>
        </p:nvSpPr>
        <p:spPr>
          <a:xfrm flipV="1">
            <a:off x="3276720" y="3048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Oval 27"/>
          <p:cNvSpPr/>
          <p:nvPr/>
        </p:nvSpPr>
        <p:spPr>
          <a:xfrm>
            <a:off x="1447920" y="5029200"/>
            <a:ext cx="15238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filled the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29"/>
          <p:cNvSpPr/>
          <p:nvPr/>
        </p:nvSpPr>
        <p:spPr>
          <a:xfrm flipV="1">
            <a:off x="2590920" y="426672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30"/>
          <p:cNvSpPr/>
          <p:nvPr/>
        </p:nvSpPr>
        <p:spPr>
          <a:xfrm>
            <a:off x="2974320" y="5381280"/>
            <a:ext cx="1976040" cy="2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31"/>
          <p:cNvSpPr/>
          <p:nvPr/>
        </p:nvSpPr>
        <p:spPr>
          <a:xfrm>
            <a:off x="2743200" y="5715000"/>
            <a:ext cx="1905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34"/>
          <p:cNvSpPr/>
          <p:nvPr/>
        </p:nvSpPr>
        <p:spPr>
          <a:xfrm flipH="1" flipV="1">
            <a:off x="685800" y="3429000"/>
            <a:ext cx="763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35"/>
          <p:cNvSpPr/>
          <p:nvPr/>
        </p:nvSpPr>
        <p:spPr>
          <a:xfrm flipV="1">
            <a:off x="10666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36"/>
          <p:cNvSpPr/>
          <p:nvPr/>
        </p:nvSpPr>
        <p:spPr>
          <a:xfrm>
            <a:off x="990720" y="3352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37"/>
          <p:cNvSpPr/>
          <p:nvPr/>
        </p:nvSpPr>
        <p:spPr>
          <a:xfrm>
            <a:off x="2133720" y="579132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38"/>
          <p:cNvSpPr/>
          <p:nvPr/>
        </p:nvSpPr>
        <p:spPr>
          <a:xfrm>
            <a:off x="1676520" y="5715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39"/>
          <p:cNvSpPr/>
          <p:nvPr/>
        </p:nvSpPr>
        <p:spPr>
          <a:xfrm flipH="1">
            <a:off x="0" y="5410080"/>
            <a:ext cx="1447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40"/>
          <p:cNvSpPr/>
          <p:nvPr/>
        </p:nvSpPr>
        <p:spPr>
          <a:xfrm flipV="1">
            <a:off x="5029200" y="1219320"/>
            <a:ext cx="6858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41"/>
          <p:cNvSpPr/>
          <p:nvPr/>
        </p:nvSpPr>
        <p:spPr>
          <a:xfrm rot="20123400">
            <a:off x="2589120" y="4191120"/>
            <a:ext cx="2597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nted nobles large estates w/ many ser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Oval 42"/>
          <p:cNvSpPr/>
          <p:nvPr/>
        </p:nvSpPr>
        <p:spPr>
          <a:xfrm>
            <a:off x="5562720" y="4191120"/>
            <a:ext cx="12952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43"/>
          <p:cNvSpPr/>
          <p:nvPr/>
        </p:nvSpPr>
        <p:spPr>
          <a:xfrm>
            <a:off x="4419720" y="4267080"/>
            <a:ext cx="10666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44"/>
          <p:cNvSpPr/>
          <p:nvPr/>
        </p:nvSpPr>
        <p:spPr>
          <a:xfrm>
            <a:off x="5943600" y="4572000"/>
            <a:ext cx="13716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45"/>
          <p:cNvSpPr/>
          <p:nvPr/>
        </p:nvSpPr>
        <p:spPr>
          <a:xfrm>
            <a:off x="6629400" y="4495680"/>
            <a:ext cx="20574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46"/>
          <p:cNvSpPr/>
          <p:nvPr/>
        </p:nvSpPr>
        <p:spPr>
          <a:xfrm flipV="1">
            <a:off x="6858000" y="4114440"/>
            <a:ext cx="22860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48"/>
          <p:cNvSpPr/>
          <p:nvPr/>
        </p:nvSpPr>
        <p:spPr>
          <a:xfrm flipH="1" flipV="1">
            <a:off x="3123720" y="30492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9"/>
          <p:cNvSpPr/>
          <p:nvPr/>
        </p:nvSpPr>
        <p:spPr>
          <a:xfrm flipH="1">
            <a:off x="1523520" y="37339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50"/>
          <p:cNvSpPr/>
          <p:nvPr/>
        </p:nvSpPr>
        <p:spPr>
          <a:xfrm flipH="1" flipV="1">
            <a:off x="1143000" y="48006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51"/>
          <p:cNvSpPr/>
          <p:nvPr/>
        </p:nvSpPr>
        <p:spPr>
          <a:xfrm flipV="1">
            <a:off x="762120" y="228564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53" descr="pgre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914400"/>
            <a:ext cx="11080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risis and Absolutism in Europe</a:t>
            </a:r>
            <a:br>
              <a:rPr sz="5400"/>
            </a:b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1550-1715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-106200" y="-433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88652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Thirty Years War and Religious Conflict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82915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 Preview to Absolutism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51920" y="128160"/>
            <a:ext cx="84582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irty years war was initially a religious war fought in Europe(primarily modern day Germany)which grew to engulf most of Euro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315120" cy="3902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297160" y="4952880"/>
            <a:ext cx="38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urope before the Thirty Years War, 1600 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1120" y="25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uses for the Thirty Years W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55560" y="1168560"/>
            <a:ext cx="818352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The Peace of Augsburg (1555) is violated through secularizations and the spread of Calvinis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varia crushes Protestantism ,1570s, Austria in the 1590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1607/08: Bavaria imposes Catholicism Protestants leave  Reichsta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1610: The Calvinist Frederick V seeks a grand alliance against the Hapsburgs to unite all Protestants from England to Bohem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1618: Ferdinand of Austria, withdraws its Edict of To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Anticipate renewed war between Spain and the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herlands in 162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457200"/>
            <a:ext cx="6710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1617 Emperor Mathias wanted his heir (Cousin) Ferdinand II to be his successor, in order to make sure that a Catholic would be the Emper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cenario for many of Europe’s Monarchies until the Great Wa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993600" y="2008080"/>
            <a:ext cx="2448000" cy="36403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949320" y="566892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eror Matth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4427640" y="2008080"/>
            <a:ext cx="2577960" cy="3640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4427640" y="564840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erdinand I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1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eace of Westphal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0200" y="2028960"/>
            <a:ext cx="464040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Peace of Westphalia         Catholicism, Lutheranism, and Calvinism would have equal tolera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7000" cy="3424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5121360" y="5286240"/>
            <a:ext cx="42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urope after Thirty Years W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867280" y="5029200"/>
          <a:ext cx="304812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5029200"/>
                    <a:ext cx="304812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bsolutis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book defini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ruler has complete authority over the government and the lives of the peop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so new about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gree of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th &amp; scope of powers clai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23:10:18Z</dcterms:created>
  <dc:creator>Frank Tellez</dc:creator>
  <dc:description/>
  <dc:language>en-US</dc:language>
  <cp:lastModifiedBy>Katherine Silver</cp:lastModifiedBy>
  <dcterms:modified xsi:type="dcterms:W3CDTF">2017-03-28T18:37:40Z</dcterms:modified>
  <cp:revision>36</cp:revision>
  <dc:subject/>
  <dc:title>PowerPoint Presentation</dc:title>
</cp:coreProperties>
</file>